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F89-2CAD-4379-86AC-556D3F2A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D3F0-F7C2-429C-9E02-73479C03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60D-5C3E-4584-BD3D-AAC658D2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BFA-9F56-4322-BA7A-46481C4A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0B3-E513-4143-AC1F-A124606A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B35-A5B9-4C63-B70F-9725BE58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98F-2ADC-47A6-89D5-4627B173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1EC-AE08-43D5-880D-B8E98892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FB5-A33A-4CB2-B73B-2B1E6A33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22D-1400-44D0-B185-A6830935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FB6-69D0-4004-A265-C02ADC76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214-B2CE-4EC7-856F-6AB65A9A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3EF1-CE06-4673-ACE0-5896655E74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7772400" cy="146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908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Знакомство со средой ЛогоМир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14480" y="3885840"/>
            <a:ext cx="405756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logot.png"/>
          <p:cNvPicPr/>
          <p:nvPr/>
        </p:nvPicPr>
        <p:blipFill>
          <a:blip r:embed="rId1"/>
          <a:stretch/>
        </p:blipFill>
        <p:spPr>
          <a:xfrm>
            <a:off x="1785960" y="2928960"/>
            <a:ext cx="22147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кно программы ЛогоМиры 2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rcRect l="0" t="0" r="21780" b="23626"/>
          <a:stretch/>
        </p:blipFill>
        <p:spPr>
          <a:xfrm>
            <a:off x="1500120" y="1714680"/>
            <a:ext cx="61801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Овал 4"/>
          <p:cNvSpPr/>
          <p:nvPr/>
        </p:nvSpPr>
        <p:spPr>
          <a:xfrm>
            <a:off x="1857240" y="1857240"/>
            <a:ext cx="271476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2363400" y="128592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Овал 6"/>
          <p:cNvSpPr/>
          <p:nvPr/>
        </p:nvSpPr>
        <p:spPr>
          <a:xfrm>
            <a:off x="1357200" y="1643040"/>
            <a:ext cx="642960" cy="471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extBox 7" descr=""/>
          <p:cNvPicPr/>
          <p:nvPr/>
        </p:nvPicPr>
        <p:blipFill>
          <a:blip r:embed="rId2"/>
          <a:stretch/>
        </p:blipFill>
        <p:spPr>
          <a:xfrm>
            <a:off x="566640" y="2494080"/>
            <a:ext cx="470160" cy="2809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2790000" y="571500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е кома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2366280" y="2643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чее поле черепаш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струменты графического редакт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357120" y="1000080"/>
            <a:ext cx="8194320" cy="5857560"/>
            <a:chOff x="357120" y="1000080"/>
            <a:chExt cx="8194320" cy="5857560"/>
          </a:xfrm>
        </p:grpSpPr>
        <p:pic>
          <p:nvPicPr>
            <p:cNvPr id="54" name="Picture 4" descr=""/>
            <p:cNvPicPr/>
            <p:nvPr/>
          </p:nvPicPr>
          <p:blipFill>
            <a:blip r:embed="rId1"/>
            <a:srcRect l="0" t="0" r="22149" b="23626"/>
            <a:stretch/>
          </p:blipFill>
          <p:spPr>
            <a:xfrm>
              <a:off x="357120" y="1000080"/>
              <a:ext cx="8192880" cy="55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9"/>
            <p:cNvSpPr/>
            <p:nvPr/>
          </p:nvSpPr>
          <p:spPr>
            <a:xfrm>
              <a:off x="1428840" y="5515560"/>
              <a:ext cx="7122600" cy="1342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устите программу ЛогоМи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дите на экране рабочее поле, Поле команд и Инструментальное мен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ойте окна Поле команд и Инструментальное меню (для этого необходимо выбрать команду меню Мелочи и убрать галочки в соответствующих строка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овь откройте окно Поле коман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местите черепашку по рабочему полю, захватив её за панцирь мыш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ерните черепашку вокруг своей оси (для этого наведите указатель мыши на голову черепашки, нажмите левую кнопку мыши и, не отпуская её, вращайте указатель мыши вокруг черепаш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елкните на изображении кисточки. Появится встроенный графический редак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 Используя встроенный графический редактор, нарисуйте пейз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5216" t="62873" r="22149" b="23626"/>
          <a:stretch/>
        </p:blipFill>
        <p:spPr>
          <a:xfrm>
            <a:off x="571680" y="3143160"/>
            <a:ext cx="79596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4:30:16Z</dcterms:created>
  <dc:creator>Admin</dc:creator>
  <dc:description/>
  <dc:language>en-US</dc:language>
  <cp:lastModifiedBy>Admin</cp:lastModifiedBy>
  <dcterms:modified xsi:type="dcterms:W3CDTF">2012-11-08T15:08:54Z</dcterms:modified>
  <cp:revision>5</cp:revision>
  <dc:subject/>
  <dc:title>Знакомство со средой ЛогоМиры</dc:title>
</cp:coreProperties>
</file>