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6105-544F-4EDB-9AF7-884B38173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B0C9-D9F9-4D4D-9514-F70122713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FA9D-F961-4C75-8767-4968863F7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DA51-0CCA-48C2-A9D7-6FA2DAD3D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BE93-0C65-461F-AC64-FD5394D5D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14A4-FA28-44F3-BDD1-BE6C22B16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5B2E-CC39-45F9-89F2-852092EFA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FD35-DE58-4E28-B304-45B7CF094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A269-AD8A-4F9F-AAB9-BED831635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1B1C-FEAB-4AE2-80B6-22B8FD00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A30A-22BE-488D-A102-6C5C6539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C6C6-9374-4448-84B7-B0852AC1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39CC8-1854-4F24-92B1-91937DD0B2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928440"/>
            <a:ext cx="7772400" cy="1469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908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Знакомство со средой ЛогоМир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714480" y="3885840"/>
            <a:ext cx="405756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6 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4" descr="logot.png"/>
          <p:cNvPicPr/>
          <p:nvPr/>
        </p:nvPicPr>
        <p:blipFill>
          <a:blip r:embed="rId1"/>
          <a:stretch/>
        </p:blipFill>
        <p:spPr>
          <a:xfrm>
            <a:off x="1785960" y="2928960"/>
            <a:ext cx="221472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кно программы ЛогоМиры 2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5" descr=""/>
          <p:cNvPicPr/>
          <p:nvPr/>
        </p:nvPicPr>
        <p:blipFill>
          <a:blip r:embed="rId1"/>
          <a:srcRect l="0" t="0" r="21780" b="23626"/>
          <a:stretch/>
        </p:blipFill>
        <p:spPr>
          <a:xfrm>
            <a:off x="1500120" y="1714680"/>
            <a:ext cx="61801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" name="Овал 4"/>
          <p:cNvSpPr/>
          <p:nvPr/>
        </p:nvSpPr>
        <p:spPr>
          <a:xfrm>
            <a:off x="1857240" y="1857240"/>
            <a:ext cx="2714760" cy="4287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2363400" y="1285920"/>
            <a:ext cx="14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трока мен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Овал 6"/>
          <p:cNvSpPr/>
          <p:nvPr/>
        </p:nvSpPr>
        <p:spPr>
          <a:xfrm>
            <a:off x="1357200" y="1643040"/>
            <a:ext cx="642960" cy="471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TextBox 7" descr=""/>
          <p:cNvPicPr/>
          <p:nvPr/>
        </p:nvPicPr>
        <p:blipFill>
          <a:blip r:embed="rId2"/>
          <a:stretch/>
        </p:blipFill>
        <p:spPr>
          <a:xfrm>
            <a:off x="566640" y="2494080"/>
            <a:ext cx="470160" cy="2809800"/>
          </a:xfrm>
          <a:prstGeom prst="rect">
            <a:avLst/>
          </a:prstGeom>
          <a:ln w="0">
            <a:noFill/>
          </a:ln>
        </p:spPr>
      </p:pic>
      <p:sp>
        <p:nvSpPr>
          <p:cNvPr id="50" name="TextBox 8"/>
          <p:cNvSpPr/>
          <p:nvPr/>
        </p:nvSpPr>
        <p:spPr>
          <a:xfrm>
            <a:off x="2790000" y="571500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ле коман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9"/>
          <p:cNvSpPr/>
          <p:nvPr/>
        </p:nvSpPr>
        <p:spPr>
          <a:xfrm>
            <a:off x="2366280" y="2643120"/>
            <a:ext cx="27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бочее поле черепаш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7156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нструменты графического редакто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Group 11"/>
          <p:cNvGrpSpPr/>
          <p:nvPr/>
        </p:nvGrpSpPr>
        <p:grpSpPr>
          <a:xfrm>
            <a:off x="357120" y="1000080"/>
            <a:ext cx="8194320" cy="5857560"/>
            <a:chOff x="357120" y="1000080"/>
            <a:chExt cx="8194320" cy="5857560"/>
          </a:xfrm>
        </p:grpSpPr>
        <p:pic>
          <p:nvPicPr>
            <p:cNvPr id="54" name="Picture 4" descr=""/>
            <p:cNvPicPr/>
            <p:nvPr/>
          </p:nvPicPr>
          <p:blipFill>
            <a:blip r:embed="rId1"/>
            <a:srcRect l="0" t="0" r="22149" b="23626"/>
            <a:stretch/>
          </p:blipFill>
          <p:spPr>
            <a:xfrm>
              <a:off x="357120" y="1000080"/>
              <a:ext cx="8192880" cy="55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Rectangle 9"/>
            <p:cNvSpPr/>
            <p:nvPr/>
          </p:nvSpPr>
          <p:spPr>
            <a:xfrm>
              <a:off x="1428840" y="5515560"/>
              <a:ext cx="7122600" cy="1342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пустите программу ЛогоМи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йдите на экране рабочее поле, Поле команд и Инструментальное мен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кройте окна Поле команд и Инструментальное меню (для этого необходимо выбрать команду меню Мелочи и убрать галочки в соответствующих строках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новь откройте окно Поле коман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еместите черепашку по рабочему полю, захватив её за панцирь мышь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верните черепашку вокруг своей оси (для этого наведите указатель мыши на голову черепашки, нажмите левую кнопку мыши и, не отпуская её, вращайте указатель мыши вокруг черепашк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Щелкните на изображении кисточки. Появится встроенный графический редакто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8.  Используя встроенный графический редактор, нарисуйте пейза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rcRect l="5216" t="62873" r="22149" b="23626"/>
          <a:stretch/>
        </p:blipFill>
        <p:spPr>
          <a:xfrm>
            <a:off x="571680" y="3143160"/>
            <a:ext cx="7959600" cy="11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8T14:30:16Z</dcterms:created>
  <dc:creator>Admin</dc:creator>
  <dc:description/>
  <dc:language>en-US</dc:language>
  <cp:lastModifiedBy>Admin</cp:lastModifiedBy>
  <dcterms:modified xsi:type="dcterms:W3CDTF">2012-11-08T15:08:54Z</dcterms:modified>
  <cp:revision>5</cp:revision>
  <dc:subject/>
  <dc:title>Знакомство со средой ЛогоМиры</dc:title>
</cp:coreProperties>
</file>