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905-DBC1-4243-9A0A-3BB405AE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3A6-ABDE-4716-B0E6-42F10DD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8B2-A8D5-45E1-859E-5876DB3E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DBD-63B0-4B83-89F3-7054461C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951-794E-4382-BCE1-CA7EE5E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7FF-AC22-4002-AEE9-FC08133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E18-5F60-4E94-A314-E0C9729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53F-1B04-460F-B7C2-46DC297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10E-9947-4207-BF9D-7F64DC1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161-DF65-4AC8-880F-061C23C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431-14D3-4170-B066-D7BCD3A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E78-4583-4CB1-88A9-0FC4A239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CE75-AD0C-42D0-9B27-4521E3A95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908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о со средой ЛогоМи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5840"/>
            <a:ext cx="405756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logot.png"/>
          <p:cNvPicPr/>
          <p:nvPr/>
        </p:nvPicPr>
        <p:blipFill>
          <a:blip r:embed="rId1"/>
          <a:stretch/>
        </p:blipFill>
        <p:spPr>
          <a:xfrm>
            <a:off x="1785960" y="2928960"/>
            <a:ext cx="2214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кно программы ЛогоМиры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rcRect l="0" t="0" r="21780" b="23626"/>
          <a:stretch/>
        </p:blipFill>
        <p:spPr>
          <a:xfrm>
            <a:off x="1500120" y="1714680"/>
            <a:ext cx="61801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Овал 4"/>
          <p:cNvSpPr/>
          <p:nvPr/>
        </p:nvSpPr>
        <p:spPr>
          <a:xfrm>
            <a:off x="1857240" y="1857240"/>
            <a:ext cx="271476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363400" y="1285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1357200" y="1643040"/>
            <a:ext cx="642960" cy="471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extBox 7" descr=""/>
          <p:cNvPicPr/>
          <p:nvPr/>
        </p:nvPicPr>
        <p:blipFill>
          <a:blip r:embed="rId2"/>
          <a:stretch/>
        </p:blipFill>
        <p:spPr>
          <a:xfrm>
            <a:off x="566640" y="2494080"/>
            <a:ext cx="47016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790000" y="571500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е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366280" y="2643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ее поле черепа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ы графического реда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357120" y="1000080"/>
            <a:ext cx="8194320" cy="5857560"/>
            <a:chOff x="357120" y="1000080"/>
            <a:chExt cx="8194320" cy="5857560"/>
          </a:xfrm>
        </p:grpSpPr>
        <p:pic>
          <p:nvPicPr>
            <p:cNvPr id="54" name="Picture 4" descr=""/>
            <p:cNvPicPr/>
            <p:nvPr/>
          </p:nvPicPr>
          <p:blipFill>
            <a:blip r:embed="rId1"/>
            <a:srcRect l="0" t="0" r="22149" b="23626"/>
            <a:stretch/>
          </p:blipFill>
          <p:spPr>
            <a:xfrm>
              <a:off x="357120" y="1000080"/>
              <a:ext cx="8192880" cy="55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9"/>
            <p:cNvSpPr/>
            <p:nvPr/>
          </p:nvSpPr>
          <p:spPr>
            <a:xfrm>
              <a:off x="1428840" y="5515560"/>
              <a:ext cx="7122600" cy="1342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устите программу ЛогоМ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на экране рабочее поле, Поле команд и Инструментальное мен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ойте окна Поле команд и Инструментальное меню (для этого необходимо выбрать команду меню Мелочи и убрать галочки в соответствующих строк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овь откройте окно Поле кома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стите черепашку по рабочему полю, захватив её за панцирь мыш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рните черепашку вокруг своей оси (для этого наведите указатель мыши на голову черепашки, нажмите левую кнопку мыши и, не отпуская её, вращайте указатель мыши вокруг черепа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елкните на изображении кисточки. Появится встроенный 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 Используя встроенный графический редактор, нарисуйте пейз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5216" t="62873" r="22149" b="23626"/>
          <a:stretch/>
        </p:blipFill>
        <p:spPr>
          <a:xfrm>
            <a:off x="571680" y="3143160"/>
            <a:ext cx="795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30:16Z</dcterms:created>
  <dc:creator>Admin</dc:creator>
  <dc:description/>
  <dc:language>en-US</dc:language>
  <cp:lastModifiedBy>Admin</cp:lastModifiedBy>
  <dcterms:modified xsi:type="dcterms:W3CDTF">2012-11-08T15:08:54Z</dcterms:modified>
  <cp:revision>5</cp:revision>
  <dc:subject/>
  <dc:title>Знакомство со средой ЛогоМиры</dc:title>
</cp:coreProperties>
</file>