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788A-B3E6-4250-83F7-CB07E644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B3E-5E38-4714-A183-D3F476D0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F68-E3CC-4EA1-8BEE-64C77D08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CEE-AA65-4782-8CE7-EC6990AD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682D-0E88-44F8-90E6-B30AA3A8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4557-9D4D-472A-ABE4-CE5A8F67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DC88-5FE2-4CC0-964B-7804AAFB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4739-9B0E-4D19-9828-1C6FA552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07E4-F838-4160-8A8F-2F6C954A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14E5-8CD1-45F7-A61C-42DF9868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9963-69A0-4846-89D9-5615C8F0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2B3-83D5-4450-8D22-6065C0C0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046E-463B-4023-9ECF-A51E28DE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FAFD-368A-4B45-8217-7C708EFF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2BA8-DBA8-4DA1-BD1F-ED2CCBB2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95D6-A6B5-4FEF-8F55-ADE0F63D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92C7-66A1-40E6-9F7A-DF476F8C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30C-AA4D-4104-B72C-BDCC377F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FFBB-4A53-49C0-A9C8-8BFD6627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97BA-6DF7-4976-B5F8-C60AFC70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344-6C1B-4C7E-A670-C5ADFE04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8AC-6416-40F5-A957-412BF3B9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1B0-9464-4A6C-A2D2-F370D953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E665-28B8-451F-AB72-97E82206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F550-951E-4DCB-BA4E-44DE425EF1C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617F-3672-475C-B220-7F642F9CFC8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95280" y="549360"/>
            <a:ext cx="3889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Century Gothic"/>
              </a:rPr>
              <a:t>Копилка</a:t>
            </a:r>
            <a:endParaRPr b="1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Century Gothic"/>
              <a:ea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3429000"/>
            <a:ext cx="853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entury Gothic"/>
              </a:rPr>
              <a:t>Психологические особенности накопл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entury Gothic"/>
              <a:ea typeface="Century Goth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76360" y="4581360"/>
            <a:ext cx="6626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Century Gothic"/>
              </a:rPr>
              <a:t>денег в подростковом возраст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Century Gothic"/>
              <a:ea typeface="Century Gothic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5661000"/>
            <a:ext cx="31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г.Шеле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5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67280" y="333360"/>
            <a:ext cx="2960640" cy="25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0920" y="5516640"/>
            <a:ext cx="22320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549360"/>
            <a:ext cx="66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Копите ли Вы деньг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649116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2276640"/>
          <a:ext cx="4240080" cy="290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276640"/>
                    <a:ext cx="424008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84360" y="5734080"/>
            <a:ext cx="770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вод: Копят деньги практически все подростки. Большинство юношей и девушек имеют свои копилк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43280" y="2276640"/>
          <a:ext cx="4249800" cy="2901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2276640"/>
                    <a:ext cx="424980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549360"/>
            <a:ext cx="748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Что побуждает Вас копить деньг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649116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2133720"/>
            <a:ext cx="68421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амые популярные 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ужно иметь свои день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ньги всегда нуж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очу иметь свои день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4000" y="404640"/>
            <a:ext cx="864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Из каких денег состоит накопленная сумм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2060640"/>
          <a:ext cx="4176720" cy="311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060640"/>
                    <a:ext cx="417672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643280" y="2060640"/>
          <a:ext cx="4176720" cy="3117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2060640"/>
                    <a:ext cx="417672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755640" y="5445000"/>
            <a:ext cx="7704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Вывод:Накопленная сумма денег у девушек в основном состоит из сэкономленных средств, а у юношей из заработанных и сэкономленных в равной ча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4360" y="549360"/>
            <a:ext cx="6983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На что Вы тратите деньг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2205000"/>
          <a:ext cx="4095720" cy="2951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205000"/>
                    <a:ext cx="40957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572000" y="2205000"/>
          <a:ext cx="4248000" cy="2952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205000"/>
                    <a:ext cx="4248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55640" y="5445000"/>
            <a:ext cx="7704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вод: к нужным вещам юноши относят сотовую связь, а девушки еще и косметику, разные мелочи: открытки, подарки и проче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0920" y="549360"/>
            <a:ext cx="8642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Придает ли  накопленная сумма уверенность в себе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2133720"/>
          <a:ext cx="4319640" cy="316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133720"/>
                    <a:ext cx="431964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500720" y="2133720"/>
          <a:ext cx="4248000" cy="3095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0720" y="2133720"/>
                    <a:ext cx="42480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755640" y="5445000"/>
            <a:ext cx="7704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вод: Наличие денег придает подростку уверенность в себе, что особенно важно, как считают психологи, на данном этапе развития ребенк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50920" y="54936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Знают ли родители о том, что Вы копите деньг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79280" y="2349360"/>
          <a:ext cx="4392720" cy="3095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349360"/>
                    <a:ext cx="439272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643280" y="2421000"/>
          <a:ext cx="4249800" cy="3024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2421000"/>
                    <a:ext cx="424980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611280" y="5516640"/>
            <a:ext cx="8281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5661000"/>
            <a:ext cx="6476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5661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вод: Только у половины опрошенных, родители знают о том, что их дети копят день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9280" y="549360"/>
            <a:ext cx="87854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Поощряют ли родители процесс накопления денег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08000" y="2205000"/>
          <a:ext cx="4535280" cy="316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205000"/>
                    <a:ext cx="45352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643280" y="2593800"/>
          <a:ext cx="3924360" cy="2584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2593800"/>
                    <a:ext cx="3924360" cy="25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24000" y="5589720"/>
            <a:ext cx="8569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вод: Не все родители (50%) поощряют процесс накопления денег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9280" y="549360"/>
            <a:ext cx="8785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Интересуются ли родители на что Вы тратите свои сбережения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9280" y="2276640"/>
          <a:ext cx="4392720" cy="302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276640"/>
                    <a:ext cx="439272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643280" y="2593800"/>
          <a:ext cx="3924360" cy="2584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2593800"/>
                    <a:ext cx="3924360" cy="25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84360" y="5373720"/>
            <a:ext cx="7991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вод: Меньшая часть родителей (32%) интересуются на что дети тратят  свои сбереж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08000" y="115920"/>
            <a:ext cx="8785080" cy="13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Привлекают ли родители В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к участию в планировании семейного бюджет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79280" y="2060640"/>
          <a:ext cx="4464000" cy="324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060640"/>
                    <a:ext cx="44640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643280" y="2593800"/>
          <a:ext cx="3924360" cy="2584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2593800"/>
                    <a:ext cx="3924360" cy="25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611280" y="5300640"/>
            <a:ext cx="504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5300640"/>
            <a:ext cx="8064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ывод: Только треть родителей (26%) привлекают подростков к участию в планировании семейного бюдже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4360" y="549360"/>
            <a:ext cx="55432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Актуаль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1989000"/>
            <a:ext cx="792144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Современная российская экономика находится на стадии становления. В условиях развития рыночной экономики, необходимо, чтобы подрастающее поколение обладало финансовой и экономической грамотностью, готовностью к свободе выбора при организации собственного дела и способностью умело распоряжаться своими накоплениями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55640" y="47628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Цель работ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133720"/>
            <a:ext cx="792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Выявить влияние уровня уверенности подростка на его отношение к деньгам и на процесс их накоп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5157720"/>
            <a:ext cx="2882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4360" y="549360"/>
            <a:ext cx="66243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Практическая значим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1773360"/>
            <a:ext cx="806472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Результаты данного исследования, будут включены в учебную программу учащихся экономического отделения МОУ «Шелеховский лицей»,использоваться для практических занятий в области психологии в экономике, а также опубликованы в лицейской газет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Материалы данного исследования будут интересны кураторам для работы с учащимися и родителями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59280" y="5661000"/>
            <a:ext cx="338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ww.richdad.co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500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накомство с литератур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500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ведение исследования (анкетирование, фокус-интерьвью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500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500"/>
              </a:spcBef>
              <a:buClr>
                <a:srgbClr val="00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пределение практической значимости полученных результатов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0920" y="5229360"/>
            <a:ext cx="2882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думывались ли вы над тем, почему родителям так трудно говорить с детьми о деньгах? Почему в большинстве случаев они стараются не обсуждать денежные вопросы в присутствии детей? По всей видимости, это связано с тем, что деньги – тема не просто запутанная и сложная, но глубоко личная. Почти во всех слоях общества существует некое табу на прямые разговоры о деньгах и собственных дохода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ечная тема денег – сущий оборотень: когда о них говорят, то на самом деле речь ведут не о них. Для большинства из нас деньги так прочно вплетены в жизнь , что связанные с ними проблемы самым загадочным образом влияют на наше здоровье, на отношения с близкими и друзьями. Деньги не оставляют равнодушными никого, и вряд ли можно найти человека, который бы был удовлетворен количеством денежных средств, которые он имеет.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54936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Предислов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сихологи считают, что отношение к деньгам закладываются у людей ещё в достаточно раннем возрасте и напрямую зависит от отношения к деньгам преобладающего в семье. Поэтому для одних из нас – это просто наличность, существующая для того ,чтобы её тратить. А для других это способ выразить свои стремления, выполнить обязательства, создать условия желаемого жизненного пространства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659640" y="260280"/>
            <a:ext cx="1874880" cy="941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755640" y="692280"/>
            <a:ext cx="54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Мнение психолог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 советском обществе любое личное накопление не очень ­то приветствовалось, а об использовании детского труда и говорить было нечего. Давать юным гражданам суммы, большие, чем стоимость стаканчика мороженого, и обсуждать с ними финансовые проблемы было просто не принято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Многое изменилось с тех пор, и нынешние родители стремятся подготовить своих детей к жизни в том мире, с которым они столкнутся за пределами семьи, в мире, где деньги являются основной движущей силой цивилизации и составляют важный элемент современной культуры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874880" cy="941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50920" y="549360"/>
            <a:ext cx="65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Что раньше и что сейчас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пулярная в США книга Д. Нельсена «1001 совет по воспитанию детей» рекомендует начать давать монетки уже двух-трехлетнему ребенку, с тем, чтобы он складывал их в копилку. Утверждается, что тем самым привычка экономить вырабатывается еще до того как она будет осознана. А затем, советует автор: «Когда ребенку исполнится 4-6 лет, приведите его с копилкой в банк и откройте счет на его имя. Пусть он каждые три месяца делает вклад»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1946160" cy="978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50920" y="549360"/>
            <a:ext cx="640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Советы зарубежных авто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 мнению автора другой известной книги «Богатый папа, бедный папа» Роберта Кийосаки: «Для ребенка копилка – это замечательный способ сбережения денег. Он будет видеть, как растут его сбережения. Монеты в пять, десять, двадцать пять центов быстро накапливаются, и на них можно купить много жвачек и других мелочей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дросткам автор советует развивать свой финансовый интеллект и обязательно завести не одну , а три копилки - для разных целе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4581360"/>
            <a:ext cx="1584360" cy="1297080"/>
          </a:xfrm>
          <a:prstGeom prst="cube">
            <a:avLst>
              <a:gd name="adj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пилка №1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лаготвор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5280" y="4581360"/>
            <a:ext cx="1584360" cy="1297080"/>
          </a:xfrm>
          <a:prstGeom prst="cube">
            <a:avLst>
              <a:gd name="adj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опилка №2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бере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0360" y="4581360"/>
            <a:ext cx="1584360" cy="1297080"/>
          </a:xfrm>
          <a:prstGeom prst="cube">
            <a:avLst>
              <a:gd name="adj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опилка №3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нвести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946520" cy="978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50920" y="549360"/>
            <a:ext cx="6626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Советы зарубежных авто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588000" y="260280"/>
            <a:ext cx="2160720" cy="1050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4360" y="1773360"/>
            <a:ext cx="78483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Мне стало интересно, как подростки - мои ровесники относятся к деньгам, есть ли различия в отношении к финансам между юношами и девушками. Как влияет наличие денежных средств у подростков на уровень уверенности в себе. Какую роль играют родители в данном процессе.   В исследовательской работе использовалась анкета «Подросток и деньги»составленная автором работы и тест «Насколько вы уверены в себе?» А.М.Прихожан. В анкетировании и тестировании приняли участие 74 человека – учащиеся 2 курса МОУ «Шелеховский лицей»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3:50:22Z</dcterms:created>
  <dc:creator>Velliant</dc:creator>
  <dc:description/>
  <dc:language>en-US</dc:language>
  <cp:lastModifiedBy>111</cp:lastModifiedBy>
  <dcterms:modified xsi:type="dcterms:W3CDTF">2005-10-27T07:06:17Z</dcterms:modified>
  <cp:revision>19</cp:revision>
  <dc:subject/>
  <dc:title>Слайд 1</dc:title>
</cp:coreProperties>
</file>