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8708-020D-4250-B434-98C00807D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D12C-0116-43C8-AF69-7B4ABD41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84EA-861D-4D14-847C-2C66B6B2B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6486-CD67-48F9-8B80-F5F5794CE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5323-DB42-453A-84F6-AB787CD5E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B913A-2614-4F85-B0FE-1DD7B5C7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9A50-C6AF-434A-9DF6-9AA525BF9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648D2-72F4-414D-A25F-64EB4428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A7C6D-F700-467E-8FB2-F96CA2E8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4AC3-348B-4D9B-9F3B-0829FB77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2E2B-185F-4617-B7C5-1384720D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275E-24A3-432C-B253-1B5989D3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176B7-DC2C-4B6E-A86F-E60F18C2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DA48-F4C6-4699-AE53-9C4D20EB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E438-AB39-4546-9774-ACD984E5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CD63-B5F3-4103-95CF-9427C2D4A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2A0A1-A835-4167-AC9A-8A2602392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153D-7B55-4CEA-A103-7CD504A0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4B17-0B2E-473D-B84B-7236D70B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BB65-384B-475C-BDC1-4AF206E6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8AF6-1EC3-4662-A476-AE3ADE7A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83ED-F613-4FB2-886F-27FDF36D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14D9-9B04-4FE6-92EF-CB822829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7AE8-966D-467B-9971-2B6BF1E6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EE35-FB6E-44CE-8CB5-93197AB651F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BE64-7D40-43D0-A2EE-33BE5F7E747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95280" y="549360"/>
            <a:ext cx="38894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Century Gothic"/>
              </a:rPr>
              <a:t>Копилка</a:t>
            </a:r>
            <a:endParaRPr b="1" lang="en-US" sz="2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Century Gothic"/>
              <a:ea typeface="Century Gothic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95280" y="3429000"/>
            <a:ext cx="853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entury Gothic"/>
              </a:rPr>
              <a:t>Психологические особенности накопл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entury Gothic"/>
              <a:ea typeface="Century Gothic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476360" y="4581360"/>
            <a:ext cx="66261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entury Gothic"/>
              </a:rPr>
              <a:t>денег в подростковом возраст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entury Gothic"/>
              <a:ea typeface="Century Gothic"/>
            </a:endParaRPr>
          </a:p>
        </p:txBody>
      </p:sp>
      <p:sp>
        <p:nvSpPr>
          <p:cNvPr id="88" name=""/>
          <p:cNvSpPr/>
          <p:nvPr/>
        </p:nvSpPr>
        <p:spPr>
          <a:xfrm>
            <a:off x="3419640" y="5661000"/>
            <a:ext cx="316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г.Шелех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5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867280" y="333360"/>
            <a:ext cx="2960640" cy="250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250920" y="5516640"/>
            <a:ext cx="223200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4360" y="549360"/>
            <a:ext cx="662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Копите ли Вы деньги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  <p:sp>
        <p:nvSpPr>
          <p:cNvPr id="116" name=""/>
          <p:cNvSpPr/>
          <p:nvPr/>
        </p:nvSpPr>
        <p:spPr>
          <a:xfrm>
            <a:off x="1187280" y="6491160"/>
            <a:ext cx="68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50920" y="2276640"/>
          <a:ext cx="4240080" cy="2901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276640"/>
                    <a:ext cx="4240080" cy="29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684360" y="5734080"/>
            <a:ext cx="7704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Вывод: Копят деньги практически все подростки. Большинство юношей и девушек имеют свои копилк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643280" y="2276640"/>
          <a:ext cx="4249800" cy="29019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3280" y="2276640"/>
                    <a:ext cx="4249800" cy="29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84360" y="549360"/>
            <a:ext cx="748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Что побуждает Вас копить деньги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  <p:sp>
        <p:nvSpPr>
          <p:cNvPr id="123" name=""/>
          <p:cNvSpPr/>
          <p:nvPr/>
        </p:nvSpPr>
        <p:spPr>
          <a:xfrm>
            <a:off x="1187280" y="6491160"/>
            <a:ext cx="68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42920" y="2133720"/>
            <a:ext cx="68421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амые популярные отве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ужно иметь свои день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еньги всегда нуж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Хочу иметь свои день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24000" y="404640"/>
            <a:ext cx="8640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Из каких денег состоит накопленная сумма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95280" y="2060640"/>
          <a:ext cx="4176720" cy="3117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2060640"/>
                    <a:ext cx="4176720" cy="31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4643280" y="2060640"/>
          <a:ext cx="4176720" cy="31179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3280" y="2060640"/>
                    <a:ext cx="4176720" cy="31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755640" y="5445000"/>
            <a:ext cx="77040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Вывод:Накопленная сумма денег у девушек в основном состоит из сэкономленных средств, а у юношей из заработанных и сэкономленных в равной част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4360" y="549360"/>
            <a:ext cx="6983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На что Вы тратите деньги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95280" y="2205000"/>
          <a:ext cx="4095720" cy="2951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2205000"/>
                    <a:ext cx="4095720" cy="29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4572000" y="2205000"/>
          <a:ext cx="4248000" cy="29527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2205000"/>
                    <a:ext cx="424800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55640" y="5445000"/>
            <a:ext cx="77040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Вывод: к нужным вещам юноши относят сотовую связь, а девушки еще и косметику, разные мелочи: открытки, подарки и проче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250920" y="549360"/>
            <a:ext cx="86421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Придает ли  накопленная сумма уверенность в себе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79280" y="2133720"/>
          <a:ext cx="4319640" cy="3168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2133720"/>
                    <a:ext cx="4319640" cy="31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4500720" y="2133720"/>
          <a:ext cx="4248000" cy="30956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00720" y="2133720"/>
                    <a:ext cx="424800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755640" y="5445000"/>
            <a:ext cx="77040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Вывод: Наличие денег придает подростку уверенность в себе, что особенно важно, как считают психологи, на данном этапе развития ребенк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250920" y="549360"/>
            <a:ext cx="842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Знают ли родители о том, что Вы копите деньги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79280" y="2349360"/>
          <a:ext cx="4392720" cy="3095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2349360"/>
                    <a:ext cx="439272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4643280" y="2421000"/>
          <a:ext cx="4249800" cy="30240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3280" y="2421000"/>
                    <a:ext cx="424980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611280" y="5516640"/>
            <a:ext cx="82818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4360" y="5661000"/>
            <a:ext cx="6476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9640" y="56610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вод: Только у половины опрошенных, родители знают о том, что их дети копят день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79280" y="549360"/>
            <a:ext cx="878544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Поощряют ли родители процесс накопления денег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08000" y="2205000"/>
          <a:ext cx="4535280" cy="3168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2205000"/>
                    <a:ext cx="453528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4643280" y="2593800"/>
          <a:ext cx="3924360" cy="25848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3280" y="2593800"/>
                    <a:ext cx="3924360" cy="25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324000" y="5589720"/>
            <a:ext cx="85690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Вывод: Не все родители (50%) поощряют процесс накопления денег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79280" y="549360"/>
            <a:ext cx="87854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Интересуются ли родители на что Вы тратите свои сбережения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79280" y="2276640"/>
          <a:ext cx="4392720" cy="3024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2276640"/>
                    <a:ext cx="439272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4643280" y="2593800"/>
          <a:ext cx="3924360" cy="25848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3280" y="2593800"/>
                    <a:ext cx="3924360" cy="25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684360" y="5373720"/>
            <a:ext cx="79912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Вывод: Меньшая часть родителей (32%) интересуются на что дети тратят  свои сбережени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08000" y="115920"/>
            <a:ext cx="8785080" cy="131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Привлекают ли родители Ва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к участию в планировании семейного бюджета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79280" y="2060640"/>
          <a:ext cx="4464000" cy="3240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2060640"/>
                    <a:ext cx="446400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4643280" y="2593800"/>
          <a:ext cx="3924360" cy="25848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3280" y="2593800"/>
                    <a:ext cx="3924360" cy="25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611280" y="5300640"/>
            <a:ext cx="5047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1280" y="5300640"/>
            <a:ext cx="80643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Вывод: Только треть родителей (26%) привлекают подростков к участию в планировании семейного бюджет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684360" y="549360"/>
            <a:ext cx="554328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Актуаль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1989000"/>
            <a:ext cx="792144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Современная российская экономика находится на стадии становления. В условиях развития рыночной экономики, необходимо, чтобы подрастающее поколение обладало финансовой и экономической грамотностью, готовностью к свободе выбора при организации собственного дела и способностью умело распоряжаться своими накоплениями.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755640" y="476280"/>
            <a:ext cx="468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Цель работы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2133720"/>
            <a:ext cx="7921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Выявить влияние уровня уверенности подростка на его отношение к деньгам и на процесс их накоп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24000" y="5157720"/>
            <a:ext cx="28828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684360" y="549360"/>
            <a:ext cx="662436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Практическая значим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  <p:sp>
        <p:nvSpPr>
          <p:cNvPr id="173" name=""/>
          <p:cNvSpPr/>
          <p:nvPr/>
        </p:nvSpPr>
        <p:spPr>
          <a:xfrm>
            <a:off x="539640" y="1773360"/>
            <a:ext cx="806472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Результаты данного исследования, будут включены в учебную программу учащихся экономического отделения МОУ «Шелеховский лицей»,использоваться для практических занятий в области психологии в экономике, а также опубликованы в лицейской газет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Материалы данного исследования будут интересны кураторам для работы с учащимися и родителями.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59280" y="5661000"/>
            <a:ext cx="3384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ww.richdad.co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7893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500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Знакомство с литературо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500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роведение исследования (анкетирование, фокус-интерьвью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500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ыво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500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Определение практической значимости полученных результатов иссле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50920" y="5229360"/>
            <a:ext cx="28828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адумывались ли вы над тем, почему родителям так трудно говорить с детьми о деньгах? Почему в большинстве случаев они стараются не обсуждать денежные вопросы в присутствии детей? По всей видимости, это связано с тем, что деньги – тема не просто запутанная и сложная, но глубоко личная. Почти во всех слоях общества существует некое табу на прямые разговоры о деньгах и собственных доходах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ечная тема денег – сущий оборотень: когда о них говорят, то на самом деле речь ведут не о них. Для большинства из нас деньги так прочно вплетены в жизнь , что связанные с ними проблемы самым загадочным образом влияют на наше здоровье, на отношения с близкими и друзьями. Деньги не оставляют равнодушными никого, и вряд ли можно найти человека, который бы был удовлетворен количеством денежных средств, которые он имеет.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55640" y="549360"/>
            <a:ext cx="489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Предислов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66640" y="1752480"/>
            <a:ext cx="7966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сихологи считают, что отношение к деньгам закладываются у людей ещё в достаточно раннем возрасте и напрямую зависит от отношения к деньгам преобладающего в семье. Поэтому для одних из нас – это просто наличность, существующая для того ,чтобы её тратить. А для других это способ выразить свои стремления, выполнить обязательства, создать условия желаемого жизненного пространства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659640" y="260280"/>
            <a:ext cx="1874880" cy="941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755640" y="692280"/>
            <a:ext cx="547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Мнение психолог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7893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В советском обществе любое личное накопление не очень ­то приветствовалось, а об использовании детского труда и говорить было нечего. Давать юным гражданам суммы, большие, чем стоимость стаканчика мороженого, и обсуждать с ними финансовые проблемы было просто не принято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Многое изменилось с тех пор, и нынешние родители стремятся подготовить своих детей к жизни в том мире, с которым они столкнутся за пределами семьи, в мире, где деньги являются основной движущей силой цивилизации и составляют важный элемент современной культуры…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948360" y="260280"/>
            <a:ext cx="1874880" cy="941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250920" y="549360"/>
            <a:ext cx="655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Что раньше и что сейчас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3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пулярная в США книга Д. Нельсена «1001 совет по воспитанию детей» рекомендует начать давать монетки уже двух-трехлетнему ребенку, с тем, чтобы он складывал их в копилку. Утверждается, что тем самым привычка экономить вырабатывается еще до того как она будет осознана. А затем, советует автор: «Когда ребенку исполнится 4-6 лет, приведите его с копилкой в банк и откройте счет на его имя. Пусть он каждые три месяца делает вклад»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877080" y="260280"/>
            <a:ext cx="1946160" cy="978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250920" y="549360"/>
            <a:ext cx="6408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Советы зарубежных автор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3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 мнению автора другой известной книги «Богатый папа, бедный папа» Роберта Кийосаки: «Для ребенка копилка – это замечательный способ сбережения денег. Он будет видеть, как растут его сбережения. Монеты в пять, десять, двадцать пять центов быстро накапливаются, и на них можно купить много жвачек и других мелочей»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дросткам автор советует развивать свой финансовый интеллект и обязательно завести не одну , а три копилки - для разных целей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1258920" y="4581360"/>
            <a:ext cx="1584360" cy="1297080"/>
          </a:xfrm>
          <a:prstGeom prst="cube">
            <a:avLst>
              <a:gd name="adj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опилка №1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Благотвори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35280" y="4581360"/>
            <a:ext cx="1584360" cy="1297080"/>
          </a:xfrm>
          <a:prstGeom prst="cube">
            <a:avLst>
              <a:gd name="adj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Копилка №2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Сбере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40360" y="4581360"/>
            <a:ext cx="1584360" cy="1297080"/>
          </a:xfrm>
          <a:prstGeom prst="cube">
            <a:avLst>
              <a:gd name="adj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Копилка №3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Инвести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948360" y="260280"/>
            <a:ext cx="1946520" cy="978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250920" y="549360"/>
            <a:ext cx="66261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Советы зарубежных автор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588000" y="260280"/>
            <a:ext cx="2160720" cy="1050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84360" y="1773360"/>
            <a:ext cx="784836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Мне стало интересно, как подростки - мои ровесники относятся к деньгам, есть ли различия в отношении к финансам между юношами и девушками. Как влияет наличие денежных средств у подростков на уровень уверенности в себе. Какую роль играют родители в данном процессе.   В исследовательской работе использовалась анкета «Подросток и деньги»составленная автором работы и тест «Насколько вы уверены в себе?» А.М.Прихожан. В анкетировании и тестировании приняли участие 74 человека – учащиеся 2 курса МОУ «Шелеховский лицей»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2T03:50:22Z</dcterms:created>
  <dc:creator>Velliant</dc:creator>
  <dc:description/>
  <dc:language>en-US</dc:language>
  <cp:lastModifiedBy>111</cp:lastModifiedBy>
  <dcterms:modified xsi:type="dcterms:W3CDTF">2005-10-27T07:06:17Z</dcterms:modified>
  <cp:revision>19</cp:revision>
  <dc:subject/>
  <dc:title>Слайд 1</dc:title>
</cp:coreProperties>
</file>