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497-24EA-45E8-9C27-CFF48583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E91-E9A9-4738-8216-4448CC7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84A-96C4-4C09-9DF8-5A5EE54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0CB-4542-4616-8DCD-50622542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9A08-910A-434F-B470-CA6B3448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779-DE0F-4142-A174-889AB4EA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CA9-A2D2-400A-A05C-17751AE4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680F-EC7A-4ACE-A9B8-C3E581D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78D-E771-4CD6-92D7-0AF8B7D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A3E-3C77-42F9-AC86-C4A1B35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250-387B-4EB6-80C7-AB9BC26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C60-2FBA-47A2-8CEF-E2BBEF01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ABFE-8665-4208-94C3-8CE1006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BF6B-1AE2-470B-8E78-57CAE54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FF96-A38C-4E20-BA3B-6A14D71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7627-F0D5-42E2-B50B-78E8E873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645A-256B-4681-AA8F-EEA76944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F5D-672E-45EB-A68F-F8CA610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BED-B286-456D-82D4-5D28DBD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F0A-A124-445F-ABCF-DF9AD86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9AB-F286-41E6-AE8E-3B33B1BB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32F-586D-4FC6-A3F2-A523AEFD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ED2-947E-4E01-B6FB-890D678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944-AAC1-4AC8-9455-4B713D9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E2A-B4D5-4B63-9CCB-0CD0CCA14B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45C-6347-4BE0-8027-50AC34346E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549360"/>
            <a:ext cx="388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Century Gothic"/>
              </a:rPr>
              <a:t>Копилка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Century Gothic"/>
              <a:ea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3429000"/>
            <a:ext cx="85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Психологические особенности накопл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76360" y="4581360"/>
            <a:ext cx="6626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денег в подростковом возрас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66100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.Шел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6064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223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549360"/>
            <a:ext cx="66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опите ли Вы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276640"/>
          <a:ext cx="4240080" cy="29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42400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4360" y="573408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опят деньги практически все подростки. Большинство юношей и девушек имеют свои копил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3280" y="2276640"/>
          <a:ext cx="4249800" cy="290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276640"/>
                    <a:ext cx="4249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549360"/>
            <a:ext cx="74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побуждает Вас копить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133720"/>
            <a:ext cx="6842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мые популярны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о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ньги всегда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чу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404640"/>
            <a:ext cx="864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з каких денег состоит накопленная сумм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2060640"/>
          <a:ext cx="4176720" cy="31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3280" y="2060640"/>
          <a:ext cx="4176720" cy="3117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вод:Накопленная сумма денег у девушек в основном состоит из сэкономленных средств, а у юношей из заработанных и сэкономленных в равной ча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549360"/>
            <a:ext cx="698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На что Вы трат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205000"/>
          <a:ext cx="4095720" cy="29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4095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0" y="2205000"/>
          <a:ext cx="4248000" cy="2952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05000"/>
                    <a:ext cx="4248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 нужным вещам юноши относят сотовую связь, а девушки еще и косметику, разные мелочи: открытки, подарки и проче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549360"/>
            <a:ext cx="8642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дает ли  накопленная сумма уверенность в себ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2133720"/>
          <a:ext cx="4319640" cy="316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3196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00720" y="2133720"/>
          <a:ext cx="4248000" cy="309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133720"/>
                    <a:ext cx="42480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аличие денег придает подростку уверенность в себе, что особенно важно, как считают психологи, на данном этапе развития ребен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Знают ли родители о том, что Вы коп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2349360"/>
          <a:ext cx="4392720" cy="30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349360"/>
                    <a:ext cx="4392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643280" y="2421000"/>
          <a:ext cx="4249800" cy="3024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421000"/>
                    <a:ext cx="42498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11280" y="5516640"/>
            <a:ext cx="8281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661000"/>
            <a:ext cx="647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66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од: Только у половины опрошенных, родители знают о том, что их дети копят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549360"/>
            <a:ext cx="878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оощряют ли родители процесс накопления денег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2205000"/>
          <a:ext cx="4535280" cy="31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205000"/>
                    <a:ext cx="4535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4000" y="5589720"/>
            <a:ext cx="8569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е все родители (50%) поощряют процесс накопления дене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54936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нтересуются ли родители на что Вы тратите свои сбере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276640"/>
          <a:ext cx="439272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4392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4360" y="5373720"/>
            <a:ext cx="7991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Меньшая часть родителей (32%) интересуются на что дети тратят  свои сбереж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8000" y="115920"/>
            <a:ext cx="87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влекают ли родители В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 участию в планировании семейного бюдже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060640"/>
          <a:ext cx="446400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4464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11280" y="5300640"/>
            <a:ext cx="504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300640"/>
            <a:ext cx="806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Только треть родителей (26%) привлекают подростков к участию в планировании семейного бюдже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4360" y="549360"/>
            <a:ext cx="5543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989000"/>
            <a:ext cx="79214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Современная российская экономика находится на стадии становления. В условиях развития рыночной экономики, необходимо, чтобы подрастающее поколение обладало финансовой и экономической грамотностью, готовностью к свободе выбора при организации собственного дела и способностью умело распоряжаться своими накоплени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640" y="47628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Цель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13372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Выявить влияние уровня уверенности подростка на его отношение к деньгам и на процесс их нако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2882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6624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актическая значим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773360"/>
            <a:ext cx="806472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Результаты данного исследования, будут включены в учебную программу учащихся экономического отделения МОУ «Шелеховский лицей»,использоваться для практических занятий в области психологии в экономике, а также опубликованы в лицейской газе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атериалы данного исследования будут интересны кураторам для работы с учащимися и родител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61000"/>
            <a:ext cx="338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ww.richdad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накомство с литератур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ведение исследования (анкетирование, фокус-интерьвью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ределение практической значимости полученных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2882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умывались ли вы над тем, почему родителям так трудно говорить с детьми о деньгах? Почему в большинстве случаев они стараются не обсуждать денежные вопросы в присутствии детей? По всей видимости, это связано с тем, что деньги – тема не просто запутанная и сложная, но глубоко личная. Почти во всех слоях общества существует некое табу на прямые разговоры о деньгах и собственных дохода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чная тема денег – сущий оборотень: когда о них говорят, то на самом деле речь ведут не о них. Для большинства из нас деньги так прочно вплетены в жизнь , что связанные с ними проблемы самым загадочным образом влияют на наше здоровье, на отношения с близкими и друзьями. Деньги не оставляют равнодушными никого, и вряд ли можно найти человека, который бы был удовлетворен количеством денежных средств, которые он имеет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549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едисло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сихологи считают, что отношение к деньгам закладываются у людей ещё в достаточно раннем возрасте и напрямую зависит от отношения к деньгам преобладающего в семье. Поэтому для одних из нас – это просто наличность, существующая для того ,чтобы её тратить. А для других это способ выразить свои стремления, выполнить обязательства, создать условия желаемого жизненного пространств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5640" y="692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Мнение психо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 советском обществе любое личное накопление не очень ­то приветствовалось, а об использовании детского труда и говорить было нечего. Давать юным гражданам суммы, большие, чем стоимость стаканчика мороженого, и обсуждать с ними финансовые проблемы было просто не принято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Многое изменилось с тех пор, и нынешние родители стремятся подготовить своих детей к жизни в том мире, с которым они столкнутся за пределами семьи, в мире, где деньги являются основной движущей силой цивилизации и составляют важный элемент современной культуры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54936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раньше и что сейчас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пулярная в США книга Д. Нельсена «1001 совет по воспитанию детей» рекомендует начать давать монетки уже двух-трехлетнему ребенку, с тем, чтобы он складывал их в копилку. Утверждается, что тем самым привычка экономить вырабатывается еще до того как она будет осознана. А затем, советует автор: «Когда ребенку исполнится 4-6 лет, приведите его с копилкой в банк и откройте счет на его имя. Пусть он каждые три месяца делает вклад»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946160" cy="97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54936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 мнению автора другой известной книги «Богатый папа, бедный папа» Роберта Кийосаки: «Для ребенка копилка – это замечательный способ сбережения денег. Он будет видеть, как растут его сбережения. Монеты в пять, десять, двадцать пять центов быстро накапливаются, и на них можно купить много жвачек и других мелочей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росткам автор советует развивать свой финансовый интеллект и обязательно завести не одну , а три копилки - для разных целе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пилка №1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тво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бере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нвести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6520" cy="97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54936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16072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360" y="1773360"/>
            <a:ext cx="7848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не стало интересно, как подростки - мои ровесники относятся к деньгам, есть ли различия в отношении к финансам между юношами и девушками. Как влияет наличие денежных средств у подростков на уровень уверенности в себе. Какую роль играют родители в данном процессе.   В исследовательской работе использовалась анкета «Подросток и деньги»составленная автором работы и тест «Насколько вы уверены в себе?» А.М.Прихожан. В анкетировании и тестировании приняли участие 74 человека – учащиеся 2 курса МОУ «Шелеховский лицей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3:50:22Z</dcterms:created>
  <dc:creator>Velliant</dc:creator>
  <dc:description/>
  <dc:language>en-US</dc:language>
  <cp:lastModifiedBy>111</cp:lastModifiedBy>
  <dcterms:modified xsi:type="dcterms:W3CDTF">2005-10-27T07:06:17Z</dcterms:modified>
  <cp:revision>19</cp:revision>
  <dc:subject/>
  <dc:title>Слайд 1</dc:title>
</cp:coreProperties>
</file>