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577-B4A0-468B-9975-2A925017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4B7-10A6-4568-92F4-2663D60C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40C-4588-4B74-AB9C-5D64FC67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2B7-9F71-4C82-B117-199CE90C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B4D-BFC9-45A1-9DAE-3D07247F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386-9A67-4863-B637-72D39806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FE31-DF4D-4BDC-AF84-9474D40A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38B-ACE0-4089-9084-743D92E9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A54-50F3-4725-A1EC-55BC91C8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25F-9003-4846-8041-AA8D25EF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7E3-3244-47F3-AD87-3F524B08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983-4E31-4CBB-9951-032BFC54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8481-2297-4C4B-8D02-42D35E0BD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абота со строковыми типами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836640"/>
            <a:ext cx="8820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рок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– упорядоченная последовательность симво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роковая констант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– последовательность символов, заключенных в апостроф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то строковая константа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‘268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роковая переменна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– описывается в разделе описания переменных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 &lt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дентификатор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ring [&lt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ксимальная длина строк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&gt;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692280"/>
            <a:ext cx="83516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лементы строки идентифицируются именем строки с индексом, заключенным в квадратные скобки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[i], s1[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=‘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рок информатик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[2] = ‘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,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[5]=‘ ’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,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[6]=‘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33360"/>
            <a:ext cx="8424720" cy="86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ngth(s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– определяет текущую длину строк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py (s, Poz, N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выделяет из строк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дстроку длиной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имволов, начиная с позици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z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lete (s, Poz, N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даляет из строк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дстроку длиной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имволов, начиная с позици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z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sert (s1, s2, Poz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вставка строк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1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в строк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2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начиная с позици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z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620640"/>
            <a:ext cx="828180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r (N, str1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ереводит  числовое значение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в строковое и присваивает результат строке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1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l (str, N, K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переводит строковое значение в числовое;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ока,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 -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лучаемое число,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омер символа, в котором встречается первое нарушение записи числ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476280"/>
            <a:ext cx="8209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ана строка. Удалить в ней все пробе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gram str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 s1, s2: string; i 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rite ('введите строку'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adln (s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2:=‘’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устая строк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i:=1 to length (s1)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s[i]&lt;&gt; ‘ ‘  then s2:=s2+s[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riteln (‘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овая строка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=',s2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73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ано слово. Проверить, является ли оно палиндромом. (Слева направо и справа налево читается одинаков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общим правилам оформления машинописных работ и служебных документов  после знаков препинания обязателен пробел. Составить программу, добавляющую недостающие пробе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зменить в романе имя героя с Пьера на Виктор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еализовать на компьютере возможность автоматической замены слова «граматика» на слово «грамматик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йти сумму цифр заданного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6:37:49Z</dcterms:created>
  <dc:creator>ilich13/Nata</dc:creator>
  <dc:description/>
  <dc:language>en-US</dc:language>
  <cp:lastModifiedBy>Илья</cp:lastModifiedBy>
  <dcterms:modified xsi:type="dcterms:W3CDTF">2011-04-10T13:26:15Z</dcterms:modified>
  <cp:revision>8</cp:revision>
  <dc:subject/>
  <dc:title>Работа со строковыми типами данных</dc:title>
</cp:coreProperties>
</file>