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E61-471C-4E7E-B4EA-4B2C7FEC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300-58AD-4780-A9E4-508C599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811-1319-4004-A765-58058FBE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B12-993A-4D12-AB3C-922E4E46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A85-103D-47F1-912C-B77F8386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C3F-85BE-47A1-A0BD-CA7A4EB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078-18CC-491D-BC77-44AC00A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6FD-E387-43FA-98D1-7A0D294F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F59-6184-4328-9FC0-C5207646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05C-405E-47B6-9556-152279C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282-8CAC-44E2-A158-C9B0D6E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19F-0AD9-477C-A4C5-D0DE228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FA5-7FD1-411F-A2E4-2F4C487AE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абота со строковыми типами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836640"/>
            <a:ext cx="8820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упорядоченная последовательность симв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овая констан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последовательность символов, заключенных в апостроф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то строковая констант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268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овая переменна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описывается в разделе описания переменных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 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дентификато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ing [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ксимальная длина стро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92280"/>
            <a:ext cx="8351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лементы строки идентифицируются именем строки с индексом, заключенным в квадратные скобк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[i], s1[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=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рок информати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2] = 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5]=‘ 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6]=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424720" cy="86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ngth(s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определяет текущую длину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py (s, Poz, N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ыделяет из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строку длиной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волов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ete (s, Poz, N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даляет из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строку длиной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волов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ert (s1, s2, Poz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вставка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 стро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2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8281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 (N, str1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еводит  числовое значени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 строковое и присваивает результат строк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 (str, N, K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переводит строковое значение в числовое;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ка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лучаемое число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мер символа, в котором встречается первое нарушение записи числ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476280"/>
            <a:ext cx="820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а строка. Удалить в ней все проб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gram st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 s1, s2: string; i 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 ('введите строку'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ln (s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2:=‘’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тая строк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i:=1 to length (s1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s[i]&lt;&gt; ‘ ‘  then s2:=s2+s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ln (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вая строк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',s2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3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о слово. Проверить, является ли оно палиндромом. (Слева направо и справа налево читается одинак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общим правилам оформления машинописных работ и служебных документов  после знаков препинания обязателен пробел. Составить программу, добавляющую недостающие пробе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менить в романе имя героя с Пьера на Викто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ализовать на компьютере возможность автоматической замены слова «граматика» на слово «граммати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йти сумму цифр зада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37:49Z</dcterms:created>
  <dc:creator>ilich13/Nata</dc:creator>
  <dc:description/>
  <dc:language>en-US</dc:language>
  <cp:lastModifiedBy>Илья</cp:lastModifiedBy>
  <dcterms:modified xsi:type="dcterms:W3CDTF">2011-04-10T13:26:15Z</dcterms:modified>
  <cp:revision>8</cp:revision>
  <dc:subject/>
  <dc:title>Работа со строковыми типами данных</dc:title>
</cp:coreProperties>
</file>