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505-935A-4DFD-A275-276FC075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C9F-4CCA-4181-8AF5-E739A655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829-2045-40DE-BE2F-306F23BF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051-9D73-4105-8220-72AADA72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E76-2CF1-40D0-AF68-F5205FF3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378-E3AF-4A57-A884-40319BEE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FAC-95FB-43EE-A71A-0D66E954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F5F-C36D-428A-B407-2C044E73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AD0-4DFE-4F99-8C2F-D56D63A1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1A2-924B-4F94-8E07-C01F65FD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16A-E2FB-4287-B390-028731BA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CDE-F724-4093-9341-D88F3AFD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1EC4-26AE-4074-9EC1-73E8762CD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абота со строковыми типами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836640"/>
            <a:ext cx="8820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рок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– упорядоченная последовательность симв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роковая констант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– последовательность символов, заключенных в апостроф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то строковая констант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‘268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роковая переменна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– описывается в разделе описания переменных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 &l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дентификато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ring [&lt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ксимальная длина строк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gt;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92280"/>
            <a:ext cx="83516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лементы строки идентифицируются именем строки с индексом, заключенным в квадратные скобки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[i], s1[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=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рок информатик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[2] = 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[5]=‘ ’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,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[6]=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33360"/>
            <a:ext cx="8424720" cy="86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ngth(s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– определяет текущую длину строк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py (s, Poz, N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ыделяет из строк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строку длиной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мволов, начиная с позици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z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lete (s, Poz, N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даляет из строк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дстроку длиной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имволов, начиная с позици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z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ert (s1, s2, Poz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вставка строк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1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 строку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2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начиная с позици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z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620640"/>
            <a:ext cx="828180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r (N, str1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еводит  числовое значени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в строковое и присваивает результат строк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1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l (str, N, K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переводит строковое значение в числовое;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ока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 -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лучаемое число,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мер символа, в котором встречается первое нарушение записи числ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476280"/>
            <a:ext cx="8209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ана строка. Удалить в ней все пробе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gram str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 s1, s2: string; i 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rite ('введите строку'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adln (s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2:=‘’;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{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устая строк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 i:=1 to length (s1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s[i]&lt;&gt; ‘ ‘  then s2:=s2+s[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riteln (‘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овая строка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',s2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73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ано слово. Проверить, является ли оно палиндромом. (Слева направо и справа налево читается одинако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общим правилам оформления машинописных работ и служебных документов  после знаков препинания обязателен пробел. Составить программу, добавляющую недостающие пробе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зменить в романе имя героя с Пьера на Виктор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еализовать на компьютере возможность автоматической замены слова «граматика» на слово «граммати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айти сумму цифр заданного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6:37:49Z</dcterms:created>
  <dc:creator>ilich13/Nata</dc:creator>
  <dc:description/>
  <dc:language>en-US</dc:language>
  <cp:lastModifiedBy>Илья</cp:lastModifiedBy>
  <dcterms:modified xsi:type="dcterms:W3CDTF">2011-04-10T13:26:15Z</dcterms:modified>
  <cp:revision>8</cp:revision>
  <dc:subject/>
  <dc:title>Работа со строковыми типами данных</dc:title>
</cp:coreProperties>
</file>