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DEA-4171-48DD-952E-AD34C171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131-1629-4116-AE16-3AB6E7FD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968-A4A9-4A15-829C-FAA2CFBE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BFF-EEED-4C7B-87F7-0268255D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6C7A-C37E-4B35-944D-B1C710C8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B39D-DD50-46A3-AD2F-95079624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808F-4CB9-4B29-972F-4391818A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23A9-E296-4A93-A8ED-0D450A91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0E58-A016-4681-B5E5-0E3AAAE8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F0AA-7BCD-4D44-8848-D4DE712F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6CD4-90BB-4810-A804-6A258FF5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CF7-FDBE-41A3-804F-344387EA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A312-C67D-403B-BA2C-3A327EC6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6A2F-C826-4ACB-B3FD-3E1270FA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02FB-C6D6-453C-A6C5-B08E0110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E3A1-9D4C-4FF7-A63B-636DA1CB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0271-2A81-406C-AC4B-0D37C5EF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AC1-837F-47FD-812D-4C17D434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0AD-EE51-49EE-A0B6-C53912CD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8BE-087D-4A14-BEA4-4D93759A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5CE-7DE8-4BB8-9E0C-EFF582B4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8BC-8D58-42CE-A3CE-357A30FA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A76-890E-4C67-AA11-44396FBB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D1A-6DEB-4B97-82A9-7620B055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A116-512A-4611-A4F9-574E3561D7F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F2BD-6D5C-4394-90E0-65AF5D8753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cc"/>
                </a:solidFill>
                <a:latin typeface="Arial"/>
              </a:rPr>
              <a:t>Дифференцированное обучение как средство воспитания интереса к урокам русского языка</a:t>
            </a:r>
            <a:endParaRPr b="1" lang="en-US" sz="5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1528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8388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Говоря о детях с пониженной обучаемостью, психолог З. И. Калмыкова утверждает, что в основе их отставания лежит расхождение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требований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, предъявляемых к познавательной деятельности школьников, с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реально достигнутым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ими </a:t>
            </a:r>
            <a:r>
              <a:rPr b="1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уровнем умственно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7720" y="486360"/>
            <a:ext cx="7894080" cy="11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276640"/>
            <a:ext cx="8055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облема преодоления неуспеваемости – это и психологическая проблема. Ребенок, испытывающий трудности в обучении, должен иметь 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щадящий режим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рабо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. Таким школьникам необходимы опорные схемы, таблицы, стенд «Подсказки на каждый день» с материалом к урокам по изучаемой 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. На партах – словари и «папка – помощни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00000" y="693720"/>
            <a:ext cx="77788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4. Посильные проверочные зад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5. Опорные карточки во время объяснения и  закрепления материал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6. Зрительно – текстовая опора  и индивидуальный темп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7. Тот же диктант (С,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, но с пропущенными орфограмм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на карточке позволяет выявить реальную картину достижений учащихс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00"/>
                </a:solidFill>
                <a:latin typeface="Arial"/>
              </a:rPr>
              <a:t>Выводы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26920" y="2421000"/>
            <a:ext cx="7693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так, дифференцированное обучение предполагает соблюдение необходимых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условий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читель хорошо знает ученика, его индивидуальные психологические особенности, его сильные и слабые сторон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ченики достигли определенного уровня умений самостоятельно приобретать зн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в классе есть коллекти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свой «образ ученика» учитель должен  подвергать критическому пересмот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92440" y="130680"/>
            <a:ext cx="7663320" cy="17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Примерная схема урока дифференцированного обуч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26560" y="249192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. Совместная постановка задач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. Дифференцированное повторение необходимого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3. Совместное изучение нового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( Для учащихся гр.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повторение в облегченном варианте с учителем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р.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C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- работа по учебнику, если материал уже знаком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97120" y="135000"/>
            <a:ext cx="7653960" cy="186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Примерная схема урока дифференцированного обуч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. Дифференцированное закрепл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. Проверка работы каждой группы с участием остальных уче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. Общая проверка усвоения материа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. Дифференцированное домашнее зада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13960" y="823680"/>
            <a:ext cx="7807320" cy="8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Планирование урок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При планировании необходимо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определить систему ЗУН, подлежащих усвоению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подбор текстов упражнений, определение способов выполн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выделение наиболее сложных вопрос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продумать пути взаимодействия групп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емы проверки результат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2764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Варианты  начала урок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256500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пятиминутки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: «жужжащее чтение», «представление» прочитанной книги,  вопросы учителя и учеников по прочитанным книгам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  <a:ea typeface="Arial"/>
              </a:rPr>
              <a:t>орфографическая разминк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в форме диктантов по орфографии или др. темам; работа с деформированным текстом, текстовые диктант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48520" y="491400"/>
            <a:ext cx="775116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ифференцированный подход на этапах урок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492280"/>
          <a:ext cx="8569440" cy="4162680"/>
        </p:xfrm>
        <a:graphic>
          <a:graphicData uri="http://schemas.openxmlformats.org/drawingml/2006/table">
            <a:tbl>
              <a:tblPr/>
              <a:tblGrid>
                <a:gridCol w="1800360"/>
                <a:gridCol w="3384360"/>
                <a:gridCol w="1656000"/>
                <a:gridCol w="1728720"/>
              </a:tblGrid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5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 введения нового материа-л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аются в поэтапной отработке изучаемого материала и наглядности, поэтому осваивают теоретический материал под руководством учителя,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ый использует наглядно-опорные материалы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ю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-тельно с учебником, затем заполняют таблицы по изучаемой теме.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. прочитать литературу, проанали-зировать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52840" y="424440"/>
            <a:ext cx="7742520" cy="12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ифференцированный подход на этапах урок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00000" y="2637000"/>
          <a:ext cx="7764480" cy="2654280"/>
        </p:xfrm>
        <a:graphic>
          <a:graphicData uri="http://schemas.openxmlformats.org/drawingml/2006/table">
            <a:tbl>
              <a:tblPr/>
              <a:tblGrid>
                <a:gridCol w="3918240"/>
                <a:gridCol w="38462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A            B             C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8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тап закреплен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уровня сложности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734868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Критерии деления учащихся на группы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2421000"/>
            <a:ext cx="76932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объем имеющихся знан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культура умственного труд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ровень познавательной актив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способность к абстрактному мышлению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мение анализировать и обобща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томляемость от интеллектуальной деятель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•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уровень самостоятель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(желание самостоятельно учиться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  <a:ea typeface="Arial"/>
              </a:rPr>
              <a:t>Все эти критерии взаимосвязан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43840" y="843840"/>
            <a:ext cx="7760520" cy="11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Роль педагога </a:t>
            </a:r>
            <a:br>
              <a:rPr sz="4400"/>
            </a:b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в работе с каждой из групп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2492280"/>
          <a:ext cx="8305200" cy="3525840"/>
        </p:xfrm>
        <a:graphic>
          <a:graphicData uri="http://schemas.openxmlformats.org/drawingml/2006/table">
            <a:tbl>
              <a:tblPr/>
              <a:tblGrid>
                <a:gridCol w="3252960"/>
                <a:gridCol w="2284560"/>
                <a:gridCol w="276768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омощ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амостоятельность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оле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тальны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омментарий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аются общие указания о требованиях к выполнению заданий; о путях и способах выполнения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52840" y="711720"/>
            <a:ext cx="7742520" cy="12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Дифференцированное</a:t>
            </a:r>
            <a:br>
              <a:rPr sz="4400"/>
            </a:b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 домашнее задани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26920" y="2492280"/>
          <a:ext cx="8126640" cy="4091040"/>
        </p:xfrm>
        <a:graphic>
          <a:graphicData uri="http://schemas.openxmlformats.org/drawingml/2006/table">
            <a:tbl>
              <a:tblPr/>
              <a:tblGrid>
                <a:gridCol w="2708280"/>
                <a:gridCol w="2538360"/>
                <a:gridCol w="288000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дание служит закреплению основ изученного  и ликвидации пробелов в ЗУН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Задание на углубленное изучение нового материала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Расширение и углубление ЗУН;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ыполнение упражнений, требующих творческого подъема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Каждый класс можно разделить на групп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53272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2781360"/>
            <a:ext cx="1656000" cy="1655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6920" y="3938760"/>
            <a:ext cx="1655640" cy="1645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781360"/>
            <a:ext cx="1584360" cy="158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17440" y="442800"/>
            <a:ext cx="773784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cc"/>
                </a:solidFill>
                <a:latin typeface="Arial"/>
              </a:rPr>
              <a:t>Характеристика групп</a:t>
            </a:r>
            <a:br>
              <a:rPr sz="4800"/>
            </a:b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С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Имеют достаточный объем знаний, высокий уровень познавательной активности, способности к абстрагированию, обобщению, анализ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ни гораздо меньше, чем другие, утомляются от активного,  напряженного тру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Такие учащиеся самостоятельны и работоспособ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08640" y="558000"/>
            <a:ext cx="768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Тщательно организовать учебную деятельность учащих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. Подбор заданий высокой сл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. Не увеличивая объем, разнообразить зад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96320" y="948960"/>
            <a:ext cx="7842600" cy="5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Задания для группы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43324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оставление текстов диктант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) составление карточек-заданий по изученному материал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3) сочинение лингвистических сказок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4) работа с дополнительной литературо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5) выполнение обязанностей консультант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6) работа «учителем» (фрагменты урока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441080" y="298440"/>
            <a:ext cx="690876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Характеристика групп</a:t>
            </a:r>
            <a:br>
              <a:rPr sz="4400"/>
            </a:b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B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Имеют определенный объем знаний, средний уровень познавательной актив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У них сформированы способности к абстрагированию, обобщению, анализ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Задача педагога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. Главное внимание нужно уделить развитию познавательной активности учащихся, воспитанию самостоятельности и уверенности в своих сил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. Таким учащимся необходимо создавать условия для развит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441440" y="298440"/>
            <a:ext cx="719784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Характеристика групп</a:t>
            </a:r>
            <a:br>
              <a:rPr sz="4400"/>
            </a:b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Отстают от своих сверстников в интеллектуальном и речевом развит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Плохо читают, не могут выделить главное в учебной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 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Затрудняются в операциях сравнения, обобщения, систематиз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Не могут долго удерживать внима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Слабо знают ранее изученный матери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♦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Имеют низкий уровень самостоятельности и работоспособ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9:01:17Z</dcterms:created>
  <dc:creator>Terax_book</dc:creator>
  <dc:description/>
  <dc:language>en-US</dc:language>
  <cp:lastModifiedBy>Terax</cp:lastModifiedBy>
  <dcterms:modified xsi:type="dcterms:W3CDTF">2007-05-27T14:35:15Z</dcterms:modified>
  <cp:revision>17</cp:revision>
  <dc:subject/>
  <dc:title>Дифференцированное обучение как средство воспитания интереса к урокам русского языка</dc:title>
</cp:coreProperties>
</file>