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D54-31F0-48B1-827E-3C7B87C6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79E-028A-4E33-AB80-6586C03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C55-365C-4C70-823A-A8C366EB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E72-07A8-4B91-9E9B-26CE58F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28E-B6E2-4784-A1C8-902C12D2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E5A-3A5B-4C13-A4C8-89DEB88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A56-41AC-4B83-B872-8AF901C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06B2-D314-416F-A8C8-97EEAA6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FAF4-1299-46C3-91A6-D835881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284F-D347-492A-A0D7-BD72C140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07C9-AFCC-468C-8BA7-059C683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E6F-3AA5-4741-9057-91AC700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03B-779D-48E8-AC02-59E062E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2B62-A301-4545-A636-3A4911BE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E3E5-0479-4ADA-8B2D-FB14380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CD4-71A2-4171-9B46-7EE68526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C642-319D-49B8-BC9D-40E82B43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A8E-06C0-425B-B415-FF27D33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6EF-B922-4498-ADB9-F241F87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34E-C454-46E2-BE11-C4D65AB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D46-955D-4B96-A797-F494AAD8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4A5-A95C-496F-8D4B-EE0195D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8A5-7B01-4BB3-A0CB-10E4612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420-91E2-403D-959E-88F2611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FA3-087C-48A8-ACCA-A72F22DB4D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88E-49FF-4911-A4FA-70A3023264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Arial"/>
              </a:rPr>
              <a:t>Дифференцированное обучение как средство воспитания интереса к урокам русского языка</a:t>
            </a: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5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воря о детях с пониженной обучаемостью, психолог З. И. Калмыкова утверждает, что в основе их отставания лежит расхождение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требований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, предъявляемых к познавательной деятельности школьников, с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реально достигнутым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ими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уровнем умственно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486360"/>
            <a:ext cx="789408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76640"/>
            <a:ext cx="8055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блема преодоления неуспеваемости – это и психологическая проблема. Ребенок, испытывающий трудности в обучении, должен иметь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щадящий режи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рабо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Таким школьникам необходимы опорные схемы, таблицы, стенд «Подсказки на каждый день» с материалом к урокам по изучаемой 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На партах – словари и «папка – помощни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00000" y="693720"/>
            <a:ext cx="77788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 Посильные проверочные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 Опорные карточки во время объяснения и  закрепления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. Зрительно – текстовая опора  и индивидуальный темп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. Тот же диктант (С,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, но с пропущенными орфограмм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на карточке позволяет выявить реальную картину достижений учащих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Выводы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так, дифференцированное обучение предполагает соблюдение необходимых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услови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итель хорошо знает ученика, его индивидуальные психологические особенности, его сильные и слабые сторон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еники достигли определенного уровня умений самостоятельно приобретать зн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в классе есть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вой «образ ученика» учитель должен  подвергать критическому пересмот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2440" y="130680"/>
            <a:ext cx="7663320" cy="17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Совместная постановка зада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 Дифференцированное повторение необходим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 Совместное изучение нов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 Для учащихся гр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овторение в облегченном варианте с учителе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р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C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работа по учебнику, если материал уже знаком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7120" y="135000"/>
            <a:ext cx="7653960" cy="18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Дифференцированное закрепл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Проверка работы каждой группы с участием остальных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Общая проверка усвоения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Дифференцированное 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3960" y="823680"/>
            <a:ext cx="7807320" cy="8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ланирование урок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ри планировании необходим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определить систему ЗУН, подлежащих усво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одбор текстов упражнений, определение способов выполн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выделение наиболее сложных вопрос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родумать пути взаимодействия групп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емы проверки результат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арианты  начала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пятиминутк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: «жужжащее чтение», «представление» прочитанной книги,  вопросы учителя и учеников по прочитанным книга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орфографическая разминк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в форме диктантов по орфографии или др. темам; работа с деформированным текстом, текстовые диктан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48520" y="491400"/>
            <a:ext cx="77511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492280"/>
          <a:ext cx="8569440" cy="4162680"/>
        </p:xfrm>
        <a:graphic>
          <a:graphicData uri="http://schemas.openxmlformats.org/drawingml/2006/table">
            <a:tbl>
              <a:tblPr/>
              <a:tblGrid>
                <a:gridCol w="1800360"/>
                <a:gridCol w="3384360"/>
                <a:gridCol w="1656000"/>
                <a:gridCol w="1728720"/>
              </a:tblGrid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введения нового материа-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аются в поэтапной отработке изучаемого материала и наглядности, поэтому осваивают теоретический материал под руководством учителя,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использует наглядно-опорные материалы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-тельно с учебником, затем заполняют таблицы по изучаемой теме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. прочитать литературу, проанали-зироват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52840" y="42444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2637000"/>
          <a:ext cx="7764480" cy="2654280"/>
        </p:xfrm>
        <a:graphic>
          <a:graphicData uri="http://schemas.openxmlformats.org/drawingml/2006/table">
            <a:tbl>
              <a:tblPr/>
              <a:tblGrid>
                <a:gridCol w="3918240"/>
                <a:gridCol w="3846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            B             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8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закреплен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уровня сложност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3486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ритерии деления учащихся на группы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693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объем имеющихся зн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культура умственного тру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познавательной актив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пособность к абстрактному мышл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мение анализировать и обобща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томляемость от интеллектуаль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самосто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(желание самостоятельно учитьс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Все эти критерии взаимосвяз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Роль педагога 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 работе с каждой из групп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2492280"/>
          <a:ext cx="8305200" cy="3525840"/>
        </p:xfrm>
        <a:graphic>
          <a:graphicData uri="http://schemas.openxmlformats.org/drawingml/2006/table">
            <a:tbl>
              <a:tblPr/>
              <a:tblGrid>
                <a:gridCol w="3252960"/>
                <a:gridCol w="2284560"/>
                <a:gridCol w="276768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стоятельност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ле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та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ментар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ются общие указания о требованиях к выполнению заданий; о путях и способах выполнения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2840" y="71172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Дифференцированное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 домашнее задани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6920" y="2492280"/>
          <a:ext cx="8126640" cy="4091040"/>
        </p:xfrm>
        <a:graphic>
          <a:graphicData uri="http://schemas.openxmlformats.org/drawingml/2006/table">
            <a:tbl>
              <a:tblPr/>
              <a:tblGrid>
                <a:gridCol w="2708280"/>
                <a:gridCol w="2538360"/>
                <a:gridCol w="288000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служит закреплению основ изученного  и ликвидации пробелов в ЗУН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на углубленное изучение нового материал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ширение и углубление ЗУН;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полнение упражнений, требующих творческого подъем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аждый класс можно разделить на групп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781360"/>
            <a:ext cx="165600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6920" y="3938760"/>
            <a:ext cx="1655640" cy="164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781360"/>
            <a:ext cx="158436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7440" y="442800"/>
            <a:ext cx="773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8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меют достаточный объем знаний, высокий уровень познавательной активности,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ни гораздо меньше, чем другие, утомляются от активного,  напряженного тру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Такие учащиеся самостоятельны и работоспособ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08640" y="558000"/>
            <a:ext cx="768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щательно организовать учебную деятельность учащих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Подбор заданий высокой сл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. Не увеличивая объем, разнообразить зад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96320" y="948960"/>
            <a:ext cx="7842600" cy="5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Задания для группы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ставление текстов диктан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) составление карточек-заданий по изученному материал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) сочинение лингвистически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4) работа с дополнительной литератур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5) выполнение обязанностей консультан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) работа «учителем» (фрагменты урок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441080" y="298440"/>
            <a:ext cx="690876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Имеют определенный объем знаний, средний уровень познавательной актив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У них сформированы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Главное внимание нужно уделить развитию познавательной активности учащихся, воспитанию самостоятельности и уверенности в своих сил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Таким учащимся необходимо создавать условия для разви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41440" y="298440"/>
            <a:ext cx="719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Отстают от своих сверстников в интеллектуальном и речевом развит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лохо читают, не могут выделить главное в учебной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Затрудняются в операциях сравнения, обобщения, систематиз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Не могут долго удерживать вним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лабо знают ранее изученный матери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меют низкий уровень самостоятельности и работоспособ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01:17Z</dcterms:created>
  <dc:creator>Terax_book</dc:creator>
  <dc:description/>
  <dc:language>en-US</dc:language>
  <cp:lastModifiedBy>Terax</cp:lastModifiedBy>
  <dcterms:modified xsi:type="dcterms:W3CDTF">2007-05-27T14:35:15Z</dcterms:modified>
  <cp:revision>17</cp:revision>
  <dc:subject/>
  <dc:title>Дифференцированное обучение как средство воспитания интереса к урокам русского языка</dc:title>
</cp:coreProperties>
</file>