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12606-065D-4634-922F-D59E4155F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A2523-52BE-4B8F-ACC4-28D677F20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9991F-D3A9-4C90-AD5F-66003F7AF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2E663-AAFB-40B7-8A48-416490CCB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429E1-4BAC-495B-827B-F0BE38EAF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63231-1AA7-4564-8788-C74D16A0D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33B8A-38FD-4968-B73B-3C24A4C6B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6F962-DF3E-4617-B9AC-325246AAF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62FC8-B5FA-4992-BA9E-EC6C94E04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043BF-E9FE-4135-905F-E2C8C5964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72445-A1B6-4FCD-940B-A652A3BEE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E5F05-B759-490F-BC0B-D16C984AC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95A55-42E6-484B-93B3-126933CF3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5671C-9FF9-4F0F-9CE9-AA4668C6B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48B2C-20E4-4D15-9CBB-2422976DA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3ACD2-4BA0-44A4-9FBE-DE2BF4EBF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04738-59B9-4E04-B540-7763DD71E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1FAD0-08F0-4EA7-AE06-E68C50E95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8D575-1959-42A3-9DC8-AD97E72A8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92B9A-7DF8-47C0-90D1-406BF5E7E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2AD4E-D0E6-486E-9582-CAA0F3048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0E3BC-A7BA-4F76-97BB-D4D433040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1F9BE-243D-4DA9-8A99-AAD693823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B4AA2-3C84-4D6F-8B0B-57A0C64C1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FA1DB-D508-4361-9234-2D05879B842B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84FF4-BC7B-4136-AD05-E722742F11E5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900cc"/>
                </a:solidFill>
                <a:latin typeface="Arial"/>
              </a:rPr>
              <a:t>Дифференцированное обучение как средство воспитания интереса к урокам русского языка</a:t>
            </a:r>
            <a:endParaRPr b="1" lang="en-US" sz="5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1115280" y="548280"/>
            <a:ext cx="778032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Arial"/>
              </a:rPr>
              <a:t>Задача педагога:</a:t>
            </a:r>
            <a:endParaRPr b="1" lang="en-US" sz="6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755280" y="2362320"/>
            <a:ext cx="8388360" cy="41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Говоря о детях с пониженной обучаемостью, психолог З. И. Калмыкова утверждает, что в основе их отставания лежит расхождение </a:t>
            </a:r>
            <a:r>
              <a:rPr b="1" lang="ru-RU" sz="3200" spc="-1" strike="noStrike" u="sng">
                <a:solidFill>
                  <a:srgbClr val="003366"/>
                </a:solidFill>
                <a:uFillTx/>
                <a:latin typeface="Arial"/>
              </a:rPr>
              <a:t>требований</a:t>
            </a: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, предъявляемых к познавательной деятельности школьников, с </a:t>
            </a:r>
            <a:r>
              <a:rPr b="1" lang="ru-RU" sz="3200" spc="-1" strike="noStrike" u="sng">
                <a:solidFill>
                  <a:srgbClr val="003366"/>
                </a:solidFill>
                <a:uFillTx/>
                <a:latin typeface="Arial"/>
              </a:rPr>
              <a:t>реально достигнутым</a:t>
            </a: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 ими </a:t>
            </a:r>
            <a:r>
              <a:rPr b="1" lang="ru-RU" sz="3200" spc="-1" strike="noStrike" u="sng">
                <a:solidFill>
                  <a:srgbClr val="003366"/>
                </a:solidFill>
                <a:uFillTx/>
                <a:latin typeface="Arial"/>
              </a:rPr>
              <a:t>уровнем умственного развития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0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1000"/>
                            </p:stCondLst>
                            <p:childTnLst>
                              <p:par>
                                <p:cTn id="23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4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837720" y="486360"/>
            <a:ext cx="7894080" cy="113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Arial"/>
              </a:rPr>
              <a:t>Задача педагога:</a:t>
            </a:r>
            <a:endParaRPr b="1" lang="en-US" sz="6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837720" y="2276640"/>
            <a:ext cx="805500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.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Проблема преодоления неуспеваемости – это и психологическая проблема. Ребенок, испытывающий трудности в обучении, должен иметь </a:t>
            </a:r>
            <a:r>
              <a:rPr b="1" lang="en-US" sz="2400" spc="-1" strike="noStrike">
                <a:solidFill>
                  <a:srgbClr val="33cccc"/>
                </a:solidFill>
                <a:latin typeface="Arial"/>
              </a:rPr>
              <a:t>щадящий режим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 работы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2. Таким школьникам необходимы опорные схемы, таблицы, стенд «Подсказки на каждый день» с материалом к урокам по изучаемой теме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3. На партах – словари и «папка – помощница»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0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000"/>
                            </p:stCondLst>
                            <p:childTnLst>
                              <p:par>
                                <p:cTn id="24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7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1500"/>
                            </p:stCondLst>
                            <p:childTnLst>
                              <p:par>
                                <p:cTn id="24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1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2000"/>
                            </p:stCondLst>
                            <p:childTnLst>
                              <p:par>
                                <p:cTn id="25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5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900000" y="693720"/>
            <a:ext cx="777888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Arial"/>
              </a:rPr>
              <a:t>Задача педагога:</a:t>
            </a:r>
            <a:endParaRPr b="1" lang="en-US" sz="6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09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4. Посильные проверочные задания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5. Опорные карточки во время объяснения и  закрепления материала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6. Зрительно – текстовая опора  и индивидуальный темп работы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7. Тот же диктант (С, 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B</a:t>
            </a: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), но с пропущенными орфограммами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дание на карточке позволяет выявить реальную картину достижений учащихся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0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8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1500"/>
                            </p:stCondLst>
                            <p:childTnLst>
                              <p:par>
                                <p:cTn id="27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2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2000"/>
                            </p:stCondLst>
                            <p:childTnLst>
                              <p:par>
                                <p:cTn id="27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6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2500"/>
                            </p:stCondLst>
                            <p:childTnLst>
                              <p:par>
                                <p:cTn id="27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0" dur="5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3000"/>
                            </p:stCondLst>
                            <p:childTnLst>
                              <p:par>
                                <p:cTn id="28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4" dur="5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cc00"/>
                </a:solidFill>
                <a:latin typeface="Arial"/>
              </a:rPr>
              <a:t>Выводы:</a:t>
            </a:r>
            <a:endParaRPr b="1" lang="en-US" sz="6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826920" y="2421000"/>
            <a:ext cx="7693200" cy="40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Итак, дифференцированное обучение предполагает соблюдение необходимых </a:t>
            </a:r>
            <a:r>
              <a:rPr b="1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условий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♦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учитель хорошо знает ученика, его индивидуальные психологические особенности, его сильные и слабые стороны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♦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ученики достигли определенного уровня умений самостоятельно приобретать знания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♦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в классе есть коллектив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♦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свой «образ ученика» учитель должен  подвергать критическому пересмотру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0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1000"/>
                            </p:stCondLst>
                            <p:childTnLst>
                              <p:par>
                                <p:cTn id="29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7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1500"/>
                            </p:stCondLst>
                            <p:childTnLst>
                              <p:par>
                                <p:cTn id="29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1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2000"/>
                            </p:stCondLst>
                            <p:childTnLst>
                              <p:par>
                                <p:cTn id="30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5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500"/>
                            </p:stCondLst>
                            <p:childTnLst>
                              <p:par>
                                <p:cTn id="30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9" dur="5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3000"/>
                            </p:stCondLst>
                            <p:childTnLst>
                              <p:par>
                                <p:cTn id="31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3" dur="50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892440" y="130680"/>
            <a:ext cx="7663320" cy="17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cc"/>
                </a:solidFill>
                <a:latin typeface="Arial"/>
              </a:rPr>
              <a:t>Примерная схема урока дифференцированного обучения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826560" y="2491920"/>
            <a:ext cx="80550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1. Совместная постановка задачи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2. Дифференцированное повторение необходимого материала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3. Совместное изучение нового материала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( Для учащихся гр.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A</a:t>
            </a: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- повторение в облегченном варианте с учителем;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гр.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B</a:t>
            </a: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.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  C</a:t>
            </a: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. </a:t>
            </a: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- работа по учебнику, если материал уже знаком.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0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22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1000"/>
                            </p:stCondLst>
                            <p:childTnLst>
                              <p:par>
                                <p:cTn id="32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6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1500"/>
                            </p:stCondLst>
                            <p:childTnLst>
                              <p:par>
                                <p:cTn id="32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0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2000"/>
                            </p:stCondLst>
                            <p:childTnLst>
                              <p:par>
                                <p:cTn id="33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4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2500"/>
                            </p:stCondLst>
                            <p:childTnLst>
                              <p:par>
                                <p:cTn id="33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8" dur="5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3000"/>
                            </p:stCondLst>
                            <p:childTnLst>
                              <p:par>
                                <p:cTn id="34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2" dur="5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897120" y="135000"/>
            <a:ext cx="7653960" cy="186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cc"/>
                </a:solidFill>
                <a:latin typeface="Arial"/>
              </a:rPr>
              <a:t>Примерная схема урока дифференцированного обучения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826920" y="270792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4. Дифференцированное закрепление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5. Проверка работы каждой группы с участием остальных учеников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6. Общая проверка усвоения материала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7. Дифференцированное домашнее задание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0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1000"/>
                            </p:stCondLst>
                            <p:childTnLst>
                              <p:par>
                                <p:cTn id="35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5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9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3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2500"/>
                            </p:stCondLst>
                            <p:childTnLst>
                              <p:par>
                                <p:cTn id="36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7" dur="5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13960" y="823680"/>
            <a:ext cx="7807320" cy="8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cc"/>
                </a:solidFill>
                <a:latin typeface="Arial"/>
              </a:rPr>
              <a:t>Планирование урока: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826920" y="256500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При планировании необходимо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- определить систему ЗУН, подлежащих усвоению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- подбор текстов упражнений, определение способов выполнения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- выделение наиболее сложных вопросов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- продумать пути взаимодействия групп,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приемы проверки результатов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0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76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1000"/>
                            </p:stCondLst>
                            <p:childTnLst>
                              <p:par>
                                <p:cTn id="37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80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1500"/>
                            </p:stCondLst>
                            <p:childTnLst>
                              <p:par>
                                <p:cTn id="38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84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2000"/>
                            </p:stCondLst>
                            <p:childTnLst>
                              <p:par>
                                <p:cTn id="38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88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2500"/>
                            </p:stCondLst>
                            <p:childTnLst>
                              <p:par>
                                <p:cTn id="39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2" dur="5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3000"/>
                            </p:stCondLst>
                            <p:childTnLst>
                              <p:par>
                                <p:cTn id="39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6" dur="50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3500"/>
                            </p:stCondLst>
                            <p:childTnLst>
                              <p:par>
                                <p:cTn id="39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0" dur="500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27640" y="62136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cc00"/>
                </a:solidFill>
                <a:latin typeface="Arial"/>
              </a:rPr>
              <a:t>Варианты  начала урока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826920" y="2565000"/>
            <a:ext cx="812664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Arial"/>
                <a:ea typeface="Arial"/>
              </a:rPr>
              <a:t>♦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00cc00"/>
                </a:solidFill>
                <a:latin typeface="Arial"/>
                <a:ea typeface="Arial"/>
              </a:rPr>
              <a:t>пятиминутки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: «жужжащее чтение», «представление» прочитанной книги,  вопросы учителя и учеников по прочитанным книгам;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Arial"/>
                <a:ea typeface="Arial"/>
              </a:rPr>
              <a:t>♦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00cc00"/>
                </a:solidFill>
                <a:latin typeface="Arial"/>
                <a:ea typeface="Arial"/>
              </a:rPr>
              <a:t>орфографическая разминка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 в форме диктантов по орфографии или др. темам; работа с деформированным текстом, текстовые диктанты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0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09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3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1500"/>
                            </p:stCondLst>
                            <p:childTnLst>
                              <p:par>
                                <p:cTn id="41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7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48520" y="491400"/>
            <a:ext cx="7751160" cy="11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cc"/>
                </a:solidFill>
                <a:latin typeface="Arial"/>
              </a:rPr>
              <a:t>Дифференцированный подход на этапах урока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395280" y="2492280"/>
          <a:ext cx="8569440" cy="4162680"/>
        </p:xfrm>
        <a:graphic>
          <a:graphicData uri="http://schemas.openxmlformats.org/drawingml/2006/table">
            <a:tbl>
              <a:tblPr/>
              <a:tblGrid>
                <a:gridCol w="1800360"/>
                <a:gridCol w="3384360"/>
                <a:gridCol w="1656000"/>
                <a:gridCol w="1728720"/>
              </a:tblGrid>
              <a:tr h="65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9900cc"/>
                          </a:solidFill>
                          <a:latin typeface="Arial"/>
                        </a:rPr>
                        <a:t>Этапы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9900cc"/>
                          </a:solidFill>
                          <a:latin typeface="Arial"/>
                        </a:rPr>
                        <a:t>А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9900cc"/>
                          </a:solidFill>
                          <a:latin typeface="Arial"/>
                        </a:rPr>
                        <a:t>B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9900cc"/>
                          </a:solidFill>
                          <a:latin typeface="Arial"/>
                        </a:rPr>
                        <a:t>С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51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9900cc"/>
                          </a:solidFill>
                          <a:latin typeface="Arial"/>
                        </a:rPr>
                        <a:t>Этап введения нового материа-ла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уждаются в поэтапной отработке изучаемого материала и наглядности, поэтому осваивают теоретический материал под руководством учителя,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торый использует наглядно-опорные материалы. 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ботают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амостоя-тельно с учебником, затем заполняют таблицы по изучаемой теме. 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амост. прочитать литературу, проанали-зировать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кст.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0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2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1000"/>
                            </p:stCondLst>
                            <p:childTnLst>
                              <p:par>
                                <p:cTn id="42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3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52840" y="424440"/>
            <a:ext cx="7742520" cy="12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cc"/>
                </a:solidFill>
                <a:latin typeface="Arial"/>
              </a:rPr>
              <a:t>Дифференцированный подход на этапах урока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900000" y="2637000"/>
          <a:ext cx="7764480" cy="2654280"/>
        </p:xfrm>
        <a:graphic>
          <a:graphicData uri="http://schemas.openxmlformats.org/drawingml/2006/table">
            <a:tbl>
              <a:tblPr/>
              <a:tblGrid>
                <a:gridCol w="3918240"/>
                <a:gridCol w="3846240"/>
              </a:tblGrid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9900cc"/>
                          </a:solidFill>
                          <a:latin typeface="Arial"/>
                        </a:rPr>
                        <a:t>Этапы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00cc"/>
                          </a:solidFill>
                          <a:latin typeface="Arial"/>
                        </a:rPr>
                        <a:t>A            B             C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186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9900cc"/>
                          </a:solidFill>
                          <a:latin typeface="Arial"/>
                        </a:rPr>
                        <a:t>Этап закрепления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вышение уровня сложности.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0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39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4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4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47280" y="549360"/>
            <a:ext cx="734868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cc"/>
                </a:solidFill>
                <a:latin typeface="Arial"/>
              </a:rPr>
              <a:t>Критерии деления учащихся на группы: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16000" y="2421000"/>
            <a:ext cx="769320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•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объем имеющихся знаний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•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культура умственного труда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•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уровень познавательной активности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•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способность к абстрактному мышлению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•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умение анализировать и обобщать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• 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утомляемость от интеллектуальной деятельности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•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уровень самостоятельности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(желание самостоятельно учиться)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cccc"/>
                </a:solidFill>
                <a:latin typeface="Arial"/>
                <a:ea typeface="Arial"/>
              </a:rPr>
              <a:t>Все эти критерии взаимосвязаны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500"/>
                            </p:stCondLst>
                            <p:childTnLst>
                              <p:par>
                                <p:cTn id="2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2000"/>
                            </p:stCondLst>
                            <p:childTnLst>
                              <p:par>
                                <p:cTn id="2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2500"/>
                            </p:stCondLst>
                            <p:childTnLst>
                              <p:par>
                                <p:cTn id="3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" dur="5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3000"/>
                            </p:stCondLst>
                            <p:childTnLst>
                              <p:par>
                                <p:cTn id="3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8" dur="5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3500"/>
                            </p:stCondLst>
                            <p:childTnLst>
                              <p:par>
                                <p:cTn id="4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2" dur="500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4000"/>
                            </p:stCondLst>
                            <p:childTnLst>
                              <p:par>
                                <p:cTn id="4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6" dur="500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4500"/>
                            </p:stCondLst>
                            <p:childTnLst>
                              <p:par>
                                <p:cTn id="4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0" dur="500"/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0"/>
                            </p:stCondLst>
                            <p:childTnLst>
                              <p:par>
                                <p:cTn id="5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4" dur="500"/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43840" y="843840"/>
            <a:ext cx="7760520" cy="11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cc00"/>
                </a:solidFill>
                <a:latin typeface="Arial"/>
              </a:rPr>
              <a:t>Роль педагога </a:t>
            </a:r>
            <a:br>
              <a:rPr sz="4400"/>
            </a:br>
            <a:r>
              <a:rPr b="1" lang="en-US" sz="4400" spc="-1" strike="noStrike">
                <a:solidFill>
                  <a:srgbClr val="00cc00"/>
                </a:solidFill>
                <a:latin typeface="Arial"/>
              </a:rPr>
              <a:t>в работе с каждой из групп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611280" y="2492280"/>
          <a:ext cx="8305200" cy="3525840"/>
        </p:xfrm>
        <a:graphic>
          <a:graphicData uri="http://schemas.openxmlformats.org/drawingml/2006/table">
            <a:tbl>
              <a:tblPr/>
              <a:tblGrid>
                <a:gridCol w="3252960"/>
                <a:gridCol w="2284560"/>
                <a:gridCol w="2767680"/>
              </a:tblGrid>
              <a:tr h="706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9900cc"/>
                          </a:solidFill>
                          <a:latin typeface="Arial"/>
                        </a:rPr>
                        <a:t>A</a:t>
                      </a:r>
                      <a:endParaRPr b="0" lang="en-US" sz="3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9900cc"/>
                          </a:solidFill>
                          <a:latin typeface="Arial"/>
                        </a:rPr>
                        <a:t>B</a:t>
                      </a:r>
                      <a:endParaRPr b="0" lang="en-US" sz="3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9900cc"/>
                          </a:solidFill>
                          <a:latin typeface="Arial"/>
                        </a:rPr>
                        <a:t>C</a:t>
                      </a:r>
                      <a:endParaRPr b="0" lang="en-US" sz="3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281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Помощь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+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самостоятельность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Более 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детальный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комментарий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Даются общие указания о требованиях к выполнению заданий; о путях и способах выполнения.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0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52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1000"/>
                            </p:stCondLst>
                            <p:childTnLst>
                              <p:par>
                                <p:cTn id="45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5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52840" y="711720"/>
            <a:ext cx="7742520" cy="12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cc00"/>
                </a:solidFill>
                <a:latin typeface="Arial"/>
              </a:rPr>
              <a:t>Дифференцированное</a:t>
            </a:r>
            <a:br>
              <a:rPr sz="4400"/>
            </a:br>
            <a:r>
              <a:rPr b="1" lang="en-US" sz="4400" spc="-1" strike="noStrike">
                <a:solidFill>
                  <a:srgbClr val="00cc00"/>
                </a:solidFill>
                <a:latin typeface="Arial"/>
              </a:rPr>
              <a:t> домашнее задание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826920" y="2492280"/>
          <a:ext cx="8126640" cy="4091040"/>
        </p:xfrm>
        <a:graphic>
          <a:graphicData uri="http://schemas.openxmlformats.org/drawingml/2006/table">
            <a:tbl>
              <a:tblPr/>
              <a:tblGrid>
                <a:gridCol w="2708280"/>
                <a:gridCol w="2538360"/>
                <a:gridCol w="2880000"/>
              </a:tblGrid>
              <a:tr h="89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9900cc"/>
                          </a:solidFill>
                          <a:latin typeface="Arial"/>
                        </a:rPr>
                        <a:t>A</a:t>
                      </a:r>
                      <a:endParaRPr b="0" lang="en-US" sz="3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9900cc"/>
                          </a:solidFill>
                          <a:latin typeface="Arial"/>
                        </a:rPr>
                        <a:t>B</a:t>
                      </a:r>
                      <a:endParaRPr b="0" lang="en-US" sz="3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9900cc"/>
                          </a:solidFill>
                          <a:latin typeface="Arial"/>
                        </a:rPr>
                        <a:t>C</a:t>
                      </a:r>
                      <a:endParaRPr b="0" lang="en-US" sz="3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Задание служит закреплению основ изученного  и ликвидации пробелов в ЗУН.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Задание на углубленное изучение нового материала.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Расширение и углубление ЗУН;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выполнение упражнений, требующих творческого подъема.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fill="hold">
                      <p:stCondLst>
                        <p:cond delay="0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65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1000"/>
                            </p:stCondLst>
                            <p:childTnLst>
                              <p:par>
                                <p:cTn id="46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6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cc"/>
                </a:solidFill>
                <a:latin typeface="Arial"/>
              </a:rPr>
              <a:t>Каждый класс можно разделить на группы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1280" y="2349360"/>
            <a:ext cx="8532720" cy="37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•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00000" y="2781360"/>
            <a:ext cx="1656000" cy="165564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Arial"/>
              </a:rPr>
              <a:t>A</a:t>
            </a:r>
            <a:endParaRPr b="0" lang="en-US" sz="7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706920" y="3938760"/>
            <a:ext cx="1655640" cy="164592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Arial"/>
              </a:rPr>
              <a:t>B</a:t>
            </a:r>
            <a:endParaRPr b="0" lang="en-US" sz="7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948360" y="2781360"/>
            <a:ext cx="1584360" cy="158436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Arial"/>
              </a:rPr>
              <a:t>C</a:t>
            </a:r>
            <a:endParaRPr b="0" lang="en-US" sz="7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500"/>
                            </p:stCondLst>
                            <p:childTnLst>
                              <p:par>
                                <p:cTn id="6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2000"/>
                            </p:stCondLst>
                            <p:childTnLst>
                              <p:par>
                                <p:cTn id="7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17440" y="442800"/>
            <a:ext cx="773784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cc"/>
                </a:solidFill>
                <a:latin typeface="Arial"/>
              </a:rPr>
              <a:t>Характеристика групп</a:t>
            </a:r>
            <a:br>
              <a:rPr sz="4800"/>
            </a:br>
            <a:r>
              <a:rPr b="1" lang="en-US" sz="7200" spc="-1" strike="noStrike">
                <a:solidFill>
                  <a:srgbClr val="ff0066"/>
                </a:solidFill>
                <a:latin typeface="Arial"/>
              </a:rPr>
              <a:t>С</a:t>
            </a:r>
            <a:endParaRPr b="1" lang="en-US" sz="7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8126640" cy="42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♦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Имеют достаточный объем знаний, высокий уровень познавательной активности, способности к абстрагированию, обобщению, анализу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♦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Они гораздо меньше, чем другие, утомляются от активного,  напряженного труда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♦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Такие учащиеся самостоятельны и работоспособны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000"/>
                            </p:stCondLst>
                            <p:childTnLst>
                              <p:par>
                                <p:cTn id="8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8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500"/>
                            </p:stCondLst>
                            <p:childTnLst>
                              <p:par>
                                <p:cTn id="9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2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2000"/>
                            </p:stCondLst>
                            <p:childTnLst>
                              <p:par>
                                <p:cTn id="9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6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908640" y="558000"/>
            <a:ext cx="768528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Arial"/>
              </a:rPr>
              <a:t>Задача педагога:</a:t>
            </a:r>
            <a:endParaRPr b="1" lang="en-US" sz="6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80550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Тщательно организовать учебную деятельность учащихся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2. Подбор заданий высокой сложности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3. Не увеличивая объем, разнообразить задания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9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3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1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7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796320" y="948960"/>
            <a:ext cx="7842600" cy="56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Arial"/>
              </a:rPr>
              <a:t>Задания для группы </a:t>
            </a:r>
            <a:r>
              <a:rPr b="1" lang="en-US" sz="4000" spc="-1" strike="noStrike">
                <a:solidFill>
                  <a:srgbClr val="9900cc"/>
                </a:solidFill>
                <a:latin typeface="Arial"/>
              </a:rPr>
              <a:t>С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433240"/>
            <a:ext cx="7693200" cy="42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Например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составление текстов диктантов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2) составление карточек-заданий по изученному материалу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3) сочинение лингвистических сказок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4) работа с дополнительной литературой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5) выполнение обязанностей консультанта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6) работа «учителем» (фрагменты урока)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0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500"/>
                            </p:stCondLst>
                            <p:childTnLst>
                              <p:par>
                                <p:cTn id="13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4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2000"/>
                            </p:stCondLst>
                            <p:childTnLst>
                              <p:par>
                                <p:cTn id="13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8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2500"/>
                            </p:stCondLst>
                            <p:childTnLst>
                              <p:par>
                                <p:cTn id="14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2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3000"/>
                            </p:stCondLst>
                            <p:childTnLst>
                              <p:par>
                                <p:cTn id="14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6" dur="5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500"/>
                            </p:stCondLst>
                            <p:childTnLst>
                              <p:par>
                                <p:cTn id="14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0" dur="500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4000"/>
                            </p:stCondLst>
                            <p:childTnLst>
                              <p:par>
                                <p:cTn id="15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4" dur="500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1441080" y="298440"/>
            <a:ext cx="690876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cc"/>
                </a:solidFill>
                <a:latin typeface="Arial"/>
              </a:rPr>
              <a:t>Характеристика групп</a:t>
            </a:r>
            <a:br>
              <a:rPr sz="4400"/>
            </a:br>
            <a:r>
              <a:rPr b="1" lang="en-US" sz="7200" spc="-1" strike="noStrike">
                <a:solidFill>
                  <a:srgbClr val="ff0066"/>
                </a:solidFill>
                <a:latin typeface="Arial"/>
              </a:rPr>
              <a:t>B</a:t>
            </a:r>
            <a:endParaRPr b="1" lang="en-US" sz="7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900000" y="2565000"/>
            <a:ext cx="7693200" cy="40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  <a:ea typeface="Arial"/>
              </a:rPr>
              <a:t>♦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 </a:t>
            </a:r>
            <a:r>
              <a:rPr b="1" lang="ru-RU" sz="2800" spc="-1" strike="noStrike">
                <a:solidFill>
                  <a:srgbClr val="003366"/>
                </a:solidFill>
                <a:latin typeface="Arial"/>
                <a:ea typeface="Arial"/>
              </a:rPr>
              <a:t>Имеют определенный объем знаний, средний уровень познавательной активности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  <a:ea typeface="Arial"/>
              </a:rPr>
              <a:t>♦ </a:t>
            </a:r>
            <a:r>
              <a:rPr b="1" lang="ru-RU" sz="2800" spc="-1" strike="noStrike">
                <a:solidFill>
                  <a:srgbClr val="003366"/>
                </a:solidFill>
                <a:latin typeface="Arial"/>
                <a:ea typeface="Arial"/>
              </a:rPr>
              <a:t>У них сформированы способности к абстрагированию, обобщению, анализу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7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1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99280" y="621360"/>
            <a:ext cx="778032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Arial"/>
              </a:rPr>
              <a:t>Задача педагога:</a:t>
            </a:r>
            <a:endParaRPr b="1" lang="en-US" sz="6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1. Главное внимание нужно уделить развитию познавательной активности учащихся, воспитанию самостоятельности и уверенности в своих силах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2. Таким учащимся необходимо создавать условия для развития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0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1000"/>
                            </p:stCondLst>
                            <p:childTnLst>
                              <p:par>
                                <p:cTn id="18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4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1500"/>
                            </p:stCondLst>
                            <p:childTnLst>
                              <p:par>
                                <p:cTn id="18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8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1441440" y="298440"/>
            <a:ext cx="719784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cc"/>
                </a:solidFill>
                <a:latin typeface="Arial"/>
              </a:rPr>
              <a:t>Характеристика групп</a:t>
            </a:r>
            <a:br>
              <a:rPr sz="4400"/>
            </a:br>
            <a:r>
              <a:rPr b="1" lang="en-US" sz="7200" spc="-1" strike="noStrike">
                <a:solidFill>
                  <a:srgbClr val="ff0066"/>
                </a:solidFill>
                <a:latin typeface="Arial"/>
              </a:rPr>
              <a:t>А</a:t>
            </a:r>
            <a:endParaRPr b="1" lang="en-US" sz="7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755640" y="2204640"/>
            <a:ext cx="813744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  <a:ea typeface="Arial"/>
              </a:rPr>
              <a:t>♦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 </a:t>
            </a:r>
            <a:r>
              <a:rPr b="1" lang="ru-RU" sz="2400" spc="-1" strike="noStrike">
                <a:solidFill>
                  <a:srgbClr val="003366"/>
                </a:solidFill>
                <a:latin typeface="Arial"/>
                <a:ea typeface="Arial"/>
              </a:rPr>
              <a:t>Отстают от своих сверстников в интеллектуальном и речевом развитии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  <a:ea typeface="Arial"/>
              </a:rPr>
              <a:t>♦ </a:t>
            </a:r>
            <a:r>
              <a:rPr b="1" lang="ru-RU" sz="2400" spc="-1" strike="noStrike">
                <a:solidFill>
                  <a:srgbClr val="003366"/>
                </a:solidFill>
                <a:latin typeface="Arial"/>
                <a:ea typeface="Arial"/>
              </a:rPr>
              <a:t>Плохо читают, не могут выделить главное в учебной информации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  <a:ea typeface="Arial"/>
              </a:rPr>
              <a:t> ♦ </a:t>
            </a:r>
            <a:r>
              <a:rPr b="1" lang="ru-RU" sz="2400" spc="-1" strike="noStrike">
                <a:solidFill>
                  <a:srgbClr val="003366"/>
                </a:solidFill>
                <a:latin typeface="Arial"/>
                <a:ea typeface="Arial"/>
              </a:rPr>
              <a:t>Затрудняются в операциях сравнения, обобщения, систематизации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  <a:ea typeface="Arial"/>
              </a:rPr>
              <a:t>♦ </a:t>
            </a:r>
            <a:r>
              <a:rPr b="1" lang="ru-RU" sz="2400" spc="-1" strike="noStrike">
                <a:solidFill>
                  <a:srgbClr val="003366"/>
                </a:solidFill>
                <a:latin typeface="Arial"/>
                <a:ea typeface="Arial"/>
              </a:rPr>
              <a:t>Не могут долго удерживать внимание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  <a:ea typeface="Arial"/>
              </a:rPr>
              <a:t>♦ </a:t>
            </a:r>
            <a:r>
              <a:rPr b="1" lang="ru-RU" sz="2400" spc="-1" strike="noStrike">
                <a:solidFill>
                  <a:srgbClr val="003366"/>
                </a:solidFill>
                <a:latin typeface="Arial"/>
                <a:ea typeface="Arial"/>
              </a:rPr>
              <a:t>Слабо знают ранее изученный материал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  <a:ea typeface="Arial"/>
              </a:rPr>
              <a:t>♦ </a:t>
            </a:r>
            <a:r>
              <a:rPr b="1" lang="ru-RU" sz="2400" spc="-1" strike="noStrike">
                <a:solidFill>
                  <a:srgbClr val="003366"/>
                </a:solidFill>
                <a:latin typeface="Arial"/>
                <a:ea typeface="Arial"/>
              </a:rPr>
              <a:t>Имеют низкий уровень самостоятельности и работоспособности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1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500"/>
                            </p:stCondLst>
                            <p:childTnLst>
                              <p:par>
                                <p:cTn id="20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5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2000"/>
                            </p:stCondLst>
                            <p:childTnLst>
                              <p:par>
                                <p:cTn id="20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9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2500"/>
                            </p:stCondLst>
                            <p:childTnLst>
                              <p:par>
                                <p:cTn id="21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3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3000"/>
                            </p:stCondLst>
                            <p:childTnLst>
                              <p:par>
                                <p:cTn id="21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7" dur="5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3500"/>
                            </p:stCondLst>
                            <p:childTnLst>
                              <p:par>
                                <p:cTn id="21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1" dur="50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9T19:01:17Z</dcterms:created>
  <dc:creator>Terax_book</dc:creator>
  <dc:description/>
  <dc:language>en-US</dc:language>
  <cp:lastModifiedBy>Terax</cp:lastModifiedBy>
  <dcterms:modified xsi:type="dcterms:W3CDTF">2007-05-27T14:35:15Z</dcterms:modified>
  <cp:revision>17</cp:revision>
  <dc:subject/>
  <dc:title>Дифференцированное обучение как средство воспитания интереса к урокам русского языка</dc:title>
</cp:coreProperties>
</file>