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6085-4C9B-4C37-AF29-6F94C8F0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C9E1-7113-4BED-A6B9-1A98A733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58BA-6853-49C7-A679-93D978E2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3FAA-07D6-4BCD-AD99-BF5ED690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DB4B-7361-49F2-A7D2-55A4FBE5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42CB-6916-446B-B271-FA08D382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5A35-516B-422D-9F93-AFD442F3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28E6-91B6-4D9C-919F-35907B54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80B7-B908-4DF5-8A8D-6F1B542B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DBCA-2FEB-44CA-A67B-7150CF96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6227-399C-4AA5-9F98-1BFF1E6D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477B-2063-48B3-9353-0EB839D7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A940-6EC9-486F-92A2-1BF4262B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70B2-011A-43F0-9724-A615ECF8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A552-B7A6-4473-A9F0-22B0FAAD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0BF9-6910-4121-9514-DBBD6710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95C7-5CB6-437C-8B43-EF726FE0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B02DD-9A5B-4B98-A733-3BA98857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FB332-936D-4183-9F7B-91BFF73D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43635-B42F-4118-8BC9-654C1E5D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25959-B6D6-4881-A87A-5FBD98D1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E80E5-681E-433D-95E3-613E2665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E2A0-7344-49E3-AE02-FDDFF158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0ABEA-03B8-46D0-B971-441E965A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DF996-798B-46DA-968F-379C35E6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A5F7E-EE3B-4423-A167-98EA2081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167ED-42AE-48A0-8D68-539A0D6C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0E3A1-8655-40B0-A5CA-4DA5FD9D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FD08F-A35B-4839-935C-767B9133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6AA30-DA9E-4B80-AA31-2E84895A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7121A8-5D0F-4571-8E51-0890D701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B65409-5F71-496F-80FA-2E843BE5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86A4C5-5703-46DE-A2D3-CB07777B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B026-133B-439A-9145-88B8C1AC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F23FAC-A2FD-4AFC-AC4B-562451BA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228B85-7D63-4710-A9D2-67F35B73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BFEC29-EB45-45E0-A65B-EFA9E0FF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806D7B-6FD1-4AC8-9002-0297605A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544B08-D9F9-418F-9071-8434A859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1FFC70-0931-49A7-9B6E-C465619F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F62822-F2CE-4EE7-B0EC-78FBAA05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4AB3DE-2B1E-45FD-87CB-4DDB747C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631173-AE19-48BE-9FAF-CAB79FEA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C57EC-4B94-4D29-AA4D-BA75750A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EFB4-8B2A-4E02-AB2E-18A13626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81149-90DF-427A-8A9E-6475C867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0245E-DAE9-4E9C-A140-BDA695A6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E02BC-6285-45C3-BCB7-B2D2B960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D211D-6939-485D-B080-987ECDCD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98817-E0D2-4A72-9F52-745D6F8C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D81CB-52C9-4426-8195-BC9BB501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22F6A-BB74-47A7-A693-80B34319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6152A-9F30-40DB-9476-84B9EBBE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71978-47E9-46A8-9B95-2AE64814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76195-B2A9-4D00-8464-9B5D05DE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273A-54A3-4A13-A5BC-90C69892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A9E19-7490-4BFF-AA42-E95CD5F3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A020D-A470-47F4-B68C-BFA33E21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E7190-A29C-447B-A8BF-22381FC6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2C1DC-9718-4599-A714-E2C7B08C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AEC56-9906-495D-B1B8-7453B441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3B087-5F68-4C76-B87D-9A102B38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B560B-9B62-483F-B7F9-93FDA1B2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07AFC-B9C9-47E0-AD76-E4B93C87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B3592-D85F-4963-9DAE-381FE6FF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239A0-D6F4-41D7-99B8-79065909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4C9C-862C-45C3-B57C-432CE32D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6F714-39DA-4D03-9ECC-36257CFC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5E73F-E175-4740-A572-3E19983F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DE563-27E7-49C1-AC48-AEF82877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925FA-867A-42D0-B912-A1F8AEB2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E5AEB-CAE3-4308-AD9E-F15A7C8F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5C38D-CC06-436D-9FCC-85BCF54D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1A27D-09A3-456D-BEEE-9A81AE85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DB3B8-3887-41E5-8B49-833D8306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B2814-5137-4A91-BA57-DBB24EF8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C113E-60C9-4130-9DE2-287266D1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A7CB-8E9E-446A-A0F6-9C25FA51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2EB42-A8E2-41E6-8B83-CF107539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574EC-9B8A-4B38-B7A3-7592CCA1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46B2B-02CB-4AA8-90D0-881354E2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0E4A1-825B-4A04-BBA1-7C3F4A9E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608E6-B13E-44C5-A8D5-7B220059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005C4-7037-4382-94AA-A50920EF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62E34-444D-49C9-A556-69F8B848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873A9-7B5B-4885-94D2-36F4FDEC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51B34-0381-45BE-AF5A-667B5471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CC612-C933-4438-A0EC-184A8D12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0310-EF7F-4595-9D4A-D5EE60B9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9C9AE-BA23-46AD-BFCA-D0F5C870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B8C76-BBAE-46F7-B0EF-DA6C188C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EE921-9B90-40F0-9C11-A730A934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C632E-A243-4B5A-AD26-5AAD4A6C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9FAA0-539B-4441-AA80-E74ACECB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AB9D1-C0C9-4255-A445-135DC1E96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13D08-C08A-4D14-AE31-33ADF5D8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0A19-5701-4831-81EA-D79595AA87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8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8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9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AD19-71DE-4B51-8F00-549B62AAE9D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36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8382-1BFC-417E-9BEE-4D07514416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86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9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8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9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0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C0BF-FE16-46B9-8064-83AA80EAFB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44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4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4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53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54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57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58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9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1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2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63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F561-186A-4DF6-AF69-1ED98EE9C5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0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C87D-3BE5-4547-85AF-954E930E4CB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54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5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F250-3E81-4118-AF1D-C36A5A8197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602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3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9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0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1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2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3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4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5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6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7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8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9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0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1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0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3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4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6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7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8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9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0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1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2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3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5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6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7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8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9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1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2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3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4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5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6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5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6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6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7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8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9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0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1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4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5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6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7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0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9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1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2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3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4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5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6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7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9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0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1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2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3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4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5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6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9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0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1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2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3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4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5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6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8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0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1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2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3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4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5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6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7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9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0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1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2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9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0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1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2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3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4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3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4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5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7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8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9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0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1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2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3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4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5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6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7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8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9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0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1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3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4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5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6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7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8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9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0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1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3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4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6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7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8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9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0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1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2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5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6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1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B745-7470-4861-A09B-F751DA10BB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39640" y="1511280"/>
            <a:ext cx="8064720" cy="3286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Тема: 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Односоставные предложения и употребление  их в речи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о предложение обобщённо-личное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изкий дом с голубыми ставнями, не забыть мне тебя никог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ду не торопясь, любуюсь хорошей погод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ногое вспомнишь родное, далёкое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лушая рокот колёс непрестанны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ахло нагретой землёй и мёд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Цыплят по осени считаю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 этом безличном предложении сообщается о состоянии природы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ыло душно. К придорожью мёдом веяло с гречи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трашно, что сил не хватает выдержать до утр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му-то не спится в прекрасном далек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 той прелестной поры мне час от часу становилось лучш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 составе какого сложного предложения есть простое безличное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же смеркалось, и мы зажгли све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читайте Гоголя, и вы почувствуете в нём сатир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Ещё мгновение, и лодка вошла под своды деревьев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Ещё молчаливы леса, и шум города сюда не доходи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0c0"/>
                </a:solidFill>
                <a:latin typeface="Comic Sans MS"/>
              </a:rPr>
              <a:t>Цели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Закрепить умения определять вид и роль односоставных предложений в реч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роверить умения различать одно- и двусоставные предложен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овторить орфограммы и пунктуацию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родолжить формировать умения самопроверки и взаимопровер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 txBox="1"/>
          <p:nvPr/>
        </p:nvSpPr>
        <p:spPr>
          <a:xfrm>
            <a:off x="810000" y="603720"/>
            <a:ext cx="781524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рфографическая разминк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/>
          </p:nvPr>
        </p:nvSpPr>
        <p:spPr>
          <a:xfrm>
            <a:off x="838080" y="1699920"/>
            <a:ext cx="83059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      2       3      4       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Бри…иант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лл   лл   л    л    л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Кава…ерия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лл   л    лл   л     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Га…ерея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л     л    лл   л     л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А…ея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л     лл    л    л     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ску…тво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с   сс    с     сс    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…кусный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с    с     сс    с     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 Black"/>
              </a:rPr>
              <a:t>Задание</a:t>
            </a:r>
            <a:r>
              <a:rPr b="1" lang="ru-RU" sz="3600" spc="-1" strike="noStrike">
                <a:solidFill>
                  <a:srgbClr val="ff0066"/>
                </a:solidFill>
                <a:latin typeface="Arial Black"/>
              </a:rPr>
              <a:t>: </a:t>
            </a:r>
            <a:r>
              <a:rPr b="0" i="1" lang="ru-RU" sz="3600" spc="-1" strike="noStrike" u="sng">
                <a:solidFill>
                  <a:srgbClr val="ff0066"/>
                </a:solidFill>
                <a:uFillTx/>
                <a:latin typeface="Arial Black"/>
              </a:rPr>
              <a:t>Записать словосочетания с данными словами, используя в качестве главных или зависимых слов с чередованием в корне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94920" y="2852280"/>
            <a:ext cx="8450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имер: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сположенный в галере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Бриллиа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Кавале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Галере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Алле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Искус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Искус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Задание: Синтаксический разбор предложения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837720" y="206028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На улиц… темнело, и мне не нравилось находиться в этой одинокой аллее, расположе…ой неподалёку от мор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Графический диктант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 утра морози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избе жарко натопи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риготовьтесь к уро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Бездонную бочку водой не наполниш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Иду по дорог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Мне легко дыши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Морозное утр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Дерево зажгло грозо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У тебя нет книг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Дни поздней осени бранят обыкновенн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Графический диктант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101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 утра морозит.------------------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избе жарко натопили.-------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риготовьтесь к уроку---------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Бездонную бочку водой не наполнишь.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Иду по дороге.--------------------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Мне легко дышится.------------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Морозное утро.------------------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Дерево зажгло грозою.--------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У тебя нет книги?---------------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Дни поздней осени бранят обыкновенн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Text Box 4"/>
          <p:cNvSpPr/>
          <p:nvPr/>
        </p:nvSpPr>
        <p:spPr>
          <a:xfrm>
            <a:off x="7524720" y="1125360"/>
            <a:ext cx="1008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/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/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/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/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/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/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/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/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/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вторение. Закрепле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: Вставить знаки препинания и определить вид и состав предлож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 неопределённо-личных предложениях сказуемое может быть выражено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уществительным в и.п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лаголом в форме 1-го или 2-го лиц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лаголом в форме 3-го лица мн.ч.в наст. и  в буд. в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лаголом-инфинитив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12:12:12Z</dcterms:created>
  <dc:creator>User</dc:creator>
  <dc:description/>
  <dc:language>en-US</dc:language>
  <cp:lastModifiedBy>Светлана</cp:lastModifiedBy>
  <dcterms:modified xsi:type="dcterms:W3CDTF">2010-12-06T17:40:44Z</dcterms:modified>
  <cp:revision>7</cp:revision>
  <dc:subject/>
  <dc:title>Тема: Односоставные предложения и употребление  их в речи.</dc:title>
</cp:coreProperties>
</file>