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FAD-39A5-4452-ACF4-B588ED55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D92-7391-42B8-8458-9639B38C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ED3-81D6-4B20-912E-CB96DC20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1A2-3FEA-4D89-B78A-E6A2C448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1957-F533-4EA0-B685-A8282848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FF18-0F29-45E7-A7AA-8031783A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2E4-0572-4A74-83EE-FDD59915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DA46-9D71-443F-8D3C-215E6D6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624-FC8C-4F2D-9437-CE77CB68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AA49-F6E1-416B-BB8D-E596F7A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6FEC-9D61-4B62-861B-7547704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8D3-BDDE-425A-AC2A-1812DCE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9C3D-09CC-4F5C-9518-FD7304FC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92AB-3BD7-408B-B872-7D396B4F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29ED-755F-46BD-B02E-416A66D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B39D-E8CA-46DB-86FE-C4228805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7A48-CFE3-4179-BC21-4A322C60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18EE-C864-4180-B327-1AF42525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640A-8C3C-4721-BA7A-16A946A6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B467-3BDA-4688-B440-F5646E5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21C1-995F-45EA-97FA-D88C9AE3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B49F-62B8-459B-BB11-21B04AB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06B-B013-4553-9C65-F6430267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5B13-0272-4763-B91D-22155A4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83C8-AE38-4737-9B5A-6C20C11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DC50-7F94-4E57-8E33-CF36883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B6A2-E2E6-4128-9AD8-838E4AC4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4A1A-C8E9-41CA-9AEB-5C38D528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8881-270F-4764-98D1-CA853F1A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1D36-C701-4B2B-8413-6159AA7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0991D-7EEA-436E-96E3-1226197A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8892D-6DA3-46BA-A95C-6A1D863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72715-9FC4-45C9-B15C-100DDD0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5DD-8A64-4371-9DEE-F224716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703BC-E385-4919-B377-7359461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8B3D7-A7E0-4AF8-A35E-04AF96A4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3199D-24A7-4338-9719-56731DB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1479C-768E-4E51-9920-7C507A9E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AFAC1-AA2F-453D-87F8-E3EF647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95A0F-C9E1-412D-9ED7-C77184D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55A2B-8C88-402B-9589-B3348971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CC797-B05B-4451-BCD2-423BEF1C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FEC53-BF09-4E29-8C5D-D8968BA7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27EFC-6E91-4842-BD7E-2D90A120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E9A-09D6-4C55-8B2B-0B5B0958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11CC-21D4-4B19-8E28-7DB65F33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304EF-6C10-440F-8110-E2E2962E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7B08-0E4D-4AF5-B18C-0F27A685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B37A-D57C-4CF9-8FE8-CD63981E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24E8-3DD0-4E67-95F7-F14410C5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8FCC-AE8E-46ED-A8C2-E7E21F5B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5B163-7B74-4A00-85DF-376CC2E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8AE62-F39C-44D4-AC2E-AF59C459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DDF58-3DDA-44A1-A2A5-0599516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A0144-2993-40A3-AFFB-2D4F60F1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852-1C21-47A9-B34B-CA256C54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3E35-1D5C-4370-A398-D58BF254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06B0-1ACC-491C-8019-92BA85E5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F4BC-3F9D-4AA5-8630-6D2B3AF9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2D72B-09EB-416B-AA9D-33F340DE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26980-3096-4465-A7A6-E48E160C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AC511-813E-40D7-BFE4-DB6F8201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01C1-7C7E-4948-9ED8-5A0771CD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0690C-C89B-446B-AC38-0D89804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F8969-4B5F-4740-8FBD-D9E50BB8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A4F3-D698-4C62-8227-4A49919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F5D-3BF7-41E4-8BBE-7CB0242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99BE3-BA94-4549-B669-DC5B617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9640-C310-4B64-98E7-D0F23199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74FCA-E426-405E-8311-A51A10FE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5495-2CAF-4DCB-B29A-C3BE9A09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243E-0AB5-41A4-9B5C-6CDC5835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663EB-940A-41F3-8C5E-1531BE02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3F8F3-5478-4855-BBE3-02D6183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86A1-CBF9-4F5A-B99F-41238C9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E2002-6556-4BA8-BC3E-0A8067D9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4007A-78AF-4FDB-BB0D-9418943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449-9C6C-46D0-BFD2-B2E81CE9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3A87C-1B52-4C28-920D-6EB5B8B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E858-E378-4539-AD20-F50498C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E5A7D-2D02-4236-82B3-CA79D7EE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E690-7821-4322-9731-0A81DDF2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B0F2-9377-454E-A54C-2A07BA43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30D86-7F4B-40F0-A69E-D5D5DD00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8922-C648-47E0-8316-F2A95917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7CF4-9AFA-4732-B124-82657789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93D71-EA60-4D45-A4A4-DF9FAEF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7A759-6CD1-4FB0-ADFD-E7E3856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7F4-1570-4A10-BA5A-066B0C7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3A4DE-331D-46C4-9129-10B4630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B5D6-DB02-4C79-93D0-BE5E2E2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A03CE-59EC-4C60-8B42-2E253EB4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129F-3096-48BB-9C44-35293DE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BCB31-3119-4A52-A319-42DCE8D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1825-012B-42F3-ABBB-5E99B806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47C68-1B40-4563-93C5-2D6B0D1A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D13-51BB-4E84-9B92-0022611166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99BF-402B-472D-9605-792EF957CCE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29EA-18E9-4134-AEB1-4AC959C76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00B8-6263-4E82-BAA3-87A81AFF6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4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5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4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5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63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9028-52EC-4640-BCFA-03A95FE211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812-75C1-4FFC-AE37-37CAD2F31E9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D266-5811-4452-B11B-86EEA89A6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02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2DB5-C048-4BD3-8F16-0BF562FEA7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1511280"/>
            <a:ext cx="8064720" cy="3286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ма: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дносоставные предложения и употребление  их в реч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о предложение обобщённо-лично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ий дом с голубыми ставнями, не забыть мне тебя никог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у не торопясь, любуюсь хорошей пого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ногое вспомнишь родное, далёкое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ушая рокот колёс непрестан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хло нагретой землёй и мёд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ыплят по осени считаю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этом безличном предложении сообщается о состоянии природы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ыло душно. К придорожью мёдом веяло с гречи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ашно, что сил не хватает выдержать до ут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му-то не спится в прекрасном дале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 той прелестной поры мне час от часу становилось лучш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составе какого сложного предложения есть простое безличное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же смеркалось, и мы зажгли св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читайте Гоголя, и вы почувствуете в нём сатир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щё мгновение, и лодка вошла под своды деревье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щё молчаливы леса, и шум города сюда не доходи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0c0"/>
                </a:solidFill>
                <a:latin typeface="Comic Sans MS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репить умения определять вид и роль односоставных предложений в реч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верить умения различать одно- и двусоставные предлож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вторить орфограммы и пунктуацию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должить формировать умения самопроверки и взаимопровер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81000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рфографическая разминк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838080" y="1699920"/>
            <a:ext cx="83059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2       3      4      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ри…иант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л   лл   л    л    л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ва…ерия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лл   л    лл   л     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Га…ерея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     л    лл   л     л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…ея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     лл    л    л     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ску…тво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с   сс    с     сс    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…кусный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с    с     сс    с     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 Black"/>
              </a:rPr>
              <a:t>Задание</a:t>
            </a:r>
            <a:r>
              <a:rPr b="1" lang="ru-RU" sz="3600" spc="-1" strike="noStrike">
                <a:solidFill>
                  <a:srgbClr val="ff0066"/>
                </a:solidFill>
                <a:latin typeface="Arial Black"/>
              </a:rPr>
              <a:t>: 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Arial Black"/>
              </a:rPr>
              <a:t>Записать словосочетания с данными словами, используя в качестве главных или зависимых слов с чередованием в корне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94920" y="2852280"/>
            <a:ext cx="8450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положенный в гале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Брилл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авале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Галер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Алл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кус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ку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ние: Синтаксический разбор предлож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На улиц… темнело, и мне не нравилось находиться в этой одинокой аллее, расположе…ой неподалёку от мор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Графический диктант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 утра мороз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избе жарко натопи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готовьтесь к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Бездонную бочку водой не наполниш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ду по дор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не легко дыш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орозное ут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рево зажгло гроз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 тебя нет книг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ни поздней осени бранят обыкновен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Графический диктант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101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 утра морозит.---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избе жарко натопили.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готовьтесь к уроку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Бездонную бочку водой не наполнишь.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ду по дороге.-----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не легко дышится.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орозное утро.---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рево зажгло грозою.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 тебя нет книги?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ни поздней осени бранят обыкновен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7524720" y="1125360"/>
            <a:ext cx="1008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вторение. Закрепл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Вставить знаки препинания и определить вид и состав предло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неопределённо-личных предложениях сказуемое может быть выражено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ществительным в и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голом в форме 1-го или 2-го лиц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голом в форме 3-го лица мн.ч.в наст. и  в буд. в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голом-инфинитив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2:12:12Z</dcterms:created>
  <dc:creator>User</dc:creator>
  <dc:description/>
  <dc:language>en-US</dc:language>
  <cp:lastModifiedBy>Светлана</cp:lastModifiedBy>
  <dcterms:modified xsi:type="dcterms:W3CDTF">2010-12-06T17:40:44Z</dcterms:modified>
  <cp:revision>7</cp:revision>
  <dc:subject/>
  <dc:title>Тема: Односоставные предложения и употребление  их в речи.</dc:title>
</cp:coreProperties>
</file>