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C5FA-1E4A-4639-BC94-6E34E1AB2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FA1D-5746-4FDD-BC46-78574324B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52DA-0A64-41B5-ADE3-6509A8497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E51-C4F0-47E9-AAEA-7D0465BE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455-00D5-47A0-BBE8-494708B4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A53-256C-4E84-9716-3FAB98A2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4FE-304D-4398-8C91-59137434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974-2DA1-4452-9BDC-1BE09C1C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627-3D57-43BF-9780-5D4D08B4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EB0-AE6D-4790-8B60-2F41564C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B00-A396-47C9-A6F6-85C59609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F44-CBDD-422B-AE50-FC3BA65B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FAF-0E13-4FE3-A124-F92740B8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02B-731A-44D6-9519-C4F7190D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6A8-153F-4E2B-A9BA-C3DBB5E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7A91-F3AC-427F-A5B2-A59B545DC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60000"/>
                </a:solidFill>
                <a:latin typeface="Arial"/>
              </a:rPr>
              <a:t>Наташа Ростова – любимая героиня Л.Толсто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571640"/>
            <a:ext cx="640080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Урок литературы в 10 классе подготовлен учителем русского языка и литературы МОУ СОШ № 46 г.Белгорода Захаровой Л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0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6760" y="1856880"/>
            <a:ext cx="4429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"Где, как, когда всосала в себя из того русского воздуха, которым она дышала, - эта графинечка, воспитанная эмигранткой-француженкой, этот дух Но дух и приемы были те самые, неподражаемые, неизучаемые, русские, которых и ждал от нее дядюшка«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мои презентации\Иллюстрации к роману Война и мир. 10 кл\Наташа пляшет в гостях у дядюшки..jpeg"/>
          <p:cNvPicPr/>
          <p:nvPr/>
        </p:nvPicPr>
        <p:blipFill>
          <a:blip r:embed="rId2"/>
          <a:stretch/>
        </p:blipFill>
        <p:spPr>
          <a:xfrm>
            <a:off x="4929120" y="1714680"/>
            <a:ext cx="3756240" cy="45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2920" y="2000160"/>
            <a:ext cx="4286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"Наташа вы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замуж раннею весн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1813 года, и у ней в 18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году было уже 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дочери и один сы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которого она желал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теперь сама кормил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D:\мои презентации\Иллюстрации к роману Война и мир. 10 кл\Пьер и Наташа с детьми.jpg"/>
          <p:cNvPicPr/>
          <p:nvPr/>
        </p:nvPicPr>
        <p:blipFill>
          <a:blip r:embed="rId2"/>
          <a:stretch/>
        </p:blipFill>
        <p:spPr>
          <a:xfrm>
            <a:off x="500040" y="1695600"/>
            <a:ext cx="3786120" cy="468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400" y="1999800"/>
            <a:ext cx="82580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Madera TYGRA"/>
              </a:rPr>
              <a:t>      </a:t>
            </a: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Характеристика Наташи составляется из пересечения мнений о ней разных персонаж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adera TYGRA"/>
              </a:rPr>
              <a:t>Сравните описание героини с иллюстр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adera TYGRA"/>
              </a:rPr>
              <a:t>Как вы считаете, соответствует ли образ, представленный автором романа, образу Наташи в иллюстраци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76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Первое представление Наташи. </a:t>
            </a:r>
            <a:r>
              <a:rPr b="1" lang="ru-RU" sz="3200" spc="-1" strike="noStrike">
                <a:solidFill>
                  <a:srgbClr val="002060"/>
                </a:solidFill>
                <a:latin typeface="Madera TYGRA"/>
              </a:rPr>
              <a:t>(Некрасивая, но подвижная, живая. Полнота ощущений жизни – это условие ее согласия с ми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Интуитивность натуры. </a:t>
            </a:r>
            <a:r>
              <a:rPr b="1" lang="ru-RU" sz="3200" spc="-1" strike="noStrike">
                <a:solidFill>
                  <a:srgbClr val="002060"/>
                </a:solidFill>
                <a:latin typeface="Madera TYGRA"/>
              </a:rPr>
              <a:t>(Наташа живет по законам сердца, рассудочность поступков чужда 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3. Помолвка с Андреем Болконским. Разрыв помол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Как можно объяснить измену Наташ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Почему автор считал данное место в романе узловым?</a:t>
            </a:r>
            <a:r>
              <a:rPr b="1" lang="ru-RU" sz="3200" spc="-1" strike="noStrike">
                <a:solidFill>
                  <a:srgbClr val="760000"/>
                </a:solidFill>
                <a:latin typeface="Madera TYG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1860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4. Духовный кризис героини. </a:t>
            </a: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(Ощущение, что вся жизнь осталась в прошл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5. Обращение к религии и «уход  в себ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D:\мои презентации\Иллюстрации к роману Война и мир. 10 кл\Наташа Ростова-2.jpg"/>
          <p:cNvPicPr/>
          <p:nvPr/>
        </p:nvPicPr>
        <p:blipFill>
          <a:blip r:embed="rId2"/>
          <a:stretch/>
        </p:blipFill>
        <p:spPr>
          <a:xfrm>
            <a:off x="4786200" y="1643040"/>
            <a:ext cx="3857760" cy="452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6. «Возвращение к жизни» через единение с окружающими в трагический момент наступления французов на Мос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7. Возрождение и очищение души через страдание и состр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мои презентации\Иллюстрации к роману Война и мир. 10 кл\раненые во дворе Ростовых.jpeg"/>
          <p:cNvPicPr/>
          <p:nvPr/>
        </p:nvPicPr>
        <p:blipFill>
          <a:blip r:embed="rId2"/>
          <a:stretch/>
        </p:blipFill>
        <p:spPr>
          <a:xfrm>
            <a:off x="4714920" y="1643040"/>
            <a:ext cx="3805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57440" y="2642760"/>
            <a:ext cx="43290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8. Смерть князя Андре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Arial"/>
              </a:rPr>
              <a:t>9. Духовный кризи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мои презентации\Иллюстрации к роману Война и мир. 10 кл\Наташа и андрей в Мытищах.jpeg"/>
          <p:cNvPicPr/>
          <p:nvPr/>
        </p:nvPicPr>
        <p:blipFill>
          <a:blip r:embed="rId2"/>
          <a:stretch/>
        </p:blipFill>
        <p:spPr>
          <a:xfrm>
            <a:off x="500040" y="1714680"/>
            <a:ext cx="378612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2071440"/>
            <a:ext cx="4114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Arial"/>
              </a:rPr>
              <a:t>10. Гибель Пети Рост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Arial"/>
              </a:rPr>
              <a:t>11. Возвращение героини к жизни через деятельную любовь и заботу о мат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мои презентации\Иллюстрации к роману Война и мир. 10 кл\смерть Пети Ростова.jpeg"/>
          <p:cNvPicPr/>
          <p:nvPr/>
        </p:nvPicPr>
        <p:blipFill>
          <a:blip r:embed="rId2"/>
          <a:stretch/>
        </p:blipFill>
        <p:spPr>
          <a:xfrm>
            <a:off x="214200" y="2428920"/>
            <a:ext cx="42246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Переломные этапы в жизни Наташи Ро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760" y="1857240"/>
            <a:ext cx="4114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12. Свадьба Наташи и Пьера Безухова в эпилоге романа – начало нового этапа жизни героини, когда центром жизни становитс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13. Материнство как высшее назначение женщ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D:\мои презентации\Иллюстрации к роману Война и мир. 10 кл\Пьер и Наташа с детьми.jpg"/>
          <p:cNvPicPr/>
          <p:nvPr/>
        </p:nvPicPr>
        <p:blipFill>
          <a:blip r:embed="rId2"/>
          <a:stretch/>
        </p:blipFill>
        <p:spPr>
          <a:xfrm>
            <a:off x="4643280" y="1643040"/>
            <a:ext cx="3786480" cy="4686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0000"/>
                </a:solidFill>
                <a:latin typeface="Arial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0000"/>
                </a:solidFill>
                <a:latin typeface="Arial"/>
              </a:rPr>
              <a:t>Проанализировать образ геро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60000"/>
                </a:solidFill>
                <a:latin typeface="Arial"/>
              </a:rPr>
              <a:t>Проследить духовное развитие персонаж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в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Наташа Ростова воплощает саму полноту жизни с ее беспрерывным движением, с ее край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«Она не удостаивает быть умной», потому что живет серд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Тернистый путь ошибок и страданий вознаграждаются семейным счастьем героини в финале ром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Наташа близка к народу, живет его чув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60000"/>
                </a:solidFill>
                <a:latin typeface="Arial"/>
              </a:rPr>
              <a:t>Она воплощает русский национальный характер, который и определяет ее сущ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57360" y="1643040"/>
            <a:ext cx="5143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760000"/>
                </a:solidFill>
                <a:latin typeface="Arial"/>
              </a:rPr>
              <a:t>Впервые мы видим ее тринадцатилетней девочкой: </a:t>
            </a:r>
            <a:r>
              <a:rPr b="1" lang="ru-RU" sz="2000" spc="-1" strike="noStrike">
                <a:solidFill>
                  <a:srgbClr val="222268"/>
                </a:solidFill>
                <a:latin typeface="Madera TYGRA"/>
              </a:rPr>
              <a:t>“Черноглазая, с большим ртом, некрасивая, но живая девочка, со своими детскими открытыми плечиками, выскочившими из корсажа от быстрого бега, со своими сбившимися назад черными кудрями, тоненькими оголенными ручками и маленькими ножками в кружевных панталончиках и открытых башмачках, была в том милом возрасте, когда девочка уже не ребенок, а ребенок еще не девушк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D:\мои презентации\Иллюстрации к роману Война и мир. 10 кл\000881_1.jpg"/>
          <p:cNvPicPr/>
          <p:nvPr/>
        </p:nvPicPr>
        <p:blipFill>
          <a:blip r:embed="rId2"/>
          <a:stretch/>
        </p:blipFill>
        <p:spPr>
          <a:xfrm>
            <a:off x="428760" y="1785960"/>
            <a:ext cx="2743200" cy="392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560" y="1928520"/>
            <a:ext cx="44290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«Не в силах более удерживаться, прыгнула и побежала из комнаты так скоро, как только могли нести ее быстрые ножки 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:\мои презентации\Иллюстрации к роману Война и мир. 10 кл\Бал в семье Ростовых.jpg"/>
          <p:cNvPicPr/>
          <p:nvPr/>
        </p:nvPicPr>
        <p:blipFill>
          <a:blip r:embed="rId2"/>
          <a:stretch/>
        </p:blipFill>
        <p:spPr>
          <a:xfrm>
            <a:off x="4929120" y="1643040"/>
            <a:ext cx="3900600" cy="442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       “</a:t>
            </a: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В обращении со своей матерью Наташа высказывала внешнюю грубость манеры, но так была чутка и ловка, что, как бы она ни обхватила руками мать, она всегда умела это сделать так, чтобы матери не было ни больно, ни неприятно, ни неловко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         </a:t>
            </a:r>
            <a:r>
              <a:rPr b="1" lang="ru-RU" sz="2000" spc="-1" strike="noStrike">
                <a:solidFill>
                  <a:srgbClr val="002060"/>
                </a:solidFill>
                <a:latin typeface="Madera TYGRA"/>
              </a:rPr>
              <a:t>«Казак в юбке. Зелье-девка!» - </a:t>
            </a:r>
            <a:r>
              <a:rPr b="1" lang="ru-RU" sz="2000" spc="-1" strike="noStrike">
                <a:solidFill>
                  <a:srgbClr val="760000"/>
                </a:solidFill>
                <a:latin typeface="Arial"/>
              </a:rPr>
              <a:t>так говорит о ней бабу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мои презентации\Иллюстрации к роману Война и мир. 10 кл\Наташа и бабушка. именины Наташи.jpeg"/>
          <p:cNvPicPr/>
          <p:nvPr/>
        </p:nvPicPr>
        <p:blipFill>
          <a:blip r:embed="rId2"/>
          <a:stretch/>
        </p:blipFill>
        <p:spPr>
          <a:xfrm>
            <a:off x="571680" y="1643040"/>
            <a:ext cx="3646440" cy="471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28720" y="1928520"/>
            <a:ext cx="42577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«Нет, ты посмотри, что за луна!.. Ах, какая прелесть! Ты поди сюда. Ну, видишь? Так бы вот села на корточки, вот так, подхватила бы себя под коленки — туже, как можно туже, натужиться надо, — и полетела бы. Вот так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D:\мои презентации\Иллюстрации к роману Война и мир. 10 кл\Наташа в Отрадном у окна.jpeg"/>
          <p:cNvPicPr/>
          <p:nvPr/>
        </p:nvPicPr>
        <p:blipFill>
          <a:blip r:embed="rId2"/>
          <a:stretch/>
        </p:blipFill>
        <p:spPr>
          <a:xfrm>
            <a:off x="428760" y="1714680"/>
            <a:ext cx="36478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114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3200" spc="-1" strike="noStrike">
                <a:solidFill>
                  <a:srgbClr val="222268"/>
                </a:solidFill>
                <a:latin typeface="Madera TYGRA"/>
              </a:rPr>
              <a:t>«Неужели так никто не подойдет ко мне, неужели я не буду танцевать между первыми, неужели меня не заметят все эти мужчины 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D:\мои презентации\Иллюстрации к роману Война и мир. 10 кл\Saveljeva_natasha_rostova.jpg"/>
          <p:cNvPicPr/>
          <p:nvPr/>
        </p:nvPicPr>
        <p:blipFill>
          <a:blip r:embed="rId2"/>
          <a:stretch/>
        </p:blipFill>
        <p:spPr>
          <a:xfrm>
            <a:off x="4643280" y="1928880"/>
            <a:ext cx="4237200" cy="40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2920" y="1642680"/>
            <a:ext cx="42861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       </a:t>
            </a:r>
            <a:r>
              <a:rPr b="1" lang="ru-RU" sz="2800" spc="-1" strike="noStrike">
                <a:solidFill>
                  <a:srgbClr val="222268"/>
                </a:solidFill>
                <a:latin typeface="Madera TYGRA"/>
              </a:rPr>
              <a:t>«Давно я тебя ждала», — как будто сказала эта испуганная и счастливая девочка своей просиявшей из-за готовых пролиться слез улыбкой, поднимая свою руку на плечо князя Андре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D:\мои презентации\Иллюстрации к роману Война и мир. 10 кл\Pervyi_Bal_Natashi.jpg"/>
          <p:cNvPicPr/>
          <p:nvPr/>
        </p:nvPicPr>
        <p:blipFill>
          <a:blip r:embed="rId2"/>
          <a:stretch/>
        </p:blipFill>
        <p:spPr>
          <a:xfrm>
            <a:off x="4500720" y="2428920"/>
            <a:ext cx="4440240" cy="235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0000"/>
                </a:solidFill>
                <a:latin typeface="Arial"/>
              </a:rPr>
              <a:t>Наташа глазами Толстого и его персона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920" y="1714320"/>
            <a:ext cx="5214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Madera TYGRA"/>
              </a:rPr>
              <a:t>         </a:t>
            </a:r>
            <a:r>
              <a:rPr b="1" lang="ru-RU" sz="2400" spc="-1" strike="noStrike">
                <a:solidFill>
                  <a:srgbClr val="222268"/>
                </a:solidFill>
                <a:latin typeface="Madera TYGRA"/>
              </a:rPr>
              <a:t>« Красная и взволнованная, с сухими глазами, она ходила этот день по дому, занимаясь самыми ничтожными делами, как будто не понимая того, что ожидает ее… «Не уезжайте!» — только проговорила она ему таким голосом, который заставил его задуматься о том, не нужно ли ему действительно остаться, и который он долго помнил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D:\мои презентации\Иллюстрации к роману Война и мир. 10 кл\Наташа Ростова.jpg"/>
          <p:cNvPicPr/>
          <p:nvPr/>
        </p:nvPicPr>
        <p:blipFill>
          <a:blip r:embed="rId2"/>
          <a:stretch/>
        </p:blipFill>
        <p:spPr>
          <a:xfrm>
            <a:off x="6000840" y="1571760"/>
            <a:ext cx="2563560" cy="4868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6:44:25Z</dcterms:created>
  <dc:creator>User</dc:creator>
  <dc:description/>
  <dc:language>en-US</dc:language>
  <cp:lastModifiedBy>User</cp:lastModifiedBy>
  <dcterms:modified xsi:type="dcterms:W3CDTF">2011-06-02T22:02:57Z</dcterms:modified>
  <cp:revision>14</cp:revision>
  <dc:subject/>
  <dc:title>Слайд 1</dc:title>
</cp:coreProperties>
</file>