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9082-67A1-4369-ABCA-4C3F17D181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40EF-0A27-4B9D-8AAD-93B032E662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992D-4767-48AA-9066-08B2E94071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EF74-C014-42AD-A4EF-99D39DB06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F4DF-72E0-4B59-A697-E93BC89E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4C2C-54BE-4CF3-B21C-8C085CE4E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0F6F-B108-4AA2-8532-0E3F4D1BC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E594-DA24-4326-AF55-0629C782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4E68-470C-4162-B6E7-2EFFBBC8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FFB2-F59F-4036-BC2A-1419E391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8E5A-AC45-42F2-B7D2-B8BF291B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2B38-C269-46DD-A52F-12D25E8F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A36A-3A8D-426D-8F71-445265DC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897C-D6D4-4916-A351-205A91F4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07DC-4EC4-42E2-A6D5-606338F8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9FD1-BCA4-4739-97D7-A5544653C6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371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60000"/>
                </a:solidFill>
                <a:latin typeface="Arial"/>
              </a:rPr>
              <a:t>Наташа Ростова – любимая героиня Л.Толстог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57200" y="4571640"/>
            <a:ext cx="6400800" cy="18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60000"/>
                </a:solidFill>
                <a:latin typeface="Arial"/>
              </a:rPr>
              <a:t>Урок литературы в 10 классе подготовлен учителем русского языка и литературы МОУ СОШ № 46 г.Белгорода Захаровой Л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01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60000"/>
                </a:solidFill>
                <a:latin typeface="Arial"/>
              </a:rPr>
              <a:t>Наташа глазами Толстого и его персонаж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56760" y="1856880"/>
            <a:ext cx="442908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Madera TYGRA"/>
              </a:rPr>
              <a:t>      </a:t>
            </a:r>
            <a:r>
              <a:rPr b="1" lang="ru-RU" sz="2400" spc="-1" strike="noStrike">
                <a:solidFill>
                  <a:srgbClr val="222268"/>
                </a:solidFill>
                <a:latin typeface="Madera TYGRA"/>
              </a:rPr>
              <a:t>"Где, как, когда всосала в себя из того русского воздуха, которым она дышала, - эта графинечка, воспитанная эмигранткой-француженкой, этот дух Но дух и приемы были те самые, неподражаемые, неизучаемые, русские, которых и ждал от нее дядюшка«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D:\мои презентации\Иллюстрации к роману Война и мир. 10 кл\Наташа пляшет в гостях у дядюшки..jpeg"/>
          <p:cNvPicPr/>
          <p:nvPr/>
        </p:nvPicPr>
        <p:blipFill>
          <a:blip r:embed="rId2"/>
          <a:stretch/>
        </p:blipFill>
        <p:spPr>
          <a:xfrm>
            <a:off x="4929120" y="1714680"/>
            <a:ext cx="3756240" cy="4572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60000"/>
                </a:solidFill>
                <a:latin typeface="Arial"/>
              </a:rPr>
              <a:t>Наташа глазами Толстого и его персонаж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2920" y="2000160"/>
            <a:ext cx="42865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Madera TYGRA"/>
              </a:rPr>
              <a:t>"Наташа выш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Madera TYGRA"/>
              </a:rPr>
              <a:t>замуж раннею весно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Madera TYGRA"/>
              </a:rPr>
              <a:t>1813 года, и у ней в 18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Madera TYGRA"/>
              </a:rPr>
              <a:t>году было уже т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Madera TYGRA"/>
              </a:rPr>
              <a:t>дочери и один сы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Madera TYGRA"/>
              </a:rPr>
              <a:t>которого она желала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Madera TYGRA"/>
              </a:rPr>
              <a:t>теперь сама кормила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D:\мои презентации\Иллюстрации к роману Война и мир. 10 кл\Пьер и Наташа с детьми.jpg"/>
          <p:cNvPicPr/>
          <p:nvPr/>
        </p:nvPicPr>
        <p:blipFill>
          <a:blip r:embed="rId2"/>
          <a:stretch/>
        </p:blipFill>
        <p:spPr>
          <a:xfrm>
            <a:off x="500040" y="1695600"/>
            <a:ext cx="3786120" cy="4686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60000"/>
                </a:solidFill>
                <a:latin typeface="Arial"/>
              </a:rPr>
              <a:t>Наташа глазами Толстого и его персонаж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28400" y="1999800"/>
            <a:ext cx="825804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68"/>
                </a:solidFill>
                <a:latin typeface="Madera TYGRA"/>
              </a:rPr>
              <a:t>      </a:t>
            </a:r>
            <a:r>
              <a:rPr b="1" lang="ru-RU" sz="3600" spc="-1" strike="noStrike">
                <a:solidFill>
                  <a:srgbClr val="760000"/>
                </a:solidFill>
                <a:latin typeface="Arial"/>
              </a:rPr>
              <a:t>Характеристика Наташи составляется из пересечения мнений о ней разных персонаж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adera TYGRA"/>
              </a:rPr>
              <a:t>Сравните описание героини с иллюстрац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adera TYGRA"/>
              </a:rPr>
              <a:t>Как вы считаете, соответствует ли образ, представленный автором романа, образу Наташи в иллюстрация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60000"/>
                </a:solidFill>
                <a:latin typeface="Arial"/>
              </a:rPr>
              <a:t>Переломные этапы в жизни Наташи Ростов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99"/>
              </a:spcBef>
              <a:buClr>
                <a:srgbClr val="76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60000"/>
                </a:solidFill>
                <a:latin typeface="Arial"/>
              </a:rPr>
              <a:t>Первое представление Наташи. </a:t>
            </a:r>
            <a:r>
              <a:rPr b="1" lang="ru-RU" sz="3200" spc="-1" strike="noStrike">
                <a:solidFill>
                  <a:srgbClr val="002060"/>
                </a:solidFill>
                <a:latin typeface="Madera TYGRA"/>
              </a:rPr>
              <a:t>(Некрасивая, но подвижная, живая. Полнота ощущений жизни – это условие ее согласия с миро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60000"/>
                </a:solidFill>
                <a:latin typeface="Arial"/>
              </a:rPr>
              <a:t>2.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760000"/>
                </a:solidFill>
                <a:latin typeface="Arial"/>
              </a:rPr>
              <a:t>Интуитивность натуры. </a:t>
            </a:r>
            <a:r>
              <a:rPr b="1" lang="ru-RU" sz="3200" spc="-1" strike="noStrike">
                <a:solidFill>
                  <a:srgbClr val="002060"/>
                </a:solidFill>
                <a:latin typeface="Madera TYGRA"/>
              </a:rPr>
              <a:t>(Наташа живет по законам сердца, рассудочность поступков чужда ей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60000"/>
                </a:solidFill>
                <a:latin typeface="Arial"/>
              </a:rPr>
              <a:t>Переломные этапы в жизни Наташи Ростов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60000"/>
                </a:solidFill>
                <a:latin typeface="Arial"/>
              </a:rPr>
              <a:t>3. Помолвка с Андреем Болконским. Разрыв помолв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Madera TYGRA"/>
              </a:rPr>
              <a:t>Как можно объяснить измену Наташ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Madera TYGRA"/>
              </a:rPr>
              <a:t>Почему автор считал данное место в романе узловым?</a:t>
            </a:r>
            <a:r>
              <a:rPr b="1" lang="ru-RU" sz="3200" spc="-1" strike="noStrike">
                <a:solidFill>
                  <a:srgbClr val="760000"/>
                </a:solidFill>
                <a:latin typeface="Madera TYGR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60000"/>
                </a:solidFill>
                <a:latin typeface="Arial"/>
              </a:rPr>
              <a:t>Переломные этапы в жизни Наташи Ростов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1860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60000"/>
                </a:solidFill>
                <a:latin typeface="Arial"/>
              </a:rPr>
              <a:t>4. Духовный кризис героини. </a:t>
            </a:r>
            <a:r>
              <a:rPr b="1" lang="ru-RU" sz="3200" spc="-1" strike="noStrike">
                <a:solidFill>
                  <a:srgbClr val="222268"/>
                </a:solidFill>
                <a:latin typeface="Madera TYGRA"/>
              </a:rPr>
              <a:t>(Ощущение, что вся жизнь осталась в прошло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60000"/>
                </a:solidFill>
                <a:latin typeface="Arial"/>
              </a:rPr>
              <a:t>5. Обращение к религии и «уход  в себ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D:\мои презентации\Иллюстрации к роману Война и мир. 10 кл\Наташа Ростова-2.jpg"/>
          <p:cNvPicPr/>
          <p:nvPr/>
        </p:nvPicPr>
        <p:blipFill>
          <a:blip r:embed="rId2"/>
          <a:stretch/>
        </p:blipFill>
        <p:spPr>
          <a:xfrm>
            <a:off x="4786200" y="1643040"/>
            <a:ext cx="3857760" cy="4527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60000"/>
                </a:solidFill>
                <a:latin typeface="Arial"/>
              </a:rPr>
              <a:t>Переломные этапы в жизни Наташи Ростов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60000"/>
                </a:solidFill>
                <a:latin typeface="Arial"/>
              </a:rPr>
              <a:t>6. «Возвращение к жизни» через единение с окружающими в трагический момент наступления французов на Моск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60000"/>
                </a:solidFill>
                <a:latin typeface="Arial"/>
              </a:rPr>
              <a:t>7. Возрождение и очищение души через страдание и состр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D:\мои презентации\Иллюстрации к роману Война и мир. 10 кл\раненые во дворе Ростовых.jpeg"/>
          <p:cNvPicPr/>
          <p:nvPr/>
        </p:nvPicPr>
        <p:blipFill>
          <a:blip r:embed="rId2"/>
          <a:stretch/>
        </p:blipFill>
        <p:spPr>
          <a:xfrm>
            <a:off x="4714920" y="1643040"/>
            <a:ext cx="38052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60000"/>
                </a:solidFill>
                <a:latin typeface="Arial"/>
              </a:rPr>
              <a:t>Переломные этапы в жизни Наташи Ростов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357440" y="2642760"/>
            <a:ext cx="43290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60000"/>
                </a:solidFill>
                <a:latin typeface="Arial"/>
              </a:rPr>
              <a:t>8. Смерть князя Андре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60000"/>
                </a:solidFill>
                <a:latin typeface="Arial"/>
              </a:rPr>
              <a:t>9. Духовный кризи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D:\мои презентации\Иллюстрации к роману Война и мир. 10 кл\Наташа и андрей в Мытищах.jpeg"/>
          <p:cNvPicPr/>
          <p:nvPr/>
        </p:nvPicPr>
        <p:blipFill>
          <a:blip r:embed="rId2"/>
          <a:stretch/>
        </p:blipFill>
        <p:spPr>
          <a:xfrm>
            <a:off x="500040" y="1714680"/>
            <a:ext cx="3786120" cy="49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60000"/>
                </a:solidFill>
                <a:latin typeface="Arial"/>
              </a:rPr>
              <a:t>Переломные этапы в жизни Наташи Ростов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0" y="2071440"/>
            <a:ext cx="4114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60000"/>
                </a:solidFill>
                <a:latin typeface="Arial"/>
              </a:rPr>
              <a:t>10. Гибель Пети Рост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60000"/>
                </a:solidFill>
                <a:latin typeface="Arial"/>
              </a:rPr>
              <a:t>11. Возвращение героини к жизни через деятельную любовь и заботу о мате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D:\мои презентации\Иллюстрации к роману Война и мир. 10 кл\смерть Пети Ростова.jpeg"/>
          <p:cNvPicPr/>
          <p:nvPr/>
        </p:nvPicPr>
        <p:blipFill>
          <a:blip r:embed="rId2"/>
          <a:stretch/>
        </p:blipFill>
        <p:spPr>
          <a:xfrm>
            <a:off x="214200" y="2428920"/>
            <a:ext cx="422460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60000"/>
                </a:solidFill>
                <a:latin typeface="Arial"/>
              </a:rPr>
              <a:t>Переломные этапы в жизни Наташи Ростов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28760" y="1857240"/>
            <a:ext cx="41148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60000"/>
                </a:solidFill>
                <a:latin typeface="Arial"/>
              </a:rPr>
              <a:t>12. Свадьба Наташи и Пьера Безухова в эпилоге романа – начало нового этапа жизни героини, когда центром жизни становится сем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60000"/>
                </a:solidFill>
                <a:latin typeface="Arial"/>
              </a:rPr>
              <a:t>13. Материнство как высшее назначение женщ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D:\мои презентации\Иллюстрации к роману Война и мир. 10 кл\Пьер и Наташа с детьми.jpg"/>
          <p:cNvPicPr/>
          <p:nvPr/>
        </p:nvPicPr>
        <p:blipFill>
          <a:blip r:embed="rId2"/>
          <a:stretch/>
        </p:blipFill>
        <p:spPr>
          <a:xfrm>
            <a:off x="4643280" y="1643040"/>
            <a:ext cx="3786480" cy="4686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60000"/>
                </a:solidFill>
                <a:latin typeface="Arial"/>
              </a:rPr>
              <a:t>Цел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60000"/>
                </a:solidFill>
                <a:latin typeface="Arial"/>
              </a:rPr>
              <a:t>Проанализировать образ герои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60000"/>
                </a:solidFill>
                <a:latin typeface="Arial"/>
              </a:rPr>
              <a:t>Проследить духовное развитие персонаж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ыво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60000"/>
                </a:solidFill>
                <a:latin typeface="Arial"/>
              </a:rPr>
              <a:t>Наташа Ростова воплощает саму полноту жизни с ее беспрерывным движением, с ее крайност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60000"/>
                </a:solidFill>
                <a:latin typeface="Arial"/>
              </a:rPr>
              <a:t>«Она не удостаивает быть умной», потому что живет сердц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60000"/>
                </a:solidFill>
                <a:latin typeface="Arial"/>
              </a:rPr>
              <a:t>Тернистый путь ошибок и страданий вознаграждаются семейным счастьем героини в финале ром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60000"/>
                </a:solidFill>
                <a:latin typeface="Arial"/>
              </a:rPr>
              <a:t>Наташа близка к народу, живет его чувст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60000"/>
                </a:solidFill>
                <a:latin typeface="Arial"/>
              </a:rPr>
              <a:t>Она воплощает русский национальный характер, который и определяет ее сущ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60000"/>
                </a:solidFill>
                <a:latin typeface="Arial"/>
              </a:rPr>
              <a:t>Наташа глазами Толстого и его персонаж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57360" y="1643040"/>
            <a:ext cx="5143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600" spc="-1" strike="noStrike">
                <a:solidFill>
                  <a:srgbClr val="760000"/>
                </a:solidFill>
                <a:latin typeface="Arial"/>
              </a:rPr>
              <a:t>Впервые мы видим ее тринадцатилетней девочкой: </a:t>
            </a:r>
            <a:r>
              <a:rPr b="1" lang="ru-RU" sz="2000" spc="-1" strike="noStrike">
                <a:solidFill>
                  <a:srgbClr val="222268"/>
                </a:solidFill>
                <a:latin typeface="Madera TYGRA"/>
              </a:rPr>
              <a:t>“Черноглазая, с большим ртом, некрасивая, но живая девочка, со своими детскими открытыми плечиками, выскочившими из корсажа от быстрого бега, со своими сбившимися назад черными кудрями, тоненькими оголенными ручками и маленькими ножками в кружевных панталончиках и открытых башмачках, была в том милом возрасте, когда девочка уже не ребенок, а ребенок еще не девушка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D:\мои презентации\Иллюстрации к роману Война и мир. 10 кл\000881_1.jpg"/>
          <p:cNvPicPr/>
          <p:nvPr/>
        </p:nvPicPr>
        <p:blipFill>
          <a:blip r:embed="rId2"/>
          <a:stretch/>
        </p:blipFill>
        <p:spPr>
          <a:xfrm>
            <a:off x="428760" y="1785960"/>
            <a:ext cx="2743200" cy="3929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60000"/>
                </a:solidFill>
                <a:latin typeface="Arial"/>
              </a:rPr>
              <a:t>Наташа глазами Толстого и его персонаж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2560" y="1928520"/>
            <a:ext cx="442908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Madera TYGRA"/>
              </a:rPr>
              <a:t>       </a:t>
            </a:r>
            <a:r>
              <a:rPr b="1" lang="ru-RU" sz="3200" spc="-1" strike="noStrike">
                <a:solidFill>
                  <a:srgbClr val="222268"/>
                </a:solidFill>
                <a:latin typeface="Madera TYGRA"/>
              </a:rPr>
              <a:t>«Не в силах более удерживаться, прыгнула и побежала из комнаты так скоро, как только могли нести ее быстрые ножки 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D:\мои презентации\Иллюстрации к роману Война и мир. 10 кл\Бал в семье Ростовых.jpg"/>
          <p:cNvPicPr/>
          <p:nvPr/>
        </p:nvPicPr>
        <p:blipFill>
          <a:blip r:embed="rId2"/>
          <a:stretch/>
        </p:blipFill>
        <p:spPr>
          <a:xfrm>
            <a:off x="4929120" y="1643040"/>
            <a:ext cx="3900600" cy="4429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60000"/>
                </a:solidFill>
                <a:latin typeface="Arial"/>
              </a:rPr>
              <a:t>Наташа глазами Толстого и его персонаж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0072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Madera TYGRA"/>
              </a:rPr>
              <a:t>       “</a:t>
            </a:r>
            <a:r>
              <a:rPr b="1" lang="ru-RU" sz="2000" spc="-1" strike="noStrike">
                <a:solidFill>
                  <a:srgbClr val="002060"/>
                </a:solidFill>
                <a:latin typeface="Madera TYGRA"/>
              </a:rPr>
              <a:t>В обращении со своей матерью Наташа высказывала внешнюю грубость манеры, но так была чутка и ловка, что, как бы она ни обхватила руками мать, она всегда умела это сделать так, чтобы матери не было ни больно, ни неприятно, ни неловко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Madera TYGRA"/>
              </a:rPr>
              <a:t>         </a:t>
            </a:r>
            <a:r>
              <a:rPr b="1" lang="ru-RU" sz="2000" spc="-1" strike="noStrike">
                <a:solidFill>
                  <a:srgbClr val="002060"/>
                </a:solidFill>
                <a:latin typeface="Madera TYGRA"/>
              </a:rPr>
              <a:t>«Казак в юбке. Зелье-девка!» - </a:t>
            </a:r>
            <a:r>
              <a:rPr b="1" lang="ru-RU" sz="2000" spc="-1" strike="noStrike">
                <a:solidFill>
                  <a:srgbClr val="760000"/>
                </a:solidFill>
                <a:latin typeface="Arial"/>
              </a:rPr>
              <a:t>так говорит о ней бабуш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D:\мои презентации\Иллюстрации к роману Война и мир. 10 кл\Наташа и бабушка. именины Наташи.jpeg"/>
          <p:cNvPicPr/>
          <p:nvPr/>
        </p:nvPicPr>
        <p:blipFill>
          <a:blip r:embed="rId2"/>
          <a:stretch/>
        </p:blipFill>
        <p:spPr>
          <a:xfrm>
            <a:off x="571680" y="1643040"/>
            <a:ext cx="3646440" cy="4719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60000"/>
                </a:solidFill>
                <a:latin typeface="Arial"/>
              </a:rPr>
              <a:t>Наташа глазами Толстого и его персонаж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28720" y="1928520"/>
            <a:ext cx="425772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Madera TYGRA"/>
              </a:rPr>
              <a:t>       </a:t>
            </a:r>
            <a:r>
              <a:rPr b="1" lang="ru-RU" sz="2400" spc="-1" strike="noStrike">
                <a:solidFill>
                  <a:srgbClr val="222268"/>
                </a:solidFill>
                <a:latin typeface="Madera TYGRA"/>
              </a:rPr>
              <a:t>«Нет, ты посмотри, что за луна!.. Ах, какая прелесть! Ты поди сюда. Ну, видишь? Так бы вот села на корточки, вот так, подхватила бы себя под коленки — туже, как можно туже, натужиться надо, — и полетела бы. Вот так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D:\мои презентации\Иллюстрации к роману Война и мир. 10 кл\Наташа в Отрадном у окна.jpeg"/>
          <p:cNvPicPr/>
          <p:nvPr/>
        </p:nvPicPr>
        <p:blipFill>
          <a:blip r:embed="rId2"/>
          <a:stretch/>
        </p:blipFill>
        <p:spPr>
          <a:xfrm>
            <a:off x="428760" y="1714680"/>
            <a:ext cx="364788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60000"/>
                </a:solidFill>
                <a:latin typeface="Arial"/>
              </a:rPr>
              <a:t>Наташа глазами Толстого и его персонаж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114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Madera TYGRA"/>
              </a:rPr>
              <a:t>       </a:t>
            </a:r>
            <a:r>
              <a:rPr b="1" lang="ru-RU" sz="3200" spc="-1" strike="noStrike">
                <a:solidFill>
                  <a:srgbClr val="222268"/>
                </a:solidFill>
                <a:latin typeface="Madera TYGRA"/>
              </a:rPr>
              <a:t>«Неужели так никто не подойдет ко мне, неужели я не буду танцевать между первыми, неужели меня не заметят все эти мужчины 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D:\мои презентации\Иллюстрации к роману Война и мир. 10 кл\Saveljeva_natasha_rostova.jpg"/>
          <p:cNvPicPr/>
          <p:nvPr/>
        </p:nvPicPr>
        <p:blipFill>
          <a:blip r:embed="rId2"/>
          <a:stretch/>
        </p:blipFill>
        <p:spPr>
          <a:xfrm>
            <a:off x="4643280" y="1928880"/>
            <a:ext cx="4237200" cy="4000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60000"/>
                </a:solidFill>
                <a:latin typeface="Arial"/>
              </a:rPr>
              <a:t>Наташа глазами Толстого и его персонаж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2920" y="1642680"/>
            <a:ext cx="42861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Madera TYGRA"/>
              </a:rPr>
              <a:t>       </a:t>
            </a:r>
            <a:r>
              <a:rPr b="1" lang="ru-RU" sz="2800" spc="-1" strike="noStrike">
                <a:solidFill>
                  <a:srgbClr val="222268"/>
                </a:solidFill>
                <a:latin typeface="Madera TYGRA"/>
              </a:rPr>
              <a:t>«Давно я тебя ждала», — как будто сказала эта испуганная и счастливая девочка своей просиявшей из-за готовых пролиться слез улыбкой, поднимая свою руку на плечо князя Андре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D:\мои презентации\Иллюстрации к роману Война и мир. 10 кл\Pervyi_Bal_Natashi.jpg"/>
          <p:cNvPicPr/>
          <p:nvPr/>
        </p:nvPicPr>
        <p:blipFill>
          <a:blip r:embed="rId2"/>
          <a:stretch/>
        </p:blipFill>
        <p:spPr>
          <a:xfrm>
            <a:off x="4500720" y="2428920"/>
            <a:ext cx="4440240" cy="2357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60000"/>
                </a:solidFill>
                <a:latin typeface="Arial"/>
              </a:rPr>
              <a:t>Наташа глазами Толстого и его персонаж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2920" y="1714320"/>
            <a:ext cx="52149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Madera TYGRA"/>
              </a:rPr>
              <a:t>         </a:t>
            </a:r>
            <a:r>
              <a:rPr b="1" lang="ru-RU" sz="2400" spc="-1" strike="noStrike">
                <a:solidFill>
                  <a:srgbClr val="222268"/>
                </a:solidFill>
                <a:latin typeface="Madera TYGRA"/>
              </a:rPr>
              <a:t>« Красная и взволнованная, с сухими глазами, она ходила этот день по дому, занимаясь самыми ничтожными делами, как будто не понимая того, что ожидает ее… «Не уезжайте!» — только проговорила она ему таким голосом, который заставил его задуматься о том, не нужно ли ему действительно остаться, и который он долго помнил 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D:\мои презентации\Иллюстрации к роману Война и мир. 10 кл\Наташа Ростова.jpg"/>
          <p:cNvPicPr/>
          <p:nvPr/>
        </p:nvPicPr>
        <p:blipFill>
          <a:blip r:embed="rId2"/>
          <a:stretch/>
        </p:blipFill>
        <p:spPr>
          <a:xfrm>
            <a:off x="6000840" y="1571760"/>
            <a:ext cx="2563560" cy="4868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06:44:25Z</dcterms:created>
  <dc:creator>User</dc:creator>
  <dc:description/>
  <dc:language>en-US</dc:language>
  <cp:lastModifiedBy>User</cp:lastModifiedBy>
  <dcterms:modified xsi:type="dcterms:W3CDTF">2011-06-02T22:02:57Z</dcterms:modified>
  <cp:revision>14</cp:revision>
  <dc:subject/>
  <dc:title>Слайд 1</dc:title>
</cp:coreProperties>
</file>