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bomb.wav" ContentType="audio/x-wav"/>
  <Override PartName="/ppt/media/image10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37.gif" ContentType="image/gif"/>
  <Override PartName="/ppt/media/image16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D68-924F-4BBB-BA8D-DF61BB92F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чик и белочка – задержите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-mail: lazareva@pdps.l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9.png"/><Relationship Id="rId6" Type="http://schemas.openxmlformats.org/officeDocument/2006/relationships/image" Target="../media/image4.gif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bomb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audio" Target="../media/bomb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7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gi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4.gif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bomb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audio" Target="../media/bomb.wav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audio" Target="../media/bomb.wav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9.png"/><Relationship Id="rId5" Type="http://schemas.openxmlformats.org/officeDocument/2006/relationships/image" Target="../media/image4.gif"/><Relationship Id="rId6" Type="http://schemas.openxmlformats.org/officeDocument/2006/relationships/audio" Target="../media/chimes.wav"/><Relationship Id="rId7" Type="http://schemas.openxmlformats.org/officeDocument/2006/relationships/audio" Target="../media/bomb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95280" y="476280"/>
            <a:ext cx="6008760" cy="4506840"/>
            <a:chOff x="395280" y="476280"/>
            <a:chExt cx="6008760" cy="45068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95280" y="476280"/>
              <a:ext cx="6008760" cy="4506840"/>
            </a:xfrm>
            <a:prstGeom prst="rect">
              <a:avLst/>
            </a:prstGeom>
            <a:ln w="12600">
              <a:solidFill>
                <a:srgbClr val="996633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620720" y="2637000"/>
              <a:ext cx="1736640" cy="22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 txBox="1"/>
          <p:nvPr/>
        </p:nvSpPr>
        <p:spPr>
          <a:xfrm>
            <a:off x="2700360" y="6093000"/>
            <a:ext cx="633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НАЕШЬ ЛИ ТЫ?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476360" y="544500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5600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ТО ИЗ ЖИВОТНЫХ МЕНЯЕТ ШУБКУ НА ЗИ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3645000"/>
            <a:ext cx="2376720" cy="23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2376720" cy="23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268280"/>
            <a:ext cx="2303640" cy="22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268280"/>
            <a:ext cx="2305080" cy="2232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716360" y="3213000"/>
            <a:ext cx="2745000" cy="3311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4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24360" y="2637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2720" y="162864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162864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2720" y="2637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В НАШИХ ЛЕСАХ САМОЕ БОЛЬШ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3573360"/>
            <a:ext cx="2590920" cy="25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796000" y="3141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2133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2133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И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14172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НАЗЫВАЮТ «ХИТР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95640" y="4070520"/>
            <a:ext cx="3281400" cy="2025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86728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И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НАЗЫВАЮТ «ЗЛ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4449960" cy="295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96000" y="270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1700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О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1700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70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И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ОЕ ЖИВОТНОЕ НАЗЫВАЮТ «ТРУСЛИВ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2936880" cy="244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9420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ДИ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АБ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ТО НЕ ЖИВЁТ В НАШИХ ЛЕС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765000"/>
            <a:ext cx="1657440" cy="165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565360"/>
            <a:ext cx="1657440" cy="165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4365720"/>
            <a:ext cx="1657440" cy="1655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349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ПАН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349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ЕРБЛЮ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42764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24360" y="2421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ЕРБЛЮ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640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ЖИТЕЛИ  НАШИХ ЛЕСО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3645000"/>
            <a:ext cx="2303640" cy="2087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1268280"/>
            <a:ext cx="2305080" cy="2087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ДИ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АБ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ОБ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2745000" cy="331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03280" y="765000"/>
            <a:ext cx="633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003640" y="2349360"/>
            <a:ext cx="1198800" cy="197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547640" y="5445000"/>
            <a:ext cx="633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ОЗДРАВЛЯЮ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2771640" y="2492280"/>
            <a:ext cx="1381320" cy="1666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893080" y="66070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64000" y="126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126828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276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276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СКОЛЬКО ЕСТЬ ВРЕМЁН 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907920"/>
            <a:ext cx="1297080" cy="1224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797360"/>
            <a:ext cx="1297080" cy="122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3500280"/>
            <a:ext cx="1295280" cy="1224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2205000"/>
            <a:ext cx="1295280" cy="1222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11804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6360" y="2637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О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628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162864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ЛЕ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637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Р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ИЕ ПТИЦЫ ВЫВОДЯТ ПТЕНЦОВ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4292640"/>
            <a:ext cx="2160720" cy="1727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573360"/>
            <a:ext cx="2160720" cy="165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12000" y="1557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НЕГ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3080" y="1557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565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ОЛИБ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3080" y="2565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РОБ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АЯ ПТИЦА САМАЯ МАЛЕНЬ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645000"/>
            <a:ext cx="2879640" cy="201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95640" y="126828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26828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ИЕ ПТИЦЫ УЛЕТАЮТ В ТЁПЛЫЕ КР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341360"/>
            <a:ext cx="1584360" cy="14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4365720"/>
            <a:ext cx="158436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2852640"/>
            <a:ext cx="158436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205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ГР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2205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ЛАСТ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2745000" cy="331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9420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УК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РОБ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ИЕ ПТИЦЫ ЗИМУЮТ ВМЕСТЕ С Н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1268280"/>
            <a:ext cx="1584360" cy="14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852640"/>
            <a:ext cx="158436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4437000"/>
            <a:ext cx="158436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21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НЕГ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24360" y="2781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РЯСОГУ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1773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ОЛОВ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/>
          </p:cNvPr>
          <p:cNvSpPr/>
          <p:nvPr/>
        </p:nvSpPr>
        <p:spPr>
          <a:xfrm>
            <a:off x="5724360" y="1773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УК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2720" y="278136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ПОПОЛЗ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АКАЯ ПТИЦА НЕ ВЫСИЖИВАЕТ СВОИХ ПТЕНЦ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3716280"/>
            <a:ext cx="237672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5280" y="1413000"/>
            <a:ext cx="165600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 ДЕРЕВ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 Л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421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 Г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ГДЕ ЖИВУТ ДИКИЕ ЖИВОТ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573360"/>
            <a:ext cx="2447640" cy="230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292572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4036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О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141300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ЕН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66400" y="-36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КТО ИЗ ЖИВОТНЫХ СПИТ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65360"/>
            <a:ext cx="1800360" cy="16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765000"/>
            <a:ext cx="1800360" cy="165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365720"/>
            <a:ext cx="1800360" cy="165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2349360"/>
            <a:ext cx="158292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МЕДВЕ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349360"/>
            <a:ext cx="1655640" cy="7905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274464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715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19:41Z</dcterms:created>
  <dc:creator>L. Lazareva</dc:creator>
  <dc:description/>
  <dc:language>en-US</dc:language>
  <cp:lastModifiedBy>User</cp:lastModifiedBy>
  <dcterms:modified xsi:type="dcterms:W3CDTF">2009-04-02T04:19:07Z</dcterms:modified>
  <cp:revision>6</cp:revision>
  <dc:subject/>
  <dc:title>O zhivotnih</dc:title>
</cp:coreProperties>
</file>