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6F72-9C28-483A-8D07-86577582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FDBCF-1700-4463-AC5C-6F052EB7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96CD-F827-4DC8-81A6-F6F9099C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9239-A502-4365-8753-BD4C58AA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6A44-2376-4F54-8B7C-61CF6FD0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DC28-5059-44D0-B852-FEB7EB07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C747-001C-4748-A245-6B825651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0BE6-59E0-4795-9DF5-5A6B1ABD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158A-6012-4BB8-8E18-4154DED8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7855-D7B2-4508-AA1B-D845D800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A5E5-BDBF-4661-BDBE-5B4E94A8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A911-B05F-4785-81AE-8EC1E830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7391-146D-4DD6-A235-D5D3C4A8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1B7C-A204-47F3-800D-8784CE3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3491-DB0E-4509-BB55-93A4F12C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99BD-7C01-40A3-BD33-4B451CD7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E410-A61C-4443-898E-BDC8FC8B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5486-EFE8-4977-8E5C-DE7CC8A7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A35C-1D0A-4B69-B533-B7141D99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261F-1B4A-4471-9F02-01AD0E84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63E2-65A7-4EA4-9C89-94F1A53C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A3A1-F4CF-45B5-AAA5-F1A97774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D3B4-FE03-4A3C-A3AC-4EA5E1A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AAA6-1CDA-4E1D-ADB4-A8F5C9C3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FBC4-FD14-4818-ABEE-23C98DE7BF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B14F-7803-49EA-AC6C-F01381FC87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01_02_04_19.swf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9185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Природоведение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5 класс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Спутники плане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знакомимся с особенностями строения спутников планет Солнечной системы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Работа в группе ( 5 минут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ие планеты имеют спутник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зывается спутник Земл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выглядит поверхность Лун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м заполнены моря Лун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ую планету называют рекордсменом по количеству спутников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вания каких спутников вам запомнились и почем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уна – спутник Зем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456000" cy="3333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924360" y="1269000"/>
            <a:ext cx="50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уна - единственный естественный спутник Земли. Расстояние до Земли — 384400 км. Хотя Луна и вращается вокруг своей оси, она всегда обращена к Земле одной и той же стороной. Дело в том, что Луна совершает один оборот вокруг своей оси за то же самое время (27,3 суток), что и один оборот вокруг Земли. А поскольку направление обоих вращений совпадает, противоположную ее сторону с Земли увидеть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уна – спутник Зем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7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уна не излучает собственного света, виден лишь отраженный от ее поверхности солнечный свет. Новолуние — Луна находится между Землей и Солнцем, Солнце освещает ту сторону Луны, которая повернута к нему. Через несколько дней мы видим часть освещенной стороны Луны — серп, повернутый как дужка буквы Р (фаза растущей Луны). С каждым днем он увеличивается и превращается в светлый круг. Наступает полнолуние. Земля расположена между Солнцем и Луной. Луна повернута к нам лицом. Постепенно светящийся круг превращается в серп, только теперь он повернут, как буква С (фаза стареющей Луны). Наконец, серп совсем исчезает и наступает новолуни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 Мар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827520" cy="3197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2124000" y="5516640"/>
            <a:ext cx="48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арс имеет два спу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0720" cy="3181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1922760" y="470844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еймо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080040" y="472428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бо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Юпит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2879640" cy="2578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29120" y="3860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аниме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1908000" y="1700280"/>
            <a:ext cx="2928960" cy="2952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676600" y="4653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вроп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4140360" y="234936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4922640" y="54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4"/>
          <a:stretch/>
        </p:blipFill>
        <p:spPr>
          <a:xfrm>
            <a:off x="6000840" y="3213000"/>
            <a:ext cx="3143160" cy="3143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6899400" y="6308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ллист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-127800" y="602136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Юпитера открыто 16 спутни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Сатур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2050920" y="2421000"/>
            <a:ext cx="5545440" cy="100800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У Сатурна открыто 17 спутник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ран и его спутн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8438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190960" y="61657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Урана обнаружено 18 спутни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утники Непту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040360" y="2276640"/>
            <a:ext cx="4103640" cy="40845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6227640" y="6338880"/>
            <a:ext cx="16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т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000760" y="141300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Нептуна  - 8 спутник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3434040" cy="3433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96480" y="5013360"/>
            <a:ext cx="44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ид на Нептун со спутн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равнительные разме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77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дведём ито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м строение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верим свои знания по теме «Планеты Солнечной систем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накомимся с особенностями строения спутников планет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и и задач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торим строение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верим свои знания по теме «Планеты Солнечной систем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знакомимся с особенностями строения спутников планет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Garamond"/>
              </a:rPr>
              <a:t>МОЛОДЦЫ!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льбом – стр.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ить рассказ о кометах и астероид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овторим строение Солнечной систем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бота в паре: контурные карты – стр.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  Модель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роверим свои знания по теме «Планеты Солнечной системы»</a:t>
            </a:r>
            <a:br>
              <a:rPr sz="40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рное утверждение – «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верное утверждение – «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32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планеты – гиганты имеют много спутни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птун – самая маленькая планета Солнечной сис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нера – это планета – гиган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лижайшая к Солнцу планета – Меркур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ркурий имеет мощную атмосфе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 полюсов Марса расположены белые полярные шап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емля – самая дальняя от Солнца из планет земной групп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емля и Марс имеют спут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Венере плотная облачная атмосф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планеты – гиганты имеют твердую поверх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+  -  -  +  -  +  -  +  +  -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роверим свои знания по теме 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Планеты Солнечной системы»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11280" y="1484280"/>
          <a:ext cx="4327560" cy="5024520"/>
        </p:xfrm>
        <a:graphic>
          <a:graphicData uri="http://schemas.openxmlformats.org/drawingml/2006/table">
            <a:tbl>
              <a:tblPr/>
              <a:tblGrid>
                <a:gridCol w="2163960"/>
                <a:gridCol w="2163600"/>
              </a:tblGrid>
              <a:tr h="972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ичество ошиб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ме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–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– 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02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боле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2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99cc"/>
                      </a:solidFill>
                    </a:lnL>
                    <a:lnR w="38160">
                      <a:solidFill>
                        <a:srgbClr val="0099cc"/>
                      </a:solidFill>
                    </a:lnR>
                    <a:lnT w="38160">
                      <a:solidFill>
                        <a:srgbClr val="0099cc"/>
                      </a:solidFill>
                    </a:lnT>
                    <a:lnB w="38160">
                      <a:solidFill>
                        <a:srgbClr val="0099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пределите, о чем идёт речь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Словарь русского языка С.И.Ожего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ловек, который совершает путь вместе с кем – нибуд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о, что сопутствует чему – нибуд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бесное тело, обращающееся вокруг плане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ПУТНИ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4:33:42Z</dcterms:created>
  <dc:creator>Admin</dc:creator>
  <dc:description/>
  <dc:language>en-US</dc:language>
  <cp:lastModifiedBy>Пользователь</cp:lastModifiedBy>
  <dcterms:modified xsi:type="dcterms:W3CDTF">2011-10-27T08:40:19Z</dcterms:modified>
  <cp:revision>9</cp:revision>
  <dc:subject/>
  <dc:title>Природоведение  5 класс</dc:title>
</cp:coreProperties>
</file>