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6029-DD83-4D9C-A047-7F1B40A4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B5A7-6E1C-4D9F-9F5E-3ADAB3E3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8171-107A-426E-9B91-23072D80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E4BE-2F5A-4E69-A988-3F05E565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F3F-976E-4A40-A35E-7FE40714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7493-E7F2-40EC-8923-A8DE3435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9ED-DC9A-4902-AEF8-6F8FDDA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73DE-AD84-4181-A1AF-657E392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F307-83F4-4C32-831E-F7F51F6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27D-EFF7-40B0-8F8C-B01A801D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F08D-F99B-4345-9AD8-4820982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FECB-D0DA-4955-9F4D-16950E7E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7883-4222-409F-992C-D7AD810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D0A-8A70-401B-BC3F-C7274B5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54D0-FABB-4198-9D37-4772CFD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4B8F-D70A-4864-9BCF-2BF6101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DD50-134E-4022-8B31-6E87546B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4BB7-AE3D-4009-94AF-8E531DCA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6497-41F4-4168-8DB8-941AB64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12D2-0723-41EF-B8DA-470A12C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B48E-80F1-46CD-8D40-3CEE6B54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A8A0-0B7E-43B1-952D-397D758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8887-D96D-41F7-AB4B-B7BE7F6D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411D-C1F1-48DF-9F4A-06C2B38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C9C-FC34-489E-AE32-8B44EB810D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2EA-3F88-4873-9F6A-1F7EFB6E9B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01_02_04_19.sw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9185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риродоведение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5 класс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Спутники план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Работа в группе ( 5 мину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планеты имеют спутни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спутник Зем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выглядит поверхность Лун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заполнены моря Лун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ую планету называют рекордсменом по количеству спутников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вания каких спутников вам запомнились и поче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на – спутник Зем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456000" cy="3333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924360" y="1269000"/>
            <a:ext cx="50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на - единственный естественный спутник Земли. Расстояние до Земли — 384400 км. Хотя Луна и вращается вокруг своей оси, она всегда обращена к Земле одной и той же стороной. Дело в том, что Луна совершает один оборот вокруг своей оси за то же самое время (27,3 суток), что и один оборот вокруг Земли. А поскольку направление обоих вращений совпадает, противоположную ее сторону с Земли увидеть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на – спутник Зем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7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на не излучает собственного света, виден лишь отраженный от ее поверхности солнечный свет. Новолуние — Луна находится между Землей и Солнцем, Солнце освещает ту сторону Луны, которая повернута к нему. Через несколько дней мы видим часть освещенной стороны Луны — серп, повернутый как дужка буквы Р (фаза растущей Луны). С каждым днем он увеличивается и превращается в светлый круг. Наступает полнолуние. Земля расположена между Солнцем и Луной. Луна повернута к нам лицом. Постепенно светящийся круг превращается в серп, только теперь он повернут, как буква С (фаза стареющей Луны). Наконец, серп совсем исчезает и наступает новолу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 Ма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27520" cy="3197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124000" y="551664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рс имеет два спу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0720" cy="3181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1922760" y="470844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йм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080040" y="47242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б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Юпит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879640" cy="2578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29120" y="3860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аниме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2928960" cy="2952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676600" y="4653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вроп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4922640" y="54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6000840" y="3213000"/>
            <a:ext cx="3143160" cy="31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6899400" y="6308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ллист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-127800" y="60213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Юпитера открыто 16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Сатур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2050920" y="2421000"/>
            <a:ext cx="5545440" cy="1008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У Сатурна открыто 17 спутник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ран и его спут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438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190960" y="6165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Урана обнаружено 18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Непту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4103640" cy="40845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6227640" y="6338880"/>
            <a:ext cx="16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00760" y="141300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Нептуна  - 8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3434040" cy="3433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96480" y="501336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ид на Нептун со спутн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равнительные разм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77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ём ито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м строение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рим свои знания по теме «Планеты Солнечной систем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и и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м строение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рим свои знания по теме «Планеты Солнечной систем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ьбом – стр.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ить рассказ о кометах и астероид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вторим строение Солнечной систем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 в паре: контурные карты – стр.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  Модель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оверим свои знания по теме «Планеты Солнечной системы»</a:t>
            </a:r>
            <a:br>
              <a:rPr sz="40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ное утверждение – «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верное утверждение – «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планеты – гиганты имеют много спутн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птун – самая маленькая планета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нера – это планета – гига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ижайшая к Солнцу планета – Меркур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ркурий имеет мощную атмосфе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полюсов Марса расположены белые полярные шап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емля – самая дальняя от Солнца из планет земной груп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емля и Марс имеют спут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Венере плотная облачная атмосф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планеты – гиганты имеют твердую поверх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+  -  -  +  -  +  -  +  +  -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11280" y="1484280"/>
          <a:ext cx="4327560" cy="5024520"/>
        </p:xfrm>
        <a:graphic>
          <a:graphicData uri="http://schemas.openxmlformats.org/drawingml/2006/table">
            <a:tbl>
              <a:tblPr/>
              <a:tblGrid>
                <a:gridCol w="2163960"/>
                <a:gridCol w="2163600"/>
              </a:tblGrid>
              <a:tr h="97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 ошиб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ме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–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–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бол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2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пределите, о чем идёт речь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ловарь русского языка С.И.Ожег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ловек, который совершает путь вместе с кем – нибуд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, что сопутствует чему – нибуд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бесное тело, обращающееся вокруг план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ПУТН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33:42Z</dcterms:created>
  <dc:creator>Admin</dc:creator>
  <dc:description/>
  <dc:language>en-US</dc:language>
  <cp:lastModifiedBy>Пользователь</cp:lastModifiedBy>
  <dcterms:modified xsi:type="dcterms:W3CDTF">2011-10-27T08:40:19Z</dcterms:modified>
  <cp:revision>9</cp:revision>
  <dc:subject/>
  <dc:title>Природоведение  5 класс</dc:title>
</cp:coreProperties>
</file>