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221E0-B17D-4383-A88F-0E68E8E0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D67A3-5C7A-4939-805D-676E6024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9F55B-03F1-4AF1-ACDE-4CD2C257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3DCB5-9BF7-4EAE-80D7-EB42C40F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AFF4-04F4-453E-84B0-7378826C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4806-5372-4FFF-AB18-300F39F1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9718-0BAB-430A-8029-3A8B854B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EDA0-11D7-4A70-BAF9-A8A4341F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2AE2-519E-464E-B55A-1612A1EC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FE7F-00BA-4B4E-B8AD-B4B50F91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2910-5CDA-4403-A51D-B308F8C0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1C687-1CFF-4213-9562-71E40BB4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753B-9AF2-4309-9B88-7B876877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D585-AE97-4D05-AE53-D04E0873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5ADE-5FB6-47AE-95B3-D199E829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0B08-56CD-4DBD-AC96-7D017298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F733-364E-4048-AD3D-1FAD96F9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343E-E864-42D1-AAD7-712A41A8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D23A8-93DA-4DE5-A163-EEC4FC54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B27B3-AF33-4B5A-93E1-408B5E18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9FD5F-E916-4440-9FE9-BB4DA0A6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D959F-B09B-4DF4-AFD2-7CDC13FD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E02FB-9478-4919-B999-2B8069B6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4C356-5E29-4B3D-9B8A-324F89D6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9433-B99C-4C37-B2F9-C4566BDFBE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C11A-C002-4EE9-B5BC-6E1B18AA7A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01_02_04_19.swf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79185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Природоведение 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5 класс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Спутники плане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ознакомимся с особенностями строения спутников планет Солнечной системы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Работа в группе ( 5 минут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ие планеты имеют спутник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называется спутник Земл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выглядит поверхность Луны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ем заполнены моря Луны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ую планету называют рекордсменом по количеству спутников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звания каких спутников вам запомнились и почем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уна – спутник Земл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456000" cy="33336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3924360" y="1269000"/>
            <a:ext cx="50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уна - единственный естественный спутник Земли. Расстояние до Земли — 384400 км. Хотя Луна и вращается вокруг своей оси, она всегда обращена к Земле одной и той же стороной. Дело в том, что Луна совершает один оборот вокруг своей оси за то же самое время (27,3 суток), что и один оборот вокруг Земли. А поскольку направление обоих вращений совпадает, противоположную ее сторону с Земли увидеть невозможн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уна – спутник Земл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72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уна не излучает собственного света, виден лишь отраженный от ее поверхности солнечный свет. Новолуние — Луна находится между Землей и Солнцем, Солнце освещает ту сторону Луны, которая повернута к нему. Через несколько дней мы видим часть освещенной стороны Луны — серп, повернутый как дужка буквы Р (фаза растущей Луны). С каждым днем он увеличивается и превращается в светлый круг. Наступает полнолуние. Земля расположена между Солнцем и Луной. Луна повернута к нам лицом. Постепенно светящийся круг превращается в серп, только теперь он повернут, как буква С (фаза стареющей Луны). Наконец, серп совсем исчезает и наступает новолуни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утники  Мар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827520" cy="31971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2124000" y="5516640"/>
            <a:ext cx="481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арс имеет два спу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600720" cy="31813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1922760" y="4708440"/>
            <a:ext cx="1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еймо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080040" y="4724280"/>
            <a:ext cx="12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бо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утники Юпите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2879640" cy="2578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429120" y="38606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анимед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1908000" y="1700280"/>
            <a:ext cx="2928960" cy="2952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2676600" y="465300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вроп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3"/>
          <a:stretch/>
        </p:blipFill>
        <p:spPr>
          <a:xfrm>
            <a:off x="4140360" y="2349360"/>
            <a:ext cx="3024000" cy="3024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4922640" y="5445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4"/>
          <a:stretch/>
        </p:blipFill>
        <p:spPr>
          <a:xfrm>
            <a:off x="6000840" y="3213000"/>
            <a:ext cx="3143160" cy="3143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6899400" y="63086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ллист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-127800" y="6021360"/>
            <a:ext cx="54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Юпитера открыто 16 спутник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утники Сатур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2050920" y="2421000"/>
            <a:ext cx="5545440" cy="100800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У Сатурна открыто 17 спутник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ран и его спутни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84388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2190960" y="616572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Урана обнаружено 18 спутник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утники Непту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040360" y="2276640"/>
            <a:ext cx="4103640" cy="40845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6227640" y="6338880"/>
            <a:ext cx="16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ито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000760" y="1413000"/>
            <a:ext cx="40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Нептуна  - 8 спутник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3434040" cy="3433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96480" y="5013360"/>
            <a:ext cx="44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ид на Нептун со спутни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равнительные разме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770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дведём ито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вторим строение Солнечной сист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верим свои знания по теме «Планеты Солнечной системы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знакомимся с особенностями строения спутников планет Солнечной сист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ли и задач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вторим строение Солнечной сист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верим свои знания по теме «Планеты Солнечной системы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знакомимся с особенностями строения спутников планет Солнечной сист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Garamond"/>
              </a:rPr>
              <a:t>МОЛОДЦЫ!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льбом – стр.1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готовить рассказ о кометах и астероид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Повторим строение Солнечной системы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бота в паре: контурные карты – стр.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   Модель Солнечной сист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роверим свои знания по теме «Планеты Солнечной системы»</a:t>
            </a:r>
            <a:br>
              <a:rPr sz="40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ерное утверждение – «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верное утверждение – «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роверим свои знания по теме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«Планеты Солнечной системы»</a:t>
            </a:r>
            <a:br>
              <a:rPr sz="32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е планеты – гиганты имеют много спутник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птун – самая маленькая планета Солнечной сист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енера – это планета – гиган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лижайшая к Солнцу планета – Меркур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ркурий имеет мощную атмосфер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 полюсов Марса расположены белые полярные шап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емля – самая дальняя от Солнца из планет земной групп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емля и Марс имеют спутн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Венере плотная облачная атмосфе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е планеты – гиганты имеют твердую поверх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роверим свои знания по теме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«Планеты Солнечной системы»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роверим свои знания по теме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«Планеты Солнечной системы»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Garamond"/>
              </a:rPr>
              <a:t>+  -  -  +  -  +  -  +  +  -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роверим свои знания по теме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«Планеты Солнечной системы»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411280" y="1484280"/>
          <a:ext cx="4327560" cy="5024520"/>
        </p:xfrm>
        <a:graphic>
          <a:graphicData uri="http://schemas.openxmlformats.org/drawingml/2006/table">
            <a:tbl>
              <a:tblPr/>
              <a:tblGrid>
                <a:gridCol w="2163960"/>
                <a:gridCol w="2163600"/>
              </a:tblGrid>
              <a:tr h="972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ичество ошиб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мет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5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–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4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– 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3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102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 боле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2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Определите, о чем идёт речь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Словарь русского языка С.И.Ожего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еловек, который совершает путь вместе с кем – нибуд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о, что сопутствует чему – нибуд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бесное тело, обращающееся вокруг плане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ПУТНИ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4:33:42Z</dcterms:created>
  <dc:creator>Admin</dc:creator>
  <dc:description/>
  <dc:language>en-US</dc:language>
  <cp:lastModifiedBy>Пользователь</cp:lastModifiedBy>
  <dcterms:modified xsi:type="dcterms:W3CDTF">2011-10-27T08:40:19Z</dcterms:modified>
  <cp:revision>9</cp:revision>
  <dc:subject/>
  <dc:title>Природоведение  5 класс</dc:title>
</cp:coreProperties>
</file>