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8.png" ContentType="image/png"/>
  <Override PartName="/ppt/media/whoosh.wav" ContentType="audio/x-wav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197-66B8-4740-8EDF-B6BFB3C8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189-06AA-42F1-B90F-B5BCCC55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181-8E22-4955-885C-2ECD45A6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3D3-3131-4EC8-B574-9C5580FE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10D-A047-4B49-91A9-E994233C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7D8-805F-4354-8193-280AB502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F2D-768A-4AB1-9CE2-9F1AA1BE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83D-FE02-4FC3-A1A5-165BBFAC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2EA-123D-4AEB-A123-A2F0729D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367-C3B6-4EA1-8B29-53C996B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CE7-D6E5-4479-A9E6-37AA7404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FD4-88D0-456B-B328-DF66BA8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94B3-7179-42BA-8137-ED9524EE8C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90;%20&#1060;&#1091;&#1085;&#1082;&#1094;&#1080;&#1080;%20&#1080;%20&#1075;&#1088;&#1072;&#1092;&#1080;&#1082;&#1080;.htm" TargetMode="External"/><Relationship Id="rId2" Type="http://schemas.openxmlformats.org/officeDocument/2006/relationships/hyperlink" Target="file:///&#1090;&#1077;&#1089;&#1090;%20&#1089;&#1080;&#1089;&#1090;&#1077;&#1084;&#1099;.xls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181ff"/>
            </a:gs>
            <a:gs pos="50000">
              <a:srgbClr val="ffffff"/>
            </a:gs>
            <a:gs pos="100000">
              <a:srgbClr val="8181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82947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 страницами школьного учеб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971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</a:rPr>
              <a:t>Графики 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функци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666880" y="5334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14800" y="5715000"/>
            <a:ext cx="563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яблицева Т. С.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математики высшей категории МОУ гимназии г. Сосновки, Кировской обл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3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900000" y="0"/>
            <a:ext cx="6912000" cy="7039080"/>
            <a:chOff x="900000" y="0"/>
            <a:chExt cx="6912000" cy="7039080"/>
          </a:xfrm>
        </p:grpSpPr>
        <p:pic>
          <p:nvPicPr>
            <p:cNvPr id="90" name="Picture 3" descr="msotw9_temp0"/>
            <p:cNvPicPr/>
            <p:nvPr/>
          </p:nvPicPr>
          <p:blipFill>
            <a:blip r:embed="rId1">
              <a:grayscl/>
              <a:lum contrast="36000"/>
            </a:blip>
            <a:stretch/>
          </p:blipFill>
          <p:spPr>
            <a:xfrm>
              <a:off x="900000" y="0"/>
              <a:ext cx="6912000" cy="68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4"/>
            <p:cNvSpPr/>
            <p:nvPr/>
          </p:nvSpPr>
          <p:spPr>
            <a:xfrm>
              <a:off x="6127200" y="6335280"/>
              <a:ext cx="15688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AutoShape 5">
            <a:hlinkClick r:id="" action="ppaction://hlinkshowjump?jump=previous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40"/>
          <p:cNvPicPr/>
          <p:nvPr/>
        </p:nvPicPr>
        <p:blipFill>
          <a:blip r:embed="rId1">
            <a:grayscl/>
            <a:lum contrast="24000"/>
          </a:blip>
          <a:srcRect l="0" t="3438" r="0" b="0"/>
          <a:stretch/>
        </p:blipFill>
        <p:spPr>
          <a:xfrm rot="186000">
            <a:off x="754200" y="258480"/>
            <a:ext cx="7200720" cy="63388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3">
            <a:hlinkClick r:id="" action="ppaction://hlinkshowjump?jump=previousslide"/>
          </p:cNvPr>
          <p:cNvSpPr/>
          <p:nvPr/>
        </p:nvSpPr>
        <p:spPr>
          <a:xfrm>
            <a:off x="8244000" y="638172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2" h="21600">
                <a:moveTo>
                  <a:pt x="13394" y="10800"/>
                </a:moveTo>
                <a:lnTo>
                  <a:pt x="27407" y="3794"/>
                </a:lnTo>
                <a:lnTo>
                  <a:pt x="2740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4"/>
          <p:cNvPicPr/>
          <p:nvPr/>
        </p:nvPicPr>
        <p:blipFill>
          <a:blip r:embed="rId1">
            <a:grayscl/>
            <a:lum contrast="42000"/>
          </a:blip>
          <a:stretch/>
        </p:blipFill>
        <p:spPr>
          <a:xfrm>
            <a:off x="1476360" y="0"/>
            <a:ext cx="6264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6453360"/>
            <a:ext cx="13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10800"/>
                </a:moveTo>
                <a:lnTo>
                  <a:pt x="31016" y="3794"/>
                </a:lnTo>
                <a:lnTo>
                  <a:pt x="3101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48"/>
          <p:cNvPicPr/>
          <p:nvPr/>
        </p:nvPicPr>
        <p:blipFill>
          <a:blip r:embed="rId1">
            <a:grayscl/>
            <a:lum contrast="30000"/>
          </a:blip>
          <a:stretch/>
        </p:blipFill>
        <p:spPr>
          <a:xfrm>
            <a:off x="1187280" y="0"/>
            <a:ext cx="6656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">
            <a:hlinkClick r:id="" action="ppaction://hlinkshowjump?jump=previous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10800"/>
                </a:moveTo>
                <a:lnTo>
                  <a:pt x="29067" y="3794"/>
                </a:lnTo>
                <a:lnTo>
                  <a:pt x="2906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971640" y="4221000"/>
            <a:ext cx="936360" cy="180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53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332000" y="0"/>
            <a:ext cx="62578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10800"/>
                </a:moveTo>
                <a:lnTo>
                  <a:pt x="27166" y="3794"/>
                </a:lnTo>
                <a:lnTo>
                  <a:pt x="2716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сканирование0014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10800"/>
                </a:moveTo>
                <a:lnTo>
                  <a:pt x="31016" y="3794"/>
                </a:lnTo>
                <a:lnTo>
                  <a:pt x="3101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63000" cy="2951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роверка знаний учащихся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о теме 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Графики функций и уравнений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Проверочный т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Упражнение «Подумай и выбери!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ворческое 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0800000">
            <a:off x="608760" y="30600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Monotype Corsiv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3"/>
          <p:cNvGraphicFramePr/>
          <p:nvPr/>
        </p:nvGraphicFramePr>
        <p:xfrm>
          <a:off x="1522440" y="1393920"/>
          <a:ext cx="60958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93920"/>
                    <a:ext cx="60958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4"/>
          <p:cNvSpPr/>
          <p:nvPr/>
        </p:nvSpPr>
        <p:spPr>
          <a:xfrm>
            <a:off x="1299240" y="0"/>
            <a:ext cx="75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«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лядя на мир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ЕЛЬЗЯ  НЕ УДИВЛЯТЬСЯ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КОЗЬМА  ПРУТ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71640" y="1125360"/>
            <a:ext cx="69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Verdana"/>
              </a:rPr>
              <a:t>Геометрический смысл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Verdana"/>
              </a:rPr>
              <a:t>алгебраических неравен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04120" y="2139840"/>
            <a:ext cx="8596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Verdana"/>
              </a:rPr>
              <a:t>Умение строить графики позволяет учащимся овладе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Verdana"/>
              </a:rPr>
              <a:t>темой «Геометрический смысл системы алгебраичес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Verdana"/>
              </a:rPr>
              <a:t>неравенств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Вашему вниманию представляем задачи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составленные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учащимися  9-го класса гимназии г. Сосн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Задания расположены  в виде теста. Вы можете постро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множество точек плоскости, аналитическим заданием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оторого является система,а затем проверить себ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0640" y="-316440"/>
            <a:ext cx="81630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стройте множество точек плоскости, координаты которых удовлетворяют следующим систем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547640" y="1125360"/>
                <a:ext cx="21607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47640" y="2205000"/>
                <a:ext cx="22323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1547640" y="3357720"/>
                <a:ext cx="2303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Text Box 6"/>
          <p:cNvSpPr/>
          <p:nvPr/>
        </p:nvSpPr>
        <p:spPr>
          <a:xfrm>
            <a:off x="468360" y="1341360"/>
            <a:ext cx="863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2492280"/>
            <a:ext cx="8269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(4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9640" y="3573360"/>
            <a:ext cx="8272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(4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39640" y="4724280"/>
            <a:ext cx="8272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(5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9640" y="6093000"/>
            <a:ext cx="8272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(5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788000" y="1125360"/>
            <a:ext cx="9363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(5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716360" y="1989000"/>
            <a:ext cx="9367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716360" y="2924280"/>
            <a:ext cx="863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788000" y="3933720"/>
            <a:ext cx="863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(3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716360" y="5013360"/>
            <a:ext cx="10080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0(3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6"/>
              <p:cNvSpPr txBox="1"/>
              <p:nvPr/>
            </p:nvSpPr>
            <p:spPr>
              <a:xfrm>
                <a:off x="1547640" y="4437000"/>
                <a:ext cx="22323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≤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х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≥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7"/>
              <p:cNvSpPr txBox="1"/>
              <p:nvPr/>
            </p:nvSpPr>
            <p:spPr>
              <a:xfrm>
                <a:off x="1547640" y="5832360"/>
                <a:ext cx="2232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8"/>
              <p:cNvSpPr txBox="1"/>
              <p:nvPr/>
            </p:nvSpPr>
            <p:spPr>
              <a:xfrm>
                <a:off x="5940360" y="907920"/>
                <a:ext cx="18716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9"/>
              <p:cNvSpPr txBox="1"/>
              <p:nvPr/>
            </p:nvSpPr>
            <p:spPr>
              <a:xfrm>
                <a:off x="5940360" y="1844640"/>
                <a:ext cx="187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0"/>
              <p:cNvSpPr txBox="1"/>
              <p:nvPr/>
            </p:nvSpPr>
            <p:spPr>
              <a:xfrm>
                <a:off x="5940360" y="2781360"/>
                <a:ext cx="1871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Rectangle 21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2"/>
              <p:cNvSpPr txBox="1"/>
              <p:nvPr/>
            </p:nvSpPr>
            <p:spPr>
              <a:xfrm>
                <a:off x="5940360" y="3645000"/>
                <a:ext cx="18716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≥</m:t>
                            </m:r>
                            <m:r>
                              <m:t xml:space="preserve">у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3"/>
              <p:cNvSpPr txBox="1"/>
              <p:nvPr/>
            </p:nvSpPr>
            <p:spPr>
              <a:xfrm>
                <a:off x="5940360" y="4653000"/>
                <a:ext cx="187164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≥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Rectangle 24"/>
          <p:cNvSpPr/>
          <p:nvPr/>
        </p:nvSpPr>
        <p:spPr>
          <a:xfrm>
            <a:off x="3240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5"/>
              <p:cNvSpPr txBox="1"/>
              <p:nvPr/>
            </p:nvSpPr>
            <p:spPr>
              <a:xfrm>
                <a:off x="5940360" y="5877000"/>
                <a:ext cx="2160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Text Box 26"/>
          <p:cNvSpPr/>
          <p:nvPr/>
        </p:nvSpPr>
        <p:spPr>
          <a:xfrm>
            <a:off x="4716360" y="6093000"/>
            <a:ext cx="10080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1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геометр"/>
          <p:cNvPicPr/>
          <p:nvPr/>
        </p:nvPicPr>
        <p:blipFill>
          <a:blip r:embed="rId1">
            <a:lum contrast="36000"/>
          </a:blip>
          <a:srcRect l="0" t="0" r="13979" b="69737"/>
          <a:stretch/>
        </p:blipFill>
        <p:spPr>
          <a:xfrm>
            <a:off x="1619280" y="189000"/>
            <a:ext cx="591984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геометр"/>
          <p:cNvPicPr/>
          <p:nvPr/>
        </p:nvPicPr>
        <p:blipFill>
          <a:blip r:embed="rId1">
            <a:lum contrast="18000"/>
          </a:blip>
          <a:srcRect l="0" t="36064" r="0" b="33185"/>
          <a:stretch/>
        </p:blipFill>
        <p:spPr>
          <a:xfrm>
            <a:off x="900000" y="189000"/>
            <a:ext cx="7128000" cy="65181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"/>
          <p:cNvSpPr/>
          <p:nvPr/>
        </p:nvSpPr>
        <p:spPr>
          <a:xfrm>
            <a:off x="2411280" y="0"/>
            <a:ext cx="50508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геометр"/>
          <p:cNvPicPr/>
          <p:nvPr/>
        </p:nvPicPr>
        <p:blipFill>
          <a:blip r:embed="rId1">
            <a:lum contrast="18000"/>
          </a:blip>
          <a:srcRect l="0" t="72467" r="0" b="222"/>
          <a:stretch/>
        </p:blipFill>
        <p:spPr>
          <a:xfrm>
            <a:off x="1042920" y="476280"/>
            <a:ext cx="6912000" cy="56134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>
            <a:hlinkClick r:id="" action="ppaction://hlinkshowjump?jump=previousslide"/>
          </p:cNvPr>
          <p:cNvSpPr/>
          <p:nvPr/>
        </p:nvSpPr>
        <p:spPr>
          <a:xfrm>
            <a:off x="8244000" y="638172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2" h="21600">
                <a:moveTo>
                  <a:pt x="13394" y="10800"/>
                </a:moveTo>
                <a:lnTo>
                  <a:pt x="27407" y="3794"/>
                </a:lnTo>
                <a:lnTo>
                  <a:pt x="2740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sotw9_temp0"/>
          <p:cNvPicPr/>
          <p:nvPr/>
        </p:nvPicPr>
        <p:blipFill>
          <a:blip r:embed="rId1"/>
          <a:stretch/>
        </p:blipFill>
        <p:spPr>
          <a:xfrm>
            <a:off x="826920" y="15840"/>
            <a:ext cx="7921800" cy="68421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>
            <a:hlinkClick r:id="" action="ppaction://hlinkshowjump?jump=previous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sotw9_temp0"/>
          <p:cNvPicPr/>
          <p:nvPr/>
        </p:nvPicPr>
        <p:blipFill>
          <a:blip r:embed="rId1">
            <a:grayscl/>
            <a:lum contrast="54000"/>
          </a:blip>
          <a:stretch/>
        </p:blipFill>
        <p:spPr>
          <a:xfrm>
            <a:off x="1042920" y="-22320"/>
            <a:ext cx="701856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>
            <a:hlinkClick r:id="" action="ppaction://hlinkshowjump?jump=previous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10800"/>
                </a:moveTo>
                <a:lnTo>
                  <a:pt x="29067" y="3794"/>
                </a:lnTo>
                <a:lnTo>
                  <a:pt x="2906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19T10:28:34Z</dcterms:modified>
  <cp:revision>10</cp:revision>
  <dc:subject/>
  <dc:title>PowerPoint Presentation</dc:title>
</cp:coreProperties>
</file>