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8.png" ContentType="image/png"/>
  <Override PartName="/ppt/media/whoosh.wav" ContentType="audio/x-wav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B50-43C7-4E06-8B83-A9DB1EFC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D37-3407-4631-943E-41EFEA13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1D4-9A8E-4872-83D6-D3D9AF49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FC23-CEC2-4679-B7C3-E37A0EA9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E18-BFEB-4447-934E-56D05A23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58B-CF19-4B79-BDD3-4597EE09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3C3-5ED8-4E2C-8194-7AD8E0AC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816-F025-47B7-9F04-7FE2A39B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B44-E00D-4DF7-8641-57A8352A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07B-6634-4E77-9D48-FB8A66BE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192-097F-4A74-A524-3CF57DB2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95A-8AD4-4F60-AAE8-13E76AC0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21C4-59C2-469B-9915-17BDEA2048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90;%20&#1060;&#1091;&#1085;&#1082;&#1094;&#1080;&#1080;%20&#1080;%20&#1075;&#1088;&#1072;&#1092;&#1080;&#1082;&#1080;.htm" TargetMode="External"/><Relationship Id="rId2" Type="http://schemas.openxmlformats.org/officeDocument/2006/relationships/hyperlink" Target="file:///&#1090;&#1077;&#1089;&#1090;%20&#1089;&#1080;&#1089;&#1090;&#1077;&#1084;&#1099;.xls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181ff"/>
            </a:gs>
            <a:gs pos="50000">
              <a:srgbClr val="ffffff"/>
            </a:gs>
            <a:gs pos="100000">
              <a:srgbClr val="8181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82947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 страницами школьного учеб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9714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Times New Roman"/>
              </a:rPr>
              <a:t>Графики 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функци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666880" y="53341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214800" y="5715000"/>
            <a:ext cx="5638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яблицева Т. С.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математики высшей категории МОУ гимназии г. Сосновки, Кировской обл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3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900000" y="0"/>
            <a:ext cx="6912000" cy="7039080"/>
            <a:chOff x="900000" y="0"/>
            <a:chExt cx="6912000" cy="7039080"/>
          </a:xfrm>
        </p:grpSpPr>
        <p:pic>
          <p:nvPicPr>
            <p:cNvPr id="90" name="Picture 3" descr="msotw9_temp0"/>
            <p:cNvPicPr/>
            <p:nvPr/>
          </p:nvPicPr>
          <p:blipFill>
            <a:blip r:embed="rId1">
              <a:grayscl/>
              <a:lum contrast="36000"/>
            </a:blip>
            <a:stretch/>
          </p:blipFill>
          <p:spPr>
            <a:xfrm>
              <a:off x="900000" y="0"/>
              <a:ext cx="6912000" cy="686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4"/>
            <p:cNvSpPr/>
            <p:nvPr/>
          </p:nvSpPr>
          <p:spPr>
            <a:xfrm>
              <a:off x="6127200" y="6335280"/>
              <a:ext cx="15688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AutoShape 5">
            <a:hlinkClick r:id="" action="ppaction://hlinkshowjump?jump=previousslide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40"/>
          <p:cNvPicPr/>
          <p:nvPr/>
        </p:nvPicPr>
        <p:blipFill>
          <a:blip r:embed="rId1">
            <a:grayscl/>
            <a:lum contrast="24000"/>
          </a:blip>
          <a:srcRect l="0" t="3438" r="0" b="0"/>
          <a:stretch/>
        </p:blipFill>
        <p:spPr>
          <a:xfrm rot="186000">
            <a:off x="754200" y="258480"/>
            <a:ext cx="7200720" cy="633888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3">
            <a:hlinkClick r:id="" action="ppaction://hlinkshowjump?jump=previousslide"/>
          </p:cNvPr>
          <p:cNvSpPr/>
          <p:nvPr/>
        </p:nvSpPr>
        <p:spPr>
          <a:xfrm>
            <a:off x="8244000" y="6381720"/>
            <a:ext cx="900000" cy="476280"/>
          </a:xfrm>
          <a:custGeom>
            <a:avLst/>
            <a:gdLst>
              <a:gd name="textAreaLeft" fmla="*/ 30600 w 900000"/>
              <a:gd name="textAreaRight" fmla="*/ 869400 w 900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0802" h="21600">
                <a:moveTo>
                  <a:pt x="0" y="0"/>
                </a:moveTo>
                <a:lnTo>
                  <a:pt x="40802" y="0"/>
                </a:lnTo>
                <a:lnTo>
                  <a:pt x="40802" y="21600"/>
                </a:lnTo>
                <a:lnTo>
                  <a:pt x="0" y="21600"/>
                </a:lnTo>
                <a:close/>
              </a:path>
              <a:path fill="lightenLess" w="40802" h="21600">
                <a:moveTo>
                  <a:pt x="0" y="0"/>
                </a:moveTo>
                <a:lnTo>
                  <a:pt x="40802" y="0"/>
                </a:lnTo>
                <a:lnTo>
                  <a:pt x="39402" y="1400"/>
                </a:lnTo>
                <a:lnTo>
                  <a:pt x="1400" y="1400"/>
                </a:lnTo>
                <a:close/>
              </a:path>
              <a:path fill="darken" w="40802" h="21600">
                <a:moveTo>
                  <a:pt x="40802" y="0"/>
                </a:moveTo>
                <a:lnTo>
                  <a:pt x="40802" y="21600"/>
                </a:lnTo>
                <a:lnTo>
                  <a:pt x="39402" y="20200"/>
                </a:lnTo>
                <a:lnTo>
                  <a:pt x="39402" y="1400"/>
                </a:lnTo>
                <a:close/>
              </a:path>
              <a:path fill="darkenLess" w="40802" h="21600">
                <a:moveTo>
                  <a:pt x="40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2" y="20200"/>
                </a:lnTo>
                <a:close/>
              </a:path>
              <a:path fill="lighten" w="40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02" h="21600">
                <a:moveTo>
                  <a:pt x="13394" y="10800"/>
                </a:moveTo>
                <a:lnTo>
                  <a:pt x="27407" y="3794"/>
                </a:lnTo>
                <a:lnTo>
                  <a:pt x="2740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44"/>
          <p:cNvPicPr/>
          <p:nvPr/>
        </p:nvPicPr>
        <p:blipFill>
          <a:blip r:embed="rId1">
            <a:grayscl/>
            <a:lum contrast="42000"/>
          </a:blip>
          <a:stretch/>
        </p:blipFill>
        <p:spPr>
          <a:xfrm>
            <a:off x="1476360" y="0"/>
            <a:ext cx="62643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0" y="6453360"/>
            <a:ext cx="13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>
            <a:hlinkClick r:id="" action="ppaction://hlinkshowjump?jump=previousslide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10800"/>
                </a:moveTo>
                <a:lnTo>
                  <a:pt x="31016" y="3794"/>
                </a:lnTo>
                <a:lnTo>
                  <a:pt x="3101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48"/>
          <p:cNvPicPr/>
          <p:nvPr/>
        </p:nvPicPr>
        <p:blipFill>
          <a:blip r:embed="rId1">
            <a:grayscl/>
            <a:lum contrast="30000"/>
          </a:blip>
          <a:stretch/>
        </p:blipFill>
        <p:spPr>
          <a:xfrm>
            <a:off x="1187280" y="0"/>
            <a:ext cx="66564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3">
            <a:hlinkClick r:id="" action="ppaction://hlinkshowjump?jump=previous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10800"/>
                </a:moveTo>
                <a:lnTo>
                  <a:pt x="29067" y="3794"/>
                </a:lnTo>
                <a:lnTo>
                  <a:pt x="2906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971640" y="4221000"/>
            <a:ext cx="936360" cy="180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53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1332000" y="0"/>
            <a:ext cx="62578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755640" cy="404640"/>
          </a:xfrm>
          <a:custGeom>
            <a:avLst/>
            <a:gdLst>
              <a:gd name="textAreaLeft" fmla="*/ 25920 w 755640"/>
              <a:gd name="textAreaRight" fmla="*/ 729720 w 755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0320" h="21600">
                <a:moveTo>
                  <a:pt x="0" y="0"/>
                </a:moveTo>
                <a:lnTo>
                  <a:pt x="40320" y="0"/>
                </a:lnTo>
                <a:lnTo>
                  <a:pt x="40320" y="21600"/>
                </a:lnTo>
                <a:lnTo>
                  <a:pt x="0" y="21600"/>
                </a:lnTo>
                <a:close/>
              </a:path>
              <a:path fill="lightenLess" w="40320" h="21600">
                <a:moveTo>
                  <a:pt x="0" y="0"/>
                </a:moveTo>
                <a:lnTo>
                  <a:pt x="40320" y="0"/>
                </a:lnTo>
                <a:lnTo>
                  <a:pt x="38920" y="1400"/>
                </a:lnTo>
                <a:lnTo>
                  <a:pt x="1400" y="1400"/>
                </a:lnTo>
                <a:close/>
              </a:path>
              <a:path fill="darken" w="40320" h="21600">
                <a:moveTo>
                  <a:pt x="40320" y="0"/>
                </a:moveTo>
                <a:lnTo>
                  <a:pt x="40320" y="21600"/>
                </a:lnTo>
                <a:lnTo>
                  <a:pt x="38920" y="20200"/>
                </a:lnTo>
                <a:lnTo>
                  <a:pt x="38920" y="1400"/>
                </a:lnTo>
                <a:close/>
              </a:path>
              <a:path fill="darkenLess" w="40320" h="21600">
                <a:moveTo>
                  <a:pt x="40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20" y="20200"/>
                </a:lnTo>
                <a:close/>
              </a:path>
              <a:path fill="lighten" w="40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20" h="21600">
                <a:moveTo>
                  <a:pt x="13154" y="10800"/>
                </a:moveTo>
                <a:lnTo>
                  <a:pt x="27166" y="3794"/>
                </a:lnTo>
                <a:lnTo>
                  <a:pt x="2716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сканирование0014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3">
            <a:hlinkClick r:id="" action="ppaction://hlinkshowjump?jump=previousslide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10800"/>
                </a:moveTo>
                <a:lnTo>
                  <a:pt x="31016" y="3794"/>
                </a:lnTo>
                <a:lnTo>
                  <a:pt x="3101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163000" cy="2951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Проверка знаний учащихся 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по теме 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Графики функций и уравнений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402000"/>
            <a:ext cx="9144000" cy="3456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Проверочный тес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Упражнение «Подумай и выбери!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ворческое зад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0800000">
            <a:off x="608760" y="30600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Monotype Corsiv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Object 3"/>
          <p:cNvGraphicFramePr/>
          <p:nvPr/>
        </p:nvGraphicFramePr>
        <p:xfrm>
          <a:off x="1522440" y="1393920"/>
          <a:ext cx="60958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1393920"/>
                    <a:ext cx="60958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4"/>
          <p:cNvSpPr/>
          <p:nvPr/>
        </p:nvSpPr>
        <p:spPr>
          <a:xfrm>
            <a:off x="1299240" y="0"/>
            <a:ext cx="7518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Monotype Corsiva"/>
              </a:rPr>
              <a:t>«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Глядя на мир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ЕЛЬЗЯ  НЕ УДИВЛЯТЬСЯ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Verdana"/>
              </a:rPr>
              <a:t>КОЗЬМА  ПРУТ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971640" y="1125360"/>
            <a:ext cx="693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Verdana"/>
              </a:rPr>
              <a:t>Геометрический смысл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Verdana"/>
              </a:rPr>
              <a:t>алгебраических неравен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04120" y="2139840"/>
            <a:ext cx="85960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Verdana"/>
              </a:rPr>
              <a:t>Умение строить графики позволяет учащимся овладе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Verdana"/>
              </a:rPr>
              <a:t>темой «Геометрический смысл системы алгебраическ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99"/>
                </a:solidFill>
                <a:latin typeface="Verdana"/>
              </a:rPr>
              <a:t>неравенств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Вашему вниманию представляем задачи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составленные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учащимися  9-го класса гимназии г. Сосн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Задания расположены  в виде теста. Вы можете построи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множество точек плоскости, аналитическим заданием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которого является система,а затем проверить себ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0640" y="-316440"/>
            <a:ext cx="816300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стройте множество точек плоскости, координаты которых удовлетворяют следующим система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1547640" y="1125360"/>
                <a:ext cx="21607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547640" y="2205000"/>
                <a:ext cx="22323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9</m:t>
                            </m:r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1547640" y="3357720"/>
                <a:ext cx="23036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" name="Text Box 6"/>
          <p:cNvSpPr/>
          <p:nvPr/>
        </p:nvSpPr>
        <p:spPr>
          <a:xfrm>
            <a:off x="468360" y="1341360"/>
            <a:ext cx="863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(2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2492280"/>
            <a:ext cx="8269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(4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39640" y="3573360"/>
            <a:ext cx="8272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(4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39640" y="4724280"/>
            <a:ext cx="8272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(5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39640" y="6093000"/>
            <a:ext cx="8272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(5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788000" y="1125360"/>
            <a:ext cx="9363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(5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716360" y="1989000"/>
            <a:ext cx="9367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(2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4716360" y="2924280"/>
            <a:ext cx="863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8(2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4788000" y="3933720"/>
            <a:ext cx="863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(3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4716360" y="5013360"/>
            <a:ext cx="10080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0(3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6"/>
              <p:cNvSpPr txBox="1"/>
              <p:nvPr/>
            </p:nvSpPr>
            <p:spPr>
              <a:xfrm>
                <a:off x="1547640" y="4437000"/>
                <a:ext cx="22323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≤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х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≥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17"/>
              <p:cNvSpPr txBox="1"/>
              <p:nvPr/>
            </p:nvSpPr>
            <p:spPr>
              <a:xfrm>
                <a:off x="1547640" y="5832360"/>
                <a:ext cx="2232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8"/>
              <p:cNvSpPr txBox="1"/>
              <p:nvPr/>
            </p:nvSpPr>
            <p:spPr>
              <a:xfrm>
                <a:off x="5940360" y="907920"/>
                <a:ext cx="18716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19"/>
              <p:cNvSpPr txBox="1"/>
              <p:nvPr/>
            </p:nvSpPr>
            <p:spPr>
              <a:xfrm>
                <a:off x="5940360" y="1844640"/>
                <a:ext cx="187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0"/>
              <p:cNvSpPr txBox="1"/>
              <p:nvPr/>
            </p:nvSpPr>
            <p:spPr>
              <a:xfrm>
                <a:off x="5940360" y="2781360"/>
                <a:ext cx="18716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</m:e>
                            </m:d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Rectangle 21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2"/>
              <p:cNvSpPr txBox="1"/>
              <p:nvPr/>
            </p:nvSpPr>
            <p:spPr>
              <a:xfrm>
                <a:off x="5940360" y="3645000"/>
                <a:ext cx="18716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≥</m:t>
                            </m:r>
                            <m:r>
                              <m:t xml:space="preserve">у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23"/>
              <p:cNvSpPr txBox="1"/>
              <p:nvPr/>
            </p:nvSpPr>
            <p:spPr>
              <a:xfrm>
                <a:off x="5940360" y="4653000"/>
                <a:ext cx="187164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х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у</m:t>
                                </m:r>
                              </m:e>
                            </m:d>
                            <m:r>
                              <m:t xml:space="preserve">≥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у</m:t>
                            </m:r>
                            <m:r>
                              <m:t xml:space="preserve">≥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Rectangle 24"/>
          <p:cNvSpPr/>
          <p:nvPr/>
        </p:nvSpPr>
        <p:spPr>
          <a:xfrm>
            <a:off x="32400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5"/>
              <p:cNvSpPr txBox="1"/>
              <p:nvPr/>
            </p:nvSpPr>
            <p:spPr>
              <a:xfrm>
                <a:off x="5940360" y="5877000"/>
                <a:ext cx="2160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≤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≥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Text Box 26"/>
          <p:cNvSpPr/>
          <p:nvPr/>
        </p:nvSpPr>
        <p:spPr>
          <a:xfrm>
            <a:off x="4716360" y="6093000"/>
            <a:ext cx="10080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1(2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геометр"/>
          <p:cNvPicPr/>
          <p:nvPr/>
        </p:nvPicPr>
        <p:blipFill>
          <a:blip r:embed="rId1">
            <a:lum contrast="36000"/>
          </a:blip>
          <a:srcRect l="0" t="0" r="13979" b="69737"/>
          <a:stretch/>
        </p:blipFill>
        <p:spPr>
          <a:xfrm>
            <a:off x="1619280" y="189000"/>
            <a:ext cx="5919840" cy="61927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геометр"/>
          <p:cNvPicPr/>
          <p:nvPr/>
        </p:nvPicPr>
        <p:blipFill>
          <a:blip r:embed="rId1">
            <a:lum contrast="18000"/>
          </a:blip>
          <a:srcRect l="0" t="36064" r="0" b="33185"/>
          <a:stretch/>
        </p:blipFill>
        <p:spPr>
          <a:xfrm>
            <a:off x="900000" y="189000"/>
            <a:ext cx="7128000" cy="65181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3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"/>
          <p:cNvSpPr/>
          <p:nvPr/>
        </p:nvSpPr>
        <p:spPr>
          <a:xfrm>
            <a:off x="2411280" y="0"/>
            <a:ext cx="505080" cy="620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геометр"/>
          <p:cNvPicPr/>
          <p:nvPr/>
        </p:nvPicPr>
        <p:blipFill>
          <a:blip r:embed="rId1">
            <a:lum contrast="18000"/>
          </a:blip>
          <a:srcRect l="0" t="72467" r="0" b="222"/>
          <a:stretch/>
        </p:blipFill>
        <p:spPr>
          <a:xfrm>
            <a:off x="1042920" y="476280"/>
            <a:ext cx="6912000" cy="56134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">
            <a:hlinkClick r:id="" action="ppaction://hlinkshowjump?jump=previousslide"/>
          </p:cNvPr>
          <p:cNvSpPr/>
          <p:nvPr/>
        </p:nvSpPr>
        <p:spPr>
          <a:xfrm>
            <a:off x="8244000" y="6381720"/>
            <a:ext cx="900000" cy="476280"/>
          </a:xfrm>
          <a:custGeom>
            <a:avLst/>
            <a:gdLst>
              <a:gd name="textAreaLeft" fmla="*/ 30600 w 900000"/>
              <a:gd name="textAreaRight" fmla="*/ 869400 w 900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0802" h="21600">
                <a:moveTo>
                  <a:pt x="0" y="0"/>
                </a:moveTo>
                <a:lnTo>
                  <a:pt x="40802" y="0"/>
                </a:lnTo>
                <a:lnTo>
                  <a:pt x="40802" y="21600"/>
                </a:lnTo>
                <a:lnTo>
                  <a:pt x="0" y="21600"/>
                </a:lnTo>
                <a:close/>
              </a:path>
              <a:path fill="lightenLess" w="40802" h="21600">
                <a:moveTo>
                  <a:pt x="0" y="0"/>
                </a:moveTo>
                <a:lnTo>
                  <a:pt x="40802" y="0"/>
                </a:lnTo>
                <a:lnTo>
                  <a:pt x="39402" y="1400"/>
                </a:lnTo>
                <a:lnTo>
                  <a:pt x="1400" y="1400"/>
                </a:lnTo>
                <a:close/>
              </a:path>
              <a:path fill="darken" w="40802" h="21600">
                <a:moveTo>
                  <a:pt x="40802" y="0"/>
                </a:moveTo>
                <a:lnTo>
                  <a:pt x="40802" y="21600"/>
                </a:lnTo>
                <a:lnTo>
                  <a:pt x="39402" y="20200"/>
                </a:lnTo>
                <a:lnTo>
                  <a:pt x="39402" y="1400"/>
                </a:lnTo>
                <a:close/>
              </a:path>
              <a:path fill="darkenLess" w="40802" h="21600">
                <a:moveTo>
                  <a:pt x="40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2" y="20200"/>
                </a:lnTo>
                <a:close/>
              </a:path>
              <a:path fill="lighten" w="40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02" h="21600">
                <a:moveTo>
                  <a:pt x="13394" y="10800"/>
                </a:moveTo>
                <a:lnTo>
                  <a:pt x="27407" y="3794"/>
                </a:lnTo>
                <a:lnTo>
                  <a:pt x="2740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sotw9_temp0"/>
          <p:cNvPicPr/>
          <p:nvPr/>
        </p:nvPicPr>
        <p:blipFill>
          <a:blip r:embed="rId1"/>
          <a:stretch/>
        </p:blipFill>
        <p:spPr>
          <a:xfrm>
            <a:off x="826920" y="15840"/>
            <a:ext cx="7921800" cy="68421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">
            <a:hlinkClick r:id="" action="ppaction://hlinkshowjump?jump=previousslide"/>
          </p:cNvPr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msotw9_temp0"/>
          <p:cNvPicPr/>
          <p:nvPr/>
        </p:nvPicPr>
        <p:blipFill>
          <a:blip r:embed="rId1">
            <a:grayscl/>
            <a:lum contrast="54000"/>
          </a:blip>
          <a:stretch/>
        </p:blipFill>
        <p:spPr>
          <a:xfrm>
            <a:off x="1042920" y="-22320"/>
            <a:ext cx="701856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>
            <a:hlinkClick r:id="" action="ppaction://hlinkshowjump?jump=previousslide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10800"/>
                </a:moveTo>
                <a:lnTo>
                  <a:pt x="29067" y="3794"/>
                </a:lnTo>
                <a:lnTo>
                  <a:pt x="2906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19T10:28:34Z</dcterms:modified>
  <cp:revision>10</cp:revision>
  <dc:subject/>
  <dc:title>PowerPoint Presentation</dc:title>
</cp:coreProperties>
</file>