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2.gif" ContentType="image/gif"/>
  <Override PartName="/ppt/media/image3.jpeg" ContentType="image/jpeg"/>
  <Override PartName="/ppt/media/image15.png" ContentType="image/png"/>
  <Override PartName="/ppt/media/image24.jpeg" ContentType="image/jpeg"/>
  <Override PartName="/ppt/media/image7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9.png" ContentType="image/png"/>
  <Override PartName="/ppt/media/image5.gif" ContentType="image/gif"/>
  <Override PartName="/ppt/media/image8.png" ContentType="image/png"/>
  <Override PartName="/ppt/media/image13.png" ContentType="image/png"/>
  <Override PartName="/ppt/media/image4.gif" ContentType="image/gif"/>
  <Override PartName="/ppt/media/image22.jpeg" ContentType="image/jpeg"/>
  <Override PartName="/ppt/media/image29.jpeg" ContentType="image/jpeg"/>
  <Override PartName="/ppt/media/image27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8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gif" ContentType="image/gif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F9B-750A-4BD2-ADCA-FFED4391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B967-EC13-4916-9064-CDD92946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7AD-8F14-43DC-B09A-C4639CBD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F37-A45B-4E25-9BBE-0B315DA8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B7C9-226D-49FF-849B-6D16A974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7B0-8BA0-4290-8D77-47511006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FB1-B20D-4CE0-9FA0-3AA43153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26A-034E-4423-9A7E-BB981A91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5F1-8B8F-457B-AD23-E728E51F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42A-8F48-4A06-93B5-FDAB2BA0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FD1-4E11-4E3A-90C5-D4818A1B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A56-4F74-4519-A6F4-4A5BB7E6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D3D3-C760-4DF0-944B-4437EB7BC1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3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gif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04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эзия кубанских поэтов о вой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ного стихов В.Архипов посвятил Отечественной войне, хотя, конечно, не видел её наяву: когда она началась, будущему поэту не было и двух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842472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000" y="404640"/>
            <a:ext cx="84963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Начинается Куба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С полуострова Тама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Край морей, полей и гор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Просто сказочный простор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Да, война – большое г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Враг не даст живому ж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Землю нашу вместе с мор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Он собрался проглот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Словно хищный Змей-Горыны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Когти в небе распростё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Встал народ стеной еди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Чтобы дать врагу отп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Где от боли камни вы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Где свистел свинцовый гра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Воевал солдат Васили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Самый младший мамин брат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6720" y="2857680"/>
            <a:ext cx="3382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бедин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3430800" cy="2539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360" y="1506600"/>
            <a:ext cx="57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Бой гремел в горах у м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Преграждая путь враг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Он врага косил под кор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Как в родных лугах тра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Но раздался взрыв космат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Бомбой солнышко закр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И геройского солд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Глубоко похорони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Немцы к морю не прош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Где солда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А нет солда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Он сокрылся в глубь земл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1468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16 июня 1927 года в Краснодаре родился Виталий Бакалдин, будущий поэт Кубани. Война застала его в Краснодаре, ему было 15. Полгода немецко-фашистской оккупации, бои за освобождение города оставили неизгладимый след в сердце юноши. В победном 1945 году он поступает в пединститут, а потом долгие годы работает учителем русского языка и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583920" cy="583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908000" y="2565360"/>
            <a:ext cx="55454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68313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«Я не рос среди берёз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888120"/>
            <a:ext cx="403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Я не рос среди бере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Я не рос под ел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Мне не пел седой мо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Вьюгами-мете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Я черемух не лом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очью под окошк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Сок березы не пи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И грибов не соби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Целыми лукош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а Кубани вырос 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Мне родней, понят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аши южные кр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Степи необъят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Горы хлеба до небе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Ветки вишен ал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Если лес – так южны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Перед перева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И понятен мне приб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Дикий ли, задумчив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Разговор волны с вол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Я как стих заучив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837360"/>
            <a:ext cx="4103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Я запомнил у крыль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Тополя зеле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Черномазого скво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Песни немудре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В завитушках виногра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Горы седовлас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И поток, что вечно 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Меж теснин отплясыва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о, наверно, пот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Что рожден в России 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е пойму в каком кра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Где у нас красив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Вид везде знакомый, с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Близким с детства кажетс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ад Окою ли ре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На Кавказе кряжис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Велики у нас кра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Вся земля российс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И везде она мо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Потому и близк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84720" y="3645000"/>
            <a:ext cx="2578320" cy="2066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712800" y="3573360"/>
            <a:ext cx="1938240" cy="2232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40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Вторая мировая война прошла по кубанской земле, как тяжёлые гусеницы немецкой «пантеры», втаптывающие в грязь ранние всх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553160" y="189000"/>
            <a:ext cx="1590840" cy="1361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68360" y="5229360"/>
            <a:ext cx="8280360" cy="1218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140360" y="429264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7514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743200" y="691920"/>
            <a:ext cx="64008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шляпке гильзу вынес рыж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з-под земли... Здесь окру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ыл взвод стрелковый из мальчише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 знавших ни невест, ни ж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едолго длилось тут сраж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 за неполных пол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звод вырвался из окружен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 клубами дыма, в небес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3132000" cy="299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rot="18790200">
            <a:off x="1161720" y="5325840"/>
            <a:ext cx="1523880" cy="1904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020000" y="3573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80000" y="1216080"/>
            <a:ext cx="508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На шляпке гильзу вынес рыж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Из-под земли…Здесь окруж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Был взвод стрелковый из мальчи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Не знавших ни невест, ни жё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Недолго длилось тут сражен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И за неполных пол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Взвод вырвался из окруже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С клубами дыма, в неб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6599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Познакомиться с поэзией кубанских поэтов о 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Уметь анализировать сти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Воспитывать любовь к родному краю, чувство гордости за подвиг кубан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788000" y="4941720"/>
            <a:ext cx="3166920" cy="1327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7380360" y="260280"/>
            <a:ext cx="1211040" cy="1211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161748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Великая Отечественная во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Так написал кубанский поэт Николай Зиновьев, ведь война не обошла  и его сторо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7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Я своего совсем не помню де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Но это вовсе не моя в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Его взяла Великая Побе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А, если проще: отняла вой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1766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Поэзия- самый оперативный, самый популярный жанр военных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3565440" cy="410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788000" y="5157720"/>
            <a:ext cx="35956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Николай Зиновьев родился 10 апреля 1960 году в Кореновске Краснодарского края. Учился в ПТУ, станкостроительном техникуме, на филфаке Кубанского государственного университета, занимался делом, далёким от литературы: работал на стройке, грузчиком, электросварщиком. Начал писать стихи в зрелом возрасте. В 1987 году выходит его первый сборник стихов «Я иду по зем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51640" y="2421000"/>
            <a:ext cx="2884320" cy="3816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1280" y="3952800"/>
            <a:ext cx="528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В 1993 году произошло чу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Его с триумфом приняли в Союз Пис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России в Москве, хотя и вышла его тогда только одна кни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699444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День Поб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Воспетый и в стихах, и в пьес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Он, как отец к своим сын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Уже полвека на протез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Что ни весна, приходит к 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Он и страшнее, и прекрас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Всех отмечаемых год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Один такой в России праздник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И слава Богу, что од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156360" y="4581360"/>
            <a:ext cx="2987640" cy="2013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419640" y="5157720"/>
            <a:ext cx="1846080" cy="138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 rot="5255400">
            <a:off x="2170080" y="5470200"/>
            <a:ext cx="1523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ладимир Афанасьевич Архипов- кубанский поэт, хотя и родился на вятской земле, родине знаменитых художников Васнецовых 11ноября 1939года. Более 30 лет живёт и работает на Кубани. Окончил литературный институт в Москве, работал в газетах. За свои творческие труды дважды награждён Золотым пером Куб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2764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427640" y="620640"/>
            <a:ext cx="4392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16:15:00Z</dcterms:created>
  <dc:creator>пользователь</dc:creator>
  <dc:description/>
  <dc:language>en-US</dc:language>
  <cp:lastModifiedBy>Андрей Кеша</cp:lastModifiedBy>
  <dcterms:modified xsi:type="dcterms:W3CDTF">2010-04-25T17:00:07Z</dcterms:modified>
  <cp:revision>41</cp:revision>
  <dc:subject/>
  <dc:title>Литература периода Великой Отечественной войны. Поэзия.</dc:title>
</cp:coreProperties>
</file>