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gif" ContentType="image/gif"/>
  <Override PartName="/ppt/media/image3.jpeg" ContentType="image/jpeg"/>
  <Override PartName="/ppt/media/image15.png" ContentType="image/png"/>
  <Override PartName="/ppt/media/image24.jpeg" ContentType="image/jpe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22.jpeg" ContentType="image/jpeg"/>
  <Override PartName="/ppt/media/image29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D38-3380-4B38-8F96-B89C3A02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563-D625-49B2-A0FF-C6FB1E41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810-1E3E-4ECB-A0EE-5391E3C3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92B-08D0-4D59-B074-1306A6A5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F1F-73AD-4E3A-A23B-A1D61657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7DC-D9AD-46DC-8FF5-B61DF785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D37-8CDF-4AF3-A7A5-06BE4639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32D-0A18-4C20-8B02-8F03C0AF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DB9-FECA-4DDA-AFE7-3E92DB2C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328-3FB2-422B-B7C6-BA02A71B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44D-5D03-48F6-A346-FE73E94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835-81A2-4492-8E6A-4CC17FDF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8CC9-D65F-42F1-A297-928E213C7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gi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эзия кубанских поэтов о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ного стихов В.Архипов посвятил Отечественной войне, хотя, конечно, не видел её наяву: когда она началась, будущему поэту не было и дву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247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000" y="404640"/>
            <a:ext cx="849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чинается Куба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 полуострова Там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рай морей, полей и гор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росто сказочный просто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Да, война – большое г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раг не даст живому ж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Землю нашу вместе с мо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н собрался прогло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ловно хищный Змей-Горын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огти в небе распростё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стал народ стеной еди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Чтобы дать врагу от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де от боли камни вы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де свистел свинцовый гра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оевал солдат Васили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амый младший мамин брат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6720" y="2857680"/>
            <a:ext cx="338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беди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430800" cy="2539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1506600"/>
            <a:ext cx="57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Бой гремел в горах у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реграждая путь вра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Он врага косил под кор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Как в родных лугах тра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Но раздался взрыв косма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Бомбой солнышко закр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И геройского сол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Глубоко похорони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Немцы к морю не про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Где солд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А нет солда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Он сокрылся в глубь зем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146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16 июня 1927 года в Краснодаре родился Виталий Бакалдин, будущий поэт Кубани. Война застала его в Краснодаре, ему было 15. Полгода немецко-фашистской оккупации, бои за освобождение города оставили неизгладимый след в сердце юноши. В победном 1945 году он поступает в пединститут, а потом долгие годы работает учителем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908000" y="2565360"/>
            <a:ext cx="55454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831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«Я не рос среди берё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888120"/>
            <a:ext cx="403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не рос среди бере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не рос под ел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не не пел седой мо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ьюгами-ме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черемух не ло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очью под окош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ок березы не пи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грибов не соби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Целыми луко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 Кубани вырос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не родней, понят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ши южные кр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тепи необъят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оры хлеба до небе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етки вишен ал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Если лес – так юж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еред перев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понятен мне приб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Дикий ли, задумчи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Разговор волны с вол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как стих заучи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83736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запомнил у кры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Тополя зеле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Черномазого скво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есни немудре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 завитушках виногр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оры седовлас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поток, что вечно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еж теснин отплясыв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о, наверно, по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Что рожден в России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е пойму в каком кр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де у нас крас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ид везде знакомый, с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Близким с детства кажетс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д Окою ли ре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 Кавказе кряжи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елики у нас кра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ся земля россий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везде она мо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отому и близ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578320" cy="20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712800" y="3573360"/>
            <a:ext cx="193824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40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Вторая мировая война прошла по кубанской земле, как тяжёлые гусеницы немецкой «пантеры», втаптывающие в грязь ранние всх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553160" y="189000"/>
            <a:ext cx="159084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68360" y="5229360"/>
            <a:ext cx="828036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51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743200" y="691920"/>
            <a:ext cx="6400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шляпке гильзу вынес рыж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-под земли... Здесь окр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 взвод стрелковый из мальчиш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знавших ни невест, ни 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долго длилось тут сраж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за неполных пол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звод вырвался из окруже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 клубами дыма, в небес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3132000" cy="299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18790200">
            <a:off x="1161720" y="532584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20000" y="357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80000" y="1216080"/>
            <a:ext cx="508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а шляпке гильзу вынес ры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з-под земли…Здесь окру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Был взвод стрелковый из мальчи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 знавших ни невест, ни ж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долго длилось тут сраж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 за неполных пол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Взвод вырвался из окруж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С клубами дыма, в неб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659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ознакомиться с поэзией кубанских поэтов о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Уметь анализировать 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оспитывать любовь к родному краю, чувство гордости за подвиг куба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88000" y="4941720"/>
            <a:ext cx="3166920" cy="1327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7380360" y="260280"/>
            <a:ext cx="1211040" cy="121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16174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Так написал кубанский поэт Николай Зиновьев, ведь война не обошла  и его сторо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Я своего совсем не помню д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о это вовсе не моя 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Его взяла Великая Поб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, если проще: отняла во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17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Поэзия- самый оперативный, самый популярный жанр военных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565440" cy="410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88000" y="5157720"/>
            <a:ext cx="35956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Николай Зиновьев родился 10 апреля 1960 году в Кореновске Краснодарского края. Учился в ПТУ, станкостроительном техникуме, на филфаке Кубанского государственного университета, занимался делом, далёким от литературы: работал на стройке, грузчиком, электросварщиком. Начал писать стихи в зрелом возрасте. В 1987 году выходит его первый сборник стихов «Я иду по зем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2884320" cy="381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3952800"/>
            <a:ext cx="52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 1993 году произошло чу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Его с триумфом приняли в Союз Пис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России в Москве, хотя и вышла его тогда только одна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6994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День Поб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оспетый и в стихах, и в пьес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н, как отец к своим сын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Уже полвека на протез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Что ни весна, приходит к 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н и страшнее, и прекрас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сех отмечаемых г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дин такой в России праздник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И слава Богу, что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2987640" cy="2013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419640" y="5157720"/>
            <a:ext cx="1846080" cy="13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 rot="5255400">
            <a:off x="2170080" y="5470200"/>
            <a:ext cx="1523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ладимир Афанасьевич Архипов- кубанский поэт, хотя и родился на вятской земле, родине знаменитых художников Васнецовых 11ноября 1939года. Более 30 лет живёт и работает на Кубани. Окончил литературный институт в Москве, работал в газетах. За свои творческие труды дважды награждён Золотым пером Куб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92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6:15:00Z</dcterms:created>
  <dc:creator>пользователь</dc:creator>
  <dc:description/>
  <dc:language>en-US</dc:language>
  <cp:lastModifiedBy>Андрей Кеша</cp:lastModifiedBy>
  <dcterms:modified xsi:type="dcterms:W3CDTF">2010-04-25T17:00:07Z</dcterms:modified>
  <cp:revision>41</cp:revision>
  <dc:subject/>
  <dc:title>Литература периода Великой Отечественной войны. Поэзия.</dc:title>
</cp:coreProperties>
</file>