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22.jpeg" ContentType="image/jpeg"/>
  <Override PartName="/ppt/media/image29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E25-6741-4123-88AD-097F65FC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2CD-D685-4DA1-A560-9FFB0AE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412-0545-42C2-BCB3-FAC4E712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F3F-7595-479C-8E8B-72F6251A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0F4-DE4E-458F-9A24-4BC1F246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1F1-89C2-4715-A3F5-553C2A4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55F-E449-4BFA-B796-D0AF23CA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3FF-0A13-441D-BCAF-B52CF90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394-7FC7-40AF-8D14-1D142748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A28-2FEC-4859-90AC-641803B4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4E5-B38C-4DEB-AAB8-1E9F757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BD9-57C4-47E6-94C5-2F2B7E0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768-D1EF-4D72-B373-DDCE3E299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эзия кубанских поэтов о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 стихов В.Архипов посвятил Отечественной войне, хотя, конечно, не видел её наяву: когда она началась, будущему поэту не было и дву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24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404640"/>
            <a:ext cx="84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чинается Куб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 полуострова Там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ай морей, полей и гор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осто сказочный прос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Да, война – большое г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раг не даст живому 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Землю нашу вместе с мо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 собрался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ловно хищный Змей-Горын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огти в небе распрост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стал народ стеной еди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Чтобы дать врагу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от боли камни вы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свистел свинцовый гра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оевал солдат Васили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амый младший мамин брат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6720" y="2857680"/>
            <a:ext cx="338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беди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430800" cy="253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1506600"/>
            <a:ext cx="57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й гремел в горах у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еграждая путь вра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врага косил под кор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Как в родных лугах тр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о раздался взрыв косм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мбой солнышко за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 геройского сол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лубоко похорони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емцы к морю не пр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де солд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 нет солд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сокрылся в глубь зем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14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6 июня 1927 года в Краснодаре родился Виталий Бакалдин, будущий поэт Кубани. Война застала его в Краснодаре, ему было 15. Полгода немецко-фашистской оккупации, бои за освобождение города оставили неизгладимый след в сердце юноши. В победном 1945 году он поступает в пединститут, а потом долгие годы работает учителем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5545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831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«Я не рос среди берё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888120"/>
            <a:ext cx="403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среди бере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под 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не пел седой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ьюгами-ме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черемух не ло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чью под окош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ок березы не пи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грибов не соби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Целыми лук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убани вырос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родней, понят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ши южные кр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тепи необъят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хлеба до неб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тки вишен ал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Если лес – так юж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ред перев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нятен мне при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Дикий ли, задумчи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азговор волны с вол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как стих заучи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837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запомнил у кры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Тополя зел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ерномазого ск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сни немудр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 завитушках виногр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седовлас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ток, что вечно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еж теснин отплясы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, наверно, по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то рожден в Росси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е пойму в каком кр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де у нас крас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ид везде знакомый, с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Близким с детства кажетс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д Окою ли ре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авказе кряжи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лики у нас кра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ся земля росс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везде она мо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отому и близ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578320" cy="20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12800" y="3573360"/>
            <a:ext cx="19382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4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Вторая мировая война прошла по кубанской земле, как тяжёлые гусеницы немецкой «пантеры», втаптывающие в грязь ранние всх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53160" y="189000"/>
            <a:ext cx="159084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5229360"/>
            <a:ext cx="82803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51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743200" y="691920"/>
            <a:ext cx="6400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шляпке гильзу вынес ры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-под земли... Здесь окр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взвод стрелковый из мальчиш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знавших ни невест, ни 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долго длилось тут сраж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неполных пол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звод вырвался из окруж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 клубами дыма, в небес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132000" cy="299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8790200">
            <a:off x="1161720" y="532584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20000" y="35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80000" y="1216080"/>
            <a:ext cx="50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а шляпке гильзу вынес ры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з-под земли…Здесь окру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Был взвод стрелковый из мальч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 знавших ни невест, ни ж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долго длилось тут сраж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 за неполных пол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Взвод вырвался из окруж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 клубами дыма, в неб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659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ознакомиться с поэзией кубанских поэтов о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Уметь анализировать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оспитывать любовь к родному краю, чувство гордости за подвиг куб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4941720"/>
            <a:ext cx="3166920" cy="132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7380360" y="260280"/>
            <a:ext cx="1211040" cy="121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6174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ак написал кубанский поэт Николай Зиновьев, ведь война не обошла  и его сторо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Я своего совсем не помню д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о это вовсе не моя 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Его взяла Великая Поб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, если проще: отняла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7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Поэзия- самый оперативный, самый популярный жанр военны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565440" cy="410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157720"/>
            <a:ext cx="3595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Николай Зиновьев родился 10 апреля 1960 году в Кореновске Краснодарского края. Учился в ПТУ, станкостроительном техникуме, на филфаке Кубанского государственного университета, занимался делом, далёким от литературы: работал на стройке, грузчиком, электросварщиком. Начал писать стихи в зрелом возрасте. В 1987 году выходит его первый сборник стихов «Я иду по зем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2884320" cy="381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3952800"/>
            <a:ext cx="52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 1993 году произошло чу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Его с триумфом приняли в Союз Пис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оссии в Москве, хотя и вышла его тогда только одна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6994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День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оспетый и в стихах, и в пьес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, как отец к своим сы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Уже полвека на протез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Что ни весна, приходит к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 и страшнее, и прекрас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сех отмечаемых г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дин такой в России праздни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И слава Богу, что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987640" cy="2013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184608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 rot="5255400">
            <a:off x="2170080" y="547020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ладимир Афанасьевич Архипов- кубанский поэт, хотя и родился на вятской земле, родине знаменитых художников Васнецовых 11ноября 1939года. Более 30 лет живёт и работает на Кубани. Окончил литературный институт в Москве, работал в газетах. За свои творческие труды дважды награждён Золотым пером Куб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6:15:00Z</dcterms:created>
  <dc:creator>пользователь</dc:creator>
  <dc:description/>
  <dc:language>en-US</dc:language>
  <cp:lastModifiedBy>Андрей Кеша</cp:lastModifiedBy>
  <dcterms:modified xsi:type="dcterms:W3CDTF">2010-04-25T17:00:07Z</dcterms:modified>
  <cp:revision>41</cp:revision>
  <dc:subject/>
  <dc:title>Литература периода Великой Отечественной войны. Поэзия.</dc:title>
</cp:coreProperties>
</file>