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404-3865-476D-ACDB-F026FBEC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296-5B45-4345-883D-0C40E2E2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067-9135-4474-91BF-58F02DC3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BB6-1831-4D20-918A-07748B09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C9B6-4BCF-4E45-AEEC-F4CA5515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46A7-2FBC-4AEA-8C2D-1FE211ED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312-230B-48FD-8ECF-18A389F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507-1CA3-4F70-9591-91A0385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D30F-05C3-4615-9661-609CCD40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B35E-A065-4BFF-A128-5E023DC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9169-330B-4E3D-B0E9-FBC6070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4B1-57DC-4675-AF8C-91BDD41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470-F78A-4E24-8685-DEF043F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D90A-9598-4B4C-836E-086AA15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006-35C1-4E1A-BBD0-31F3D72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374-8AEA-4D67-BBA9-48EEF27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C38-8087-42C9-A43D-ACC065F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5D4-207C-42CA-B0EC-8070280F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21F-379A-43D6-87B8-988E2F2B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F4D-6FC8-4A55-97B2-B9BE970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5BB-E2A8-4307-A8B3-3C7B39C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D38-F68E-4E16-9511-4A542A6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C29-B72B-44DF-B8D2-029FF68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F74-2147-4E95-9FBE-1D24FE3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429228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EAAEBBD-F71F-4A55-936D-7E7D25B639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387-632C-4BAA-B350-CDAEE0B3EC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Зависимость ускорения тела от его массы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33744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E40-8EFB-4157-92F3-A5221930D65A}" type="slidenum">
              <a:t>11</a:t>
            </a:fld>
          </a:p>
        </p:txBody>
      </p:sp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Проверка справедливости соотношени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"/>
          <p:cNvSpPr/>
          <p:nvPr/>
        </p:nvSpPr>
        <p:spPr>
          <a:xfrm>
            <a:off x="1872000" y="1828800"/>
            <a:ext cx="141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  <a:ea typeface="宋体"/>
              </a:rPr>
              <a:t>a ~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19720" y="1447920"/>
            <a:ext cx="2286000" cy="1523880"/>
            <a:chOff x="4419720" y="1447920"/>
            <a:chExt cx="2286000" cy="1523880"/>
          </a:xfrm>
        </p:grpSpPr>
        <p:sp>
          <p:nvSpPr>
            <p:cNvPr id="213" name=""/>
            <p:cNvSpPr/>
            <p:nvPr/>
          </p:nvSpPr>
          <p:spPr>
            <a:xfrm>
              <a:off x="4419720" y="1447920"/>
              <a:ext cx="110016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Bookman Old Style"/>
                  <a:ea typeface="宋体"/>
                </a:rPr>
                <a:t>a ~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486400" y="1447920"/>
                  <a:ext cx="121932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" name=""/>
          <p:cNvSpPr/>
          <p:nvPr/>
        </p:nvSpPr>
        <p:spPr>
          <a:xfrm>
            <a:off x="186120" y="3121200"/>
            <a:ext cx="86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Движение тележки считаем равноус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без начальной скорости, поэтому ускорен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ычисля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76720" y="4419720"/>
                <a:ext cx="2361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28-F1FA-48C4-BEC3-0EF8898BD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Демонстрационный эксперимент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31820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4B4-FB63-4715-BB80-EA6E49D1CB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FC6-3C43-40C0-A40A-F28A840E6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полните пропуск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действием постоянной силы тело движется 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при неизменной массе тела увеличить силу в 2 раза, то ускорение …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массу тела уменьшить в 4 раза, а силу, действующую на тело, увеличить в 2 раза, то ускорение …  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силу увеличить в 3 раза, а массу …             , то ускорение останется неизменны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4" name=""/>
          <p:cNvSpPr/>
          <p:nvPr/>
        </p:nvSpPr>
        <p:spPr>
          <a:xfrm>
            <a:off x="940680" y="1989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авноускор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08120" y="2781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48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7760" y="393372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476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5680" y="4365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9FC-E1AC-4F7E-9966-A614490C69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Упр.11(1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корость приобретает тело массой 3кг под действием силы, равной 9 Н, по истечении 5 с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9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езд массой 500 т, трогаясь с места, через 25 с набрал скорос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18 км/ч. Определите силу тяги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88E-ADF9-44FC-BAA3-12DA5E3DC4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§ 11, вопросы после параграфа, Упр.11(2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582-0B65-4ECE-A81A-A543BA6FA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DC7-0269-4C0A-A726-FFB6FDABD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440" y="50652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43600" y="91764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352440"/>
            <a:ext cx="116856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75440" y="92088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3720" y="367524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4880" y="408636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2280" y="3521160"/>
            <a:ext cx="116820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6720" y="408924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90C-3576-49FC-8CD7-A09E406501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4120" y="5493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8800" y="5968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4640" y="90180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6640" y="9032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2709720"/>
            <a:ext cx="858600" cy="49860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8800" y="275760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4640" y="306216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6640" y="306396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64120" y="47991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8800" y="48466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4640" y="5151600"/>
            <a:ext cx="325440" cy="288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6640" y="51530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4B5-AB3E-497E-81F7-FF2BAD6E8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46" name="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EAD-C397-4A0A-A0D3-22B64CDB3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62480" y="2462040"/>
            <a:ext cx="9360" cy="1266840"/>
          </a:xfrm>
          <a:custGeom>
            <a:avLst/>
            <a:gdLst/>
            <a:ahLst/>
            <a:rect l="l" t="t" r="r" b="b"/>
            <a:pathLst>
              <a:path w="6" h="798">
                <a:moveTo>
                  <a:pt x="0" y="0"/>
                </a:moveTo>
                <a:lnTo>
                  <a:pt x="6" y="7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2480" y="1442880"/>
            <a:ext cx="1440" cy="1290960"/>
          </a:xfrm>
          <a:custGeom>
            <a:avLst/>
            <a:gdLst/>
            <a:ahLst/>
            <a:rect l="l" t="t" r="r" b="b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523880"/>
            <a:ext cx="552600" cy="1328760"/>
          </a:xfrm>
          <a:custGeom>
            <a:avLst/>
            <a:gdLst/>
            <a:ahLst/>
            <a:rect l="l" t="t" r="r" b="b"/>
            <a:pathLst>
              <a:path w="348" h="837">
                <a:moveTo>
                  <a:pt x="0" y="837"/>
                </a:move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43520" y="2433600"/>
            <a:ext cx="938160" cy="419040"/>
          </a:xfrm>
          <a:custGeom>
            <a:avLst/>
            <a:gdLst/>
            <a:ahLst/>
            <a:rect l="l" t="t" r="r" b="b"/>
            <a:pathLst>
              <a:path w="591" h="264">
                <a:moveTo>
                  <a:pt x="591" y="26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166" name="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169" name="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172" name="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175" name="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178" name="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181" name="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184" name="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80880" y="4267080"/>
                <a:ext cx="493416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ез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числ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 txBox="1"/>
          <p:nvPr/>
        </p:nvSpPr>
        <p:spPr>
          <a:xfrm>
            <a:off x="5562720" y="5181480"/>
            <a:ext cx="5364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а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029200"/>
            <a:ext cx="609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Fре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4724280"/>
            <a:ext cx="60948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7712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8168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3ED-0A5C-407F-8CA0-6DD3460333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Равнодействующая сил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616720" cy="45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5F8-513E-4543-B66C-BC4135CE3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7672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12000" y="3789360"/>
                <a:ext cx="174924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Н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5F8-1BA1-451F-AFDB-CC2C18D372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114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F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CC4-54E3-4744-B0F9-74B23FBA7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Adel</cp:lastModifiedBy>
  <dcterms:modified xsi:type="dcterms:W3CDTF">2013-03-19T12:53:57Z</dcterms:modified>
  <cp:revision>30</cp:revision>
  <dc:subject/>
  <dc:title>Второй закон Ньютона</dc:title>
</cp:coreProperties>
</file>