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A91-FBA2-4398-A2DD-B4FD4F6C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30D-893A-412D-9F8E-FFFFCFF2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FA9-E5D2-43FE-B242-35A5A22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95A-0A5D-4CA6-985E-498DF48F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71D7-76BA-431D-89C2-9A3E0990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714F-E9CB-44BC-980B-311DE18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4483-A2B1-4626-BFB7-FD575AA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EFE-26C0-4612-88F1-64E61D2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055-D98F-40EE-AC24-3ECD250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211-8E80-40CD-82B9-E7AD097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37D7-A6C1-480E-9D91-6D4F134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7F5-01F4-45F0-BD40-9C3F93D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699-B159-4686-964D-B6DC07E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CB61-9AC5-4E19-B6FB-4917A1C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9CF6-C9BC-4440-9257-A72FD91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79A8-210D-4B6E-AE2F-41CEC4E9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0E3-7016-4FDD-A570-93AF0199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C37-5B1B-4FE4-95D3-AE8FD1D6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7F0-F976-48B0-9EB4-8DBFB0C8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F5F-C7A4-4860-B13C-CF8D7066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9C3-B677-43AE-9B16-769C0A4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B55-A12D-403C-BAC5-E73C8FE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7B8-0656-4DC2-B876-FC8E8F7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626-908E-4819-AEE3-A7925C7F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429228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DB2109-48F0-4C57-A587-8FCC2BF81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585-729B-4CE5-BDC9-26812204D4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Зависимость ускорения тела от его массы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33744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9E5-071C-4E42-937C-FB6A592E0FE4}" type="slidenum">
              <a:t>11</a:t>
            </a:fld>
          </a:p>
        </p:txBody>
      </p:sp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Проверка справедливости соотношени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"/>
          <p:cNvSpPr/>
          <p:nvPr/>
        </p:nvSpPr>
        <p:spPr>
          <a:xfrm>
            <a:off x="1872000" y="1828800"/>
            <a:ext cx="141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  <a:ea typeface="宋体"/>
              </a:rPr>
              <a:t>a ~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19720" y="1447920"/>
            <a:ext cx="2286000" cy="1523880"/>
            <a:chOff x="4419720" y="1447920"/>
            <a:chExt cx="2286000" cy="1523880"/>
          </a:xfrm>
        </p:grpSpPr>
        <p:sp>
          <p:nvSpPr>
            <p:cNvPr id="213" name=""/>
            <p:cNvSpPr/>
            <p:nvPr/>
          </p:nvSpPr>
          <p:spPr>
            <a:xfrm>
              <a:off x="4419720" y="1447920"/>
              <a:ext cx="110016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Bookman Old Style"/>
                  <a:ea typeface="宋体"/>
                </a:rPr>
                <a:t>a ~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486400" y="1447920"/>
                  <a:ext cx="121932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" name=""/>
          <p:cNvSpPr/>
          <p:nvPr/>
        </p:nvSpPr>
        <p:spPr>
          <a:xfrm>
            <a:off x="186120" y="3121200"/>
            <a:ext cx="86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Движение тележки считаем равноус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без начальной скорости, поэтому ускорен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ычисля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76720" y="4419720"/>
                <a:ext cx="2361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1AD-4395-4D1D-874F-5608B07820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Демонстрационный эксперимент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31820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9D0-4629-4FC8-BDF7-C203E0CAA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3DE-E360-4389-9C63-76D989F99A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полните пропуск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действием постоянной силы тело движется 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при неизменной массе тела увеличить силу в 2 раза, то ускорение …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массу тела уменьшить в 4 раза, а силу, действующую на тело, увеличить в 2 раза, то ускорение …  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силу увеличить в 3 раза, а массу …             , то ускорение останется неизменны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4" name=""/>
          <p:cNvSpPr/>
          <p:nvPr/>
        </p:nvSpPr>
        <p:spPr>
          <a:xfrm>
            <a:off x="940680" y="1989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авноускор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08120" y="2781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48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7760" y="393372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476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5680" y="4365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984-B293-4069-8421-E2CDAC0A3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Упр.11(1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корость приобретает тело массой 3кг под действием силы, равной 9 Н, по истечении 5 с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9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езд массой 500 т, трогаясь с места, через 25 с набрал скорос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18 км/ч. Определите силу тяги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DC0-0D45-4F4F-81CB-64EBDE636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§ 11, вопросы после параграфа, Упр.11(2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D6D-BD89-4FEE-8A05-51D4ABCD1C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3B7-6189-448C-BFCD-09D70A89F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440" y="50652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43600" y="91764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352440"/>
            <a:ext cx="116856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75440" y="92088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3720" y="367524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4880" y="408636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2280" y="3521160"/>
            <a:ext cx="116820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6720" y="408924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8A7-7C31-4C6E-BFCF-8131C579B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4120" y="5493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8800" y="5968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4640" y="90180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6640" y="9032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2709720"/>
            <a:ext cx="858600" cy="49860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8800" y="275760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4640" y="306216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6640" y="306396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64120" y="47991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8800" y="48466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4640" y="5151600"/>
            <a:ext cx="325440" cy="288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6640" y="51530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AB5-9C7C-41B6-9B43-9CE8BAAEE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46" name="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CC9-B46E-4FC9-9BE8-35E36BBA8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62480" y="2462040"/>
            <a:ext cx="9360" cy="1266840"/>
          </a:xfrm>
          <a:custGeom>
            <a:avLst/>
            <a:gdLst/>
            <a:ahLst/>
            <a:rect l="l" t="t" r="r" b="b"/>
            <a:pathLst>
              <a:path w="6" h="798">
                <a:moveTo>
                  <a:pt x="0" y="0"/>
                </a:moveTo>
                <a:lnTo>
                  <a:pt x="6" y="7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2480" y="1442880"/>
            <a:ext cx="1440" cy="1290960"/>
          </a:xfrm>
          <a:custGeom>
            <a:avLst/>
            <a:gdLst/>
            <a:ahLst/>
            <a:rect l="l" t="t" r="r" b="b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523880"/>
            <a:ext cx="552600" cy="1328760"/>
          </a:xfrm>
          <a:custGeom>
            <a:avLst/>
            <a:gdLst/>
            <a:ahLst/>
            <a:rect l="l" t="t" r="r" b="b"/>
            <a:pathLst>
              <a:path w="348" h="837">
                <a:moveTo>
                  <a:pt x="0" y="837"/>
                </a:move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43520" y="2433600"/>
            <a:ext cx="938160" cy="419040"/>
          </a:xfrm>
          <a:custGeom>
            <a:avLst/>
            <a:gdLst/>
            <a:ahLst/>
            <a:rect l="l" t="t" r="r" b="b"/>
            <a:pathLst>
              <a:path w="591" h="264">
                <a:moveTo>
                  <a:pt x="591" y="26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166" name="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169" name="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172" name="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175" name="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178" name="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181" name="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184" name="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80880" y="4267080"/>
                <a:ext cx="493416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ез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числ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 txBox="1"/>
          <p:nvPr/>
        </p:nvSpPr>
        <p:spPr>
          <a:xfrm>
            <a:off x="5562720" y="5181480"/>
            <a:ext cx="5364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а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029200"/>
            <a:ext cx="609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Fре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4724280"/>
            <a:ext cx="60948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7712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8168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B6E-E7D6-4E7D-89F4-DC69D3830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Равнодействующая сил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616720" cy="45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B8B-31B8-4D86-94F2-29D92698C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7672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12000" y="3789360"/>
                <a:ext cx="174924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Н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769-14E4-4EB9-8794-6923218A7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114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F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DFC-EB1D-4FF1-A780-24EC614B80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Adel</cp:lastModifiedBy>
  <dcterms:modified xsi:type="dcterms:W3CDTF">2013-03-19T12:53:57Z</dcterms:modified>
  <cp:revision>30</cp:revision>
  <dc:subject/>
  <dc:title>Второй закон Ньютона</dc:title>
</cp:coreProperties>
</file>