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708-595C-4DCD-96DA-7CE816E2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336-23E8-4AFC-BA1D-B1741425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383-13EB-4745-8F5C-DD7D2387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264-3C89-4116-87F1-CA261CF3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964A-0435-4148-997A-FFB13DB3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136-5CD1-4FC6-AB17-3B9B659B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353F-BD2E-42EC-8F79-72F71908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CDC-50CD-4ED5-B7D4-E54691A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01C8-FB5E-4ADE-9327-0925A3B0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29D4-F6DD-4B9E-A9B3-5E37A618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EDFC-3134-436D-B570-B0954CB3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7F7-E235-4EB1-85FB-86F7660B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CC7-35F1-481E-8C84-187A1A3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D83A-85B4-492D-9D4E-813FD71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F973-DBFC-4EF7-B5B5-5E72982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AD4F-FD25-49BC-8B2E-EBEA40B8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C6AF-4400-4B46-8A77-08AA0A17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C59-5A93-48F3-9B6B-9DC5B047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C7E-A214-4AE8-B3BB-FEDFE7B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904-D821-4495-BDE7-2C5FA0F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0F0-3EE7-4DA3-B59B-B07FC84B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A61-78A5-419E-9ACE-0602721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03D-D79C-4C7F-98E3-7260C52D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68F-1801-4477-A537-BBA5BEEE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429228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146C25-FFFD-476C-AF31-3F1BDBAB49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4C7-9D95-4945-B306-46D08C0996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Зависимость ускорения тела от его массы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337440" cy="51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C25-73A8-4655-A345-CD55F66252C4}" type="slidenum">
              <a:t>11</a:t>
            </a:fld>
          </a:p>
        </p:txBody>
      </p:sp>
    </p:spTree>
  </p:cSld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Проверка справедливости соотношени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1" name=""/>
          <p:cNvSpPr/>
          <p:nvPr/>
        </p:nvSpPr>
        <p:spPr>
          <a:xfrm>
            <a:off x="1872000" y="1828800"/>
            <a:ext cx="141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  <a:ea typeface="宋体"/>
              </a:rPr>
              <a:t>a ~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419720" y="1447920"/>
            <a:ext cx="2286000" cy="1523880"/>
            <a:chOff x="4419720" y="1447920"/>
            <a:chExt cx="2286000" cy="1523880"/>
          </a:xfrm>
        </p:grpSpPr>
        <p:sp>
          <p:nvSpPr>
            <p:cNvPr id="213" name=""/>
            <p:cNvSpPr/>
            <p:nvPr/>
          </p:nvSpPr>
          <p:spPr>
            <a:xfrm>
              <a:off x="4419720" y="1447920"/>
              <a:ext cx="110016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Bookman Old Style"/>
                  <a:ea typeface="宋体"/>
                </a:rPr>
                <a:t>a ~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5486400" y="1447920"/>
                  <a:ext cx="121932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5" name=""/>
          <p:cNvSpPr/>
          <p:nvPr/>
        </p:nvSpPr>
        <p:spPr>
          <a:xfrm>
            <a:off x="186120" y="3121200"/>
            <a:ext cx="86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Движение тележки считаем равноус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без начальной скорости, поэтому ускорен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ычисля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276720" y="4419720"/>
                <a:ext cx="2361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B68-C1CD-4A8C-B577-B3239A5768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Демонстрационный эксперимент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79280" y="2133720"/>
            <a:ext cx="431820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D32-3560-4B82-A556-EEA95C2E87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CA6-7568-4243-811D-8D4997DAF8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полните пропуск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од действием постоянной силы тело движется 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при неизменной массе тела увеличить силу в 2 раза, то ускорение …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массу тела уменьшить в 4 раза, а силу, действующую на тело, увеличить в 2 раза, то ускорение …  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Если силу увеличить в 3 раза, а массу …             , то ускорение останется неизменны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4" name=""/>
          <p:cNvSpPr/>
          <p:nvPr/>
        </p:nvSpPr>
        <p:spPr>
          <a:xfrm>
            <a:off x="940680" y="1989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равноускор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08120" y="2781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0348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7760" y="393372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476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5680" y="4365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в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0ED-2B3D-4604-84A3-960F152E3A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Упр.11(1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8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корость приобретает тело массой 3кг под действием силы, равной 9 Н, по истечении 5 с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Л.№ 319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Поезд массой 500 т, трогаясь с места, через 25 с набрал скорост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18 км/ч. Определите силу тяги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833-1B91-469D-8218-6A19195D70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§ 11, вопросы после параграфа, Упр.11(2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A25-7191-4892-9D13-6F29C42C9F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C98-47A9-47F6-9427-3642A15540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440" y="50652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43600" y="91764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0640" y="352440"/>
            <a:ext cx="116856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75440" y="92088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3720" y="3675240"/>
            <a:ext cx="507960" cy="990360"/>
          </a:xfrm>
          <a:custGeom>
            <a:avLst/>
            <a:gdLst/>
            <a:ahLst/>
            <a:rect l="l" t="t" r="r" b="b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4880" y="4086360"/>
            <a:ext cx="461880" cy="1440"/>
          </a:xfrm>
          <a:custGeom>
            <a:avLst/>
            <a:gdLst/>
            <a:ahLst/>
            <a:rect l="l" t="t" r="r" b="b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2280" y="3521160"/>
            <a:ext cx="1168200" cy="771480"/>
          </a:xfrm>
          <a:custGeom>
            <a:avLst/>
            <a:gdLst/>
            <a:ahLst/>
            <a:rect l="l" t="t" r="r" b="b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46720" y="4089240"/>
            <a:ext cx="125280" cy="21276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8DA-A7F2-403D-B936-CDAD0AD48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64120" y="5493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8800" y="5968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4640" y="90180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6640" y="9032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64120" y="2709720"/>
            <a:ext cx="858600" cy="49860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68800" y="275760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84640" y="3062160"/>
            <a:ext cx="325440" cy="324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46640" y="306396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64120" y="4799160"/>
            <a:ext cx="858600" cy="498240"/>
          </a:xfrm>
          <a:custGeom>
            <a:avLst/>
            <a:gdLst/>
            <a:ahLst/>
            <a:rect l="l" t="t" r="r" b="b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68800" y="4846680"/>
            <a:ext cx="355680" cy="714240"/>
          </a:xfrm>
          <a:custGeom>
            <a:avLst/>
            <a:gdLst/>
            <a:ahLst/>
            <a:rect l="l" t="t" r="r" b="b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4640" y="5151600"/>
            <a:ext cx="325440" cy="2880"/>
          </a:xfrm>
          <a:custGeom>
            <a:avLst/>
            <a:gdLst/>
            <a:ahLst/>
            <a:rect l="l" t="t" r="r" b="b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6640" y="5153040"/>
            <a:ext cx="93600" cy="155520"/>
          </a:xfrm>
          <a:custGeom>
            <a:avLst/>
            <a:gdLst/>
            <a:ahLst/>
            <a:rect l="l" t="t" r="r" b="b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D11-86ED-4B4E-9D08-C9221467CB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5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46" name="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03CC-B3A8-4766-8D24-EB14DF7C6F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62480" y="2462040"/>
            <a:ext cx="9360" cy="1266840"/>
          </a:xfrm>
          <a:custGeom>
            <a:avLst/>
            <a:gdLst/>
            <a:ahLst/>
            <a:rect l="l" t="t" r="r" b="b"/>
            <a:pathLst>
              <a:path w="6" h="798">
                <a:moveTo>
                  <a:pt x="0" y="0"/>
                </a:moveTo>
                <a:lnTo>
                  <a:pt x="6" y="7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2480" y="1442880"/>
            <a:ext cx="1440" cy="1290960"/>
          </a:xfrm>
          <a:custGeom>
            <a:avLst/>
            <a:gdLst/>
            <a:ahLst/>
            <a:rect l="l" t="t" r="r" b="b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523880"/>
            <a:ext cx="552600" cy="1328760"/>
          </a:xfrm>
          <a:custGeom>
            <a:avLst/>
            <a:gdLst/>
            <a:ahLst/>
            <a:rect l="l" t="t" r="r" b="b"/>
            <a:pathLst>
              <a:path w="348" h="837">
                <a:moveTo>
                  <a:pt x="0" y="837"/>
                </a:move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43520" y="2433600"/>
            <a:ext cx="938160" cy="419040"/>
          </a:xfrm>
          <a:custGeom>
            <a:avLst/>
            <a:gdLst/>
            <a:ahLst/>
            <a:rect l="l" t="t" r="r" b="b"/>
            <a:pathLst>
              <a:path w="591" h="264">
                <a:moveTo>
                  <a:pt x="591" y="26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166" name="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169" name="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172" name="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175" name="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178" name="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181" name="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184" name="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80880" y="4267080"/>
                <a:ext cx="493416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ез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числ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 txBox="1"/>
          <p:nvPr/>
        </p:nvSpPr>
        <p:spPr>
          <a:xfrm>
            <a:off x="5562720" y="5181480"/>
            <a:ext cx="5364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а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5029200"/>
            <a:ext cx="609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Fре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4724280"/>
            <a:ext cx="60948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7712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78168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EF8-980B-4CCB-9D0A-515F03EACB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Равнодействующая сил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5616720" cy="459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EFB-EB5B-4B19-9949-F3C641B77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27672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012000" y="3789360"/>
                <a:ext cx="174924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Н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5A8-1179-415E-A40F-BBDE8C25A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114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F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9A6-D388-423C-9257-285597CBD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Adel</cp:lastModifiedBy>
  <dcterms:modified xsi:type="dcterms:W3CDTF">2013-03-19T12:53:57Z</dcterms:modified>
  <cp:revision>30</cp:revision>
  <dc:subject/>
  <dc:title>Второй закон Ньютона</dc:title>
</cp:coreProperties>
</file>