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1DB-498F-42FB-8AA6-4AEF764141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BFAC-5248-4F75-A8A8-652AB0ACFA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4EC-1AAD-4D8A-A0D4-0CEEEB7E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7A0-8277-42D4-B2BA-BF1DF5F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823-D0D0-453C-B037-5832D63B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242-ED64-4984-8247-F54C073D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09B5-AFB8-4B7E-A025-16B2AB2A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5DC1-6D11-4113-8773-4CA62976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C3FA-B40E-4123-848D-09C14517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E898-20E5-4C04-8E93-836337B1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C2F7-BB72-437E-B6F9-72A42C0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D48-206D-4322-AA74-85DB5C7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C80D-0E46-4F71-B52F-DC36B00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E05-7984-450A-BB14-F317BF7F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FEBA-6A3E-4E20-8CB8-68B1A4B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5F4-0005-40B6-99DF-7797C38D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118-D6D8-4C14-B918-4919B58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453C-4456-4819-B578-E75C9C55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A4D-A2DC-4A3E-B818-3F76F5A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7251-D8A9-468D-8AA7-24FBC02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3EF5-0996-4E8D-A6FD-4DE666E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C6ED-0473-49FA-8ECA-74C43D3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79F8-31F6-4CF6-A36B-146234F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8C7E-05FA-4D35-9176-20A90D84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5F8-F1C2-40CD-8816-F1EC54F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E82F-DB95-4012-93D7-7C9D26E9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ED77-6CBF-4316-9DFB-7F46861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E3C6-425B-44C8-AEF8-1053402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2F9B-4D70-44EA-8F11-9226766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F0AF-B7F8-4C57-BA32-5AA91FA0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5190-5DBB-4138-B1F2-72952311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02E5-D461-454E-8571-B709D6C2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D8C6-2E30-4BDD-BA8F-A2A59718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084A-D025-4FE7-AA1F-AB973EDA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C3FD-7D1F-4B7B-A37E-89C5193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C93-3993-4EE7-8248-B6F312E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F4D5-7C1C-46BC-8ABF-F795D85E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FF5A-078A-4D85-87B7-A81ED515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7D3C-A1FC-41F5-A225-DE61035D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296A-ADED-42CF-A5BD-10AE682F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9F6B-009A-464B-93C2-7885C55E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BE00-6026-4E33-9E3E-6F2AB25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E781-28D3-4256-AB33-D19421E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75CBD-7183-43A4-A391-92E4B190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CF7A-666E-48E9-9A83-24245FDF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F998-8A4F-4F2F-B03D-4F8B16D2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A74-DA4A-4E23-B82D-4F0DF56B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5C35-8B22-4B4A-93A2-FFE0D72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4337B-463F-4C1E-875E-33ECBB9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AEAE-F7E3-4723-B5ED-3E75AA3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37D3-10F5-4572-9BB2-1C59BFA9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8C81C-8D1B-47BE-8C36-CEC9DAE6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7025-9FA2-49C0-BBB2-923722B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04ED-DD98-4344-B133-C6BE34F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53E4-EAD3-4D47-B4C4-C87B9FE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F31B-6CFA-4AD3-A0DF-68A58C55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744E-5E69-401B-817D-B6F8FB2F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A5B-384B-4968-A790-8B37C106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446C-68D0-4C13-B49B-A130F9AD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EA10-6DA2-4290-8E70-25BAA2B0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CC2EA-B8E8-481A-A701-95F6FF72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A9D9E-181F-452E-BC7C-A056E20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0E7AA-AF57-4A2B-A5F0-EDB8B273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EEC54-6452-4F8D-8D63-32186FFF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9B467-65AD-4C87-AB65-BE22B672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4AA00-B912-4363-9768-47A8FE0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26F5-750C-4C53-8A8F-AFFA519E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80C0-5EB8-4208-A4A9-DCEC7D8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A72-B707-412C-8646-E274951F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A794-D713-4A6F-94D7-E64C42A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91F6-2789-4060-A9B0-CF384130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5C08-DC1B-42C6-9293-A4E2F8C2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A178-F4E3-4BC7-9055-450C8000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7AD1D-A109-442B-9248-6B855A62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C348-3274-45CF-A520-D88B3547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5D7F-BB8F-4298-B74F-E079558B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471AE-80E7-4C9B-8F72-272D2D35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B3F2-3199-4742-9BC6-FB30F81D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B4149-57DE-4CCB-868F-8DC136E6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227-52C0-4AEC-BCFC-53272B81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5CD2-BBFB-44DB-A628-BDD6E95E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ADF67-8D43-41E7-931A-1FA4A90E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E4FF6-E237-4AA0-A3D3-C113204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33D6F-F1A2-49F3-B6B7-C73CA874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44BDF-8F52-46F2-A959-F9B88AEF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0203-7D3E-480E-8C80-2D4E1C36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3EC85-C050-47CC-B668-E9942CEE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F64DC-70A2-4443-9F46-B0E0D33B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05C99-22B6-4002-9F46-BBFF67C0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784E4-21B8-4D85-B5EE-DF172CE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EFE-B802-4BB0-9226-5000CDA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E89E4-A1F2-4592-AB04-32221C12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B2B2-4A83-4D23-9611-EAFFCBD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B3DC1-DBDF-4170-BCC7-6F0552B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0334-E9E3-423B-9BED-08AF8C7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C539-8D3F-4B44-ADF5-724B0477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B32A-4F3A-4DE5-8D77-CA78E472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77ABB-5D80-44FA-87F8-4476DAC7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7F3-AF3B-431D-8C1E-BD8410B28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107E-6EC1-4E53-AF50-CBA7B872E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0967-8E23-4929-9B95-3463800D246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149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96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F7D9-4AE6-4F70-98C0-5F4F4E873A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79C6-2E29-4D52-A466-8D89EE389F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09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15AB-58A9-4324-A005-FF1695A2F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5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5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4DF2-F6E6-407A-8121-98F80E1DB3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4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4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B36B-D0BA-4826-AC83-D9A819F8094A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1980720" y="26665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технологии в 5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WordArt 6"/>
          <p:cNvSpPr txBox="1"/>
          <p:nvPr/>
        </p:nvSpPr>
        <p:spPr>
          <a:xfrm>
            <a:off x="838080" y="685800"/>
            <a:ext cx="6858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лина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6" name="Picture 10" descr="PH02842J"/>
          <p:cNvPicPr/>
          <p:nvPr/>
        </p:nvPicPr>
        <p:blipFill>
          <a:blip r:embed="rId1"/>
          <a:stretch/>
        </p:blipFill>
        <p:spPr>
          <a:xfrm rot="21255600">
            <a:off x="914400" y="2819520"/>
            <a:ext cx="2506680" cy="3238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астительное мас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ерновые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ре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WordArt 7"/>
          <p:cNvSpPr txBox="1"/>
          <p:nvPr/>
        </p:nvSpPr>
        <p:spPr>
          <a:xfrm>
            <a:off x="533520" y="228600"/>
            <a:ext cx="784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ы группы "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6" name="Picture 11" descr="PH02183J"/>
          <p:cNvPicPr/>
          <p:nvPr/>
        </p:nvPicPr>
        <p:blipFill>
          <a:blip r:embed="rId1"/>
          <a:stretch/>
        </p:blipFill>
        <p:spPr>
          <a:xfrm rot="424800">
            <a:off x="1676520" y="2057040"/>
            <a:ext cx="3133440" cy="2060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H02774J"/>
          <p:cNvPicPr/>
          <p:nvPr/>
        </p:nvPicPr>
        <p:blipFill>
          <a:blip r:embed="rId2"/>
          <a:stretch/>
        </p:blipFill>
        <p:spPr>
          <a:xfrm rot="20395800">
            <a:off x="685440" y="3276360"/>
            <a:ext cx="2446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ля чего нужно питаться человеку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кие витамины вы знаете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 чему приведёт недостаток витаминов в организме человека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457200" y="4572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ы для закрепления те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ормализуют обмен вещест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частвуют в образовании ферменто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пособствуют лучшему усвоению пищевых веществ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28" name="Picture 7" descr="Клубника"/>
          <p:cNvPicPr/>
          <p:nvPr/>
        </p:nvPicPr>
        <p:blipFill>
          <a:blip r:embed="rId1"/>
          <a:stretch/>
        </p:blipFill>
        <p:spPr>
          <a:xfrm>
            <a:off x="914400" y="1981080"/>
            <a:ext cx="3124080" cy="4086360"/>
          </a:xfrm>
          <a:prstGeom prst="rect">
            <a:avLst/>
          </a:prstGeom>
          <a:ln w="0">
            <a:noFill/>
          </a:ln>
        </p:spPr>
      </p:pic>
      <p:sp>
        <p:nvSpPr>
          <p:cNvPr id="529" name="WordArt 8"/>
          <p:cNvSpPr txBox="1"/>
          <p:nvPr/>
        </p:nvSpPr>
        <p:spPr>
          <a:xfrm>
            <a:off x="762120" y="533520"/>
            <a:ext cx="7619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вираминов в жизни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81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– аскорбиновая кис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1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тиа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2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рибофлав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Р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никотиновая кис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– ретинол (провитамин 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кальцифер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токофер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1066680" y="2286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витамин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2" name="Picture 5" descr="PH02806J"/>
          <p:cNvPicPr/>
          <p:nvPr/>
        </p:nvPicPr>
        <p:blipFill>
          <a:blip r:embed="rId1"/>
          <a:stretch/>
        </p:blipFill>
        <p:spPr>
          <a:xfrm>
            <a:off x="6172200" y="2895480"/>
            <a:ext cx="24462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5448240" y="2285640"/>
            <a:ext cx="3178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Шиповник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Облепих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Чёрная смородин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алин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лубника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Цитрусовые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Сладкий перец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Зелень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Томаты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апуста и др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34" name="WordArt 8"/>
          <p:cNvSpPr txBox="1"/>
          <p:nvPr/>
        </p:nvSpPr>
        <p:spPr>
          <a:xfrm>
            <a:off x="838080" y="533520"/>
            <a:ext cx="7467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тамины группы "С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5" name="Picture 10" descr="677072"/>
          <p:cNvPicPr/>
          <p:nvPr/>
        </p:nvPicPr>
        <p:blipFill>
          <a:blip r:embed="rId3"/>
          <a:stretch/>
        </p:blipFill>
        <p:spPr>
          <a:xfrm rot="20995200">
            <a:off x="1218960" y="2666520"/>
            <a:ext cx="3276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191120" y="1676520"/>
            <a:ext cx="495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жаной хлеб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шеничный хлеб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леб из цельного зерн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всяная круп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речневая круп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обовые (фасоль, горох, бобы и т.д.)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ясные продукт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762120" y="685800"/>
            <a:ext cx="77724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ы группы "В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8" name="Picture 6" descr="386072"/>
          <p:cNvPicPr/>
          <p:nvPr/>
        </p:nvPicPr>
        <p:blipFill>
          <a:blip r:embed="rId1"/>
          <a:stretch/>
        </p:blipFill>
        <p:spPr>
          <a:xfrm rot="21135600">
            <a:off x="304920" y="1523880"/>
            <a:ext cx="2833560" cy="1881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677067"/>
          <p:cNvPicPr/>
          <p:nvPr/>
        </p:nvPicPr>
        <p:blipFill>
          <a:blip r:embed="rId2"/>
          <a:stretch/>
        </p:blipFill>
        <p:spPr>
          <a:xfrm>
            <a:off x="1600200" y="335268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исломолочные нап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Сы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Твор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Мясн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ернов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Оре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Боб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9"/>
          <p:cNvSpPr txBox="1"/>
          <p:nvPr/>
        </p:nvSpPr>
        <p:spPr>
          <a:xfrm>
            <a:off x="914400" y="609480"/>
            <a:ext cx="7162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"В2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2" name="Picture 11" descr="333056"/>
          <p:cNvPicPr/>
          <p:nvPr/>
        </p:nvPicPr>
        <p:blipFill>
          <a:blip r:embed="rId1"/>
          <a:stretch/>
        </p:blipFill>
        <p:spPr>
          <a:xfrm rot="21093000">
            <a:off x="1295280" y="4343040"/>
            <a:ext cx="3095640" cy="2009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PH02821J"/>
          <p:cNvPicPr/>
          <p:nvPr/>
        </p:nvPicPr>
        <p:blipFill>
          <a:blip r:embed="rId2"/>
          <a:stretch/>
        </p:blipFill>
        <p:spPr>
          <a:xfrm rot="209400">
            <a:off x="914040" y="243828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овяжья печень, почки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Мясо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Ячневая круп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речневая круп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Бобовые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Мясные продукты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Орехи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рибы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45" name="WordArt 7"/>
          <p:cNvSpPr txBox="1"/>
          <p:nvPr/>
        </p:nvSpPr>
        <p:spPr>
          <a:xfrm>
            <a:off x="2286000" y="152280"/>
            <a:ext cx="4809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тамины "РР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никотиновая кислота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6" name="Picture 9" descr="386024"/>
          <p:cNvPicPr/>
          <p:nvPr/>
        </p:nvPicPr>
        <p:blipFill>
          <a:blip r:embed="rId1"/>
          <a:stretch/>
        </p:blipFill>
        <p:spPr>
          <a:xfrm rot="21239400">
            <a:off x="685800" y="2057400"/>
            <a:ext cx="3233880" cy="2173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386053"/>
          <p:cNvPicPr/>
          <p:nvPr/>
        </p:nvPicPr>
        <p:blipFill>
          <a:blip r:embed="rId2"/>
          <a:stretch/>
        </p:blipFill>
        <p:spPr>
          <a:xfrm>
            <a:off x="1219320" y="4038480"/>
            <a:ext cx="31575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чень рыбы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ивочное масл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ивки и молок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йц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вощи: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морковь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сладкий перец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томаты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зелёный лук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укроп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петруш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9" name="WordArt 7"/>
          <p:cNvSpPr txBox="1"/>
          <p:nvPr/>
        </p:nvSpPr>
        <p:spPr>
          <a:xfrm>
            <a:off x="990720" y="53352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тамины группы "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50" name="Picture 8" descr="02MJW"/>
          <p:cNvPicPr/>
          <p:nvPr/>
        </p:nvPicPr>
        <p:blipFill>
          <a:blip r:embed="rId3"/>
          <a:stretch/>
        </p:blipFill>
        <p:spPr>
          <a:xfrm>
            <a:off x="533520" y="18288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754160" y="2361960"/>
            <a:ext cx="3776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ливочное мас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оло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й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ы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ечень рыб и морск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8"/>
          <p:cNvSpPr txBox="1"/>
          <p:nvPr/>
        </p:nvSpPr>
        <p:spPr>
          <a:xfrm>
            <a:off x="990720" y="3808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тамины группы "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53" name="Picture 13" descr="PH02851J"/>
          <p:cNvPicPr/>
          <p:nvPr/>
        </p:nvPicPr>
        <p:blipFill>
          <a:blip r:embed="rId3"/>
          <a:stretch/>
        </p:blipFill>
        <p:spPr>
          <a:xfrm>
            <a:off x="1523880" y="2590920"/>
            <a:ext cx="28591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ls</cp:lastModifiedBy>
  <dcterms:modified xsi:type="dcterms:W3CDTF">2012-11-08T19:08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