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04C8-6654-43A8-91DB-6F23F16462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2A7-B8C4-47B8-8B93-C3CA4C2535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7F9-63A6-4112-A8E2-C029039F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68F-C847-42D2-B4B7-C7F39C1B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5E3-E70B-4A94-A9B3-9066BF34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396-0003-4A81-AD42-4AFABEEB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340E-00AB-4CD9-8C31-954CEDF1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918-942F-4B70-939A-C5159223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7D88-3BC4-4588-8C1D-8FE31CC4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2C37-68EB-483B-9B48-7A3D873D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E68C-A4A5-44AF-8CF5-1B1FA30F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B540-51BF-4C63-8324-A16FC1EE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665D-27B6-45B8-ABA5-0B880A4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51E-A006-492D-B1F8-FEE6A20B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60CF-6B45-43CD-9F2E-29B2F47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54BD-337F-40AB-B8D3-E663DCEE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5B91-BA4D-4089-99D9-6462DC7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6E9-1B20-49E7-91DA-6B46C05C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2085-4BB5-4A4B-84F3-36DC5475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BD70-FB34-41D3-BDAE-6AB01E0A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A015-3CD6-4449-86C0-FD25587D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D386-D2C3-4282-ADCB-54458BFF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020A-0AA6-4AB8-A494-228AD182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231A-2A7F-40F3-9383-12F95C61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C03-76D7-4779-9B6C-1672ECC7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B55E-5A24-4219-B816-AFAF98C4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BAB2-42B9-434E-B678-00B8FC20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60E6-07A5-4FCD-94F8-827577A2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F972-D41D-4149-8FB3-1C3C65B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02C9-9EB4-465B-9081-B7A56A4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BC7D-4CC9-408B-9933-D7AA4858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AC00-D97A-4596-96A2-690314F6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741B3-A5D9-4ED3-96C8-DFCEAE31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E1D8-A472-4B1F-BCCD-E992AC26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888E-2A53-4348-930E-A2B9E757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375-E00A-40B8-8A71-89A8C279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319B-7AAA-420E-A077-0BFA8B8B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CD7C-DE4C-49A8-B65F-E8E8999C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5576-3F32-4CCA-9F7C-D8B9706F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06CE-4DF0-4FAE-A3C3-16B1020E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BE9F-C2CC-492D-A567-27FF42B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F993-AA72-4A6B-AC65-3B645323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3916-F273-4AD7-BCB1-CA8EA0A4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B6CF-1AFC-433D-86E6-11E8B1F4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755E-8A8A-48E8-8D07-6184AE20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4CE6-1FFD-4DF2-A752-22AC8675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F1C-D041-44D6-97C7-261B57D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2D8A-0B6E-4F65-BE27-82F1405B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9DD44-EA1B-4CB7-A64B-7E29BFE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8D6D-4B7F-42B8-A058-199E053B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C5FA9-997F-4849-86E2-2279DF0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E2DC-0DDD-4411-B305-8166FA12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13C4-42F1-4E68-B2E3-114C30E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C0A5-4672-4167-96C9-B0E9A9E0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600A-68EA-427D-BBD6-E8CFD43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4F90-E878-42AC-BEBA-6BC60BC5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2EA78-E29C-43DF-8DCD-35EDF615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B8F-46BB-4BF3-B2FF-7A9D84BE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3D51-4EE5-4AF0-98E1-EA3D5270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16E8C-316A-46E6-A881-E1972F69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2DDA3-608E-4F7E-BDCB-93811D4A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65E4D-7217-4021-A961-68F3E879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41185-3C1F-414E-9561-95D083F9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16F9-9924-4ED3-8606-1A30B47F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00C2E-7CAA-48BE-A7E0-9C9783D0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193C0-5496-4669-9D36-83A72F71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1A0A-93F0-456B-9B6A-CC29FB5B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6A22F-4DF5-4FCB-B153-15679EEE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660-3A8B-407C-991A-9DA33124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063BC-5CA9-491F-8BC3-90E23C5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31977-84AB-46E2-9649-388EA656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A41B5-98B5-4F1D-8454-1E16D4FE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7F77D-4B11-493B-B6B9-2B5B5076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2E075-452B-4D73-9F64-9AC561BB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AEF3-A8DC-4767-AB94-429F7FE9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655B-A421-4EB3-80BA-9ADA353F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5A043-FA51-4107-ACF9-7F954401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F4FC1-9156-413C-8945-D10800D8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E476-4688-4C4D-96E1-7BAAB9D2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3FE-C424-4FCF-A652-FE2CAF4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C348B-80D0-4AB3-8CE2-D008DF6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FF00F-DBA0-457C-BBD7-845AD12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DA2F-9002-4EF3-B870-A7D5FF65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E9B6E-2B85-45BC-BAFD-C1FBED9F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E257-5240-4802-8858-D0B759E7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C20DB-6C87-4CC3-BF11-18CFB53F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9C1EF-9DFA-4292-BDED-03E2FF9B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DE64A-67FC-4D8D-A925-94EC7A03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EA669-EA36-4812-9F7E-E33BBC3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B43C2-D338-4071-A510-62507DD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962-6810-4676-A245-0979FBE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3C580-90BF-473E-B832-EC5D61E8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26922-A9A2-4FBA-B300-165071F4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3D66A-52A6-4A87-845C-2E20665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392A1-9366-43A7-88D3-6362FA34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44F8E-03B7-4442-9843-0644DE22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0C7C2-E052-426D-A490-B2EF2CD1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40D7-391F-4B38-864A-B976CA2B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89D8-9899-43CA-99EF-8B06595A1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F604-7EAB-426D-B587-1972927FB0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641E-5BB0-434C-8081-2B0B57936C4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149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96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368-E4BE-4381-A4D1-7322F4D2FD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8E26-59C3-4242-83C5-7259F32380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09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D3FA-5FCC-45F7-B41D-C251BE3FB5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5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5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24FB-7B64-420F-9009-8D1D1F201C5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4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4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2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4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6817-E195-4C14-A291-4DE7CE7BD5A4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1980720" y="26665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 технологии в 5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WordArt 6"/>
          <p:cNvSpPr txBox="1"/>
          <p:nvPr/>
        </p:nvSpPr>
        <p:spPr>
          <a:xfrm>
            <a:off x="838080" y="685800"/>
            <a:ext cx="6858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лина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6" name="Picture 10" descr="PH02842J"/>
          <p:cNvPicPr/>
          <p:nvPr/>
        </p:nvPicPr>
        <p:blipFill>
          <a:blip r:embed="rId1"/>
          <a:stretch/>
        </p:blipFill>
        <p:spPr>
          <a:xfrm rot="21255600">
            <a:off x="914400" y="2819520"/>
            <a:ext cx="2506680" cy="3238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Растительное масл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Зерновые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ре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WordArt 7"/>
          <p:cNvSpPr txBox="1"/>
          <p:nvPr/>
        </p:nvSpPr>
        <p:spPr>
          <a:xfrm>
            <a:off x="533520" y="228600"/>
            <a:ext cx="7848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ы группы "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6" name="Picture 11" descr="PH02183J"/>
          <p:cNvPicPr/>
          <p:nvPr/>
        </p:nvPicPr>
        <p:blipFill>
          <a:blip r:embed="rId1"/>
          <a:stretch/>
        </p:blipFill>
        <p:spPr>
          <a:xfrm rot="424800">
            <a:off x="1676520" y="2057040"/>
            <a:ext cx="3133440" cy="2060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H02774J"/>
          <p:cNvPicPr/>
          <p:nvPr/>
        </p:nvPicPr>
        <p:blipFill>
          <a:blip r:embed="rId2"/>
          <a:stretch/>
        </p:blipFill>
        <p:spPr>
          <a:xfrm rot="20395800">
            <a:off x="685440" y="3276360"/>
            <a:ext cx="24462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ля чего нужно питаться человеку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акие витамины вы знаете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 чему приведёт недостаток витаминов в организме человека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9" name="WordArt 4"/>
          <p:cNvSpPr txBox="1"/>
          <p:nvPr/>
        </p:nvSpPr>
        <p:spPr>
          <a:xfrm>
            <a:off x="457200" y="4572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ы для закрепления те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ормализуют обмен вещест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частвуют в образовании ферменто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пособствуют лучшему усвоению пищевых веществ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28" name="Picture 7" descr="Клубника"/>
          <p:cNvPicPr/>
          <p:nvPr/>
        </p:nvPicPr>
        <p:blipFill>
          <a:blip r:embed="rId1"/>
          <a:stretch/>
        </p:blipFill>
        <p:spPr>
          <a:xfrm>
            <a:off x="914400" y="1981080"/>
            <a:ext cx="3124080" cy="4086360"/>
          </a:xfrm>
          <a:prstGeom prst="rect">
            <a:avLst/>
          </a:prstGeom>
          <a:ln w="0">
            <a:noFill/>
          </a:ln>
        </p:spPr>
      </p:pic>
      <p:sp>
        <p:nvSpPr>
          <p:cNvPr id="529" name="WordArt 8"/>
          <p:cNvSpPr txBox="1"/>
          <p:nvPr/>
        </p:nvSpPr>
        <p:spPr>
          <a:xfrm>
            <a:off x="762120" y="533520"/>
            <a:ext cx="7619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ль вираминов в жизни челове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81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– аскорбиновая кисл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1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тиа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2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рибофлав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Р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никотиновая кисл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– ретинол (провитамин 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кальцифер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токофер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4"/>
          <p:cNvSpPr txBox="1"/>
          <p:nvPr/>
        </p:nvSpPr>
        <p:spPr>
          <a:xfrm>
            <a:off x="1066680" y="2286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витамин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2" name="Picture 5" descr="PH02806J"/>
          <p:cNvPicPr/>
          <p:nvPr/>
        </p:nvPicPr>
        <p:blipFill>
          <a:blip r:embed="rId1"/>
          <a:stretch/>
        </p:blipFill>
        <p:spPr>
          <a:xfrm>
            <a:off x="6172200" y="2895480"/>
            <a:ext cx="24462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5448240" y="2285640"/>
            <a:ext cx="3178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Шиповник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Облепих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Чёрная смородин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алин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лубника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Цитрусовые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Сладкий перец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Зелень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Томаты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апуста и др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34" name="WordArt 8"/>
          <p:cNvSpPr txBox="1"/>
          <p:nvPr/>
        </p:nvSpPr>
        <p:spPr>
          <a:xfrm>
            <a:off x="838080" y="533520"/>
            <a:ext cx="7467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тамины группы "С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5" name="Picture 10" descr="677072"/>
          <p:cNvPicPr/>
          <p:nvPr/>
        </p:nvPicPr>
        <p:blipFill>
          <a:blip r:embed="rId3"/>
          <a:stretch/>
        </p:blipFill>
        <p:spPr>
          <a:xfrm rot="20995200">
            <a:off x="1218960" y="2666520"/>
            <a:ext cx="3276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191120" y="1676520"/>
            <a:ext cx="495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жаной хлеб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шеничный хлеб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леб из цельного зерн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всяная круп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речневая круп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обовые (фасоль, горох, бобы и т.д.)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ясные продукт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762120" y="685800"/>
            <a:ext cx="77724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ы группы "В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38" name="Picture 6" descr="386072"/>
          <p:cNvPicPr/>
          <p:nvPr/>
        </p:nvPicPr>
        <p:blipFill>
          <a:blip r:embed="rId1"/>
          <a:stretch/>
        </p:blipFill>
        <p:spPr>
          <a:xfrm rot="21135600">
            <a:off x="304920" y="1523880"/>
            <a:ext cx="2833560" cy="1881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677067"/>
          <p:cNvPicPr/>
          <p:nvPr/>
        </p:nvPicPr>
        <p:blipFill>
          <a:blip r:embed="rId2"/>
          <a:stretch/>
        </p:blipFill>
        <p:spPr>
          <a:xfrm>
            <a:off x="1600200" y="3352680"/>
            <a:ext cx="218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Моло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исломолочные напи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Сы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Твор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Мясные проду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ерновые проду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Оре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Боб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9"/>
          <p:cNvSpPr txBox="1"/>
          <p:nvPr/>
        </p:nvSpPr>
        <p:spPr>
          <a:xfrm>
            <a:off x="914400" y="609480"/>
            <a:ext cx="7162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"В2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2" name="Picture 11" descr="333056"/>
          <p:cNvPicPr/>
          <p:nvPr/>
        </p:nvPicPr>
        <p:blipFill>
          <a:blip r:embed="rId1"/>
          <a:stretch/>
        </p:blipFill>
        <p:spPr>
          <a:xfrm rot="21093000">
            <a:off x="1295280" y="4343040"/>
            <a:ext cx="3095640" cy="2009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PH02821J"/>
          <p:cNvPicPr/>
          <p:nvPr/>
        </p:nvPicPr>
        <p:blipFill>
          <a:blip r:embed="rId2"/>
          <a:stretch/>
        </p:blipFill>
        <p:spPr>
          <a:xfrm rot="209400">
            <a:off x="914040" y="2438280"/>
            <a:ext cx="3124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3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овяжья печень, почки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Мясо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Ячневая круп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речневая круп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Бобовые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Мясные продукты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Орехи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рибы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45" name="WordArt 7"/>
          <p:cNvSpPr txBox="1"/>
          <p:nvPr/>
        </p:nvSpPr>
        <p:spPr>
          <a:xfrm>
            <a:off x="2286000" y="152280"/>
            <a:ext cx="4809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тамины "РР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никотиновая кислота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6" name="Picture 9" descr="386024"/>
          <p:cNvPicPr/>
          <p:nvPr/>
        </p:nvPicPr>
        <p:blipFill>
          <a:blip r:embed="rId1"/>
          <a:stretch/>
        </p:blipFill>
        <p:spPr>
          <a:xfrm rot="21239400">
            <a:off x="685800" y="2057400"/>
            <a:ext cx="3233880" cy="2173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386053"/>
          <p:cNvPicPr/>
          <p:nvPr/>
        </p:nvPicPr>
        <p:blipFill>
          <a:blip r:embed="rId2"/>
          <a:stretch/>
        </p:blipFill>
        <p:spPr>
          <a:xfrm>
            <a:off x="1219320" y="4038480"/>
            <a:ext cx="31575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чень рыбы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ливочное масло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ливки и молоко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Яйц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вощи:  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морковь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сладкий перец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томаты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зелёный лук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укроп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петруш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9" name="WordArt 7"/>
          <p:cNvSpPr txBox="1"/>
          <p:nvPr/>
        </p:nvSpPr>
        <p:spPr>
          <a:xfrm>
            <a:off x="990720" y="533520"/>
            <a:ext cx="7162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тамины группы "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50" name="Picture 8" descr="02MJW"/>
          <p:cNvPicPr/>
          <p:nvPr/>
        </p:nvPicPr>
        <p:blipFill>
          <a:blip r:embed="rId3"/>
          <a:stretch/>
        </p:blipFill>
        <p:spPr>
          <a:xfrm>
            <a:off x="533520" y="18288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754160" y="2361960"/>
            <a:ext cx="3776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ливочное мас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оло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й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Ры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ечень рыб и морск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8"/>
          <p:cNvSpPr txBox="1"/>
          <p:nvPr/>
        </p:nvSpPr>
        <p:spPr>
          <a:xfrm>
            <a:off x="990720" y="3808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тамины группы "Д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53" name="Picture 13" descr="PH02851J"/>
          <p:cNvPicPr/>
          <p:nvPr/>
        </p:nvPicPr>
        <p:blipFill>
          <a:blip r:embed="rId3"/>
          <a:stretch/>
        </p:blipFill>
        <p:spPr>
          <a:xfrm>
            <a:off x="1523880" y="2590920"/>
            <a:ext cx="28591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ls</cp:lastModifiedBy>
  <dcterms:modified xsi:type="dcterms:W3CDTF">2012-11-08T19:08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