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FA4D-3FBA-434B-9E0E-4B1C9893D5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97B7-B210-4114-AAE0-CAA5AEE893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BC0-1BD7-4897-B623-F39CFDF0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A4D-59CB-44A8-AC2C-3FEC8278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FD5-23ED-4341-82B9-DCE54D00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FFA-59AA-414A-BC93-DFB4078C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A88B-F834-450E-B042-BD9DCEFA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8713-87DF-4C31-824F-8C74E10B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2DDB-AD8C-4A47-A04F-08E08FEF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CF2-A5C0-4F31-B122-63E6251A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B8ED-F4BE-4FAE-A44A-4143D723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C369-8408-4627-BB20-EB367168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1DFE-9916-4C2D-BB43-7E23B6D1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E57-0C02-429F-B49F-A3785FD2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0332-06F1-4853-AEA0-21229026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F578-8F6E-48E3-9146-CB3127F0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92CC-3E41-4652-9304-776ADA6B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287B-C29D-41E0-AFBC-060AC455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3A95-B27A-48B6-A051-0413FEE5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80DB1-E4A0-40DE-ADC1-6D9B3514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51809-085E-4381-BE6B-46B277CE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4FBB-C087-4E42-A5B5-F307ED8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4359-FC3D-4B6D-8CF0-147532DC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7B1B9-82B5-4B0B-964A-4E7FC42A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4CB-1D9E-48AC-AEA3-C05C1A4D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8F22-D66F-420E-8883-C067EB8A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2846-A04F-41E1-9423-9784C87A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2858-6409-4BE0-B65D-17672F25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D704-7880-4EB0-9BFA-1F13C32F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3563-EC0F-4970-87B3-1FD59844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0C8A0-3FCD-4BC4-978F-943E1C4D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9372-708E-4FEE-AA99-911EC00A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B4EE2-DC41-4FFE-B8C0-D8357300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94A5F-A4F3-495E-8A23-0A708958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C5BD-B700-413B-9310-C8759599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CE1-0021-4F9F-A3F9-2783F900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2874E-A52D-4B55-8833-8CAF17AA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E013-8C7C-46C1-A644-BB1C651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DEB01-B7F8-4B4D-A26D-D88C2E9E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F5A8-20DB-4BB3-BB5B-561D3EF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E349-9D5D-4CE7-AA92-46951C69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7076-3996-43E5-9871-9B7609E5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55B0D-773C-4595-8F74-56A28CEA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59B2-7968-4698-82A4-666080A7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71715-6CE6-4EB1-AE6D-8CD7015D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211A7-1943-4E97-AD55-F942C75C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9E2-5D8C-4CF2-9B7F-07D1E9E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9717-A206-464C-B3FD-E39C76BC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E6DC-544C-4ED2-B326-8C3F2D69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86F9-F266-4069-95C0-1492D397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3CA7-226F-49D0-8A1D-5B168F7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B0331-AC15-4637-9AB2-EEF53B07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FCFD0-9EEA-49A2-9969-046DB55F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3486D-00C2-4B2A-A9AC-00BDB34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6D72C-69C7-44F4-B565-E3DA73A6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6A3B-1AC7-420A-AAE3-9A61A6DF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8407-7958-4773-A209-8831EA4E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DE9-8437-4040-BA5E-7ED09B4E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E97F1-6C99-4E20-80EB-240D54C8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87382-42E6-404C-8AEA-8BAC7623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0240C-6B55-4806-804D-AC4489A9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F7085-4A92-4A99-AEB2-7BD86B02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9952E-6704-47EC-A387-1E533F72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F49F8-D484-454E-B7F0-59D1DCC1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06DA-881E-4A01-9AF7-2AC35A40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0BA81-E704-4C0E-AD29-9F3596B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2D3E1-38EE-4FD6-AF51-6394B05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95E7B-2A6F-465E-A001-E8CDE093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41A-8685-4A07-BBB5-B916F92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F053B-172D-4616-8EA9-62FF4918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39B66-401B-4A9A-A362-77D844B5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5195B-DE46-4F37-90FD-B9BAB4CF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177A0-28EA-44EF-B7C7-13D2BB4E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F30C8-F882-4C93-9B2B-5A0F724A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A57FB-5F60-4F87-AB43-145E8F2C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DA21C-6CCB-487F-85F1-D6A50909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5E112-577F-409A-80D5-620E7B46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D3538-FF9E-4893-9C17-2E90212F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9514A-8EE7-4049-BD71-28BB722A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6E9-DF61-438B-A353-C407BF0D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9E5A9-D45A-4F26-BDB7-5A9A8117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53980-6C06-4D21-82E5-0E2DE47A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258C5-F47A-41F7-A4FA-FF41D0C5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7815A-283A-4D3A-A5E9-D9BD2B3C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E2E78-0C62-4770-AAB0-EF50928A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0BA4F-A2D8-41E7-BD72-2B0E3317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0B3ED-145C-4128-A43C-CD7B82DC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DAA0F-A70D-416A-BB81-DE1F492D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EF148-23EF-4AAA-94D9-16CB0F31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2E94B-BAAE-4170-AF01-16ABF42B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8D9-FB0F-4E06-8240-2130DC54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5A264-7085-4BA9-A6F7-99B4D0FF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FAC5E-163E-43F8-A291-55D90223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6A9BF-728F-429C-8139-E52729A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56752-E36D-4BF7-85BB-35DEE604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6242-D68F-426D-BFD7-F30001B7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E8D75-0CCA-4BC3-9624-47AD22C6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220D9-5F8F-4F18-B3FF-580D39FB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E229-003F-44E8-A8F9-272F4BC490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5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4C1B-575B-4754-A249-194CEAF33F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B1B4-079D-445B-BB83-3B17B544901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149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96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8F46-9DF2-4A83-B613-6DD221B040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FFF-1188-4224-A8A9-3F674AE833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309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4BC0-E73B-49F1-AA0E-9C6529BC08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5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5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3247-E6B8-48D5-9F00-0FE3AD1C3E7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4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4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2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3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4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A71-C14A-4A5F-9255-9780640F098D}" type="slidenum">
              <a:rPr b="0" lang="ru-RU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1980720" y="26665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к технологии в 5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WordArt 6"/>
          <p:cNvSpPr txBox="1"/>
          <p:nvPr/>
        </p:nvSpPr>
        <p:spPr>
          <a:xfrm>
            <a:off x="838080" y="685800"/>
            <a:ext cx="6858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линар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6" name="Picture 10" descr="PH02842J"/>
          <p:cNvPicPr/>
          <p:nvPr/>
        </p:nvPicPr>
        <p:blipFill>
          <a:blip r:embed="rId1"/>
          <a:stretch/>
        </p:blipFill>
        <p:spPr>
          <a:xfrm rot="21255600">
            <a:off x="914400" y="2819520"/>
            <a:ext cx="2506680" cy="3238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Растительное масл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Зерновые культу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ре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WordArt 7"/>
          <p:cNvSpPr txBox="1"/>
          <p:nvPr/>
        </p:nvSpPr>
        <p:spPr>
          <a:xfrm>
            <a:off x="533520" y="228600"/>
            <a:ext cx="7848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тамины группы "Е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6" name="Picture 11" descr="PH02183J"/>
          <p:cNvPicPr/>
          <p:nvPr/>
        </p:nvPicPr>
        <p:blipFill>
          <a:blip r:embed="rId1"/>
          <a:stretch/>
        </p:blipFill>
        <p:spPr>
          <a:xfrm rot="424800">
            <a:off x="1676520" y="2057040"/>
            <a:ext cx="3133440" cy="2060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PH02774J"/>
          <p:cNvPicPr/>
          <p:nvPr/>
        </p:nvPicPr>
        <p:blipFill>
          <a:blip r:embed="rId2"/>
          <a:stretch/>
        </p:blipFill>
        <p:spPr>
          <a:xfrm rot="20395800">
            <a:off x="685440" y="3276360"/>
            <a:ext cx="24462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ля чего нужно питаться человеку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акие витамины вы знаете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 чему приведёт недостаток витаминов в организме человека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9" name="WordArt 4"/>
          <p:cNvSpPr txBox="1"/>
          <p:nvPr/>
        </p:nvSpPr>
        <p:spPr>
          <a:xfrm>
            <a:off x="457200" y="4572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ы для закрепления те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8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Нормализуют обмен веществ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Участвуют в образовании ферментов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Способствуют лучшему усвоению пищевых веществ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528" name="Picture 7" descr="Клубника"/>
          <p:cNvPicPr/>
          <p:nvPr/>
        </p:nvPicPr>
        <p:blipFill>
          <a:blip r:embed="rId1"/>
          <a:stretch/>
        </p:blipFill>
        <p:spPr>
          <a:xfrm>
            <a:off x="914400" y="1981080"/>
            <a:ext cx="3124080" cy="4086360"/>
          </a:xfrm>
          <a:prstGeom prst="rect">
            <a:avLst/>
          </a:prstGeom>
          <a:ln w="0">
            <a:noFill/>
          </a:ln>
        </p:spPr>
      </p:pic>
      <p:sp>
        <p:nvSpPr>
          <p:cNvPr id="529" name="WordArt 8"/>
          <p:cNvSpPr txBox="1"/>
          <p:nvPr/>
        </p:nvSpPr>
        <p:spPr>
          <a:xfrm>
            <a:off x="762120" y="533520"/>
            <a:ext cx="7619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ль вираминов в жизни челове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81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– аскорбиновая кисл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1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тиа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2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рибофлав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Р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никотиновая кисло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– ретинол (провитамин 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кальцифер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– токофер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4"/>
          <p:cNvSpPr txBox="1"/>
          <p:nvPr/>
        </p:nvSpPr>
        <p:spPr>
          <a:xfrm>
            <a:off x="1066680" y="2286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витамин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2" name="Picture 5" descr="PH02806J"/>
          <p:cNvPicPr/>
          <p:nvPr/>
        </p:nvPicPr>
        <p:blipFill>
          <a:blip r:embed="rId1"/>
          <a:stretch/>
        </p:blipFill>
        <p:spPr>
          <a:xfrm>
            <a:off x="6172200" y="2895480"/>
            <a:ext cx="24462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5448240" y="2285640"/>
            <a:ext cx="31780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Шиповник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Облепих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Чёрная смородин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Калин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Клубника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Цитрусовые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Сладкий перец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Зелень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Томаты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Narrow"/>
              </a:rPr>
              <a:t>Капуста и др.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34" name="WordArt 8"/>
          <p:cNvSpPr txBox="1"/>
          <p:nvPr/>
        </p:nvSpPr>
        <p:spPr>
          <a:xfrm>
            <a:off x="838080" y="533520"/>
            <a:ext cx="7467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тамины группы "С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5" name="Picture 10" descr="677072"/>
          <p:cNvPicPr/>
          <p:nvPr/>
        </p:nvPicPr>
        <p:blipFill>
          <a:blip r:embed="rId3"/>
          <a:stretch/>
        </p:blipFill>
        <p:spPr>
          <a:xfrm rot="20995200">
            <a:off x="1218960" y="2666520"/>
            <a:ext cx="3276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191120" y="1676520"/>
            <a:ext cx="4951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жаной хлеб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шеничный хлеб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леб из цельного зерн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всяная круп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Гречневая крупа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Бобовые (фасоль, горох, бобы и т.д.)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ясные продукты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7" name="WordArt 4"/>
          <p:cNvSpPr txBox="1"/>
          <p:nvPr/>
        </p:nvSpPr>
        <p:spPr>
          <a:xfrm>
            <a:off x="762120" y="685800"/>
            <a:ext cx="77724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ы группы "В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38" name="Picture 6" descr="386072"/>
          <p:cNvPicPr/>
          <p:nvPr/>
        </p:nvPicPr>
        <p:blipFill>
          <a:blip r:embed="rId1"/>
          <a:stretch/>
        </p:blipFill>
        <p:spPr>
          <a:xfrm rot="21135600">
            <a:off x="304920" y="1523880"/>
            <a:ext cx="2833560" cy="1881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677067"/>
          <p:cNvPicPr/>
          <p:nvPr/>
        </p:nvPicPr>
        <p:blipFill>
          <a:blip r:embed="rId2"/>
          <a:stretch/>
        </p:blipFill>
        <p:spPr>
          <a:xfrm>
            <a:off x="1600200" y="3352680"/>
            <a:ext cx="2184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Моло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исломолочные напи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Сы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Твор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Мясные проду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Зерновые проду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Оре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Боб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WordArt 9"/>
          <p:cNvSpPr txBox="1"/>
          <p:nvPr/>
        </p:nvSpPr>
        <p:spPr>
          <a:xfrm>
            <a:off x="914400" y="609480"/>
            <a:ext cx="7162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тамины "В2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2" name="Picture 11" descr="333056"/>
          <p:cNvPicPr/>
          <p:nvPr/>
        </p:nvPicPr>
        <p:blipFill>
          <a:blip r:embed="rId1"/>
          <a:stretch/>
        </p:blipFill>
        <p:spPr>
          <a:xfrm rot="21093000">
            <a:off x="1295280" y="4343040"/>
            <a:ext cx="3095640" cy="2009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PH02821J"/>
          <p:cNvPicPr/>
          <p:nvPr/>
        </p:nvPicPr>
        <p:blipFill>
          <a:blip r:embed="rId2"/>
          <a:stretch/>
        </p:blipFill>
        <p:spPr>
          <a:xfrm rot="209400">
            <a:off x="914040" y="2438280"/>
            <a:ext cx="3124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3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5506560" y="2285640"/>
            <a:ext cx="3179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Говяжья печень, почки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Мясо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Ячневая круп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Гречневая крупа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Бобовые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Мясные продукты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Орехи;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 Narrow"/>
              </a:rPr>
              <a:t>Грибы.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45" name="WordArt 7"/>
          <p:cNvSpPr txBox="1"/>
          <p:nvPr/>
        </p:nvSpPr>
        <p:spPr>
          <a:xfrm>
            <a:off x="2286000" y="152280"/>
            <a:ext cx="48099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тамины "РР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никотиновая кислота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6" name="Picture 9" descr="386024"/>
          <p:cNvPicPr/>
          <p:nvPr/>
        </p:nvPicPr>
        <p:blipFill>
          <a:blip r:embed="rId1"/>
          <a:stretch/>
        </p:blipFill>
        <p:spPr>
          <a:xfrm rot="21239400">
            <a:off x="685800" y="2057400"/>
            <a:ext cx="3233880" cy="2173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386053"/>
          <p:cNvPicPr/>
          <p:nvPr/>
        </p:nvPicPr>
        <p:blipFill>
          <a:blip r:embed="rId2"/>
          <a:stretch/>
        </p:blipFill>
        <p:spPr>
          <a:xfrm>
            <a:off x="1219320" y="4038480"/>
            <a:ext cx="31575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ечень рыбы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ливочное масло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ливки и молоко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Яйц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вощи:  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морковь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сладкий перец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томаты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зелёный лук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укроп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- петрушк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9" name="WordArt 7"/>
          <p:cNvSpPr txBox="1"/>
          <p:nvPr/>
        </p:nvSpPr>
        <p:spPr>
          <a:xfrm>
            <a:off x="990720" y="533520"/>
            <a:ext cx="7162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тамины группы "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50" name="Picture 8" descr="02MJW"/>
          <p:cNvPicPr/>
          <p:nvPr/>
        </p:nvPicPr>
        <p:blipFill>
          <a:blip r:embed="rId3"/>
          <a:stretch/>
        </p:blipFill>
        <p:spPr>
          <a:xfrm>
            <a:off x="533520" y="18288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754160" y="2361960"/>
            <a:ext cx="3776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ливочное мас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олок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Яй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Ры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ечень рыб и морск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8"/>
          <p:cNvSpPr txBox="1"/>
          <p:nvPr/>
        </p:nvSpPr>
        <p:spPr>
          <a:xfrm>
            <a:off x="990720" y="3808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тамины группы "Д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53" name="Picture 13" descr="PH02851J"/>
          <p:cNvPicPr/>
          <p:nvPr/>
        </p:nvPicPr>
        <p:blipFill>
          <a:blip r:embed="rId3"/>
          <a:stretch/>
        </p:blipFill>
        <p:spPr>
          <a:xfrm>
            <a:off x="1523880" y="2590920"/>
            <a:ext cx="28591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5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5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ls</cp:lastModifiedBy>
  <dcterms:modified xsi:type="dcterms:W3CDTF">2012-11-08T19:08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