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gif" ContentType="image/gif"/>
  <Override PartName="/ppt/media/image14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26.jpeg" ContentType="image/jpeg"/>
  <Override PartName="/ppt/media/image3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0E9-2C43-4B8E-8C31-05862A71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67C-68CC-4717-9BE0-0B984C62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243-E335-4423-803E-6972BB1D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1B6-30F0-40DC-973B-D8C34654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AD0-0B39-472D-A258-21FB668F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8AB-5E1A-4988-A399-D083232C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702-A7C0-4C3A-AF10-CFC84512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B6CD-D30F-4AFF-8C4A-26E6CBF3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E7F-2495-4EC1-AA3D-949F884C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48E-02C1-4504-B5DF-6C962C75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A76-EEE1-41CB-AC9F-E048D8BC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6F9-ADB5-4CF5-8BDC-5805260C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D973-095E-4F69-B327-0FA26B51B1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13012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Агропромышленный комплекс Росси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втор: Соловьева Людмил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У СОШ №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.Калинин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Второе и центральное звено АПК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сельское хозяй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отличает его от других отраслей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сильная зависимость от природных условий, которые в России очень разнообраз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168880" y="3938760"/>
            <a:ext cx="2997360" cy="2187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418360" y="37368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74360" y="65898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Вторая особенность АПК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сезонность производства большей части сельскохозяйственной продукции вследствие природных особенностей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208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3280" y="4365720"/>
            <a:ext cx="4176720" cy="20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4626360" y="352116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енний с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54000" y="647388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борка урожая осе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тья особенность – использование живых организмов, которые растут и развиваются по определенным биологическим зако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003640" y="4221000"/>
            <a:ext cx="3289320" cy="218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4915080" y="380844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еннее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14000" y="658980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 осе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Четверта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обенность сельского хозяйст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ользование земли в качестве незаменимого средства труда и одновременно предмета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643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47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мельные площади ограничены и не могут постоянно расширя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чество и плодородие земли можно повысить при правильном использовании, но до определенного пре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57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ссия располагает огромной земельной площадью – 1709,9 млн.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значительная ее часть приходится на тундру, г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лько 222 млн.га (13%) составляют сельскохозяйственные угод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ля пашни всего 7% (126млн.г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1125360"/>
            <a:ext cx="36813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rcRect l="1583" t="14304" r="49006" b="39497"/>
          <a:stretch/>
        </p:blipFill>
        <p:spPr>
          <a:xfrm>
            <a:off x="250920" y="115920"/>
            <a:ext cx="8569080" cy="547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954360" y="8809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42000" y="11444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79080" y="196056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Екатерин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03840" y="270828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раснояр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191628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тропавловск-   Камчат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80200" y="21337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9120" y="5299200"/>
            <a:ext cx="15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есные угод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39880" y="4940280"/>
            <a:ext cx="27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пахано более 40%зем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39880" y="5227560"/>
            <a:ext cx="247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пахано 20-40% зем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74000" y="462456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аш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88240" y="4148280"/>
            <a:ext cx="323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реал наиболее благоприят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чвенно-климатических усло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51120" y="4651200"/>
            <a:ext cx="19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езонные пастбищ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26760" y="4940280"/>
            <a:ext cx="184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блюдов и ов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01280" y="522756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ле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1413000"/>
            <a:ext cx="144360" cy="144360"/>
          </a:xfrm>
          <a:prstGeom prst="flowChartConnector">
            <a:avLst/>
          </a:prstGeom>
          <a:solidFill>
            <a:srgbClr val="eb1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276640"/>
            <a:ext cx="73080" cy="727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2708280"/>
            <a:ext cx="73080" cy="730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59640" y="2133720"/>
            <a:ext cx="73080" cy="69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8360" y="191628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3640" y="9079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5680080"/>
            <a:ext cx="636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1318"/>
                </a:solidFill>
                <a:latin typeface="Arial"/>
              </a:rPr>
              <a:t>Основные направления исполь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1318"/>
                </a:solidFill>
                <a:latin typeface="Arial"/>
              </a:rPr>
              <a:t>земельны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59280" y="494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51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229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5445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59280" y="522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5928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64000" y="530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6040" y="48672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рошаемые зем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941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23640" y="5157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400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250920" y="0"/>
          <a:ext cx="8892720" cy="6921360"/>
        </p:xfrm>
        <a:graphic>
          <a:graphicData uri="http://schemas.openxmlformats.org/drawingml/2006/table">
            <a:tbl>
              <a:tblPr/>
              <a:tblGrid>
                <a:gridCol w="1431720"/>
                <a:gridCol w="1334160"/>
                <a:gridCol w="1513440"/>
                <a:gridCol w="1513440"/>
                <a:gridCol w="1515240"/>
                <a:gridCol w="1584720"/>
              </a:tblGrid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/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д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шня, 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вые и зернобобовые,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.свекла,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,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,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,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ов рыбы и морепродуктов,кг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823400" y="6184800"/>
            <a:ext cx="62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Показатели развития АПК в некоторых странах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(на душу нас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46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начительная часть с/х угодий страны подвержена переувлажнению и заболачиванию(20%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солению(18%), водной и ветровой эрозии(23%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сухе( в отдельные годы до 77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4105080" cy="302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560" y="765000"/>
            <a:ext cx="40388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го же защите от неблагоприятных условий нуждается 58% пашни и 95% пастби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вязи с этим для России огромное значение имеет мелиорация зем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йчас мелиорировано всего 5% с/х угод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08720" y="549360"/>
            <a:ext cx="3109680" cy="4313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4987080" y="5105520"/>
            <a:ext cx="41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защитная агролесомелио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0066"/>
                </a:solidFill>
                <a:uFillTx/>
                <a:latin typeface="Arial"/>
              </a:rPr>
              <a:t>План </a:t>
            </a: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Состав АП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Сельское хозяйство и его особенност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Что такое АПК и какова его главная задач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Сельскохозяйственные угодь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Земледелие (зерновые, технические культу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564000" y="2060640"/>
            <a:ext cx="2808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Агропромышленный комплекс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окупность взаимосвязанных отраслей хозяйства, участвующих в производстве, переработке сельскохозяйственной продукции и доведении ее до потреб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59280" y="6093000"/>
            <a:ext cx="4286160" cy="47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5400000">
            <a:off x="-1279440" y="2982960"/>
            <a:ext cx="4286160" cy="50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 rot="16200000">
            <a:off x="6425280" y="3126240"/>
            <a:ext cx="42865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00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71640" y="981000"/>
            <a:ext cx="720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Главная задача АПК-обеспечение населения продовольстви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71640" y="5877000"/>
            <a:ext cx="3810240" cy="476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0800000">
            <a:off x="2555640" y="403920"/>
            <a:ext cx="3809880" cy="47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5400000">
            <a:off x="-1402200" y="3137400"/>
            <a:ext cx="3809880" cy="503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 rot="16200000">
            <a:off x="6792840" y="3150720"/>
            <a:ext cx="3809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6165720"/>
            <a:ext cx="828036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6165360"/>
            <a:ext cx="8642160" cy="69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гропромышленный комп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solidFill>
            <a:srgbClr val="daf7a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тав агропромышленного комплекса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404640"/>
            <a:ext cx="3097080" cy="302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готов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раб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реал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гкая и пище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мышлен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тание, торгов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3068640"/>
            <a:ext cx="3097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изво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ш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рудов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брени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дохимик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бикор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1773360"/>
            <a:ext cx="3097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4005360"/>
            <a:ext cx="28814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1280" y="5157720"/>
            <a:ext cx="28814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25360"/>
            <a:ext cx="3240360" cy="3240360"/>
          </a:xfrm>
          <a:prstGeom prst="ellipse">
            <a:avLst/>
          </a:prstGeom>
          <a:solidFill>
            <a:srgbClr val="0b993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480" y="258444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120" y="29242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19480" y="263700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ени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21280" y="2873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15048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1916280"/>
            <a:ext cx="26654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1916280"/>
            <a:ext cx="0" cy="24494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08360" y="1628640"/>
            <a:ext cx="172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19640" y="1052640"/>
            <a:ext cx="22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877080" y="3357360"/>
            <a:ext cx="3589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03640" y="3357720"/>
            <a:ext cx="79236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700000" y="4292280"/>
            <a:ext cx="11509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407664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300360" y="33577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47451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ие три основных з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ПК выделя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ов их соста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ервое звено А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спечивает его машинами и оборудованием, удобрениями, ядохимикатами и 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него зависят успехи всего комплекса, т.к. оно обеспечивает механизацию и автоматизацию АП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34120" y="1484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льскохозяйственная техника достаточно громозд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этому ее производство приближается к местам потреб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рноуборочные комбайны производят в Ростове-на-Дону, льноуборочные- в Бежецке(Тверская обла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435640" y="1413000"/>
            <a:ext cx="3708360" cy="2663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292720" y="414972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ция ЗАО "Сампо-Ростов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435640" y="4508640"/>
            <a:ext cx="38894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ПК использует огромное количество разнообразной тех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расли первого звена не полностью обеспечивают АПК своей продук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нормальной работы необходимо 4 тыс. видов тех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Ф производят лишь полов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3071880" cy="20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273708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012000" y="4797360"/>
            <a:ext cx="2933640" cy="20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43164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вень механизации в картофелеводстве составляет 50%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овощеводстве – ок.30%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скотоводстве – 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 период кризиса почти в 7 раз сократилось применение удобр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05520" y="476280"/>
            <a:ext cx="4038480" cy="301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38640" y="3789360"/>
            <a:ext cx="4005360" cy="28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6:23:20Z</dcterms:created>
  <dc:creator>Соловьёва</dc:creator>
  <dc:description/>
  <dc:language>en-US</dc:language>
  <cp:lastModifiedBy>Соловьёва</cp:lastModifiedBy>
  <dcterms:modified xsi:type="dcterms:W3CDTF">2005-11-30T23:49:11Z</dcterms:modified>
  <cp:revision>6</cp:revision>
  <dc:subject/>
  <dc:title>Агропромышленный комплекс России.</dc:title>
</cp:coreProperties>
</file>