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6.jpeg" ContentType="image/jpe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E93-2AAF-4929-B9BF-73BA21B0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A94-E3FE-4837-B7A1-738E0C3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C39-B4ED-4C14-B1D3-9568B27B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A04-9F25-4FA7-A78E-723B0960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B43-01E6-4100-8E08-BD2B2AF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071-DA8F-40EF-8B7A-E1DCEFF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877-0492-4A12-AA7C-D7FC229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873-D7F6-4A8C-8264-37F3B86F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E3E-6FC0-43CC-AC1A-1869F1CC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B76-DD95-42AD-938F-832F5ED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0B5-D581-449C-9507-F897318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91D-9634-4719-949C-F3604A3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59F9-5D87-4036-B942-67DFEDCA9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Агропромышленный комплекс Росс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: Соловьева Людмил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торое и центральное звено АП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льское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отличает его от других отраслей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сильная зависимость от природных условий, которые в России очень раз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68880" y="3938760"/>
            <a:ext cx="2997360" cy="218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18360" y="37368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74360" y="6589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торая особенность АП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зонность производства большей части сельскохозяйственной продукции вследствие природных особенносте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208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417672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626360" y="35211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ий с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54000" y="64738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орка урожая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особенность – использование живых организмов, которые растут и развиваются по определенным биологическим зак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3289320" cy="21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915080" y="38084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е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14000" y="65898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етверта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ь сельского хозяйст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ие земли в качестве незаменимого средства труда и одновременно предмета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площади ограничены и не могут постоянно расшир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о и плодородие земли можно повысить при правильном использовании, но до определенного пре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располагает огромной земельной площадью – 1709,9 млн.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значительная ее часть приходится на тундру,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222 млн.га (13%) составляют сельскохозяйственные угод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пашни всего 7% (126млн.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681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583" t="14304" r="49006" b="39497"/>
          <a:stretch/>
        </p:blipFill>
        <p:spPr>
          <a:xfrm>
            <a:off x="250920" y="115920"/>
            <a:ext cx="8569080" cy="54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54360" y="8809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42000" y="1144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79080" y="19605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03840" y="27082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19162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тропавловск-   Камча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0200" y="21337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9120" y="529920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есные угод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39880" y="4940280"/>
            <a:ext cx="27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более 40%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39880" y="522756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20-40%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74000" y="462456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ш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8240" y="4148280"/>
            <a:ext cx="323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еал наиболее благоприя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чвенно-климатических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51120" y="465120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зонные пастб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6760" y="494028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дов и о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1280" y="52275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ле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1413000"/>
            <a:ext cx="144360" cy="144360"/>
          </a:xfrm>
          <a:prstGeom prst="flowChartConnector">
            <a:avLst/>
          </a:prstGeom>
          <a:solidFill>
            <a:srgbClr val="eb1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276640"/>
            <a:ext cx="73080" cy="7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708280"/>
            <a:ext cx="73080" cy="730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133720"/>
            <a:ext cx="73080" cy="69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836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9079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5680080"/>
            <a:ext cx="63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Основные направления исполь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земель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544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040" y="48672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ошаемы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9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3640" y="5157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50920" y="0"/>
          <a:ext cx="8892720" cy="6921360"/>
        </p:xfrm>
        <a:graphic>
          <a:graphicData uri="http://schemas.openxmlformats.org/drawingml/2006/table">
            <a:tbl>
              <a:tblPr/>
              <a:tblGrid>
                <a:gridCol w="1431720"/>
                <a:gridCol w="1334160"/>
                <a:gridCol w="1513440"/>
                <a:gridCol w="1513440"/>
                <a:gridCol w="1515240"/>
                <a:gridCol w="158472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шня,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.свекла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в рыбы и морепродуктов,к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823400" y="618480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оказатели развития АПК в некоторых странах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на душу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46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ельная часть с/х угодий страны подвержена переувлажнению и заболачиванию(20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олению(18%), водной и ветровой эрозии(23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ухе( в отдельные годы до 77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410508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40388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же защите от неблагоприятных условий нуждается 58% пашни и 95% пастби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вязи с этим для России огромное значение имеет мелиорация зем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мелиорировано всего 5% с/х уг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109680" cy="431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987080" y="5105520"/>
            <a:ext cx="41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ащитная агролесомелио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План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Состав А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Сельское хозяйство и его особенност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Что такое АПК и какова его главная зад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Сельскохозяйственные угод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Земледелие (зерновые, технические куль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Агропромышленный комплекс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отраслей хозяйства, участвующих в производстве, переработке сельскохозяйственной продукции и доведении ее до потреб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5928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5400000">
            <a:off x="-1279440" y="2982960"/>
            <a:ext cx="428616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16200000">
            <a:off x="6425280" y="3126240"/>
            <a:ext cx="4286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00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2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Главная задача АПК-обеспечение населения продовольств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587700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2555640" y="40392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5400000">
            <a:off x="-1402200" y="3137400"/>
            <a:ext cx="38098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rot="16200000">
            <a:off x="6792840" y="315072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165720"/>
            <a:ext cx="828036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642160" cy="6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опромышлен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solidFill>
            <a:srgbClr val="da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 агропромышленного комплекс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04640"/>
            <a:ext cx="3097080" cy="302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отов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ая и пищ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ние, 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3068640"/>
            <a:ext cx="3097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з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уд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бр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дохимик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бикор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773360"/>
            <a:ext cx="3097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400536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15772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3240360" cy="3240360"/>
          </a:xfrm>
          <a:prstGeom prst="ellipse">
            <a:avLst/>
          </a:prstGeom>
          <a:solidFill>
            <a:srgbClr val="0b993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2584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120" y="2924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19480" y="26370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1280" y="2873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5048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916280"/>
            <a:ext cx="2665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916280"/>
            <a:ext cx="0" cy="244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08360" y="162864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105264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77080" y="3357360"/>
            <a:ext cx="358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3640" y="3357720"/>
            <a:ext cx="79236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700000" y="429228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076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30036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7451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три основных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ПК выделя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 их соста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ервое звено А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спечивает его машинами и оборудованием, удобрениями, ядохимикатами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него зависят успехи всего комплекса, т.к. оно обеспечивает механизацию и автоматизацию АП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4120" y="148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льскохозяйственная техника достаточно громозд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ее производство приближается к местам 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рноуборочные комбайны производят в Ростове-на-Дону, льноуборочные- в Бежецке(Твер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266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92720" y="4149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ция ЗАО "Сампо-Ростов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889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К использует огромное количество разнообраз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асли первого звена не полностью обеспечивают АПК своей прод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нормальной работы необходимо 4 тыс. видов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Ф производят лишь поло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07188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273708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2000" y="4797360"/>
            <a:ext cx="293364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43164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механизации в картофелеводстве составляет 5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овощеводстве – ок.3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котоводстве –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период кризиса почти в 7 раз сократилось применение удоб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476280"/>
            <a:ext cx="4038480" cy="301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38640" y="3789360"/>
            <a:ext cx="400536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6:23:20Z</dcterms:created>
  <dc:creator>Соловьёва</dc:creator>
  <dc:description/>
  <dc:language>en-US</dc:language>
  <cp:lastModifiedBy>Соловьёва</cp:lastModifiedBy>
  <dcterms:modified xsi:type="dcterms:W3CDTF">2005-11-30T23:49:11Z</dcterms:modified>
  <cp:revision>6</cp:revision>
  <dc:subject/>
  <dc:title>Агропромышленный комплекс России.</dc:title>
</cp:coreProperties>
</file>