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gif" ContentType="image/gif"/>
  <Override PartName="/ppt/media/image14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27.gif" ContentType="image/gif"/>
  <Override PartName="/ppt/media/image26.jpeg" ContentType="image/jpeg"/>
  <Override PartName="/ppt/media/image3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0415-3932-48E8-BF4C-E74F02A4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69D7-347A-4D1F-A6FD-DF3560AF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2680-DD66-4FA7-8B00-3DD16A882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0F40-3FE9-47FB-8632-1D2F233E3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2B03-68C2-48C3-9CD0-F57BE98C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4D6A-E818-4106-8F26-1D3BC9C6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12C3-7254-42CA-B4BA-1B678A95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9163-F9FA-4464-B26D-14074F2E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6B99-5969-4116-91C7-1ED16601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CAF4-34D1-4356-8B0F-4C35179A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E76A-CB9A-4B8E-AFFC-222CD48D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25A1-10AB-4669-A21E-C188E70E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764B-BA1B-414F-9FC2-FA7BC543EE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contrast="-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213012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Агропромышленный комплекс России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втор: Соловьева Людмила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итель геогра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У СОШ № 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.Калинингр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Второе и центральное звено АПК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то сельское хозяй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 отличает его от других отраслей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 сильная зависимость от природных условий, которые в России очень разнообраз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168880" y="3938760"/>
            <a:ext cx="2997360" cy="2187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418360" y="373680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у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74360" y="658980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еп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Вторая особенность АПК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то сезонность производства большей части сельскохозяйственной продукции вследствие природных особенностей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4176720" cy="2082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643280" y="4365720"/>
            <a:ext cx="4176720" cy="208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4626360" y="352116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сенний с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54000" y="6473880"/>
            <a:ext cx="26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борка урожая осен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етья особенность – использование живых организмов, которые растут и развиваются по определенным биологическим закон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003640" y="4221000"/>
            <a:ext cx="3289320" cy="2187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4915080" y="380844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сеннее п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14000" y="658980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е осен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Четверта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обенность сельского хозяйств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пользование земли в качестве незаменимого средства труда и одновременно предмета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500720" y="1484280"/>
            <a:ext cx="4643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2447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емельные площади ограничены и не могут постоянно расширя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чество и плодородие земли можно повысить при правильном использовании, но до определенного пред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572000" y="1557360"/>
            <a:ext cx="4572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ссия располагает огромной земельной площадью – 1709,9 млн.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 значительная ее часть приходится на тундру, го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лько 222 млн.га (13%) составляют сельскохозяйственные угод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ля пашни всего 7% (126млн.г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292720" y="1125360"/>
            <a:ext cx="368136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rcRect l="1583" t="14304" r="49006" b="39497"/>
          <a:stretch/>
        </p:blipFill>
        <p:spPr>
          <a:xfrm>
            <a:off x="250920" y="115920"/>
            <a:ext cx="8569080" cy="5472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954360" y="88092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42000" y="114444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79080" y="1960560"/>
            <a:ext cx="15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Екатерин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03840" y="2708280"/>
            <a:ext cx="136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раснояр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20000" y="1916280"/>
            <a:ext cx="17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тропавловск-   Камчат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280200" y="213372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Якут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79120" y="5299200"/>
            <a:ext cx="152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Лесные угод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39880" y="4940280"/>
            <a:ext cx="27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спахано более 40%зем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39880" y="5227560"/>
            <a:ext cx="247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спахано 20-40% зем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74000" y="4624560"/>
            <a:ext cx="8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аш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88240" y="4148280"/>
            <a:ext cx="323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реал наиболее благоприят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чвенно-климатических услов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51120" y="4651200"/>
            <a:ext cx="19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езонные пастбищ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26760" y="4940280"/>
            <a:ext cx="184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ерблюдов и ове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01280" y="5227560"/>
            <a:ext cx="81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ле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19280" y="1413000"/>
            <a:ext cx="144360" cy="144360"/>
          </a:xfrm>
          <a:prstGeom prst="flowChartConnector">
            <a:avLst/>
          </a:prstGeom>
          <a:solidFill>
            <a:srgbClr val="eb13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27280" y="2276640"/>
            <a:ext cx="73080" cy="7272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7280" y="2708280"/>
            <a:ext cx="73080" cy="730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659640" y="2133720"/>
            <a:ext cx="73080" cy="698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388360" y="1916280"/>
            <a:ext cx="71280" cy="71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3640" y="90792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1480" y="5680080"/>
            <a:ext cx="636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1318"/>
                </a:solidFill>
                <a:latin typeface="Arial"/>
              </a:rPr>
              <a:t>Основные направления исполь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1318"/>
                </a:solidFill>
                <a:latin typeface="Arial"/>
              </a:rPr>
              <a:t>земельных ресур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59280" y="4941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59280" y="49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49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59280" y="51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522936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522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26920" y="522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544500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59280" y="5229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59280" y="522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5445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64000" y="530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06040" y="4867200"/>
            <a:ext cx="186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рошаемые зем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4941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6920" y="49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23640" y="5157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24000" y="49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9" name=""/>
          <p:cNvGraphicFramePr/>
          <p:nvPr/>
        </p:nvGraphicFramePr>
        <p:xfrm>
          <a:off x="250920" y="0"/>
          <a:ext cx="8892720" cy="6921360"/>
        </p:xfrm>
        <a:graphic>
          <a:graphicData uri="http://schemas.openxmlformats.org/drawingml/2006/table">
            <a:tbl>
              <a:tblPr/>
              <a:tblGrid>
                <a:gridCol w="1431720"/>
                <a:gridCol w="1334160"/>
                <a:gridCol w="1513440"/>
                <a:gridCol w="1513440"/>
                <a:gridCol w="1515240"/>
                <a:gridCol w="1584720"/>
              </a:tblGrid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по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ан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/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од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шня, 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рновые и зернобобовые,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х.свекла,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тофель,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со,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око,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лов рыбы и морепродуктов,кг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1823400" y="6184800"/>
            <a:ext cx="623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Показатели развития АПК в некоторых странах 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(на душу насел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465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начительная часть с/х угодий страны подвержена переувлажнению и заболачиванию(20%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солению(18%), водной и ветровой эрозии(23%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сухе( в отдельные годы до 77%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788000" y="2133720"/>
            <a:ext cx="4105080" cy="3024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6560" y="765000"/>
            <a:ext cx="40388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его же защите от неблагоприятных условий нуждается 58% пашни и 95% пастби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связи с этим для России огромное значение имеет мелиорация зем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йчас мелиорировано всего 5% с/х угод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508720" y="549360"/>
            <a:ext cx="3109680" cy="4313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89" name=""/>
          <p:cNvSpPr/>
          <p:nvPr/>
        </p:nvSpPr>
        <p:spPr>
          <a:xfrm>
            <a:off x="4987080" y="5105520"/>
            <a:ext cx="416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езащитная агролесомелиор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м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ff0066"/>
                </a:solidFill>
                <a:uFillTx/>
                <a:latin typeface="Arial"/>
              </a:rPr>
              <a:t>План </a:t>
            </a:r>
            <a:r>
              <a:rPr b="0" lang="en-US" sz="66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Состав АП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Сельское хозяйство и его особенности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Что такое АПК и какова его главная задач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Сельскохозяйственные угодь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Земледелие (зерновые, технические культур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564000" y="2060640"/>
            <a:ext cx="28083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Агропромышленный комплекс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вокупность взаимосвязанных отраслей хозяйства, участвующих в производстве, переработке сельскохозяйственной продукции и доведении ее до потреби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59280" y="6093000"/>
            <a:ext cx="4286160" cy="475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 rot="5400000">
            <a:off x="-1279440" y="2982960"/>
            <a:ext cx="4286160" cy="504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 rot="16200000">
            <a:off x="6425280" y="3126240"/>
            <a:ext cx="428652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00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71640" y="981000"/>
            <a:ext cx="720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"/>
              </a:rPr>
              <a:t>Главная задача АПК-обеспечение населения продовольствием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771640" y="5877000"/>
            <a:ext cx="3810240" cy="476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 rot="10800000">
            <a:off x="2555640" y="403920"/>
            <a:ext cx="3809880" cy="476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 rot="5400000">
            <a:off x="-1402200" y="3137400"/>
            <a:ext cx="3809880" cy="503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 rot="16200000">
            <a:off x="6792840" y="3150720"/>
            <a:ext cx="3809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6165720"/>
            <a:ext cx="8280360" cy="69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6165360"/>
            <a:ext cx="8642160" cy="692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гропромышленный компле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solidFill>
            <a:srgbClr val="daf7a7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став агропромышленного комплекса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35640" y="404640"/>
            <a:ext cx="3097080" cy="302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готов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рабо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реализ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ду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гкая и пищев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мышленнос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ществен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тание, торгов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3068640"/>
            <a:ext cx="309708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извод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ши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орудова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добрени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дохимик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бикор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35640" y="1773360"/>
            <a:ext cx="30970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51280" y="4005360"/>
            <a:ext cx="28814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51280" y="5157720"/>
            <a:ext cx="28814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125360"/>
            <a:ext cx="3240360" cy="3240360"/>
          </a:xfrm>
          <a:prstGeom prst="ellipse">
            <a:avLst/>
          </a:prstGeom>
          <a:solidFill>
            <a:srgbClr val="0b993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3480" y="2584440"/>
            <a:ext cx="120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от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5120" y="292428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19480" y="2637000"/>
            <a:ext cx="12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тени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21280" y="28735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71640" y="150480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льское хозя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26920" y="1916280"/>
            <a:ext cx="26654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24000" y="1916280"/>
            <a:ext cx="0" cy="244944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708360" y="1628640"/>
            <a:ext cx="1727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419640" y="1052640"/>
            <a:ext cx="2232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877080" y="3357360"/>
            <a:ext cx="35892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803640" y="3357720"/>
            <a:ext cx="792360" cy="15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2700000" y="4292280"/>
            <a:ext cx="115092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59280" y="4076640"/>
            <a:ext cx="720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300360" y="3357720"/>
            <a:ext cx="7164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474516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ие три основных зв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ПК выделяю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ов их соста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Первое звено АП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19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еспечивает его машинами и оборудованием, удобрениями, ядохимикатами и п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 него зависят успехи всего комплекса, т.к. оно обеспечивает механизацию и автоматизацию АП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334120" y="148428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ельскохозяйственная техника достаточно громоздк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этому ее производство приближается к местам потреб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ерноуборочные комбайны производят в Ростове-на-Дону, льноуборочные- в Бежецке(Тверская обла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435640" y="1413000"/>
            <a:ext cx="3708360" cy="2663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292720" y="4149720"/>
            <a:ext cx="38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укция ЗАО "Сампо-Ростов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435640" y="4508640"/>
            <a:ext cx="388944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ПК использует огромное количество разнообразной тех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расли первого звена не полностью обеспечивают АПК своей продук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нормальной работы необходимо 4 тыс. видов тех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РФ производят лишь полов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940360" y="0"/>
            <a:ext cx="3071880" cy="2060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859280" y="2349360"/>
            <a:ext cx="2737080" cy="194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012000" y="4797360"/>
            <a:ext cx="2933640" cy="2060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3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620280"/>
            <a:ext cx="43164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овень механизации в картофелеводстве составляет 50%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овощеводстве – ок.30%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скотоводстве – 7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 период кризиса почти в 7 раз сократилось применение удобр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105520" y="476280"/>
            <a:ext cx="4038480" cy="3019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138640" y="3789360"/>
            <a:ext cx="4005360" cy="2808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6:23:20Z</dcterms:created>
  <dc:creator>Соловьёва</dc:creator>
  <dc:description/>
  <dc:language>en-US</dc:language>
  <cp:lastModifiedBy>Соловьёва</cp:lastModifiedBy>
  <dcterms:modified xsi:type="dcterms:W3CDTF">2005-11-30T23:49:11Z</dcterms:modified>
  <cp:revision>6</cp:revision>
  <dc:subject/>
  <dc:title>Агропромышленный комплекс России.</dc:title>
</cp:coreProperties>
</file>