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115A-04D1-4D03-8F74-AC37F6AF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022-FAC3-47DE-BC2A-5279F67D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C4C-C9DD-4B5C-80B0-6D3DB1EC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F42-CD97-479A-8BE0-FF6CF40B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E74F-A73D-407C-A070-F0D0E081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B699-3925-4B18-AD84-16196656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B857-FF61-424B-8547-8CB9931E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DEF6-DF81-4046-89F2-1A611E99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64C8-6196-4B37-93AE-78C18353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0EFB-AD6F-4D4C-9454-A7F51693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B291-78E0-461F-B736-0B41F85A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5F8-EDA3-4D3F-9F0B-ED94482C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ACA7-B6DA-4504-B0D9-1341B3B1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00D0-D0D9-44A6-9D3D-0815AA69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40A9-6EF2-4056-B090-F8710BD0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3575-27B9-4471-B83E-59BFB81C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A6B9-D6EE-4644-8ED6-BFF803BD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3EF-4525-40CF-8F9B-AA2E6267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1A1-FDAF-4CD4-B13B-1F56B4EE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5AE-1603-4EF9-AB09-9B0F3EB4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083-8A1F-496F-8DF5-4CF87F47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D63-8C27-4C73-891A-9F94B03D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9A4-AC01-4256-8433-50538BBC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ABC-3CA4-43E2-B778-C920554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49FC-D5E7-4F2E-BF93-EADD40021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6B22-0DAE-4E00-A676-FC3B777F9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Состав слова. Обобщение. 2 класс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грам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Начальная школа Х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е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: Шакунова Е.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В.Берестов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Первое апреля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тичье щебетань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канье кап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ходит утро ранне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ого апрел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этот ден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лыб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ить без шут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х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ты обид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пыл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бы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муры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жи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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ы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гись подвох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cc"/>
                </a:solidFill>
                <a:latin typeface="Wingdings 2"/>
                <a:ea typeface="Wingdings 2"/>
              </a:rPr>
              <a:t></a:t>
            </a:r>
            <a:r>
              <a:rPr b="1" lang="ru-RU" sz="7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ffffcc"/>
                </a:solidFill>
                <a:latin typeface="Times New Roman"/>
              </a:rPr>
              <a:t>+ чив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72000" y="1341000"/>
            <a:ext cx="1008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1341360"/>
            <a:ext cx="79236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5c5ff"/>
                </a:solidFill>
                <a:latin typeface="Wingdings 2"/>
                <a:ea typeface="Wingdings 2"/>
              </a:rPr>
              <a:t></a:t>
            </a:r>
            <a:r>
              <a:rPr b="1" lang="en-US" sz="6600" spc="-1" strike="noStrike">
                <a:solidFill>
                  <a:srgbClr val="c5c5ff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c5c5ff"/>
                </a:solidFill>
                <a:latin typeface="Times New Roman"/>
              </a:rPr>
              <a:t>+ ость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зло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горд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вежлив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мудр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честны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хитры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572000" y="404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404640"/>
            <a:ext cx="79200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640" y="5157720"/>
            <a:ext cx="2733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орошо быть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9280" y="5157720"/>
            <a:ext cx="28288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333333"/>
                </a:solidFill>
                <a:latin typeface="Times New Roman"/>
              </a:rPr>
              <a:t>Плохо быть: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333333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                      ишь     –     люд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шь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Без                    а     не                              иш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                         у       из                    а   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76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76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0920" y="765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692360" y="765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125360"/>
            <a:ext cx="934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84720" y="1052640"/>
            <a:ext cx="792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720" y="2276640"/>
            <a:ext cx="934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940360" y="213372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39280" y="213372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7964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000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3429000"/>
            <a:ext cx="57600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9640" y="33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357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8472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3640" y="3284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67640" y="3429000"/>
            <a:ext cx="100980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042920" y="4508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3280" y="4508640"/>
            <a:ext cx="1440720" cy="71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556000" y="4437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843280" y="4437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4653000"/>
            <a:ext cx="576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148360" y="4437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6920" y="4437000"/>
            <a:ext cx="144072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4653000"/>
            <a:ext cx="576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                    зуб                        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                     снег                       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                      гриб                     н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                    корм                      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                     ход                       уш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                     мор                         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                       цвет                       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49360"/>
            <a:ext cx="20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54936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476280"/>
            <a:ext cx="230472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916360" y="47628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55640" y="1341360"/>
            <a:ext cx="2304000" cy="12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341360"/>
            <a:ext cx="2304720" cy="129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03640" y="1341000"/>
            <a:ext cx="647640" cy="57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850920" y="1341000"/>
            <a:ext cx="647640" cy="57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1413000"/>
            <a:ext cx="1081080" cy="792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2565360"/>
            <a:ext cx="20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256536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43280" y="242100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2421000"/>
            <a:ext cx="230472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2349360"/>
            <a:ext cx="1081080" cy="792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292720" y="242100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940000" y="242100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3429000"/>
            <a:ext cx="201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3429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203640" y="328464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32720" y="3284640"/>
            <a:ext cx="2304000" cy="129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156360" y="335772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803640" y="3357720"/>
            <a:ext cx="6476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457200" y="476280"/>
          <a:ext cx="8229600" cy="5954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ончание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ая часть родственных сл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рень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, которая стоит за корнем и служит для образования новых сл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ффикс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, которая изменяет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ставка 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 без оконча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а слов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ь слова, которая стоит перед корнем и служит для образования новых слов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328464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конча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рен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уффик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став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снова сл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Корень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Приставка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Суффикс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Основа слова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Окончание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8:50:14Z</dcterms:created>
  <dc:creator>Sunshine</dc:creator>
  <dc:description/>
  <dc:language>en-US</dc:language>
  <cp:lastModifiedBy>admin</cp:lastModifiedBy>
  <dcterms:modified xsi:type="dcterms:W3CDTF">2007-03-12T10:58:02Z</dcterms:modified>
  <cp:revision>4</cp:revision>
  <dc:subject/>
  <dc:title>Состав слова. Обобщение. 2 класс</dc:title>
</cp:coreProperties>
</file>