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5BA-975F-4F58-9AF5-AE520D72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126-57EB-448E-9EE8-BE38E33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1E0-FE1E-4ED4-A4D8-59B92430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4DB-4BE6-4955-A352-ECA44487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009-A8F6-4B5F-9736-2749BA82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E46-BF02-420A-AE9D-C40C5296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4E9B-CF93-4363-962B-E5C66F8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25D-7751-4751-9DAF-AF5C8DE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54C3-9D85-412D-B304-2A5E8DF2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EC7-F4C6-4794-A5FF-B6761EB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5559-408A-4E1D-AB1D-2CCBD5E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F3A-1284-425C-96A3-08FAD6F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D42-2650-4783-A884-98AAA7D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3573-1648-4F67-8CA5-74EF7FC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EBA-F8E9-4650-A03E-2CEB0C34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2C0-4814-4A87-A9A3-10BB58A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3C5-E0F2-43B0-ADA0-01E9DCDA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422-4376-4CCD-87C7-2156835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569-E36C-4327-9BF1-D317CFD4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A70-D191-494B-B95E-71233B3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419-F72C-4A40-BCB2-93D8C61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1DF-BCBD-4BA7-8701-94C74B5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7DA-C15A-43E0-BDBC-0C5629C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F04-99A4-4C61-8E05-B994A16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FCF-8386-4690-9E46-33A706E7D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F23-A0FF-474B-94B4-623B711A7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Состав слова. Обобщение. 2 класс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ачальная школа Х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: Шакунова Е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.Берестов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Первое апреля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чье щебетань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канье кап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ходит утро ранн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го апре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этот ден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ыб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ть без шут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ы обид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ыл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ы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мур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жи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гись подвох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Wingdings 2"/>
                <a:ea typeface="Wingdings 2"/>
              </a:rPr>
              <a:t>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+ чив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72000" y="134100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1341360"/>
            <a:ext cx="792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5c5ff"/>
                </a:solidFill>
                <a:latin typeface="Wingdings 2"/>
                <a:ea typeface="Wingdings 2"/>
              </a:rPr>
              <a:t>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+ ость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зло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горд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вежлив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мудр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честн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хитры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572000" y="40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4640"/>
            <a:ext cx="792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5157720"/>
            <a:ext cx="2733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орошо быть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9280" y="5157720"/>
            <a:ext cx="2828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333333"/>
                </a:solidFill>
                <a:latin typeface="Times New Roman"/>
              </a:rPr>
              <a:t>Плохо быть: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3333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                      ишь     –     люд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шь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Без                    а     не                              и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                         у       из                    а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76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092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9236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125360"/>
            <a:ext cx="934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1052640"/>
            <a:ext cx="792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2276640"/>
            <a:ext cx="934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4036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3928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79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000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429000"/>
            <a:ext cx="5760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8472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3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3429000"/>
            <a:ext cx="10098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04292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328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5600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84328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4836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692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                    зуб                        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                     снег                       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                     гриб                     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                    корм                      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                    ход                       уш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                     мор                         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                       цвет                       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49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49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47628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360" y="47628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55640" y="1341360"/>
            <a:ext cx="230400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341360"/>
            <a:ext cx="230472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364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85092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1413000"/>
            <a:ext cx="1081080" cy="792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565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2565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43280" y="242100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242100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349360"/>
            <a:ext cx="108108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9272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94000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42900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20364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72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5636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80364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57200" y="476280"/>
          <a:ext cx="8229600" cy="595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ончание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ая часть родственных с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ень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за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ффикс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изменя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тавка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 без оконч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а слов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перед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конч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ффик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ста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а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Корень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Приставк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Суффикс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снова слов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кончание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8:50:14Z</dcterms:created>
  <dc:creator>Sunshine</dc:creator>
  <dc:description/>
  <dc:language>en-US</dc:language>
  <cp:lastModifiedBy>admin</cp:lastModifiedBy>
  <dcterms:modified xsi:type="dcterms:W3CDTF">2007-03-12T10:58:02Z</dcterms:modified>
  <cp:revision>4</cp:revision>
  <dc:subject/>
  <dc:title>Состав слова. Обобщение. 2 класс</dc:title>
</cp:coreProperties>
</file>