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8DB1-4AEB-473B-9FD0-16E882528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B12C-50C4-4484-A4D9-E66AB3EA9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680F-E7D4-423B-856C-A97CA2F96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45E6-C7E9-4DA6-A795-D84D21A24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90147-6076-4E9D-8F33-6EAE901E6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DF4C5-505F-4B43-A8D1-4F1ADAC46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47992-296A-42C5-98F4-BDFE0FE3F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803B4-B948-4CA0-8B03-1B20DB62A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B2301-6887-4BAC-B34B-C947FDC76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63CF3-87CD-49CE-8E94-08BB8679D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E7793-2E34-46F7-B331-78FBF44B3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67E5-3028-43E1-8D6C-7FA99C268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BCC90-91D1-4877-A7C3-0654D86D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88DB1-0D77-4453-9633-EA9A632F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B68C4-5E60-4FBA-9FE6-1A1574DE3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55C20-505D-4A6A-9F72-ABA47EEA7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B289B-A6B1-4748-B8FA-4818D1976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2E6E-9A13-4C5B-B917-C28F9D6C7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5378-40DD-4BAC-AD24-5F00E0514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23A4-5DA4-4B0D-919B-84D55A1C2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988E-FBEB-4602-8BDF-637FE1F90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8EA9-936D-4E3B-A861-B689BC80C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F815-E7A7-410D-883D-F8FB64DB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DF6E-5739-444D-BA06-D816E5BE5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782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47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86A7D-D8D7-4FF1-8E45-15EAC3E37C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782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47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10776-4599-4FB9-BA29-79E797B73D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Состав слова. Обобщение. 2 класс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ограмма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Начальная школа ХХ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века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: Шакунова Е.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В.Берестов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Первое апреля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тичье щебетанье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иканье капел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сходит утро ранне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ервого апрел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этот день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лыб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Wingdings 3"/>
                <a:ea typeface="Wingdings 3"/>
              </a:rPr>
              <a:t>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ы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Жить без шуток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лохо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сли ты обид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Wingdings 3"/>
                <a:ea typeface="Wingdings 3"/>
              </a:rPr>
              <a:t>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ый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спыль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Wingdings 3"/>
                <a:ea typeface="Wingdings 3"/>
              </a:rPr>
              <a:t>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ый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быв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Wingdings 3"/>
                <a:ea typeface="Wingdings 3"/>
              </a:rPr>
              <a:t>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ый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Хмурый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ужив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Wingdings 3"/>
                <a:ea typeface="Wingdings 3"/>
              </a:rPr>
              <a:t>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ый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ерегись подвоха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cc"/>
                </a:solidFill>
                <a:latin typeface="Wingdings 2"/>
                <a:ea typeface="Wingdings 2"/>
              </a:rPr>
              <a:t></a:t>
            </a:r>
            <a:r>
              <a:rPr b="1" lang="ru-RU" sz="7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ru-RU" sz="7200" spc="-1" strike="noStrike">
                <a:solidFill>
                  <a:srgbClr val="ffffcc"/>
                </a:solidFill>
                <a:latin typeface="Times New Roman"/>
              </a:rPr>
              <a:t>+ чив</a:t>
            </a:r>
            <a:endParaRPr b="1" lang="en-US" sz="7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4572000" y="1341000"/>
            <a:ext cx="1008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580000" y="1341360"/>
            <a:ext cx="792360" cy="35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700ae"/>
            </a:gs>
            <a:gs pos="100000">
              <a:srgbClr val="7301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5c5ff"/>
                </a:solidFill>
                <a:latin typeface="Wingdings 2"/>
                <a:ea typeface="Wingdings 2"/>
              </a:rPr>
              <a:t></a:t>
            </a:r>
            <a:r>
              <a:rPr b="1" lang="en-US" sz="6600" spc="-1" strike="noStrike">
                <a:solidFill>
                  <a:srgbClr val="c5c5ff"/>
                </a:solidFill>
                <a:latin typeface="Times New Roman"/>
              </a:rPr>
              <a:t> </a:t>
            </a:r>
            <a:r>
              <a:rPr b="1" lang="en-US" sz="6600" spc="-1" strike="noStrike">
                <a:solidFill>
                  <a:srgbClr val="c5c5ff"/>
                </a:solidFill>
                <a:latin typeface="Times New Roman"/>
              </a:rPr>
              <a:t>+ ость</a:t>
            </a:r>
            <a:endParaRPr b="1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злой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гордый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вежливый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мудрый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честный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хитрый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4572000" y="404280"/>
            <a:ext cx="86364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35640" y="404640"/>
            <a:ext cx="792000" cy="28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755640" y="5157720"/>
            <a:ext cx="27338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Хорошо быть: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859280" y="5157720"/>
            <a:ext cx="282888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ffffff"/>
                  </a:solidFill>
                  <a:miter/>
                </a:ln>
                <a:solidFill>
                  <a:srgbClr val="333333"/>
                </a:solidFill>
                <a:latin typeface="Times New Roman"/>
              </a:rPr>
              <a:t>Плохо быть:</a:t>
            </a:r>
            <a:endParaRPr b="1" lang="en-US" sz="1800" spc="1" strike="noStrike">
              <a:ln w="15840">
                <a:solidFill>
                  <a:srgbClr val="ffffff"/>
                </a:solidFill>
                <a:miter/>
              </a:ln>
              <a:solidFill>
                <a:srgbClr val="333333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                       ишь     –     люд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шь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Без                    а     не                              иш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                          у       из                    а   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71640" y="765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19280" y="76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690920" y="765000"/>
            <a:ext cx="1440720" cy="71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692360" y="765000"/>
            <a:ext cx="1440720" cy="71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03640" y="1125360"/>
            <a:ext cx="934920" cy="57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084720" y="1052640"/>
            <a:ext cx="792360" cy="57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524720" y="2276640"/>
            <a:ext cx="934920" cy="57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076720" y="213372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724360" y="213372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5940360" y="2133720"/>
            <a:ext cx="1440720" cy="71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939280" y="2133720"/>
            <a:ext cx="1440720" cy="71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1979640" y="3284640"/>
            <a:ext cx="1440720" cy="71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980000" y="3284640"/>
            <a:ext cx="1440720" cy="71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19640" y="3429000"/>
            <a:ext cx="576000" cy="57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219640" y="335772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867280" y="335772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6084720" y="3284640"/>
            <a:ext cx="1440720" cy="71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83640" y="3284640"/>
            <a:ext cx="1440720" cy="71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667640" y="3429000"/>
            <a:ext cx="1009800" cy="57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1042920" y="4508640"/>
            <a:ext cx="1440720" cy="71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43280" y="4508640"/>
            <a:ext cx="1440720" cy="71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2556000" y="4437000"/>
            <a:ext cx="28728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2843280" y="4437000"/>
            <a:ext cx="28728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03640" y="4653000"/>
            <a:ext cx="576360" cy="57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5148360" y="4437000"/>
            <a:ext cx="1440720" cy="71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146920" y="4437000"/>
            <a:ext cx="1440720" cy="71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88000" y="4653000"/>
            <a:ext cx="576360" cy="57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7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3141360"/>
            <a:ext cx="8229600" cy="37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                     зуб                        с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                      снег                       и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                      гриб                     ни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ере                    корм                      о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                     ход                       уш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                      мор                         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                       цвет                       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49360"/>
            <a:ext cx="2016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700360" y="549360"/>
            <a:ext cx="0" cy="287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843280" y="476280"/>
            <a:ext cx="2304720" cy="129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2916360" y="476280"/>
            <a:ext cx="2304000" cy="129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55640" y="1341360"/>
            <a:ext cx="2304000" cy="1298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1341360"/>
            <a:ext cx="2304720" cy="1298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3203640" y="1341000"/>
            <a:ext cx="647640" cy="574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3850920" y="1341000"/>
            <a:ext cx="647640" cy="574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859280" y="1413000"/>
            <a:ext cx="1081080" cy="792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4360" y="2565360"/>
            <a:ext cx="2016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700360" y="2565360"/>
            <a:ext cx="0" cy="287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843280" y="2421000"/>
            <a:ext cx="2304000" cy="129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843280" y="2421000"/>
            <a:ext cx="2304720" cy="129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804000" y="2349360"/>
            <a:ext cx="1081080" cy="7923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5292720" y="2421000"/>
            <a:ext cx="647640" cy="574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5940000" y="2421000"/>
            <a:ext cx="647640" cy="574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84360" y="3429000"/>
            <a:ext cx="2016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00360" y="3429000"/>
            <a:ext cx="0" cy="287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3203640" y="3284640"/>
            <a:ext cx="2304000" cy="129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132720" y="3284640"/>
            <a:ext cx="2304000" cy="129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6156360" y="3357720"/>
            <a:ext cx="647640" cy="574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6803640" y="3357720"/>
            <a:ext cx="647640" cy="574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457200" y="476280"/>
          <a:ext cx="8229600" cy="59547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кончание 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щая часть родственных сл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8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рень 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асть слова, которая стоит за корнем и служит для образования новых слов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уффикс 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асть слова, которая изменяетс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иставка 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асть слова без окончан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8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снова слова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асть слова, которая стоит перед корнем и служит для образования новых слов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57200" y="3284640"/>
            <a:ext cx="8229600" cy="28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ff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кончание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ff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орен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ff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уффик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ff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ристав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ff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снова слов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30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Корень</a:t>
            </a:r>
            <a:br>
              <a:rPr sz="3600"/>
            </a:b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Приставка</a:t>
            </a:r>
            <a:br>
              <a:rPr sz="3600"/>
            </a:b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Суффикс</a:t>
            </a:r>
            <a:br>
              <a:rPr sz="3600"/>
            </a:b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Основа слова</a:t>
            </a:r>
            <a:br>
              <a:rPr sz="3600"/>
            </a:b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Окончание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2T08:50:14Z</dcterms:created>
  <dc:creator>Sunshine</dc:creator>
  <dc:description/>
  <dc:language>en-US</dc:language>
  <cp:lastModifiedBy>admin</cp:lastModifiedBy>
  <dcterms:modified xsi:type="dcterms:W3CDTF">2007-03-12T10:58:02Z</dcterms:modified>
  <cp:revision>4</cp:revision>
  <dc:subject/>
  <dc:title>Состав слова. Обобщение. 2 класс</dc:title>
</cp:coreProperties>
</file>