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74AA-6494-4A9D-8ACF-321C76C6D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AB6-09E0-4812-A52B-C0077987D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7B8-E7E1-47B6-B2F2-137032B7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BCA-E5F7-481D-ADE2-A215E01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DAC-B11D-4158-A394-A36912D3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B74-23E3-4617-AD29-B9FB98BE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466-C25F-4EC2-8228-0CD9E0B4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A4A-A60A-4E70-9B8B-857ADC3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FEA-775E-4D68-9C9F-2184525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6F1-B892-4D65-95F6-D93A42EA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78F-6A39-418F-83B0-1007696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9A5-C653-429C-9CF0-D975111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2F7-0518-40E2-BAFD-838638B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D57-ED44-4ADA-A261-676198E7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57D5-ABFB-411D-8F48-DC62C03137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72428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Внеклассное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« Я горжусь своей малой Родин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im5-tub-ua.yandex.net/i?id=114077869-49-72&amp;n=17"/>
          <p:cNvPicPr/>
          <p:nvPr/>
        </p:nvPicPr>
        <p:blipFill>
          <a:blip r:embed="rId1"/>
          <a:stretch/>
        </p:blipFill>
        <p:spPr>
          <a:xfrm>
            <a:off x="2333520" y="620640"/>
            <a:ext cx="44704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41264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Цвета Белгородского фла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символизируют богат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недр, изобилие и кров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пролитую защитник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       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Отечества</a:t>
            </a:r>
            <a:r>
              <a:rPr b="1" lang="en-US" sz="3200" spc="-1" strike="noStrike">
                <a:solidFill>
                  <a:srgbClr val="4646c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134136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Флаг Белгородской област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разделён синим крестом 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четыре равные част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белого, зелёног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красного и чёрного цвет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356000" y="1413000"/>
            <a:ext cx="42483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На белом пол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герб обл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четырёхцвет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полотнище с Андреевским флагом,  является основной  символикой региона</a:t>
            </a:r>
            <a:r>
              <a:rPr b="1" lang="en-US" sz="2400" spc="-1" strike="noStrike">
                <a:solidFill>
                  <a:srgbClr val="4646c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&amp;Bcy;&amp;iecy;&amp;lcy;&amp;gcy;&amp;ocy;&amp;rcy;&amp;ocy;&amp;dcy;&amp;scy;&amp;kcy;&amp;acy;&amp;yacy; &amp;ocy;&amp;bcy;&amp;lcy;&amp;acy;&amp;scy;&amp;tcy;&amp;softcy;. &amp;Gcy;&amp;iecy;&amp;rcy;&amp;bcy;. "/>
          <p:cNvPicPr/>
          <p:nvPr/>
        </p:nvPicPr>
        <p:blipFill>
          <a:blip r:embed="rId1"/>
          <a:stretch/>
        </p:blipFill>
        <p:spPr>
          <a:xfrm>
            <a:off x="500040" y="1643040"/>
            <a:ext cx="3571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360" y="714240"/>
            <a:ext cx="820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Белый цвет - богатые залежи и производство мела, молока и саха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Зелёный – изобилие и плодородие земли, полей и ле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Красный – кровь, пролитая защитниками Отечества на Белгородских рубежах </a:t>
            </a:r>
            <a:r>
              <a:rPr b="1" lang="en-US" sz="2800" spc="-1" strike="noStrike">
                <a:solidFill>
                  <a:srgbClr val="4646c2"/>
                </a:solidFill>
                <a:latin typeface="Calibri"/>
              </a:rPr>
              <a:t>XVI</a:t>
            </a: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4646c2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 в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Чёрный – богатство почвы, её чернозём и недра. </a:t>
            </a:r>
            <a:r>
              <a:rPr b="0" lang="ru-RU" sz="2800" spc="-1" strike="noStrike">
                <a:solidFill>
                  <a:srgbClr val="4646c2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Синий цвет – цвет Богородицы. Богороди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издавна считается покровительницей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 чего начинается у нас любовь к нашей малой Родине. Любовь  к Родине для нас  начинается с Белогорья и синих да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3" descr="mel_gory"/>
          <p:cNvPicPr/>
          <p:nvPr/>
        </p:nvPicPr>
        <p:blipFill>
          <a:blip r:embed="rId1"/>
          <a:stretch/>
        </p:blipFill>
        <p:spPr>
          <a:xfrm>
            <a:off x="857160" y="1857240"/>
            <a:ext cx="7358040" cy="4429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286000" y="357192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a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школа\Desktop\природа\00039780.jpg"/>
          <p:cNvPicPr/>
          <p:nvPr/>
        </p:nvPicPr>
        <p:blipFill>
          <a:blip r:embed="rId1"/>
          <a:stretch/>
        </p:blipFill>
        <p:spPr>
          <a:xfrm>
            <a:off x="611280" y="333360"/>
            <a:ext cx="8001000" cy="5786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1571760" y="785880"/>
            <a:ext cx="5286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, как такой землёй нам не горд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не любить ее просторные пол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 повезло на Белгородчине роди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щедрая историей земл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школа\Desktop\природа\00039779.jpg"/>
          <p:cNvPicPr/>
          <p:nvPr/>
        </p:nvPicPr>
        <p:blipFill>
          <a:blip r:embed="rId1"/>
          <a:stretch/>
        </p:blipFill>
        <p:spPr>
          <a:xfrm>
            <a:off x="250920" y="2637000"/>
            <a:ext cx="4071960" cy="374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школа\Desktop\природа\00039783.jpg"/>
          <p:cNvPicPr/>
          <p:nvPr/>
        </p:nvPicPr>
        <p:blipFill>
          <a:blip r:embed="rId2"/>
          <a:stretch/>
        </p:blipFill>
        <p:spPr>
          <a:xfrm>
            <a:off x="4859280" y="249228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mg0.liveinternet.ru/images/attach/c/1/62/256/62256885_20000_3.jpg"/>
          <p:cNvPicPr/>
          <p:nvPr/>
        </p:nvPicPr>
        <p:blipFill>
          <a:blip r:embed="rId1"/>
          <a:stretch/>
        </p:blipFill>
        <p:spPr>
          <a:xfrm>
            <a:off x="571680" y="357120"/>
            <a:ext cx="75722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фотоальбом1 05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yur-centr.ru/files/yasni/4.jpg"/>
          <p:cNvPicPr/>
          <p:nvPr/>
        </p:nvPicPr>
        <p:blipFill>
          <a:blip r:embed="rId1"/>
          <a:stretch/>
        </p:blipFill>
        <p:spPr>
          <a:xfrm>
            <a:off x="474840" y="307800"/>
            <a:ext cx="82404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lub.foto.ru/gallery/images/photo/2007/02/28/801758.jpg"/>
          <p:cNvPicPr/>
          <p:nvPr/>
        </p:nvPicPr>
        <p:blipFill>
          <a:blip r:embed="rId1"/>
          <a:stretch/>
        </p:blipFill>
        <p:spPr>
          <a:xfrm>
            <a:off x="692280" y="428760"/>
            <a:ext cx="773748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g-fotki.yandex.ru/get/5402/medicina21.6/0_3c2cf_4c47330_XL"/>
          <p:cNvPicPr/>
          <p:nvPr/>
        </p:nvPicPr>
        <p:blipFill>
          <a:blip r:embed="rId1"/>
          <a:stretch/>
        </p:blipFill>
        <p:spPr>
          <a:xfrm>
            <a:off x="352440" y="642960"/>
            <a:ext cx="82850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рта Белгород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Схема достопримечательностей Белгородской области"/>
          <p:cNvPicPr/>
          <p:nvPr/>
        </p:nvPicPr>
        <p:blipFill>
          <a:blip r:embed="rId1"/>
          <a:stretch/>
        </p:blipFill>
        <p:spPr>
          <a:xfrm>
            <a:off x="1332000" y="155736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yur-centr.ru/files/yasni/6.jpg"/>
          <p:cNvPicPr/>
          <p:nvPr/>
        </p:nvPicPr>
        <p:blipFill>
          <a:blip r:embed="rId1"/>
          <a:stretch/>
        </p:blipFill>
        <p:spPr>
          <a:xfrm>
            <a:off x="428760" y="285840"/>
            <a:ext cx="82152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nikolo-ioasaf.prihod.ru/users/80/980/editor_files/image/2BelBlag/017_YasnieZori/YasnieZori.jpg"/>
          <p:cNvPicPr/>
          <p:nvPr/>
        </p:nvPicPr>
        <p:blipFill>
          <a:blip r:embed="rId1"/>
          <a:srcRect l="0" t="0" r="-1241" b="7388"/>
          <a:stretch/>
        </p:blipFill>
        <p:spPr>
          <a:xfrm>
            <a:off x="1857240" y="1773360"/>
            <a:ext cx="5786640" cy="428616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ам в селе Ясные З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yur-centr.ru/files/yasni/1.jpg"/>
          <p:cNvPicPr/>
          <p:nvPr/>
        </p:nvPicPr>
        <p:blipFill>
          <a:blip r:embed="rId1"/>
          <a:stretch/>
        </p:blipFill>
        <p:spPr>
          <a:xfrm>
            <a:off x="500040" y="21420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jasniezori.prihod.ru/users/83/983/editor_files/image/%D1%84%D0%BE%D1%82%D0%BE%D0%B3%D1%80%D0%B0%D1%84%D0%B8%D1%8F.jpg"/>
          <p:cNvPicPr/>
          <p:nvPr/>
        </p:nvPicPr>
        <p:blipFill>
          <a:blip r:embed="rId1"/>
          <a:stretch/>
        </p:blipFill>
        <p:spPr>
          <a:xfrm>
            <a:off x="857160" y="642960"/>
            <a:ext cx="793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ам в селе Черемош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&amp;KHcy;&amp;rcy;&amp;acy;&amp;mcy; &amp;Vcy;&amp;ocy;&amp;scy;&amp;kcy;&amp;rcy;&amp;iecy;&amp;scy;&amp;iecy;&amp;ncy;&amp;icy;&amp;yacy; &amp;KHcy;&amp;rcy;&amp;icy;&amp;scy;&amp;tcy;&amp;ocy;&amp;vcy;&amp;acy; &amp;vcy; &amp;scy;&amp;iecy;&amp;lcy;&amp;iecy; &amp;CHcy;&amp;iecy;&amp;rcy;&amp;iecy;&amp;mcy;&amp;ocy;&amp;shcy;&amp;ncy;&amp;ocy;&amp;iecy; &amp;Bcy;&amp;iecy;&amp;lcy;&amp;gcy;&amp;ocy;&amp;rcy;&amp;ocy;&amp;dcy;&amp;scy;&amp;kcy;&amp;ocy;&amp;jcy; &amp;ocy;&amp;bcy;&amp;lcy;&amp;acy;&amp;scy;&amp;tcy;&amp;icy;"/>
          <p:cNvPicPr/>
          <p:nvPr/>
        </p:nvPicPr>
        <p:blipFill>
          <a:blip r:embed="rId1"/>
          <a:stretch/>
        </p:blipFill>
        <p:spPr>
          <a:xfrm>
            <a:off x="684360" y="1628640"/>
            <a:ext cx="7858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429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http://mw2.google.com/mw-panoramio/photos/thumbnail/30710755.jpg"/>
          <p:cNvPicPr/>
          <p:nvPr/>
        </p:nvPicPr>
        <p:blipFill>
          <a:blip r:embed="rId1"/>
          <a:stretch/>
        </p:blipFill>
        <p:spPr>
          <a:xfrm>
            <a:off x="4584600" y="2997360"/>
            <a:ext cx="4286520" cy="3214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3903840" y="3244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script: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03840" y="3244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script: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mw2.google.com/mw-panoramio/photos/thumbnail/17864344.jpg"/>
          <p:cNvPicPr/>
          <p:nvPr/>
        </p:nvPicPr>
        <p:blipFill>
          <a:blip r:embed="rId2"/>
          <a:stretch/>
        </p:blipFill>
        <p:spPr>
          <a:xfrm>
            <a:off x="547560" y="642960"/>
            <a:ext cx="47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:\Фотографии 4кл 9 мая\IMG_2467.JPG"/>
          <p:cNvPicPr/>
          <p:nvPr/>
        </p:nvPicPr>
        <p:blipFill>
          <a:blip r:embed="rId1"/>
          <a:stretch/>
        </p:blipFill>
        <p:spPr>
          <a:xfrm>
            <a:off x="849240" y="1197000"/>
            <a:ext cx="7620120" cy="507204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44604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ши вете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www.gubkin31.ru/images/photos/medium/601f56cb89ebadc6f0ff83ebf4afa564.jpg"/>
          <p:cNvPicPr/>
          <p:nvPr/>
        </p:nvPicPr>
        <p:blipFill>
          <a:blip r:embed="rId1"/>
          <a:stretch/>
        </p:blipFill>
        <p:spPr>
          <a:xfrm>
            <a:off x="468360" y="549360"/>
            <a:ext cx="82422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g-fotki.yandex.ru/get/4210/rassolof.15/0_2450e_badb7f74_XL"/>
          <p:cNvPicPr/>
          <p:nvPr/>
        </p:nvPicPr>
        <p:blipFill>
          <a:blip r:embed="rId1"/>
          <a:stretch/>
        </p:blipFill>
        <p:spPr>
          <a:xfrm>
            <a:off x="1116000" y="1298520"/>
            <a:ext cx="7265880" cy="52563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44604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елы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rodniki.bel.ru/d_load/wallpaper/pnrm1_3.jpg"/>
          <p:cNvPicPr/>
          <p:nvPr/>
        </p:nvPicPr>
        <p:blipFill>
          <a:blip r:embed="rId1"/>
          <a:stretch/>
        </p:blipFill>
        <p:spPr>
          <a:xfrm>
            <a:off x="755640" y="549360"/>
            <a:ext cx="78296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Фото леса, Майский лес фотография пейзаж природа скачать посмотреть"/>
          <p:cNvPicPr/>
          <p:nvPr/>
        </p:nvPicPr>
        <p:blipFill>
          <a:blip r:embed="rId1"/>
          <a:srcRect l="0" t="0" r="-94" b="4462"/>
          <a:stretch/>
        </p:blipFill>
        <p:spPr>
          <a:xfrm>
            <a:off x="500040" y="21420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moykray.3dn.ru/_ph/1/2/912181336.jpg"/>
          <p:cNvPicPr/>
          <p:nvPr/>
        </p:nvPicPr>
        <p:blipFill>
          <a:blip r:embed="rId1"/>
          <a:stretch/>
        </p:blipFill>
        <p:spPr>
          <a:xfrm>
            <a:off x="1157400" y="1500120"/>
            <a:ext cx="68436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1.liveinternet.ru/images/attach/c/2/74/471/74471651_Belgorod015.jpg"/>
          <p:cNvPicPr/>
          <p:nvPr/>
        </p:nvPicPr>
        <p:blipFill>
          <a:blip r:embed="rId1"/>
          <a:stretch/>
        </p:blipFill>
        <p:spPr>
          <a:xfrm>
            <a:off x="781200" y="428760"/>
            <a:ext cx="75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ubkin31.ru/images/photos/medium/c82f4cd7299156760bb1fa5f048cfba6.jpg"/>
          <p:cNvPicPr/>
          <p:nvPr/>
        </p:nvPicPr>
        <p:blipFill>
          <a:blip r:embed="rId1"/>
          <a:stretch/>
        </p:blipFill>
        <p:spPr>
          <a:xfrm>
            <a:off x="642960" y="642960"/>
            <a:ext cx="8072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gubkin31.ru/images/photos/medium/dd919de7d471c5b85d699f2567eb8183.jpg"/>
          <p:cNvPicPr/>
          <p:nvPr/>
        </p:nvPicPr>
        <p:blipFill>
          <a:blip r:embed="rId1"/>
          <a:stretch/>
        </p:blipFill>
        <p:spPr>
          <a:xfrm>
            <a:off x="642960" y="857160"/>
            <a:ext cx="7786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-fotki.yandex.ru/get/5/dank7-11.0/0_3648_bbda2fbe_XL"/>
          <p:cNvPicPr/>
          <p:nvPr/>
        </p:nvPicPr>
        <p:blipFill>
          <a:blip r:embed="rId1"/>
          <a:stretch/>
        </p:blipFill>
        <p:spPr>
          <a:xfrm>
            <a:off x="523800" y="285840"/>
            <a:ext cx="81914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rts.in.ua/i/3543/f_hlebnoe-pole_slobodyanyuk_grigoriy_1300698412.jpg"/>
          <p:cNvPicPr/>
          <p:nvPr/>
        </p:nvPicPr>
        <p:blipFill>
          <a:blip r:embed="rId1"/>
          <a:stretch/>
        </p:blipFill>
        <p:spPr>
          <a:xfrm>
            <a:off x="469800" y="428760"/>
            <a:ext cx="8031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1520" y="-384480"/>
            <a:ext cx="767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Arial"/>
                <a:ea typeface="Times New Roman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Arial"/>
                <a:ea typeface="Times New Roman"/>
              </a:rPr>
              <a:t>     </a:t>
            </a:r>
            <a:r>
              <a:rPr b="1" i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14 октября -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День фла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Белгородско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обла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5-tub-ua.yandex.net/i?id=50126596-38-72&amp;n=17"/>
          <p:cNvPicPr/>
          <p:nvPr/>
        </p:nvPicPr>
        <p:blipFill>
          <a:blip r:embed="rId1"/>
          <a:stretch/>
        </p:blipFill>
        <p:spPr>
          <a:xfrm>
            <a:off x="714240" y="500040"/>
            <a:ext cx="76456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56:19Z</dcterms:created>
  <dc:creator>Пользователь</dc:creator>
  <dc:description/>
  <dc:language>en-US</dc:language>
  <cp:lastModifiedBy>Adel</cp:lastModifiedBy>
  <dcterms:modified xsi:type="dcterms:W3CDTF">2013-03-16T11:54:25Z</dcterms:modified>
  <cp:revision>61</cp:revision>
  <dc:subject/>
  <dc:title>Слайд 1</dc:title>
</cp:coreProperties>
</file>