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8AAF-3152-43D9-8D90-165E0F6D5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2CC4-21E5-4292-8C3A-3D40D132F4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EB1-63B5-4924-A026-02AF0655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380-C683-4DC5-B4D6-1AD03FA8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7AB-8597-48DC-BE5E-80218550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CB7-A502-4AFC-9506-52000385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2B30-7359-413E-BD1F-CA90C9E5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FE7B-8E38-4C95-BD4E-4C9298B0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4693-6EEC-41C7-ADCD-A9A93B5B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2680-3AE8-4AC1-92B6-8B5405AC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33E3-016D-46B3-A394-1A1E18BC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8395-0727-47FF-9A55-D463AFBE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206E-D30C-4A65-9F26-8EE2CDEC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D74-1851-416A-93D2-C8F73E1F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F56C-712F-442E-90EC-C20B25AB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5FB4-E0AA-4625-A90C-85BB5F33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886A-084F-4291-94B6-2620DBE6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E4A2-C404-40AC-84A7-153DF0DE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DF44-347B-4D5D-9CC3-A465FD21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FBB-2E24-4E5C-9D74-900A1FE2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07B-EE03-4DB7-84BB-F7B8ED14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663-771F-4950-824D-357D721B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0E8-6DD4-49D5-BEA0-3E796F78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4BD-94B9-4D9F-BD3D-7B1109F6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6F9-929A-46BF-8AA4-ABA5C1B7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E54-59B1-4B3D-935B-65A64EE0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CF91-CA75-4975-BEC7-C3D1E5BF73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8DBF-ECFC-4BB9-BE97-A0CC79EC88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Многообразие земноводных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743200" y="4392720"/>
            <a:ext cx="640080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Жовтобрюх Андрея 7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ласс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o00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4491720" y="0"/>
            <a:ext cx="451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Озерная лягуш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b5g0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42200" y="6156360"/>
            <a:ext cx="48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Листолаз ужасны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Безногие земноводные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b5g0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567720" y="4365720"/>
            <a:ext cx="35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Червяга вид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03440" y="5083920"/>
            <a:ext cx="53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Syphonops annulatu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b5g0023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900000" y="6156360"/>
            <a:ext cx="58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Водяная червяг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Характерист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ЕМНОВОДНЫ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ласс позвоночны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ивотных; включает три отряда: безногие земноводные, хвостатые земноводные и бесхвостые земноводные; 25-30 семейств; около 4000 вид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Отряды земноводных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Verdana"/>
              </a:rPr>
              <a:t>ХВОСТАТЫЕ ЗЕМНОВОДНЫЕ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тряд земноводных. Объединяет 8 семейств: скрытожаберные, углозубые, сиреновые, амбистомовые, безлегочные, саламандровые, протеи, амфиумовые. Около 350 видов, главным образом в умеренном поясе Северного полушария; в России 4 ви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Verdana"/>
              </a:rPr>
              <a:t>БЕСХВОСТЫЕ ЗЕМНОВОДНЫЕ-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ряд земноводных. Объединяет около 19 семейств, в том числе: пиповые, круглоязычные, чесночницы, древолазы, жабы, квакши, ринодермы, свистуны, лягушки, узкоротые лягушки и другие; 256 родов, около 3500 видов. Распространены широко, их нет только в Арктике и Антарктид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Verdana"/>
              </a:rPr>
              <a:t>БЕЗНОГИЕ ЗЕМНОВОДНЫЕ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тряд земноводных, включает четыре семейства: настоящие червяги, рыбозмеи, водные червяги и африканские червяги; всего 33 рода; около 170 видов. Внешне похожи на крупных червей или мелких зм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Хвостатые земноводные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2" descr="a00123"/>
          <p:cNvPicPr/>
          <p:nvPr/>
        </p:nvPicPr>
        <p:blipFill>
          <a:blip r:embed="rId1"/>
          <a:stretch/>
        </p:blipFill>
        <p:spPr>
          <a:xfrm>
            <a:off x="0" y="-458640"/>
            <a:ext cx="9828360" cy="7316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3"/>
          <p:cNvSpPr/>
          <p:nvPr/>
        </p:nvSpPr>
        <p:spPr>
          <a:xfrm>
            <a:off x="684360" y="5229360"/>
            <a:ext cx="501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Тигровая</a:t>
            </a: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амбисто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s_505"/>
          <p:cNvPicPr/>
          <p:nvPr/>
        </p:nvPicPr>
        <p:blipFill>
          <a:blip r:embed="rId1"/>
          <a:stretch/>
        </p:blipFill>
        <p:spPr>
          <a:xfrm>
            <a:off x="-1116000" y="-87480"/>
            <a:ext cx="10944360" cy="72615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3094920" y="404640"/>
            <a:ext cx="58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Пятнистая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саламандр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00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139320" y="6156360"/>
            <a:ext cx="64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Калифорнийский трито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Бесхвостые земноводные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l000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1963440" y="333360"/>
            <a:ext cx="34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Лягушка-бы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7:26:16Z</dcterms:created>
  <dc:creator>Андрей</dc:creator>
  <dc:description/>
  <dc:language>en-US</dc:language>
  <cp:lastModifiedBy>Коля</cp:lastModifiedBy>
  <dcterms:modified xsi:type="dcterms:W3CDTF">2013-05-25T12:40:15Z</dcterms:modified>
  <cp:revision>9</cp:revision>
  <dc:subject/>
  <dc:title>Многообразие земноводных</dc:title>
</cp:coreProperties>
</file>