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B1E3-F065-4838-BD67-5C6E07E814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A4EB-E91E-4D17-BF5B-62DDFFF013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45D-B5CA-4480-87ED-0C56173E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9781-5B56-4200-9BD8-291FC8CC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B1A-F8F7-4116-8B08-4FEA3BE7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59E-268C-4047-8E02-F6A2DB6E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4731-48DB-462C-8CB2-4F664D1A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D7B5-9BA7-4569-B483-2ED6E8E9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FAB1-5569-4B39-9BAB-30C47EE5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FE82-34A8-4FDD-B855-877186B6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5ED7-A3DE-45A0-A001-B01907D3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07FE-096D-486A-983C-B8D1363A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6DD6-AB13-49E4-8480-3A95D8BC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FF4A-A391-4856-A23A-BCE750F4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E0E6-6465-4B9B-9A3A-7694ECFE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323A-0AAA-4022-A576-5D18957C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C2D8-8D26-43EE-B5DC-08FD5781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4CC4-8290-4BB2-B10B-A244575C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C218-E7FF-451C-ABF5-43E69359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F37-84AD-46D0-9C59-3E412E8B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103-CF3D-4706-AB17-4E169E86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3D8-39F6-495D-80FC-2C84188E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453-7F15-4A8A-AE3B-98A748BD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328-14CA-4C5F-A4B9-1F7027DB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EA4-F000-4576-A51A-85B41ACD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138-8AF3-4D83-959C-6F5A253A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F863-034E-435D-874B-CB3B4930B5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6386-09DE-4E02-B1C1-C7A35403FB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Многообразие земноводных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743200" y="4392720"/>
            <a:ext cx="640080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Жовтобрюх Андрея 7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ласс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o00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4491720" y="0"/>
            <a:ext cx="451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Озерная лягуш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b5g0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42200" y="6156360"/>
            <a:ext cx="48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Листолаз ужасны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Безногие земноводные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b5g0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567720" y="4365720"/>
            <a:ext cx="35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Червяга вид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03440" y="5083920"/>
            <a:ext cx="53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Syphonops annulatu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b5g0023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900000" y="6156360"/>
            <a:ext cx="58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Водяная червяг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Характерист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ЕМНОВОДНЫ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ласс позвоночны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ивотных; включает три отряда: безногие земноводные, хвостатые земноводные и бесхвостые земноводные; 25-30 семейств; около 4000 вид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Отряды земноводных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Verdana"/>
              </a:rPr>
              <a:t>ХВОСТАТЫЕ ЗЕМНОВОДНЫЕ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тряд земноводных. Объединяет 8 семейств: скрытожаберные, углозубые, сиреновые, амбистомовые, безлегочные, саламандровые, протеи, амфиумовые. Около 350 видов, главным образом в умеренном поясе Северного полушария; в России 4 ви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Verdana"/>
              </a:rPr>
              <a:t>БЕСХВОСТЫЕ ЗЕМНОВОДНЫЕ-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ряд земноводных. Объединяет около 19 семейств, в том числе: пиповые, круглоязычные, чесночницы, древолазы, жабы, квакши, ринодермы, свистуны, лягушки, узкоротые лягушки и другие; 256 родов, около 3500 видов. Распространены широко, их нет только в Арктике и Антарктид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Verdana"/>
              </a:rPr>
              <a:t>БЕЗНОГИЕ ЗЕМНОВОДНЫЕ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тряд земноводных, включает четыре семейства: настоящие червяги, рыбозмеи, водные червяги и африканские червяги; всего 33 рода; около 170 видов. Внешне похожи на крупных червей или мелких зм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Хвостатые земноводные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2" descr="a00123"/>
          <p:cNvPicPr/>
          <p:nvPr/>
        </p:nvPicPr>
        <p:blipFill>
          <a:blip r:embed="rId1"/>
          <a:stretch/>
        </p:blipFill>
        <p:spPr>
          <a:xfrm>
            <a:off x="0" y="-458640"/>
            <a:ext cx="9828360" cy="7316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3"/>
          <p:cNvSpPr/>
          <p:nvPr/>
        </p:nvSpPr>
        <p:spPr>
          <a:xfrm>
            <a:off x="684360" y="5229360"/>
            <a:ext cx="501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Тигровая</a:t>
            </a: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амбисто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s_505"/>
          <p:cNvPicPr/>
          <p:nvPr/>
        </p:nvPicPr>
        <p:blipFill>
          <a:blip r:embed="rId1"/>
          <a:stretch/>
        </p:blipFill>
        <p:spPr>
          <a:xfrm>
            <a:off x="-1116000" y="-87480"/>
            <a:ext cx="10944360" cy="72615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3094920" y="404640"/>
            <a:ext cx="58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Пятнистая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саламандр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00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139320" y="6156360"/>
            <a:ext cx="64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Калифорнийский трито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Бесхвостые земноводные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l000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1963440" y="333360"/>
            <a:ext cx="34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Verdana"/>
              </a:rPr>
              <a:t>Лягушка-бы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07:26:16Z</dcterms:created>
  <dc:creator>Андрей</dc:creator>
  <dc:description/>
  <dc:language>en-US</dc:language>
  <cp:lastModifiedBy>Коля</cp:lastModifiedBy>
  <dcterms:modified xsi:type="dcterms:W3CDTF">2013-05-25T12:40:15Z</dcterms:modified>
  <cp:revision>9</cp:revision>
  <dc:subject/>
  <dc:title>Многообразие земноводных</dc:title>
</cp:coreProperties>
</file>