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A50D-397D-48B8-8744-BEE825E99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D2BD-D0C0-4FD5-A0B2-AD1F2853A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CBA-5243-45C5-9230-0BD6EEB9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8C8-4A4E-4B2C-93FB-10B12669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E4D-A26E-4C91-BDE3-907F00EF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E2D-B8B7-4523-A04D-356E923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5EC3-B00B-4CB3-982F-776EC359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D77-21C5-43FD-89F5-08204785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8732-51D1-4299-B4B2-4B3CE4A8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F59C-598B-40B7-A51F-D49C6D8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2E9-D87F-4648-B496-0700BBE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8BFF-61FE-43F1-9349-27BE82E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163E-1630-469B-9218-A0E5DFD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B58-4A26-4A0A-BAC7-32F14E37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EA47-01ED-45B8-8A17-AFAAFC4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3EE-9E22-4124-A39A-842703F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FB2-3C91-4620-92F8-792B0C10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804F-E14B-4B1F-A4F0-8CF2E751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3AAD-026E-42AF-A0D0-141C9793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C28-C40C-4F29-AD58-2A99BAC0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F10-9496-48FB-B624-6BA59E8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F46-0A62-4E3F-A28F-93F9C8DA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771-39D6-4B19-941B-FF4AEB40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8CF-9F58-4541-9FD3-0C29CA2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949-237A-4662-BCB3-105B5EA3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176-52B4-4E1F-AF55-8C67E26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FD88-1EB7-444D-85AB-C37D0A11B6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EC8B-B804-494F-BBF9-2D4CA76B9D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Многообразие земноводных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4392720"/>
            <a:ext cx="64008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Жовтобрюх Андрея 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ас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o00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491720" y="0"/>
            <a:ext cx="45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Озерная лягуш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5g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2200" y="6156360"/>
            <a:ext cx="48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Листолаз ужас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Безноги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5g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67720" y="4365720"/>
            <a:ext cx="35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Червяга ви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3440" y="508392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Syphonops annulat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b5g0023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900000" y="615636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Водяная червяг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Характерис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ЕМНОВОДНЫ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ласс позвоночны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ивотных; включает три отряда: безногие земноводные, хвостатые земноводные и бесхвостые земноводные; 25-30 семейств; около 4000 вид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тряды земноводных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ХВОСТАТЫЕ ЗЕМНОВОДНЫЕ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яд земноводных. Объединяет 8 семейств: скрытожаберные, углозубые, сиреновые, амбистомовые, безлегочные, саламандровые, протеи, амфиумовые. Около 350 видов, главным образом в умеренном поясе Северного полушария; в России 4 ви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БЕСХВОСТЫЕ ЗЕМНОВОДНЫЕ-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ряд земноводных. Объединяет около 19 семейств, в том числе: пиповые, круглоязычные, чесночницы, древолазы, жабы, квакши, ринодермы, свистуны, лягушки, узкоротые лягушки и другие; 256 родов, около 3500 видов. Распространены широко, их нет только в Арктике и Антарктид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БЕЗНОГИЕ ЗЕМНОВОДНЫЕ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яд земноводных, включает четыре семейства: настоящие червяги, рыбозмеи, водные червяги и африканские червяги; всего 33 рода; около 170 видов. Внешне похожи на крупных червей или мелких зм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Хвостаты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2" descr="a00123"/>
          <p:cNvPicPr/>
          <p:nvPr/>
        </p:nvPicPr>
        <p:blipFill>
          <a:blip r:embed="rId1"/>
          <a:stretch/>
        </p:blipFill>
        <p:spPr>
          <a:xfrm>
            <a:off x="0" y="-458640"/>
            <a:ext cx="9828360" cy="7316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3"/>
          <p:cNvSpPr/>
          <p:nvPr/>
        </p:nvSpPr>
        <p:spPr>
          <a:xfrm>
            <a:off x="684360" y="5229360"/>
            <a:ext cx="501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Тигровая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амбисто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_505"/>
          <p:cNvPicPr/>
          <p:nvPr/>
        </p:nvPicPr>
        <p:blipFill>
          <a:blip r:embed="rId1"/>
          <a:stretch/>
        </p:blipFill>
        <p:spPr>
          <a:xfrm>
            <a:off x="-1116000" y="-87480"/>
            <a:ext cx="10944360" cy="726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094920" y="404640"/>
            <a:ext cx="58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Пятнистая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саламанд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00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39320" y="6156360"/>
            <a:ext cx="64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Калифорнийский трито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Бесхвосты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l00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963440" y="33336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Лягушка-бы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7:26:16Z</dcterms:created>
  <dc:creator>Андрей</dc:creator>
  <dc:description/>
  <dc:language>en-US</dc:language>
  <cp:lastModifiedBy>Коля</cp:lastModifiedBy>
  <dcterms:modified xsi:type="dcterms:W3CDTF">2013-05-25T12:40:15Z</dcterms:modified>
  <cp:revision>9</cp:revision>
  <dc:subject/>
  <dc:title>Многообразие земноводных</dc:title>
</cp:coreProperties>
</file>