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1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079-EF5C-4080-8DA0-F5DD6ECA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FCE-F93F-4270-A827-1B86A140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0B8-D892-4636-8BEE-3DDE1B1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DAA-4D81-464B-B3DE-D4AB13D3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4E6-5E89-487E-8908-0AB1858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B27-D47E-4637-8051-1CC27AB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E16-83F9-49D6-A536-CB87319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E69-A591-40A2-9E0F-4329951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A3B-21B0-4D0A-B916-DE0CEB5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44C-8CE8-4CB8-9CC5-7E61E08C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389-B20D-48C3-977D-9D425F7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ECA-5E12-4EFA-ABE0-F422B5E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30F-C321-4766-9F07-929D8F7A0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304920"/>
            <a:ext cx="56390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ий рос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оказате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447920" y="380880"/>
            <a:ext cx="5952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акторы интенсивного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302840" y="228600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т уровня квалификации рабочей с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3618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680840" y="304812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более совершенного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621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7" descr=""/>
          <p:cNvPicPr/>
          <p:nvPr/>
        </p:nvPicPr>
        <p:blipFill>
          <a:blip r:embed="rId3"/>
          <a:stretch/>
        </p:blipFill>
        <p:spPr>
          <a:xfrm>
            <a:off x="1695600" y="37339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2257560" y="35971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ередовые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9" descr=""/>
          <p:cNvPicPr/>
          <p:nvPr/>
        </p:nvPicPr>
        <p:blipFill>
          <a:blip r:embed="rId4"/>
          <a:stretch/>
        </p:blipFill>
        <p:spPr>
          <a:xfrm>
            <a:off x="2228760" y="4572000"/>
            <a:ext cx="36216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823480" y="464832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ая организац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11" descr=""/>
          <p:cNvPicPr/>
          <p:nvPr/>
        </p:nvPicPr>
        <p:blipFill>
          <a:blip r:embed="rId5"/>
          <a:stretch/>
        </p:blipFill>
        <p:spPr>
          <a:xfrm>
            <a:off x="2825640" y="53341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3439440" y="525780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ффективные мет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D:\opec\щшд.jpg"/>
          <p:cNvPicPr/>
          <p:nvPr/>
        </p:nvPicPr>
        <p:blipFill>
          <a:blip r:embed="rId6">
            <a:lum bright="12000"/>
          </a:blip>
          <a:srcRect l="16572" t="0" r="17164" b="11272"/>
          <a:stretch/>
        </p:blipFill>
        <p:spPr>
          <a:xfrm>
            <a:off x="0" y="4457880"/>
            <a:ext cx="2133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16080" y="349200"/>
            <a:ext cx="670572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здержки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734640" y="1314000"/>
            <a:ext cx="1632960" cy="1397880"/>
            <a:chOff x="3734640" y="1314000"/>
            <a:chExt cx="1632960" cy="1397880"/>
          </a:xfrm>
        </p:grpSpPr>
        <p:sp>
          <p:nvSpPr>
            <p:cNvPr id="132" name="Freeform 6"/>
            <p:cNvSpPr/>
            <p:nvPr/>
          </p:nvSpPr>
          <p:spPr>
            <a:xfrm rot="1158600">
              <a:off x="3832920" y="157464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 rot="1158600">
              <a:off x="3832560" y="152784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 rot="1158600">
              <a:off x="4265280" y="234612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991800" y="1390320"/>
            <a:ext cx="1632600" cy="1397160"/>
            <a:chOff x="991800" y="1390320"/>
            <a:chExt cx="1632600" cy="1397160"/>
          </a:xfrm>
        </p:grpSpPr>
        <p:sp>
          <p:nvSpPr>
            <p:cNvPr id="136" name="Freeform 19"/>
            <p:cNvSpPr/>
            <p:nvPr/>
          </p:nvSpPr>
          <p:spPr>
            <a:xfrm rot="1158600">
              <a:off x="1089720" y="1650960"/>
              <a:ext cx="891720" cy="6508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 rot="1158600">
              <a:off x="1089360" y="1604160"/>
              <a:ext cx="1436760" cy="83772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 rot="1158600">
              <a:off x="1522080" y="2422080"/>
              <a:ext cx="841320" cy="2329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6096960" y="1314000"/>
            <a:ext cx="1632960" cy="1397880"/>
            <a:chOff x="6096960" y="1314000"/>
            <a:chExt cx="1632960" cy="1397880"/>
          </a:xfrm>
        </p:grpSpPr>
        <p:sp>
          <p:nvSpPr>
            <p:cNvPr id="140" name="Freeform 23"/>
            <p:cNvSpPr/>
            <p:nvPr/>
          </p:nvSpPr>
          <p:spPr>
            <a:xfrm rot="1158600">
              <a:off x="6195240" y="157464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 rot="1158600">
              <a:off x="6194880" y="152784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 rot="1158600">
              <a:off x="6627600" y="234612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3147480" y="2819520"/>
            <a:ext cx="319968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тернати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 связа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необходим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р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ущ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502200" y="2895480"/>
            <a:ext cx="252468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язанные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ьшающе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ач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6477120" y="2895480"/>
            <a:ext cx="259056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держки, связанные с загрязнением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762120" y="228600"/>
            <a:ext cx="77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ая политика государств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53080" y="167652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внутренних инвестиций и сбере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36216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68160" y="24382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иностран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873000" y="23623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685520" y="3124080"/>
            <a:ext cx="62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инвестиций в 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Object 8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2058840" y="380988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научно-технического прогр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Object 10" descr=""/>
          <p:cNvPicPr/>
          <p:nvPr/>
        </p:nvPicPr>
        <p:blipFill>
          <a:blip r:embed="rId4"/>
          <a:stretch/>
        </p:blipFill>
        <p:spPr>
          <a:xfrm>
            <a:off x="1368360" y="37339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442600" y="44956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щита права собств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12" descr=""/>
          <p:cNvPicPr/>
          <p:nvPr/>
        </p:nvPicPr>
        <p:blipFill>
          <a:blip r:embed="rId5"/>
          <a:stretch/>
        </p:blipFill>
        <p:spPr>
          <a:xfrm>
            <a:off x="1754280" y="44197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751840" y="5181480"/>
            <a:ext cx="53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мулирование свободной торгов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14" descr=""/>
          <p:cNvPicPr/>
          <p:nvPr/>
        </p:nvPicPr>
        <p:blipFill>
          <a:blip r:embed="rId6"/>
          <a:stretch/>
        </p:blipFill>
        <p:spPr>
          <a:xfrm>
            <a:off x="2058840" y="51055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117240" y="586728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ростом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8" descr=""/>
          <p:cNvPicPr/>
          <p:nvPr/>
        </p:nvPicPr>
        <p:blipFill>
          <a:blip r:embed="rId7"/>
          <a:stretch/>
        </p:blipFill>
        <p:spPr>
          <a:xfrm>
            <a:off x="2427120" y="5791320"/>
            <a:ext cx="362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Мои документы\putin07.jpg"/>
          <p:cNvPicPr/>
          <p:nvPr/>
        </p:nvPicPr>
        <p:blipFill>
          <a:blip r:embed="rId1"/>
          <a:stretch/>
        </p:blipFill>
        <p:spPr>
          <a:xfrm>
            <a:off x="5257800" y="3584520"/>
            <a:ext cx="3543480" cy="30258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295280" y="2057400"/>
            <a:ext cx="4038840" cy="1905120"/>
          </a:xfrm>
          <a:prstGeom prst="wedgeRoundRectCallout">
            <a:avLst>
              <a:gd name="adj1" fmla="val 52712"/>
              <a:gd name="adj2" fmla="val 90333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 десятилетие мы долж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миним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воить валов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й продукт страны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62120" y="228600"/>
            <a:ext cx="7162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з послания Президен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едеральному собранию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480" y="4267080"/>
            <a:ext cx="532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Консолидация всех вла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Объединение лучш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ых си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Достижение пол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вертируемости руб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Интеграция в мировую эконом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209680" y="228600"/>
            <a:ext cx="49532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ий рос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(Economic Growth)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1905120" y="2895480"/>
            <a:ext cx="5486400" cy="990720"/>
            <a:chOff x="1905120" y="2895480"/>
            <a:chExt cx="5486400" cy="990720"/>
          </a:xfrm>
        </p:grpSpPr>
        <p:sp>
          <p:nvSpPr>
            <p:cNvPr id="44" name="Text Box 3"/>
            <p:cNvSpPr/>
            <p:nvPr/>
          </p:nvSpPr>
          <p:spPr>
            <a:xfrm>
              <a:off x="2314080" y="2895480"/>
              <a:ext cx="492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то долгосрочная тенденци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еличения реального ВВП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905120" y="2895480"/>
              <a:ext cx="5486400" cy="99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AutoShape 7"/>
          <p:cNvSpPr/>
          <p:nvPr/>
        </p:nvSpPr>
        <p:spPr>
          <a:xfrm>
            <a:off x="4170240" y="2133720"/>
            <a:ext cx="1011240" cy="495360"/>
          </a:xfrm>
          <a:prstGeom prst="downArrow">
            <a:avLst>
              <a:gd name="adj1" fmla="val 36611"/>
              <a:gd name="adj2" fmla="val 39583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8"/>
          <p:cNvGrpSpPr/>
          <p:nvPr/>
        </p:nvGrpSpPr>
        <p:grpSpPr>
          <a:xfrm>
            <a:off x="1831320" y="4054320"/>
            <a:ext cx="4967640" cy="2832120"/>
            <a:chOff x="1831320" y="4054320"/>
            <a:chExt cx="4967640" cy="2832120"/>
          </a:xfrm>
        </p:grpSpPr>
        <p:sp>
          <p:nvSpPr>
            <p:cNvPr id="48" name="Line 9"/>
            <p:cNvSpPr/>
            <p:nvPr/>
          </p:nvSpPr>
          <p:spPr>
            <a:xfrm flipV="1">
              <a:off x="274320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2514600" y="64771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V="1">
              <a:off x="3048120" y="5029200"/>
              <a:ext cx="213336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831320" y="4054320"/>
              <a:ext cx="151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альны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В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5"/>
            <p:cNvSpPr/>
            <p:nvPr/>
          </p:nvSpPr>
          <p:spPr>
            <a:xfrm>
              <a:off x="5776920" y="6060960"/>
              <a:ext cx="102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год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6"/>
            <p:cNvSpPr/>
            <p:nvPr/>
          </p:nvSpPr>
          <p:spPr>
            <a:xfrm rot="20070000">
              <a:off x="3888360" y="49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Трен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2286000" y="228600"/>
            <a:ext cx="455292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лавная цель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5152680" y="1812600"/>
            <a:ext cx="1632600" cy="1397160"/>
            <a:chOff x="5152680" y="1812600"/>
            <a:chExt cx="1632600" cy="1397160"/>
          </a:xfrm>
        </p:grpSpPr>
        <p:sp>
          <p:nvSpPr>
            <p:cNvPr id="56" name="Freeform 14"/>
            <p:cNvSpPr/>
            <p:nvPr/>
          </p:nvSpPr>
          <p:spPr>
            <a:xfrm rot="1158600">
              <a:off x="5250600" y="2073240"/>
              <a:ext cx="891720" cy="6508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 rot="1158600">
              <a:off x="5250240" y="2026440"/>
              <a:ext cx="1436760" cy="83772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 rot="1158600">
              <a:off x="5682960" y="2844360"/>
              <a:ext cx="841320" cy="2329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21"/>
          <p:cNvGrpSpPr/>
          <p:nvPr/>
        </p:nvGrpSpPr>
        <p:grpSpPr>
          <a:xfrm>
            <a:off x="2558880" y="1830960"/>
            <a:ext cx="1560240" cy="1367280"/>
            <a:chOff x="2558880" y="1830960"/>
            <a:chExt cx="1560240" cy="1367280"/>
          </a:xfrm>
        </p:grpSpPr>
        <p:sp>
          <p:nvSpPr>
            <p:cNvPr id="60" name="Freeform 18"/>
            <p:cNvSpPr/>
            <p:nvPr/>
          </p:nvSpPr>
          <p:spPr>
            <a:xfrm rot="20766600">
              <a:off x="3176280" y="2071440"/>
              <a:ext cx="857520" cy="7102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863" y="0"/>
                  </a:moveTo>
                  <a:lnTo>
                    <a:pt x="0" y="526"/>
                  </a:lnTo>
                  <a:lnTo>
                    <a:pt x="0" y="670"/>
                  </a:lnTo>
                  <a:lnTo>
                    <a:pt x="863" y="143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 rot="20766600">
              <a:off x="2648160" y="1983240"/>
              <a:ext cx="1381320" cy="91404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1390" y="144"/>
                  </a:moveTo>
                  <a:lnTo>
                    <a:pt x="1054" y="0"/>
                  </a:lnTo>
                  <a:lnTo>
                    <a:pt x="239" y="479"/>
                  </a:lnTo>
                  <a:lnTo>
                    <a:pt x="0" y="335"/>
                  </a:lnTo>
                  <a:lnTo>
                    <a:pt x="0" y="766"/>
                  </a:lnTo>
                  <a:lnTo>
                    <a:pt x="814" y="862"/>
                  </a:lnTo>
                  <a:lnTo>
                    <a:pt x="527" y="670"/>
                  </a:lnTo>
                  <a:lnTo>
                    <a:pt x="139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 rot="20766600">
              <a:off x="2772720" y="2850120"/>
              <a:ext cx="808920" cy="25452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814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814" y="240"/>
                  </a:lnTo>
                  <a:lnTo>
                    <a:pt x="814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34"/>
          <p:cNvSpPr/>
          <p:nvPr/>
        </p:nvSpPr>
        <p:spPr>
          <a:xfrm>
            <a:off x="1088280" y="3200400"/>
            <a:ext cx="3111480" cy="1373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я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5249160" y="3200400"/>
            <a:ext cx="273024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гат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7" descr="C:\Мои документы\Экономика\prosperity.gif"/>
          <p:cNvPicPr/>
          <p:nvPr/>
        </p:nvPicPr>
        <p:blipFill>
          <a:blip r:embed="rId1"/>
          <a:stretch/>
        </p:blipFill>
        <p:spPr>
          <a:xfrm>
            <a:off x="5715000" y="47242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C:\Мои документы\Экономика\prosperity2.jpg"/>
          <p:cNvPicPr/>
          <p:nvPr/>
        </p:nvPicPr>
        <p:blipFill>
          <a:blip r:embed="rId2"/>
          <a:stretch/>
        </p:blipFill>
        <p:spPr>
          <a:xfrm>
            <a:off x="1295280" y="4724280"/>
            <a:ext cx="27432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2292480" y="87480"/>
            <a:ext cx="4552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оказате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609480" y="213372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02000" y="243828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личина реального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66"/>
          <p:cNvGraphicFramePr/>
          <p:nvPr/>
        </p:nvGraphicFramePr>
        <p:xfrm>
          <a:off x="4495680" y="3581280"/>
          <a:ext cx="4648320" cy="30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5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81280"/>
                    <a:ext cx="464832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67"/>
          <p:cNvGraphicFramePr/>
          <p:nvPr/>
        </p:nvGraphicFramePr>
        <p:xfrm>
          <a:off x="0" y="3581280"/>
          <a:ext cx="4572000" cy="307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Object 5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4572000" cy="30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09480" y="6094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4800" y="558720"/>
            <a:ext cx="54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личина реального ВВП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душу насе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609480" y="2209680"/>
          <a:ext cx="73929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3929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609480" y="6094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220760" y="71136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реднегодовой темп прироста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914400" y="1447920"/>
          <a:ext cx="7543800" cy="50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54380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320" y="1981080"/>
            <a:ext cx="289548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Y= 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1143000" y="30492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бсолютный прирост ВВП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124800" y="1523880"/>
            <a:ext cx="6004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й ВВП в текущем пери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й ВВП в предыдущ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базовом) пери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3"/>
          <p:cNvGrpSpPr/>
          <p:nvPr/>
        </p:nvGrpSpPr>
        <p:grpSpPr>
          <a:xfrm>
            <a:off x="76320" y="5087880"/>
            <a:ext cx="2906640" cy="933480"/>
            <a:chOff x="76320" y="5087880"/>
            <a:chExt cx="2906640" cy="933480"/>
          </a:xfrm>
        </p:grpSpPr>
        <p:sp>
          <p:nvSpPr>
            <p:cNvPr id="86" name="Text Box 15"/>
            <p:cNvSpPr/>
            <p:nvPr/>
          </p:nvSpPr>
          <p:spPr>
            <a:xfrm>
              <a:off x="212760" y="5214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6320" y="5173560"/>
              <a:ext cx="2895480" cy="838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8"/>
            <p:cNvSpPr/>
            <p:nvPr/>
          </p:nvSpPr>
          <p:spPr>
            <a:xfrm>
              <a:off x="995040" y="5087880"/>
              <a:ext cx="127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- 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0"/>
            <p:cNvSpPr/>
            <p:nvPr/>
          </p:nvSpPr>
          <p:spPr>
            <a:xfrm>
              <a:off x="994680" y="5500800"/>
              <a:ext cx="10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2058480" y="536436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x 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1066680" y="5554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WordArt 24"/>
          <p:cNvSpPr txBox="1"/>
          <p:nvPr/>
        </p:nvSpPr>
        <p:spPr>
          <a:xfrm>
            <a:off x="1066680" y="36576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емп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585240" y="5207040"/>
            <a:ext cx="44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- темп прироста ВВП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п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76520" y="457200"/>
            <a:ext cx="570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ипы 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4923720" y="1279080"/>
            <a:ext cx="1632960" cy="1397880"/>
            <a:chOff x="4923720" y="1279080"/>
            <a:chExt cx="1632960" cy="1397880"/>
          </a:xfrm>
        </p:grpSpPr>
        <p:sp>
          <p:nvSpPr>
            <p:cNvPr id="96" name="Freeform 4"/>
            <p:cNvSpPr/>
            <p:nvPr/>
          </p:nvSpPr>
          <p:spPr>
            <a:xfrm rot="1158600">
              <a:off x="5022000" y="1539720"/>
              <a:ext cx="891720" cy="65124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0" y="0"/>
                  </a:moveTo>
                  <a:lnTo>
                    <a:pt x="863" y="526"/>
                  </a:lnTo>
                  <a:lnTo>
                    <a:pt x="863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"/>
            <p:cNvSpPr/>
            <p:nvPr/>
          </p:nvSpPr>
          <p:spPr>
            <a:xfrm rot="1158600">
              <a:off x="5021640" y="1492920"/>
              <a:ext cx="1436760" cy="83808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0" y="144"/>
                  </a:moveTo>
                  <a:lnTo>
                    <a:pt x="336" y="0"/>
                  </a:lnTo>
                  <a:lnTo>
                    <a:pt x="1151" y="479"/>
                  </a:lnTo>
                  <a:lnTo>
                    <a:pt x="1390" y="335"/>
                  </a:lnTo>
                  <a:lnTo>
                    <a:pt x="1390" y="766"/>
                  </a:lnTo>
                  <a:lnTo>
                    <a:pt x="576" y="862"/>
                  </a:lnTo>
                  <a:lnTo>
                    <a:pt x="863" y="67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1158600">
              <a:off x="5454360" y="2311200"/>
              <a:ext cx="841320" cy="23328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0" y="96"/>
                  </a:moveTo>
                  <a:lnTo>
                    <a:pt x="814" y="0"/>
                  </a:lnTo>
                  <a:lnTo>
                    <a:pt x="814" y="144"/>
                  </a:lnTo>
                  <a:lnTo>
                    <a:pt x="0" y="24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2330640" y="1297800"/>
            <a:ext cx="1560240" cy="1366560"/>
            <a:chOff x="2330640" y="1297800"/>
            <a:chExt cx="1560240" cy="1366560"/>
          </a:xfrm>
        </p:grpSpPr>
        <p:sp>
          <p:nvSpPr>
            <p:cNvPr id="100" name="Freeform 8"/>
            <p:cNvSpPr/>
            <p:nvPr/>
          </p:nvSpPr>
          <p:spPr>
            <a:xfrm rot="20766600">
              <a:off x="2947680" y="1538280"/>
              <a:ext cx="857520" cy="710280"/>
            </a:xfrm>
            <a:custGeom>
              <a:avLst/>
              <a:gdLst/>
              <a:ahLst/>
              <a:rect l="l" t="t" r="r" b="b"/>
              <a:pathLst>
                <a:path w="863" h="670">
                  <a:moveTo>
                    <a:pt x="863" y="0"/>
                  </a:moveTo>
                  <a:lnTo>
                    <a:pt x="0" y="526"/>
                  </a:lnTo>
                  <a:lnTo>
                    <a:pt x="0" y="670"/>
                  </a:lnTo>
                  <a:lnTo>
                    <a:pt x="863" y="143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 rot="20766600">
              <a:off x="2419920" y="1450080"/>
              <a:ext cx="1381320" cy="914040"/>
            </a:xfrm>
            <a:custGeom>
              <a:avLst/>
              <a:gdLst/>
              <a:ahLst/>
              <a:rect l="l" t="t" r="r" b="b"/>
              <a:pathLst>
                <a:path w="1390" h="862">
                  <a:moveTo>
                    <a:pt x="1390" y="144"/>
                  </a:moveTo>
                  <a:lnTo>
                    <a:pt x="1054" y="0"/>
                  </a:lnTo>
                  <a:lnTo>
                    <a:pt x="239" y="479"/>
                  </a:lnTo>
                  <a:lnTo>
                    <a:pt x="0" y="335"/>
                  </a:lnTo>
                  <a:lnTo>
                    <a:pt x="0" y="766"/>
                  </a:lnTo>
                  <a:lnTo>
                    <a:pt x="814" y="862"/>
                  </a:lnTo>
                  <a:lnTo>
                    <a:pt x="527" y="670"/>
                  </a:lnTo>
                  <a:lnTo>
                    <a:pt x="1390" y="14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 rot="20766600">
              <a:off x="2543760" y="2316600"/>
              <a:ext cx="808920" cy="254160"/>
            </a:xfrm>
            <a:custGeom>
              <a:avLst/>
              <a:gdLst/>
              <a:ahLst/>
              <a:rect l="l" t="t" r="r" b="b"/>
              <a:pathLst>
                <a:path w="814" h="240">
                  <a:moveTo>
                    <a:pt x="814" y="96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814" y="240"/>
                  </a:lnTo>
                  <a:lnTo>
                    <a:pt x="814" y="9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1013040" y="2657520"/>
            <a:ext cx="331092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енсивный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словл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ени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а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899240" y="2666880"/>
            <a:ext cx="33840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нсивный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анный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чества ресур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066680" y="4572000"/>
            <a:ext cx="2971800" cy="2057400"/>
          </a:xfrm>
          <a:prstGeom prst="upArrowCallout">
            <a:avLst>
              <a:gd name="adj1" fmla="val 36114"/>
              <a:gd name="adj2" fmla="val 36111"/>
              <a:gd name="adj3" fmla="val 16667"/>
              <a:gd name="adj4" fmla="val 6666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и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и и Аф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22701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5181480" y="4572000"/>
            <a:ext cx="2971800" cy="2057400"/>
          </a:xfrm>
          <a:prstGeom prst="upArrowCallout">
            <a:avLst>
              <a:gd name="adj1" fmla="val 36114"/>
              <a:gd name="adj2" fmla="val 36111"/>
              <a:gd name="adj3" fmla="val 16667"/>
              <a:gd name="adj4" fmla="val 6666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209680" y="380880"/>
            <a:ext cx="493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Факторы экстенсивного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ческого рост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480" y="228600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большего количества рабочей с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1"/>
          <a:stretch/>
        </p:blipFill>
        <p:spPr>
          <a:xfrm>
            <a:off x="506520" y="2895480"/>
            <a:ext cx="36180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03720" y="29718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ельство новых пред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Object 7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618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3"/>
          <a:stretch/>
        </p:blipFill>
        <p:spPr>
          <a:xfrm>
            <a:off x="324000" y="3733920"/>
            <a:ext cx="361800" cy="533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1299960" y="3597120"/>
            <a:ext cx="53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влечение в хозяйственный обор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х зем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18" descr=""/>
          <p:cNvPicPr/>
          <p:nvPr/>
        </p:nvPicPr>
        <p:blipFill>
          <a:blip r:embed="rId4"/>
          <a:stretch/>
        </p:blipFill>
        <p:spPr>
          <a:xfrm>
            <a:off x="171360" y="4648320"/>
            <a:ext cx="362160" cy="533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9"/>
          <p:cNvSpPr/>
          <p:nvPr/>
        </p:nvSpPr>
        <p:spPr>
          <a:xfrm>
            <a:off x="918720" y="454356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рытие новых месторождени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добычи полез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опае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4" descr="D:\opec\14opek.jpg"/>
          <p:cNvPicPr/>
          <p:nvPr/>
        </p:nvPicPr>
        <p:blipFill>
          <a:blip r:embed="rId5"/>
          <a:srcRect l="0" t="0" r="32004" b="16669"/>
          <a:stretch/>
        </p:blipFill>
        <p:spPr>
          <a:xfrm>
            <a:off x="6553080" y="4381560"/>
            <a:ext cx="2590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24:10Z</dcterms:created>
  <dc:creator>user</dc:creator>
  <dc:description/>
  <dc:language>en-US</dc:language>
  <cp:lastModifiedBy>PC</cp:lastModifiedBy>
  <dcterms:modified xsi:type="dcterms:W3CDTF">2013-03-23T05:44:44Z</dcterms:modified>
  <cp:revision>50</cp:revision>
  <dc:subject/>
  <dc:title>Заголовок слайда отсутствует</dc:title>
</cp:coreProperties>
</file>