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FE2-511B-4209-BCBE-D734201D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FFA-DB8B-41FA-83A9-6374382E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759-009E-4387-8CBD-9797B20F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F42-FECE-4761-8E70-E30D096F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4D48-B0F3-424D-88CD-21D1831D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2FE1-22C1-4DF0-BDA5-22DB7D7A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19A4-E464-4BAA-822B-BC65EC3F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470B-981F-4E0E-9443-BEB8317A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FB2C-B599-400F-95F2-6276EB1D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83D9-F5FD-4475-A5BC-0F01530D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F9F1-735D-4530-985A-86932FDB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4A3-CC71-4EBF-80DA-8BE4F77D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012D-D1C3-4B1E-B469-6184A13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458C-8FAE-48FC-B17F-8C3D097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B736-E4DC-46F6-8E82-75FE4676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549A-5AE3-4F41-B2E3-C496FA35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2825-7950-4A2A-BF6A-7E8DFC74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C04-E7A5-467B-9488-2A42AD38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315-078D-495F-B1A2-59B5B140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316-915B-47BB-BFE9-28599887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4DB-81A0-47EB-9DDB-D15A042D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432-2B15-4073-B225-666B7FD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348-F0C6-4ACD-B301-BC64DA63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456-36EB-43D0-B08B-272F6C43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B0F3-7E5A-4CFA-A49B-6F47B39FA51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ACC0-F082-46C6-8A64-8386388C3AC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ru-RU" sz="8000" spc="-1" strike="noStrike">
                <a:solidFill>
                  <a:srgbClr val="66ccff"/>
                </a:solidFill>
                <a:latin typeface="Monotype Corsiva"/>
              </a:rPr>
              <a:t>Тонкослойная хроматография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5" descr="DSCN3504"/>
          <p:cNvPicPr/>
          <p:nvPr/>
        </p:nvPicPr>
        <p:blipFill>
          <a:blip r:embed="rId1"/>
          <a:stretch/>
        </p:blipFill>
        <p:spPr>
          <a:xfrm>
            <a:off x="3059280" y="3645000"/>
            <a:ext cx="3960720" cy="2611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58" name="AutoShape 5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971640" y="19008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ЦЕЛЬ:</a:t>
            </a:r>
            <a:r>
              <a:rPr b="0" lang="ru-RU" sz="3600" spc="-1" strike="noStrike">
                <a:solidFill>
                  <a:srgbClr val="66ccff"/>
                </a:solidFill>
                <a:latin typeface="Monotype Corsiv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ccff"/>
                </a:solidFill>
                <a:latin typeface="Arial"/>
              </a:rPr>
              <a:t>C</a:t>
            </a:r>
            <a:r>
              <a:rPr b="0" i="1" lang="ru-RU" sz="3600" spc="-1" strike="noStrike">
                <a:solidFill>
                  <a:srgbClr val="66ccff"/>
                </a:solidFill>
                <a:latin typeface="Arial"/>
              </a:rPr>
              <a:t>формировать представление о тонкослойной </a:t>
            </a:r>
            <a:r>
              <a:rPr b="1" i="1" lang="ru-RU" sz="3600" spc="-1" strike="noStrike">
                <a:solidFill>
                  <a:srgbClr val="66ccff"/>
                </a:solidFill>
                <a:latin typeface="Arial"/>
              </a:rPr>
              <a:t>х</a:t>
            </a:r>
            <a:r>
              <a:rPr b="0" i="1" lang="ru-RU" sz="3600" spc="-1" strike="noStrike">
                <a:solidFill>
                  <a:srgbClr val="66ccff"/>
                </a:solidFill>
                <a:latin typeface="Arial"/>
              </a:rPr>
              <a:t>роматографии как методе аналитической химии  для обнаружения микроэлементов в объектах окружающей сред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5" descr="DSCN3506"/>
          <p:cNvPicPr/>
          <p:nvPr/>
        </p:nvPicPr>
        <p:blipFill>
          <a:blip r:embed="rId1"/>
          <a:stretch/>
        </p:blipFill>
        <p:spPr>
          <a:xfrm>
            <a:off x="2987640" y="4292640"/>
            <a:ext cx="3600360" cy="2233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61" name="AutoShape 5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AutoShape 6">
            <a:hlinkClick r:id="" action="ppaction://hlinkshowjump?jump=nextslide"/>
          </p:cNvPr>
          <p:cNvSpPr/>
          <p:nvPr/>
        </p:nvSpPr>
        <p:spPr>
          <a:xfrm>
            <a:off x="853272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95280" y="-5760"/>
            <a:ext cx="78566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мотреть сущность тонкослойной хроматограф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ccff"/>
                </a:solidFill>
                <a:latin typeface="Arial"/>
              </a:rPr>
              <a:t>объяснить сущность тонкослойной хроматографии  на основании атомно-молекулярного учения, на основании знаний о сущности поверхностных явлений, динамическом равновесии и способах его смещ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мотреть практическое применение тонкослойной хроматограф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2771640" y="4653000"/>
            <a:ext cx="3810240" cy="2019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684360" y="650880"/>
            <a:ext cx="793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первые метод ТСХ был предложен советским ученым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.С.Шрайбер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 1938 году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C:\Documents and Settings\SERVER\Мои документы\Мои рисунки\ANIMASHKI\chem.gif"/>
          <p:cNvPicPr/>
          <p:nvPr/>
        </p:nvPicPr>
        <p:blipFill>
          <a:blip r:embed="rId1"/>
          <a:stretch/>
        </p:blipFill>
        <p:spPr>
          <a:xfrm>
            <a:off x="642960" y="4286160"/>
            <a:ext cx="714240" cy="1525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SERVER\Мои документы\Мои рисунки\ANIMASHKI\chem.gif"/>
          <p:cNvPicPr/>
          <p:nvPr/>
        </p:nvPicPr>
        <p:blipFill>
          <a:blip r:embed="rId2"/>
          <a:stretch/>
        </p:blipFill>
        <p:spPr>
          <a:xfrm rot="7171200">
            <a:off x="3509640" y="2342880"/>
            <a:ext cx="679320" cy="181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Documents and Settings\SERVER\Мои документы\Мои рисунки\ANIMASHKI\chem.gif"/>
          <p:cNvPicPr/>
          <p:nvPr/>
        </p:nvPicPr>
        <p:blipFill>
          <a:blip r:embed="rId3"/>
          <a:stretch/>
        </p:blipFill>
        <p:spPr>
          <a:xfrm rot="3139200">
            <a:off x="3357360" y="4857480"/>
            <a:ext cx="714240" cy="15271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8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9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5940360" y="2781360"/>
            <a:ext cx="2019240" cy="2797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6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4"/>
          <p:cNvSpPr/>
          <p:nvPr/>
        </p:nvSpPr>
        <p:spPr>
          <a:xfrm flipH="1">
            <a:off x="1692360" y="1268280"/>
            <a:ext cx="12319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867280" y="1125360"/>
            <a:ext cx="10098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50920" y="-720"/>
            <a:ext cx="856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Виды тонкослойной хроматограф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50920" y="1766880"/>
            <a:ext cx="84265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ТСХ с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незакрепленным                      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ТСХ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незакрепленны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слоем сорбента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 слоем сорбен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9" descr="DSCN3508"/>
          <p:cNvPicPr/>
          <p:nvPr/>
        </p:nvPicPr>
        <p:blipFill>
          <a:blip r:embed="rId1"/>
          <a:stretch/>
        </p:blipFill>
        <p:spPr>
          <a:xfrm>
            <a:off x="2556000" y="3573360"/>
            <a:ext cx="4176720" cy="295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80" name="AutoShape 9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0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Основные понятия:</a:t>
            </a:r>
            <a:r>
              <a:rPr b="0" i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33cccc"/>
                </a:solidFill>
                <a:latin typeface="Arial"/>
              </a:rPr>
              <a:t>Сорбция</a:t>
            </a:r>
            <a:r>
              <a:rPr b="1" i="1" lang="ru-RU" sz="4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поглощение твердым телом или жидкостью вещества из окружающей среды.</a:t>
            </a:r>
            <a:br>
              <a:rPr sz="4000"/>
            </a:br>
            <a:r>
              <a:rPr b="1" i="1" lang="ru-RU" sz="4000" spc="-1" strike="noStrike">
                <a:solidFill>
                  <a:srgbClr val="66ccff"/>
                </a:solidFill>
                <a:latin typeface="Arial"/>
              </a:rPr>
              <a:t>Адсорбция</a:t>
            </a:r>
            <a:r>
              <a:rPr b="0" i="1" lang="ru-RU" sz="4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глощение поверхностным слоем.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66ccff"/>
                </a:solidFill>
                <a:latin typeface="Arial"/>
              </a:rPr>
              <a:t>бсорбция</a:t>
            </a:r>
            <a:r>
              <a:rPr b="0" i="1" lang="ru-RU" sz="4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й массой сорбент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AutoShape 5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6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395280" y="-65880"/>
            <a:ext cx="8353440" cy="67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Области применение метода ТСХ 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учение природных соединений  животного и растительного происхожд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отделение и идентификации липидов и жиров, разделение аминокислот,  сахаров, нуклеиновых кислот, стероидо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лиз инсектицидов  в сельскохозяйственных культурах;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ccff"/>
                </a:solidFill>
                <a:latin typeface="Arial"/>
              </a:rPr>
              <a:t>выделение фармацевтических препаратов из растен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ядовит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мосферных загрязнений.</a:t>
            </a:r>
            <a:r>
              <a:rPr b="0" lang="ru-RU" sz="2400" spc="-1" strike="noStrike">
                <a:solidFill>
                  <a:srgbClr val="66cc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5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6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0" y="521280"/>
            <a:ext cx="896472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66"/>
                </a:solidFill>
                <a:latin typeface="Arial"/>
                <a:ea typeface="Arial"/>
              </a:rPr>
              <a:t>Преимущества метода  ТСХ  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ыстро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позволяет распознавать  многокомпонентные смес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ладает большей чувствительностью,  чем бумажная хроматограф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позволяет анализировать почти все клас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органических соединений и многие классы неорганических вещест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343080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6" descr="DSCN3507"/>
          <p:cNvPicPr/>
          <p:nvPr/>
        </p:nvPicPr>
        <p:blipFill>
          <a:blip r:embed="rId1"/>
          <a:stretch/>
        </p:blipFill>
        <p:spPr>
          <a:xfrm>
            <a:off x="6156360" y="5084640"/>
            <a:ext cx="2016000" cy="1484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90" name="AutoShape 5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6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1536840"/>
            <a:ext cx="7407000" cy="1955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doc26"/>
          <p:cNvPicPr/>
          <p:nvPr/>
        </p:nvPicPr>
        <p:blipFill>
          <a:blip r:embed="rId2"/>
          <a:stretch/>
        </p:blipFill>
        <p:spPr>
          <a:xfrm>
            <a:off x="1116000" y="4005360"/>
            <a:ext cx="145728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doc30"/>
          <p:cNvPicPr/>
          <p:nvPr/>
        </p:nvPicPr>
        <p:blipFill>
          <a:blip r:embed="rId3"/>
          <a:stretch/>
        </p:blipFill>
        <p:spPr>
          <a:xfrm>
            <a:off x="6732720" y="3789360"/>
            <a:ext cx="1407960" cy="23623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endshow"/>
          </p:cNvPr>
          <p:cNvSpPr/>
          <p:nvPr/>
        </p:nvSpPr>
        <p:spPr>
          <a:xfrm>
            <a:off x="4500720" y="566100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7:11:02Z</dcterms:created>
  <dc:creator>Hismatulina</dc:creator>
  <dc:description/>
  <dc:language>en-US</dc:language>
  <cp:lastModifiedBy>SERVER1</cp:lastModifiedBy>
  <dcterms:modified xsi:type="dcterms:W3CDTF">2009-12-02T14:11:10Z</dcterms:modified>
  <cp:revision>8</cp:revision>
  <dc:subject/>
  <dc:title>  Тонкослойная хроматография</dc:title>
</cp:coreProperties>
</file>