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E6A-8436-4D83-9727-24DD936A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CC6-1262-4359-A777-69A4EEDF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46E-9B99-45FD-A8E1-1988AC16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050-9DBF-4F3B-93EB-D7ED8F89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DAB6-5115-4DEE-A06C-4C1971B7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E935-641F-4455-92D9-84AEC4C1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115F-7FA6-48A1-8EFE-0287D977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7D29-BE24-45DA-94D4-20435167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9960-604A-413F-868D-3A6A0F3D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8CFB-EA0D-45A1-A795-92476E9B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63D9-021E-4827-A4BD-EC0325B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F66-9DC6-4D3A-9DC0-2B6175B4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C93D-163A-427B-9AC7-9CB6504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7933-9C38-4F90-B0BB-9951050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C78E-4D6F-456E-92EE-DDCFA61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0662-4399-4C83-9E9C-ABB89CC4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01E2-795D-4CCA-B0C4-3FF3CA92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0A9-7F37-492E-A853-FDCCC32D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221-586A-4F45-B970-7EF1DA1F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5FE-E9B3-4E62-A6BF-7DB2AF92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3B2-78DD-43EE-8B3F-7CB32988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3CB-50D0-42E9-AC5B-53BE056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258-0DFD-44EB-B6EF-DAA7FC7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184-E5EC-4505-BD9A-2259C32B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150D-1D77-4ECA-96D3-D57355B3B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70C9-6216-4C5A-9985-123823251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езентация по география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аваните в Аз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ебник по география за 7 клас издателство ,,Просвета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ция на Десислава Николова 7г кл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613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3573360"/>
            <a:ext cx="655308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оната е гъсто населена и добре стопански усвоена. Отглеждат се орис, памук,чай,говеда и биво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3357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Благодаря за вниманиет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640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Black"/>
              </a:rPr>
              <a:t>Саваните в Азия обхващат обширни пространства във вътрешността на полуостровите Индостан и Индокита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977080" cy="42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Почвите са червенокафяв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06436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9680" y="3645000"/>
            <a:ext cx="9004320" cy="300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593880" cy="5181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 Black"/>
              </a:rPr>
              <a:t>Режимът на реките е непостоянен.Пълноводни са през лятото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Саванната растителност е представена от високи треви и редки гори с опадливи листа (тиково дърво, акация, бамбук, фикус и др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&lt;i&gt; Phyllostachys aurea&lt;/i&gt; 'Holochrysa'"/>
          <p:cNvPicPr/>
          <p:nvPr/>
        </p:nvPicPr>
        <p:blipFill>
          <a:blip r:embed="rId1"/>
          <a:stretch/>
        </p:blipFill>
        <p:spPr>
          <a:xfrm>
            <a:off x="1692360" y="2708280"/>
            <a:ext cx="578484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272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Животинският свят е богат и разнообразен -индийски слон, индийски бивол и носорог, отровни зм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3456000" cy="2273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80000" y="3068640"/>
            <a:ext cx="482580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798280"/>
            <a:ext cx="800748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ПА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зайник от семейство котки. Дължина до 135 cm, козината обикновено е жълтеникава, с дребни тъмни петна. В Африка и Югозападна Азия. Най-бързото сухоземно животно, достига скорост 110 km/h. Активен денем. Храна: предимно копит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3527640" cy="231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02400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8000" y="2420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НТЕР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Бозайник от семейство котки. Дължина до 160 cm. Козината е черна. Разпространени в Африка, Източна и Южна Азия, в горите и планините. Храна: главно копитни бозайници, нападат и хора.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2232000" cy="199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4427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42920" y="2637000"/>
            <a:ext cx="6120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зайник от семейство котки. Дължина около 100 cm, опашката къса, краката дълги. На ушите с кичурче косми. Разпространен в горите на Европа (рядък), Азия и Северна Америка; в България изчезнал в началото на 20 в. Ражда 2-5 малки. Храна: мишевидни гризачи, напада и по-едри животни (сърни, зайци и др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3600720" cy="268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7:03:30Z</dcterms:created>
  <dc:creator>Niko</dc:creator>
  <dc:description/>
  <dc:language>en-US</dc:language>
  <cp:lastModifiedBy>Niko</cp:lastModifiedBy>
  <dcterms:modified xsi:type="dcterms:W3CDTF">2009-10-29T21:11:20Z</dcterms:modified>
  <cp:revision>10</cp:revision>
  <dc:subject/>
  <dc:title>Презентация по география  Саваните в Азия</dc:title>
</cp:coreProperties>
</file>