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E34-94B7-4005-ABE7-17866B3B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4D3-6682-43A5-8025-9F2861F0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911-6B9E-401D-ADAA-87663C80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EC1-72FD-4EB0-B335-71D400DB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FD1-7F68-464A-9C2B-30E3FE8F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043-6BB7-46E1-AA01-23BFB2B6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D3D5-6AED-46D0-96FF-EF10368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1BB0-8357-4A96-9485-1427A9B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665E-6C75-4F18-94F1-A2FE63E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4434-E3F2-4978-A8A3-175E7D02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1154-893E-447A-99ED-834D5C0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C65-619B-4586-BCBD-0D59CE66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7A8E-1779-43B2-9E0A-A7DE361D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1C9B-E0F2-42F2-AA2F-D5E5A7D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CD7-E634-4FE7-AF1B-CD7390A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5098-A7DD-4628-8375-E687BB86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9D9E-7EBF-44C1-91EE-7984CC35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CBB-B7AD-40F7-A27E-715955FB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C6B-A354-4534-9C16-48358E9B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83B-1380-4287-BF34-7BF6F0F5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999-5609-4148-B28D-272EB90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4E8-62A9-48B9-A7BF-410A202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D61-5591-49AA-9991-1D3CB4B7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603-C309-4845-A58E-BB9A8E5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D7E-D745-4FB9-9CE6-3DF83AAD8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7E87-6395-46EA-82DF-F826356A4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резентация по география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аваните в Аз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бник по география за 7 клас издателство ,,Просвета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ентация на Десислава Николова 7г кл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613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65530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оната е гъсто населена и добре стопански усвоена. Отглеждат се орис, памук,чай,говеда и биво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Благодаря за вниманиет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40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Black"/>
              </a:rPr>
              <a:t>Саваните в Азия обхващат обширни пространства във вътрешността на полуостровите Индостан и Индокита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5977080" cy="42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Почвите са червенокафяв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0643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9680" y="3645000"/>
            <a:ext cx="9004320" cy="300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593880" cy="5181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 Black"/>
              </a:rPr>
              <a:t>Режимът на реките е непостоянен.Пълноводни са през лятото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 Black"/>
              </a:rPr>
              <a:t>Саванната растителност е представена от високи треви и редки гори с опадливи листа (тиково дърво, акация, бамбук, фикус и др.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&lt;i&gt; Phyllostachys aurea&lt;/i&gt; 'Holochrysa'"/>
          <p:cNvPicPr/>
          <p:nvPr/>
        </p:nvPicPr>
        <p:blipFill>
          <a:blip r:embed="rId1"/>
          <a:stretch/>
        </p:blipFill>
        <p:spPr>
          <a:xfrm>
            <a:off x="1692360" y="2708280"/>
            <a:ext cx="5784840" cy="414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72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вотинският свят е богат и разнообразен -индийски слон, индийски бивол и носорог, отровни зм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141720"/>
            <a:ext cx="3456000" cy="2273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80000" y="3068640"/>
            <a:ext cx="482580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798280"/>
            <a:ext cx="800748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П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до 135 cm, козината обикновено е жълтеникава, с дребни тъмни петна. В Африка и Югозападна Азия. Най-бързото сухоземно животно, достига скорост 110 km/h. Активен денем. Храна: предимно копит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527640" cy="231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302400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2420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НТЕР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Бозайник от семейство котки. Дължина до 160 cm. Козината е черна. Разпространени в Африка, Източна и Южна Азия, в горите и планините. Храна: главно копитни бозайници, нападат и хора.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2232000" cy="199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4427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42920" y="2637000"/>
            <a:ext cx="6120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зайник от семейство котки. Дължина около 100 cm, опашката къса, краката дълги. На ушите с кичурче косми. Разпространен в горите на Европа (рядък), Азия и Северна Америка; в България изчезнал в началото на 20 в. Ражда 2-5 малки. Храна: мишевидни гризачи, напада и по-едри животни (сърни, зайци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3600720" cy="2684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7:03:30Z</dcterms:created>
  <dc:creator>Niko</dc:creator>
  <dc:description/>
  <dc:language>en-US</dc:language>
  <cp:lastModifiedBy>Niko</cp:lastModifiedBy>
  <dcterms:modified xsi:type="dcterms:W3CDTF">2009-10-29T21:11:20Z</dcterms:modified>
  <cp:revision>10</cp:revision>
  <dc:subject/>
  <dc:title>Презентация по география  Саваните в Азия</dc:title>
</cp:coreProperties>
</file>