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59E-5D25-49DB-B21C-C7A7D56D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A83-FDE6-4B27-97D8-4FAA50E2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244-9087-41F5-8BF5-399F986E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E8C-5650-4124-A69A-5DEE0D57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F466-025F-4C15-95D3-42A6A8A6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6C2E-B885-4C61-A926-2F60BC1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FA9-7B4B-4EAB-8596-2A6318B2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A6B-1542-4BC7-BA67-3B9E8EE6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8A3D-3ACB-4C8C-AFA4-D6F87D7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D19-32E6-40FB-B1BF-181001A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B8C-F2A5-49C5-B40A-40BC12E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63E-5F7A-4CBB-97A7-FF41927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06DD-2BE8-4EE4-A780-29B79AB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B5FC-09F2-4C95-A793-32AAD44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35D7-DE41-41D5-A984-13FF9CF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286E-542D-4269-883B-6FE42839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D299-9254-4FE0-BC90-F691AAEC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6D9-B19D-42EF-8251-6C093B7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77B-FA8E-4A8E-9DB9-FCC52965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A3A-2F69-4A92-890C-7B62568F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37E-8EDE-4F33-8B4B-DBD40B4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5BC-C40A-4DDD-8EEA-EE2C22E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3E1-86C1-4D99-AD2F-8759CAA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2CF-FD10-404C-AF96-6EED567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265A-AFE1-45FB-B238-AB46EA084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0F3C-5D61-418D-B185-A291468A5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езентация по география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аваните в Аз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бник по география за 7 клас издателство ,,Просвета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я на Десислава Николова 7г к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613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65530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оната е гъсто населена и добре стопански усвоена. Отглеждат се орис, памук,чай,говеда и биво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Благодаря за вниманиет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40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Black"/>
              </a:rPr>
              <a:t>Саваните в Азия обхващат обширни пространства във вътрешността на полуостровите Индостан и Индокита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77080" cy="42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Почвите са червенокафяв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0643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9680" y="3645000"/>
            <a:ext cx="9004320" cy="300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593880" cy="5181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 Black"/>
              </a:rPr>
              <a:t>Режимът на реките е непостоянен.Пълноводни са през лятото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Саванната растителност е представена от високи треви и редки гори с опадливи листа (тиково дърво, акация, бамбук, фикус и др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&lt;i&gt; Phyllostachys aurea&lt;/i&gt; 'Holochrysa'"/>
          <p:cNvPicPr/>
          <p:nvPr/>
        </p:nvPicPr>
        <p:blipFill>
          <a:blip r:embed="rId1"/>
          <a:stretch/>
        </p:blipFill>
        <p:spPr>
          <a:xfrm>
            <a:off x="1692360" y="2708280"/>
            <a:ext cx="578484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72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вотинският свят е богат и разнообразен -индийски слон, индийски бивол и носорог, отровни зм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456000" cy="2273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482580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798280"/>
            <a:ext cx="800748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ПА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зайник от семейство котки. Дължина до 135 cm, козината обикновено е жълтеникава, с дребни тъмни петна. В Африка и Югозападна Азия. Най-бързото сухоземно животно, достига скорост 110 km/h. Активен денем. Храна: предимно копит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3527640" cy="231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02400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8000" y="2420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НТЕР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Бозайник от семейство котки. Дължина до 160 cm. Козината е черна. Разпространени в Африка, Източна и Южна Азия, в горите и планините. Храна: главно копитни бозайници, нападат и хора.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2232000" cy="199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4427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920" y="2637000"/>
            <a:ext cx="6120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зайник от семейство котки. Дължина около 100 cm, опашката къса, краката дълги. На ушите с кичурче косми. Разпространен в горите на Европа (рядък), Азия и Северна Америка; в България изчезнал в началото на 20 в. Ражда 2-5 малки. Храна: мишевидни гризачи, напада и по-едри животни (сърни, зайци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3600720" cy="268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03:30Z</dcterms:created>
  <dc:creator>Niko</dc:creator>
  <dc:description/>
  <dc:language>en-US</dc:language>
  <cp:lastModifiedBy>Niko</cp:lastModifiedBy>
  <dcterms:modified xsi:type="dcterms:W3CDTF">2009-10-29T21:11:20Z</dcterms:modified>
  <cp:revision>10</cp:revision>
  <dc:subject/>
  <dc:title>Презентация по география  Саваните в Азия</dc:title>
</cp:coreProperties>
</file>