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8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media/image27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521C-ABED-44A6-871E-0CAB89FDD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0C0C-9CE6-4F7B-8869-79152800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51A6-A632-4078-87DA-828E0EDA8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44F7-B5E0-42A5-8720-B351F9E10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EC76-3633-4F07-89AF-AE74E0153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2EA6-214A-47EC-9573-9D18A96F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3519-9993-4222-A742-EBC12756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79CF-560D-4D78-8CD0-AD7F3D8A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94750-2FE5-4243-8C71-65D228A4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D6F8-D4F1-4EFC-8ACA-F5B9CE5F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132D-8386-42C2-946E-7E4056CB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6C53-D91D-4327-B5E4-CF286192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6085-2C20-4409-8625-E065595A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98DD-CEE0-49DB-AAA0-5F6AE72A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5A3E-C26D-4A5F-B019-BD8D655E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CE1F-CCA5-4DA5-8ABF-6388DAE66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646B-2019-4D55-A463-818C79EC4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D833-2028-4214-BD3F-3269958B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89B5-A9D2-499E-B966-B6E87C15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B6DF-734A-448E-ABFB-5377C109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84CC-2A44-47A2-9EBE-98965669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7BE8-CF96-446C-A999-7DFBB685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D397-1AA1-4FC9-82D8-E6A1FD3E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6C17-3F2F-41E9-9119-1A7561A1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C235-03FE-4753-8DF7-25011C596E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6925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9B48-509B-4EE6-8DD1-A5FEA27BABE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841400"/>
            <a:ext cx="7772400" cy="16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Arial Black"/>
              </a:rPr>
              <a:t>ПРИРОДНЫЕ ЗОНЫ ЕВРАЗИИ</a:t>
            </a:r>
            <a:endParaRPr b="1" lang="en-US" sz="5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5292720" y="4986360"/>
            <a:ext cx="3706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howcard Gothic"/>
              </a:rPr>
              <a:t>Урок географ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howcard Gothic"/>
              </a:rPr>
              <a:t>7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howcard Gothic"/>
              </a:rPr>
              <a:t>Учитель: Ложкина Анжелика Валерь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7" descr="1"/>
          <p:cNvPicPr/>
          <p:nvPr/>
        </p:nvPicPr>
        <p:blipFill>
          <a:blip r:embed="rId1"/>
          <a:stretch/>
        </p:blipFill>
        <p:spPr>
          <a:xfrm>
            <a:off x="900000" y="3592440"/>
            <a:ext cx="4106880" cy="288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7"/>
          <p:cNvSpPr/>
          <p:nvPr/>
        </p:nvSpPr>
        <p:spPr>
          <a:xfrm>
            <a:off x="395280" y="47628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ЛЕСОСТЕПЬ И СТЕПЬ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395280" y="4581360"/>
            <a:ext cx="80643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В степях основным препятствием для развития деревьев является недостаток воды, низкий уровень грунтовых вод и засоленность степных почв. Поэтому леса встречаются в поймах рек, называются они урён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Увидеть степь теперь можно только в заповедниках. На нераспаханных участках степей  их естественный покров сильно нарушен, главная причина – длительный выпас ско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9" descr="16"/>
          <p:cNvPicPr/>
          <p:nvPr/>
        </p:nvPicPr>
        <p:blipFill>
          <a:blip r:embed="rId1"/>
          <a:stretch/>
        </p:blipFill>
        <p:spPr>
          <a:xfrm>
            <a:off x="250920" y="1557360"/>
            <a:ext cx="4267080" cy="279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17"/>
          <p:cNvPicPr/>
          <p:nvPr/>
        </p:nvPicPr>
        <p:blipFill>
          <a:blip r:embed="rId2"/>
          <a:stretch/>
        </p:blipFill>
        <p:spPr>
          <a:xfrm>
            <a:off x="4788000" y="1527120"/>
            <a:ext cx="40320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8"/>
          <p:cNvSpPr/>
          <p:nvPr/>
        </p:nvSpPr>
        <p:spPr>
          <a:xfrm>
            <a:off x="5651640" y="3429000"/>
            <a:ext cx="27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3300"/>
                </a:solidFill>
                <a:latin typeface="Georgia"/>
              </a:rPr>
              <a:t>ПИОН ТОНКОЛИСТНЫ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971640" y="6021360"/>
            <a:ext cx="29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Georgia"/>
              </a:rPr>
              <a:t>ГОРИЦВ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826920" y="2852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Georgia"/>
              </a:rPr>
              <a:t>Шалф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12" descr="18"/>
          <p:cNvPicPr/>
          <p:nvPr/>
        </p:nvPicPr>
        <p:blipFill>
          <a:blip r:embed="rId1"/>
          <a:stretch/>
        </p:blipFill>
        <p:spPr>
          <a:xfrm>
            <a:off x="611280" y="476280"/>
            <a:ext cx="3657600" cy="2371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19"/>
          <p:cNvPicPr/>
          <p:nvPr/>
        </p:nvPicPr>
        <p:blipFill>
          <a:blip r:embed="rId2"/>
          <a:stretch/>
        </p:blipFill>
        <p:spPr>
          <a:xfrm>
            <a:off x="4716360" y="549360"/>
            <a:ext cx="3800520" cy="2781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4" descr="20"/>
          <p:cNvPicPr/>
          <p:nvPr/>
        </p:nvPicPr>
        <p:blipFill>
          <a:blip r:embed="rId3"/>
          <a:stretch/>
        </p:blipFill>
        <p:spPr>
          <a:xfrm>
            <a:off x="468360" y="3357720"/>
            <a:ext cx="37526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5"/>
          <p:cNvSpPr/>
          <p:nvPr/>
        </p:nvSpPr>
        <p:spPr>
          <a:xfrm>
            <a:off x="684360" y="2997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ff"/>
                </a:solidFill>
                <a:latin typeface="Georgia"/>
              </a:rPr>
              <a:t>САЙГА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292720" y="3068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Georgia"/>
              </a:rPr>
              <a:t>СТРЕП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971640" y="62262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Georgia"/>
              </a:rPr>
              <a:t>СУР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4788000" y="6216480"/>
            <a:ext cx="28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99"/>
                </a:solidFill>
                <a:latin typeface="Georgia"/>
              </a:rPr>
              <a:t>СТЕПНОЙ ОРЁ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12" descr="21"/>
          <p:cNvPicPr/>
          <p:nvPr/>
        </p:nvPicPr>
        <p:blipFill>
          <a:blip r:embed="rId1"/>
          <a:stretch/>
        </p:blipFill>
        <p:spPr>
          <a:xfrm>
            <a:off x="395280" y="333360"/>
            <a:ext cx="3781440" cy="27050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3" descr="22"/>
          <p:cNvPicPr/>
          <p:nvPr/>
        </p:nvPicPr>
        <p:blipFill>
          <a:blip r:embed="rId2"/>
          <a:stretch/>
        </p:blipFill>
        <p:spPr>
          <a:xfrm>
            <a:off x="4643280" y="333360"/>
            <a:ext cx="3791160" cy="2705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23"/>
          <p:cNvPicPr/>
          <p:nvPr/>
        </p:nvPicPr>
        <p:blipFill>
          <a:blip r:embed="rId3"/>
          <a:stretch/>
        </p:blipFill>
        <p:spPr>
          <a:xfrm>
            <a:off x="468360" y="3429000"/>
            <a:ext cx="3752640" cy="2714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29"/>
          <p:cNvPicPr/>
          <p:nvPr/>
        </p:nvPicPr>
        <p:blipFill>
          <a:blip r:embed="rId4"/>
          <a:stretch/>
        </p:blipFill>
        <p:spPr>
          <a:xfrm>
            <a:off x="4716360" y="3429000"/>
            <a:ext cx="3657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5"/>
          <p:cNvSpPr/>
          <p:nvPr/>
        </p:nvSpPr>
        <p:spPr>
          <a:xfrm>
            <a:off x="3635280" y="0"/>
            <a:ext cx="525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ПОЛУПУСТЫНИ ПУСТЫН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900000" y="4221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Georgia"/>
              </a:rPr>
              <a:t>Песчаные пусты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5435640" y="4221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99"/>
                </a:solidFill>
                <a:latin typeface="Georgia"/>
              </a:rPr>
              <a:t>Пустыня в Израил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10" descr="24"/>
          <p:cNvPicPr/>
          <p:nvPr/>
        </p:nvPicPr>
        <p:blipFill>
          <a:blip r:embed="rId1"/>
          <a:stretch/>
        </p:blipFill>
        <p:spPr>
          <a:xfrm>
            <a:off x="324000" y="1413000"/>
            <a:ext cx="4267080" cy="2790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25"/>
          <p:cNvPicPr/>
          <p:nvPr/>
        </p:nvPicPr>
        <p:blipFill>
          <a:blip r:embed="rId2"/>
          <a:stretch/>
        </p:blipFill>
        <p:spPr>
          <a:xfrm>
            <a:off x="4716360" y="1413000"/>
            <a:ext cx="4267440" cy="2781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2" descr="26"/>
          <p:cNvPicPr/>
          <p:nvPr/>
        </p:nvPicPr>
        <p:blipFill>
          <a:blip r:embed="rId3"/>
          <a:stretch/>
        </p:blipFill>
        <p:spPr>
          <a:xfrm>
            <a:off x="3419640" y="4648320"/>
            <a:ext cx="33321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7"/>
          <p:cNvSpPr/>
          <p:nvPr/>
        </p:nvSpPr>
        <p:spPr>
          <a:xfrm>
            <a:off x="971640" y="2997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Georgia"/>
              </a:rPr>
              <a:t>Верблю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5435640" y="357336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Georgia"/>
              </a:rPr>
              <a:t>эфеме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468360" y="4221000"/>
            <a:ext cx="777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Georgia"/>
              </a:rPr>
              <a:t>Пустыня – группа биомов, распространённых в областях с крайне засушливым климатом. Важнейшая особенность условий пустыни – резкое преобладание испарения над осадками. Пустыни покрывают треть суши Земли, формируются в условиях умеренного, субтропического и тропического природных поясов, что определяет существенные различия в их тепловом режиме. Количество осадков в разных пустынных регионах варьирует от 200-150 до 50-40 мм в го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11" descr="27"/>
          <p:cNvPicPr/>
          <p:nvPr/>
        </p:nvPicPr>
        <p:blipFill>
          <a:blip r:embed="rId1"/>
          <a:stretch/>
        </p:blipFill>
        <p:spPr>
          <a:xfrm>
            <a:off x="179280" y="189000"/>
            <a:ext cx="3810240" cy="2847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2" descr="28"/>
          <p:cNvPicPr/>
          <p:nvPr/>
        </p:nvPicPr>
        <p:blipFill>
          <a:blip r:embed="rId2"/>
          <a:stretch/>
        </p:blipFill>
        <p:spPr>
          <a:xfrm>
            <a:off x="4284720" y="33336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611280" y="40464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ВСПОМНИМ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900000" y="1341360"/>
            <a:ext cx="7848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 Unicode MS"/>
              </a:rPr>
              <a:t>Определите, какие из этих растений и животных встречаются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 Unicode MS"/>
              </a:rPr>
              <a:t>Северной Америке, какие в Евразии, а какие – и там, и там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826920" y="2276640"/>
            <a:ext cx="799308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Медведь гриз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Карликовая и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Сибирская сос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Кой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Боб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Овцебы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Лиственни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Скун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Белый медвед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Росомах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Гико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Уссурийский тиг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Зуб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Тюльпановое дере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Кариб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5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5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7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00080"/>
                </a:solidFill>
                <a:uFillTx/>
                <a:latin typeface="Arial Black"/>
              </a:rPr>
              <a:t>Домашнее задание.</a:t>
            </a:r>
            <a:endParaRPr b="1" lang="en-US" sz="36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99"/>
                </a:solidFill>
                <a:latin typeface="Arial"/>
              </a:rPr>
              <a:t>Составьте прогноз антропогенных изменений в каждой зоне, предложите меры по охране её природ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2411280" y="4859280"/>
            <a:ext cx="39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СПАСИБО ЗА УР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75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250"/>
                            </p:stCondLst>
                            <p:childTnLst>
                              <p:par>
                                <p:cTn id="1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620280"/>
            <a:ext cx="8007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рктические пусты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Тунд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Лесотунд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Тайг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мешанные и широколиственные лес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Лесостепи и степ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лупустыни и пустыни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8000"/>
                            </p:stCondLst>
                            <p:childTnLst>
                              <p:par>
                                <p:cTn id="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5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 Black"/>
              </a:rPr>
              <a:t>План описания природной зоны.</a:t>
            </a:r>
            <a:br>
              <a:rPr sz="4000"/>
            </a:b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6925a"/>
                </a:solidFill>
                <a:latin typeface="Arial"/>
              </a:rPr>
              <a:t>Географическое полож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6925a"/>
                </a:solidFill>
                <a:latin typeface="Arial"/>
              </a:rPr>
              <a:t>Клима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6925a"/>
                </a:solidFill>
                <a:latin typeface="Arial"/>
              </a:rPr>
              <a:t>Почв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6925a"/>
                </a:solidFill>
                <a:latin typeface="Arial"/>
              </a:rPr>
              <a:t>Растительный ми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6925a"/>
                </a:solidFill>
                <a:latin typeface="Arial"/>
              </a:rPr>
              <a:t>Животный ми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16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660"/>
                            </p:stCondLst>
                            <p:childTnLst>
                              <p:par>
                                <p:cTn id="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16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660"/>
                            </p:stCondLst>
                            <p:childTnLst>
                              <p:par>
                                <p:cTn id="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160"/>
                            </p:stCondLst>
                            <p:childTnLst>
                              <p:par>
                                <p:cTn id="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ТУНДРА. ЛЕСОТУНДРА.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5" descr="3"/>
          <p:cNvPicPr/>
          <p:nvPr/>
        </p:nvPicPr>
        <p:blipFill>
          <a:blip r:embed="rId1"/>
          <a:stretch/>
        </p:blipFill>
        <p:spPr>
          <a:xfrm>
            <a:off x="539640" y="1197000"/>
            <a:ext cx="835344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9" descr="4"/>
          <p:cNvPicPr/>
          <p:nvPr/>
        </p:nvPicPr>
        <p:blipFill>
          <a:blip r:embed="rId1"/>
          <a:stretch/>
        </p:blipFill>
        <p:spPr>
          <a:xfrm>
            <a:off x="468360" y="260280"/>
            <a:ext cx="3200400" cy="3314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0" descr="5"/>
          <p:cNvPicPr/>
          <p:nvPr/>
        </p:nvPicPr>
        <p:blipFill>
          <a:blip r:embed="rId2"/>
          <a:stretch/>
        </p:blipFill>
        <p:spPr>
          <a:xfrm>
            <a:off x="4140360" y="260280"/>
            <a:ext cx="3705120" cy="3200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1" descr="6"/>
          <p:cNvPicPr/>
          <p:nvPr/>
        </p:nvPicPr>
        <p:blipFill>
          <a:blip r:embed="rId3"/>
          <a:stretch/>
        </p:blipFill>
        <p:spPr>
          <a:xfrm>
            <a:off x="1547640" y="3789360"/>
            <a:ext cx="3248280" cy="2847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2" descr="7"/>
          <p:cNvPicPr/>
          <p:nvPr/>
        </p:nvPicPr>
        <p:blipFill>
          <a:blip r:embed="rId4"/>
          <a:stretch/>
        </p:blipFill>
        <p:spPr>
          <a:xfrm>
            <a:off x="5219640" y="3573360"/>
            <a:ext cx="324792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             </a:t>
            </a: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ТАЙГА .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5" descr="8"/>
          <p:cNvPicPr/>
          <p:nvPr/>
        </p:nvPicPr>
        <p:blipFill>
          <a:blip r:embed="rId1"/>
          <a:stretch/>
        </p:blipFill>
        <p:spPr>
          <a:xfrm>
            <a:off x="611280" y="1628640"/>
            <a:ext cx="82818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7" descr="9"/>
          <p:cNvPicPr/>
          <p:nvPr/>
        </p:nvPicPr>
        <p:blipFill>
          <a:blip r:embed="rId1"/>
          <a:stretch/>
        </p:blipFill>
        <p:spPr>
          <a:xfrm>
            <a:off x="468360" y="333360"/>
            <a:ext cx="3800520" cy="3200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8" descr="10"/>
          <p:cNvPicPr/>
          <p:nvPr/>
        </p:nvPicPr>
        <p:blipFill>
          <a:blip r:embed="rId2"/>
          <a:stretch/>
        </p:blipFill>
        <p:spPr>
          <a:xfrm>
            <a:off x="4788000" y="189000"/>
            <a:ext cx="3714480" cy="3200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9" descr="11"/>
          <p:cNvPicPr/>
          <p:nvPr/>
        </p:nvPicPr>
        <p:blipFill>
          <a:blip r:embed="rId3"/>
          <a:stretch/>
        </p:blipFill>
        <p:spPr>
          <a:xfrm>
            <a:off x="1042920" y="3573360"/>
            <a:ext cx="3524400" cy="2943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0" descr="13"/>
          <p:cNvPicPr/>
          <p:nvPr/>
        </p:nvPicPr>
        <p:blipFill>
          <a:blip r:embed="rId4"/>
          <a:stretch/>
        </p:blipFill>
        <p:spPr>
          <a:xfrm>
            <a:off x="5003640" y="3357720"/>
            <a:ext cx="3600720" cy="32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8"/>
          <p:cNvSpPr/>
          <p:nvPr/>
        </p:nvSpPr>
        <p:spPr>
          <a:xfrm>
            <a:off x="5435640" y="620640"/>
            <a:ext cx="32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66cc"/>
                </a:solidFill>
                <a:latin typeface="Georgia"/>
              </a:rPr>
              <a:t>Широколиственные ле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971640" y="4653000"/>
            <a:ext cx="77040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Зона смешанных и широколиственных лесов расположена лишь на западе и востоке материка. Широколиственные деревья более теплолюбивы, в тайге их нет. Почвы по сравнению с подзолами более плодородны. Наиболее типичны деревья дуб и бук. Смешанные и особенно широколиственные леса сильно вырублены. Многие растения и животные занесены в Красную книг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10" descr="14"/>
          <p:cNvPicPr/>
          <p:nvPr/>
        </p:nvPicPr>
        <p:blipFill>
          <a:blip r:embed="rId1"/>
          <a:stretch/>
        </p:blipFill>
        <p:spPr>
          <a:xfrm>
            <a:off x="900000" y="1052640"/>
            <a:ext cx="3924360" cy="3200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15"/>
          <p:cNvPicPr/>
          <p:nvPr/>
        </p:nvPicPr>
        <p:blipFill>
          <a:blip r:embed="rId2"/>
          <a:stretch/>
        </p:blipFill>
        <p:spPr>
          <a:xfrm>
            <a:off x="5364000" y="1341360"/>
            <a:ext cx="33242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06:28:17Z</dcterms:created>
  <dc:creator>Customer</dc:creator>
  <dc:description/>
  <dc:language>en-US</dc:language>
  <cp:lastModifiedBy>Коля</cp:lastModifiedBy>
  <dcterms:modified xsi:type="dcterms:W3CDTF">2013-06-27T07:49:23Z</dcterms:modified>
  <cp:revision>34</cp:revision>
  <dc:subject/>
  <dc:title>ПРИРОДНЫЕ ЗОНЫ ЕВРАЗИИ</dc:title>
</cp:coreProperties>
</file>