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8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27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186B-2783-4602-9BE6-E7FC05DC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9038-D396-4AC8-BCCF-F68B0629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3910-47EB-4929-A5FD-5205EC30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5D7A-F4E5-41AA-8946-C31939EA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4A9B-F2C3-42C4-82E7-B06BE69C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9D2C-EA6C-4824-B46F-01E9F43D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B0EF-3D96-4437-9629-B8CDCFD7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8F19-EA9A-4D23-ABE5-3A8A4815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3E10-D190-468E-8C37-F3B1566F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ABD2-6354-42C6-8762-0D60ACB7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37F0-81C9-4224-A099-9BF16876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7DF-3A8A-40AC-A9AC-BE6A446C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13BC-A212-423B-8756-7B3413C9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3695-E960-4DE8-85A9-8FE51639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0863-9764-46C7-88A9-3EB6F9C5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AF7F-E6F8-4DDB-82B4-AD542E48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49B4-115C-4C3B-8FD4-D1D02949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7F4-0F6C-4D3D-BD4D-7256478F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967-01FF-45BB-92AC-83BF10B3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45E-4F33-4409-B7D2-98630EAC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928E-6C5D-4F69-A3B7-589D6E41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5C5B-C7DE-48E6-A0D1-B250C8F0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37E4-2BB8-472C-9C96-8485B153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A756-C0B2-4B68-96A3-12BD1320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85BB-C85D-4716-9617-552D055E28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FFC9-CAF5-4ACE-A3A6-9970770CE8E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41400"/>
            <a:ext cx="7772400" cy="16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 Black"/>
              </a:rPr>
              <a:t>ПРИРОДНЫЕ ЗОНЫ ЕВРАЗИИ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292720" y="4986360"/>
            <a:ext cx="3706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howcard Gothic"/>
              </a:rPr>
              <a:t>Урок географ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howcard Gothic"/>
              </a:rPr>
              <a:t>7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howcard Gothic"/>
              </a:rPr>
              <a:t>Учитель: Ложкина Анжелика Валер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1"/>
          <p:cNvPicPr/>
          <p:nvPr/>
        </p:nvPicPr>
        <p:blipFill>
          <a:blip r:embed="rId1"/>
          <a:stretch/>
        </p:blipFill>
        <p:spPr>
          <a:xfrm>
            <a:off x="900000" y="3592440"/>
            <a:ext cx="4106880" cy="288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7"/>
          <p:cNvSpPr/>
          <p:nvPr/>
        </p:nvSpPr>
        <p:spPr>
          <a:xfrm>
            <a:off x="395280" y="476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ЛЕСОСТЕПЬ И СТЕП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95280" y="4581360"/>
            <a:ext cx="8064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 степях основным препятствием для развития деревьев является недостаток воды, низкий уровень грунтовых вод и засоленность степных почв. Поэтому леса встречаются в поймах рек, называются они урён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Увидеть степь теперь можно только в заповедниках. На нераспаханных участках степей  их естественный покров сильно нарушен, главная причина – длительный выпас ско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9" descr="16"/>
          <p:cNvPicPr/>
          <p:nvPr/>
        </p:nvPicPr>
        <p:blipFill>
          <a:blip r:embed="rId1"/>
          <a:stretch/>
        </p:blipFill>
        <p:spPr>
          <a:xfrm>
            <a:off x="250920" y="1557360"/>
            <a:ext cx="4267080" cy="279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17"/>
          <p:cNvPicPr/>
          <p:nvPr/>
        </p:nvPicPr>
        <p:blipFill>
          <a:blip r:embed="rId2"/>
          <a:stretch/>
        </p:blipFill>
        <p:spPr>
          <a:xfrm>
            <a:off x="4788000" y="1527120"/>
            <a:ext cx="403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8"/>
          <p:cNvSpPr/>
          <p:nvPr/>
        </p:nvSpPr>
        <p:spPr>
          <a:xfrm>
            <a:off x="5651640" y="342900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Georgia"/>
              </a:rPr>
              <a:t>ПИОН ТОНКОЛИСТ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971640" y="6021360"/>
            <a:ext cx="29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Georgia"/>
              </a:rPr>
              <a:t>ГОРИЦВ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82692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Georgia"/>
              </a:rPr>
              <a:t>Шалф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2" descr="18"/>
          <p:cNvPicPr/>
          <p:nvPr/>
        </p:nvPicPr>
        <p:blipFill>
          <a:blip r:embed="rId1"/>
          <a:stretch/>
        </p:blipFill>
        <p:spPr>
          <a:xfrm>
            <a:off x="611280" y="476280"/>
            <a:ext cx="3657600" cy="2371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19"/>
          <p:cNvPicPr/>
          <p:nvPr/>
        </p:nvPicPr>
        <p:blipFill>
          <a:blip r:embed="rId2"/>
          <a:stretch/>
        </p:blipFill>
        <p:spPr>
          <a:xfrm>
            <a:off x="4716360" y="549360"/>
            <a:ext cx="3800520" cy="2781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20"/>
          <p:cNvPicPr/>
          <p:nvPr/>
        </p:nvPicPr>
        <p:blipFill>
          <a:blip r:embed="rId3"/>
          <a:stretch/>
        </p:blipFill>
        <p:spPr>
          <a:xfrm>
            <a:off x="468360" y="3357720"/>
            <a:ext cx="37526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684360" y="2997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eorgia"/>
              </a:rPr>
              <a:t>САЙГ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292720" y="3068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Georgia"/>
              </a:rPr>
              <a:t>СТРЕП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971640" y="62262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Georgia"/>
              </a:rPr>
              <a:t>СУР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788000" y="621648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99"/>
                </a:solidFill>
                <a:latin typeface="Georgia"/>
              </a:rPr>
              <a:t>СТЕПНОЙ ОРЁ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2" descr="21"/>
          <p:cNvPicPr/>
          <p:nvPr/>
        </p:nvPicPr>
        <p:blipFill>
          <a:blip r:embed="rId1"/>
          <a:stretch/>
        </p:blipFill>
        <p:spPr>
          <a:xfrm>
            <a:off x="395280" y="333360"/>
            <a:ext cx="3781440" cy="2705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22"/>
          <p:cNvPicPr/>
          <p:nvPr/>
        </p:nvPicPr>
        <p:blipFill>
          <a:blip r:embed="rId2"/>
          <a:stretch/>
        </p:blipFill>
        <p:spPr>
          <a:xfrm>
            <a:off x="4643280" y="333360"/>
            <a:ext cx="3791160" cy="2705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23"/>
          <p:cNvPicPr/>
          <p:nvPr/>
        </p:nvPicPr>
        <p:blipFill>
          <a:blip r:embed="rId3"/>
          <a:stretch/>
        </p:blipFill>
        <p:spPr>
          <a:xfrm>
            <a:off x="468360" y="3429000"/>
            <a:ext cx="3752640" cy="2714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29"/>
          <p:cNvPicPr/>
          <p:nvPr/>
        </p:nvPicPr>
        <p:blipFill>
          <a:blip r:embed="rId4"/>
          <a:stretch/>
        </p:blipFill>
        <p:spPr>
          <a:xfrm>
            <a:off x="4716360" y="3429000"/>
            <a:ext cx="3657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3635280" y="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ПОЛУПУСТЫНИ ПУСТЫ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900000" y="4221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Georgia"/>
              </a:rPr>
              <a:t>Песчаные пусты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435640" y="4221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99"/>
                </a:solidFill>
                <a:latin typeface="Georgia"/>
              </a:rPr>
              <a:t>Пустыня в Израи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0" descr="24"/>
          <p:cNvPicPr/>
          <p:nvPr/>
        </p:nvPicPr>
        <p:blipFill>
          <a:blip r:embed="rId1"/>
          <a:stretch/>
        </p:blipFill>
        <p:spPr>
          <a:xfrm>
            <a:off x="324000" y="1413000"/>
            <a:ext cx="4267080" cy="2790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25"/>
          <p:cNvPicPr/>
          <p:nvPr/>
        </p:nvPicPr>
        <p:blipFill>
          <a:blip r:embed="rId2"/>
          <a:stretch/>
        </p:blipFill>
        <p:spPr>
          <a:xfrm>
            <a:off x="4716360" y="1413000"/>
            <a:ext cx="4267440" cy="278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26"/>
          <p:cNvPicPr/>
          <p:nvPr/>
        </p:nvPicPr>
        <p:blipFill>
          <a:blip r:embed="rId3"/>
          <a:stretch/>
        </p:blipFill>
        <p:spPr>
          <a:xfrm>
            <a:off x="3419640" y="4648320"/>
            <a:ext cx="3332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7"/>
          <p:cNvSpPr/>
          <p:nvPr/>
        </p:nvSpPr>
        <p:spPr>
          <a:xfrm>
            <a:off x="971640" y="299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Georgia"/>
              </a:rPr>
              <a:t>Верблю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5435640" y="3573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эфеме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8360" y="4221000"/>
            <a:ext cx="777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Georgia"/>
              </a:rPr>
              <a:t>Пустыня – группа биомов, распространённых в областях с крайне засушливым климатом. Важнейшая особенность условий пустыни – резкое преобладание испарения над осадками. Пустыни покрывают треть суши Земли, формируются в условиях умеренного, субтропического и тропического природных поясов, что определяет существенные различия в их тепловом режиме. Количество осадков в разных пустынных регионах варьирует от 200-150 до 50-40 мм в г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1" descr="27"/>
          <p:cNvPicPr/>
          <p:nvPr/>
        </p:nvPicPr>
        <p:blipFill>
          <a:blip r:embed="rId1"/>
          <a:stretch/>
        </p:blipFill>
        <p:spPr>
          <a:xfrm>
            <a:off x="179280" y="189000"/>
            <a:ext cx="3810240" cy="2847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28"/>
          <p:cNvPicPr/>
          <p:nvPr/>
        </p:nvPicPr>
        <p:blipFill>
          <a:blip r:embed="rId2"/>
          <a:stretch/>
        </p:blipFill>
        <p:spPr>
          <a:xfrm>
            <a:off x="4284720" y="33336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611280" y="40464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СПОМНИ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900000" y="1341360"/>
            <a:ext cx="784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 Unicode MS"/>
              </a:rPr>
              <a:t>Определите, какие из этих растений и животных встречаются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 Unicode MS"/>
              </a:rPr>
              <a:t>Северной Америке, какие в Евразии, а какие – и там, и та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826920" y="2276640"/>
            <a:ext cx="799308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Медведь гриз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Карликовая и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Сибирская сос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Кой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Боб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Овцебы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Лиственн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Скун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Белый медве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Росомах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Гик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Уссурийский тиг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Зуб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Тюльпановое дере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Кариб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80"/>
                </a:solidFill>
                <a:uFillTx/>
                <a:latin typeface="Arial Black"/>
              </a:rPr>
              <a:t>Домашнее задание.</a:t>
            </a:r>
            <a:endParaRPr b="1" lang="en-US" sz="36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Составьте прогноз антропогенных изменений в каждой зоне, предложите меры по охране её прир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411280" y="485928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СПАСИБО ЗА УР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75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25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620280"/>
            <a:ext cx="8007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рктические пусты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Тунд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есотунд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Тай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мешанные и широколиственные ле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есостепи и степ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лупустыни и пустын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План описания природной зоны.</a:t>
            </a: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925a"/>
                </a:solidFill>
                <a:latin typeface="Arial"/>
              </a:rPr>
              <a:t>Географическое поло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925a"/>
                </a:solidFill>
                <a:latin typeface="Arial"/>
              </a:rPr>
              <a:t>Клима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925a"/>
                </a:solidFill>
                <a:latin typeface="Arial"/>
              </a:rPr>
              <a:t>Поч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925a"/>
                </a:solidFill>
                <a:latin typeface="Arial"/>
              </a:rPr>
              <a:t>Растительный ми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925a"/>
                </a:solidFill>
                <a:latin typeface="Arial"/>
              </a:rPr>
              <a:t>Животный ми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16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66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16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66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16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ТУНДРА. ЛЕСОТУНДРА.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3"/>
          <p:cNvPicPr/>
          <p:nvPr/>
        </p:nvPicPr>
        <p:blipFill>
          <a:blip r:embed="rId1"/>
          <a:stretch/>
        </p:blipFill>
        <p:spPr>
          <a:xfrm>
            <a:off x="539640" y="1197000"/>
            <a:ext cx="835344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9" descr="4"/>
          <p:cNvPicPr/>
          <p:nvPr/>
        </p:nvPicPr>
        <p:blipFill>
          <a:blip r:embed="rId1"/>
          <a:stretch/>
        </p:blipFill>
        <p:spPr>
          <a:xfrm>
            <a:off x="468360" y="260280"/>
            <a:ext cx="3200400" cy="3314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5"/>
          <p:cNvPicPr/>
          <p:nvPr/>
        </p:nvPicPr>
        <p:blipFill>
          <a:blip r:embed="rId2"/>
          <a:stretch/>
        </p:blipFill>
        <p:spPr>
          <a:xfrm>
            <a:off x="4140360" y="260280"/>
            <a:ext cx="3705120" cy="3200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1" descr="6"/>
          <p:cNvPicPr/>
          <p:nvPr/>
        </p:nvPicPr>
        <p:blipFill>
          <a:blip r:embed="rId3"/>
          <a:stretch/>
        </p:blipFill>
        <p:spPr>
          <a:xfrm>
            <a:off x="1547640" y="3789360"/>
            <a:ext cx="3248280" cy="2847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2" descr="7"/>
          <p:cNvPicPr/>
          <p:nvPr/>
        </p:nvPicPr>
        <p:blipFill>
          <a:blip r:embed="rId4"/>
          <a:stretch/>
        </p:blipFill>
        <p:spPr>
          <a:xfrm>
            <a:off x="5219640" y="3573360"/>
            <a:ext cx="32479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             </a:t>
            </a: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ТАЙГА .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8"/>
          <p:cNvPicPr/>
          <p:nvPr/>
        </p:nvPicPr>
        <p:blipFill>
          <a:blip r:embed="rId1"/>
          <a:stretch/>
        </p:blipFill>
        <p:spPr>
          <a:xfrm>
            <a:off x="611280" y="1628640"/>
            <a:ext cx="82818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7" descr="9"/>
          <p:cNvPicPr/>
          <p:nvPr/>
        </p:nvPicPr>
        <p:blipFill>
          <a:blip r:embed="rId1"/>
          <a:stretch/>
        </p:blipFill>
        <p:spPr>
          <a:xfrm>
            <a:off x="468360" y="333360"/>
            <a:ext cx="3800520" cy="3200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10"/>
          <p:cNvPicPr/>
          <p:nvPr/>
        </p:nvPicPr>
        <p:blipFill>
          <a:blip r:embed="rId2"/>
          <a:stretch/>
        </p:blipFill>
        <p:spPr>
          <a:xfrm>
            <a:off x="4788000" y="189000"/>
            <a:ext cx="3714480" cy="3200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11"/>
          <p:cNvPicPr/>
          <p:nvPr/>
        </p:nvPicPr>
        <p:blipFill>
          <a:blip r:embed="rId3"/>
          <a:stretch/>
        </p:blipFill>
        <p:spPr>
          <a:xfrm>
            <a:off x="1042920" y="3573360"/>
            <a:ext cx="3524400" cy="2943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13"/>
          <p:cNvPicPr/>
          <p:nvPr/>
        </p:nvPicPr>
        <p:blipFill>
          <a:blip r:embed="rId4"/>
          <a:stretch/>
        </p:blipFill>
        <p:spPr>
          <a:xfrm>
            <a:off x="5003640" y="3357720"/>
            <a:ext cx="360072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8"/>
          <p:cNvSpPr/>
          <p:nvPr/>
        </p:nvSpPr>
        <p:spPr>
          <a:xfrm>
            <a:off x="5435640" y="62064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cc"/>
                </a:solidFill>
                <a:latin typeface="Georgia"/>
              </a:rPr>
              <a:t>Широколиственные ле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971640" y="4653000"/>
            <a:ext cx="7704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Зона смешанных и широколиственных лесов расположена лишь на западе и востоке материка. Широколиственные деревья более теплолюбивы, в тайге их нет. Почвы по сравнению с подзолами более плодородны. Наиболее типичны деревья дуб и бук. Смешанные и особенно широколиственные леса сильно вырублены. Многие растения и животные занесены в Красную кни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0" descr="14"/>
          <p:cNvPicPr/>
          <p:nvPr/>
        </p:nvPicPr>
        <p:blipFill>
          <a:blip r:embed="rId1"/>
          <a:stretch/>
        </p:blipFill>
        <p:spPr>
          <a:xfrm>
            <a:off x="900000" y="1052640"/>
            <a:ext cx="3924360" cy="3200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15"/>
          <p:cNvPicPr/>
          <p:nvPr/>
        </p:nvPicPr>
        <p:blipFill>
          <a:blip r:embed="rId2"/>
          <a:stretch/>
        </p:blipFill>
        <p:spPr>
          <a:xfrm>
            <a:off x="5364000" y="1341360"/>
            <a:ext cx="3324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06:28:17Z</dcterms:created>
  <dc:creator>Customer</dc:creator>
  <dc:description/>
  <dc:language>en-US</dc:language>
  <cp:lastModifiedBy>Коля</cp:lastModifiedBy>
  <dcterms:modified xsi:type="dcterms:W3CDTF">2013-06-27T07:49:23Z</dcterms:modified>
  <cp:revision>34</cp:revision>
  <dc:subject/>
  <dc:title>ПРИРОДНЫЕ ЗОНЫ ЕВРАЗИИ</dc:title>
</cp:coreProperties>
</file>