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3.jpeg" ContentType="image/jpeg"/>
  <Override PartName="/ppt/media/image8.jpeg" ContentType="image/jpeg"/>
  <Override PartName="/ppt/media/image10.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1.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BD35C5-B0C1-4F40-B7E5-578DE0CCBB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Times New Roman"/>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086BC2-5C73-4938-9C27-003E0C3997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Times New Roman"/>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95EC8C-19CF-4DE2-BDAE-E8E2E700F8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Times New Roman"/>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DC52D3-CE38-445F-8F0C-45C1679763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07424F-658C-4AFD-9FA8-7D9CED0EE9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Times New Roman"/>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8F908F-2AEC-4D97-9751-8E9E5BA71A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Times New Roman"/>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72A0B5-FEA5-4308-B9C0-FB2EB7AD2C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Times New Roman"/>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45A61D-7878-428F-A8A7-F0B548CD1F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FF507C-3312-4784-A067-02159F5A95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522199-AF81-4A4D-A113-EAB3B864C5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Times New Roman"/>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5C5EFA-20A8-4470-B3A2-F234D04B04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Times New Roman"/>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4BB968-07A8-4D1D-8341-0DC5B8B74D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Times New Roman"/>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A00D64-9CC8-47C1-985C-3B7AD00D13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Times New Roman"/>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9CFD6F-20E4-4D36-8035-6E265CB7C1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Times New Roman"/>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7C4428-846C-47AF-81AC-5AA5C7580B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Times New Roman"/>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4ECA8C-59B5-42EB-8ED1-6667833722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Times New Roman"/>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EDF5E1-CF24-499B-B488-3C5F247C99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Times New Roman"/>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782F80-D3FC-47FE-B3A0-BD257AB178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Times New Roman"/>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BF3238-DF3B-4677-BE49-BDD57B990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6313EA-6B3A-4D10-B7AF-61B3B1F374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B245A7-CC37-4B4D-8389-413AEEF5FF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Times New Roman"/>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276EB-319C-4252-A785-1417D915B7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Times New Roman"/>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17911-4D77-4CD9-BA37-DB229702FA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Times New Roman"/>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8A4B5-1E21-4032-B5EC-AFFC3FBAAD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Times New Roman"/>
              </a:rPr>
              <a:t>Click to edit the title text format</a:t>
            </a:r>
            <a:endParaRPr b="1" lang="en-US" sz="4100" spc="-1" strike="noStrike">
              <a:solidFill>
                <a:srgbClr val="ffffff"/>
              </a:solidFill>
              <a:latin typeface="Times New Roman"/>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cbcbc"/>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93C7A-7649-410E-B4BA-A7FAE807A062}" type="slidenum">
              <a:rPr b="0" lang="ru-RU" sz="1200" spc="-1" strike="noStrike">
                <a:solidFill>
                  <a:srgbClr val="bcbcbc"/>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Times New Roman"/>
              </a:rPr>
              <a:t>Click to edit the title text format</a:t>
            </a:r>
            <a:endParaRPr b="1" lang="en-US" sz="4100" spc="-1" strike="noStrike">
              <a:solidFill>
                <a:srgbClr val="ffffff"/>
              </a:solidFill>
              <a:latin typeface="Times New Roman"/>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cbcbc"/>
                </a:solidFill>
                <a:latin typeface="Times New Roman"/>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6985A-819A-47A8-B238-F72A6CB9E970}" type="slidenum">
              <a:rPr b="0" lang="ru-RU" sz="1200" spc="-1" strike="noStrike">
                <a:solidFill>
                  <a:srgbClr val="bcbcbc"/>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Прямоугольник 1" descr=""/>
          <p:cNvPicPr/>
          <p:nvPr/>
        </p:nvPicPr>
        <p:blipFill>
          <a:blip r:embed="rId1"/>
          <a:stretch/>
        </p:blipFill>
        <p:spPr>
          <a:xfrm>
            <a:off x="1517760" y="1712880"/>
            <a:ext cx="6462720" cy="2809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Рисунок 1" descr="http://upload.wikimedia.org/wikipedia/commons/thumb/1/17/Supplicating_Pilgrim_at_Masjid_Al_Haram._Mecca%2C_Saudi_Arabia.jpg/180px-Supplicating_Pilgrim_at_Masjid_Al_Haram._Mecca%2C_Saudi_Arabia.jpg"/>
          <p:cNvPicPr/>
          <p:nvPr/>
        </p:nvPicPr>
        <p:blipFill>
          <a:blip r:embed="rId1"/>
          <a:stretch/>
        </p:blipFill>
        <p:spPr>
          <a:xfrm>
            <a:off x="642960" y="142920"/>
            <a:ext cx="8001000" cy="6357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Box 2"/>
          <p:cNvSpPr/>
          <p:nvPr/>
        </p:nvSpPr>
        <p:spPr>
          <a:xfrm>
            <a:off x="857160" y="642960"/>
            <a:ext cx="7215120" cy="497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коло них приносили жертвы и гадали. В святилище и вокруг него на запретной территории нельзя было ссориться, мстить кому бы то ни было, тем более проливать кровь — арабские племена поклонялись разным богам, но все одинаково чтили Каабу. Считалось, что если кто-либо оскорбит языческое божество, будет неминуемо наказан: заболеет проказой или лишится рассудка. Жили в Мекке иудеи, христиане, а также ханифы — аскеты и последователи веры пророка Ибрахима (Авраама) - благочестивые люди, исповедовавшие строгое единобожие, но ни к какой из этих религиозных общин себя не причислявшие.</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Родившийся в Мекке, новый пророк по имени Мухаммад, потомок пророка Ибрахима повелел разрушить все идолы и очистил от них территорию вокруг Каабы. В настоящее время вокруг Каабы воздвигнута гигантская Запретная Мечеть.</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C:\Users\Australia\Desktop\s_019.bmp"/>
          <p:cNvPicPr/>
          <p:nvPr/>
        </p:nvPicPr>
        <p:blipFill>
          <a:blip r:embed="rId1"/>
          <a:stretch/>
        </p:blipFill>
        <p:spPr>
          <a:xfrm>
            <a:off x="285840" y="214200"/>
            <a:ext cx="8643960" cy="6000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Box 3"/>
          <p:cNvSpPr/>
          <p:nvPr/>
        </p:nvSpPr>
        <p:spPr>
          <a:xfrm>
            <a:off x="142920" y="0"/>
            <a:ext cx="8786880" cy="649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1" i="1" lang="ru-RU" sz="4000" spc="-1" strike="noStrike" u="sng">
                <a:solidFill>
                  <a:srgbClr val="000000"/>
                </a:solidFill>
                <a:uFillTx/>
                <a:latin typeface="Times New Roman"/>
              </a:rPr>
              <a:t>Чёрный камень </a:t>
            </a:r>
            <a:r>
              <a:rPr b="0" lang="ru-RU" sz="2000" spc="-1" strike="noStrike">
                <a:solidFill>
                  <a:srgbClr val="000000"/>
                </a:solidFill>
                <a:latin typeface="Times New Roman"/>
              </a:rPr>
              <a:t>— мусульманская святыня, камень прощения, посланный Адаму и Еве Богом, вмонтирован в восточный угол Каабы на высоте 1,5 м и заключён в серебряную оправу. Видимая поверхность камня имеет площадь примерно 16,5×20 см. Существуют различные гипотезы происхождения Чёрного камня.</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 преданию, первоначально камень был белого цвета и лишь со временем стал черным от прикосновений многочисленных грешников. Паломники стремятся поцеловать Чёрный камень, а если это не удается, то хотя бы коснуться его.</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Чёрный камень был принесен ангелом Гавриилом из рая Адаму, после его раскаяния, который и положил начало Каабе, а вделан в стену — Ибрахимом (Авраамом), установителем хаджа, восстановившему со своим сыном Исмаилом (родоначальником арабов) святилище, разрушенное всемирным потопом. При постройке Каабы Ибрахим стоял на плоском камне, который мог парить над землей. Этот камень, на котором сохранился отпечаток ступни Ибрахима, является священным для мусульман и носит название Макам Ибрахим (место стояния Ибрахима, в переводе на русский). Он находится в нескольких метрах от Каабы.</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Рисунок 1" descr="http://upload.wikimedia.org/wikipedia/commons/thumb/2/2e/Blackstone.JPG/200px-Blackstone.JPG"/>
          <p:cNvPicPr/>
          <p:nvPr/>
        </p:nvPicPr>
        <p:blipFill>
          <a:blip r:embed="rId1"/>
          <a:stretch/>
        </p:blipFill>
        <p:spPr>
          <a:xfrm>
            <a:off x="1857240" y="285840"/>
            <a:ext cx="5072040" cy="6215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Box 1"/>
          <p:cNvSpPr/>
          <p:nvPr/>
        </p:nvSpPr>
        <p:spPr>
          <a:xfrm>
            <a:off x="214200" y="428760"/>
            <a:ext cx="8572680" cy="624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0000"/>
                </a:solidFill>
                <a:uFillTx/>
                <a:latin typeface="Times New Roman"/>
              </a:rPr>
              <a:t> </a:t>
            </a:r>
            <a:r>
              <a:rPr b="1" i="1" lang="ru-RU" sz="4000" spc="-1" strike="noStrike" u="sng">
                <a:solidFill>
                  <a:srgbClr val="000000"/>
                </a:solidFill>
                <a:uFillTx/>
                <a:latin typeface="Times New Roman"/>
              </a:rPr>
              <a:t>Медина</a:t>
            </a:r>
            <a:r>
              <a:rPr b="0" lang="ru-RU" sz="2800" spc="-1" strike="noStrike">
                <a:solidFill>
                  <a:srgbClr val="000000"/>
                </a:solidFill>
                <a:latin typeface="Times New Roman"/>
              </a:rPr>
              <a:t> — город в районе Хиджаз западной Саудовской Аравии.</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ервая мечеть ислама также находится в Медине и называется мечеть Куба.</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Её религиозное значение велико из-за присутствия в ней святыни пророка Мухаммада у мечети пророка, известной как купол пророка или «зелёный купол», построенного рядом с домом Мухаммада. Его дом позднее стал частью мечети.</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 Медине скончался пророк Мухаммад в 632 г.</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Рисунок 1" descr="http://upload.wikimedia.org/wikipedia/commons/thumb/f/f6/Masjid_Nabawi._Medina%2C_Saudi_Arabia.jpg/310px-Masjid_Nabawi._Medina%2C_Saudi_Arabia.jpg"/>
          <p:cNvPicPr/>
          <p:nvPr/>
        </p:nvPicPr>
        <p:blipFill>
          <a:blip r:embed="rId1"/>
          <a:stretch/>
        </p:blipFill>
        <p:spPr>
          <a:xfrm>
            <a:off x="428760" y="214200"/>
            <a:ext cx="8286480" cy="5857920"/>
          </a:xfrm>
          <a:prstGeom prst="rect">
            <a:avLst/>
          </a:prstGeom>
          <a:ln w="0">
            <a:noFill/>
          </a:ln>
        </p:spPr>
      </p:pic>
      <p:sp>
        <p:nvSpPr>
          <p:cNvPr id="98" name="TextBox 2"/>
          <p:cNvSpPr/>
          <p:nvPr/>
        </p:nvSpPr>
        <p:spPr>
          <a:xfrm>
            <a:off x="2000160" y="6143760"/>
            <a:ext cx="5072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Мечеть пророка Мухаммеда</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7" descr="medina"/>
          <p:cNvPicPr/>
          <p:nvPr/>
        </p:nvPicPr>
        <p:blipFill>
          <a:blip r:embed="rId1"/>
          <a:stretch/>
        </p:blipFill>
        <p:spPr>
          <a:xfrm>
            <a:off x="714240" y="214200"/>
            <a:ext cx="7453440" cy="6286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Box 2"/>
          <p:cNvSpPr/>
          <p:nvPr/>
        </p:nvSpPr>
        <p:spPr>
          <a:xfrm>
            <a:off x="714240" y="428760"/>
            <a:ext cx="7500960" cy="582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u="sng">
                <a:solidFill>
                  <a:srgbClr val="000000"/>
                </a:solidFill>
                <a:uFillTx/>
                <a:latin typeface="Times New Roman"/>
              </a:rPr>
              <a:t>Кора́н</a:t>
            </a:r>
            <a:r>
              <a:rPr b="0" lang="ru-RU" sz="2400" spc="-1" strike="noStrike">
                <a:solidFill>
                  <a:srgbClr val="000000"/>
                </a:solidFill>
                <a:latin typeface="Times New Roman"/>
              </a:rPr>
              <a:t>— Священная книга мусульман (приверженцев ислама). Слово Коран означает «чтение вслух», «назидание», «чтение». Только впоследствии это слово стало обозначать книгу, в которой записано Божественное откровение. Арабы также называют Коран мусхаф, или свиток. Мусульмане верят, что Коран был ниспослан Мухаммаду в течение 23 лет. Первое откровение Пророк получил в 610 г., в Ночь могущества (месяц рамадан или рамазан). Он служит основой мусульманского законодательства, как религиозного, так и гражданского.</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Мусульмане считают Коран «надиктованным» ангелом Джабраилом на арабском языке, поэтому именно на этом языке мусульмане читают молитвы и сам Коран.</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5" descr="1235723626e86c"/>
          <p:cNvPicPr/>
          <p:nvPr/>
        </p:nvPicPr>
        <p:blipFill>
          <a:blip r:embed="rId1"/>
          <a:stretch/>
        </p:blipFill>
        <p:spPr>
          <a:xfrm>
            <a:off x="1000080" y="285840"/>
            <a:ext cx="6929640" cy="6188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Box 3"/>
          <p:cNvSpPr/>
          <p:nvPr/>
        </p:nvSpPr>
        <p:spPr>
          <a:xfrm>
            <a:off x="428760" y="285840"/>
            <a:ext cx="8143920" cy="631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 территории современного Ирана, Ирака, Афганистана, части Турции находились древнейшие очаги земледелия. В конце 4-го тысячелетия до н. э. в междуречье Тигра и Евфрата появились первые города шумеров. В дальнейшем эти плодородные земли стали местом возникновения, борьбы и распада великих империй древности. Здесь зародились многие ремесла, появилась письменность в виде клинописи, первые библиотеки. Персия Ахеменидов стремилась подчинить себе весь известный тогда мир, но потерпела поражение от Александра Македонского. После этого регион оказался одним из центров эллинистической цивилизации. На осколках эллинистического государства Селевкидов возникла Парфянская империя — соперник Римской. С 3 в. н. э. эта территория вошла в державу Сасанидов, боровшуюся с Византией. В 7-8 вв. эти земли вошли в Арабский халифат и стали ядром формирования новой исламской культуры.</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10" descr="180px-Opened_Qur'an"/>
          <p:cNvPicPr/>
          <p:nvPr/>
        </p:nvPicPr>
        <p:blipFill>
          <a:blip r:embed="rId1"/>
          <a:stretch/>
        </p:blipFill>
        <p:spPr>
          <a:xfrm>
            <a:off x="1500120" y="285840"/>
            <a:ext cx="6572160" cy="6118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9" descr="post33200_img1"/>
          <p:cNvPicPr/>
          <p:nvPr/>
        </p:nvPicPr>
        <p:blipFill>
          <a:blip r:embed="rId1"/>
          <a:stretch/>
        </p:blipFill>
        <p:spPr>
          <a:xfrm>
            <a:off x="357120" y="214200"/>
            <a:ext cx="4095720" cy="3071880"/>
          </a:xfrm>
          <a:prstGeom prst="rect">
            <a:avLst/>
          </a:prstGeom>
          <a:ln w="0">
            <a:noFill/>
          </a:ln>
        </p:spPr>
      </p:pic>
      <p:pic>
        <p:nvPicPr>
          <p:cNvPr id="104" name="Picture 10" descr="islam2b2"/>
          <p:cNvPicPr/>
          <p:nvPr/>
        </p:nvPicPr>
        <p:blipFill>
          <a:blip r:embed="rId2"/>
          <a:stretch/>
        </p:blipFill>
        <p:spPr>
          <a:xfrm>
            <a:off x="4572000" y="214200"/>
            <a:ext cx="4111560" cy="3071880"/>
          </a:xfrm>
          <a:prstGeom prst="rect">
            <a:avLst/>
          </a:prstGeom>
          <a:ln w="0">
            <a:noFill/>
          </a:ln>
        </p:spPr>
      </p:pic>
      <p:pic>
        <p:nvPicPr>
          <p:cNvPr id="105" name="Picture 11" descr="162351_image_large"/>
          <p:cNvPicPr/>
          <p:nvPr/>
        </p:nvPicPr>
        <p:blipFill>
          <a:blip r:embed="rId3"/>
          <a:stretch/>
        </p:blipFill>
        <p:spPr>
          <a:xfrm>
            <a:off x="714240" y="3429000"/>
            <a:ext cx="3714840" cy="3068640"/>
          </a:xfrm>
          <a:prstGeom prst="rect">
            <a:avLst/>
          </a:prstGeom>
          <a:ln w="0">
            <a:noFill/>
          </a:ln>
        </p:spPr>
      </p:pic>
      <p:pic>
        <p:nvPicPr>
          <p:cNvPr id="106" name="Picture 12" descr="koran"/>
          <p:cNvPicPr/>
          <p:nvPr/>
        </p:nvPicPr>
        <p:blipFill>
          <a:blip r:embed="rId4"/>
          <a:stretch/>
        </p:blipFill>
        <p:spPr>
          <a:xfrm>
            <a:off x="4572000" y="3429000"/>
            <a:ext cx="3884760" cy="3181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7" descr="60153"/>
          <p:cNvPicPr/>
          <p:nvPr/>
        </p:nvPicPr>
        <p:blipFill>
          <a:blip r:embed="rId1"/>
          <a:stretch/>
        </p:blipFill>
        <p:spPr>
          <a:xfrm>
            <a:off x="357120" y="214200"/>
            <a:ext cx="8429760" cy="6323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Box 1"/>
          <p:cNvSpPr/>
          <p:nvPr/>
        </p:nvSpPr>
        <p:spPr>
          <a:xfrm>
            <a:off x="714240" y="1643040"/>
            <a:ext cx="7786800" cy="247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u="sng">
                <a:solidFill>
                  <a:srgbClr val="000000"/>
                </a:solidFill>
                <a:uFillTx/>
                <a:latin typeface="Times New Roman"/>
              </a:rPr>
              <a:t>Мухаммед</a:t>
            </a:r>
            <a:r>
              <a:rPr b="0" lang="ru-RU" sz="2800" spc="-1" strike="noStrike">
                <a:solidFill>
                  <a:srgbClr val="000000"/>
                </a:solidFill>
                <a:latin typeface="Times New Roman"/>
              </a:rPr>
              <a:t> – основатель Ислама, почитается как пророк. Получив, по преданию, откровение Аллаха, выступил в Мекке с проповедью новой веры. Вместе с приверженцам был вынужден переселиться в Медину.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Box 2"/>
          <p:cNvSpPr/>
          <p:nvPr/>
        </p:nvSpPr>
        <p:spPr>
          <a:xfrm>
            <a:off x="642960" y="0"/>
            <a:ext cx="7858080" cy="6675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u="sng">
                <a:solidFill>
                  <a:srgbClr val="000000"/>
                </a:solidFill>
                <a:uFillTx/>
                <a:latin typeface="Times New Roman"/>
              </a:rPr>
              <a:t>Ме́кка </a:t>
            </a:r>
            <a:r>
              <a:rPr b="0" lang="ru-RU" sz="2800" spc="-1" strike="noStrike">
                <a:solidFill>
                  <a:srgbClr val="000000"/>
                </a:solidFill>
                <a:latin typeface="Times New Roman"/>
              </a:rPr>
              <a:t>— город в западной Саудовской Аравии. Является центром паломничества для мусульман. Немусульманам в Мекку въезд запрещён.</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Мекка — священный город мусульман. В 630 году, усилив свою позицию, мусульмане мединской общины во главе с пророком Мухаммедом вошли в Мекку, город сдался без боя, жители признали ислам. Мекка со священной Каабой была превращена в религиозный центр, и мусульмане стали молиться лицом в сторону Мекки, где бы они ни находились.</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 центре Мекки находится Мечеть Аль-Харам.</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8" descr="4965ba6d9ca2"/>
          <p:cNvPicPr/>
          <p:nvPr/>
        </p:nvPicPr>
        <p:blipFill>
          <a:blip r:embed="rId1"/>
          <a:stretch/>
        </p:blipFill>
        <p:spPr>
          <a:xfrm>
            <a:off x="285840" y="357120"/>
            <a:ext cx="8650080" cy="6143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7" descr="1244964100_mekka-"/>
          <p:cNvPicPr/>
          <p:nvPr/>
        </p:nvPicPr>
        <p:blipFill>
          <a:blip r:embed="rId1"/>
          <a:stretch/>
        </p:blipFill>
        <p:spPr>
          <a:xfrm>
            <a:off x="357120" y="268200"/>
            <a:ext cx="8429760" cy="6321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Box 1"/>
          <p:cNvSpPr/>
          <p:nvPr/>
        </p:nvSpPr>
        <p:spPr>
          <a:xfrm>
            <a:off x="428760" y="500040"/>
            <a:ext cx="8358120" cy="5763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u="sng">
                <a:solidFill>
                  <a:srgbClr val="000000"/>
                </a:solidFill>
                <a:uFillTx/>
                <a:latin typeface="Times New Roman"/>
              </a:rPr>
              <a:t>Кааба</a:t>
            </a:r>
            <a:r>
              <a:rPr b="1" lang="ru-RU" sz="2400" spc="-1" strike="noStrike">
                <a:solidFill>
                  <a:srgbClr val="000000"/>
                </a:solidFill>
                <a:latin typeface="Times New Roman"/>
              </a:rPr>
              <a:t> </a:t>
            </a:r>
            <a:r>
              <a:rPr b="0" lang="ru-RU" sz="2400" spc="-1" strike="noStrike">
                <a:solidFill>
                  <a:srgbClr val="000000"/>
                </a:solidFill>
                <a:latin typeface="Times New Roman"/>
              </a:rPr>
              <a:t>— мусульманская святыня в виде кубической постройки во внутреннем дворе Запретной Мечети (Мекка). Кааба содержит чёрный камень. Вокруг Каабы во время хаджа совершается обряд таваф. Кааба служит кибилой— ориентиром, к которому обращают свое лицо мусульмане всего мира во время молитвы.</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ысота Каабы составляет 15 метров. Длина и ширина, соответственно, 10 и 12 метров. Общая площадь равна 191 кв м. Углы располагаются по сторонам света и имеют название «йеменский» (южный), «иракский» (северный), «левантийский» (западный) и «каменный» (восточный), где вмонтирован чёрный камень. Кааба изготовлена из гранита и покрыта тканью, внутри имеется помещение.</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Рисунок 1" descr="Kabaa.jpg"/>
          <p:cNvPicPr/>
          <p:nvPr/>
        </p:nvPicPr>
        <p:blipFill>
          <a:blip r:embed="rId1"/>
          <a:stretch/>
        </p:blipFill>
        <p:spPr>
          <a:xfrm>
            <a:off x="928800" y="357120"/>
            <a:ext cx="7143480" cy="6215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Прямоугольник 1"/>
          <p:cNvSpPr/>
          <p:nvPr/>
        </p:nvSpPr>
        <p:spPr>
          <a:xfrm>
            <a:off x="285840" y="285840"/>
            <a:ext cx="8501040" cy="680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 мусульманским преданиям первую Каабу построил пророк Адам, после потопа во времена пророка Нуха (Ноя) постройка и её место были утеряны. По приказу Аллаха пророк Ибрахим (Авраам) вновь возвёл на этом месте здание Каабы. Последователи веры пророка Ибрахима, утвердившего строгое единобожие, совершали паломничество к Каабе, она символизирует небесную Каабу, вокруг которой совершают таваф ангелы.</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озможно, Кааба была главным языческим святилищем Хиджаза; по некоторым традициям, в центре Каабы находился идол Хубала — божества племени курайш в образе человека с золотой рукой (золото заменило некогда отбитую руку). Древние арабы считали его повелителем небес, властелином грозы и дождя. За пределами Каабы были и другие идолы, большинство из которых представляли собой бесформенные камни. Культ камней самый древний у первобытных племен. Культ камней существовал также у финикийцев и ханаанеян.</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округ главного божества располагались идолы других аравийских богов. По преданию, до утверждения Ислама в святилище насчитывалось более 300 идолов.</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6T22:01:26Z</dcterms:created>
  <dc:creator>Australia</dc:creator>
  <dc:description/>
  <dc:language>en-US</dc:language>
  <cp:lastModifiedBy>Australia</cp:lastModifiedBy>
  <dcterms:modified xsi:type="dcterms:W3CDTF">2010-01-16T23:05:44Z</dcterms:modified>
  <cp:revision>6</cp:revision>
  <dc:subject/>
  <dc:title>Слайд 1</dc:title>
</cp:coreProperties>
</file>