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9E003CF-1BB2-43FE-820C-EB56AD357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934A64-4114-48A4-81CC-195E002D4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32A2A46-EB97-484D-95EC-5CFF8C49D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47AD9A0-2F0A-44BF-B22B-FBB279253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718C0-CF39-41C0-926B-555A8A4AA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E5DBA-15EB-4258-8D6A-AF82BFD93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A53AB-2EE4-4B47-95A3-C683665C2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47617-116D-498D-A847-D4D053167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B2D51-8988-4D24-A7A5-6997156E6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99B9F-AA1D-47C7-B47B-A8FAB357F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53564-E011-4FB5-B59E-C7E299884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371776-9BF4-4B61-9407-8F0C771D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0B6BF-BF66-469A-8362-BA52A25A7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D828B-F8AE-425D-8752-09163B30B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36F92-C316-4F96-97AA-832E244DC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AEC61-4280-4DCA-A7C4-8AE8B7771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80D24-089D-4CB1-AD52-6534AEB5E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A27273-682F-4D48-BBBE-68D531DDC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EB585B-6741-4314-85B0-9C2FF997F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AF8FCD-6398-4200-98BD-71AD4C460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8A89D4-ED73-46F5-8976-A8FBA6313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8FDE14-63B6-4729-A66A-CFF4117A4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40AA76-8C18-42E1-9554-FF4A22B69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C07D2A-030E-44A5-99EC-7F6E3A2E5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7BEF-37F7-4C33-90B4-12673E0F762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66E0-F94C-4598-91E3-1BE7D18BDDD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Методика организации учебного исследования.</a:t>
            </a:r>
            <a:endParaRPr b="1" lang="en-US" sz="4000" spc="-1" strike="noStrike">
              <a:solidFill>
                <a:srgbClr val="e5e5ff"/>
              </a:solidFill>
              <a:latin typeface="Garamond"/>
            </a:endParaRPr>
          </a:p>
        </p:txBody>
      </p:sp>
      <p:sp>
        <p:nvSpPr>
          <p:cNvPr id="10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Условия эффективност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a:t>
            </a:r>
            <a:r>
              <a:rPr b="1" lang="en-US" sz="2400" spc="-1" strike="noStrike" u="sng">
                <a:solidFill>
                  <a:srgbClr val="ffcc00"/>
                </a:solidFill>
                <a:uFillTx/>
                <a:latin typeface="Garamond"/>
              </a:rPr>
              <a:t>Ученик должен хотеть проводить исследование</a:t>
            </a:r>
            <a:r>
              <a:rPr b="0" lang="en-US" sz="2400" spc="-1" strike="noStrike" u="sng">
                <a:solidFill>
                  <a:srgbClr val="ffcc00"/>
                </a:solidFill>
                <a:uFillTx/>
                <a:latin typeface="Garamond"/>
              </a:rPr>
              <a:t>. </a:t>
            </a:r>
            <a:r>
              <a:rPr b="1" lang="en-US" sz="2400" spc="-1" strike="noStrike" u="sng">
                <a:solidFill>
                  <a:srgbClr val="ffcc00"/>
                </a:solidFill>
                <a:uFillTx/>
                <a:latin typeface="Garamond"/>
              </a:rPr>
              <a:t>Этого должен хотеть и учитель</a:t>
            </a:r>
            <a:r>
              <a:rPr b="0" lang="en-US" sz="2400" spc="-1" strike="noStrike">
                <a:solidFill>
                  <a:srgbClr val="ffffff"/>
                </a:solidFill>
                <a:latin typeface="Garamond"/>
              </a:rPr>
              <a:t> (провести именно это исследование). Если направление, тема не будут интересны хотя бы одной из двух взаимодействующих сторон, исследования не получиться.</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a:t>
            </a:r>
            <a:r>
              <a:rPr b="1" lang="en-US" sz="2400" spc="-1" strike="noStrike" u="sng">
                <a:solidFill>
                  <a:srgbClr val="ffcc00"/>
                </a:solidFill>
                <a:uFillTx/>
                <a:latin typeface="Garamond"/>
              </a:rPr>
              <a:t>Ученик должен суметь это сделать.</a:t>
            </a:r>
            <a:r>
              <a:rPr b="1" lang="en-US" sz="2400" spc="-1" strike="noStrike">
                <a:solidFill>
                  <a:srgbClr val="ffffff"/>
                </a:solidFill>
                <a:latin typeface="Garamond"/>
              </a:rPr>
              <a:t> Но, прежде всего это должен уметь сделать учитель.</a:t>
            </a:r>
            <a:r>
              <a:rPr b="0" lang="en-US" sz="2400" spc="-1" strike="noStrike">
                <a:solidFill>
                  <a:srgbClr val="ffffff"/>
                </a:solidFill>
                <a:latin typeface="Garamond"/>
              </a:rPr>
              <a:t> Как вы сможете руководить исследовательской деятельностью, если не представляете себе всю структуру работы, не знаете методики, не можете определить направления детальности? Для выполнения работы у ученика уже должны быть сформированы определённые компетентност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t>
            </a:r>
            <a:r>
              <a:rPr b="1" lang="en-US" sz="2400" spc="-1" strike="noStrike" u="sng">
                <a:solidFill>
                  <a:srgbClr val="ffcc00"/>
                </a:solidFill>
                <a:uFillTx/>
                <a:latin typeface="Garamond"/>
              </a:rPr>
              <a:t>Ученик должен получить удовлетворение от своей работы</a:t>
            </a:r>
            <a:r>
              <a:rPr b="0" lang="en-US" sz="2400" spc="-1" strike="noStrike" u="sng">
                <a:solidFill>
                  <a:srgbClr val="ffcc00"/>
                </a:solidFill>
                <a:uFillTx/>
                <a:latin typeface="Garamond"/>
              </a:rPr>
              <a:t>.</a:t>
            </a:r>
            <a:r>
              <a:rPr b="0" lang="en-US" sz="2400" spc="-1" strike="noStrike">
                <a:solidFill>
                  <a:srgbClr val="ffffff"/>
                </a:solidFill>
                <a:latin typeface="Garamond"/>
              </a:rPr>
              <a:t> (И учитель тоже – от своей деятельности и от работы ученика).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спех любой работы в первую очередь зависит от того, насколько </a:t>
            </a:r>
            <a:r>
              <a:rPr b="1" lang="en-US" sz="2800" spc="-1" strike="noStrike" u="sng">
                <a:solidFill>
                  <a:srgbClr val="ffcc00"/>
                </a:solidFill>
                <a:uFillTx/>
                <a:latin typeface="Garamond"/>
              </a:rPr>
              <a:t>ясно сформулирована цель исследования и его задачи</a:t>
            </a:r>
            <a:r>
              <a:rPr b="0" lang="en-US" sz="2800" spc="-1" strike="noStrike">
                <a:solidFill>
                  <a:srgbClr val="ffffff"/>
                </a:solidFill>
                <a:latin typeface="Garamond"/>
              </a:rPr>
              <a:t>. Цель работы должна быть конкретной, чётко сформулированной, чтобы ясно выделить вопрос, на который мы хотим получить ответ. (</a:t>
            </a:r>
            <a:r>
              <a:rPr b="1" lang="en-US" sz="2800" spc="-1" strike="noStrike">
                <a:solidFill>
                  <a:srgbClr val="ffffff"/>
                </a:solidFill>
                <a:latin typeface="Garamond"/>
              </a:rPr>
              <a:t>что мы хотим  узнать)</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роме этого цель должна быть доступна для конкретного исследователя. “Гигантизм” в выборе темы и цели исследования — наиболее распространённая ошибка начинающих исследователей</a:t>
            </a:r>
            <a:r>
              <a:rPr b="0" i="1" lang="en-US" sz="2800" spc="-1" strike="noStrike">
                <a:solidFill>
                  <a:srgbClr val="ffffff"/>
                </a:solidFill>
                <a:latin typeface="Garamond"/>
              </a:rPr>
              <a:t>.</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Формулировка </a:t>
            </a:r>
            <a:r>
              <a:rPr b="1" lang="en-US" sz="3200" spc="-1" strike="noStrike" u="sng">
                <a:solidFill>
                  <a:srgbClr val="ffcc00"/>
                </a:solidFill>
                <a:uFillTx/>
                <a:latin typeface="Garamond"/>
              </a:rPr>
              <a:t>задач исследования</a:t>
            </a:r>
            <a:r>
              <a:rPr b="0" lang="en-US" sz="3200" spc="-1" strike="noStrike">
                <a:solidFill>
                  <a:srgbClr val="ffffff"/>
                </a:solidFill>
                <a:latin typeface="Garamond"/>
              </a:rPr>
              <a:t> — тоже довольно сложное и трудоёмкое занятие. При их постановке исследователь должен чётко сформулировать, для чего делалась работа, что надо было наблюдать и выяснить, что хотелось бы узнать. Вопросы, которые ставятся в задачах, должны быть чёткими и предполагать однозначный ответ (как мы будем искать ответ на поставленный в цели вопрос).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ланирование работы подразумевает также необходимость в выборе методов работы и в определении методики проведения исследования. Очевидно, что истину дают не предположения, а точно и правильно подобранные факты и их объяснения, поэтому очень важна разработка методики сбора этих фактов. Хорошо продуманный и подобранный метод исследования часто создаёт основу его успеха.</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осле постановки цели и задач и выбора методов исследования, учитель предоставляет ученику план исследования с приблизительным указанием временных промежутков.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ледующий этап работы - </a:t>
            </a:r>
            <a:r>
              <a:rPr b="1" lang="en-US" sz="3200" spc="-1" strike="noStrike" u="sng">
                <a:solidFill>
                  <a:srgbClr val="ffcc00"/>
                </a:solidFill>
                <a:uFillTx/>
                <a:latin typeface="Garamond"/>
              </a:rPr>
              <a:t>анализ и оформление научных исследований</a:t>
            </a:r>
            <a:r>
              <a:rPr b="0"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Выводы </a:t>
            </a:r>
            <a:r>
              <a:rPr b="0" lang="en-US" sz="3200" spc="-1" strike="noStrike">
                <a:solidFill>
                  <a:srgbClr val="ffffff"/>
                </a:solidFill>
                <a:latin typeface="Garamond"/>
              </a:rPr>
              <a:t>делаются в соответствии с поставленной целью и задачами. Они должны быть четкими и понятными даже не специалисту. Ни для кого не секрет, что верная оценка результатов исследования является одной из наиболее сложных и в то же время важных задач.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Важно научить детей решать поставленные задачи до конца, приводить любое начатое дело к логическому завершению.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ля выступления на конференции необходимо </a:t>
            </a:r>
            <a:r>
              <a:rPr b="1" lang="ru-RU" sz="3200" spc="-1" strike="noStrike" u="sng">
                <a:solidFill>
                  <a:srgbClr val="ffcc00"/>
                </a:solidFill>
                <a:uFillTx/>
                <a:latin typeface="Garamond"/>
              </a:rPr>
              <a:t>грамотно подготовить презентацию</a:t>
            </a:r>
            <a:r>
              <a:rPr b="0" lang="ru-RU" sz="3200" spc="-1" strike="noStrike">
                <a:solidFill>
                  <a:srgbClr val="ffffff"/>
                </a:solidFill>
                <a:latin typeface="Garamond"/>
              </a:rPr>
              <a:t>. Для учителя обязательно владение программой пауэр пойнт. Наши дети, проводя большую часть своего времени за компьютером, в большинстве случаев не владеют необходимыми для этого навыкам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резентация должна быть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омпактной</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Яркой и выразительной</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Отражать суть работы</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Иметь название, цель и задачи, методику, выводы</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С первых слов выступления и с началом презентации вы должны завладеть вниманием слушателей. Можно задать вопрос и поставить в тупик, можно напугать, можно удивить.</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ример – ТЕРРОРИЗМ, СЕКТЫ, ЛЯГУШК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Обязательно должен быть написан текст к слайдам.</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Слайд. 1 Текст…</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еобходимо провести репетицию – соответствие текста слайдам, соответствие по времени, владение материалом. Пригласить на выступление человека не ориентирующегося в теме, сделать замечания со стороны.</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Далее продумать все возможные вопросы к работе. Дети иногда обижаются, когда им задают примитивные вопросы: А чем вас привлекает эта тема? И т. д. Хорошее владение материалом и невозможность в 10 минут выступления рассказать всё о работе вызывает жгучее желание углубиться в некоторые вопросы, пояснить что-либо.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до настроить ученика на то, что чем больше вопросов задают, тем больше понравилась работа. Негативные моменты – вопросы руководителей (но их не надо бояться, жюри будет в данном случае на стороне ученика), предвзятое отношение Жюри и излишний апломб членов жюри, желание самоутвердиться за счет ребёнка.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Garamond"/>
              </a:rPr>
              <a:t>Важнейшее основание для выбора темы исследования</a:t>
            </a:r>
            <a:r>
              <a:rPr b="0" lang="en-US" sz="3200" spc="-1" strike="noStrike">
                <a:solidFill>
                  <a:srgbClr val="ffffff"/>
                </a:solidFill>
                <a:latin typeface="Garamond"/>
              </a:rPr>
              <a:t> — наличие какого-либо противоречия или отсутствие объективных данных. Разработка научной темы представляет собой разрешение противоречия, ведущее к развитию наших умений и к получению новых знаний.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Занятия исследовательской деятельностью имеют свои “плюсы” и “минусы”. </a:t>
            </a:r>
            <a:br>
              <a:rPr sz="2800"/>
            </a:br>
            <a:r>
              <a:rPr b="1" lang="ru-RU" sz="2800" spc="-1" strike="noStrike">
                <a:solidFill>
                  <a:srgbClr val="ffffff"/>
                </a:solidFill>
                <a:latin typeface="Garamond"/>
              </a:rPr>
              <a:t>   </a:t>
            </a:r>
            <a:r>
              <a:rPr b="1" lang="ru-RU" sz="2800" spc="-1" strike="noStrike" u="sng">
                <a:solidFill>
                  <a:srgbClr val="ffcc00"/>
                </a:solidFill>
                <a:uFillTx/>
                <a:latin typeface="Garamond"/>
              </a:rPr>
              <a:t>К положительным моментам</a:t>
            </a:r>
            <a:r>
              <a:rPr b="0" lang="ru-RU" sz="2800" spc="-1" strike="noStrike">
                <a:solidFill>
                  <a:srgbClr val="ffffff"/>
                </a:solidFill>
                <a:latin typeface="Garamond"/>
              </a:rPr>
              <a:t> можно отнести общеучебные умения и навыки, формирующиеся в процессе исследовательской деятельности. Это: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ефлексивные умен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исковые (исследовательские) умен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выки оценочной самостоятельности;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умения и навыки работы в сотрудничестве;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неджерские умения и навыки;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оммуникативные умен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езентационные умения и навыки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Garamond"/>
              </a:rPr>
              <a:t>Негативные стороны</a:t>
            </a:r>
            <a:r>
              <a:rPr b="0" lang="en-US" sz="3200" spc="-1" strike="noStrike">
                <a:solidFill>
                  <a:srgbClr val="ffffff"/>
                </a:solidFill>
                <a:latin typeface="Garamond"/>
              </a:rPr>
              <a:t> исследовательской технологии: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еравномерность нагрузки учащихся и преподавателей на разных этапах работы;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ложность системы оценивания вклада каждого исполнителя;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риск неудачного окончания работы;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овышение эмоциональной нагрузки и на учащихся, и на преподавателя;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евозможность включить значительное число учащихся в исследовательскую работу.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а начальных этапах организации исследовательской деятельности </a:t>
            </a:r>
            <a:r>
              <a:rPr b="1" lang="en-US" sz="3200" spc="-1" strike="noStrike" u="sng">
                <a:solidFill>
                  <a:srgbClr val="ffcc00"/>
                </a:solidFill>
                <a:uFillTx/>
                <a:latin typeface="Garamond"/>
              </a:rPr>
              <a:t>необходимо формирование коммуникативных явлений</a:t>
            </a:r>
            <a:r>
              <a:rPr b="1" lang="en-US" sz="3200" spc="-1" strike="noStrike">
                <a:solidFill>
                  <a:srgbClr val="ffffff"/>
                </a:solidFill>
                <a:latin typeface="Garamond"/>
              </a:rPr>
              <a:t> </a:t>
            </a:r>
            <a:r>
              <a:rPr b="0" lang="en-US" sz="3200" spc="-1" strike="noStrike">
                <a:solidFill>
                  <a:srgbClr val="ffffff"/>
                </a:solidFill>
                <a:latin typeface="Garamond"/>
              </a:rPr>
              <a:t>(умений работать в группе, участвовать в совместном принятии решений, взаимодействовать с руководителем, обсуждать ход исследования, публично выступать, отстаивать свою точку зрения, участвовать в дискуссии со слушателям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егодняшним подросткам необходимо не только преподнести информацию, им необходимо дать возможность прожить ситуацию, понять её, самим осознать суть предложенной проблемы, сделать выводы или, что еще лучше, самим найти решение проблем. Очень важно систематизировать и осмыслить те, зачастую отрывочные, сведения, которые уже имеют школьник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5" name=""/>
          <p:cNvGraphicFramePr/>
          <p:nvPr/>
        </p:nvGraphicFramePr>
        <p:xfrm>
          <a:off x="324000" y="476280"/>
          <a:ext cx="8496000" cy="5905080"/>
        </p:xfrm>
        <a:graphic>
          <a:graphicData uri="http://schemas.openxmlformats.org/drawingml/2006/table">
            <a:tbl>
              <a:tblPr/>
              <a:tblGrid>
                <a:gridCol w="849600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ебник не является доминирующим источником учебной информации; приоритет переходит к оригинальным источникам, к первичным данным, к объектам и явлениям реальной действительност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ащийся - полноправный участник процесса обучения со своими собственными взглядами и представлениями об окружающем мире</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2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итель выступает, прежде всего, как организатор учебно-познавательной и исследовательской деятельности учащихся, не навязывая им свои знания и убеждения</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2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итель ценит самостоятельные, пусть не всегда правильные, рассуждения учащихся, “умные” вопросы, сознательно исправленные ими ошибк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2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Оцениваются все продукты учебно-познавательной деятельности учащихся, показывающие не только результаты обучения, но и усилия, приложенные учащимся к конструированию нового знания, и его прогресс в обучени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e5ff"/>
                </a:solidFill>
                <a:latin typeface="Garamond"/>
              </a:rPr>
              <a:t>Исследовательскую работу выполняют в определенной последовательности. Процесс выполнения включает в себя семь этапов:</a:t>
            </a:r>
            <a:endParaRPr b="1" lang="en-US" sz="28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1) формулирование темы </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2) формулирование цели и задач исследования </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3) теоретические исследования;</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4) экспериментальные исследования;</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5) анализ и оформление научных исследований;</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6) внедрение и эффективность научных исследований;</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7) публичное представление работ на разного рода конференциях, чтениях.</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Основополагающим моментом формулирования темы является </a:t>
            </a:r>
            <a:r>
              <a:rPr b="1" lang="en-US" sz="2800" spc="-1" strike="noStrike" u="sng">
                <a:solidFill>
                  <a:srgbClr val="ffcc00"/>
                </a:solidFill>
                <a:uFillTx/>
                <a:latin typeface="Garamond"/>
              </a:rPr>
              <a:t>решение проблемы выбора.</a:t>
            </a:r>
            <a:r>
              <a:rPr b="1" lang="en-US" sz="2800" spc="-1" strike="noStrike">
                <a:solidFill>
                  <a:srgbClr val="e5e5ff"/>
                </a:solidFill>
                <a:latin typeface="Garamond"/>
              </a:rPr>
              <a:t> </a:t>
            </a:r>
            <a:endParaRPr b="1" lang="en-US" sz="2800" spc="-1" strike="noStrike">
              <a:solidFill>
                <a:srgbClr val="e5e5ff"/>
              </a:solidFill>
              <a:latin typeface="Garamond"/>
            </a:endParaRPr>
          </a:p>
        </p:txBody>
      </p:sp>
      <p:sp>
        <p:nvSpPr>
          <p:cNvPr id="10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чащийся должен ответить на вопросы:</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какое направление (тему) я выберу? (родители, учитель, сам).</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каким будет вид моей работы? (обычно я советую именно исследовательскую работу, а не реферат, т. к. очень важен процесс успешной реализации работы на конференциях).</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как я буду её выполнять? – один или в группе?</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когда я буду её выполнять – в течение года или летом?</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 где я буду её выполнять? – в школе под руководством учителя, в ВУЗе, в учреждениях дополнительного образования, самостоятельно.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тема должна быть </a:t>
            </a:r>
            <a:r>
              <a:rPr b="1" lang="en-US" sz="4400" spc="-1" strike="noStrike" u="sng">
                <a:solidFill>
                  <a:srgbClr val="ffcc00"/>
                </a:solidFill>
                <a:uFillTx/>
                <a:latin typeface="Garamond"/>
              </a:rPr>
              <a:t>интересна учителю и ученику, посильна в выполнении.</a:t>
            </a: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Обычно, в исследовательской работе</a:t>
            </a:r>
            <a:endParaRPr b="1" lang="en-US" sz="4000" spc="-1" strike="noStrike">
              <a:solidFill>
                <a:srgbClr val="e5e5ff"/>
              </a:solidFill>
              <a:latin typeface="Garamond"/>
            </a:endParaRPr>
          </a:p>
        </p:txBody>
      </p:sp>
      <p:sp>
        <p:nvSpPr>
          <p:cNvPr id="11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 времени занимает правильная формулировка темы и цели работы, а также выбор или отработка методики проведения исследования.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 - затрачивается на сбор материала во время наблюдений или при проведении опытов. И не менее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 времени уходит на обработку материала, его анализ и обобщение, написание текста работы.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Garamond"/>
              </a:rPr>
              <a:t>в подготовительный период</a:t>
            </a:r>
            <a:r>
              <a:rPr b="0" lang="en-US" sz="3200" spc="-1" strike="noStrike">
                <a:solidFill>
                  <a:srgbClr val="ffffff"/>
                </a:solidFill>
                <a:latin typeface="Garamond"/>
              </a:rPr>
              <a:t> рекомендуется не только выбрать тему для исследования и сформулировать его задачи, но и собрать как можно больше информации о предмете изучения путём знакомства с литературой или обсуждения темы со специалистами. Всякому исследованию должно предшествовать полное изучение вопроса по литературным, опросным или любым другим данным.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06:31:42Z</dcterms:created>
  <dc:creator>user</dc:creator>
  <dc:description/>
  <dc:language>en-US</dc:language>
  <cp:lastModifiedBy>user</cp:lastModifiedBy>
  <dcterms:modified xsi:type="dcterms:W3CDTF">2011-02-07T06:55:38Z</dcterms:modified>
  <cp:revision>2</cp:revision>
  <dc:subject/>
  <dc:title>Методика организации учебного исследования.</dc:title>
</cp:coreProperties>
</file>