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applause.wav" ContentType="audio/x-wav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6.gif" ContentType="image/gif"/>
  <Override PartName="/ppt/media/image20.jpeg" ContentType="image/jpeg"/>
  <Override PartName="/ppt/media/image1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F66B-90A7-4B82-A6EC-E990F9F9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8D2-29D1-4E4D-AA43-2415926C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8BD-3F89-4058-B756-EC765364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6A83-F9B7-46CF-AB1D-AD6E8F1C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7A7-271A-49EE-A091-8D0CE599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040C-7203-478E-928C-4F7E7F9D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649-978A-4904-AD06-82EC056E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11DF-910F-41AA-B02A-5E4183DA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DBF4-5639-4617-8ACE-95528BBF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7260-37DC-4405-8B0D-CEA4CC95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62A-4BA4-4CD3-BB68-1BD4AF99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7F82-799E-4293-A558-80AE2855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3345-D769-4717-BDF2-8F24804670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newslab.ru/photoalbum/856/9832.jpg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www.mam2mam.ru/upload/blog/11d/%20xjnq.jpg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.absoluteastronomy.com/images/encyclopediaimages/r/ru/russula_sanguinea.jpg" TargetMode="External"/><Relationship Id="rId3" Type="http://schemas.openxmlformats.org/officeDocument/2006/relationships/image" Target="../media/image23.jpeg"/><Relationship Id="rId4" Type="http://schemas.openxmlformats.org/officeDocument/2006/relationships/hyperlink" Target="http://www.artandphoto.ru/stock/photo1/914/7729.jpg" TargetMode="External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007.radikal.ru/0801/ac/a800b7eb31f7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ookatme.ru/assets/article_image-image/c1/1b/332215/article_image-image-article.jpg" TargetMode="External"/><Relationship Id="rId2" Type="http://schemas.openxmlformats.org/officeDocument/2006/relationships/hyperlink" Target="http://baikal-viktoria.ucoz.ru/_ph/10/2/622691478.jpg" TargetMode="External"/><Relationship Id="rId3" Type="http://schemas.openxmlformats.org/officeDocument/2006/relationships/hyperlink" Target="http://www.peoplephoto.ru/photoarhiv/resize.php?f=../images/205/IMG_7700.jpg&amp;type=3" TargetMode="External"/><Relationship Id="rId4" Type="http://schemas.openxmlformats.org/officeDocument/2006/relationships/hyperlink" Target="http://idb.katafi.com/P/0/3262.l.jpg" TargetMode="External"/><Relationship Id="rId5" Type="http://schemas.openxmlformats.org/officeDocument/2006/relationships/hyperlink" Target="http://s02.radikal.ru/i175/1003/9e/8776cab692bc.jpg" TargetMode="External"/><Relationship Id="rId6" Type="http://schemas.openxmlformats.org/officeDocument/2006/relationships/hyperlink" Target="http://s15.radikal.ru/i188/0907/d6/e647ab5bc1da.jpg" TargetMode="External"/><Relationship Id="rId7" Type="http://schemas.openxmlformats.org/officeDocument/2006/relationships/hyperlink" Target="http://www.michigan.gov/images/mosquito_65147_7.jpg" TargetMode="External"/><Relationship Id="rId8" Type="http://schemas.openxmlformats.org/officeDocument/2006/relationships/hyperlink" Target="http://stat11.privet.ru/lr/082cac56c15f9cf457bdc97949c20610" TargetMode="External"/><Relationship Id="rId9" Type="http://schemas.openxmlformats.org/officeDocument/2006/relationships/hyperlink" Target="http://akak.ru/recipes/pictures/000/005/804_big.jpg" TargetMode="External"/><Relationship Id="rId10" Type="http://schemas.openxmlformats.org/officeDocument/2006/relationships/hyperlink" Target="http://gorod.tomsk.ru/i/u/367/mushrooms-(39).jpg" TargetMode="External"/><Relationship Id="rId11" Type="http://schemas.openxmlformats.org/officeDocument/2006/relationships/hyperlink" Target="http://www.rybalka.com/userfiles/upload/1165/1229684007.jpg" TargetMode="External"/><Relationship Id="rId12" Type="http://schemas.openxmlformats.org/officeDocument/2006/relationships/hyperlink" Target="http://druidgor.narod.ru/travnik/img_trav/oblepiha.jpg" TargetMode="External"/><Relationship Id="rId13" Type="http://schemas.openxmlformats.org/officeDocument/2006/relationships/hyperlink" Target="http://img0.liveinternet.ru/images/attach/c/0/52/399/52399973_shepovneg.JPG" TargetMode="External"/><Relationship Id="rId14" Type="http://schemas.openxmlformats.org/officeDocument/2006/relationships/hyperlink" Target="http://gallery.imagemaster.ru/data/media/3/N.jpg" TargetMode="External"/><Relationship Id="rId15" Type="http://schemas.openxmlformats.org/officeDocument/2006/relationships/hyperlink" Target="http://www.faberwall.ru/data/media/6/www.faberwall.ru_-_01083.jpg" TargetMode="External"/><Relationship Id="rId16" Type="http://schemas.openxmlformats.org/officeDocument/2006/relationships/hyperlink" Target="http://papa-vlad.narod.ru/Detskie_prezentatsii/nasekomye_i_ptitsy/Mukhi_4.files/slide0006_image006.jpg" TargetMode="External"/><Relationship Id="rId17" Type="http://schemas.openxmlformats.org/officeDocument/2006/relationships/hyperlink" Target="http://www.stihi.ru/pics/2009/07/12/4439.jpg" TargetMode="External"/><Relationship Id="rId18" Type="http://schemas.openxmlformats.org/officeDocument/2006/relationships/hyperlink" Target="http://www.stihi.ru/pics/2009/02/17/3699.jpg" TargetMode="External"/><Relationship Id="rId19" Type="http://schemas.openxmlformats.org/officeDocument/2006/relationships/hyperlink" Target="http://www.newslab.ru/photoalbum/856/9832.jpg" TargetMode="External"/><Relationship Id="rId20" Type="http://schemas.openxmlformats.org/officeDocument/2006/relationships/hyperlink" Target="http://www.mam2mam.ru/upload/blog/11d/%20xjnq.jpg" TargetMode="External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chigan.gov/images/mosquito_65147_7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stat11.privet.ru/lr/082cac56c15f9cf457bdc97949c20610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akak.ru/recipes/pictures/000/005/804_big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rod.tomsk.ru/i/u/367/mushrooms-(39)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druidgor.narod.ru/travnik/img_trav/oblepiha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g0.liveinternet.ru/images/attach/c/0/52/399/52399973_shepovneg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hyperlink" Target="http://www.faberwall.ru/data/media/6/www.faberwall.ru_-_01083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tihi.ru/pics/2009/07/12/4439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1 из 1096671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38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2" name="WordArt 2"/>
          <p:cNvSpPr txBox="1"/>
          <p:nvPr/>
        </p:nvSpPr>
        <p:spPr>
          <a:xfrm>
            <a:off x="142920" y="4000680"/>
            <a:ext cx="8786880" cy="19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ЛЕСНЫЕ  ОПАСНОСТ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9.Найди ядовитое раст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858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орож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мофеев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роний гла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www.stihi.ru/pics/2009/02/17/3699.jpg"/>
          <p:cNvPicPr/>
          <p:nvPr/>
        </p:nvPicPr>
        <p:blipFill>
          <a:blip r:embed="rId1"/>
          <a:stretch/>
        </p:blipFill>
        <p:spPr>
          <a:xfrm>
            <a:off x="1643040" y="3643200"/>
            <a:ext cx="2071800" cy="2762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Картинка 1 из 14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00680" y="2714760"/>
            <a:ext cx="2214360" cy="2873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Картинка 15 из 7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29240" y="1143000"/>
            <a:ext cx="214344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0.Какой гриб не имеет ядовитых двойник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858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ыроеж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ён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лый гри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8" descr="Картинка 10 из 11429"/>
          <p:cNvPicPr/>
          <p:nvPr/>
        </p:nvPicPr>
        <p:blipFill>
          <a:blip r:embed="rId1"/>
          <a:stretch/>
        </p:blipFill>
        <p:spPr>
          <a:xfrm>
            <a:off x="1643040" y="3714840"/>
            <a:ext cx="1863720" cy="2651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Картинка 20 из 26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00880" y="1357200"/>
            <a:ext cx="1928880" cy="2667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Картинка 10 из 269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3240" y="3000240"/>
            <a:ext cx="185760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0" y="2858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Проверь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42960" y="428760"/>
            <a:ext cx="1584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712e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712e9"/>
              </a:buClr>
              <a:buFont typeface="Wingdings 3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Картинка 505 из 9166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285920"/>
            <a:ext cx="6315120" cy="47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stat18.privet.ru/lr/0a167340d0f42aeff634f96353f437ff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4" descr=""/>
          <p:cNvPicPr/>
          <p:nvPr/>
        </p:nvPicPr>
        <p:blipFill>
          <a:blip r:embed="rId2"/>
          <a:stretch/>
        </p:blipFill>
        <p:spPr>
          <a:xfrm>
            <a:off x="-274680" y="1865160"/>
            <a:ext cx="9601200" cy="23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384640" y="214200"/>
            <a:ext cx="502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писок  используемых  источ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642960" y="571680"/>
            <a:ext cx="7858080" cy="5301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Автор: Гостинцева Нина Владимиро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Иллюстраци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 слайд 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lookatme.ru/assets/article_image-image/c1/1b/332215/article_image-image-articl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3 слайд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aikal-viktoria.ucoz.ru/_ph/10/2/622691478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peoplephoto.ru/photoarhiv/resize.php?f=../images/205/IMG_7700.jpg&amp;type=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idb.katafi.com/P/0/3262.l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4слайд 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s02.radikal.ru/i175/1003/9e/8776cab692bc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5 слайд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s15.radikal.ru/i188/0907/d6/e647ab5bc1d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6 слайд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michigan.gov/images/mosquito_65147_7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stat11.privet.ru/lr/082cac56c15f9cf457bdc97949c20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akak.ru/recipes/pictures/000/005/804_big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7 слайд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gorod.tomsk.ru/i/u/367/mushrooms-(39)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8 слайд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rybalka.com/userfiles/upload/1165/1229684007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druidgor.narod.ru/travnik/img_trav/oblepih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img0.liveinternet.ru/images/attach/c/0/52/399/52399973_shepovneg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9 слайд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gallery.imagemaster.ru/data/media/3/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faberwall.ru/data/media/6/www.faberwall.ru_-_01083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papa-vlad.narod.ru/Detskie_prezentatsii/nasekomye_i_ptitsy/Mukhi_4.files/slide0006_image006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0 слайд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www.stihi.ru/pics/2009/07/12/4439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1 слайд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www.stihi.ru/pics/2009/02/17/3699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://www.newslab.ru/photoalbum/856/983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://www.mam2mam.ru/upload/blog/11d/%20xjnq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2 слайд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image.absoluteastronomy.com/images/encyclopediaimages/r/ru/russula_sanguine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www.artandphoto.ru/stock/photo1/914/7729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images01.olx.ru/ui/4/46/40/70614640_2--2010-1-89115541166-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3 слайд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i007.radikal.ru/0801/ac/a800b7eb31f7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4 слайд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blogs.privet.ru/user/orlenok72/859745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ля создания фона использован клипарт листья  www.lenagold.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ихомирова Е.М. Тесты по  предмету «Окружающий мир». К учебному комплекту А.А.Плешакова «Мир вокруг нас. 2класс».-М.: «Экзамен»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Найди ядовитый гриб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8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исич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ухом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слён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Картинка 39 из 1933"/>
          <p:cNvPicPr/>
          <p:nvPr/>
        </p:nvPicPr>
        <p:blipFill>
          <a:blip r:embed="rId1"/>
          <a:stretch/>
        </p:blipFill>
        <p:spPr>
          <a:xfrm>
            <a:off x="1285920" y="3643200"/>
            <a:ext cx="2214360" cy="2768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Картинка 27 из 1800"/>
          <p:cNvPicPr/>
          <p:nvPr/>
        </p:nvPicPr>
        <p:blipFill>
          <a:blip r:embed="rId2"/>
          <a:stretch/>
        </p:blipFill>
        <p:spPr>
          <a:xfrm>
            <a:off x="3857760" y="2714760"/>
            <a:ext cx="2214360" cy="2722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Картинка 17 из 1366"/>
          <p:cNvPicPr/>
          <p:nvPr/>
        </p:nvPicPr>
        <p:blipFill>
          <a:blip r:embed="rId3"/>
          <a:stretch/>
        </p:blipFill>
        <p:spPr>
          <a:xfrm>
            <a:off x="6500880" y="1071720"/>
            <a:ext cx="2143080" cy="2768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Найди группу, в которой названы только ядовитые гриб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5480" y="150012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руздь, подосиновик, мухом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ёнок, белый гриб, сыроеж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ледная поганка, ложный опёнок, желчный гри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Картинка 19 из 159744"/>
          <p:cNvPicPr/>
          <p:nvPr/>
        </p:nvPicPr>
        <p:blipFill>
          <a:blip r:embed="rId1"/>
          <a:stretch/>
        </p:blipFill>
        <p:spPr>
          <a:xfrm>
            <a:off x="3143160" y="4226040"/>
            <a:ext cx="271476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.Какие грибы нельзя ес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8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мыт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арё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аре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Картинка 22 из 1023"/>
          <p:cNvPicPr/>
          <p:nvPr/>
        </p:nvPicPr>
        <p:blipFill>
          <a:blip r:embed="rId1"/>
          <a:stretch/>
        </p:blipFill>
        <p:spPr>
          <a:xfrm>
            <a:off x="2857680" y="3714840"/>
            <a:ext cx="3643200" cy="27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.Какое насекомое может ужали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58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ма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м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ух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Картинка 5 из 817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080" y="4286160"/>
            <a:ext cx="2679840" cy="212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ртинка 13 из 140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14840" y="3429000"/>
            <a:ext cx="2697120" cy="21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Картинка 7 из 886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57920" y="1285920"/>
            <a:ext cx="2714760" cy="21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.Где нельзя собирать гриб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8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лес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дорог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пар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Картинка 130 из 16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43120" y="3714840"/>
            <a:ext cx="404820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.Найди ядовитый кустарни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лчье лык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лепих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ипов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Картинка 1 из 273"/>
          <p:cNvPicPr/>
          <p:nvPr/>
        </p:nvPicPr>
        <p:blipFill>
          <a:blip r:embed="rId1"/>
          <a:stretch/>
        </p:blipFill>
        <p:spPr>
          <a:xfrm>
            <a:off x="1000080" y="4214880"/>
            <a:ext cx="2571840" cy="2122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Картинка 17 из 74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14840" y="3429000"/>
            <a:ext cx="2571840" cy="2116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Картинка 9 из 1543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29200" y="1214280"/>
            <a:ext cx="2571840" cy="20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7.Какое из жалящих насекомых самое крупно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че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ершен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Картинка 25 из 188166"/>
          <p:cNvPicPr/>
          <p:nvPr/>
        </p:nvPicPr>
        <p:blipFill>
          <a:blip r:embed="rId1"/>
          <a:stretch/>
        </p:blipFill>
        <p:spPr>
          <a:xfrm>
            <a:off x="1000080" y="4357800"/>
            <a:ext cx="2643120" cy="1982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Картинка 5 из 30493"/>
          <p:cNvPicPr/>
          <p:nvPr/>
        </p:nvPicPr>
        <p:blipFill>
          <a:blip r:embed="rId2"/>
          <a:stretch/>
        </p:blipFill>
        <p:spPr>
          <a:xfrm>
            <a:off x="5929200" y="1643040"/>
            <a:ext cx="2660760" cy="193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Картинка 92 из 1791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6120" y="3714840"/>
            <a:ext cx="2714760" cy="199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8.Как надо поступить, увидев в лесу незнакомое раст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8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пробовать на вку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рвать и принести дом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трогать раст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Картинка 63 из 1864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1840" y="3714840"/>
            <a:ext cx="3714840" cy="271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8T16:07:06Z</dcterms:created>
  <dc:creator>Егор</dc:creator>
  <dc:description/>
  <dc:language>en-US</dc:language>
  <cp:lastModifiedBy>Chosen One</cp:lastModifiedBy>
  <dcterms:modified xsi:type="dcterms:W3CDTF">2012-12-02T13:14:00Z</dcterms:modified>
  <cp:revision>13</cp:revision>
  <dc:subject/>
  <dc:title>Слайд 1</dc:title>
</cp:coreProperties>
</file>