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B85-8934-4B20-BC7B-DF9A6095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BE7-2266-46F2-B946-F5830B06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347-81DE-4690-BC76-406F10D2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EFA-B922-41A2-B960-D5B934A6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4032-522F-4429-B30F-9C6DF10C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1A86-43AE-48C2-9630-47536067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A757-5954-44D2-9794-2210E634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2F7C-1DA5-44B6-9F9A-011D9179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FA01-5E99-485F-81A8-753EB885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777B-A471-4BF6-BD05-6A0A2529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72FC-069D-44F9-9C34-802A5478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0CA-27B7-4D26-B400-359624DE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77A0-BC2E-43B3-9A0E-669B2B42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B3FF-BE09-4ECB-8233-FB8CDF6A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49B2-4298-4F78-AE1E-3F6D6121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3328-0B7A-4F73-9940-60D58ABB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1DE2-09EB-4E06-8124-97CAE730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10884-6E72-460D-A276-326CC4A2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E0D63-F6B8-4C21-B9C9-FA4A1109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6371F-CDB8-46F8-B43D-9F790006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2F6AC-559E-4F69-BF60-D0A999C3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19115-B6A7-4E9E-BC74-2CC8391A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51B-4996-4828-B00C-0ED99185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5C8DD-6F4A-40C8-909B-7C7ED0B1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1293-5F69-4200-BF19-6BCB3D99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671BC-1F4B-4345-B800-8A8517ED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14337-83CC-4880-BB40-8680E7F9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9CFFF-6F90-4B3B-AEFD-D883A197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6B53-8653-42FC-A0A9-EEEBA64E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BDC4-AEFA-4046-A82A-C66B4504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35D40-4FF3-4D4F-8727-10BB97CE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DA4E0-C73E-46C5-B206-95A472C8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8A843-D10D-4B78-AC71-C58517AD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3F0-D98E-49EE-A729-68DC1249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BBC5E-B770-4E44-8DBC-FC56C5A3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5F2D2-55CE-4F88-9D34-8A1650FF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244BA-5F5E-4AD1-B083-7645E070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C72F1-6E98-42AC-8774-9D3066BD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5E9A2-BA61-4C4D-83A1-00520E7C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756F8-9512-4E46-ABEE-181F2E9F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F1463-0DC5-43F6-9973-9D17D1CA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25109-A832-4711-8D26-CCB4FEF5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F5A46-4961-493F-ABDB-3C35B475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07F56-3C72-4F37-8DDE-AF34D940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179-D2FD-4CDF-A1B1-DE5357FC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1302F-983E-49DD-A420-A309323D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4799B-7F08-4832-B8EE-B47D127C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2EB60-295C-4AAC-975E-50E86C77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8F0E8-67DB-471D-83D0-0F0CF287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C6FF0-6F4E-4DEA-A409-6F9D8ED5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FF592-5E91-429A-9EA9-9F4BAB2A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06FFE-8C6F-4414-867F-5E3B99B9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CBD41-77BF-4FCB-8E1C-115D925F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6708D-6C42-4A40-90D9-6D2A18F5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8A5DF-EE83-40B8-952C-6A0EB70F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396-5EEE-448E-ACB8-C3DD6A67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15367-1023-4D9B-BAA7-FCA11EF2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908DF-B3EF-47C3-ADE0-403BAA1D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8E25C-CA74-4D2E-85FF-9F58531A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ED014-0329-4EDA-A981-47553996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1D65C-49E7-4E00-AF48-C351E2E1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C0158-E1E5-4778-A941-413AA956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EB465-88FA-4EEE-BBEB-EDC3CB5F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ED1D5-3462-4554-A6FB-32C5A22C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17750-60A2-4DC8-B52B-7C53AA2E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630C2-9923-4024-B62E-3210899D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CF1B-9D0F-415F-A03B-87CB55B6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B537F-0125-4F35-8B26-AD792BA7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A9ACB-5D17-4536-990A-24D8BF81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2247D-12A5-4B18-A907-586BE900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6A8BE-2A25-4027-8F18-F0C9C456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D8AEC-3EB8-45C0-87E5-402BA82A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AFDBF-D83C-4390-822E-13714057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772AC-4993-4A50-A99D-EFDFBD1B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D1ACB-1F2A-4D5A-9763-AFAA25C7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BC70F-D94D-43DA-AA2B-DA950AC8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657D6-0265-4B98-8F3F-C694B1F7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C88-1BD5-436B-9871-1E09E975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77F2C-EB35-4135-BB21-B81E7344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17F08-4EF1-4EB3-9BFF-01EBAA90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E3357-C875-488D-AECB-738ACB42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E0A61-C5E6-4DDE-8107-454BEDF3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75D8F-5A04-4F55-BD5F-F5004CD2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B6B54-028D-4B90-8F12-2B9C6E8D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9EC31-B109-43B1-BD18-6E41EA34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0C1B3-19A3-44D4-8D2B-D8446D6D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130A3-B7DD-461B-817D-AD4586F4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D969C-2B1E-42D1-B02D-09B3C5EB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4895-1DEE-4A79-9797-5B173F37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F35CD-A527-44B3-89EB-4055ABB8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36CBB-D64A-4F28-ACF2-AE582A0F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F5B93-5140-4DBD-A612-0F04EF7E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B44DE-3C47-4588-8DE4-25430499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4DFF6-D1FA-41C5-ADBD-C73614CB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CACA8-F621-4029-9B44-A8F3F254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AF385-2C1C-45C6-945F-2E0064EE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BDB3-33CC-449E-B148-1EF5D284FBF0}" type="slidenum">
              <a:rPr b="1" lang="ru-RU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6517-4A00-462B-BB56-253CD639D1B6}" type="slidenum">
              <a:rPr b="1" lang="ru-RU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1C24-9C3E-4042-B9C5-47856ED5304D}" type="slidenum">
              <a:rPr b="1" lang="ru-RU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F8C0-BF12-4B5E-A385-CECAC1141A89}" type="slidenum">
              <a:rPr b="1" lang="ru-RU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DA8B-0BB2-4B58-BEB7-F481BE0424BE}" type="slidenum">
              <a:rPr b="1" lang="ru-RU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8802-EEA7-450D-B178-C655D9D6754B}" type="slidenum">
              <a:rPr b="1" lang="ru-RU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B70C-376B-4DAF-AB76-B647E44D7671}" type="slidenum">
              <a:rPr b="1" lang="ru-RU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9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7070-91CC-462D-AF90-ADC17E33CC19}" type="slidenum">
              <a:rPr b="1" lang="ru-RU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8680"/>
            <a:ext cx="593712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ССЛЕДОВАТЕЛЬСКАЯ РАБОТ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263664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95959"/>
                </a:solidFill>
                <a:latin typeface="Constantia"/>
              </a:rPr>
              <a:t>Энциклопедия слова Искренност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03280" y="1413000"/>
            <a:ext cx="640080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"ИСКРЕННОСТЬ" В СТАТЬЯХ ГАЗЕТ И ЖУРНАЛО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"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асмуссен: НАТО не даст России юридических гарантий по ПРО, «лучшая гарантия – искренность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"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азета-СП "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 искренность и всестороннее развити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гестанская газета-"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агнетизм искренн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оссийская газета "В мире" -"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аркози заявил, что не верит в искренность сирийских властей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76360" y="2420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"ИСКРЕННОСТЬ" В НАЗВАНИЯХ ФИЛЬМОВ И СЕРИАЛ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03280" y="270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882003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Искренне ваш…»- режиссер Алла Сурико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882003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Искренне твой»- режиссер Ллойд Бэйко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882003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Искренние лапы 1, 2»-режиссер Джонг- чеол Л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882003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Право на искренность»-режиссер Кирилл Герасим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882003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882003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32000" y="184428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«ИСКРЕННОСТЬ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ИНКВЕЙ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креннос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авдивый       Открыт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ыть        Воспитать       Родитьс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нова правды и главная черта честного челове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кровеннос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4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4" dur="2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НАЧЕНИЕ СЛОВ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371600" y="2060280"/>
            <a:ext cx="6400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747108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В словаре Д.Н.Ушакова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Искренность-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откровенность, чистосердечие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В словаре Т.Ф.Ефремовой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Искренность-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правдивый, откровенный, чистосердечный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В словаре русских синонимов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Искренность-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открытость, простосердечие, проникновенность, откровенность, прямодушие, подлинность, честность, неподдельность, душевность, прямота, простосердечность, задушевность, сердечность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nstantia"/>
              </a:rPr>
              <a:t>И́СКРЕННОСТЬ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(лат. Sinceritas) — </a:t>
            </a:r>
            <a:r>
              <a:rPr b="0" i="1" lang="ru-RU" sz="1300" spc="-1" strike="noStrike">
                <a:solidFill>
                  <a:srgbClr val="000000"/>
                </a:solidFill>
                <a:latin typeface="Constantia"/>
              </a:rPr>
              <a:t>аллегория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классического </a:t>
            </a:r>
            <a:r>
              <a:rPr b="0" i="1" lang="ru-RU" sz="1300" spc="-1" strike="noStrike">
                <a:solidFill>
                  <a:srgbClr val="000000"/>
                </a:solidFill>
                <a:latin typeface="Constantia"/>
              </a:rPr>
              <a:t>искусства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. В </a:t>
            </a:r>
            <a:r>
              <a:rPr b="0" i="1" lang="ru-RU" sz="1300" spc="-1" strike="noStrike">
                <a:solidFill>
                  <a:srgbClr val="000000"/>
                </a:solidFill>
                <a:latin typeface="Constantia"/>
              </a:rPr>
              <a:t>Петербурге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в </a:t>
            </a:r>
            <a:r>
              <a:rPr b="0" i="1" lang="ru-RU" sz="1300" spc="-1" strike="noStrike">
                <a:solidFill>
                  <a:srgbClr val="000000"/>
                </a:solidFill>
                <a:latin typeface="Constantia"/>
              </a:rPr>
              <a:t>Летнем саду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находится </a:t>
            </a:r>
            <a:r>
              <a:rPr b="0" i="1" lang="ru-RU" sz="1300" spc="-1" strike="noStrike">
                <a:solidFill>
                  <a:srgbClr val="000000"/>
                </a:solidFill>
                <a:latin typeface="Constantia"/>
              </a:rPr>
              <a:t>статуя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"Искренность" работы </a:t>
            </a:r>
            <a:r>
              <a:rPr b="0" i="1" lang="ru-RU" sz="1300" spc="-1" strike="noStrike">
                <a:solidFill>
                  <a:srgbClr val="000000"/>
                </a:solidFill>
                <a:latin typeface="Constantia"/>
              </a:rPr>
              <a:t>венецианского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скульптора М. Гроппелли (1662—1721). </a:t>
            </a:r>
            <a:r>
              <a:rPr b="0" i="1" lang="ru-RU" sz="1300" spc="-1" strike="noStrike">
                <a:solidFill>
                  <a:srgbClr val="000000"/>
                </a:solidFill>
                <a:latin typeface="Constantia"/>
              </a:rPr>
              <a:t>Обнаженная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женская фигура в правой руке держит </a:t>
            </a:r>
            <a:r>
              <a:rPr b="0" i="1" lang="ru-RU" sz="1300" spc="-1" strike="noStrike">
                <a:solidFill>
                  <a:srgbClr val="000000"/>
                </a:solidFill>
                <a:latin typeface="Constantia"/>
              </a:rPr>
              <a:t>жезл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, левой опирается на голову </a:t>
            </a:r>
            <a:r>
              <a:rPr b="0" i="1" lang="ru-RU" sz="1300" spc="-1" strike="noStrike">
                <a:solidFill>
                  <a:srgbClr val="000000"/>
                </a:solidFill>
                <a:latin typeface="Constantia"/>
              </a:rPr>
              <a:t>льва.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747108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ЭТИМОЛОГИЯ СЛОВ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кренность - исконно русское слово, суффиксальное производное от "искрьно" -- прямодушно, от сердца, от "искрь" -- рядом, возле, внутри. Первоначальное значение слова "искренний" -- близкий, сердечный; вторичное -- откровенны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371600" y="2819520"/>
            <a:ext cx="3124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indent="549954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Откровенность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549954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Честность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549954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Правдивость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549954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Прямота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549954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Открытость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549954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Сердечность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549954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Душевность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549954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Неподдельность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5499540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Беспритворность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48320" y="2819520"/>
            <a:ext cx="3124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indent="5707080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Двоедушность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5707080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Скрытность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5707080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Ложь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5707080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Лицемерие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5707080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Лукавство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5707080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Притворство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5707080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Фальшивость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ИНОНИМЫ И АНТОНИМЫ СЛОВ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240" y="2362320"/>
            <a:ext cx="3125880" cy="45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3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Синонимы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4720" y="2358720"/>
            <a:ext cx="3127320" cy="44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3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Антонимы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7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2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7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2" dur="2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7" dur="2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2" dur="20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7" dur="20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ИФМА К СЛОВУ ИСКРЕННОС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кренность- неожиданнос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кренность-действительнос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кренность-зависимос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кренность- решительнос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03280" y="836640"/>
            <a:ext cx="6297840" cy="17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"ИСКРЕННОСТЬ" В ПОСЛОВИЦАХ И ПОГОВОРКА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76360" y="278100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lnSpc>
                <a:spcPct val="13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ЕСЛИ БЫ НЕ</a:t>
            </a:r>
            <a:r>
              <a:rPr b="0" i="1" lang="ru-RU" sz="1500" spc="-1" strike="noStrike">
                <a:solidFill>
                  <a:srgbClr val="000000"/>
                </a:solidFill>
                <a:latin typeface="Constantia"/>
              </a:rPr>
              <a:t>ИСКРЕННОСТЬ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 ГОРЕЛА, КАК ОГОНЬ, ТО ДРОВА БЫЛИ БЫ НОПОЛОВИНУ ДЕШЕВЛЕ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lnSpc>
                <a:spcPct val="13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onstantia"/>
              </a:rPr>
              <a:t>ИСКРЕННОСТЬ 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 ДОХОДИТ ДО НЕБА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lnSpc>
                <a:spcPct val="13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onstantia"/>
              </a:rPr>
              <a:t>Искренность — это ясность души; ясность — это искренность мысли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lnSpc>
                <a:spcPct val="13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onstantia"/>
              </a:rPr>
              <a:t>Кто правдив к себе и другим и всегда остается таковым, тот обладает лучшим свойством величайших талантов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i="1" lang="ru-RU" sz="1700" spc="-1" strike="noStrike">
                <a:solidFill>
                  <a:srgbClr val="000000"/>
                </a:solidFill>
                <a:latin typeface="Constantia"/>
              </a:rPr>
              <a:t>- Гёте –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lnSpc>
                <a:spcPct val="13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186920" y="2133720"/>
            <a:ext cx="31244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Что искренность такое: Дар Небес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ль Б-гом посланное испытание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должен быть ли у неё конец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ль пронизывать она должна все наши деяния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ак искренность суметь бы сочета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 тем, что называем воспитание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научиться искренне скрыва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вои обиды, боль, непонимание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03280" y="1412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"ИСКРЕННОСТЬ" В СТИХА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42920" y="2133720"/>
            <a:ext cx="31244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а, искренность не ценится в наш ве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читается лишь проявлением дет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сем слишком кажется простым тот челове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У кого искренность есть суть его, а не кокетств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всё ж надеюсь, что мне хватит смелост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е изменить себе и не поддаться общему влиян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лишь одной прошу у Б-га мил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усть искренность моя хотя бы у друзей находит понимание. ( Фрида Дроздова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371600" y="2437920"/>
            <a:ext cx="31240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скренность летела яркой искро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Меж людей, страстей и разных сл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Загорелась и росой лучисто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землилась прямо на любовь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ньше, ей одной тоскливо был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А с любовью,  словно две струны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ве звезды, две чайки белокрылых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ве капели от одной весны.</a:t>
            </a:r>
            <a:br>
              <a:rPr sz="1200"/>
            </a:br>
            <a:br>
              <a:rPr sz="10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42920" y="2421000"/>
            <a:ext cx="31244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скренность - нежнейшее создань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т насмешек прячется и ссор.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любовь, как центр мирозданья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месте ткут невидимый узор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т любви желанной сердце тает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скра слова...пламенеет взгляд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ак бывает, знаешь, так бывает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ве души срастутся и ... летят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( Бастракова Арина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258920" y="1700280"/>
            <a:ext cx="3124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Что такое искренность?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Открытость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Жаждущей доверия души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Это чувства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И рассудка слитность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Вызов лицемерию и лжи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Встретясь с нею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Распознаешь быстро: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Так она бесхитростна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Проста…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Искренность –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Негаснущая искра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Сильного и доброго костра!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48320" y="2437920"/>
            <a:ext cx="31240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4:10:48Z</dcterms:created>
  <dc:creator>User</dc:creator>
  <dc:description/>
  <dc:language>en-US</dc:language>
  <cp:lastModifiedBy>User</cp:lastModifiedBy>
  <dcterms:modified xsi:type="dcterms:W3CDTF">2012-04-25T17:00:04Z</dcterms:modified>
  <cp:revision>13</cp:revision>
  <dc:subject/>
  <dc:title>Исследовательская работа</dc:title>
</cp:coreProperties>
</file>