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EFD-F05F-4668-A60E-EC1D0C04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CC9-CAB6-417E-95A7-E8B880B5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2FC-87C8-43A0-8E6F-4A87077F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A5F-E872-441C-B0D7-04BB999D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72E-F80E-4A6A-B1B4-01E7E856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84B1-593C-4C05-9FA0-5EEC0053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A2D1-75E5-444E-888B-3ADDA90F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E5F3-A311-40EA-954E-3575FA6C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451C-4208-42DE-865F-C64630D1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6618-5020-4B81-8650-E8A5FF9F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31C8-D33F-4F01-AF8A-7975777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586-8E73-404A-A71B-5DC276E6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6951-B189-4213-92A7-9C82CFA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A5EC-7DCF-4904-AB6D-7DE49BF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1A23-54BE-4883-8B95-D7F91F1B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C61B-4446-4AA1-AE00-880EF044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A18C-FBC2-415E-96CA-7FD8E42C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F25C-561D-4849-BCC6-291EB9C5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2C7A-0510-4D6B-A362-99E1AD03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9570-311D-45FA-BC1C-EB1DBBEF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28A0-065F-44B6-9E85-B33F222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2CE6-03BF-405F-B89E-31B3AE5E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4E8-F038-427C-BD79-CDF6A64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8958-8C8E-445F-8DC5-BB887CE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59D8-1B3F-4958-9A9F-8FF146B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5043-7584-424D-99D7-6274661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274F-58CB-47CB-B372-82A259E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E68F-DE46-42A2-82E4-4C94030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4281-E5C7-44ED-9127-2E0F96BF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0606-460A-4EC0-B1EE-BBC38513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E861-B171-4A1E-9AD0-DF910157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44F6-AA63-4D90-AD16-2A0C3A6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BDB2-BC40-4D8E-81BB-7B219C5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421-CA0D-488A-8921-3B21A735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F489-A942-4A5B-9239-7EE3D67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90A7-A0DB-4082-AF19-DFDB59F6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5997-0610-4424-8D3A-67C62CE5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5102-FBE0-4076-96D0-A95A526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4C23-7FFE-4897-98D2-C20F36AD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E312-595E-4E2C-9265-460AD28A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F44B-AF44-49F7-86B3-A434A17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1365-562C-4687-BF08-42F10C60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F167C-3578-4017-BDAB-DABB0952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8100-F0D4-4129-BBEF-B784F055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ABF-DB04-4A4C-A087-77F07C5E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1F5F5-0269-4997-99FD-76E6475A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C7AE-BB26-4181-BAB8-6933E063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D3EF-EF85-46A6-BA88-116CD427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876E-186E-4F0C-A933-20B1A3AF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A79B-3F72-4B38-AB9A-CF58CFC9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2A4C-7968-4964-9DB0-4959806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A54C5-82B8-475A-B394-F6A3193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993F-2CEE-4484-B337-23CFA8B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688EE-A7C1-4C1A-BFCE-F437CC3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B938-EE6E-41F1-A687-C043E931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B67-23E5-495E-9ACE-3681A32E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0F704-A97D-4BA0-BAE2-BD5967EE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05679-8DA7-4562-B2E6-FD1D009B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3B48-72B3-4F96-AEC8-28F0CF5C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C2342-18DB-4C53-B090-886E7B7B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32B5-E521-465D-A145-6D329417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CF69-8798-4424-A77D-32F45DE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C906-DD14-4CF1-A875-EDE528D2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3A2F1-6CDF-4DF0-BF64-1BB51F4E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49CE5-735E-412E-AC16-567159F3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366B-8607-423B-9FAF-F581C664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70F-DEA9-463B-9A6F-303792E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548F-6C97-49B8-A4AF-801B4B9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E23A8-F36A-47FE-B3D4-419A810A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2A28-E9E2-4004-9716-2146BA90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7FB23-153E-4D30-9428-B53173B7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CCAA-A69F-4660-989D-9B443A0F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2F23-5651-4252-AAAD-9B1951DB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01B9-28BF-4C8B-A4DD-393DE576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F902-7DB1-486E-AD49-FDA4819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E8482-B7D4-479B-8C32-788F383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B6BF3-502B-4025-8D34-1949C35C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2B9-40C2-46A5-A7DD-800DC80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F172D-4B67-4B04-B09E-EEFF569F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AF336-1746-4A8F-927C-6A9D56E1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44A7-7B00-44CF-B54C-02AF35E8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253E-1700-4EA2-BD77-8741CBAD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0BFDC-AE5C-485F-A45B-1E6A0E23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DDE7-A4F7-4C19-B219-AED0EFE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6B572-E63D-4279-8321-144C31E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CD88D-9AF5-48FC-9E1E-C89D6B3A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D14B-8146-40F9-AC16-1C2C42D3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A2E15-2D02-4CBD-94D3-00C8A7D8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F24-BA76-4013-B991-F1D81D6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84486-72B0-4C84-BCDC-FA69C858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ACFA-46E4-4845-A866-FE2BD66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CEBA-1DD2-4B1C-B783-038B9E8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35F3C-8CB3-4C3B-B379-8844755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BFE02-F1C7-4044-A952-FB22DC19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7034A-9094-4AC5-AC81-4E1BDB60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9C1E4-AC62-477A-B1F7-D1BB1757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E458-A686-48F9-950A-31F3E56EF201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AA97-6C2F-49D7-9736-6F3390DA9501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1A9-60B7-4427-97F9-6E513EFFFECF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EEDC-E3B0-44CC-AB7C-DC920E2F1588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1635-3C5D-4DAC-9184-155EA8003C35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12C1-1FEE-4F72-9FB5-BC17B100703E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EB03-BCB1-442D-8A0E-122104DBB9CE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2920-A8AD-4B53-A45B-D74483BFAD30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8680"/>
            <a:ext cx="593712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26366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95959"/>
                </a:solidFill>
                <a:latin typeface="Constantia"/>
              </a:rPr>
              <a:t>Энциклопедия слова Искрен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03280" y="1413000"/>
            <a:ext cx="640080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СТАТЬЯХ ГАЗЕТ И ЖУРНАЛ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смуссен: НАТО не даст России юридических гарантий по ПРО, «лучшая гарантия – искренность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азета-СП 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 искренность и всестороннее развит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гестанская газета-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гнетизм искрен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ссийская газета "В мире" -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аркози заявил, что не верит в искренность сирийских власте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360" y="2420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НАЗВАНИЯХ ФИЛЬМОВ И СЕРИАЛ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03280" y="270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кренне ваш…»- режиссер Алла Сурик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кренне твой»- режиссер Ллойд Бэйко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кренние лапы 1, 2»-режиссер Джонг- чеол 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Право на искренность»-режиссер Кирилл Герасим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ИСКРЕННОСТЬ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ИНКВЕЙ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авдивый       Открыт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ь        Воспитать       Родитьс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 правды и главная черта честного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крове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НАЧЕНИЕ СЛО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06028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747108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В словаре Д.Н.Ушакова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скренность-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овенность, чистосердечие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В словаре Т.Ф.Ефремовой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скренность-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правдивый, откровенный, чистосердечный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В словаре русских синонимов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скренность-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ытость, простосердечие, проникновенность, откровенность, прямодушие, подлинность, честность, неподдельность, душевность, прямота, простосердечность, задушевность, сердечность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́СКРЕННОСТЬ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(лат. Sinceritas) —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аллегория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классического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искусства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. В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Петербурге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в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Летнем саду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находится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статуя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"Искренность" работы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венецианского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скульптора М. Гроппелли (1662—1721).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Обнаженная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женская фигура в правой руке держит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жезл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, левой опирается на голову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льва.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747108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ИМОЛОГИЯ СЛО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 - исконно русское слово, суффиксальное производное от "искрьно" -- прямодушно, от сердца, от "искрь" -- рядом, возле, внутри. Первоначальное значение слова "искренний" -- близкий, сердечный; вторичное -- откровенн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371600" y="2819520"/>
            <a:ext cx="3124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овен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Чест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Правдив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Прямота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ытость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Сердеч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Душев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Неподдель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Беспритвор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48320" y="2819520"/>
            <a:ext cx="3124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Двоедушност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крытност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Лож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Лицемерие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Лукавств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Притворств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Фальшивост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ИНОНИМЫ И АНТОНИМЫ СЛОВ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312588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Синонимы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2358720"/>
            <a:ext cx="312732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Антонимы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ИФМА К СЛОВУ ИСКРЕН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 неожида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действи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зависим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 реши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3280" y="836640"/>
            <a:ext cx="629784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ПОСЛОВИЦАХ И ПОГОВОРК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76360" y="278100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ЕСЛИ БЫ НЕ</a:t>
            </a:r>
            <a:r>
              <a:rPr b="0" i="1" lang="ru-RU" sz="1500" spc="-1" strike="noStrike">
                <a:solidFill>
                  <a:srgbClr val="000000"/>
                </a:solidFill>
                <a:latin typeface="Constantia"/>
              </a:rPr>
              <a:t>ИСКРЕННОСТЬ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 ГОРЕЛА, КАК ОГОНЬ, ТО ДРОВА БЫЛИ БЫ НОПОЛОВИНУ ДЕШЕВЛЕ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onstantia"/>
              </a:rPr>
              <a:t>ИСКРЕННОСТЬ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 ДОХОДИТ ДО НЕБ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Искренность — это ясность души; ясность — это искренность мысли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Кто правдив к себе и другим и всегда остается таковым, тот обладает лучшим свойством величайших тала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- Гёте –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186920" y="213372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искренность такое: Дар Небес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ль Б-гом посланное испытани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должен быть ли у неё конец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ль пронизывать она должна все наши деяния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ак искренность суметь бы сочет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 тем, что называем воспитание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научиться искренне скрыв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ои обиды, боль, непонимание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СТИХ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2920" y="213372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а, искренность не ценится в наш ве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читается лишь проявлением де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м слишком кажется простым тот челове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 кого искренность есть суть его, а не кокетст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всё ж надеюсь, что мне хватит смел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 изменить себе и не поддаться общему влиян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лишь одной прошу у Б-га мил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усть искренность моя хотя бы у друзей находит понимание. ( Фрида Дроздова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371600" y="2437920"/>
            <a:ext cx="3124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скренность летела яркой искр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еж людей, страстей и разных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орелась и росой лучист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землилась прямо на любовь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ньше, ей одной тоскливо был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с любовью,  словно две струн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ве звезды, две чайки белокрыл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ве капели от одной весны.</a:t>
            </a: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2920" y="242100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скренность - нежнейшее создань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 насмешек прячется и ссор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любовь, как центр мирозданья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месте ткут невидимый узо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 любви желанной сердце тает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скра слова...пламенеет взгля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к бывает, знаешь, так быва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ве души срастутся и ... летят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 Бастракова Арина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258920" y="1700280"/>
            <a:ext cx="3124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Что такое искренность?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Открытость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Жаждущей доверия душ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Это чувств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И рассудка слитность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Вызов лицемерию и лж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Встретясь с нею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Распознаешь быстро: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Так она бесхитростна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Проста…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Искренность –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Негаснущая искр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ильного и доброго костра!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48320" y="2437920"/>
            <a:ext cx="3124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4:10:48Z</dcterms:created>
  <dc:creator>User</dc:creator>
  <dc:description/>
  <dc:language>en-US</dc:language>
  <cp:lastModifiedBy>User</cp:lastModifiedBy>
  <dcterms:modified xsi:type="dcterms:W3CDTF">2012-04-25T17:00:04Z</dcterms:modified>
  <cp:revision>13</cp:revision>
  <dc:subject/>
  <dc:title>Исследовательская работа</dc:title>
</cp:coreProperties>
</file>