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10E1-D188-46F5-BEB9-581D8B38D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0702-8E77-4B76-86D0-F44E2E44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BD92-624C-49D6-B3C7-384E84001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DB34-414A-40AA-AD79-A4FBBD079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C9B5-4E63-4EBD-8703-91C618D05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3D17D-C9E6-4215-8ACA-2C35A7C4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7EA2-615E-42BC-A7CC-6A19C74B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6395-2463-42E2-A9A5-AB911FD1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BFFA-DF6A-494B-824F-853D3E32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89D8-4A01-482E-943E-332F9A5A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AB1B7-CF9B-4FEC-B0B1-330AFD9B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2B24-6DB1-4325-8198-4F36CC51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D6B1-A163-4CA3-AA9A-BA691348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F106-E7A6-4C9C-938A-CE1E8E17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3C97-E753-4110-8021-1191ADD3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CD70-FF2B-4A8F-9D4D-ECD9891AA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FFD2-AF6B-4864-AADC-10F4750B0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7CB5-A5BB-40A3-BC23-7FB5D7AB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7378-0F79-43A6-B6E5-6B33E867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E361-495D-437E-A1D2-EC339D14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9026-7E28-4580-B861-3E36DB03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52C5-6223-4191-B93B-B6E2676C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849E-201C-4E31-AF19-ACF21279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DFDC-4EC9-44CC-AE59-5A22791C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1AAC-E3F5-4746-9273-26A8E132A8A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3919-7494-4CBA-95D4-3EF16F70BA0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Этикетные диалоги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Цели: дать понятие «диалог», научить составлять и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равильно оформлять этикетные  диалоги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развивать умение использовать в диалогах вежливые слов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оспитывать культуру общени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Творческое списывание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Восстановите опущенные реплик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 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 Да, на юге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 В Крыму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 Конечно, видел! Купался в нём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 Море огромное! На одном берегу стоишь, а другого даже не видно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77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7" dur="770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9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1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36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36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6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7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37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37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7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8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38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38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8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8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39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39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9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9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9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40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40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0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0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0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41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41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1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1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1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42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42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2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2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43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43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3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3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3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43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4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4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4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521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Творческий диктант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едставьте себе: вы вспоминаете разговор со своим товарищем. На какие просьбы, советы, предложения вы могли бы услышать следующие ответы своего собеседника? Составьте диалоги, состоящие из двух реплик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. -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Конечно, помогу! О чём разговор?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.-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Спасибо! Обязательно прочитаю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3.-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С удовольствием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4.-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Сегодня, к сожалению, не могу… Никак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553080" y="228600"/>
            <a:ext cx="2210040" cy="1343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indefinite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64" dur="indefinite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65" dur="indefinite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indefinite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70" dur="indefinite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71" dur="indefinite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indefinite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76" dur="indefinite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77" dur="indefinite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indefinite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82" dur="indefinite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83" dur="indefinite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indefinite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88" dur="indefinite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89" dur="indefinite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indefinite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94" dur="indefinite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95" dur="indefinite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indefinite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00" dur="indefinite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01" dur="indefinite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indefinite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06" dur="indefinite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07" dur="indefinite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5978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ыполнение упражнения 249 (самостоятельно)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родолжите и запишите телефонный разговор, употребляя вежливую форму обращения. Используйте (по возможности) слова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З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дравствуйт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До св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дан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Сп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сиб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Бл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о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д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рю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Изв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ит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о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жалу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й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ст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705720" y="380880"/>
            <a:ext cx="1828800" cy="1146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53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538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3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54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545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4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55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552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5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5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559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6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56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566" dur="2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6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57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573" dur="2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7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Домашнее задание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упражнение 242, с.105-106, сделать сигнальные карточки с цифрами 1,2,3,4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5978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Словарно – стилистическая работа.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1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ДиалОг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ДиалогИческий.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ДИа –«два»,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лОгос – «слово» (греч.)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086600" y="262080"/>
            <a:ext cx="1703520" cy="13381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2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3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3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4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4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5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5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560" y="456840"/>
            <a:ext cx="635976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Что такое диалог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Диалог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– разговор двух и нескольких лиц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Слова каждого лица в диалоге пишутся с новой строки, перед ними ставится тире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Если реплика сопровождается словами автора, то ставятся те же  знаки препинания, что и при прямой речи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но без кавычек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202520" y="228600"/>
            <a:ext cx="1581120" cy="2057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7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75" dur="3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8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82" dur="3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8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89" dur="3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ример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Ям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- Яму копал?            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- Копал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- В яму упал?            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- Упал.                      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- В яме сидишь?        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- Сижу.                           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- Лестницу ждёшь?   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- Жду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                                     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Яма сыра?                                           - Сыр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Как голова?                                              – Цел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Значит, живой?                                               – Живой. 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Ну, я пошёл домой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О.Григорьев.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indefinite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2" dur="indefinite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3" dur="indefinite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indefinite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8" dur="indefinite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9" dur="indefinite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indefinite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4" dur="indefinite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5" dur="indefinite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indefinite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0" dur="indefinite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1" dur="indefinite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indefinite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6" dur="indefinite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7" dur="indefinite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indefinite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42" dur="indefinite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3" dur="indefinite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48" dur="indefinite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9" dur="indefinite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indefinite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indefinite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60" dur="indefinite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1" dur="indefinite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indefinite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66" dur="indefinite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7" dur="indefinite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indefinite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2" dur="indefinite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73" dur="indefinite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indefinite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8" dur="indefinite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79" dur="indefinite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indefinite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84" dur="indefinite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5" dur="indefinite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indefinite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0" dur="indefinite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91" dur="indefinite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indefinite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6" dur="indefinite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97" dur="indefinite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1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Если реплика сопровождается словами автора, то ставятся те же  знаки препинания, что и при прямой речи,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но без кавычек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Творческое списывание (упражнение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246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ставьте подходящие по смыслу слова, избегая повторения слова 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сказал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затем перепишите. Объясните, какую роль выполняет первое и второе тире в каждом предложении. Укажите предложения с обращением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 л о в а  д л я  с п р а в о к: спросить, ответить, проговорить, поинтересоваться, сказать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 Здравствуй, Ваня! Куда ты идёшь? - - -Кат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 К Пете. Он болен, - - -Ван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А что с ним случилось? - - - Кат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 Помогал соседке тушить пожар и обжёг руку,- - - Ван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 Ты к нему надолго? - - - Кат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 На весь вечер, - - - Ван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929200" y="152280"/>
            <a:ext cx="2681280" cy="16002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4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4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5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59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64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69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 Здравствуй,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Ваня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! Куда ты идёшь? –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спросила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Кат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 К Пете. Он болен, -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ответил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Ван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А что с ним случилось? - 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поинтересовалас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Кат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 Помогал соседке тушить пожар и обжёг руку,-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проговорился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Ван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 Ты к нему надолго? -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спросила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Кат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 На весь вечер, -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сказал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Ван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Диктант с последующей самопроверкой по записи на экран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рит еж</a:t>
            </a: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нку мать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- П</a:t>
            </a: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ра лист</a:t>
            </a: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я с</a:t>
            </a: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б</a:t>
            </a: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рать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А еж</a:t>
            </a: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нок ёжи</a:t>
            </a: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тся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- Что</a:t>
            </a: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то мне </a:t>
            </a: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може</a:t>
            </a: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тся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             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(С.Маршак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3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7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1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9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Treme</cp:lastModifiedBy>
  <dcterms:modified xsi:type="dcterms:W3CDTF">2002-01-15T19:58:0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