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041F-A572-4301-8DC3-77F9540D6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D4D5-6338-4462-8E6D-DE5F5015C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6E81-5115-4ECB-AAB8-0E9FEB1FA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323D-7C0B-4821-B491-350D332CD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CC102-FF8C-4E82-BC0E-CEDE41ED0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B36D5-7A05-4A72-B9F4-BE1B61A22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6ED02-1421-412F-BF9F-1F947A4DF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28AA5-2366-49CA-853D-AD2A2966F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C1B2A-9238-4F11-A648-06DF9DABD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12AE8-994C-431D-8939-D9F8FCF58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5C5E3-DF3B-42F2-A11D-0DFBDFD4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2DE8-24CC-46F2-92D9-516E2D619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DEFD5-35EB-4998-8106-D081B5BE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E7A23-C460-45D7-BF84-7F17FB7D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0CB78-E15A-4CF2-AF8E-8E890D932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DCCB9-CA54-4EE3-90F5-0A0A23491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38821-BEBD-486B-9B1C-438B5C4B9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BE4F-40F3-4AC2-A000-983C208F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9ECF-47C8-4D6B-B0AA-BEE1C6629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ADA6-3859-48F8-BA80-FF61E3504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28D7-B494-4012-8188-040958B8A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961D-B13B-4CDC-9E69-3E5242D1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242B-BB30-4789-9BFD-861838F5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C84B-3E1A-4030-A4BD-B47B3432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62050-5D38-44D0-B691-F98EFB876E7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CCCC8-5754-4B82-ADF0-118954D2F45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Этикетные диалоги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Цели: дать понятие «диалог», научить составлять и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правильно оформлять этикетные  диалоги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развивать умение использовать в диалогах вежливые слова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оспитывать культуру общения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Творческое списывание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Восстановите опущенные реплик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- 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- Да, на юге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-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- В Крыму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-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- Конечно, видел! Купался в нём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-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- Море огромное! На одном берегу стоишь, а другого даже не видно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77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7" dur="770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9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1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36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36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6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7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7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37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37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7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7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8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38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38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8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8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8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39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39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9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9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9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40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40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0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0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0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41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41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1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1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1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42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42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2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2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2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43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43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3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3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3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43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44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4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4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4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521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Творческий диктант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едставьте себе: вы вспоминаете разговор со своим товарищем. На какие просьбы, советы, предложения вы могли бы услышать следующие ответы своего собеседника? Составьте диалоги, состоящие из двух реплик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. - 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 Конечно, помогу! О чём разговор?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.-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 Спасибо! Обязательно прочитаю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3.-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 С удовольствием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4.-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 Сегодня, к сожалению, не могу… Никак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553080" y="228600"/>
            <a:ext cx="2210040" cy="13431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indefinite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64" dur="indefinite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65" dur="indefinite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indefinite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70" dur="indefinite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71" dur="indefinite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indefinite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76" dur="indefinite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77" dur="indefinite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indefinite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82" dur="indefinite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83" dur="indefinite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indefinite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88" dur="indefinite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89" dur="indefinite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indefinite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94" dur="indefinite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95" dur="indefinite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indefinite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00" dur="indefinite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01" dur="indefinite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indefinite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06" dur="indefinite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07" dur="indefinite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59785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ыполнение упражнения 249 (самостоятельно)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Продолжите и запишите телефонный разговор, употребляя вежливую форму обращения. Используйте (по возможности) слова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З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дравствуйт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До св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дан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Сп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сиб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Бл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г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о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д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рю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Изв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нит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о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жалу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й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ст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705720" y="380880"/>
            <a:ext cx="1828800" cy="1146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1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2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53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538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3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54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545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4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55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552" dur="2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5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55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559" dur="2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6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56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566" dur="2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6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57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573" dur="2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7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Домашнее задание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упражнение 242, с.105-106, сделать сигнальные карточки с цифрами 1,2,3,4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59785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Словарно – стилистическая работа.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1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ДиалОг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ДиалогИческий.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ДИа –«два»,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1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лОгос – «слово» (греч.)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7086600" y="262080"/>
            <a:ext cx="1703520" cy="13381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2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2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3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3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4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4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5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5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560" y="456840"/>
            <a:ext cx="635976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Что такое диалог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Диалог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– разговор двух и нескольких лиц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Слова каждого лица в диалоге пишутся с новой строки, перед ними ставится тире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Если реплика сопровождается словами автора, то ставятся те же  знаки препинания, что и при прямой речи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но без кавычек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202520" y="228600"/>
            <a:ext cx="1581120" cy="20574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7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75" dur="3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7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8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82" dur="3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8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89" dur="3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Пример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                                  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Ям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- Яму копал?               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- Копал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- В яму упал?               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- Упал.                         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- В яме сидишь?           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- Сижу.                              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- Лестницу ждёшь?      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- Жду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                                          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 Яма сыра?                                           - Сыра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 Как голова?                                              – Цела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 Значит, живой?                                               – Живой.  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 Ну, я пошёл домой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О.Григорьев.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indefinite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2" dur="indefinite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13" dur="indefinite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indefinite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8" dur="indefinite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19" dur="indefinite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indefinite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4" dur="indefinite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5" dur="indefinite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indefinite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0" dur="indefinite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1" dur="indefinite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indefinite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6" dur="indefinite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7" dur="indefinite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indefinite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42" dur="indefinite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3" dur="indefinite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48" dur="indefinite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9" dur="indefinite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indefinite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indefinite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indefinite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indefinite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60" dur="indefinite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1" dur="indefinite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indefinite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66" dur="indefinite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7" dur="indefinite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indefinite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2" dur="indefinite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73" dur="indefinite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indefinite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8" dur="indefinite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79" dur="indefinite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indefinite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84" dur="indefinite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5" dur="indefinite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indefinite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0" dur="indefinite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91" dur="indefinite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indefinite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6" dur="indefinite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97" dur="indefinite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1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Если реплика сопровождается словами автора, то ставятся те же  знаки препинания, что и при прямой речи,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Verdana"/>
              </a:rPr>
              <a:t>но без кавычек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Творческое списывание (упражнение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246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ставьте подходящие по смыслу слова, избегая повторения слова </a:t>
            </a: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сказал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, затем перепишите. Объясните, какую роль выполняет первое и второе тире в каждом предложении. Укажите предложения с обращением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 л о в а  д л я  с п р а в о к: спросить, ответить, проговорить, поинтересоваться, сказать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- Здравствуй, Ваня! Куда ты идёшь? - - -Катя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- К Пете. Он болен, - - -Ваня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-А что с ним случилось? - - - Катя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- Помогал соседке тушить пожар и обжёг руку,- - - Ваня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- Ты к нему надолго? - - - Катя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- На весь вечер, - - - Ваня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929200" y="152280"/>
            <a:ext cx="2681280" cy="16002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4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49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54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59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64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69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- Здравствуй,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Ваня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! Куда ты идёшь? –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спросила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Кат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- К Пете. Он болен, -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ответил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Ван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-А что с ним случилось? - 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поинтересовалась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Кат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- Помогал соседке тушить пожар и обжёг руку,-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проговорился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Ван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- Ты к нему надолго? -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спросила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Кат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- На весь вечер, -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сказал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Ван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Диктант с последующей самопроверкой по записи на экран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Г</a:t>
            </a: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рит еж</a:t>
            </a: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нку мать: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- П</a:t>
            </a: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ра лист</a:t>
            </a: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ь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я с</a:t>
            </a: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б</a:t>
            </a: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рать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А еж</a:t>
            </a: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нок ёжи</a:t>
            </a: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тся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- Что</a:t>
            </a: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то мне </a:t>
            </a: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не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може</a:t>
            </a: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тся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                  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(С.Маршак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3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7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1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5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9" dur="2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Treme</cp:lastModifiedBy>
  <dcterms:modified xsi:type="dcterms:W3CDTF">2002-01-15T19:58:06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