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22D3-0591-462C-B225-333BB697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F36-7077-4EA2-8827-C64A4A73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845C-6AD9-4AED-A05D-371A8DB8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72E1-2F75-430B-B1DA-7437537B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6670-4935-46AA-9800-7B88798D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0BAE-54D8-474E-9590-9CD5444F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5D02-2810-408B-B389-F946A18E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AD85-EC30-41B7-B3A4-7537E21D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DCB4-7E28-4782-88A7-F0B05E1C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367A-948A-45B0-B4DA-96A2E561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C83F-FE08-4E78-BEB3-2CAF1106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8E5-3A68-4088-BB31-B5C0E8BA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6FE9-C114-4FFA-BE61-4535B8D5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96E0-060B-45EA-864D-499B955A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CAA1-0F7D-4573-BDC4-D299FE4A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A631-CA3D-4BF5-BEBB-30E22656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8E76-37A1-4149-B4F3-ADDE7E65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FE1C-B20A-4017-84F6-5DDC4229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190F-B20F-4B21-88B8-ED4674A8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D930-296B-4D64-98DA-F491DCFF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6B90-32FC-4476-9127-3488C971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A64A-A06C-45E7-8E26-AF02047D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5F6E-E72E-4C6A-BC94-3E201630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DD07-FAEA-4B44-93D0-CAF3FDF1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3D23-2E0B-4F56-AF56-E326DA8816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5E23-A26F-40E9-8B17-F997F00DA4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Этикетные диалоги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Цели: дать понятие «диалог», научить составлять 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авильно оформлять этикетные  диалог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азвивать умение использовать в диалогах вежливые слов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оспитывать культуру общ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Творческое списывание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осстановите опущенные реплик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Да, на юг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В Крым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Конечно, видел! Купался в нём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Море огромное! На одном берегу стоишь, а другого даже не видно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9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1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3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3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3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3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9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0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0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1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521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Творческий диктант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едставьте себе: вы вспоминаете разговор со своим товарищем. На какие просьбы, советы, предложения вы могли бы услышать следующие ответы своего собеседника? Составьте диалоги, состоящие из двух реплик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. -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Конечно, помогу! О чём разговор?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.-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Спасибо! Обязательно прочитаю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.-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С удовольствием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.-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Сегодня, к сожалению, не могу… Никак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210040" cy="1343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indefinite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64" dur="indefinite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5" dur="indefinite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indefinite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0" dur="indefinite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71" dur="indefinite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indefinite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6" dur="indefinite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77" dur="indefinite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indefinite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82" dur="indefinite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3" dur="indefinite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indefinite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88" dur="indefinite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9" dur="indefinite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indefinite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4" dur="indefinite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95" dur="indefinite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indefinite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00" dur="indefinite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1" dur="indefinite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indefinite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06" dur="indefinite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7" dur="indefinite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5978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ыполнение упражнения 249 (самостоятельно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одолжите и запишите телефонный разговор, употребляя вежливую форму обращения. Используйте (по возможности) слов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равствуй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о св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а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п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иб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Бл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р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зв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и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жалу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705720" y="380880"/>
            <a:ext cx="1828800" cy="1146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3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53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3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545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55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559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6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566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6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573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7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Домашнее задан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пражнение 242, с.105-106, сделать сигнальные карточки с цифрами 1,2,3,4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597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Словарно – стилистическая работа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ДиалОг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ДиалогИческий.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ДИа –«два»,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лОгос – «слово» (греч.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086600" y="262080"/>
            <a:ext cx="1703520" cy="1338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560" y="456840"/>
            <a:ext cx="63597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Что такое диалог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Диалог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– разговор двух и нескольких лиц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Слова каждого лица в диалоге пишутся с новой строки, перед ними ставится тир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Если реплика сопровождается словами автора, то ставятся те же  знаки препинания, что и при прямой речи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но без кавычек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202520" y="228600"/>
            <a:ext cx="158112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5" dur="3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8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82" dur="3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8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89" dur="3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имер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Ям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Яму копал?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Копа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В яму упал?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Упал.          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В яме сидишь?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Сижу.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Лестницу ждёшь?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Жду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Яма сыра?                                           - Сыр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Как голова?                                              – Цел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Значит, живой?                                               – Живой.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Ну, я пошёл домо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О.Григорьев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3" dur="indefinite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indefinite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8" dur="indefinite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9" dur="indefinite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indefinite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4" dur="indefinite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5" dur="indefinite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indefinite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0" dur="indefinite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1" dur="indefinite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7" dur="indefinite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indefinite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2" dur="indefinite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3" dur="indefinite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8" dur="indefinite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9" dur="indefinite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indefinite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indefinite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0" dur="indefinite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1" dur="indefinite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indefinite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6" dur="indefinite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7" dur="indefinite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indefinite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2" dur="indefinite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3" dur="indefinite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indefinite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8" dur="indefinite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9" dur="indefinite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indefinite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84" dur="indefinite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5" dur="indefinite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indefinite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0" dur="indefinite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91" dur="indefinite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indefinite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6" dur="indefinite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97" dur="indefinite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Если реплика сопровождается словами автора, то ставятся те же  знаки препинания, что и при прямой речи,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но без кавычек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ворческое списывание (упражнение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246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ставьте подходящие по смыслу слова, избегая повторения слова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сказал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затем перепишите. Объясните, какую роль выполняет первое и второе тире в каждом предложении. Укажите предложения с обращени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л о в а  д л я  с п р а в о к: спросить, ответить, проговорить, поинтересоваться, сказат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 Здравствуй, Ваня! Куда ты идёшь? - - -Кат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 К Пете. Он болен, - - -Ван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А что с ним случилось? - - - Кат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 Помогал соседке тушить пожар и обжёг руку,- - - Ван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 Ты к нему надолго? - - - Кат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 На весь вечер, - - - Ван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929200" y="152280"/>
            <a:ext cx="2681280" cy="1600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5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5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6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6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Здравствуй,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Ваня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! Куда ты идёшь? –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спросил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Кат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К Пете. Он болен, -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ответил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Ван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А что с ним случилось? -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поинтересовалас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Кат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Помогал соседке тушить пожар и обжёг руку,-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проговорился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ан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Ты к нему надолго? -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спросил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Кат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На весь вечер, -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сказал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Ван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иктант с последующей самопроверкой по записи на экра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рит еж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ку мать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- П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ра лист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я с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рать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А еж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ок ёжи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тся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- Что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то мне 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може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тся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С.Маршак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02-01-15T19:58:0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