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B7A8-09AA-4F2D-B8E7-451829B8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CBA6-DBB7-4395-9144-19D07BE4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613D-10CC-4E7E-A7B4-3B0B1A66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D8B1-0EBD-49A4-A8D3-BCB97306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B3C-DA52-4770-8145-3DEF8B34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15A-8892-4475-9519-B706E34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2BC-4BC8-4885-9A6C-B723338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AA7E-BF34-4D97-A5EA-FE54D611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46A-7AD2-4A61-A7D1-323F59CA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611-7C3C-4555-8948-F7F8A2F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923-A9EF-4C41-A180-FE5647E8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51C8-A274-4343-875D-FA707B9E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313E-F1DF-4884-B452-0B8640B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6AA8-688E-42B9-B016-62D9099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F0A-0449-48CD-9BB5-72AF1DCA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DE21-FFE2-4F99-AEEA-DDDE9EFF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A42-6F2B-47B1-A307-784921CF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CA10-7817-4F04-A874-C91340C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43A3-D0DA-48BB-B55D-D4EEC80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1FF2-B551-4217-9CC9-7456B7E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8C03-797E-4243-BCD5-AB3C9F6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A3C5-058B-4B15-9134-91F7EA6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3717-D240-4026-AAAD-C9CB2A7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E2CC-A390-4090-A7DE-70E7D6A0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FBB3-2AB5-440B-BB0A-66A68E5245E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325E-F114-4A81-A2E5-61BC7A85E7A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98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Общая характеристика истории и литературы ХХ века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560" y="2928960"/>
            <a:ext cx="47862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чевидец истории”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j0217698"/>
          <p:cNvPicPr/>
          <p:nvPr/>
        </p:nvPicPr>
        <p:blipFill>
          <a:blip r:embed="rId1"/>
          <a:stretch/>
        </p:blipFill>
        <p:spPr>
          <a:xfrm>
            <a:off x="5148360" y="2357280"/>
            <a:ext cx="3168720" cy="33037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8-20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ая война, военный коммунизм.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ый героизм»,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й мне, бабка, зелий приворот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дцу песен прежних, беззаботных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дыха глаз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илый внучек, рада б, да не в сила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ья те цветут не по лес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 сырых могил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. Бу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До 4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роительство нового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, где на монетах 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одость м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 России -- н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- Как и той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Цвета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41-45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ликая Отечественная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енная поэзия и пр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называю по привы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их друзей заветных име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на этой странной перекли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е отвечает только тиш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Ахмат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60-е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оттепель», «заморозки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деревенская проза», «шестидесятни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 ошараши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у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 мол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нам научить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аш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тем более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. Рождестве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конец 70-х -начало 8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застой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андеграунд», СМОГ, диссиде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работали верховные ножницы, остригая от пространства нашей духовной жизни строчку за строчкой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и затыкали рты, выкручивали руки, резали рукописи, смывали картин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Веллер «Дети победителе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85 – 91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«перестрой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вая эпоха - внутренняя свобод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-нибудь, в час неясный и с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ова проснуться - в глазах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ет этот ч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я уйду вместе с солн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рогой, ведущей в зак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. Гребенщ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Последнее десятилетие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, надежда, экономика,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мотив тупика и катастрофы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гда и нигде ничего я не видел красив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х рвущихся в высь, этих гордо горящих огней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ведь выдержишь все и весной возродиш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потом с каждым днем становиться сильне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Кожемяк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Результаты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341360"/>
          <a:ext cx="8229600" cy="5184720"/>
        </p:xfrm>
        <a:graphic>
          <a:graphicData uri="http://schemas.openxmlformats.org/drawingml/2006/table">
            <a:tbl>
              <a:tblPr/>
              <a:tblGrid>
                <a:gridCol w="1378080"/>
                <a:gridCol w="3744720"/>
                <a:gridCol w="310680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ческое собы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ные памя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Х в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ьба за сферы влияния Франции, Англии, Германии, России. Духовный кризи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а критического реализма (Куприн А. И., Бунин И. А…);литература соц. реализма (М. Горький); модернистское искусство (символисты, акмеисты, футуристы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4-0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о-японск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Н. Толстой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Андре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5-07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. Горький, политическая ли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4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я миров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 Есенин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274680"/>
          <a:ext cx="8893080" cy="6175440"/>
        </p:xfrm>
        <a:graphic>
          <a:graphicData uri="http://schemas.openxmlformats.org/drawingml/2006/table">
            <a:tbl>
              <a:tblPr/>
              <a:tblGrid>
                <a:gridCol w="1722240"/>
                <a:gridCol w="3737160"/>
                <a:gridCol w="343368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8-20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жданская война, политика военного коммун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, 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40-х г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ительство нового госуда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41-4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кая отечественн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оенная поэзия и проз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е 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ттепель», «Замороз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еревенская проза», «молодежная проза», «шестидесятни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. 70-х -н. 80-х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Засто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Андеграунд», СМОГ, диссид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765000"/>
          <a:ext cx="8229600" cy="3170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5 – 91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ерестрой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ая эпоха-внутренняя своб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Цой, И. Тальков, Б. Гребенщик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нее десятиле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р, надежда, экономика, вой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отив тупика и катастроф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Распутин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 Астафьев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. Айтмат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Цели и задачи исследовани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события истории и освещение их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помнить осно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ческие события ХХ века и показать, как они отражены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ользова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ительным методом и видеть предмет изучения в цел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любовь к отечеству через изучение памятных страниц исто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j0149407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4658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Вывод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вадцатом удивительном столет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стившись на избран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я показала всей планет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гений и злодейство совмест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Список использованных источник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  Русская литература ХХ века. Очерки. Портреты. Эссе. Кн. Для учащихся 11 кл. средней школы: В 2 ч./ Под. Ред. Ф. Ф. Кузнецова. – М.: Просвещение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  Русская литература ХХ века. 11 класс: Поурочные разработки. Методические рекомендации для учителя /. В. Агеносов, Э. Л. Безносов и др. – М.: Дрофа,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   Серебряный век русской поэзии. Для учащихся старших классов и любителей поэзии / Сост. К. Ф. Нестерова. – М.: ИМА – Кросс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//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phite. h1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Гипотеза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978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Если бы русские писатели и поэ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отвернулись от человека в то время, когда Россию захлестывала стихия жестокости, то произошла бы деградац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Ход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основные исторические события ХХ века по информационным источника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ли литературные памятники данного пери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оставили произведения литературы с соответствующими событиями истор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идейное содержание памятников поэзии и прозы ХХ 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бщили полученную информацию и сделали вывод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Начало ХХ века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рьба за сферы влияния Франции,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глии, Германии, России. Духовный кризи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итического реализма; модернистское искусс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 Медузы, лик гроз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ал над далью темных дн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ор - кровавый, взор - гор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а - сплетенья зм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алерий Брю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4-05годы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усско-японск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. Н. Толстой статья «Одумайтесь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ут впервые  я  почувствовал  это.  Я  ясно увиде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 эти  люди, молчаливо шагающие в солнеч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ке, омертвевшие  от  усталости  и  зн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ающиеся и падающие, что это безумные. Они 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ют, куда они идут, они не знают, зачем это солнц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ничего не знают. У них не голова на  плечах,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ные и страшные шар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5-07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русская революц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. Горький «Мать», «Жизнь Клима Самгина»; политическая       лир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у ночь до рассвета мелькала иголк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шивали мы полосы красного ш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ищем длинным, прямы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сшили кровавое знамя своб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будем хранить его долгие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мы не расстанемся с ни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. Тэфф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4-18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-я миров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 было равнодуш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 мне всю душу изъ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чей-то чужой интер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елял я в мне близкое т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рудью на брата ле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. Есенин «Анна Снег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7 год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-я русская революци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ого героизм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на горе всем буржу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раздуе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в кров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пода, благослов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Блок «Двенадца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6:46:18Z</dcterms:created>
  <dc:creator>user</dc:creator>
  <dc:description/>
  <dc:language>en-US</dc:language>
  <cp:lastModifiedBy>Татьяна</cp:lastModifiedBy>
  <dcterms:modified xsi:type="dcterms:W3CDTF">2010-09-16T05:29:47Z</dcterms:modified>
  <cp:revision>13</cp:revision>
  <dc:subject/>
  <dc:title>Общая характеристика истории и литературы ХХ века  Литература— “очевидец истории”?  </dc:title>
</cp:coreProperties>
</file>