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2577-088D-4B26-A1BF-65E54CEC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E3E9-0088-49DB-B90C-F22ED84D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44036-104A-4BE4-BC1A-8A9ACEF7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4634-090E-4067-A8AB-8A39F048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93E7-1622-4215-8267-43D6AE46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2DD8-B0C2-4887-8B8A-A3D70521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08A5-5CE5-4451-BB86-D520975B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6368-DF89-4101-8320-DF596A8A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7C7D-2BEF-4B97-80E5-81DBD7A7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BD92-DD25-4BDC-9E0C-E9EEE0EA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480D-D29E-4A0F-898C-3932CE74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CCD6-5A9D-41A0-8075-8FA59895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9719-FDD4-4EA3-AFA2-61520C7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45E9-0454-49BB-9609-2B9493A0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95A4-02DC-406A-8718-8AB1793A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1172-4A29-470D-814A-D962884B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2554-460B-4D07-84B8-A1CE9A6D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5B05-9059-40C7-9215-E56D65F9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694E-F2CD-451F-B38E-54DEA54B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32FF-648A-482F-A105-ABDF2E3E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1324-E142-4746-8F9B-2A1B7B42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9AA5-63EE-49AC-BEDA-8D33CF48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C9CB-0C5A-4947-9A7B-81860AFF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4D09-6694-49F4-A962-39F1F46B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E87A-9104-4575-8867-FD11D694F3C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E49A-3FD6-4430-8941-25AD180DDCC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198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Общая характеристика истории и литературы ХХ века</a:t>
            </a: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2560" y="2928960"/>
            <a:ext cx="47862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—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чевидец истории”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j0217698"/>
          <p:cNvPicPr/>
          <p:nvPr/>
        </p:nvPicPr>
        <p:blipFill>
          <a:blip r:embed="rId1"/>
          <a:stretch/>
        </p:blipFill>
        <p:spPr>
          <a:xfrm>
            <a:off x="5148360" y="2357280"/>
            <a:ext cx="3168720" cy="33037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18-20гг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ская война, военный коммунизм.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революционный героизм», эмигрантская, советска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Дай мне, бабка, зелий приворотны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дцу песен прежних, беззаботных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дыха глаз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илый внучек, рада б, да не в сила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лья те цветут не по лес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в сырых могил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. Бун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До 40-х годов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троительство нового государ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эмигрантская, советска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й, где на монетах -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лодость мо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й России -- н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- Как и той ме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. Цветае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41-45гг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ликая Отечественная вой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енная поэзия и про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я называю по привыч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их друзей заветных име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на этой странной переклич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е отвечает только тиши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. Ахмат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60-е годы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оттепель», «заморозки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деревенская проза», «шестидесятник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туация ошарашив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у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озможно молча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о нам научить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раши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тем более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ча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Р. Рождествен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конец 70-х -начало 80-х годов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застой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андеграунд», СМОГ, диссиден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работали верховные ножницы, остригая от пространства нашей духовной жизни строчку за строчкой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и затыкали рты, выкручивали руки, резали рукописи, смывали картины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. Веллер «Дети победителе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85 – 91 годы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«перестройк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овая эпоха - внутренняя свобод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-нибудь, в час неясный и со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ова проснуться - в глазах обла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ет этот ча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я уйду вместе с солнц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рогой, ведущей в зака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. Гребенщ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Последнее десятилетие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ир, надежда, экономика, вой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мотив тупика и катастрофы»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когда и нигде ничего я не видел красив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х рвущихся в высь, этих гордо горящих огней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 ведь выдержишь все и весной возродиш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потом с каждым днем становиться сильней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льн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. Кожемяк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cc"/>
                </a:solidFill>
                <a:uFillTx/>
                <a:latin typeface="Tahoma"/>
              </a:rPr>
              <a:t>Результаты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341360"/>
          <a:ext cx="8229600" cy="5184720"/>
        </p:xfrm>
        <a:graphic>
          <a:graphicData uri="http://schemas.openxmlformats.org/drawingml/2006/table">
            <a:tbl>
              <a:tblPr/>
              <a:tblGrid>
                <a:gridCol w="1378080"/>
                <a:gridCol w="3744720"/>
                <a:gridCol w="310680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ческое событ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тературные памятн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ча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Х ве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рьба за сферы влияния Франции, Англии, Германии, России. Духовный кризи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тература критического реализма (Куприн А. И., Бунин И. А…);литература соц. реализма (М. Горький); модернистское искусство (символисты, акмеисты, футуристы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4-05г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сско-японская вой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. Н. Толстой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. Андре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5-07г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русская револю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. Горький, политическая ли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4-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я мировая вой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. Есенин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50920" y="274680"/>
          <a:ext cx="8893080" cy="6175440"/>
        </p:xfrm>
        <a:graphic>
          <a:graphicData uri="http://schemas.openxmlformats.org/drawingml/2006/table">
            <a:tbl>
              <a:tblPr/>
              <a:tblGrid>
                <a:gridCol w="1722240"/>
                <a:gridCol w="3737160"/>
                <a:gridCol w="343368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я русская револю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революционный героизм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8-20г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ажданская война, политика военного коммун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революционный героизм», эмигрантская лит-ра, советская лит-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40-х г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оительство нового госуда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мигрантская лит-ра, советская лит-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41-45г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кая отечественная вой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Военная поэзия и проз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-е г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Оттепель», «Заморозки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Деревенская проза», «молодежная проза», «шестидесятники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. 70-х -н. 80-х г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Засто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Андеграунд», СМОГ, диссид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39640" y="765000"/>
          <a:ext cx="8229600" cy="3170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85 – 91 г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ерестройк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вая эпоха-внутренняя своб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. Цой, И. Тальков, Б. Гребенщиков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леднее десятиле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р, надежда, экономика, войн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Мотив тупика и катастрофы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. Распутин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. Астафьев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. Айтматов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cc"/>
                </a:solidFill>
                <a:uFillTx/>
                <a:latin typeface="Tahoma"/>
              </a:rPr>
              <a:t>Цели и задачи исследовани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события истории и освещение их в литерату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помнить основн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рические события ХХ века и показать, как они отражены в литерату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пользова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поставительным методом и видеть предмет изучения в цел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ывать любовь к отечеству через изучение памятных страниц исто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8" descr="j0149407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4658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cc"/>
                </a:solidFill>
                <a:uFillTx/>
                <a:latin typeface="Tahoma"/>
              </a:rPr>
              <a:t>Вывод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вадцатом удивительном столеть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стившись на избранни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иму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я показала всей планет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гений и злодейство совмести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cc"/>
                </a:solidFill>
                <a:uFillTx/>
                <a:latin typeface="Tahoma"/>
              </a:rPr>
              <a:t>Список использованных источник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  Русская литература ХХ века. Очерки. Портреты. Эссе. Кн. Для учащихся 11 кл. средней школы: В 2 ч./ Под. Ред. Ф. Ф. Кузнецова. – М.: Просвещение, 199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  Русская литература ХХ века. 11 класс: Поурочные разработки. Методические рекомендации для учителя /. В. Агеносов, Э. Л. Безносов и др. – М.: Дрофа, 200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   Серебряный век русской поэзии. Для учащихся старших классов и любителей поэзии / Сост. К. Ф. Нестерова. – М.: ИМА – Кросс, 199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//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aphite. h1.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cc"/>
                </a:solidFill>
                <a:uFillTx/>
                <a:latin typeface="Tahoma"/>
              </a:rPr>
              <a:t>Гипотеза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79786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ntiqua-Bold"/>
              </a:rPr>
              <a:t>Если бы русские писатели и поэ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ntiqua-Bold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ntiqua-Bold"/>
              </a:rPr>
              <a:t>отвернулись от человека в то время, когда Россию захлестывала стихия жестокости, то произошла бы деградация ли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cc"/>
                </a:solidFill>
                <a:uFillTx/>
                <a:latin typeface="Tahoma"/>
              </a:rPr>
              <a:t>Ход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анализировали основные исторические события ХХ века по информационным источника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ли литературные памятники данного перио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поставили произведения литературы с соответствующими событиями истор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анализировали идейное содержание памятников поэзии и прозы ХХ 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бщили полученную информацию и сделали выводы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Начало ХХ века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орьба за сферы влияния Франции,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глии, Германии, России. Духовный кризи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итического реализма; модернистское искусств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к Медузы, лик грозящ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ал над далью темных дне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ор - кровавый, взор - горящ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оса - сплетенья зм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алерий Брю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04-05годы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русско-японская вой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Л. Н. Толстой статья «Одумайтесь»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. Андреев «Красный смех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ут впервые  я  почувствовал  это.  Я  ясно увиде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 эти  люди, молчаливо шагающие в солнеч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еске, омертвевшие  от  усталости  и  зно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ающиеся и падающие, что это безумные. Они 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ют, куда они идут, они не знают, зачем это солнц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ничего не знают. У них не голова на  плечах, 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анные и страшные шары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. Андреев «Красный смех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            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05-07годы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русская революц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. Горький «Мать», «Жизнь Клима Самгина»; политическая       лир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у ночь до рассвета мелькала иголк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шивали мы полосы красного шел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тнищем длинным, прямы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сшили кровавое знамя свобо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будем хранить его долгие го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мы не расстанемся с ним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. Тэфф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14-18 годы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1-я мировая вой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е было равнодуш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йна мне всю душу изъ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чей-то чужой интер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елял я в мне близкое те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грудью на брата ле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. Есенин «Анна Снегин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17 год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2-я русская революция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революционного героизм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на горе всем буржуя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овой пожар раздуе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овой пожар в кров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пода, благослов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. Блок «Двенадцат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6:46:18Z</dcterms:created>
  <dc:creator>user</dc:creator>
  <dc:description/>
  <dc:language>en-US</dc:language>
  <cp:lastModifiedBy>Татьяна</cp:lastModifiedBy>
  <dcterms:modified xsi:type="dcterms:W3CDTF">2010-09-16T05:29:47Z</dcterms:modified>
  <cp:revision>13</cp:revision>
  <dc:subject/>
  <dc:title>Общая характеристика истории и литературы ХХ века  Литература— “очевидец истории”?  </dc:title>
</cp:coreProperties>
</file>