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AD28-EDDD-4D2D-B9F3-3EBEC994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AE75-EBDF-4FB2-90A4-4872ADB0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1163-8CFB-43EB-B856-15E1A25C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9070-6D4B-4192-BA60-D6067A3E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8469-CE05-4AD2-A936-647E99A5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7A21-EFB0-4FCA-99BF-8A906748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629-0628-4031-9D28-3A48EF1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EA32-7757-42F2-8DBF-0E289A5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747-610F-4B7D-9C27-86BE849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F3D8-06EE-48EE-A7D8-53B3307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3D07-0539-4E68-8218-00BB277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823C-B578-471D-8CB4-B4323024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C14B-B251-4334-8DFA-D97F1A8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3AE-FD32-4EED-87B9-595E796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CB7E-368E-479D-B3C9-143FC20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330-51D7-4759-88B9-97D96DB8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380-08EC-4644-88FE-9BE2E9EB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5E00-DCBD-49C0-8289-84FA7A6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E825-839B-4CCD-AB4F-CBADE35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1E0F-A803-4C71-8251-B240A441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D256-1365-43C0-8BA6-5499F63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E08C-947B-4F8E-A826-D887618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129F-E771-40F1-B2B4-94702F6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EEE5-104D-4780-B156-5CF509E8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4835-72F7-443B-80A7-D76B7156BCE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F2BD-78FF-4581-B970-E7F47B0CD5C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98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Общая характеристика истории и литературы ХХ века</a:t>
            </a:r>
            <a:br>
              <a:rPr sz="3200"/>
            </a:br>
            <a:r>
              <a:rPr b="1" i="1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2560" y="2928960"/>
            <a:ext cx="47862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—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чевидец истории”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j0217698"/>
          <p:cNvPicPr/>
          <p:nvPr/>
        </p:nvPicPr>
        <p:blipFill>
          <a:blip r:embed="rId1"/>
          <a:stretch/>
        </p:blipFill>
        <p:spPr>
          <a:xfrm>
            <a:off x="5148360" y="2357280"/>
            <a:ext cx="3168720" cy="33037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8-20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ская война, военный коммунизм.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ый героизм»,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Дай мне, бабка, зелий приворот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дцу песен прежних, беззаботных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дыха глаз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Милый внучек, рада б, да не в сила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ья те цветут не по лес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в сырых могил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. Бу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До 4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троительство нового государ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эмигрантская, советск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, где на монетах -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одость м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й России -- н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- Как и той ме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Цветае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41-45гг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ликая Отечественная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енная поэзия и пр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я называю по привы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их друзей заветных име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на этой странной переклич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е отвечает только тиш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Ахмат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60-е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оттепель», «заморозки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деревенская проза», «шестидесятни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 ошарашив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у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возможно мол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о нам научить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раши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тем более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ч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Р. Рождестве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конец 70-х -начало 80-х годов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застой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андеграунд», СМОГ, диссидент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работали верховные ножницы, остригая от пространства нашей духовной жизни строчку за строчкой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и затыкали рты, выкручивали руки, резали рукописи, смывали картин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. Веллер «Дети победителе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85 – 91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«перестройк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вая эпоха - внутренняя свобода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-нибудь, в час неясный и с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ова проснуться - в глазах обла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ет этот ч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я уйду вместе с солнц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рогой, ведущей в зак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. Гребенщ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Последнее десятилетие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ир, надежда, экономика, вой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мотив тупика и катастрофы»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огда и нигде ничего я не видел красив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х рвущихся в высь, этих гордо горящих огней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ведь выдержишь все и весной возродиш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си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потом с каждым днем становиться сильней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льн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Кожемяк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Результаты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341360"/>
          <a:ext cx="8229600" cy="5184720"/>
        </p:xfrm>
        <a:graphic>
          <a:graphicData uri="http://schemas.openxmlformats.org/drawingml/2006/table">
            <a:tbl>
              <a:tblPr/>
              <a:tblGrid>
                <a:gridCol w="1378080"/>
                <a:gridCol w="3744720"/>
                <a:gridCol w="310680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ческое событ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ные памя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ча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Х в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ьба за сферы влияния Франции, Англии, Германии, России. Духовный кризи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тература критического реализма (Куприн А. И., Бунин И. А…);литература соц. реализма (М. Горький); модернистское искусство (символисты, акмеисты, футуристы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4-0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о-японск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Н. Толстой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. Андре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5-07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. Горький, политическая ли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4-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я миров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. Есенин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274680"/>
          <a:ext cx="8893080" cy="6175440"/>
        </p:xfrm>
        <a:graphic>
          <a:graphicData uri="http://schemas.openxmlformats.org/drawingml/2006/table">
            <a:tbl>
              <a:tblPr/>
              <a:tblGrid>
                <a:gridCol w="1722240"/>
                <a:gridCol w="3737160"/>
                <a:gridCol w="343368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я русская револю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8-20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ажданская война, политика военного коммун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еволюционный героизм», 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40-х го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оительство нового государ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мигрантская лит-ра, советская лит-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41-45г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кая отечественн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Военная поэзия и проз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е 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Оттепель», «Замороз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Деревенская проза», «молодежная проза», «шестидесятники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. 70-х -н. 80-х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Засто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Андеграунд», СМОГ, диссид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39640" y="765000"/>
          <a:ext cx="8229600" cy="3170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85 – 91 г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Перестройк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вая эпоха-внутренняя своб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Цой, И. Тальков, Б. Гребенщик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леднее десятилет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р, надежда, экономика, вой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Мотив тупика и катастрофы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. Распутин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. Астафьев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. Айтматов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Цели и задачи исследования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события истории и освещение их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помнить основ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ческие события ХХ века и показать, как они отражены в литерату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меть пользова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поставительным методом и видеть предмет изучения в цел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ывать любовь к отечеству через изучение памятных страниц исто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j0149407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4658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Выводы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вадцатом удивительном столет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стившись на избран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сия показала всей планет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гений и злодейство совмест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Список использованных источник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  Русская литература ХХ века. Очерки. Портреты. Эссе. Кн. Для учащихся 11 кл. средней школы: В 2 ч./ Под. Ред. Ф. Ф. Кузнецова. – М.: Просвещение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  Русская литература ХХ века. 11 класс: Поурочные разработки. Методические рекомендации для учителя /. В. Агеносов, Э. Л. Безносов и др. – М.: Дрофа,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   Серебряный век русской поэзии. Для учащихся старших классов и любителей поэзии / Сост. К. Ф. Нестерова. – М.: ИМА – Кросс, 199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//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aphite. h1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Гипотеза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7978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Если бы русские писатели и поэ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ntiqua-Bold"/>
              </a:rPr>
              <a:t>отвернулись от человека в то время, когда Россию захлестывала стихия жестокости, то произошла бы деградац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cc"/>
                </a:solidFill>
                <a:uFillTx/>
                <a:latin typeface="Tahoma"/>
              </a:rPr>
              <a:t>Ход исследова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основные исторические события ХХ века по информационным источника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или литературные памятники данного перио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оставили произведения литературы с соответствующими событиями истор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ли идейное содержание памятников поэзии и прозы ХХ ве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бщили полученную информацию и сделали выводы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Начало ХХ века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орьба за сферы влияния Франции,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глии, Германии, России. Духовный кризи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итического реализма; модернистское искусств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 Медузы, лик гроз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ал над далью темных дн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зор - кровавый, взор - горящ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а - сплетенья зм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алерий Брюс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4-05годы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усско-японск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. Н. Толстой статья «Одумайтесь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ут впервые  я  почувствовал  это.  Я  ясно увиде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 эти  люди, молчаливо шагающие в солнеч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ке, омертвевшие  от  усталости  и  зн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ающиеся и падающие, что это безумные. Они 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ют, куда они идут, они не знают, зачем это солнц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ничего не знают. У них не голова на  плечах, 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анные и страшные шар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 Андреев «Красный смех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      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05-07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русская революц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. Горький «Мать», «Жизнь Клима Самгина»; политическая       лир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у ночь до рассвета мелькала иголк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шивали мы полосы красного шел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ищем длинным, прямы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сшили кровавое знамя своб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будем хранить его долгие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мы не расстанемся с ни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. Тэфф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4-18 годы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1-я мировая во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 было равнодуш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йна мне всю душу изъ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чей-то чужой интер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елял я в мне близкое те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грудью на брата ле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. Есенин «Анна Снег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17 год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рическое событи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-я русская революци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итерату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«революционного героизм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на горе всем буржу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раздуе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вой пожар в кров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пода, благослов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. Блок «Двенадцать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6:46:18Z</dcterms:created>
  <dc:creator>user</dc:creator>
  <dc:description/>
  <dc:language>en-US</dc:language>
  <cp:lastModifiedBy>Татьяна</cp:lastModifiedBy>
  <dcterms:modified xsi:type="dcterms:W3CDTF">2010-09-16T05:29:47Z</dcterms:modified>
  <cp:revision>13</cp:revision>
  <dc:subject/>
  <dc:title>Общая характеристика истории и литературы ХХ века  Литература— “очевидец истории”?  </dc:title>
</cp:coreProperties>
</file>