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8FB-984D-45AD-855A-6C1C341B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0B0-7479-43C4-896B-F2551CA1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273-B0D2-4FC1-9E1F-8A35A81D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3CE-5C3B-444F-92FF-9762BC6A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61D-CEBF-459C-97CF-DC9FA077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B0A-2DB6-458F-8C93-0DE3E2E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EB3-3161-432F-84E6-752701D9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B90-33DC-4521-8400-224FEB9C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CF9-A3ED-40B7-88AE-11F0F8CE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0D5-26CA-4EFC-A965-97E3377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B04-FAB5-492B-935D-139347A3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409-6E96-4D7A-A059-8ACDEB16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EBE0-885A-4936-95D8-2C72299B04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dmuseumart.ru/images/self/mashkov_naturmor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ceo.az/images/Ceo/Drive/art_1106_2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ugomir.ru/_mod_files/ce_images/skyi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.i.ua/oboi/pic/7/0/99807_0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rusart.ru/base/painting/001/photo/001_012_3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1/niku62.0/0_f5ff_79441fea_X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afield.org.ua/ist/img/soph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narion.h11.ru/anry/www/gal/005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stina.rin.ru/ezoterika/pict/1531_snr10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rthodox-expo.ru/archiv08/grs/egg35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adar2004.narod.ru/katalog/147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s52.radikal.ru/i136/0903/2e/1773faf932d0.jpg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204640"/>
            <a:ext cx="626256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Monotype Corsiva"/>
              </a:rPr>
              <a:t>Живопись</a:t>
            </a:r>
            <a:endParaRPr b="0" lang="en-US" sz="8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4581360"/>
            <a:ext cx="5400720" cy="2016360"/>
          </a:xfrm>
          <a:custGeom>
            <a:avLst/>
            <a:gdLst>
              <a:gd name="textAreaLeft" fmla="*/ 1350000 w 5400720"/>
              <a:gd name="textAreaRight" fmla="*/ 4050720 w 5400720"/>
              <a:gd name="textAreaTop" fmla="*/ 252000 h 2016360"/>
              <a:gd name="textAreaBottom" fmla="*/ 201672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ff006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втор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шнарен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ександ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си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333360"/>
            <a:ext cx="5472360" cy="100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99"/>
              </a:gs>
              <a:gs pos="50000">
                <a:srgbClr val="ff0066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Мугу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6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44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189000"/>
            <a:ext cx="4859280" cy="382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26 из 12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115920"/>
            <a:ext cx="395280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08000" y="4338720"/>
            <a:ext cx="5329440" cy="2519280"/>
          </a:xfrm>
          <a:prstGeom prst="cloudCallout">
            <a:avLst>
              <a:gd name="adj1" fmla="val -6300"/>
              <a:gd name="adj2" fmla="val -73564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Modern No. 20"/>
              </a:rPr>
              <a:t>Живопись вид изобразительного искусства художественные произведения которые создаются с помощью красок наносимых на какуюлибо твёрдую поверхность</a:t>
            </a:r>
            <a:r>
              <a:rPr b="1" i="1" lang="ru-RU" sz="1800" spc="-1" strike="noStrike">
                <a:solidFill>
                  <a:srgbClr val="ffffff"/>
                </a:solidFill>
                <a:latin typeface="Matura MT Script Capital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560" y="2276640"/>
            <a:ext cx="6805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         </a:t>
            </a:r>
            <a:r>
              <a:rPr b="1" i="1" lang="en-US" sz="2400" spc="-1" strike="noStrike">
                <a:solidFill>
                  <a:srgbClr val="ffffff"/>
                </a:solidFill>
                <a:latin typeface="Blackadder ITC"/>
              </a:rPr>
              <a:t>Живопись — вид изобразительного искусства, связанный с передачей зрительных образов нанесением красок на твёрдые или гибкие тканевые поверхности, а также произведения искусства, создаваемые таким способом. Классическая академическая живопись использует краски, холст или бумагу для рисования образов. Русское слово живопись указывает на реализм этого искусства в эпоху барокко, когда в России начали писать картины в западном стиле, преимущественно масляными красками. В иконописи употребляется глагол «писать», так же как в греческом язы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33360"/>
            <a:ext cx="7128000" cy="1285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скусство живопис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1773360"/>
            <a:ext cx="83026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монументально-декоративная живопись (стенные росписи, плафоны, панно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станковая живопись (картин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екорационная живопись (театральные и кинодекорации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екоративная роспись предметов обиход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иконопис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миниатюра (иллюстрирование рукописей, портрет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диора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odern No. 20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dern No. 20"/>
              </a:rPr>
              <a:t>панора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260280"/>
            <a:ext cx="6480000" cy="1143000"/>
          </a:xfrm>
          <a:prstGeom prst="horizontalScroll">
            <a:avLst>
              <a:gd name="adj" fmla="val 1805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dern No. 20"/>
              </a:rPr>
              <a:t>Виды живо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Blackadder ITC"/>
              </a:rPr>
              <a:t>Эзотерическая живопис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i="1" lang="ru-RU" sz="2000" spc="-1" strike="noStrike">
                <a:solidFill>
                  <a:srgbClr val="ffff66"/>
                </a:solidFill>
                <a:latin typeface="Matura MT Script Capitals"/>
              </a:rPr>
              <a:t>Термин ЭЗОТЕРИЗМ (восходит к греческому ezoterikoj - "внутренний"). Эзотерики, мистики благодаря непосредственному переживанию познают глубочайшие истины. Предполагается, что им удается напрямую прикоснуться к сокровенным тайнам Вселенной и человека не вследствие слепой веры, а посредством собственного опы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Картинка 35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1125360"/>
            <a:ext cx="4224240" cy="446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47 из 1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34000" y="1773360"/>
            <a:ext cx="4410000" cy="330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4 из 1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2997360"/>
            <a:ext cx="4537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Эзотерик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Картинка 81 из 1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60280"/>
            <a:ext cx="4105440" cy="302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82 из 1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500280"/>
            <a:ext cx="4105440" cy="3143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100 из 1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1197000"/>
            <a:ext cx="410544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Картинка 136 из 13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4292640"/>
            <a:ext cx="4000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Modern No. 20"/>
              </a:rPr>
              <a:t>Лаковая живопись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367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odern No. 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odern No. 20"/>
              </a:rPr>
              <a:t>В России изделия с лаковой живописью начали изготовлять в конце XVIII в. Первоначально производством изделий лаковой миниатюры занимались в селе Данилове близ Москвы. Затем оно переселилось в соседнее село Федоскино. В начале XIX в. неподалеку от Федоскино в деревне Жостово появились первые расписные подносы. С тех пор производство изделий с лаковой живописью распространялось по всей России. Миниатюрная лаковая живопись возникла в Палехе и Холуе (Ивановская область), в Мстере (Владимирская). Ранее эта живопись славилась в этих местах как иконописн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Картинка 3 из 3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268280"/>
            <a:ext cx="3240000" cy="396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4 из 3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91120" y="198900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1 из 3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1280" y="3473280"/>
            <a:ext cx="2266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1 из 234"/>
          <p:cNvPicPr/>
          <p:nvPr/>
        </p:nvPicPr>
        <p:blipFill>
          <a:blip r:embed="rId1"/>
          <a:stretch/>
        </p:blipFill>
        <p:spPr>
          <a:xfrm>
            <a:off x="971640" y="11592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Картинка 21 из 234"/>
          <p:cNvPicPr/>
          <p:nvPr/>
        </p:nvPicPr>
        <p:blipFill>
          <a:blip r:embed="rId2"/>
          <a:stretch/>
        </p:blipFill>
        <p:spPr>
          <a:xfrm>
            <a:off x="468360" y="3213000"/>
            <a:ext cx="3673440" cy="352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Картинка 12 из 234"/>
          <p:cNvPicPr/>
          <p:nvPr/>
        </p:nvPicPr>
        <p:blipFill>
          <a:blip r:embed="rId3"/>
          <a:stretch/>
        </p:blipFill>
        <p:spPr>
          <a:xfrm>
            <a:off x="4427640" y="3500280"/>
            <a:ext cx="441144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211640" y="476280"/>
            <a:ext cx="48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аковая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пись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Картинка 20 из 1143"/>
          <p:cNvPicPr/>
          <p:nvPr/>
        </p:nvPicPr>
        <p:blipFill>
          <a:blip r:embed="rId1"/>
          <a:stretch/>
        </p:blipFill>
        <p:spPr>
          <a:xfrm>
            <a:off x="1763640" y="2205000"/>
            <a:ext cx="6048360" cy="409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189000"/>
            <a:ext cx="6626160" cy="1295280"/>
          </a:xfrm>
          <a:prstGeom prst="horizontalScroll">
            <a:avLst>
              <a:gd name="adj" fmla="val 12500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dern No. 20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01:30:36Z</dcterms:created>
  <dc:creator>net00</dc:creator>
  <dc:description/>
  <dc:language>en-US</dc:language>
  <cp:lastModifiedBy>MSHOME</cp:lastModifiedBy>
  <dcterms:modified xsi:type="dcterms:W3CDTF">2010-06-11T03:40:50Z</dcterms:modified>
  <cp:revision>11</cp:revision>
  <dc:subject/>
  <dc:title>Живопись</dc:title>
</cp:coreProperties>
</file>