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B09-C7E5-4B35-BD31-AE91ED3B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395-69B5-4B11-AFD0-8D0D350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6EC-346F-42CA-9D65-B63396F3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491-4DCA-4753-A5B0-D30E032E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8A9-B1F0-4363-8FF3-431ACA4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8E2-7665-4A08-95FF-B2874B78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DAF-741D-4D67-B293-3D66AF2C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E86-4443-4CAB-93FA-5121EE2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FAF-EFE9-4760-8D9C-0E241F3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113-0956-4402-96C4-F42D43B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B79-1D34-457C-A9D2-5EC543D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9F1-860B-4EC4-91C4-AD80BC0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FC2-12C2-4147-BCE3-1D5963E34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museumart.ru/images/self/mashkov_naturmor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eo.az/images/Ceo/Drive/art_1106_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ugomir.ru/_mod_files/ce_images/skyi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.i.ua/oboi/pic/7/0/99807_0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rusart.ru/base/painting/001/photo/001_012_3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1/niku62.0/0_f5ff_79441fea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field.org.ua/ist/img/soph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arion.h11.ru/anry/www/gal/005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stina.rin.ru/ezoterika/pict/1531_snr10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thodox-expo.ru/archiv08/grs/egg35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dar2004.narod.ru/katalog/147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52.radikal.ru/i136/0903/2e/1773faf932d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04640"/>
            <a:ext cx="626256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Живопись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4581360"/>
            <a:ext cx="5400720" cy="2016360"/>
          </a:xfrm>
          <a:custGeom>
            <a:avLst/>
            <a:gdLst>
              <a:gd name="textAreaLeft" fmla="*/ 1350000 w 5400720"/>
              <a:gd name="textAreaRight" fmla="*/ 4050720 w 5400720"/>
              <a:gd name="textAreaTop" fmla="*/ 25200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шнар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анд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333360"/>
            <a:ext cx="547236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Мугу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44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89000"/>
            <a:ext cx="4859280" cy="38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26 из 12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15920"/>
            <a:ext cx="395280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8000" y="4338720"/>
            <a:ext cx="5329440" cy="2519280"/>
          </a:xfrm>
          <a:prstGeom prst="cloudCallout">
            <a:avLst>
              <a:gd name="adj1" fmla="val -6300"/>
              <a:gd name="adj2" fmla="val -73564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Modern No. 20"/>
              </a:rPr>
              <a:t>Живопись вид изобразительного искусства художественные произведения которые создаются с помощью красок наносимых на какуюлибо твёрдую поверхность</a:t>
            </a:r>
            <a:r>
              <a:rPr b="1" i="1" lang="ru-RU" sz="1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2276640"/>
            <a:ext cx="68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Живопись — вид изобразительного искусства, связанный с передачей зрительных образов нанесением красок на твёрдые или гибкие тканевые поверхности, а также произведения искусства, создаваемые таким способом. Классическая академическая живопись использует краски, холст или бумагу для рисования образов. Русское слово живопись указывает на реализм этого искусства в эпоху барокко, когда в России начали писать картины в западном стиле, преимущественно масляными красками. В иконописи употребляется глагол «писать», так же как в греческом язы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33360"/>
            <a:ext cx="712800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кусство живопи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онументально-декоративная живопись (стенные росписи, плафоны, панно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станковая живопись (картин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ционная живопись (театральные и кинодекорации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тивная роспись предметов обих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иконопис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иниатюра (иллюстрирование рукописей, портр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иора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панор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60280"/>
            <a:ext cx="6480000" cy="1143000"/>
          </a:xfrm>
          <a:prstGeom prst="horizontalScroll">
            <a:avLst>
              <a:gd name="adj" fmla="val 1805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dern No. 20"/>
              </a:rPr>
              <a:t>Виды жив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Blackadder ITC"/>
              </a:rPr>
              <a:t>Эзотерическая живопис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Matura MT Script Capitals"/>
              </a:rPr>
              <a:t>Термин ЭЗОТЕРИЗМ (восходит к греческому ezoterikoj - "внутренний"). Эзотерики, мистики благодаря непосредственному переживанию познают глубочайшие истины. Предполагается, что им удается напрямую прикоснуться к сокровенным тайнам Вселенной и человека не вследствие слепой веры, а посредством собствен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Картинка 35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125360"/>
            <a:ext cx="4224240" cy="446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47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34000" y="1773360"/>
            <a:ext cx="4410000" cy="33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4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2997360"/>
            <a:ext cx="4537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Эзотер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Картинка 8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60280"/>
            <a:ext cx="410544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82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00280"/>
            <a:ext cx="4105440" cy="3143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100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197000"/>
            <a:ext cx="410544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136 из 1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292640"/>
            <a:ext cx="4000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Modern No. 20"/>
              </a:rPr>
              <a:t>Лаковая живопись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367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dern No. 20"/>
              </a:rPr>
              <a:t>В России изделия с лаковой живописью начали изготовлять в конце XVIII в. Первоначально производством изделий лаковой миниатюры занимались в селе Данилове близ Москвы. Затем оно переселилось в соседнее село Федоскино. В начале XIX в. неподалеку от Федоскино в деревне Жостово появились первые расписные подносы. С тех пор производство изделий с лаковой живописью распространялось по всей России. Миниатюрная лаковая живопись возникла в Палехе и Холуе (Ивановская область), в Мстере (Владимирская). Ранее эта живопись славилась в этих местах как иконописн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Картинка 3 из 3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268280"/>
            <a:ext cx="3240000" cy="396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4 из 3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91120" y="198900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1 из 3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3473280"/>
            <a:ext cx="2266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1 из 234"/>
          <p:cNvPicPr/>
          <p:nvPr/>
        </p:nvPicPr>
        <p:blipFill>
          <a:blip r:embed="rId1"/>
          <a:stretch/>
        </p:blipFill>
        <p:spPr>
          <a:xfrm>
            <a:off x="971640" y="11592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21 из 234"/>
          <p:cNvPicPr/>
          <p:nvPr/>
        </p:nvPicPr>
        <p:blipFill>
          <a:blip r:embed="rId2"/>
          <a:stretch/>
        </p:blipFill>
        <p:spPr>
          <a:xfrm>
            <a:off x="468360" y="3213000"/>
            <a:ext cx="3673440" cy="35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12 из 234"/>
          <p:cNvPicPr/>
          <p:nvPr/>
        </p:nvPicPr>
        <p:blipFill>
          <a:blip r:embed="rId3"/>
          <a:stretch/>
        </p:blipFill>
        <p:spPr>
          <a:xfrm>
            <a:off x="4427640" y="3500280"/>
            <a:ext cx="441144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11640" y="47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аковая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пись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Картинка 20 из 1143"/>
          <p:cNvPicPr/>
          <p:nvPr/>
        </p:nvPicPr>
        <p:blipFill>
          <a:blip r:embed="rId1"/>
          <a:stretch/>
        </p:blipFill>
        <p:spPr>
          <a:xfrm>
            <a:off x="1763640" y="2205000"/>
            <a:ext cx="6048360" cy="40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89000"/>
            <a:ext cx="6626160" cy="129528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dern No. 20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1:30:36Z</dcterms:created>
  <dc:creator>net00</dc:creator>
  <dc:description/>
  <dc:language>en-US</dc:language>
  <cp:lastModifiedBy>MSHOME</cp:lastModifiedBy>
  <dcterms:modified xsi:type="dcterms:W3CDTF">2010-06-11T03:40:50Z</dcterms:modified>
  <cp:revision>11</cp:revision>
  <dc:subject/>
  <dc:title>Живопись</dc:title>
</cp:coreProperties>
</file>