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097C-18DB-41D4-85A0-FC2C74E824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8A97-909B-4E9A-A095-9187ADDC47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AD7B-CB55-4DF2-BE7E-AF3F7EB5E4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11E7-3041-4AC0-9D7A-0678089793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0A5E-A813-4225-94D9-DA35C409A6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FD3C-2EF4-4A69-AD28-1606EC4B57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04F2-111D-4B91-9F1B-04CCA2B7C3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B48F-FC9B-45B3-BC0D-6B8E004C29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A3C9-BF24-44F6-BCA2-D7D8C2003C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5C16-277E-4D52-95CE-9B592D38AE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4AF3-2230-48F7-9612-27BA8B9C33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1AC3-2D39-4794-A10D-6DAEE7852A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8B8A-37DD-4DB8-B3A5-B1BB964A87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1509-9590-4944-A0DB-FFC95BB974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F8D8-CE98-4C66-88B6-AAF67F7096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197E-0CFC-4B8B-A4A3-C738B1A958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383C-1918-44B6-A4A0-FBECEA6E66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4FE8-43C0-43A5-9F12-7FFBFD99BE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A372-F91F-425F-8321-11603900F2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1A6E-9987-4D9D-B034-DAAAABF305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7A0A-E130-4D21-A62C-C3175318B1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B69-C571-4AC3-B982-13B3337E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BCC-342A-4F56-91AD-05396865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4B7-A8F8-4FDC-B04D-8E096BF4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51B-45F4-4613-94DF-59235314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EC5-E410-4453-820E-FA8033C2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2D5-F043-4122-A8EF-EAC68CF4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08A-BF00-4E77-A811-77F481C8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2B6-86F3-4CDE-85B3-156BDD1E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073-1B7D-4BD1-B08C-1E2A2046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99D-2CD8-4698-AB5F-5E2318AA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291-C3B2-45C0-B7EA-63E4A5AD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496-4A0B-42F1-9D7C-EB6A80C6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052D-D71E-4113-B744-CEEB84F2A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9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ехника прыжка в длину с разбег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Прыжок в длину &quot;Прогнувшись&quot;"/>
          <p:cNvPicPr/>
          <p:nvPr/>
        </p:nvPicPr>
        <p:blipFill>
          <a:blip r:embed="rId1"/>
          <a:stretch/>
        </p:blipFill>
        <p:spPr>
          <a:xfrm>
            <a:off x="642960" y="1214280"/>
            <a:ext cx="8104320" cy="4929480"/>
          </a:xfrm>
          <a:prstGeom prst="rect">
            <a:avLst/>
          </a:prstGeom>
          <a:ln w="0">
            <a:noFill/>
          </a:ln>
        </p:spPr>
      </p:pic>
      <p:sp>
        <p:nvSpPr>
          <p:cNvPr id="70" name="Управляющая кнопка: назад 4">
            <a:hlinkClick r:id="rId2" action="ppaction://hlinksldjump"/>
          </p:cNvPr>
          <p:cNvSpPr/>
          <p:nvPr/>
        </p:nvSpPr>
        <p:spPr>
          <a:xfrm>
            <a:off x="7429680" y="6143760"/>
            <a:ext cx="1000080" cy="714240"/>
          </a:xfrm>
          <a:custGeom>
            <a:avLst/>
            <a:gdLst>
              <a:gd name="textAreaLeft" fmla="*/ 46080 w 1000080"/>
              <a:gd name="textAreaRight" fmla="*/ 954000 w 100008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30240" h="21600">
                <a:moveTo>
                  <a:pt x="0" y="0"/>
                </a:moveTo>
                <a:lnTo>
                  <a:pt x="30240" y="0"/>
                </a:lnTo>
                <a:lnTo>
                  <a:pt x="30240" y="21600"/>
                </a:lnTo>
                <a:lnTo>
                  <a:pt x="0" y="21600"/>
                </a:lnTo>
                <a:close/>
              </a:path>
              <a:path fill="lightenLess" w="30240" h="21600">
                <a:moveTo>
                  <a:pt x="0" y="0"/>
                </a:moveTo>
                <a:lnTo>
                  <a:pt x="30240" y="0"/>
                </a:lnTo>
                <a:lnTo>
                  <a:pt x="28840" y="1400"/>
                </a:lnTo>
                <a:lnTo>
                  <a:pt x="1400" y="1400"/>
                </a:lnTo>
                <a:close/>
              </a:path>
              <a:path fill="darken" w="30240" h="21600">
                <a:moveTo>
                  <a:pt x="30240" y="0"/>
                </a:moveTo>
                <a:lnTo>
                  <a:pt x="30240" y="21600"/>
                </a:lnTo>
                <a:lnTo>
                  <a:pt x="28840" y="20200"/>
                </a:lnTo>
                <a:lnTo>
                  <a:pt x="28840" y="1400"/>
                </a:lnTo>
                <a:close/>
              </a:path>
              <a:path fill="darkenLess" w="30240" h="21600">
                <a:moveTo>
                  <a:pt x="30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0" y="20200"/>
                </a:lnTo>
                <a:close/>
              </a:path>
              <a:path fill="lighten" w="30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0" h="21600">
                <a:moveTo>
                  <a:pt x="8114" y="10800"/>
                </a:moveTo>
                <a:lnTo>
                  <a:pt x="22126" y="3794"/>
                </a:lnTo>
                <a:lnTo>
                  <a:pt x="22126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ехника выполнения прыжк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азбег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талкивание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лет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иземление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азбе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981080"/>
            <a:ext cx="7815240" cy="30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збег в прыжках в длину служит для создания оптимальной скорости прыгуна. Скорость разбега в этом виде в наибольшей степени приближается к максимальной скорости, которую может развить спортсмен, в отличие от других видов прыжков. Длина разбега и количество беговых шагов зависят от индивидуальных особенностей спортсмена и его физической подготовленности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азбе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ачало разбега может быть различным. В основном спортсмены используют следующие варианты: с места и с подхода (или подбега), а также с постепенным набором скорости и резким (спринтерским) началом. Начало разбега имеет важное значение, так как задает тон и ритм разбега. Надо приучать спортсмена к стандартному началу разбега и не менять его без предварительной подготовки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Управляющая кнопка: назад 3"/>
          <p:cNvSpPr/>
          <p:nvPr/>
        </p:nvSpPr>
        <p:spPr>
          <a:xfrm>
            <a:off x="7429680" y="5643720"/>
            <a:ext cx="928440" cy="714240"/>
          </a:xfrm>
          <a:custGeom>
            <a:avLst/>
            <a:gdLst>
              <a:gd name="textAreaLeft" fmla="*/ 46080 w 928440"/>
              <a:gd name="textAreaRight" fmla="*/ 882360 w 9284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8075" h="21600">
                <a:moveTo>
                  <a:pt x="0" y="0"/>
                </a:moveTo>
                <a:lnTo>
                  <a:pt x="28075" y="0"/>
                </a:lnTo>
                <a:lnTo>
                  <a:pt x="28075" y="21600"/>
                </a:lnTo>
                <a:lnTo>
                  <a:pt x="0" y="21600"/>
                </a:lnTo>
                <a:close/>
              </a:path>
              <a:path fill="lightenLess" w="28075" h="21600">
                <a:moveTo>
                  <a:pt x="0" y="0"/>
                </a:moveTo>
                <a:lnTo>
                  <a:pt x="28075" y="0"/>
                </a:lnTo>
                <a:lnTo>
                  <a:pt x="26675" y="1400"/>
                </a:lnTo>
                <a:lnTo>
                  <a:pt x="1400" y="1400"/>
                </a:lnTo>
                <a:close/>
              </a:path>
              <a:path fill="darken" w="28075" h="21600">
                <a:moveTo>
                  <a:pt x="28075" y="0"/>
                </a:moveTo>
                <a:lnTo>
                  <a:pt x="28075" y="21600"/>
                </a:lnTo>
                <a:lnTo>
                  <a:pt x="26675" y="20200"/>
                </a:lnTo>
                <a:lnTo>
                  <a:pt x="26675" y="1400"/>
                </a:lnTo>
                <a:close/>
              </a:path>
              <a:path fill="darkenLess" w="28075" h="21600">
                <a:moveTo>
                  <a:pt x="28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5" y="20200"/>
                </a:lnTo>
                <a:close/>
              </a:path>
              <a:path fill="lighten" w="28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5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тталкива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Эта часть прыжка начинается с момента постановки ноги на место отталкивания. Нога ставится на всю стопу с акцентом на внешний свод, некоторые спортсмены ставят ногу с пятки. В обоих случаях возможно некоторое скольжение стопы вперед на 2 — 5 см, особенно это наблюдается при постановке ноги с пятки, так как на ней нет шипов и она может скользить вперед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тталкива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птимальный угол постановки толчковой ноги — около 70°, Нога слегка сгибается в коленном суставе. Начинающим прыгунам и спортсменам с недостаточным развитием силы ног не рекомендуется искусственно сгибать ногу в колене, так как прыгун может не справиться с воздействующими на него силами реакции опоры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Управляющая кнопка: назад 4"/>
          <p:cNvSpPr/>
          <p:nvPr/>
        </p:nvSpPr>
        <p:spPr>
          <a:xfrm>
            <a:off x="7572240" y="5857920"/>
            <a:ext cx="928800" cy="785880"/>
          </a:xfrm>
          <a:custGeom>
            <a:avLst/>
            <a:gdLst>
              <a:gd name="textAreaLeft" fmla="*/ 50760 w 928800"/>
              <a:gd name="textAreaRight" fmla="*/ 878040 w 92880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5526" h="21600">
                <a:moveTo>
                  <a:pt x="0" y="0"/>
                </a:moveTo>
                <a:lnTo>
                  <a:pt x="25526" y="0"/>
                </a:lnTo>
                <a:lnTo>
                  <a:pt x="25526" y="21600"/>
                </a:lnTo>
                <a:lnTo>
                  <a:pt x="0" y="21600"/>
                </a:lnTo>
                <a:close/>
              </a:path>
              <a:path fill="lightenLess" w="25526" h="21600">
                <a:moveTo>
                  <a:pt x="0" y="0"/>
                </a:moveTo>
                <a:lnTo>
                  <a:pt x="25526" y="0"/>
                </a:lnTo>
                <a:lnTo>
                  <a:pt x="24126" y="1400"/>
                </a:lnTo>
                <a:lnTo>
                  <a:pt x="1400" y="1400"/>
                </a:lnTo>
                <a:close/>
              </a:path>
              <a:path fill="darken" w="25526" h="21600">
                <a:moveTo>
                  <a:pt x="25526" y="0"/>
                </a:moveTo>
                <a:lnTo>
                  <a:pt x="25526" y="21600"/>
                </a:lnTo>
                <a:lnTo>
                  <a:pt x="24126" y="20200"/>
                </a:lnTo>
                <a:lnTo>
                  <a:pt x="24126" y="1400"/>
                </a:lnTo>
                <a:close/>
              </a:path>
              <a:path fill="darkenLess" w="25526" h="21600">
                <a:moveTo>
                  <a:pt x="25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6" y="20200"/>
                </a:lnTo>
                <a:close/>
              </a:path>
              <a:path fill="lighten" w="25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6" h="21600">
                <a:moveTo>
                  <a:pt x="5757" y="10800"/>
                </a:moveTo>
                <a:lnTo>
                  <a:pt x="19770" y="3794"/>
                </a:lnTo>
                <a:lnTo>
                  <a:pt x="19770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оле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осле отрыва тела прыгуна от места отталкивания начинается полетная фаза, где все движения подчинены сохранению равновесия и созданию оптимальных условий для приземления. Отталкивание придает ОЦМ траекторию движения, определяющуюся величиной начальной скорости вылета тела прыгуна, углом вылета и высотой вылета. Ведущие прыгуны мира достигают начальной скорости примерно 9,4—9,8 м/с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оле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злет во всех способах прыжков в основном одинаков. Он представляет собой полет в шаге. После отталкивания толчковая нога некоторое время остается сзади почти прямая, маховая нога согнута в тазобедренном суставе до уровня горизонта, голень согнута в коленном суставе под прямым углом с бедром маховой ноги. Туловище слегка наклонено вперед. Рука, противоположная маховой ноге, слегка согнута в локтевом суставе и находится впереди на уровне головы, другая рука полусогнутая отведена назад. Голова держится ровно, плечи расслаблены. Противоположные движения рук и ног с довольно широкой амплитудой и свободой движений компенсируют вращательный момент вокруг вертикальной оси тела после завершения отталкивания. Далее выполняются движения, соответствующие стилю избранного прыжка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Управляющая кнопка: назад 3"/>
          <p:cNvSpPr/>
          <p:nvPr/>
        </p:nvSpPr>
        <p:spPr>
          <a:xfrm>
            <a:off x="8001000" y="6000840"/>
            <a:ext cx="857160" cy="642960"/>
          </a:xfrm>
          <a:custGeom>
            <a:avLst/>
            <a:gdLst>
              <a:gd name="textAreaLeft" fmla="*/ 41400 w 857160"/>
              <a:gd name="textAreaRight" fmla="*/ 815760 w 8571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8792" h="21600">
                <a:moveTo>
                  <a:pt x="0" y="0"/>
                </a:moveTo>
                <a:lnTo>
                  <a:pt x="28792" y="0"/>
                </a:lnTo>
                <a:lnTo>
                  <a:pt x="28792" y="21600"/>
                </a:lnTo>
                <a:lnTo>
                  <a:pt x="0" y="21600"/>
                </a:lnTo>
                <a:close/>
              </a:path>
              <a:path fill="lightenLess" w="28792" h="21600">
                <a:moveTo>
                  <a:pt x="0" y="0"/>
                </a:moveTo>
                <a:lnTo>
                  <a:pt x="28792" y="0"/>
                </a:lnTo>
                <a:lnTo>
                  <a:pt x="27392" y="1400"/>
                </a:lnTo>
                <a:lnTo>
                  <a:pt x="1400" y="1400"/>
                </a:lnTo>
                <a:close/>
              </a:path>
              <a:path fill="darken" w="28792" h="21600">
                <a:moveTo>
                  <a:pt x="28792" y="0"/>
                </a:moveTo>
                <a:lnTo>
                  <a:pt x="28792" y="21600"/>
                </a:lnTo>
                <a:lnTo>
                  <a:pt x="27392" y="20200"/>
                </a:lnTo>
                <a:lnTo>
                  <a:pt x="27392" y="1400"/>
                </a:lnTo>
                <a:close/>
              </a:path>
              <a:path fill="darkenLess" w="28792" h="21600">
                <a:moveTo>
                  <a:pt x="2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2" y="20200"/>
                </a:lnTo>
                <a:close/>
              </a:path>
              <a:path fill="lighten" w="2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2" h="21600">
                <a:moveTo>
                  <a:pt x="7389" y="10800"/>
                </a:moveTo>
                <a:lnTo>
                  <a:pt x="21402" y="3794"/>
                </a:lnTo>
                <a:lnTo>
                  <a:pt x="21402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иземле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42960" y="157140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Times New Roman"/>
              </a:rPr>
              <a:t>Эта заключительная часть прыжка имеет большое значение для его дальности. Подготовка к приземлению начинается в последней части полета, когда тело прыгуна опускается до высоты его во время отталкивания. Прыгун выпрямляет ноги в коленных суставах, плечи уходят вперед, руки, чуть согнутые в локтевых суставах, отводятся как можно дальше назад. Для эффективности приземления надо удерживать ноги так, чтобы их продольная ось была под более острым углом к поверхности приземления.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иземле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Содержимое 3" descr="Прыжок в длину - приземление"/>
          <p:cNvPicPr/>
          <p:nvPr/>
        </p:nvPicPr>
        <p:blipFill>
          <a:blip r:embed="rId1"/>
          <a:stretch/>
        </p:blipFill>
        <p:spPr>
          <a:xfrm>
            <a:off x="928800" y="192888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назад 4"/>
          <p:cNvSpPr/>
          <p:nvPr/>
        </p:nvSpPr>
        <p:spPr>
          <a:xfrm>
            <a:off x="7858080" y="1000080"/>
            <a:ext cx="857160" cy="642960"/>
          </a:xfrm>
          <a:custGeom>
            <a:avLst/>
            <a:gdLst>
              <a:gd name="textAreaLeft" fmla="*/ 41400 w 857160"/>
              <a:gd name="textAreaRight" fmla="*/ 815760 w 8571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8792" h="21600">
                <a:moveTo>
                  <a:pt x="0" y="0"/>
                </a:moveTo>
                <a:lnTo>
                  <a:pt x="28792" y="0"/>
                </a:lnTo>
                <a:lnTo>
                  <a:pt x="28792" y="21600"/>
                </a:lnTo>
                <a:lnTo>
                  <a:pt x="0" y="21600"/>
                </a:lnTo>
                <a:close/>
              </a:path>
              <a:path fill="lightenLess" w="28792" h="21600">
                <a:moveTo>
                  <a:pt x="0" y="0"/>
                </a:moveTo>
                <a:lnTo>
                  <a:pt x="28792" y="0"/>
                </a:lnTo>
                <a:lnTo>
                  <a:pt x="27392" y="1400"/>
                </a:lnTo>
                <a:lnTo>
                  <a:pt x="1400" y="1400"/>
                </a:lnTo>
                <a:close/>
              </a:path>
              <a:path fill="darken" w="28792" h="21600">
                <a:moveTo>
                  <a:pt x="28792" y="0"/>
                </a:moveTo>
                <a:lnTo>
                  <a:pt x="28792" y="21600"/>
                </a:lnTo>
                <a:lnTo>
                  <a:pt x="27392" y="20200"/>
                </a:lnTo>
                <a:lnTo>
                  <a:pt x="27392" y="1400"/>
                </a:lnTo>
                <a:close/>
              </a:path>
              <a:path fill="darkenLess" w="28792" h="21600">
                <a:moveTo>
                  <a:pt x="2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2" y="20200"/>
                </a:lnTo>
                <a:close/>
              </a:path>
              <a:path fill="lighten" w="2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2" h="21600">
                <a:moveTo>
                  <a:pt x="7389" y="10800"/>
                </a:moveTo>
                <a:lnTo>
                  <a:pt x="21402" y="3794"/>
                </a:lnTo>
                <a:lnTo>
                  <a:pt x="21402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стор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660096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ыжки в длину с разбега входили в состав пентатлона еще в Древней Греции. Историки не могут точно сказать, как проводился этот вид спорта, но известно, что древние атлеты прыгали с гантелями в руках, отталкиваясь от твердого грунта, и приземлялись на мягкую, взрыхленную землю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Picture 2" descr="Файл:Athlete jumping MAR Palermo NI2135.jpg"/>
          <p:cNvPicPr/>
          <p:nvPr/>
        </p:nvPicPr>
        <p:blipFill>
          <a:blip r:embed="rId1"/>
          <a:stretch/>
        </p:blipFill>
        <p:spPr>
          <a:xfrm>
            <a:off x="7215120" y="3214800"/>
            <a:ext cx="1928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сок использованной литературы: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Жилкин А.И. и др. Легкая атлетика: Учеб. пособие для студ. высш. пед. учеб. заведений / А.И. Жилкин, В.С. Кузьмин, Е.В. Сидорчук. — М.: Издательский центр «Академия», 2003. 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стория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ревнования по прыжкам в длину стали проводиться с началом возрождения легкой атлетики. В 1860 г. этот вид был включен в программу ежегодных «больших игр» Оксфордского университета в Англии. Первый зарегистрированный рекорд был равен 5,95 м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ехники прыжко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уществуют три способа прыжков –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«согнув ноги»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«прогнувшись»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«ножницы»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56" name="Прямая со стрелкой 4"/>
          <p:cNvCxnSpPr/>
          <p:nvPr/>
        </p:nvCxnSpPr>
        <p:spPr>
          <a:xfrm flipH="1">
            <a:off x="1999800" y="2642760"/>
            <a:ext cx="357840" cy="15008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7" name="Прямая со стрелкой 6"/>
          <p:cNvCxnSpPr/>
          <p:nvPr/>
        </p:nvCxnSpPr>
        <p:spPr>
          <a:xfrm>
            <a:off x="4213800" y="2714400"/>
            <a:ext cx="143640" cy="22150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8" name="Прямая со стрелкой 8"/>
          <p:cNvCxnSpPr/>
          <p:nvPr/>
        </p:nvCxnSpPr>
        <p:spPr>
          <a:xfrm>
            <a:off x="5715000" y="2571840"/>
            <a:ext cx="929520" cy="17150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огнув ног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424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ростейшая техника, известная ещё с XIX века и знакомая спортсменам-любителям с уроков физкультуры — это прыжок «в шаге» или «согнув ноги». После отталкивания толчковая нога через сторону присоединяется к маховой и плечи отводятся немного назад. Хотя это элементарный вариант прыжка, но им пользуются атлеты высокого уровня и в XXI веке. Так английский легкоатлет Кристофер Томлинсон, который имеет в активе прыжок на 8,35 м (рекорд Великобритании), прыгает «в шаге». Этим же стилем Галина Чистякова установила мировой рекорд 7,52 м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3" descr="Прыжок в длину &quot;Согнув ноги&quot;"/>
          <p:cNvPicPr/>
          <p:nvPr/>
        </p:nvPicPr>
        <p:blipFill>
          <a:blip r:embed="rId1"/>
          <a:stretch/>
        </p:blipFill>
        <p:spPr>
          <a:xfrm>
            <a:off x="500040" y="1500120"/>
            <a:ext cx="8104320" cy="457992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назад 4">
            <a:hlinkClick r:id="rId2" action="ppaction://hlinksldjump"/>
          </p:cNvPr>
          <p:cNvSpPr/>
          <p:nvPr/>
        </p:nvSpPr>
        <p:spPr>
          <a:xfrm>
            <a:off x="7786800" y="6143760"/>
            <a:ext cx="928440" cy="714240"/>
          </a:xfrm>
          <a:custGeom>
            <a:avLst/>
            <a:gdLst>
              <a:gd name="textAreaLeft" fmla="*/ 46080 w 928440"/>
              <a:gd name="textAreaRight" fmla="*/ 882360 w 9284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8075" h="21600">
                <a:moveTo>
                  <a:pt x="0" y="0"/>
                </a:moveTo>
                <a:lnTo>
                  <a:pt x="28075" y="0"/>
                </a:lnTo>
                <a:lnTo>
                  <a:pt x="28075" y="21600"/>
                </a:lnTo>
                <a:lnTo>
                  <a:pt x="0" y="21600"/>
                </a:lnTo>
                <a:close/>
              </a:path>
              <a:path fill="lightenLess" w="28075" h="21600">
                <a:moveTo>
                  <a:pt x="0" y="0"/>
                </a:moveTo>
                <a:lnTo>
                  <a:pt x="28075" y="0"/>
                </a:lnTo>
                <a:lnTo>
                  <a:pt x="26675" y="1400"/>
                </a:lnTo>
                <a:lnTo>
                  <a:pt x="1400" y="1400"/>
                </a:lnTo>
                <a:close/>
              </a:path>
              <a:path fill="darken" w="28075" h="21600">
                <a:moveTo>
                  <a:pt x="28075" y="0"/>
                </a:moveTo>
                <a:lnTo>
                  <a:pt x="28075" y="21600"/>
                </a:lnTo>
                <a:lnTo>
                  <a:pt x="26675" y="20200"/>
                </a:lnTo>
                <a:lnTo>
                  <a:pt x="26675" y="1400"/>
                </a:lnTo>
                <a:close/>
              </a:path>
              <a:path fill="darkenLess" w="28075" h="21600">
                <a:moveTo>
                  <a:pt x="28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5" y="20200"/>
                </a:lnTo>
                <a:close/>
              </a:path>
              <a:path fill="lighten" w="28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5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ожниц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«Ножницы» — наиболее сложный вариант, требующий высоких скоростно-силовых качеств спортсмена. Спортсмен в полете словно продолжает бег и делает 1,5, 2,5 или 3,5 шага ногами по воздуху. Это наиболее популярная техника у спортсменов мужчин высокого класса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тилем «ножницы», прыгнул на 8,95 в 1991 году Майк Пауэлл. Этим же стилем прыгнул на 8,90 м в Олимпийском Мехико (1968) Боб Бимон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горь Тер-Ованесян вспоминал впоследствии подробности этого прыжка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Прыжок в длину &quot;ножницы&quot;"/>
          <p:cNvPicPr/>
          <p:nvPr/>
        </p:nvPicPr>
        <p:blipFill>
          <a:blip r:embed="rId1"/>
          <a:stretch/>
        </p:blipFill>
        <p:spPr>
          <a:xfrm>
            <a:off x="785880" y="1500120"/>
            <a:ext cx="7889760" cy="450072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назад 4">
            <a:hlinkClick r:id="rId2" action="ppaction://hlinksldjump"/>
          </p:cNvPr>
          <p:cNvSpPr/>
          <p:nvPr/>
        </p:nvSpPr>
        <p:spPr>
          <a:xfrm>
            <a:off x="7500960" y="6215040"/>
            <a:ext cx="1071720" cy="642960"/>
          </a:xfrm>
          <a:custGeom>
            <a:avLst/>
            <a:gdLst>
              <a:gd name="textAreaLeft" fmla="*/ 41400 w 1071720"/>
              <a:gd name="textAreaRight" fmla="*/ 1030320 w 10717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5996" h="21600">
                <a:moveTo>
                  <a:pt x="0" y="0"/>
                </a:moveTo>
                <a:lnTo>
                  <a:pt x="35996" y="0"/>
                </a:lnTo>
                <a:lnTo>
                  <a:pt x="35996" y="21600"/>
                </a:lnTo>
                <a:lnTo>
                  <a:pt x="0" y="21600"/>
                </a:lnTo>
                <a:close/>
              </a:path>
              <a:path fill="lightenLess" w="35996" h="21600">
                <a:moveTo>
                  <a:pt x="0" y="0"/>
                </a:moveTo>
                <a:lnTo>
                  <a:pt x="35996" y="0"/>
                </a:lnTo>
                <a:lnTo>
                  <a:pt x="34596" y="1400"/>
                </a:lnTo>
                <a:lnTo>
                  <a:pt x="1400" y="1400"/>
                </a:lnTo>
                <a:close/>
              </a:path>
              <a:path fill="darken" w="35996" h="21600">
                <a:moveTo>
                  <a:pt x="35996" y="0"/>
                </a:moveTo>
                <a:lnTo>
                  <a:pt x="35996" y="21600"/>
                </a:lnTo>
                <a:lnTo>
                  <a:pt x="34596" y="20200"/>
                </a:lnTo>
                <a:lnTo>
                  <a:pt x="34596" y="1400"/>
                </a:lnTo>
                <a:close/>
              </a:path>
              <a:path fill="darkenLess" w="35996" h="21600">
                <a:moveTo>
                  <a:pt x="35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6" y="20200"/>
                </a:lnTo>
                <a:close/>
              </a:path>
              <a:path fill="lighten" w="35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6" h="21600">
                <a:moveTo>
                  <a:pt x="10992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огнувшись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«Прогнувшись» — более сложный вариант требующий большей тренированности и координации. Прыгун в полёте прогибает тело в пояснице и как бы делает паузу перед приземлением. В 1920 году эту технику впервые продемонстрировал финский прыгун Туулос. На современном этапе развития лёгкой атлетики это наиболее популярная техника у прыгуний-женщин. Этим стилем например прыгала Хайке Дрекслер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4:46:14Z</dcterms:created>
  <dc:creator>User</dc:creator>
  <dc:description/>
  <dc:language>en-US</dc:language>
  <cp:lastModifiedBy>User</cp:lastModifiedBy>
  <dcterms:modified xsi:type="dcterms:W3CDTF">2011-10-03T15:33:51Z</dcterms:modified>
  <cp:revision>5</cp:revision>
  <dc:subject/>
  <dc:title>Техника прыжка в длину с разбега</dc:title>
</cp:coreProperties>
</file>