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F1EE-A70C-4C1A-AC37-E636004432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3499-FE7A-4445-864B-7EF877ED21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6753-D43C-4BD6-9B47-73E2C2B715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58B6-7D3F-43DF-B64D-D2BA6DB217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1942-1097-4E5B-9D53-0C13E2DE95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BBAA-17CE-4A33-BBDD-6F1B6C21D4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01D1-0DE4-4048-9DB4-4ED0B41B4C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53A5-D343-425F-A095-CCC9E5115F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6BAD-1815-4BBD-A527-1E25E673A8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282D-D2D7-47DD-980E-1237A54E3E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794E-5396-49D8-AE18-17FC890658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BE64-9853-4D70-9319-2A9859F38E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E9DC-5DD2-4452-A3C1-3EA3F93B64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6FA6-8BBA-4200-8BB6-69E5BC802E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D0A0-1112-430E-84CA-A950379CB0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47BE-28D6-4726-93D5-0C7D0B89CA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C3AF-44CC-4B89-83C7-68B504A455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4975-3A08-4E88-B826-6F5965388F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90FC-CC51-4CA6-9BC7-5850707C3E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CBAD-3014-454E-B22C-CF7A5E7447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0864-5EFC-4F93-8BCB-689F18C9A8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397B-E611-4DCF-98DB-618B653B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C506-6F0B-4634-9162-3BFE958A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5AC5-C3E1-4B18-B68A-6F04DB3A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1AF3-586C-43ED-BB3F-D65A5720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D070-9C58-402E-952E-C454483D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0C89-8263-442D-82DD-36B0E1F8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EE78-C2B9-4213-9382-3D4AD3CD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2D18-12C3-45CB-8913-9D2E3966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7C2C-B166-435E-980F-9E6A23C8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221B-F312-4426-A251-FACFC7B3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52D7-9A21-4239-917A-EDC05321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B538-513A-4126-9C40-A6836869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0E66-2961-46B8-A26A-E08FE2D77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9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2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Техника прыжка в длину с разбег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Содержимое 3" descr="Прыжок в длину &quot;Прогнувшись&quot;"/>
          <p:cNvPicPr/>
          <p:nvPr/>
        </p:nvPicPr>
        <p:blipFill>
          <a:blip r:embed="rId1"/>
          <a:stretch/>
        </p:blipFill>
        <p:spPr>
          <a:xfrm>
            <a:off x="642960" y="1214280"/>
            <a:ext cx="8104320" cy="4929480"/>
          </a:xfrm>
          <a:prstGeom prst="rect">
            <a:avLst/>
          </a:prstGeom>
          <a:ln w="0">
            <a:noFill/>
          </a:ln>
        </p:spPr>
      </p:pic>
      <p:sp>
        <p:nvSpPr>
          <p:cNvPr id="70" name="Управляющая кнопка: назад 4">
            <a:hlinkClick r:id="rId2" action="ppaction://hlinksldjump"/>
          </p:cNvPr>
          <p:cNvSpPr/>
          <p:nvPr/>
        </p:nvSpPr>
        <p:spPr>
          <a:xfrm>
            <a:off x="7429680" y="6143760"/>
            <a:ext cx="1000080" cy="714240"/>
          </a:xfrm>
          <a:custGeom>
            <a:avLst/>
            <a:gdLst>
              <a:gd name="textAreaLeft" fmla="*/ 46080 w 1000080"/>
              <a:gd name="textAreaRight" fmla="*/ 954000 w 100008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30240" h="21600">
                <a:moveTo>
                  <a:pt x="0" y="0"/>
                </a:moveTo>
                <a:lnTo>
                  <a:pt x="30240" y="0"/>
                </a:lnTo>
                <a:lnTo>
                  <a:pt x="30240" y="21600"/>
                </a:lnTo>
                <a:lnTo>
                  <a:pt x="0" y="21600"/>
                </a:lnTo>
                <a:close/>
              </a:path>
              <a:path fill="lightenLess" w="30240" h="21600">
                <a:moveTo>
                  <a:pt x="0" y="0"/>
                </a:moveTo>
                <a:lnTo>
                  <a:pt x="30240" y="0"/>
                </a:lnTo>
                <a:lnTo>
                  <a:pt x="28840" y="1400"/>
                </a:lnTo>
                <a:lnTo>
                  <a:pt x="1400" y="1400"/>
                </a:lnTo>
                <a:close/>
              </a:path>
              <a:path fill="darken" w="30240" h="21600">
                <a:moveTo>
                  <a:pt x="30240" y="0"/>
                </a:moveTo>
                <a:lnTo>
                  <a:pt x="30240" y="21600"/>
                </a:lnTo>
                <a:lnTo>
                  <a:pt x="28840" y="20200"/>
                </a:lnTo>
                <a:lnTo>
                  <a:pt x="28840" y="1400"/>
                </a:lnTo>
                <a:close/>
              </a:path>
              <a:path fill="darkenLess" w="30240" h="21600">
                <a:moveTo>
                  <a:pt x="30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0" y="20200"/>
                </a:lnTo>
                <a:close/>
              </a:path>
              <a:path fill="lighten" w="30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0" h="21600">
                <a:moveTo>
                  <a:pt x="8114" y="10800"/>
                </a:moveTo>
                <a:lnTo>
                  <a:pt x="22126" y="3794"/>
                </a:lnTo>
                <a:lnTo>
                  <a:pt x="22126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Техника выполнения прыжк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Разбег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тталкивание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лет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иземление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азбе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440" y="1981080"/>
            <a:ext cx="7815240" cy="30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Разбег в прыжках в длину служит для создания оптимальной скорости прыгуна. Скорость разбега в этом виде в наибольшей степени приближается к максимальной скорости, которую может развить спортсмен, в отличие от других видов прыжков. Длина разбега и количество беговых шагов зависят от индивидуальных особенностей спортсмена и его физической подготовленности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азбе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ачало разбега может быть различным. В основном спортсмены используют следующие варианты: с места и с подхода (или подбега), а также с постепенным набором скорости и резким (спринтерским) началом. Начало разбега имеет важное значение, так как задает тон и ритм разбега. Надо приучать спортсмена к стандартному началу разбега и не менять его без предварительной подготовки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Управляющая кнопка: назад 3"/>
          <p:cNvSpPr/>
          <p:nvPr/>
        </p:nvSpPr>
        <p:spPr>
          <a:xfrm>
            <a:off x="7429680" y="5643720"/>
            <a:ext cx="928440" cy="714240"/>
          </a:xfrm>
          <a:custGeom>
            <a:avLst/>
            <a:gdLst>
              <a:gd name="textAreaLeft" fmla="*/ 46080 w 928440"/>
              <a:gd name="textAreaRight" fmla="*/ 882360 w 9284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8075" h="21600">
                <a:moveTo>
                  <a:pt x="0" y="0"/>
                </a:moveTo>
                <a:lnTo>
                  <a:pt x="28075" y="0"/>
                </a:lnTo>
                <a:lnTo>
                  <a:pt x="28075" y="21600"/>
                </a:lnTo>
                <a:lnTo>
                  <a:pt x="0" y="21600"/>
                </a:lnTo>
                <a:close/>
              </a:path>
              <a:path fill="lightenLess" w="28075" h="21600">
                <a:moveTo>
                  <a:pt x="0" y="0"/>
                </a:moveTo>
                <a:lnTo>
                  <a:pt x="28075" y="0"/>
                </a:lnTo>
                <a:lnTo>
                  <a:pt x="26675" y="1400"/>
                </a:lnTo>
                <a:lnTo>
                  <a:pt x="1400" y="1400"/>
                </a:lnTo>
                <a:close/>
              </a:path>
              <a:path fill="darken" w="28075" h="21600">
                <a:moveTo>
                  <a:pt x="28075" y="0"/>
                </a:moveTo>
                <a:lnTo>
                  <a:pt x="28075" y="21600"/>
                </a:lnTo>
                <a:lnTo>
                  <a:pt x="26675" y="20200"/>
                </a:lnTo>
                <a:lnTo>
                  <a:pt x="26675" y="1400"/>
                </a:lnTo>
                <a:close/>
              </a:path>
              <a:path fill="darkenLess" w="28075" h="21600">
                <a:moveTo>
                  <a:pt x="28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5" y="20200"/>
                </a:lnTo>
                <a:close/>
              </a:path>
              <a:path fill="lighten" w="28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5" h="21600">
                <a:moveTo>
                  <a:pt x="7031" y="10800"/>
                </a:moveTo>
                <a:lnTo>
                  <a:pt x="21044" y="3794"/>
                </a:lnTo>
                <a:lnTo>
                  <a:pt x="21044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Отталкивани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Эта часть прыжка начинается с момента постановки ноги на место отталкивания. Нога ставится на всю стопу с акцентом на внешний свод, некоторые спортсмены ставят ногу с пятки. В обоих случаях возможно некоторое скольжение стопы вперед на 2 — 5 см, особенно это наблюдается при постановке ноги с пятки, так как на ней нет шипов и она может скользить вперед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Отталкивани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Оптимальный угол постановки толчковой ноги — около 70°, Нога слегка сгибается в коленном суставе. Начинающим прыгунам и спортсменам с недостаточным развитием силы ног не рекомендуется искусственно сгибать ногу в колене, так как прыгун может не справиться с воздействующими на него силами реакции опоры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Управляющая кнопка: назад 4"/>
          <p:cNvSpPr/>
          <p:nvPr/>
        </p:nvSpPr>
        <p:spPr>
          <a:xfrm>
            <a:off x="7572240" y="5857920"/>
            <a:ext cx="928800" cy="785880"/>
          </a:xfrm>
          <a:custGeom>
            <a:avLst/>
            <a:gdLst>
              <a:gd name="textAreaLeft" fmla="*/ 50760 w 928800"/>
              <a:gd name="textAreaRight" fmla="*/ 878040 w 92880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5526" h="21600">
                <a:moveTo>
                  <a:pt x="0" y="0"/>
                </a:moveTo>
                <a:lnTo>
                  <a:pt x="25526" y="0"/>
                </a:lnTo>
                <a:lnTo>
                  <a:pt x="25526" y="21600"/>
                </a:lnTo>
                <a:lnTo>
                  <a:pt x="0" y="21600"/>
                </a:lnTo>
                <a:close/>
              </a:path>
              <a:path fill="lightenLess" w="25526" h="21600">
                <a:moveTo>
                  <a:pt x="0" y="0"/>
                </a:moveTo>
                <a:lnTo>
                  <a:pt x="25526" y="0"/>
                </a:lnTo>
                <a:lnTo>
                  <a:pt x="24126" y="1400"/>
                </a:lnTo>
                <a:lnTo>
                  <a:pt x="1400" y="1400"/>
                </a:lnTo>
                <a:close/>
              </a:path>
              <a:path fill="darken" w="25526" h="21600">
                <a:moveTo>
                  <a:pt x="25526" y="0"/>
                </a:moveTo>
                <a:lnTo>
                  <a:pt x="25526" y="21600"/>
                </a:lnTo>
                <a:lnTo>
                  <a:pt x="24126" y="20200"/>
                </a:lnTo>
                <a:lnTo>
                  <a:pt x="24126" y="1400"/>
                </a:lnTo>
                <a:close/>
              </a:path>
              <a:path fill="darkenLess" w="25526" h="21600">
                <a:moveTo>
                  <a:pt x="25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6" y="20200"/>
                </a:lnTo>
                <a:close/>
              </a:path>
              <a:path fill="lighten" w="25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6" h="21600">
                <a:moveTo>
                  <a:pt x="5757" y="10800"/>
                </a:moveTo>
                <a:lnTo>
                  <a:pt x="19770" y="3794"/>
                </a:lnTo>
                <a:lnTo>
                  <a:pt x="19770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оле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осле отрыва тела прыгуна от места отталкивания начинается полетная фаза, где все движения подчинены сохранению равновесия и созданию оптимальных условий для приземления. Отталкивание придает ОЦМ траекторию движения, определяющуюся величиной начальной скорости вылета тела прыгуна, углом вылета и высотой вылета. Ведущие прыгуны мира достигают начальной скорости примерно 9,4—9,8 м/с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оле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злет во всех способах прыжков в основном одинаков. Он представляет собой полет в шаге. После отталкивания толчковая нога некоторое время остается сзади почти прямая, маховая нога согнута в тазобедренном суставе до уровня горизонта, голень согнута в коленном суставе под прямым углом с бедром маховой ноги. Туловище слегка наклонено вперед. Рука, противоположная маховой ноге, слегка согнута в локтевом суставе и находится впереди на уровне головы, другая рука полусогнутая отведена назад. Голова держится ровно, плечи расслаблены. Противоположные движения рук и ног с довольно широкой амплитудой и свободой движений компенсируют вращательный момент вокруг вертикальной оси тела после завершения отталкивания. Далее выполняются движения, соответствующие стилю избранного прыжка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Управляющая кнопка: назад 3"/>
          <p:cNvSpPr/>
          <p:nvPr/>
        </p:nvSpPr>
        <p:spPr>
          <a:xfrm>
            <a:off x="8001000" y="6000840"/>
            <a:ext cx="857160" cy="642960"/>
          </a:xfrm>
          <a:custGeom>
            <a:avLst/>
            <a:gdLst>
              <a:gd name="textAreaLeft" fmla="*/ 41400 w 857160"/>
              <a:gd name="textAreaRight" fmla="*/ 815760 w 8571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8792" h="21600">
                <a:moveTo>
                  <a:pt x="0" y="0"/>
                </a:moveTo>
                <a:lnTo>
                  <a:pt x="28792" y="0"/>
                </a:lnTo>
                <a:lnTo>
                  <a:pt x="28792" y="21600"/>
                </a:lnTo>
                <a:lnTo>
                  <a:pt x="0" y="21600"/>
                </a:lnTo>
                <a:close/>
              </a:path>
              <a:path fill="lightenLess" w="28792" h="21600">
                <a:moveTo>
                  <a:pt x="0" y="0"/>
                </a:moveTo>
                <a:lnTo>
                  <a:pt x="28792" y="0"/>
                </a:lnTo>
                <a:lnTo>
                  <a:pt x="27392" y="1400"/>
                </a:lnTo>
                <a:lnTo>
                  <a:pt x="1400" y="1400"/>
                </a:lnTo>
                <a:close/>
              </a:path>
              <a:path fill="darken" w="28792" h="21600">
                <a:moveTo>
                  <a:pt x="28792" y="0"/>
                </a:moveTo>
                <a:lnTo>
                  <a:pt x="28792" y="21600"/>
                </a:lnTo>
                <a:lnTo>
                  <a:pt x="27392" y="20200"/>
                </a:lnTo>
                <a:lnTo>
                  <a:pt x="27392" y="1400"/>
                </a:lnTo>
                <a:close/>
              </a:path>
              <a:path fill="darkenLess" w="28792" h="21600">
                <a:moveTo>
                  <a:pt x="28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2" y="20200"/>
                </a:lnTo>
                <a:close/>
              </a:path>
              <a:path fill="lighten" w="28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2" h="21600">
                <a:moveTo>
                  <a:pt x="7389" y="10800"/>
                </a:moveTo>
                <a:lnTo>
                  <a:pt x="21402" y="3794"/>
                </a:lnTo>
                <a:lnTo>
                  <a:pt x="21402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иземлени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42960" y="157140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Times New Roman"/>
              </a:rPr>
              <a:t>Эта заключительная часть прыжка имеет большое значение для его дальности. Подготовка к приземлению начинается в последней части полета, когда тело прыгуна опускается до высоты его во время отталкивания. Прыгун выпрямляет ноги в коленных суставах, плечи уходят вперед, руки, чуть согнутые в локтевых суставах, отводятся как можно дальше назад. Для эффективности приземления надо удерживать ноги так, чтобы их продольная ось была под более острым углом к поверхности приземления.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иземлени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1" name="Содержимое 3" descr="Прыжок в длину - приземление"/>
          <p:cNvPicPr/>
          <p:nvPr/>
        </p:nvPicPr>
        <p:blipFill>
          <a:blip r:embed="rId1"/>
          <a:stretch/>
        </p:blipFill>
        <p:spPr>
          <a:xfrm>
            <a:off x="928800" y="192888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92" name="Управляющая кнопка: назад 4"/>
          <p:cNvSpPr/>
          <p:nvPr/>
        </p:nvSpPr>
        <p:spPr>
          <a:xfrm>
            <a:off x="7858080" y="1000080"/>
            <a:ext cx="857160" cy="642960"/>
          </a:xfrm>
          <a:custGeom>
            <a:avLst/>
            <a:gdLst>
              <a:gd name="textAreaLeft" fmla="*/ 41400 w 857160"/>
              <a:gd name="textAreaRight" fmla="*/ 815760 w 8571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8792" h="21600">
                <a:moveTo>
                  <a:pt x="0" y="0"/>
                </a:moveTo>
                <a:lnTo>
                  <a:pt x="28792" y="0"/>
                </a:lnTo>
                <a:lnTo>
                  <a:pt x="28792" y="21600"/>
                </a:lnTo>
                <a:lnTo>
                  <a:pt x="0" y="21600"/>
                </a:lnTo>
                <a:close/>
              </a:path>
              <a:path fill="lightenLess" w="28792" h="21600">
                <a:moveTo>
                  <a:pt x="0" y="0"/>
                </a:moveTo>
                <a:lnTo>
                  <a:pt x="28792" y="0"/>
                </a:lnTo>
                <a:lnTo>
                  <a:pt x="27392" y="1400"/>
                </a:lnTo>
                <a:lnTo>
                  <a:pt x="1400" y="1400"/>
                </a:lnTo>
                <a:close/>
              </a:path>
              <a:path fill="darken" w="28792" h="21600">
                <a:moveTo>
                  <a:pt x="28792" y="0"/>
                </a:moveTo>
                <a:lnTo>
                  <a:pt x="28792" y="21600"/>
                </a:lnTo>
                <a:lnTo>
                  <a:pt x="27392" y="20200"/>
                </a:lnTo>
                <a:lnTo>
                  <a:pt x="27392" y="1400"/>
                </a:lnTo>
                <a:close/>
              </a:path>
              <a:path fill="darkenLess" w="28792" h="21600">
                <a:moveTo>
                  <a:pt x="28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2" y="20200"/>
                </a:lnTo>
                <a:close/>
              </a:path>
              <a:path fill="lighten" w="28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2" h="21600">
                <a:moveTo>
                  <a:pt x="7389" y="10800"/>
                </a:moveTo>
                <a:lnTo>
                  <a:pt x="21402" y="3794"/>
                </a:lnTo>
                <a:lnTo>
                  <a:pt x="21402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стор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660096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рыжки в длину с разбега входили в состав пентатлона еще в Древней Греции. Историки не могут точно сказать, как проводился этот вид спорта, но известно, что древние атлеты прыгали с гантелями в руках, отталкиваясь от твердого грунта, и приземлялись на мягкую, взрыхленную землю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1" name="Picture 2" descr="Файл:Athlete jumping MAR Palermo NI2135.jpg"/>
          <p:cNvPicPr/>
          <p:nvPr/>
        </p:nvPicPr>
        <p:blipFill>
          <a:blip r:embed="rId1"/>
          <a:stretch/>
        </p:blipFill>
        <p:spPr>
          <a:xfrm>
            <a:off x="7215120" y="3214800"/>
            <a:ext cx="19288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писок использованной литературы: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Жилкин А.И. и др. Легкая атлетика: Учеб. пособие для студ. высш. пед. учеб. заведений / А.И. Жилкин, В.С. Кузьмин, Е.В. Сидорчук. — М.: Издательский центр «Академия», 2003. 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стория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оревнования по прыжкам в длину стали проводиться с началом возрождения легкой атлетики. В 1860 г. этот вид был включен в программу ежегодных «больших игр» Оксфордского университета в Англии. Первый зарегистрированный рекорд был равен 5,95 м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Техники прыжко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уществуют три способа прыжков –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«согнув ноги»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«прогнувшись»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                        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«ножницы»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56" name="Прямая со стрелкой 4"/>
          <p:cNvCxnSpPr/>
          <p:nvPr/>
        </p:nvCxnSpPr>
        <p:spPr>
          <a:xfrm flipH="1">
            <a:off x="1999800" y="2642760"/>
            <a:ext cx="357840" cy="150084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7" name="Прямая со стрелкой 6"/>
          <p:cNvCxnSpPr/>
          <p:nvPr/>
        </p:nvCxnSpPr>
        <p:spPr>
          <a:xfrm>
            <a:off x="4213800" y="2714400"/>
            <a:ext cx="143640" cy="22150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8" name="Прямая со стрелкой 8"/>
          <p:cNvCxnSpPr/>
          <p:nvPr/>
        </p:nvCxnSpPr>
        <p:spPr>
          <a:xfrm>
            <a:off x="5715000" y="2571840"/>
            <a:ext cx="929520" cy="171504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огнув ног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14240" y="164304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ростейшая техника, известная ещё с XIX века и знакомая спортсменам-любителям с уроков физкультуры — это прыжок «в шаге» или «согнув ноги». После отталкивания толчковая нога через сторону присоединяется к маховой и плечи отводятся немного назад. Хотя это элементарный вариант прыжка, но им пользуются атлеты высокого уровня и в XXI веке. Так английский легкоатлет Кристофер Томлинсон, который имеет в активе прыжок на 8,35 м (рекорд Великобритании), прыгает «в шаге». Этим же стилем Галина Чистякова установила мировой рекорд 7,52 м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Содержимое 3" descr="Прыжок в длину &quot;Согнув ноги&quot;"/>
          <p:cNvPicPr/>
          <p:nvPr/>
        </p:nvPicPr>
        <p:blipFill>
          <a:blip r:embed="rId1"/>
          <a:stretch/>
        </p:blipFill>
        <p:spPr>
          <a:xfrm>
            <a:off x="500040" y="1500120"/>
            <a:ext cx="8104320" cy="4579920"/>
          </a:xfrm>
          <a:prstGeom prst="rect">
            <a:avLst/>
          </a:prstGeom>
          <a:ln w="0">
            <a:noFill/>
          </a:ln>
        </p:spPr>
      </p:pic>
      <p:sp>
        <p:nvSpPr>
          <p:cNvPr id="62" name="Управляющая кнопка: назад 4">
            <a:hlinkClick r:id="rId2" action="ppaction://hlinksldjump"/>
          </p:cNvPr>
          <p:cNvSpPr/>
          <p:nvPr/>
        </p:nvSpPr>
        <p:spPr>
          <a:xfrm>
            <a:off x="7786800" y="6143760"/>
            <a:ext cx="928440" cy="714240"/>
          </a:xfrm>
          <a:custGeom>
            <a:avLst/>
            <a:gdLst>
              <a:gd name="textAreaLeft" fmla="*/ 46080 w 928440"/>
              <a:gd name="textAreaRight" fmla="*/ 882360 w 9284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8075" h="21600">
                <a:moveTo>
                  <a:pt x="0" y="0"/>
                </a:moveTo>
                <a:lnTo>
                  <a:pt x="28075" y="0"/>
                </a:lnTo>
                <a:lnTo>
                  <a:pt x="28075" y="21600"/>
                </a:lnTo>
                <a:lnTo>
                  <a:pt x="0" y="21600"/>
                </a:lnTo>
                <a:close/>
              </a:path>
              <a:path fill="lightenLess" w="28075" h="21600">
                <a:moveTo>
                  <a:pt x="0" y="0"/>
                </a:moveTo>
                <a:lnTo>
                  <a:pt x="28075" y="0"/>
                </a:lnTo>
                <a:lnTo>
                  <a:pt x="26675" y="1400"/>
                </a:lnTo>
                <a:lnTo>
                  <a:pt x="1400" y="1400"/>
                </a:lnTo>
                <a:close/>
              </a:path>
              <a:path fill="darken" w="28075" h="21600">
                <a:moveTo>
                  <a:pt x="28075" y="0"/>
                </a:moveTo>
                <a:lnTo>
                  <a:pt x="28075" y="21600"/>
                </a:lnTo>
                <a:lnTo>
                  <a:pt x="26675" y="20200"/>
                </a:lnTo>
                <a:lnTo>
                  <a:pt x="26675" y="1400"/>
                </a:lnTo>
                <a:close/>
              </a:path>
              <a:path fill="darkenLess" w="28075" h="21600">
                <a:moveTo>
                  <a:pt x="28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5" y="20200"/>
                </a:lnTo>
                <a:close/>
              </a:path>
              <a:path fill="lighten" w="28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5" h="21600">
                <a:moveTo>
                  <a:pt x="7031" y="10800"/>
                </a:moveTo>
                <a:lnTo>
                  <a:pt x="21044" y="3794"/>
                </a:lnTo>
                <a:lnTo>
                  <a:pt x="21044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Ножниц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«Ножницы» — наиболее сложный вариант, требующий высоких скоростно-силовых качеств спортсмена. Спортсмен в полете словно продолжает бег и делает 1,5, 2,5 или 3,5 шага ногами по воздуху. Это наиболее популярная техника у спортсменов мужчин высокого класса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тилем «ножницы», прыгнул на 8,95 в 1991 году Майк Пауэлл. Этим же стилем прыгнул на 8,90 м в Олимпийском Мехико (1968) Боб Бимон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Игорь Тер-Ованесян вспоминал впоследствии подробности этого прыжка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Прыжок в длину &quot;ножницы&quot;"/>
          <p:cNvPicPr/>
          <p:nvPr/>
        </p:nvPicPr>
        <p:blipFill>
          <a:blip r:embed="rId1"/>
          <a:stretch/>
        </p:blipFill>
        <p:spPr>
          <a:xfrm>
            <a:off x="785880" y="1500120"/>
            <a:ext cx="7889760" cy="4500720"/>
          </a:xfrm>
          <a:prstGeom prst="rect">
            <a:avLst/>
          </a:prstGeom>
          <a:ln w="0">
            <a:noFill/>
          </a:ln>
        </p:spPr>
      </p:pic>
      <p:sp>
        <p:nvSpPr>
          <p:cNvPr id="66" name="Управляющая кнопка: назад 4">
            <a:hlinkClick r:id="rId2" action="ppaction://hlinksldjump"/>
          </p:cNvPr>
          <p:cNvSpPr/>
          <p:nvPr/>
        </p:nvSpPr>
        <p:spPr>
          <a:xfrm>
            <a:off x="7500960" y="6215040"/>
            <a:ext cx="1071720" cy="642960"/>
          </a:xfrm>
          <a:custGeom>
            <a:avLst/>
            <a:gdLst>
              <a:gd name="textAreaLeft" fmla="*/ 41400 w 1071720"/>
              <a:gd name="textAreaRight" fmla="*/ 1030320 w 107172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5996" h="21600">
                <a:moveTo>
                  <a:pt x="0" y="0"/>
                </a:moveTo>
                <a:lnTo>
                  <a:pt x="35996" y="0"/>
                </a:lnTo>
                <a:lnTo>
                  <a:pt x="35996" y="21600"/>
                </a:lnTo>
                <a:lnTo>
                  <a:pt x="0" y="21600"/>
                </a:lnTo>
                <a:close/>
              </a:path>
              <a:path fill="lightenLess" w="35996" h="21600">
                <a:moveTo>
                  <a:pt x="0" y="0"/>
                </a:moveTo>
                <a:lnTo>
                  <a:pt x="35996" y="0"/>
                </a:lnTo>
                <a:lnTo>
                  <a:pt x="34596" y="1400"/>
                </a:lnTo>
                <a:lnTo>
                  <a:pt x="1400" y="1400"/>
                </a:lnTo>
                <a:close/>
              </a:path>
              <a:path fill="darken" w="35996" h="21600">
                <a:moveTo>
                  <a:pt x="35996" y="0"/>
                </a:moveTo>
                <a:lnTo>
                  <a:pt x="35996" y="21600"/>
                </a:lnTo>
                <a:lnTo>
                  <a:pt x="34596" y="20200"/>
                </a:lnTo>
                <a:lnTo>
                  <a:pt x="34596" y="1400"/>
                </a:lnTo>
                <a:close/>
              </a:path>
              <a:path fill="darkenLess" w="35996" h="21600">
                <a:moveTo>
                  <a:pt x="35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6" y="20200"/>
                </a:lnTo>
                <a:close/>
              </a:path>
              <a:path fill="lighten" w="35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6" h="21600">
                <a:moveTo>
                  <a:pt x="10992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огнувшись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«Прогнувшись» — более сложный вариант требующий большей тренированности и координации. Прыгун в полёте прогибает тело в пояснице и как бы делает паузу перед приземлением. В 1920 году эту технику впервые продемонстрировал финский прыгун Туулос. На современном этапе развития лёгкой атлетики это наиболее популярная техника у прыгуний-женщин. Этим стилем например прыгала Хайке Дрекслер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4:46:14Z</dcterms:created>
  <dc:creator>User</dc:creator>
  <dc:description/>
  <dc:language>en-US</dc:language>
  <cp:lastModifiedBy>User</cp:lastModifiedBy>
  <dcterms:modified xsi:type="dcterms:W3CDTF">2011-10-03T15:33:51Z</dcterms:modified>
  <cp:revision>5</cp:revision>
  <dc:subject/>
  <dc:title>Техника прыжка в длину с разбега</dc:title>
</cp:coreProperties>
</file>