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B45-68C0-4637-B3A1-27CA5140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AE3-EE4F-4284-BE43-A3D2D0A6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EDF-8436-4E35-A969-98B35BB1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2DD-BF09-4A48-B7B9-9998DB8F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497-AA6B-4866-9A2F-07860F8D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261-176E-4826-ABC3-821AAF3C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E08-88D3-42FB-8792-506DC5DE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946-C8D6-415B-93CD-DB0C9733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346-48B9-4209-8DA9-E00714F2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675-C883-46CB-BFDF-541C92DA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D291-8EAC-437E-A44F-BB986398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529-7925-4F30-83BE-0ECFB039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7D54-598F-48E2-96F8-8EA45FDF7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5614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99"/>
                </a:solidFill>
                <a:latin typeface="Engravers MT"/>
              </a:rPr>
              <a:t>Полуплоскост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99"/>
                </a:solidFill>
                <a:latin typeface="Engravers MT"/>
              </a:rPr>
              <a:t>Луч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99"/>
                </a:solidFill>
                <a:latin typeface="Engravers MT"/>
              </a:rPr>
              <a:t>Прям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2" descr="sait04"/>
          <p:cNvPicPr/>
          <p:nvPr/>
        </p:nvPicPr>
        <p:blipFill>
          <a:blip r:embed="rId1"/>
          <a:stretch/>
        </p:blipFill>
        <p:spPr>
          <a:xfrm>
            <a:off x="6227640" y="393372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7840" y="345600"/>
            <a:ext cx="805644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072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, Q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жат на одной прямой, причем точ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жит между точк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делайте рисунок. Сколько различных полупрямых имеют начало в данных точк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  Могут ли совпадать лучи:  а)  АВ и 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АВ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  Совпадают ли: а) отрезки 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лучи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 Могут ли совпадать: а) отрезк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 луч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МР ( точки  и Р – различн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  Разделяются ли начальной точкой две точки , принадлежа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дополнительным полупрям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одной и той же полупрямой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86920"/>
            <a:ext cx="81262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биение плоскости на две полуплос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00" y="981000"/>
            <a:ext cx="3970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«Прямая </a:t>
            </a:r>
            <a:r>
              <a:rPr b="0" i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с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разбивает плоскость на две полуплоскости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точки лежат в разных полуплоскостях, в одной полуплоско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й отрезок пересекает прямую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й отрезок не пересекается с прямой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457200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 flipH="1">
            <a:off x="1143000" y="1428840"/>
            <a:ext cx="4608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 flipH="1">
            <a:off x="539280" y="2997360"/>
            <a:ext cx="4032360" cy="172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H="1">
            <a:off x="2428560" y="2428920"/>
            <a:ext cx="115236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1116000" y="3357720"/>
            <a:ext cx="71280" cy="71280"/>
          </a:xfrm>
          <a:prstGeom prst="ellipse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6"/>
          <p:cNvSpPr/>
          <p:nvPr/>
        </p:nvSpPr>
        <p:spPr>
          <a:xfrm>
            <a:off x="2357280" y="5286240"/>
            <a:ext cx="73080" cy="71640"/>
          </a:xfrm>
          <a:prstGeom prst="ellipse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2394360" y="524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8"/>
          <p:cNvSpPr/>
          <p:nvPr/>
        </p:nvSpPr>
        <p:spPr>
          <a:xfrm>
            <a:off x="3571920" y="2357280"/>
            <a:ext cx="71280" cy="71640"/>
          </a:xfrm>
          <a:prstGeom prst="ellipse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3473640" y="2008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1168200" y="4384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1025640" y="337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2"/>
          <p:cNvSpPr/>
          <p:nvPr/>
        </p:nvSpPr>
        <p:spPr>
          <a:xfrm>
            <a:off x="1143000" y="1357200"/>
            <a:ext cx="71280" cy="7164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7560" y="170640"/>
            <a:ext cx="804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3280" y="980640"/>
            <a:ext cx="4043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« Если концы какого-нибудь отрезка принадлежат одной  полуплоскости, то отрезок … с прямой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«Если концы отрезка принадлежат разным полуплоскостям, то отрезок … с прям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 flipV="1">
            <a:off x="539640" y="3141720"/>
            <a:ext cx="4032360" cy="15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1116000" y="198900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1071720" y="378612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1071720" y="1928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3643200" y="27147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2500200" y="48578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5"/>
          <p:cNvSpPr/>
          <p:nvPr/>
        </p:nvSpPr>
        <p:spPr>
          <a:xfrm flipV="1">
            <a:off x="2559960" y="2786040"/>
            <a:ext cx="1082520" cy="208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ана прямая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три точки А, В и С. Точки А и В лежат в одной полуплоскости относительно прямой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а точка С – в другой полуплоскости. Пересекают ли прямую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резки АВ, ВС, 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ъясните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сновное свойство расположения точек относительно прямой на плоск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468360" y="404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611280" y="47628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d06210_"/>
          <p:cNvPicPr/>
          <p:nvPr/>
        </p:nvPicPr>
        <p:blipFill>
          <a:blip r:embed="rId1"/>
          <a:stretch/>
        </p:blipFill>
        <p:spPr>
          <a:xfrm>
            <a:off x="5003640" y="3429000"/>
            <a:ext cx="2438640" cy="18381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ямая разбивает плоскость на две полу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8080"/>
            <a:ext cx="813744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ая рабо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ите в тетради прям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тьте на ней точку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тьте точки В и С по разные стороны от точки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лучи с начальной точкой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тьте какую-нибудь точ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луче 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:  как расположены 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 относительно точки 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720" y="-28440"/>
            <a:ext cx="81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80" y="620640"/>
            <a:ext cx="403236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1640" y="475920"/>
            <a:ext cx="40273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Полупрямой или лучо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… прямой, которая состоит из всех точек этой прямой, лежащих …от данной ее точки. Эта точка называется … точкой полупрямой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V="1">
            <a:off x="755640" y="2636640"/>
            <a:ext cx="374508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2411280" y="3213000"/>
            <a:ext cx="73080" cy="7164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320920" y="27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02564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760920" y="22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7840" y="165240"/>
            <a:ext cx="800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836280"/>
            <a:ext cx="8218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е определение луча с определением отрезка  и отметьте сходство и различие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 flipV="1">
            <a:off x="900000" y="3429000"/>
            <a:ext cx="381636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4429080" y="514368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7000920" y="5214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8"/>
          <p:cNvSpPr/>
          <p:nvPr/>
        </p:nvSpPr>
        <p:spPr>
          <a:xfrm>
            <a:off x="2771640" y="4221000"/>
            <a:ext cx="71640" cy="71640"/>
          </a:xfrm>
          <a:prstGeom prst="ellipse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1"/>
          <p:cNvSpPr/>
          <p:nvPr/>
        </p:nvSpPr>
        <p:spPr>
          <a:xfrm>
            <a:off x="4489560" y="5203800"/>
            <a:ext cx="251136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5976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43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3280" y="765000"/>
            <a:ext cx="4043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ются ли дополнительными полупрям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АВ и 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МВ и 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АВ и 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АВ и 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В и 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68360" y="3789360"/>
            <a:ext cx="410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1692360" y="1267920"/>
            <a:ext cx="208764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826920" y="3716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1692360" y="3716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700360" y="3716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2"/>
          <p:cNvSpPr/>
          <p:nvPr/>
        </p:nvSpPr>
        <p:spPr>
          <a:xfrm>
            <a:off x="3780000" y="3716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2987640" y="2133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2826000" y="172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736920" y="32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67328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2681280" y="3232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368964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10:45Z</dcterms:created>
  <dc:creator>User</dc:creator>
  <dc:description/>
  <dc:language>en-US</dc:language>
  <cp:lastModifiedBy>Пользователь</cp:lastModifiedBy>
  <dcterms:modified xsi:type="dcterms:W3CDTF">2014-01-15T11:13:31Z</dcterms:modified>
  <cp:revision>11</cp:revision>
  <dc:subject/>
  <dc:title>Слайд 1</dc:title>
</cp:coreProperties>
</file>