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F45-2893-4FA6-BD50-0E13F159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B4E-A9B0-4EBE-B9E4-4E529CBA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6A4-AC88-4856-8F13-2A07EB83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A29-03F3-495E-A533-914BC157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B121-6A72-4695-8611-0F975606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59F3-57F2-4C70-A4A2-F7E87CD1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3491-56DB-43AB-84F0-67DD10F1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AE4C-5C41-4547-ADB2-BE9E8323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654C-0D7F-4259-A706-3DF02960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471E-A475-4A1C-8D17-E1D6C41F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7964-7702-4E9E-89B2-EC11D22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FE9-1CA7-40B6-B958-E8534DEA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D040-2D33-4DD4-8F78-DAAFC3D2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9FA3-E09D-4AB7-BA6E-F7C1FCD3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99A3-AB84-40FB-A751-5A87400D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03BB-C146-4552-BB8B-4228C84A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3AFE-4C1C-4186-8994-7DC9C1C0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C3B6-01AB-4715-8B78-408E9690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B7DB-FAA6-479D-A642-C082F8FF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CFFE-F7A0-42BA-BE02-525C8731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36656-E59C-42D9-A05C-E03DEE25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2FEF-EABF-4C3B-9635-7D01A62A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799-F56B-4E26-9FE0-5B06169F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68AD-D302-45C2-9F8A-12311CDB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DE863-3381-4753-9F27-5B07B908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805E-7038-4B0A-A00A-2957DA6C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AB94D-430D-42B1-8846-C679764A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5440-465A-4811-B67B-751FB0CC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23C8-2105-4F02-A0E5-FA5207F4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ABDDC-6AAF-4036-B612-1EBA930C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454D1-5302-4E85-BB23-A07975E3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A7A17-ADD3-4519-AE62-41554E25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1D138-F189-4878-A76F-AEC08395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712-6B01-489F-AFCB-50389AAE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70F3F-C632-4DEC-AA95-54699E7E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CB10B-CCAD-4D34-84C2-FA283E55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BB59-3261-4E85-95BD-C0D70FF9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D03F-3FB2-48CC-BDEC-ABBC8C8A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51D5-342D-47EC-9DDB-37FBDD3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C7CDB-2FC0-4E91-8C85-44F47B2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F76F0-0229-4415-A470-56FC8CB9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66F88-EC1A-409C-B5B0-F4B6C0A8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BA50-8DD5-4E3A-8D3B-3BE01891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F9D4C-96A1-438C-8A08-DE52089F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349-3A70-4B4C-AF41-9A72E5F3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96955-4B80-4333-A705-8A070712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B17A2-1023-49ED-811D-E8FEEFE2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2B7FE-A645-452D-895A-196A9B45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1E7B-2F55-4B53-BD62-84E02594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3528E-7F44-46DF-B861-6972F27F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14A1-6D30-4637-9328-D56F8948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E1E61-CB62-4173-ABD4-56B54F6D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92F1-CED5-4957-8D5D-540797A5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B5C38-E844-4CDE-B1B0-93B64E28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BBEE8-AA8F-468F-8151-53C7640A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252-82C6-477C-A725-78879CBD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8AFA3-BB9C-46CC-8239-72929634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75F-3B18-466E-A2DE-B6813B59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B83-4134-4F2C-80ED-CFA2559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A6A-BF44-4D63-8B73-9A8A21F0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4478-10FD-4831-9BF1-28BD8B8E5A8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35CD-9C25-4A37-A225-F295CA12183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14F5-DF4A-4418-8463-FAC6A92335B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B756-6470-4031-A21E-F317B4191A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391F-F35B-4E41-90F6-299917E2BD8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28840" y="40716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96464"/>
                </a:solidFill>
                <a:latin typeface="Arial"/>
              </a:rPr>
              <a:t>Совет старшеклассников ГОУ СОШ № 591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464"/>
                </a:solidFill>
                <a:latin typeface="Arial"/>
              </a:rPr>
              <a:t>Санкт-Петербург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464"/>
                </a:solidFill>
                <a:latin typeface="Arial"/>
              </a:rPr>
              <a:t>2009 год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dobe Garamond Pro Bold"/>
              </a:rPr>
              <a:t>STOP </a:t>
            </a: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СПИД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амая первая гипотеза происхождения ВИЧ связа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обезьянами. Ее высказал более 20 лет назад американский исследователь Б. Корбетт. По мнению этого ученого, ВИЧ впервые попал в кровь челове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30-х годах прошлого века от шимпанзе – возможно, при укусе животного или в процессе разделывания человеком туши. В пользу этой версии есть серьезные аргументы. Один из них – в крови шимпанзе действительно был найден редкий вирус, способный при попадании в человеческий организм вызывать состояние, похожее на СПИД. 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Содержимое 4" descr="AIDS__1.jpg"/>
          <p:cNvPicPr/>
          <p:nvPr/>
        </p:nvPicPr>
        <p:blipFill>
          <a:blip r:embed="rId1"/>
          <a:stretch/>
        </p:blipFill>
        <p:spPr>
          <a:xfrm>
            <a:off x="142920" y="1857240"/>
            <a:ext cx="4284720" cy="397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"/>
          <p:cNvSpPr txBox="1"/>
          <p:nvPr/>
        </p:nvSpPr>
        <p:spPr>
          <a:xfrm>
            <a:off x="4460400" y="1412640"/>
            <a:ext cx="46832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 мнению другого исследователя, профессора Р. Гэрри, СПИД гораздо старше: его история насчитывает от 100 до 1000 лет. Один из самых серьезных аргументов, подтверждающих эту гипотезу – саркома Капоши, описанная в начале XX века венгерским врачом Капоши как "редкая форма злокачественного новообразования", свидетельствовала о наличии у больного вируса имуннодефицита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ногие ученые считают родиной СПИДа Центральную Африку. Эта гипотеза, в свою очередь, разделяется на две версии. Согласно одной из них, ВИЧ уже давно существовал в изолированных от внешнего мира районах, например, в племенных поселениях, затерянных в джунглях. Со временем, когда миграция населения увеличилась, вирус вырвался "наружу" и начал быстро распространятьс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57120" y="5000760"/>
            <a:ext cx="842976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торая версия состоит в том, что вирус возник как следствие повышенного радиоактивного фона, который зарегистрирован в некоторых районах Африки, богатых залежами уран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Рисунок 4" descr="af_3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ЗАПОМНИ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ВИЧ не передается при бытовых контактах между людьми. Этот факт доказан научными исследованиями, медицинской практикой и многолетним опытом миллионов людей. Неповрежденная кожа является непреодолимым барьером для вируса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через рукопожатия и объятия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28440" y="2000160"/>
            <a:ext cx="37494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одержание вируса в слюне незначительно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через поцелуй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5" name="Содержимое 4" descr="поцелуй_конец_публикация.jpg"/>
          <p:cNvPicPr/>
          <p:nvPr/>
        </p:nvPicPr>
        <p:blipFill>
          <a:blip r:embed="rId1"/>
          <a:stretch/>
        </p:blipFill>
        <p:spPr>
          <a:xfrm>
            <a:off x="5143680" y="1714680"/>
            <a:ext cx="3449520" cy="35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4" descr="26170124_23841333.jpg"/>
          <p:cNvPicPr/>
          <p:nvPr/>
        </p:nvPicPr>
        <p:blipFill>
          <a:blip r:embed="rId1"/>
          <a:stretch/>
        </p:blipFill>
        <p:spPr>
          <a:xfrm>
            <a:off x="857160" y="928800"/>
            <a:ext cx="3448080" cy="517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7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Недостаточно вируса для его передачи ни в слезной жидкости, ни в пот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оч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кале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при совместном пользовани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едметами обиход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 пищеварительном тракте вирус погибает, так что, если содержащая вирус жидкость попадает в желудок человека, заражение не наступает. Поэтому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ВИЧ не передается при совместном использовании столовых приборов, посуды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9" name="Содержимое 4" descr="192477.jpg"/>
          <p:cNvPicPr/>
          <p:nvPr/>
        </p:nvPicPr>
        <p:blipFill>
          <a:blip r:embed="rId1"/>
          <a:stretch/>
        </p:blipFill>
        <p:spPr>
          <a:xfrm>
            <a:off x="5000760" y="1785960"/>
            <a:ext cx="3466800" cy="38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Содержимое 4" descr="hiv2.jpg"/>
          <p:cNvPicPr/>
          <p:nvPr/>
        </p:nvPicPr>
        <p:blipFill>
          <a:blip r:embed="rId1"/>
          <a:stretch/>
        </p:blipFill>
        <p:spPr>
          <a:xfrm>
            <a:off x="714240" y="1571760"/>
            <a:ext cx="3556080" cy="428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1" name=""/>
          <p:cNvSpPr txBox="1"/>
          <p:nvPr/>
        </p:nvSpPr>
        <p:spPr>
          <a:xfrm>
            <a:off x="4500360" y="1447920"/>
            <a:ext cx="418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ирус быстро теряет жизнеспособность при высыхании, под воздействием ультрафиолета, высокой температуры и других факторов. Поэтому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ВИЧ не передается по воздуху, при совместном пользовании мебелью, телефонной трубко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28760" y="5000400"/>
            <a:ext cx="8215200" cy="14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ВИЧ не передается через укусы насекомых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Комар не может оказаться источником инфицирования, потому что при укусе он впрыскивает человеку не кровь предыдущей жертвы, а собственную слюну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3" name="Рисунок 7" descr="culex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28840" y="40716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Проблема ВИЧ касается сегодня каждого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в том числе и тебя. Вирус не выбирает людей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по социальному положению, образу жизни и привычкам и может попасть в организм любого человек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dobe Garamond Pro Bold"/>
              </a:rPr>
              <a:t>STOP </a:t>
            </a: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СПИД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ВИЧ может передаватьс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mbria"/>
              </a:rPr>
              <a:t>От заражённого человека к здоровому только тремя путями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Cambria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при половом контакт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6" name="Содержимое 4" descr="5538900_3cd105e5fc82.jpg"/>
          <p:cNvPicPr/>
          <p:nvPr/>
        </p:nvPicPr>
        <p:blipFill>
          <a:blip r:embed="rId1"/>
          <a:stretch/>
        </p:blipFill>
        <p:spPr>
          <a:xfrm>
            <a:off x="5159520" y="1447920"/>
            <a:ext cx="329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4" descr="pereliv.jpg"/>
          <p:cNvPicPr/>
          <p:nvPr/>
        </p:nvPicPr>
        <p:blipFill>
          <a:blip r:embed="rId1"/>
          <a:stretch/>
        </p:blipFill>
        <p:spPr>
          <a:xfrm>
            <a:off x="357120" y="1357200"/>
            <a:ext cx="4543560" cy="4543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5428800" y="1785600"/>
            <a:ext cx="3429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2) с кровью или её препарата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 матери к плод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0" name="Рисунок 4" descr="28(1)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Calibri"/>
              </a:rPr>
              <a:t>Красная ленточка - история одного символ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и одно мероприятие в области СПИДа сейчас не обходится без "красной ленточки" - кусочка шелковой ленты, сложенной особым образом. Красная ленточка - международный символ борьбы со СПИДо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3" name="Содержимое 4" descr="107218_image_large.jpg"/>
          <p:cNvPicPr/>
          <p:nvPr/>
        </p:nvPicPr>
        <p:blipFill>
          <a:blip r:embed="rId1"/>
          <a:stretch/>
        </p:blipFill>
        <p:spPr>
          <a:xfrm>
            <a:off x="4643280" y="2357280"/>
            <a:ext cx="4154760" cy="276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429080" y="1447920"/>
            <a:ext cx="425448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мериканскому художнику Франку Муру было суждено войти в историю как "создателю красной ленточки". Именно так его упоминали в некрологах, когда он скончался в 2002 году в результате лимфомы - рака, связанного со СПИДом. Надо отметить, что до этого он жил с ВИЧ-инфекцией более 20 ле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01148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Простая вещь - петелька из отрезка ленты красного цвета, длиной 15 сантиметров. Ее носят, приколов булавкой к одежде. Но красная ленточка на вашей одежде - это не обычное украшение, это симво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7" name="Содержимое 7" descr="aids-ribbon.jpg"/>
          <p:cNvPicPr/>
          <p:nvPr/>
        </p:nvPicPr>
        <p:blipFill>
          <a:blip r:embed="rId1"/>
          <a:stretch/>
        </p:blipFill>
        <p:spPr>
          <a:xfrm>
            <a:off x="5380200" y="1743120"/>
            <a:ext cx="2857320" cy="398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Содержимое 4" descr="2pkv.jpg"/>
          <p:cNvPicPr/>
          <p:nvPr/>
        </p:nvPicPr>
        <p:blipFill>
          <a:blip r:embed="rId1"/>
          <a:stretch/>
        </p:blipFill>
        <p:spPr>
          <a:xfrm>
            <a:off x="914400" y="1728720"/>
            <a:ext cx="3749760" cy="401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9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осознания людьми важности проблемы СПИДа, принятый во всем мире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памяти о сотнях тысяч людей, унесенных этой жестокой болезнь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1" name="Содержимое 4" descr="aids_front_big.jpg"/>
          <p:cNvPicPr/>
          <p:nvPr/>
        </p:nvPicPr>
        <p:blipFill>
          <a:blip r:embed="rId1"/>
          <a:stretch/>
        </p:blipFill>
        <p:spPr>
          <a:xfrm>
            <a:off x="5214960" y="1643040"/>
            <a:ext cx="327672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солидарности с теми, кого эпидемия СПИДа затронула лично: с людьми, живущими с ВИЧ-инфекцией и СПИДом, с их близкими, родными и друзьям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3" name="Содержимое 6" descr="stiker_20x30_1.JPG"/>
          <p:cNvPicPr/>
          <p:nvPr/>
        </p:nvPicPr>
        <p:blipFill>
          <a:blip r:embed="rId1"/>
          <a:stretch/>
        </p:blipFill>
        <p:spPr>
          <a:xfrm>
            <a:off x="1214280" y="1071720"/>
            <a:ext cx="3592800" cy="538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надежды, что вскоре будет найдено лекарство, излечивающее от СПИДа, и вакцина, предохраняющая от зараж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5" name="Содержимое 4" descr="worldaidsday.jpg"/>
          <p:cNvPicPr/>
          <p:nvPr/>
        </p:nvPicPr>
        <p:blipFill>
          <a:blip r:embed="rId1"/>
          <a:stretch/>
        </p:blipFill>
        <p:spPr>
          <a:xfrm>
            <a:off x="4500720" y="1857240"/>
            <a:ext cx="4394160" cy="369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Что такое ВИЧ и СПИД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оворя о проблеме ВИЧ/СПИДа, люди часто упускают важную деталь: ВИЧ и СПИД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разные, пусть и  взаимосвязанные явления. Надо понимать, что СПИД – это состояние, вызываемое вирусом иммунодефицита человека (ВИЧ). Называя проблему как таковую, правильнее говорить о ВИЧ/СПИДе. И уж совсем неверно говорить о любом ВИЧ-положительном человеке, что он "болен СПИДом".  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57120" y="5072040"/>
            <a:ext cx="84297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- это символ протеста против истерии и невежества, против дискриминации и общественной изоляции людей, живущих с ВИЧ/СПИД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7" name="Содержимое 4" descr="6D5C5DAE-2485-47C7-831E-38D22F36FF78_mw800_mh600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0920" y="49417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ИД не жалеет организм, в котором он пребывает. Давайте почтим память всех тех, кто погиб от его разрушительной силы, давайте будем внимательны к людям, которых постигла эта беда. Мы знаем, что от СПИДа никто не защищен, но мы постараемся быть осторожнее и избежать его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63640" y="117360"/>
            <a:ext cx="5904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dobe Garamond Pro Bold"/>
              </a:rPr>
              <a:t>STOP </a:t>
            </a: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СПИД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42560" y="1500120"/>
            <a:ext cx="600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ИЧ – это вирус иммунодефицита человека.  Вирус живет только в организме человека и при попадании на открытый воздух погибает в течение нескольких минут. Следует отметить, что в использованных нестерилизованных шприцах вирус может сохранять жизнеспособность в течение нескольких дней за счет находящихся внутри иглы остатков крови или другой жидкост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5" name="Содержимое 5" descr="014.jpg"/>
          <p:cNvPicPr/>
          <p:nvPr/>
        </p:nvPicPr>
        <p:blipFill>
          <a:blip r:embed="rId1"/>
          <a:stretch/>
        </p:blipFill>
        <p:spPr>
          <a:xfrm>
            <a:off x="6000840" y="1928880"/>
            <a:ext cx="285732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и попадании в кровоток человека ВИЧ поражает определенную категорию клеток, имеющих на поверхности так называемые CD-4-рецепторы. К ним относятся иммунные клетки. Вирус проникает внутрь этих клеток и начинает размножаться, тем самым сокращая срок жизни лимфоцитов. Если человек не предпринимает никаких мер для борьбы с ВИЧ, то через 5-10 (иногда и до 20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иммунитет – способность организма противостоять различным болезням – начинает постепенно снижаться и развивается СПИД, синдром приобретенного иммунодефицита.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57120" y="500040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ммунная система ослабевает, то есть развивается иммунодефицит: человек оказывается уязвим для многих инфекций, наприм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Содержимое 4" descr="42315.JPE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Лечение СПИД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447560"/>
            <a:ext cx="485748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ществующие на сегодня методы лечения (высокоактивная антиретровирусная терапия, или ВААРТ) позволяют ВИЧ-положительному человеку сохранять нормальный уровень иммунной защиты, то есть предотвращают наступление стадии СПИДа на протяжении очень долгого времен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1" name="Содержимое 4" descr="13.jpg"/>
          <p:cNvPicPr/>
          <p:nvPr/>
        </p:nvPicPr>
        <p:blipFill>
          <a:blip r:embed="rId1"/>
          <a:stretch/>
        </p:blipFill>
        <p:spPr>
          <a:xfrm>
            <a:off x="5214960" y="2143080"/>
            <a:ext cx="3749760" cy="24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99680" y="1356840"/>
            <a:ext cx="82580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ПИД является обратимым состоянием: при применении антиретровирусной терапии концентрация вируса в крови уменьшается, число иммунных клеток увеличивается и состояние человека переходит в бессимптомную стадию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аким образом, лечение дает возможность ВИЧ-положительному человеку жить долгой и полноценной жизнью. Человек остается ВИЧ-положительным, но СПИД не развивается. При лечении также снижается риск передачи вируса, так как его концентрация в крови сильно уменьшается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Откуда взялся вирус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57120" y="1447920"/>
            <a:ext cx="430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днозначного ответа на этот вопрос, к сожалению, нет. Существуют только гипотезы. Каждая из них имеет свое обоснование, но в научном мире все они продолжают оставаться лишь предположениями – возможными и для кого-то весьма спорными версиями произошедшего.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Содержимое 5" descr="aids.jpg"/>
          <p:cNvPicPr/>
          <p:nvPr/>
        </p:nvPicPr>
        <p:blipFill>
          <a:blip r:embed="rId1"/>
          <a:stretch/>
        </p:blipFill>
        <p:spPr>
          <a:xfrm>
            <a:off x="4643280" y="1714680"/>
            <a:ext cx="4286520" cy="36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04:08Z</dcterms:created>
  <dc:creator>Admin</dc:creator>
  <dc:description/>
  <dc:language>en-US</dc:language>
  <cp:lastModifiedBy>Admin</cp:lastModifiedBy>
  <dcterms:modified xsi:type="dcterms:W3CDTF">2010-09-08T19:17:12Z</dcterms:modified>
  <cp:revision>27</cp:revision>
  <dc:subject/>
  <dc:title>Слайд 1</dc:title>
</cp:coreProperties>
</file>