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4.png" ContentType="image/png"/>
  <Override PartName="/ppt/media/image2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5.png" ContentType="image/pn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01E5-312C-4590-9165-3E37D1231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1E14-E8AF-4242-B775-BC79B3000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0806-1345-42BA-8FA3-A63148D27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8B47-BD60-440E-A555-568C56792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52445-FCD3-4FE1-8A68-F68DCB507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C592B-C5D0-4A21-BF7A-2BF007CDB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4755D-3799-47B1-9F76-C4A6A5384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EA1A4-6D9F-4681-842B-6B3745B5C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6C17D-22FE-4568-B9DF-793009C04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CD31A-BC3E-41CA-9CCB-46E803F41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08D97-F393-490A-8345-9B0AC258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5668-2139-4481-9551-012ADA80D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EAE15-C7D9-444A-9D40-A5D7B099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5366A-55A4-4CC9-AB07-30028945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21F22-FF3B-4AB9-A35D-0E4FD530D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F0D10-AF01-44B4-86C8-AD2FB1845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5CBDB-B5B8-429C-8E56-36147A64D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10A8B-319C-4B60-9CD6-6A438E500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AB7E5-FD70-40C2-9A9D-E5DC569E8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0E75F-26C1-4BDC-9A5B-124A5D9BC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9B393-415D-4772-9D01-00BCDF6A4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5FD6C-1F08-4618-982C-E747745CA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5005-9EA3-43DA-BA98-81ADC826B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3C6BC-27C5-4048-B99D-B1B31D22D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7D5AD-E879-4DAD-A32F-AAFEE2F9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E6231-B7C0-432D-A6EB-FEB9D6F7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79BAC-F7B6-4AFB-81AE-88D0F928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A060B-64BA-4E15-B30C-7CEF174C9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EE89B-A682-454D-8334-952928A8D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1AF8C-BE42-437E-A32D-89B7A9375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61647-3FE0-46E2-9D1E-EE0031551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61DE1-4354-483E-A47B-2A54AE2A0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82887-6CFF-42A5-BC97-259A59301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738F-938C-4C25-87C8-B262A453C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A31A5-40FC-4DC3-A347-200BAEF79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0E08E-5CEF-478E-AD46-6FCCC3482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12AEE-B038-4218-9670-9597C6A0F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7A514-13DF-4883-9606-6CAF72D0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2B40B-EB5C-4674-8A2B-09C330BB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8A370-2F6A-403F-93AE-CA0DDD90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0DE3F-3076-472F-8279-E77F2724F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1D982-B7D8-484A-A207-F0D45E150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3E632-B923-4B53-8043-48287A8E4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2CDE8-8243-4ADB-8D05-A6B67AEDE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C720-410D-4209-B567-7626066E8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9DC19-0275-4C73-A0BB-F1408CE25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779B9-8D3F-4D28-90ED-770E76847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F98A5-C010-4A54-9F55-90FDB3254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91E26-815E-471D-91E4-05F1CC669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0E9F3-51F9-4D8B-86B7-622172482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8BC60-BF7A-451B-A871-6D5F4419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82D98-8D2C-4EE9-8AAA-110F3B02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3875F-B0E8-4A5A-8016-5EB60410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F5FBB-1A83-40D3-BC5C-BB9EE0F49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46EBA-A8CE-4F86-AD1D-C6E3AD758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2B9F-3DF5-443F-97CA-8A148C65F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9D593-21F8-4872-9A22-C5B6FC765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4A68-C430-4363-9D50-B45E1727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458D-C6D8-4E7B-807B-BA598BDE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2D4A-4D93-43AD-8EE8-283C05F2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89B32-31E6-4941-82F1-49C042A1288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CC4B-EB3D-4451-9365-98CF765D12B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72185-A285-4516-97DE-22678059979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0AE30-A86F-4F47-8139-2D28D53482C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F2B76-1049-41E1-911A-8FA62426253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428840" y="407160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96464"/>
                </a:solidFill>
                <a:latin typeface="Arial"/>
              </a:rPr>
              <a:t>Совет старшеклассников ГОУ СОШ № 591</a:t>
            </a:r>
            <a:endParaRPr b="0" lang="en-US" sz="21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96464"/>
                </a:solidFill>
                <a:latin typeface="Arial"/>
              </a:rPr>
              <a:t>Санкт-Петербург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96464"/>
                </a:solidFill>
                <a:latin typeface="Arial"/>
              </a:rPr>
              <a:t>2009 год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0000"/>
                </a:solidFill>
                <a:latin typeface="Adobe Garamond Pro Bold"/>
              </a:rPr>
              <a:t>STOP </a:t>
            </a:r>
            <a:r>
              <a:rPr b="0" i="1" lang="ru-RU" sz="9600" spc="-1" strike="noStrike">
                <a:solidFill>
                  <a:srgbClr val="000000"/>
                </a:solidFill>
                <a:latin typeface="Calibri"/>
              </a:rPr>
              <a:t>СПИД</a:t>
            </a:r>
            <a:endParaRPr b="0" lang="en-US" sz="9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амая первая гипотеза происхождения ВИЧ связан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 обезьянами. Ее высказал более 20 лет назад американский исследователь Б. Корбетт. По мнению этого ученого, ВИЧ впервые попал в кровь человек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в 30-х годах прошлого века от шимпанзе – возможно, при укусе животного или в процессе разделывания человеком туши. В пользу этой версии есть серьезные аргументы. Один из них – в крови шимпанзе действительно был найден редкий вирус, способный при попадании в человеческий организм вызывать состояние, похожее на СПИД. 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Содержимое 4" descr="AIDS__1.jpg"/>
          <p:cNvPicPr/>
          <p:nvPr/>
        </p:nvPicPr>
        <p:blipFill>
          <a:blip r:embed="rId1"/>
          <a:stretch/>
        </p:blipFill>
        <p:spPr>
          <a:xfrm>
            <a:off x="142920" y="1857240"/>
            <a:ext cx="4284720" cy="3970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48" name=""/>
          <p:cNvSpPr txBox="1"/>
          <p:nvPr/>
        </p:nvSpPr>
        <p:spPr>
          <a:xfrm>
            <a:off x="4460400" y="1412640"/>
            <a:ext cx="468324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о мнению другого исследователя, профессора Р. Гэрри, СПИД гораздо старше: его история насчитывает от 100 до 1000 лет. Один из самых серьезных аргументов, подтверждающих эту гипотезу – саркома Капоши, описанная в начале XX века венгерским врачом Капоши как "редкая форма злокачественного новообразования", свидетельствовала о наличии у больного вируса имуннодефицита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Многие ученые считают родиной СПИДа Центральную Африку. Эта гипотеза, в свою очередь, разделяется на две версии. Согласно одной из них, ВИЧ уже давно существовал в изолированных от внешнего мира районах, например, в племенных поселениях, затерянных в джунглях. Со временем, когда миграция населения увеличилась, вирус вырвался "наружу" и начал быстро распространяться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357120" y="5000760"/>
            <a:ext cx="842976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Вторая версия состоит в том, что вирус возник как следствие повышенного радиоактивного фона, который зарегистрирован в некоторых районах Африки, богатых залежами урана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51" name="Рисунок 4" descr="af_3.jpg"/>
          <p:cNvPicPr/>
          <p:nvPr/>
        </p:nvPicPr>
        <p:blipFill>
          <a:blip r:embed="rId1"/>
          <a:stretch/>
        </p:blipFill>
        <p:spPr>
          <a:xfrm>
            <a:off x="60480" y="60480"/>
            <a:ext cx="90280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0000"/>
                </a:solidFill>
                <a:uFillTx/>
                <a:latin typeface="Calibri"/>
              </a:rPr>
              <a:t>ЗАПОМНИ!!!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ВИЧ не передается при бытовых контактах между людьми. Этот факт доказан научными исследованиями, медицинской практикой и многолетним опытом миллионов людей. Неповрежденная кожа является непреодолимым барьером для вируса, поэтому </a:t>
            </a:r>
            <a:r>
              <a:rPr b="1" lang="en-US" sz="2600" spc="-1" strike="noStrike">
                <a:solidFill>
                  <a:srgbClr val="000000"/>
                </a:solidFill>
                <a:latin typeface="Cambria"/>
              </a:rPr>
              <a:t>ВИЧ не передается через рукопожатия и объятия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928440" y="2000160"/>
            <a:ext cx="37494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Содержание вируса в слюне незначительно, поэтому </a:t>
            </a:r>
            <a:r>
              <a:rPr b="1" lang="en-US" sz="2600" spc="-1" strike="noStrike">
                <a:solidFill>
                  <a:srgbClr val="000000"/>
                </a:solidFill>
                <a:latin typeface="Cambria"/>
              </a:rPr>
              <a:t>ВИЧ не передается через поцелуй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55" name="Содержимое 4" descr="поцелуй_конец_публикация.jpg"/>
          <p:cNvPicPr/>
          <p:nvPr/>
        </p:nvPicPr>
        <p:blipFill>
          <a:blip r:embed="rId1"/>
          <a:stretch/>
        </p:blipFill>
        <p:spPr>
          <a:xfrm>
            <a:off x="5143680" y="1714680"/>
            <a:ext cx="3449520" cy="3519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Содержимое 4" descr="26170124_23841333.jpg"/>
          <p:cNvPicPr/>
          <p:nvPr/>
        </p:nvPicPr>
        <p:blipFill>
          <a:blip r:embed="rId1"/>
          <a:stretch/>
        </p:blipFill>
        <p:spPr>
          <a:xfrm>
            <a:off x="857160" y="928800"/>
            <a:ext cx="3448080" cy="5176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57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Недостаточно вируса для его передачи ни в слезной жидкости, ни в поту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моче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кале, поэтому </a:t>
            </a:r>
            <a:r>
              <a:rPr b="1" lang="en-US" sz="2600" spc="-1" strike="noStrike">
                <a:solidFill>
                  <a:srgbClr val="000000"/>
                </a:solidFill>
                <a:latin typeface="Cambria"/>
              </a:rPr>
              <a:t>ВИЧ не передается при совместном пользовании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редметами обихода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В пищеварительном тракте вирус погибает, так что, если содержащая вирус жидкость попадает в желудок человека, заражение не наступает. Поэтому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 ВИЧ не передается при совместном использовании столовых приборов, посуды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59" name="Содержимое 4" descr="192477.jpg"/>
          <p:cNvPicPr/>
          <p:nvPr/>
        </p:nvPicPr>
        <p:blipFill>
          <a:blip r:embed="rId1"/>
          <a:stretch/>
        </p:blipFill>
        <p:spPr>
          <a:xfrm>
            <a:off x="5000760" y="1785960"/>
            <a:ext cx="3466800" cy="3836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Содержимое 4" descr="hiv2.jpg"/>
          <p:cNvPicPr/>
          <p:nvPr/>
        </p:nvPicPr>
        <p:blipFill>
          <a:blip r:embed="rId1"/>
          <a:stretch/>
        </p:blipFill>
        <p:spPr>
          <a:xfrm>
            <a:off x="714240" y="1571760"/>
            <a:ext cx="3556080" cy="4281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61" name=""/>
          <p:cNvSpPr txBox="1"/>
          <p:nvPr/>
        </p:nvSpPr>
        <p:spPr>
          <a:xfrm>
            <a:off x="4500360" y="1447920"/>
            <a:ext cx="4182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Вирус быстро теряет жизнеспособность при высыхании, под воздействием ультрафиолета, высокой температуры и других факторов. Поэтому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ВИЧ не передается по воздуху, при совместном пользовании мебелью, телефонной трубкой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и т.д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28760" y="5000400"/>
            <a:ext cx="8215200" cy="141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ВИЧ не передается через укусы насекомых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. Комар не может оказаться источником инфицирования, потому что при укусе он впрыскивает человеку не кровь предыдущей жертвы, а собственную слюну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63" name="Рисунок 7" descr="culex.jpg"/>
          <p:cNvPicPr/>
          <p:nvPr/>
        </p:nvPicPr>
        <p:blipFill>
          <a:blip r:embed="rId1"/>
          <a:stretch/>
        </p:blipFill>
        <p:spPr>
          <a:xfrm>
            <a:off x="60480" y="60480"/>
            <a:ext cx="90280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428840" y="407160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464"/>
                </a:solidFill>
                <a:latin typeface="Cambria"/>
              </a:rPr>
              <a:t>Проблема ВИЧ касается сегодня каждого,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464"/>
                </a:solidFill>
                <a:latin typeface="Cambria"/>
              </a:rPr>
              <a:t>в том числе и тебя. Вирус не выбирает людей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464"/>
                </a:solidFill>
                <a:latin typeface="Cambria"/>
              </a:rPr>
              <a:t>по социальному положению, образу жизни и привычкам и может попасть в организм любого человека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0000"/>
                </a:solidFill>
                <a:latin typeface="Adobe Garamond Pro Bold"/>
              </a:rPr>
              <a:t>STOP </a:t>
            </a:r>
            <a:r>
              <a:rPr b="0" i="1" lang="ru-RU" sz="9600" spc="-1" strike="noStrike">
                <a:solidFill>
                  <a:srgbClr val="000000"/>
                </a:solidFill>
                <a:latin typeface="Calibri"/>
              </a:rPr>
              <a:t>СПИД</a:t>
            </a:r>
            <a:endParaRPr b="0" lang="en-US" sz="9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0000"/>
                </a:solidFill>
                <a:uFillTx/>
                <a:latin typeface="Calibri"/>
              </a:rPr>
              <a:t>ВИЧ может передаваться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ambria"/>
              </a:rPr>
              <a:t>От заражённого человека к здоровому только тремя путями: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Cambria"/>
              </a:rPr>
              <a:t>1) 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при половом контакте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66" name="Содержимое 4" descr="5538900_3cd105e5fc82.jpg"/>
          <p:cNvPicPr/>
          <p:nvPr/>
        </p:nvPicPr>
        <p:blipFill>
          <a:blip r:embed="rId1"/>
          <a:stretch/>
        </p:blipFill>
        <p:spPr>
          <a:xfrm>
            <a:off x="5159520" y="1447920"/>
            <a:ext cx="3298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Содержимое 4" descr="pereliv.jpg"/>
          <p:cNvPicPr/>
          <p:nvPr/>
        </p:nvPicPr>
        <p:blipFill>
          <a:blip r:embed="rId1"/>
          <a:stretch/>
        </p:blipFill>
        <p:spPr>
          <a:xfrm>
            <a:off x="357120" y="1357200"/>
            <a:ext cx="4543560" cy="454356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 txBox="1"/>
          <p:nvPr/>
        </p:nvSpPr>
        <p:spPr>
          <a:xfrm>
            <a:off x="5428800" y="1785600"/>
            <a:ext cx="34290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2) с кровью или её препаратами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914400" y="5444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3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т матери к плоду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70" name="Рисунок 4" descr="28(1).jpg"/>
          <p:cNvPicPr/>
          <p:nvPr/>
        </p:nvPicPr>
        <p:blipFill>
          <a:blip r:embed="rId1"/>
          <a:stretch/>
        </p:blipFill>
        <p:spPr>
          <a:xfrm>
            <a:off x="60480" y="60480"/>
            <a:ext cx="90280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0000"/>
                </a:solidFill>
                <a:uFillTx/>
                <a:latin typeface="Calibri"/>
              </a:rPr>
              <a:t>Красная ленточка - история одного символа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Ни одно мероприятие в области СПИДа сейчас не обходится без "красной ленточки" - кусочка шелковой ленты, сложенной особым образом. Красная ленточка - международный символ борьбы со СПИДом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73" name="Содержимое 4" descr="107218_image_large.jpg"/>
          <p:cNvPicPr/>
          <p:nvPr/>
        </p:nvPicPr>
        <p:blipFill>
          <a:blip r:embed="rId1"/>
          <a:stretch/>
        </p:blipFill>
        <p:spPr>
          <a:xfrm>
            <a:off x="4643280" y="2357280"/>
            <a:ext cx="4154760" cy="2768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4429080" y="1447920"/>
            <a:ext cx="4254480" cy="50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Американскому художнику Франку Муру было суждено войти в историю как "создателю красной ленточки". Именно так его упоминали в некрологах, когда он скончался в 2002 году в результате лимфомы - рака, связанного со СПИДом. Надо отметить, что до этого он жил с ВИЧ-инфекцией более 20 лет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4011480" cy="51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Простая вещь - петелька из отрезка ленты красного цвета, длиной 15 сантиметров. Ее носят, приколов булавкой к одежде. Но красная ленточка на вашей одежде - это не обычное украшение, это символ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77" name="Содержимое 7" descr="aids-ribbon.jpg"/>
          <p:cNvPicPr/>
          <p:nvPr/>
        </p:nvPicPr>
        <p:blipFill>
          <a:blip r:embed="rId1"/>
          <a:stretch/>
        </p:blipFill>
        <p:spPr>
          <a:xfrm>
            <a:off x="5380200" y="1743120"/>
            <a:ext cx="2857320" cy="3981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Содержимое 4" descr="2pkv.jpg"/>
          <p:cNvPicPr/>
          <p:nvPr/>
        </p:nvPicPr>
        <p:blipFill>
          <a:blip r:embed="rId1"/>
          <a:stretch/>
        </p:blipFill>
        <p:spPr>
          <a:xfrm>
            <a:off x="914400" y="1728720"/>
            <a:ext cx="3749760" cy="4010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79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mbria"/>
              </a:rPr>
              <a:t>Красная ленточка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 - это символ осознания людьми важности проблемы СПИДа, принятый во всем мире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mbria"/>
              </a:rPr>
              <a:t>Красная ленточка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 - это символ памяти о сотнях тысяч людей, унесенных этой жестокой болезнью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81" name="Содержимое 4" descr="aids_front_big.jpg"/>
          <p:cNvPicPr/>
          <p:nvPr/>
        </p:nvPicPr>
        <p:blipFill>
          <a:blip r:embed="rId1"/>
          <a:stretch/>
        </p:blipFill>
        <p:spPr>
          <a:xfrm>
            <a:off x="5214960" y="1643040"/>
            <a:ext cx="3276720" cy="4572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mbria"/>
              </a:rPr>
              <a:t>Красная ленточка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 - это символ солидарности с теми, кого эпидемия СПИДа затронула лично: с людьми, живущими с ВИЧ-инфекцией и СПИДом, с их близкими, родными и друзьями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83" name="Содержимое 6" descr="stiker_20x30_1.JPG"/>
          <p:cNvPicPr/>
          <p:nvPr/>
        </p:nvPicPr>
        <p:blipFill>
          <a:blip r:embed="rId1"/>
          <a:stretch/>
        </p:blipFill>
        <p:spPr>
          <a:xfrm>
            <a:off x="1214280" y="1071720"/>
            <a:ext cx="3592800" cy="5389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mbria"/>
              </a:rPr>
              <a:t>Красная ленточка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 - это символ надежды, что вскоре будет найдено лекарство, излечивающее от СПИДа, и вакцина, предохраняющая от заражения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85" name="Содержимое 4" descr="worldaidsday.jpg"/>
          <p:cNvPicPr/>
          <p:nvPr/>
        </p:nvPicPr>
        <p:blipFill>
          <a:blip r:embed="rId1"/>
          <a:stretch/>
        </p:blipFill>
        <p:spPr>
          <a:xfrm>
            <a:off x="4500720" y="1857240"/>
            <a:ext cx="4394160" cy="3697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0000"/>
                </a:solidFill>
                <a:uFillTx/>
                <a:latin typeface="Calibri"/>
              </a:rPr>
              <a:t>Что такое ВИЧ и СПИД?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Говоря о проблеме ВИЧ/СПИДа, люди часто упускают важную деталь: ВИЧ и СПИД –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это разные, пусть и  взаимосвязанные явления. Надо понимать, что СПИД – это состояние, вызываемое вирусом иммунодефицита человека (ВИЧ). Называя проблему как таковую, правильнее говорить о ВИЧ/СПИДе. И уж совсем неверно говорить о любом ВИЧ-положительном человеке, что он "болен СПИДом".  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357120" y="5072040"/>
            <a:ext cx="842976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Красная ленточка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- это символ протеста против истерии и невежества, против дискриминации и общественной изоляции людей, живущих с ВИЧ/СПИДом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87" name="Содержимое 4" descr="6D5C5DAE-2485-47C7-831E-38D22F36FF78_mw800_mh600.jpg"/>
          <p:cNvPicPr/>
          <p:nvPr/>
        </p:nvPicPr>
        <p:blipFill>
          <a:blip r:embed="rId1"/>
          <a:stretch/>
        </p:blipFill>
        <p:spPr>
          <a:xfrm>
            <a:off x="60480" y="60480"/>
            <a:ext cx="90280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250920" y="494172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ПИД не жалеет организм, в котором он пребывает. Давайте почтим память всех тех, кто погиб от его разрушительной силы, давайте будем внимательны к людям, которых постигла эта беда. Мы знаем, что от СПИДа никто не защищен, но мы постараемся быть осторожнее и избежать его.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1763640" y="117360"/>
            <a:ext cx="59040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0000"/>
                </a:solidFill>
                <a:latin typeface="Adobe Garamond Pro Bold"/>
              </a:rPr>
              <a:t>STOP </a:t>
            </a:r>
            <a:r>
              <a:rPr b="0" i="1" lang="ru-RU" sz="9600" spc="-1" strike="noStrike">
                <a:solidFill>
                  <a:srgbClr val="000000"/>
                </a:solidFill>
                <a:latin typeface="Calibri"/>
              </a:rPr>
              <a:t>СПИД</a:t>
            </a:r>
            <a:endParaRPr b="0" lang="en-US" sz="9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142560" y="1500120"/>
            <a:ext cx="6000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ВИЧ – это вирус иммунодефицита человека.  Вирус живет только в организме человека и при попадании на открытый воздух погибает в течение нескольких минут. Следует отметить, что в использованных нестерилизованных шприцах вирус может сохранять жизнеспособность в течение нескольких дней за счет находящихся внутри иглы остатков крови или другой жидкости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35" name="Содержимое 5" descr="014.jpg"/>
          <p:cNvPicPr/>
          <p:nvPr/>
        </p:nvPicPr>
        <p:blipFill>
          <a:blip r:embed="rId1"/>
          <a:stretch/>
        </p:blipFill>
        <p:spPr>
          <a:xfrm>
            <a:off x="6000840" y="1928880"/>
            <a:ext cx="2857320" cy="2857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При попадании в кровоток человека ВИЧ поражает определенную категорию клеток, имеющих на поверхности так называемые CD-4-рецепторы. К ним относятся иммунные клетки. Вирус проникает внутрь этих клеток и начинает размножаться, тем самым сокращая срок жизни лимфоцитов. Если человек не предпринимает никаких мер для борьбы с ВИЧ, то через 5-10 (иногда и до 20 ле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иммунитет – способность организма противостоять различным болезням – начинает постепенно снижаться и развивается СПИД, синдром приобретенного иммунодефицита. 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357120" y="5000400"/>
            <a:ext cx="850104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Иммунная система ослабевает, то есть развивается иммунодефицит: человек оказывается уязвим для многих инфекций, наприме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уберкулеза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38" name="Содержимое 4" descr="42315.JPEG"/>
          <p:cNvPicPr/>
          <p:nvPr/>
        </p:nvPicPr>
        <p:blipFill>
          <a:blip r:embed="rId1"/>
          <a:stretch/>
        </p:blipFill>
        <p:spPr>
          <a:xfrm>
            <a:off x="60480" y="60480"/>
            <a:ext cx="90280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0000"/>
                </a:solidFill>
                <a:uFillTx/>
                <a:latin typeface="Calibri"/>
              </a:rPr>
              <a:t>Лечение СПИДа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28400" y="1447560"/>
            <a:ext cx="4857480" cy="49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Существующие на сегодня методы лечения (высокоактивная антиретровирусная терапия, или ВААРТ) позволяют ВИЧ-положительному человеку сохранять нормальный уровень иммунной защиты, то есть предотвращают наступление стадии СПИДа на протяжении очень долгого времени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41" name="Содержимое 4" descr="13.jpg"/>
          <p:cNvPicPr/>
          <p:nvPr/>
        </p:nvPicPr>
        <p:blipFill>
          <a:blip r:embed="rId1"/>
          <a:stretch/>
        </p:blipFill>
        <p:spPr>
          <a:xfrm>
            <a:off x="5214960" y="2143080"/>
            <a:ext cx="3749760" cy="2473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99680" y="1356840"/>
            <a:ext cx="825804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СПИД является обратимым состоянием: при применении антиретровирусной терапии концентрация вируса в крови уменьшается, число иммунных клеток увеличивается и состояние человека переходит в бессимптомную стадию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Таким образом, лечение дает возможность ВИЧ-положительному человеку жить долгой и полноценной жизнью. Человек остается ВИЧ-положительным, но СПИД не развивается. При лечении также снижается риск передачи вируса, так как его концентрация в крови сильно уменьшается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0000"/>
                </a:solidFill>
                <a:uFillTx/>
                <a:latin typeface="Calibri"/>
              </a:rPr>
              <a:t>Откуда взялся вирус?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57120" y="1447920"/>
            <a:ext cx="4307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Однозначного ответа на этот вопрос, к сожалению, нет. Существуют только гипотезы. Каждая из них имеет свое обоснование, но в научном мире все они продолжают оставаться лишь предположениями – возможными и для кого-то весьма спорными версиями произошедшего. 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45" name="Содержимое 5" descr="aids.jpg"/>
          <p:cNvPicPr/>
          <p:nvPr/>
        </p:nvPicPr>
        <p:blipFill>
          <a:blip r:embed="rId1"/>
          <a:stretch/>
        </p:blipFill>
        <p:spPr>
          <a:xfrm>
            <a:off x="4643280" y="1714680"/>
            <a:ext cx="4286520" cy="3609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17:04:08Z</dcterms:created>
  <dc:creator>Admin</dc:creator>
  <dc:description/>
  <dc:language>en-US</dc:language>
  <cp:lastModifiedBy>Admin</cp:lastModifiedBy>
  <dcterms:modified xsi:type="dcterms:W3CDTF">2010-09-08T19:17:12Z</dcterms:modified>
  <cp:revision>27</cp:revision>
  <dc:subject/>
  <dc:title>Слайд 1</dc:title>
</cp:coreProperties>
</file>