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4A0-4858-44E3-A09B-C6EC4824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897-0B1A-4A38-B466-4E278A4D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495-CFB1-4FBB-8DB4-60FB6A0C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EB0-ED08-407D-929B-CCC58442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645A-B95E-4D7B-B608-1DA2E875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564C-63C5-4AE1-830A-D6D697BB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AC13-464C-4E7E-9312-EDD84D90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8872-024B-4315-BFE3-5BEC59C1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FB43-8EB4-456B-B024-F33EDD71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C50F-BB78-4643-B444-03CEB542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FA4A-9B18-46DE-A384-C4170C53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BD4-ABC5-4617-BF11-135DAEA6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9482-AEB2-40BC-BA03-E58F500F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96A7-4743-407E-9DF4-C7EF884E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982B-6D44-4FF3-AC25-32F6DA2C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4A5C-97B6-4520-B038-4C556A84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A784-FAA0-4AA5-AA1F-15FCC8CB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4763-E6F1-454D-AB9F-9AAEAA48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6471C-5785-4B56-B1CD-291FC5FD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98ED0-647E-4A9C-A9B9-C0701330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484A-EFF6-4CBF-A910-F23CF2FB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AE18-D9C0-4BDC-BF79-D53EEAC9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915-E98A-4F46-92E5-BEBA8397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877B-858F-43F6-98AC-F70F6FBB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9E23-8AC6-4B8E-8B06-DF9623E3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82427-4FAC-43E1-8A4F-E4EB645B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B00E-6EFA-476E-9D7D-EDBEC153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79C3C-81DB-4845-B173-8C339776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BA4D-4B33-4187-BFDC-1F57B043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C49E-7486-4239-818C-0793A9F0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F3EDF-EE60-4463-AEF9-4A9376A4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D329-CD36-419C-935C-9A6FF8E6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E94C0-7238-4F9E-90EC-8CD389FC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959-CD8E-451A-95D2-52EB5DC8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2B107-962F-4AF4-B457-1BD0D573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0224-BCF6-4340-A7EC-DB8D5BAB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CAF8F-043D-4B81-84C5-335D33C4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07D4A-2F11-4D48-B6BB-06844CF0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AF56-FBC3-484C-916B-CCD646E4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03C3-930B-46AD-B299-637BE2D8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486E7-5902-455D-A8B6-268E5E20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E137-2FCE-43FE-94C0-8365F0CF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3793-6E44-4D7D-A113-3688F1E0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1828C-CDDC-4177-95BB-F4491FF6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9A8-611C-4D7F-AD39-60A49F2D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E50E8-0558-4395-AACE-7668F290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C1888-45F0-4D1B-829F-4DB4F1CB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BB1F4-D40C-4212-B70C-38E4ACE3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9A2F0-5FE3-4FDA-9B06-64B5B0E7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4F799-A382-4C1F-8C47-AA13FECB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79764-D151-4B7C-BDE9-9881B8C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273D2-CA9F-4DC4-A72E-922E67BF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C8A70-F7E7-4D67-8541-8F52581E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DFABF-8CC9-4FCF-861F-DAF15D34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DAE7-9A96-415C-A3A5-AD009F46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96E-6D03-45CB-AFD5-46992B9B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97278-2F3E-4E9F-A3B9-CA4991FB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A60-E3F0-4E32-8D12-DF95085E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979-E56F-49CB-81A4-7E3327B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0AF-A508-4749-B1EA-26C8E09E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83AD-28AA-484B-9334-E976DBA6C2B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997A-E5D3-4D42-AF84-37E1743D61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2574-187C-4F95-BA5D-38AA78DCD4D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BE36-D281-49F4-8D39-7C55668BB6F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E7F8-B49B-45B7-AED8-696DDCBFFC5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28840" y="40716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96464"/>
                </a:solidFill>
                <a:latin typeface="Arial"/>
              </a:rPr>
              <a:t>Совет старшеклассников ГОУ СОШ № 591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464"/>
                </a:solidFill>
                <a:latin typeface="Arial"/>
              </a:rPr>
              <a:t>Санкт-Петербург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464"/>
                </a:solidFill>
                <a:latin typeface="Arial"/>
              </a:rPr>
              <a:t>2009 год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dobe Garamond Pro Bold"/>
              </a:rPr>
              <a:t>STOP </a:t>
            </a: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СПИД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амая первая гипотеза происхождения ВИЧ связа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обезьянами. Ее высказал более 20 лет назад американский исследователь Б. Корбетт. По мнению этого ученого, ВИЧ впервые попал в кровь челове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30-х годах прошлого века от шимпанзе – возможно, при укусе животного или в процессе разделывания человеком туши. В пользу этой версии есть серьезные аргументы. Один из них – в крови шимпанзе действительно был найден редкий вирус, способный при попадании в человеческий организм вызывать состояние, похожее на СПИД. 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Содержимое 4" descr="AIDS__1.jpg"/>
          <p:cNvPicPr/>
          <p:nvPr/>
        </p:nvPicPr>
        <p:blipFill>
          <a:blip r:embed="rId1"/>
          <a:stretch/>
        </p:blipFill>
        <p:spPr>
          <a:xfrm>
            <a:off x="142920" y="1857240"/>
            <a:ext cx="4284720" cy="397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"/>
          <p:cNvSpPr txBox="1"/>
          <p:nvPr/>
        </p:nvSpPr>
        <p:spPr>
          <a:xfrm>
            <a:off x="4460400" y="1412640"/>
            <a:ext cx="46832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 мнению другого исследователя, профессора Р. Гэрри, СПИД гораздо старше: его история насчитывает от 100 до 1000 лет. Один из самых серьезных аргументов, подтверждающих эту гипотезу – саркома Капоши, описанная в начале XX века венгерским врачом Капоши как "редкая форма злокачественного новообразования", свидетельствовала о наличии у больного вируса имуннодефицита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ногие ученые считают родиной СПИДа Центральную Африку. Эта гипотеза, в свою очередь, разделяется на две версии. Согласно одной из них, ВИЧ уже давно существовал в изолированных от внешнего мира районах, например, в племенных поселениях, затерянных в джунглях. Со временем, когда миграция населения увеличилась, вирус вырвался "наружу" и начал быстро распространятьс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57120" y="5000760"/>
            <a:ext cx="842976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торая версия состоит в том, что вирус возник как следствие повышенного радиоактивного фона, который зарегистрирован в некоторых районах Африки, богатых залежами уран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Рисунок 4" descr="af_3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ЗАПОМНИ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ВИЧ не передается при бытовых контактах между людьми. Этот факт доказан научными исследованиями, медицинской практикой и многолетним опытом миллионов людей. Неповрежденная кожа является непреодолимым барьером для вируса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через рукопожатия и объятия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28440" y="2000160"/>
            <a:ext cx="37494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одержание вируса в слюне незначительно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через поцелуй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5" name="Содержимое 4" descr="поцелуй_конец_публикация.jpg"/>
          <p:cNvPicPr/>
          <p:nvPr/>
        </p:nvPicPr>
        <p:blipFill>
          <a:blip r:embed="rId1"/>
          <a:stretch/>
        </p:blipFill>
        <p:spPr>
          <a:xfrm>
            <a:off x="5143680" y="1714680"/>
            <a:ext cx="3449520" cy="35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4" descr="26170124_23841333.jpg"/>
          <p:cNvPicPr/>
          <p:nvPr/>
        </p:nvPicPr>
        <p:blipFill>
          <a:blip r:embed="rId1"/>
          <a:stretch/>
        </p:blipFill>
        <p:spPr>
          <a:xfrm>
            <a:off x="857160" y="928800"/>
            <a:ext cx="3448080" cy="517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7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Недостаточно вируса для его передачи ни в слезной жидкости, ни в пот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оч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кале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при совместном пользовани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едметами обиход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 пищеварительном тракте вирус погибает, так что, если содержащая вирус жидкость попадает в желудок человека, заражение не наступает. Поэтому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ВИЧ не передается при совместном использовании столовых приборов, посуды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9" name="Содержимое 4" descr="192477.jpg"/>
          <p:cNvPicPr/>
          <p:nvPr/>
        </p:nvPicPr>
        <p:blipFill>
          <a:blip r:embed="rId1"/>
          <a:stretch/>
        </p:blipFill>
        <p:spPr>
          <a:xfrm>
            <a:off x="5000760" y="1785960"/>
            <a:ext cx="3466800" cy="38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Содержимое 4" descr="hiv2.jpg"/>
          <p:cNvPicPr/>
          <p:nvPr/>
        </p:nvPicPr>
        <p:blipFill>
          <a:blip r:embed="rId1"/>
          <a:stretch/>
        </p:blipFill>
        <p:spPr>
          <a:xfrm>
            <a:off x="714240" y="1571760"/>
            <a:ext cx="3556080" cy="428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1" name=""/>
          <p:cNvSpPr txBox="1"/>
          <p:nvPr/>
        </p:nvSpPr>
        <p:spPr>
          <a:xfrm>
            <a:off x="4500360" y="1447920"/>
            <a:ext cx="418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ирус быстро теряет жизнеспособность при высыхании, под воздействием ультрафиолета, высокой температуры и других факторов. Поэтому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ВИЧ не передается по воздуху, при совместном пользовании мебелью, телефонной трубко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28760" y="5000400"/>
            <a:ext cx="8215200" cy="14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ВИЧ не передается через укусы насекомых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Комар не может оказаться источником инфицирования, потому что при укусе он впрыскивает человеку не кровь предыдущей жертвы, а собственную слюну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3" name="Рисунок 7" descr="culex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28840" y="40716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Проблема ВИЧ касается сегодня каждого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в том числе и тебя. Вирус не выбирает людей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по социальному положению, образу жизни и привычкам и может попасть в организм любого человек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dobe Garamond Pro Bold"/>
              </a:rPr>
              <a:t>STOP </a:t>
            </a: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СПИД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ВИЧ может передаватьс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mbria"/>
              </a:rPr>
              <a:t>От заражённого человека к здоровому только тремя путями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Cambria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при половом контакт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6" name="Содержимое 4" descr="5538900_3cd105e5fc82.jpg"/>
          <p:cNvPicPr/>
          <p:nvPr/>
        </p:nvPicPr>
        <p:blipFill>
          <a:blip r:embed="rId1"/>
          <a:stretch/>
        </p:blipFill>
        <p:spPr>
          <a:xfrm>
            <a:off x="5159520" y="1447920"/>
            <a:ext cx="329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4" descr="pereliv.jpg"/>
          <p:cNvPicPr/>
          <p:nvPr/>
        </p:nvPicPr>
        <p:blipFill>
          <a:blip r:embed="rId1"/>
          <a:stretch/>
        </p:blipFill>
        <p:spPr>
          <a:xfrm>
            <a:off x="357120" y="1357200"/>
            <a:ext cx="4543560" cy="4543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5428800" y="1785600"/>
            <a:ext cx="3429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2) с кровью или её препарата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 матери к плод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0" name="Рисунок 4" descr="28(1)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Calibri"/>
              </a:rPr>
              <a:t>Красная ленточка - история одного символ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и одно мероприятие в области СПИДа сейчас не обходится без "красной ленточки" - кусочка шелковой ленты, сложенной особым образом. Красная ленточка - международный символ борьбы со СПИДо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3" name="Содержимое 4" descr="107218_image_large.jpg"/>
          <p:cNvPicPr/>
          <p:nvPr/>
        </p:nvPicPr>
        <p:blipFill>
          <a:blip r:embed="rId1"/>
          <a:stretch/>
        </p:blipFill>
        <p:spPr>
          <a:xfrm>
            <a:off x="4643280" y="2357280"/>
            <a:ext cx="4154760" cy="276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429080" y="1447920"/>
            <a:ext cx="425448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мериканскому художнику Франку Муру было суждено войти в историю как "создателю красной ленточки". Именно так его упоминали в некрологах, когда он скончался в 2002 году в результате лимфомы - рака, связанного со СПИДом. Надо отметить, что до этого он жил с ВИЧ-инфекцией более 20 ле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01148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Простая вещь - петелька из отрезка ленты красного цвета, длиной 15 сантиметров. Ее носят, приколов булавкой к одежде. Но красная ленточка на вашей одежде - это не обычное украшение, это симво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7" name="Содержимое 7" descr="aids-ribbon.jpg"/>
          <p:cNvPicPr/>
          <p:nvPr/>
        </p:nvPicPr>
        <p:blipFill>
          <a:blip r:embed="rId1"/>
          <a:stretch/>
        </p:blipFill>
        <p:spPr>
          <a:xfrm>
            <a:off x="5380200" y="1743120"/>
            <a:ext cx="2857320" cy="398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Содержимое 4" descr="2pkv.jpg"/>
          <p:cNvPicPr/>
          <p:nvPr/>
        </p:nvPicPr>
        <p:blipFill>
          <a:blip r:embed="rId1"/>
          <a:stretch/>
        </p:blipFill>
        <p:spPr>
          <a:xfrm>
            <a:off x="914400" y="1728720"/>
            <a:ext cx="3749760" cy="401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9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осознания людьми важности проблемы СПИДа, принятый во всем мире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памяти о сотнях тысяч людей, унесенных этой жестокой болезнь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1" name="Содержимое 4" descr="aids_front_big.jpg"/>
          <p:cNvPicPr/>
          <p:nvPr/>
        </p:nvPicPr>
        <p:blipFill>
          <a:blip r:embed="rId1"/>
          <a:stretch/>
        </p:blipFill>
        <p:spPr>
          <a:xfrm>
            <a:off x="5214960" y="1643040"/>
            <a:ext cx="327672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солидарности с теми, кого эпидемия СПИДа затронула лично: с людьми, живущими с ВИЧ-инфекцией и СПИДом, с их близкими, родными и друзьям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3" name="Содержимое 6" descr="stiker_20x30_1.JPG"/>
          <p:cNvPicPr/>
          <p:nvPr/>
        </p:nvPicPr>
        <p:blipFill>
          <a:blip r:embed="rId1"/>
          <a:stretch/>
        </p:blipFill>
        <p:spPr>
          <a:xfrm>
            <a:off x="1214280" y="1071720"/>
            <a:ext cx="3592800" cy="538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надежды, что вскоре будет найдено лекарство, излечивающее от СПИДа, и вакцина, предохраняющая от зараж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5" name="Содержимое 4" descr="worldaidsday.jpg"/>
          <p:cNvPicPr/>
          <p:nvPr/>
        </p:nvPicPr>
        <p:blipFill>
          <a:blip r:embed="rId1"/>
          <a:stretch/>
        </p:blipFill>
        <p:spPr>
          <a:xfrm>
            <a:off x="4500720" y="1857240"/>
            <a:ext cx="4394160" cy="369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Что такое ВИЧ и СПИД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оворя о проблеме ВИЧ/СПИДа, люди часто упускают важную деталь: ВИЧ и СПИД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разные, пусть и  взаимосвязанные явления. Надо понимать, что СПИД – это состояние, вызываемое вирусом иммунодефицита человека (ВИЧ). Называя проблему как таковую, правильнее говорить о ВИЧ/СПИДе. И уж совсем неверно говорить о любом ВИЧ-положительном человеке, что он "болен СПИДом".  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57120" y="5072040"/>
            <a:ext cx="84297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- это символ протеста против истерии и невежества, против дискриминации и общественной изоляции людей, живущих с ВИЧ/СПИД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7" name="Содержимое 4" descr="6D5C5DAE-2485-47C7-831E-38D22F36FF78_mw800_mh600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0920" y="49417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ИД не жалеет организм, в котором он пребывает. Давайте почтим память всех тех, кто погиб от его разрушительной силы, давайте будем внимательны к людям, которых постигла эта беда. Мы знаем, что от СПИДа никто не защищен, но мы постараемся быть осторожнее и избежать его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63640" y="117360"/>
            <a:ext cx="5904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dobe Garamond Pro Bold"/>
              </a:rPr>
              <a:t>STOP </a:t>
            </a: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СПИД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42560" y="1500120"/>
            <a:ext cx="600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ИЧ – это вирус иммунодефицита человека.  Вирус живет только в организме человека и при попадании на открытый воздух погибает в течение нескольких минут. Следует отметить, что в использованных нестерилизованных шприцах вирус может сохранять жизнеспособность в течение нескольких дней за счет находящихся внутри иглы остатков крови или другой жидкост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5" name="Содержимое 5" descr="014.jpg"/>
          <p:cNvPicPr/>
          <p:nvPr/>
        </p:nvPicPr>
        <p:blipFill>
          <a:blip r:embed="rId1"/>
          <a:stretch/>
        </p:blipFill>
        <p:spPr>
          <a:xfrm>
            <a:off x="6000840" y="1928880"/>
            <a:ext cx="285732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и попадании в кровоток человека ВИЧ поражает определенную категорию клеток, имеющих на поверхности так называемые CD-4-рецепторы. К ним относятся иммунные клетки. Вирус проникает внутрь этих клеток и начинает размножаться, тем самым сокращая срок жизни лимфоцитов. Если человек не предпринимает никаких мер для борьбы с ВИЧ, то через 5-10 (иногда и до 20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иммунитет – способность организма противостоять различным болезням – начинает постепенно снижаться и развивается СПИД, синдром приобретенного иммунодефицита.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57120" y="500040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ммунная система ослабевает, то есть развивается иммунодефицит: человек оказывается уязвим для многих инфекций, наприм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Содержимое 4" descr="42315.JPE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Лечение СПИД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447560"/>
            <a:ext cx="485748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ществующие на сегодня методы лечения (высокоактивная антиретровирусная терапия, или ВААРТ) позволяют ВИЧ-положительному человеку сохранять нормальный уровень иммунной защиты, то есть предотвращают наступление стадии СПИДа на протяжении очень долгого времен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1" name="Содержимое 4" descr="13.jpg"/>
          <p:cNvPicPr/>
          <p:nvPr/>
        </p:nvPicPr>
        <p:blipFill>
          <a:blip r:embed="rId1"/>
          <a:stretch/>
        </p:blipFill>
        <p:spPr>
          <a:xfrm>
            <a:off x="5214960" y="2143080"/>
            <a:ext cx="3749760" cy="24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99680" y="1356840"/>
            <a:ext cx="82580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ПИД является обратимым состоянием: при применении антиретровирусной терапии концентрация вируса в крови уменьшается, число иммунных клеток увеличивается и состояние человека переходит в бессимптомную стадию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аким образом, лечение дает возможность ВИЧ-положительному человеку жить долгой и полноценной жизнью. Человек остается ВИЧ-положительным, но СПИД не развивается. При лечении также снижается риск передачи вируса, так как его концентрация в крови сильно уменьшается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Откуда взялся вирус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57120" y="1447920"/>
            <a:ext cx="430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днозначного ответа на этот вопрос, к сожалению, нет. Существуют только гипотезы. Каждая из них имеет свое обоснование, но в научном мире все они продолжают оставаться лишь предположениями – возможными и для кого-то весьма спорными версиями произошедшего.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Содержимое 5" descr="aids.jpg"/>
          <p:cNvPicPr/>
          <p:nvPr/>
        </p:nvPicPr>
        <p:blipFill>
          <a:blip r:embed="rId1"/>
          <a:stretch/>
        </p:blipFill>
        <p:spPr>
          <a:xfrm>
            <a:off x="4643280" y="1714680"/>
            <a:ext cx="4286520" cy="36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04:08Z</dcterms:created>
  <dc:creator>Admin</dc:creator>
  <dc:description/>
  <dc:language>en-US</dc:language>
  <cp:lastModifiedBy>Admin</cp:lastModifiedBy>
  <dcterms:modified xsi:type="dcterms:W3CDTF">2010-09-08T19:17:12Z</dcterms:modified>
  <cp:revision>27</cp:revision>
  <dc:subject/>
  <dc:title>Слайд 1</dc:title>
</cp:coreProperties>
</file>