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E09-64F6-45BD-9B2F-0C4936D7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46D-30E5-4950-8FE7-C709B10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D6628-46F4-4A57-B2F0-80382E73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43F16-FB0A-42BD-B287-2156914C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1385-7518-4DE8-B266-14D69403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ACF37-BEE8-4868-BABB-8849D2B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50C04-56B3-4F79-A872-9E8B541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2958C-B8F4-460E-B6BA-67F82E49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EC1FB-86BA-4D46-A693-6313D93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CD9E8-E730-43CB-BFE6-4C76724C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73F8C-4F4C-4C07-B667-CC1EFE51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E31D6-C0D7-42DA-BD8D-A767F6F0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4D6-4694-437E-A6BE-37DE18F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2AA68-F39C-45C5-A02E-2957760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5EF67-E4B9-447C-9C9C-5DE846B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718F5-F62C-49D9-9C57-56EC0B99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41577-82E0-4927-8A38-C7FF0DBA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98F9B-8A37-4F22-9A45-C394DF1C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C751A-9EC5-4085-9741-59D596F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D9574-05E5-4F7D-AF24-CB5A9B61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5D803-9C31-436F-8791-9EC79E5C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224B2-FCBE-49BD-9258-805731E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7AF20-0631-4295-84FE-9CF879B0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278-3877-4093-A81F-899215D4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34F57-9695-43DE-84D7-07D7B7DC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A5350-BBA3-43AD-92F2-CDA4CFC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1E478-0670-405C-92E5-832811D5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F31B4-B443-4C9B-827E-970F8636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98267-EBCA-4E2A-9C82-EDAD5CB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C9BB1-0DE8-4879-8FCF-9D5E3473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B11A-50D5-453D-B95D-4C907C6F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351FF-7984-4090-98C5-44D130F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504FA-582D-43EB-A7A3-E93C2A9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BC8AC-440E-4E48-AB6A-D0D7CA3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9C4-34F5-4D98-B587-93C00E85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4E48A-05D8-40B7-9BCC-DCE30080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C69D8-07D2-45AF-87D5-3F65F3DD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E61B0-04AE-4E3C-99FD-B7ECFF75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7D7F8-2922-4591-BF8D-06B36C98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8DC44-091E-4C7C-87A8-56CDEC7F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CE675-CE78-42CB-B0CA-725E696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9A704-8BD8-4863-8ECD-75ED5E0C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3A208-E40B-488E-BD2B-3CEDBCA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6F64F-8941-4127-A176-853002B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800DB-B545-4521-B0CA-96EB8FB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27EA-3367-4F6E-939C-8B41560D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25835-7645-430E-BAEE-2DD40AD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678A5-0D75-4AE7-AD49-21B50AF1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3DFE4-7628-4081-916F-6CF3FCA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19E40-27FE-44C7-AC22-D4981FDA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8EB13-A7A5-4508-AF91-D42E179C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72866C-4577-4C2F-8320-5C77E30F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59959-162C-47BD-A864-593A74B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4AFD1-080B-41BA-A2C6-B54C8EBB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2777B-4B17-476E-8895-6DEC94F2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E0353-6458-459B-AE43-09EFFA0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861C-DF0F-4445-940C-E4CF263A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D10ED-492A-4592-A2DF-467675AD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837A0-3E7C-4B76-8C62-A8DA351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81A6B-6C74-4297-9E3F-24CA9CD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173C4-54D0-485A-ABF9-189F971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87B654-59F9-42B2-978E-2CE2963B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5CDDE-C224-4F0D-8467-FE06475F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F7F91-2C6E-4F7D-97BD-6936327E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7611B-535F-4989-8972-F4A69116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B5E9C-0551-4EC7-A3DF-5228AEFF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AC63E-2BCC-4B8F-B980-B01E0D6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2511-74AD-4919-B4A3-6C855B04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C0FB1-254D-4F6C-97CE-4968805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60F9C-E19A-4D27-9C94-CDA5B24D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CEA80-CB79-4236-BF55-D90F89AA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E5830-7E0B-473C-BCDC-97619501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958A84-36A1-49FD-AB06-EBABF45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B396A-D864-4E99-AEDA-A273DD22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4E5A4-290F-443B-90AC-37C04C78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C32F5-4468-4313-A2CD-B9273AEE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61B76-99CF-439C-99D0-3F8FFF3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B0152-E275-4F21-B6E6-48EAEAE4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6B5-0E0C-42D3-BC28-8417991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D68DE6-1B19-4E61-9409-3B2626A2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1BC96-6D08-4A15-A55B-2BD9B604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DD91FD-901E-454C-BAA7-41BDE86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D07B5-8FCB-4C93-A4F7-AF58CC5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5CF34-6FAA-4DAF-800E-7ADDE926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FF580-A52F-4085-AE5A-31FB8E50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9E3D7-65D3-4CE1-863A-9418C8FE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9830D-CD7F-444C-AB02-7520622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CC660-8CD3-42DF-8E81-6141402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5862F-A785-471A-BB5E-B491A623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8BE-7E68-4126-8856-F319B60C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C216F-738A-425F-93F1-D6644FA6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F0C1F-FDEB-46E0-8D34-1A313E11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876572-E65E-4265-9B12-F0CABB51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D3564E-97DE-41DE-A65F-F1BEE5E4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1F3C4-2349-4937-9D5A-674FC224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63EF7-A105-44CD-956D-AB0F64ED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3F1D1-07F7-481D-B23B-E0A0EE9A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AFCFA-A163-4EA8-9530-27504438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FE84D-E25F-41D1-ADA2-D83CCC32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F88BAB-B37A-4287-A16A-1F446C7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50A1-1F60-465D-AB14-0A680DEB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97A48-11C7-40E1-827C-885F7511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A5D4B-5DF5-417B-A6C1-BCB5E4C0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E617B-4EBD-4C3A-A56A-F7937D20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F89EC9-CCBE-436B-B94D-F1CB85F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CF13B-F211-4013-A916-1348F4FB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60588E-AA28-45B1-AD79-194C0733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F851D-F0E4-4189-A134-E2EC10A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839A2-3384-485E-A3F5-6B0A8D66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69958-975B-4463-9C1C-2EAE1B08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A01A8-049D-42AF-A41E-837B917C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532-9F0C-438B-ADA8-59334197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362E-C5B8-4D1F-B143-05BD729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78E0B9-8767-4CC3-99B7-8E3F53E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7BCD93-CB62-467F-915C-BC42272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395AB-E7C3-48F0-ADDF-C247B49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82B17-500F-4FD4-A0F0-E7A333E8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7DAA4-3C09-4913-B047-85F30289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B4D687-E6CE-4DAE-BB3C-3662BA06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622A1-F6DD-4D25-88E4-E09F02A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86F49F-390A-4FAC-8607-221C9DDB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50AC1-4E0D-4F61-A3F1-EB7718A5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62276-3C22-4885-B309-D34AD300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1AC5-FC07-4591-AE62-1566881D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D4244-F0B3-430A-9FC4-E8E19F7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A3F53-616F-42E7-8B7C-0031790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0CB8C-5072-4900-B561-878ED7E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D7C28-9759-4DC1-AB52-CA24B182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8BBD2E-EC9D-4C58-852C-71CD79A0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B6E293-8A13-4EBC-88DA-386B65A2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C8AAC-CD4A-4436-925D-F0C832AE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C0967A-EE76-422B-8F22-0CBA3087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85E4C5-5973-4B8D-B314-B8C75DB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44C644-D135-4B8D-8A73-AF740AA2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044-ADCB-4700-A8B9-B2410527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898C2-FD2B-4C46-980D-28A77A66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F7F7D-B359-4847-93C7-E02A6BC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9946D-5D82-424E-A5D8-C84B1000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2DCBF-9B22-4642-9782-4B679AD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BDA43-DFAA-431C-B6E0-36B3AD6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9A313-29C5-4AD0-B74D-C747EAF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064EA1-4285-4C8B-8E58-A489916F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9F49A-141D-4FB7-99B3-DBA4432C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A920E-E8B5-4B20-97C1-4A4BF9F1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E1909-EC6B-46DB-89A5-9D0424C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5E6-DB6A-4993-AB20-1A61D61D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5540C0-00BF-4502-9586-0EAD17A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70376F-BE68-49FF-AF1D-51AB8F44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02F0D-67BC-4CEF-B623-DC4B8336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CAB2F-751A-469B-BC98-3AAC2B15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329F7-6EE6-40E7-985D-29E4E2E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3D8E8-6388-4D4B-AF3A-B990B3C3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3AC01-A675-43E5-94E1-A337492B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CE6A1-11FD-49CF-9DD2-91EC6E8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05B73-2F39-42DC-B7F2-DAAEBF85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791641-C548-483B-B788-70D8ACB7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AAA2-7EC9-45F5-8C09-36AD6FA8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FBCB5-42C4-44E8-8D3A-A9BB1ED9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DE184-4BE3-4456-BFD3-381F5838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9A67D-B0E2-47B6-A5F6-96A578D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1FCFBC-80B9-4688-94E8-B91961F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F4DCA-F0EB-4FB2-8DA2-65B9F810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C1A64-99E8-4BBA-8F2C-B6D7137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585566-81BD-4706-8809-4C6FD0C3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31B1F-C25E-4E65-AFDB-7277D14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5545AD-502A-4BD8-9721-644FD9C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FE5FC-0739-4772-8F43-1DDA2B9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D7808-0D77-4EDC-8527-9BE94CA2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BFC82-DC14-4C89-BACB-C46EE86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16068-B2E9-4D7B-8777-0AF8E49F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53C2D-84D9-448D-95A4-719E84DF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57952-DC20-4654-8365-C537030B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30605F-03F9-4911-BA1B-EB72CD4F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D68AC-B65A-4594-B1F7-2A18929A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9840F1-92B0-4994-8677-E72766B1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E8DDC8-3E5E-4D81-BD24-F7DEC846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8FA0D-6ED8-41B1-9C50-A65D33C5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003CED-1751-4CB7-B8F8-7E4B1C5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2DAE5-CDDE-4B44-8C8B-F297C2A4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2C9E1B-2262-4B93-8776-D0DDD15E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99A1B6-8AC7-4808-BB46-83017DF8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1BCF3-2D0B-40BD-8E2F-810D9DD1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C9F186-BB8C-4C66-8B71-092BA16F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4070EC-24EF-4CB8-88A5-CA42FC4A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52931-E539-4EF9-AF28-1F25EE7D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772A3F-633C-4609-AB06-BAFD1E1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286AF4-A6BB-4B10-81D5-AAC8CFF4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A9133F-21E5-4055-AC4A-67A25AE5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0F4C08-129C-4C4B-A23A-DC5349F0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05DB5-4908-4E28-86CB-9E41226F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AED10C-F39A-4001-BAD5-2EBD2B01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D5657-4A79-4916-8D4B-3612001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987773-BC08-4C3F-B1A0-45D4B3EB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62E5B0-C79F-49C5-81D5-B8700288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0ABD3-EF5F-4B2A-B03B-85BBD334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5C7756-522C-421C-AE22-05533DA8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1FF469-CE1E-4671-A10E-5D5ABED9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3869BF-E6BB-496F-9C40-31C73221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1C66A3-AFD7-47B1-B81B-460AF57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F8983A-E85D-435D-8219-5DC7D08A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7E81D-CEC9-4ED4-8BDF-F2210647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4A9BA-13C2-4F97-B753-01F1F3C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B3EBDD-C924-4436-9111-D8438CFD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9817CA-6490-4E71-AB0B-CFB3B31D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DAC10-D2FA-4211-B7C0-5B1C82D0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F1F504-0224-44F6-9476-E5594AE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1043E3-4548-4A78-BF1E-1AE2A50D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276AA3-1FC9-404C-8FC9-10EAFDAB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395951-B36D-4CF9-9DBA-18F1EAFA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B12115-D184-4720-9D96-F572A473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37A7C-AF1F-4A92-969F-4054E1DD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17A-7159-49F2-A7E3-023D563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C14C-EFC7-4974-A6F6-1E1F413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08F1B-B1E2-422C-9515-00413A5B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B77CA-2D5E-489B-857F-AF9C459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8C53B-ABB0-4900-B31F-486581F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B4AEA-1F17-439E-B64D-DBE0073C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C1526-C5AA-4C1F-92B3-94AE9AAC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81639-B818-4D32-9E89-C187A10B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9158-24A7-4562-B543-56CB4F9B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DF4B5-F4E9-43BC-A852-E06F6A24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C333-9160-4966-906F-50987C3F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B8C-1E4C-4950-A7A5-459D49F6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71E3-930B-4371-9EB9-C24A17F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471A-B955-4AE9-A66B-77AFAE5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F31AB-F91B-4F31-9365-5EBAFD97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08C4-1742-4841-B3D5-D667559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EE14-B03C-4447-8AFF-896CC08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16B1-D81C-4EBC-905D-21EB28B1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5722-79D7-464C-8D6F-4924F3CF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6389-FDD1-4D27-89AD-3D38E6EE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5685-1967-4455-AFBA-DC7937B1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D220B-E0EA-4066-9E8F-7F898220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F27-DD69-4FF5-BF0B-216F1B6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D286-0AD1-497E-9F01-890F9ADA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55EE-66A7-47F9-855B-6339EBDA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406B-484E-4B26-A481-F8392DB6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E955-7937-457A-957E-A2CC830D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AB205-1408-407C-9DFC-25CC160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C7A7-4D4D-45FD-B73E-452B6389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BF5E2-0245-4708-AC98-EFA2F3A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F6FA-F12F-4EBE-8EE4-F4DBFE3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9BA28-5657-48AD-A10E-901F185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3514-5114-4F98-9AE2-B2B2512F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5FA-ABF3-418B-8612-53FEA9C1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8BEA-FFB3-42B7-83B6-DCC78736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81E42-CCA6-47EA-8EAD-886EA619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D0E6-8F6D-43BF-A171-1A8ABB26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34381-7393-4FE8-B55D-CEC43BD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6578B-9101-4CE0-A957-298869B0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5376-348D-40F5-88AC-2DF1C9ED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4CEE0-6889-4D74-9E55-B4A7047D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8F3E-B6EA-4CC9-A4C1-CC9DC82B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95D6-B857-400D-8606-F16D491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75AC2-82E9-4F7F-A9C5-154F84FF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3B2-6CC7-421A-B87C-8C558D66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B61FD-5C22-49C3-90E1-A6B5F43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55EE-23F3-4968-9121-55A574AC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0257-D0B7-4B15-9D24-C6FEF4CA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9CBA0-0722-46A3-B035-47BA0426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772F2-F71A-40D9-B6D5-F8C6C39A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46AA0-6A41-4CCB-9D5D-7602FCAE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F42A-DACD-4F45-8839-81CD8D08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24D5D-296F-46D2-9E72-C2551CF1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E52DF-411F-49C5-A612-A5AE6E3E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2B44-4819-4A48-B50E-B2A4715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9CA-4D72-424F-96BD-C65D63D7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4F1E-3447-463C-B83A-6E756F2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ECD3-9FE2-45F4-A608-1576E26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40414-18B7-4B62-8373-83D5DF00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23EB5-A828-4BA5-AED4-BD06AFA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0889-4B9C-4E4D-AE73-48503ECB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10F4F-F030-43B6-90B7-66AB18F4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1D38C-0631-4B6D-91F7-282F69A5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D0FE-5936-40FE-9506-209E63FF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57A6-6245-4665-B654-94D46E09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C2B0-C973-4D11-81BF-2E144BF2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AF0-C605-447A-938C-81AE694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2AD9C-0B83-44BB-900D-C8B2A91F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A3B5-F780-4A8C-AEDD-3C4440C5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3B5F-3F97-406B-ACCF-59B41374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99A7-E52F-484E-A222-E5F1BE2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84DF-FCFD-4444-B38E-ECBE2DB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0389F-532D-49A8-B4BE-E694C199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C7E2-52EB-41A6-9B7F-8CCCAF0B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8D795-54D9-48A8-B634-63AAAEE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D99E4-324A-4191-942E-6C9CFB4A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8BCF-5C15-42A5-9B3F-61102683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D7E-F1F0-4775-8283-EFB834F6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165-1E61-43E8-B787-9DF99E15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C51-73AE-40DB-BBB3-F2F1D61B9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EE09-0F9E-423C-A860-D0691EBD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90B3-A67A-4067-A2A5-EDBB89E7D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97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98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599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0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1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2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3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4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9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0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3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4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6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8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9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0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2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3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4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5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6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7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8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9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0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1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2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7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0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1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4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5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6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7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8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9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0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1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652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3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4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657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9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4118-003B-4A22-B9F8-2D3936A18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4CA2-BA4A-4B85-BFDE-BC7E5EFA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28CB-F92A-4156-AD4A-161882577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619-C054-42F6-B04F-E3628D616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D5D5-D00B-4D2E-8E97-D29FB7A59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AF5-7322-480E-BE1F-A31806A92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3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4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5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6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7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8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9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0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67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8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0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1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2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3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4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0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3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4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5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6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8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9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0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1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2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3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4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5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96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99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D43-9700-4802-81B8-6C016B3A7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654D-D244-41B3-AA97-11C562B7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C01E-C4BF-4B6F-95B3-16190E1E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20EB-21E5-4954-A52B-53285934B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AD0-D56B-4B2B-BA81-D219127C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4298-91E5-49E2-A970-51F4ACC3D1F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253-8196-4876-9475-B0EE1D491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5627-FF64-45F5-AD9D-873A69F0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A345-E9D5-4F3C-9ABB-EF4B08D4C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21A-B4E8-4CFB-BAC4-27252AC1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A725-EDAC-41CD-95F2-42D738DA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FDD1-F76F-437E-9B45-9F5CF98B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833C-C18A-4A7C-8781-635D686D4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9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5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slide" Target="slide21.xml"/><Relationship Id="rId13" Type="http://schemas.openxmlformats.org/officeDocument/2006/relationships/slide" Target="slide6.xml"/><Relationship Id="rId14" Type="http://schemas.openxmlformats.org/officeDocument/2006/relationships/slide" Target="slide10.xml"/><Relationship Id="rId15" Type="http://schemas.openxmlformats.org/officeDocument/2006/relationships/slide" Target="slide14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2"/>
          <p:cNvSpPr/>
          <p:nvPr/>
        </p:nvSpPr>
        <p:spPr>
          <a:xfrm>
            <a:off x="324000" y="5013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ист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9 г.Ессенту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шкова Татьяна Иван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4360" y="765000"/>
            <a:ext cx="7343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"СВОЯ ИГРА"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835280" y="549360"/>
            <a:ext cx="475596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ллектуальная 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- викторин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7 класса</a:t>
            </a:r>
            <a:endParaRPr b="1" i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116000" y="3860640"/>
            <a:ext cx="664380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о истории России в 17в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д каким названием вошел в историю указ о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 5-летнем сыске беглых крестьян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1" name="Rectangle 4"/>
          <p:cNvSpPr/>
          <p:nvPr/>
        </p:nvSpPr>
        <p:spPr>
          <a:xfrm>
            <a:off x="2554920" y="220500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539640" y="494172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Урочные лета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Господствующее сословие 17 век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9280" y="2060640"/>
            <a:ext cx="86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395280" y="5229360"/>
            <a:ext cx="77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ФЕОДАЛЫ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7" name="AutoShape 7"/>
          <p:cNvSpPr/>
          <p:nvPr/>
        </p:nvSpPr>
        <p:spPr>
          <a:xfrm>
            <a:off x="8028000" y="58053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Частновладельческие земли, Освобожденные от гос. податей и повинностей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201240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95280" y="522936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Белые Слободы ( Белые Земли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енное сословие, население Дона, Яика, Приуралья, Терека, Левобережной Украин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1725120" y="270828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AutoShape 7"/>
          <p:cNvSpPr/>
          <p:nvPr/>
        </p:nvSpPr>
        <p:spPr>
          <a:xfrm>
            <a:off x="7885080" y="573408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1835280" y="56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КАЗАК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Лично свободные крестьяне, владевшие общинными землями и несшие государственные повинности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7" name="Rectangle 4"/>
          <p:cNvSpPr/>
          <p:nvPr/>
        </p:nvSpPr>
        <p:spPr>
          <a:xfrm>
            <a:off x="1940760" y="2637000"/>
            <a:ext cx="4606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ОСЛОВИЯ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8"/>
          <p:cNvSpPr/>
          <p:nvPr/>
        </p:nvSpPr>
        <p:spPr>
          <a:xfrm>
            <a:off x="108000" y="5078880"/>
            <a:ext cx="734544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Черносошные крестьян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4"/>
          <p:cNvSpPr/>
          <p:nvPr/>
        </p:nvSpPr>
        <p:spPr>
          <a:xfrm>
            <a:off x="1436760" y="1773360"/>
            <a:ext cx="6230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</a:t>
            </a: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Бунташный век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Text Box 5"/>
          <p:cNvSpPr/>
          <p:nvPr/>
        </p:nvSpPr>
        <p:spPr>
          <a:xfrm>
            <a:off x="1042920" y="4581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оляного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Бунт 1648 г. получил название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3" name="AutoShape 15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Донской казак, предводитель Крестьянской войны 1670-1671 годов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1850400" y="184464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755640" y="4203720"/>
            <a:ext cx="6337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Степан Тимофеевич Разин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534520" cy="18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Поговорка «Береги белую деньгу на черный день» появилась в связи с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1907280" y="249228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900000" y="5734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Медным бунтом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09120" y="620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щение крестьян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1728000" y="1773360"/>
            <a:ext cx="6008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Бунташный век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1908000" y="5013360"/>
            <a:ext cx="43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акой царь правил Россией в 1613-1645 гг.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1031760" y="292428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Text Box 5"/>
          <p:cNvSpPr/>
          <p:nvPr/>
        </p:nvSpPr>
        <p:spPr>
          <a:xfrm>
            <a:off x="1042920" y="53020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ихаил Федоро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AutoShape 8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Группа 29"/>
          <p:cNvGrpSpPr/>
          <p:nvPr/>
        </p:nvGrpSpPr>
        <p:grpSpPr>
          <a:xfrm>
            <a:off x="250920" y="692280"/>
            <a:ext cx="8493120" cy="5662440"/>
            <a:chOff x="250920" y="692280"/>
            <a:chExt cx="8493120" cy="5662440"/>
          </a:xfrm>
        </p:grpSpPr>
        <p:sp>
          <p:nvSpPr>
            <p:cNvPr id="1116" name="Rectangle 4">
              <a:hlinkClick r:id="" action="ppaction://hlinkshowjump?jump=nextslide"/>
            </p:cNvPr>
            <p:cNvSpPr/>
            <p:nvPr/>
          </p:nvSpPr>
          <p:spPr>
            <a:xfrm>
              <a:off x="250920" y="693720"/>
              <a:ext cx="1584360" cy="9889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ahoma"/>
                </a:rPr>
                <a:t> 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Древня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усь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Rectangle 5">
              <a:hlinkClick r:id="" action="ppaction://hlinkshowjump?jump=nextslide"/>
            </p:cNvPr>
            <p:cNvSpPr/>
            <p:nvPr/>
          </p:nvSpPr>
          <p:spPr>
            <a:xfrm>
              <a:off x="1977840" y="693720"/>
              <a:ext cx="1655640" cy="1006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мут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Rectangle 7">
              <a:hlinkClick r:id="" action="ppaction://hlinkshowjump?jump=nextslide"/>
            </p:cNvPr>
            <p:cNvSpPr/>
            <p:nvPr/>
          </p:nvSpPr>
          <p:spPr>
            <a:xfrm>
              <a:off x="7162920" y="693720"/>
              <a:ext cx="158112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Первы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Романовы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Rectangle 8"/>
            <p:cNvSpPr/>
            <p:nvPr/>
          </p:nvSpPr>
          <p:spPr>
            <a:xfrm>
              <a:off x="322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0" name="Rectangle 9"/>
            <p:cNvSpPr/>
            <p:nvPr/>
          </p:nvSpPr>
          <p:spPr>
            <a:xfrm>
              <a:off x="2050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2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1" name="Rectangle 10"/>
            <p:cNvSpPr/>
            <p:nvPr/>
          </p:nvSpPr>
          <p:spPr>
            <a:xfrm>
              <a:off x="377820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3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Rectangle 11"/>
            <p:cNvSpPr/>
            <p:nvPr/>
          </p:nvSpPr>
          <p:spPr>
            <a:xfrm>
              <a:off x="716292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4" action="ppaction://hlinksldjump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Rectangle 12"/>
            <p:cNvSpPr/>
            <p:nvPr/>
          </p:nvSpPr>
          <p:spPr>
            <a:xfrm>
              <a:off x="322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5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Rectangle 14"/>
            <p:cNvSpPr/>
            <p:nvPr/>
          </p:nvSpPr>
          <p:spPr>
            <a:xfrm>
              <a:off x="2050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6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Rectangle 15"/>
            <p:cNvSpPr/>
            <p:nvPr/>
          </p:nvSpPr>
          <p:spPr>
            <a:xfrm>
              <a:off x="377820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7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Rectangle 16"/>
            <p:cNvSpPr/>
            <p:nvPr/>
          </p:nvSpPr>
          <p:spPr>
            <a:xfrm>
              <a:off x="716292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8" action="ppaction://hlinksldjump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7" name="Rectangle 17"/>
            <p:cNvSpPr/>
            <p:nvPr/>
          </p:nvSpPr>
          <p:spPr>
            <a:xfrm>
              <a:off x="322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9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Rectangle 18"/>
            <p:cNvSpPr/>
            <p:nvPr/>
          </p:nvSpPr>
          <p:spPr>
            <a:xfrm>
              <a:off x="2050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0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Rectangle 19"/>
            <p:cNvSpPr/>
            <p:nvPr/>
          </p:nvSpPr>
          <p:spPr>
            <a:xfrm>
              <a:off x="377820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1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Rectangle 20"/>
            <p:cNvSpPr/>
            <p:nvPr/>
          </p:nvSpPr>
          <p:spPr>
            <a:xfrm>
              <a:off x="716292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2" action="ppaction://hlinksldjump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Rectangle 21"/>
            <p:cNvSpPr/>
            <p:nvPr/>
          </p:nvSpPr>
          <p:spPr>
            <a:xfrm>
              <a:off x="322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3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Rectangle 22"/>
            <p:cNvSpPr/>
            <p:nvPr/>
          </p:nvSpPr>
          <p:spPr>
            <a:xfrm>
              <a:off x="2050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4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3" name="Rectangle 23"/>
            <p:cNvSpPr/>
            <p:nvPr/>
          </p:nvSpPr>
          <p:spPr>
            <a:xfrm>
              <a:off x="377820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5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Rectangle 24"/>
            <p:cNvSpPr/>
            <p:nvPr/>
          </p:nvSpPr>
          <p:spPr>
            <a:xfrm>
              <a:off x="716292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cc00"/>
                  </a:solidFill>
                  <a:uFillTx/>
                  <a:latin typeface="Arial"/>
                  <a:hlinkClick r:id="rId16" action="ppaction://hlinksldjump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Rectangle 25">
              <a:hlinkClick r:id="" action="ppaction://hlinkshowjump?jump=nextslide"/>
            </p:cNvPr>
            <p:cNvSpPr/>
            <p:nvPr/>
          </p:nvSpPr>
          <p:spPr>
            <a:xfrm>
              <a:off x="5435640" y="692280"/>
              <a:ext cx="1511280" cy="10094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" spc="-1" strike="noStrike">
                  <a:solidFill>
                    <a:srgbClr val="ffcc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Rectangle 26">
              <a:hlinkClick r:id="" action="ppaction://hlinkshowjump?jump=nextslide"/>
            </p:cNvPr>
            <p:cNvSpPr/>
            <p:nvPr/>
          </p:nvSpPr>
          <p:spPr>
            <a:xfrm>
              <a:off x="3778200" y="693720"/>
              <a:ext cx="1584360" cy="10206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ahoma"/>
                </a:rPr>
                <a:t>Сословия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Rectangle 27"/>
            <p:cNvSpPr/>
            <p:nvPr/>
          </p:nvSpPr>
          <p:spPr>
            <a:xfrm>
              <a:off x="5435640" y="184608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1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Rectangle 28"/>
            <p:cNvSpPr/>
            <p:nvPr/>
          </p:nvSpPr>
          <p:spPr>
            <a:xfrm>
              <a:off x="5435640" y="299880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2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9" name="Rectangle 29"/>
            <p:cNvSpPr/>
            <p:nvPr/>
          </p:nvSpPr>
          <p:spPr>
            <a:xfrm>
              <a:off x="5435640" y="414972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3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0" name="Rectangle 30"/>
            <p:cNvSpPr/>
            <p:nvPr/>
          </p:nvSpPr>
          <p:spPr>
            <a:xfrm>
              <a:off x="5435640" y="5302440"/>
              <a:ext cx="1581120" cy="10522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0066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Arial"/>
                </a:rPr>
                <a:t>40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Rectangle 32"/>
            <p:cNvSpPr/>
            <p:nvPr/>
          </p:nvSpPr>
          <p:spPr>
            <a:xfrm>
              <a:off x="5435640" y="766800"/>
              <a:ext cx="15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Бунташный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 </a:t>
              </a:r>
              <a:r>
                <a:rPr b="1" lang="ru-RU" sz="1800" spc="-1" strike="noStrike">
                  <a:solidFill>
                    <a:srgbClr val="ffcc00"/>
                  </a:solidFill>
                  <a:latin typeface="Tahoma"/>
                </a:rPr>
                <a:t>век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09120" y="1052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иболее тяжелая форма зависимости крестьян, проявлявшаяся в прикреплении их к земле и полном подчинении власти феодал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1" name="Rectangle 4"/>
          <p:cNvSpPr/>
          <p:nvPr/>
        </p:nvSpPr>
        <p:spPr>
          <a:xfrm>
            <a:off x="94464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1258920" y="5445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0601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КРЕПОСТНИЧЕСТВО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«Был благоверен, зело кроток и милостлив». Он сумел сохранить равновесие всех общественных сил, никого не казнил.</a:t>
            </a:r>
            <a:br>
              <a:rPr sz="2800"/>
            </a:b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Его имя?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873000" y="234936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900000" y="5445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Михаил Федорович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Кто принял Соборное уложение, закрепостившее крестьян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1397160" y="2133720"/>
            <a:ext cx="70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Первые Романовы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Text Box 5"/>
          <p:cNvSpPr/>
          <p:nvPr/>
        </p:nvSpPr>
        <p:spPr>
          <a:xfrm>
            <a:off x="468360" y="494172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Алексей Михайлови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AutoShape 6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755640" y="128448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ная литератур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- А. А. Данилов, Л. Г. Косулина. История России конец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.в. Учебник для 7 класса общеобразовательных учреждений М., «Просвещение», 2006. 254 с.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09120" y="8362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Где жили первые монахи Киево-Печерского и Псково-Печерского монастырей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3" name="AutoShape 5"/>
          <p:cNvSpPr/>
          <p:nvPr/>
        </p:nvSpPr>
        <p:spPr>
          <a:xfrm>
            <a:off x="7812000" y="573408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7"/>
          <p:cNvSpPr/>
          <p:nvPr/>
        </p:nvSpPr>
        <p:spPr>
          <a:xfrm>
            <a:off x="1728720" y="220500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Text Box 8"/>
          <p:cNvSpPr/>
          <p:nvPr/>
        </p:nvSpPr>
        <p:spPr>
          <a:xfrm>
            <a:off x="611280" y="465300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вые монахи жили в землянках – пещерах. Старославянское слово «пещера» по-русски звучит как «печера».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07640" y="980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Скажите на древнерусском «сидящий рядом», если сейчас мы этим словом называем и «живущего рядом».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1617480" y="249228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Text Box 5"/>
          <p:cNvSpPr/>
          <p:nvPr/>
        </p:nvSpPr>
        <p:spPr>
          <a:xfrm>
            <a:off x="250920" y="5300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се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7524720" y="568944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сстригой на Руси называли бывшего военного или священника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1" name="Rectangle 4"/>
          <p:cNvSpPr/>
          <p:nvPr/>
        </p:nvSpPr>
        <p:spPr>
          <a:xfrm>
            <a:off x="1833480" y="299736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250920" y="5445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Бывшего священнослужителя, добровольно отказавшегося от церковного сана или лишённого его за какой-либо проступо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7"/>
          <p:cNvSpPr/>
          <p:nvPr/>
        </p:nvSpPr>
        <p:spPr>
          <a:xfrm>
            <a:off x="7451640" y="5877000"/>
            <a:ext cx="935280" cy="834840"/>
          </a:xfrm>
          <a:custGeom>
            <a:avLst/>
            <a:gdLst>
              <a:gd name="textAreaLeft" fmla="*/ 54000 w 935280"/>
              <a:gd name="textAreaRight" fmla="*/ 881280 w 93528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98" h="21600">
                <a:moveTo>
                  <a:pt x="0" y="0"/>
                </a:moveTo>
                <a:lnTo>
                  <a:pt x="24198" y="0"/>
                </a:lnTo>
                <a:lnTo>
                  <a:pt x="24198" y="21600"/>
                </a:lnTo>
                <a:lnTo>
                  <a:pt x="0" y="21600"/>
                </a:lnTo>
                <a:close/>
              </a:path>
              <a:path fill="lightenLess" w="24198" h="21600">
                <a:moveTo>
                  <a:pt x="0" y="0"/>
                </a:moveTo>
                <a:lnTo>
                  <a:pt x="24198" y="0"/>
                </a:lnTo>
                <a:lnTo>
                  <a:pt x="22798" y="1400"/>
                </a:lnTo>
                <a:lnTo>
                  <a:pt x="1400" y="1400"/>
                </a:lnTo>
                <a:close/>
              </a:path>
              <a:path fill="darken" w="24198" h="21600">
                <a:moveTo>
                  <a:pt x="24198" y="0"/>
                </a:moveTo>
                <a:lnTo>
                  <a:pt x="24198" y="21600"/>
                </a:lnTo>
                <a:lnTo>
                  <a:pt x="22798" y="20200"/>
                </a:lnTo>
                <a:lnTo>
                  <a:pt x="22798" y="1400"/>
                </a:lnTo>
                <a:close/>
              </a:path>
              <a:path fill="darkenLess" w="24198" h="21600">
                <a:moveTo>
                  <a:pt x="2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8" y="20200"/>
                </a:lnTo>
                <a:close/>
              </a:path>
              <a:path fill="lighten" w="2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8" h="21600">
                <a:moveTo>
                  <a:pt x="5092" y="10800"/>
                </a:moveTo>
                <a:lnTo>
                  <a:pt x="19105" y="3794"/>
                </a:lnTo>
                <a:lnTo>
                  <a:pt x="1910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акое сооружение из камня и кирпича служило в русских избах для отопления помещения и приготовления пищи?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1655640" y="3141720"/>
            <a:ext cx="5391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ahoma"/>
              </a:rPr>
              <a:t>«Древняя русь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за 4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324000" y="57340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Печь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AutoShape 7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осле смерти  Бориса Годунова на престол России взошёл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1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826920" y="51577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ЕГО СЫН - ФЕДОР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1" name="AutoShape 7"/>
          <p:cNvSpPr/>
          <p:nvPr/>
        </p:nvSpPr>
        <p:spPr>
          <a:xfrm>
            <a:off x="7524720" y="561816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Настоящее имя Лжедмитрия 1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3" name="Rectangle 4"/>
          <p:cNvSpPr/>
          <p:nvPr/>
        </p:nvSpPr>
        <p:spPr>
          <a:xfrm>
            <a:off x="263124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2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Text Box 5"/>
          <p:cNvSpPr/>
          <p:nvPr/>
        </p:nvSpPr>
        <p:spPr>
          <a:xfrm>
            <a:off x="971640" y="46530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Григорий Отрепье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AutoShape 9"/>
          <p:cNvSpPr/>
          <p:nvPr/>
        </p:nvSpPr>
        <p:spPr>
          <a:xfrm>
            <a:off x="7524720" y="5589720"/>
            <a:ext cx="934920" cy="83484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4840"/>
              <a:gd name="textAreaBottom" fmla="*/ 780840 h 83484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259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то был первым патриархом на Руси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2626560" y="1773360"/>
            <a:ext cx="3669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Категория</a:t>
            </a: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ahoma"/>
              </a:rPr>
              <a:t>«СМУТА»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за 300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539640" y="4508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атриарх И́ов— первый Патриарх Московский и всея Руси (1589—1605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7885080" y="5661000"/>
            <a:ext cx="934920" cy="835200"/>
          </a:xfrm>
          <a:custGeom>
            <a:avLst/>
            <a:gdLst>
              <a:gd name="textAreaLeft" fmla="*/ 54000 w 934920"/>
              <a:gd name="textAreaRight" fmla="*/ 880920 w 934920"/>
              <a:gd name="textAreaTop" fmla="*/ 54000 h 835200"/>
              <a:gd name="textAreaBottom" fmla="*/ 781200 h 835200"/>
            </a:gdLst>
            <a:ahLst/>
            <a:rect l="textAreaLeft" t="textAreaTop" r="textAreaRight" b="textAreaBottom"/>
            <a:pathLst>
              <a:path w="24178" h="21600">
                <a:moveTo>
                  <a:pt x="0" y="0"/>
                </a:moveTo>
                <a:lnTo>
                  <a:pt x="24178" y="0"/>
                </a:lnTo>
                <a:lnTo>
                  <a:pt x="24178" y="21600"/>
                </a:lnTo>
                <a:lnTo>
                  <a:pt x="0" y="21600"/>
                </a:lnTo>
                <a:close/>
              </a:path>
              <a:path fill="lightenLess" w="24178" h="21600">
                <a:moveTo>
                  <a:pt x="0" y="0"/>
                </a:moveTo>
                <a:lnTo>
                  <a:pt x="24178" y="0"/>
                </a:lnTo>
                <a:lnTo>
                  <a:pt x="22778" y="1400"/>
                </a:lnTo>
                <a:lnTo>
                  <a:pt x="1400" y="1400"/>
                </a:lnTo>
                <a:close/>
              </a:path>
              <a:path fill="darken" w="24178" h="21600">
                <a:moveTo>
                  <a:pt x="24178" y="0"/>
                </a:moveTo>
                <a:lnTo>
                  <a:pt x="24178" y="21600"/>
                </a:lnTo>
                <a:lnTo>
                  <a:pt x="22778" y="20200"/>
                </a:lnTo>
                <a:lnTo>
                  <a:pt x="22778" y="1400"/>
                </a:lnTo>
                <a:close/>
              </a:path>
              <a:path fill="darkenLess" w="24178" h="21600">
                <a:moveTo>
                  <a:pt x="24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78" y="20200"/>
                </a:lnTo>
                <a:close/>
              </a:path>
              <a:path fill="lighten" w="24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78" h="21600">
                <a:moveTo>
                  <a:pt x="5082" y="10800"/>
                </a:moveTo>
                <a:lnTo>
                  <a:pt x="19095" y="3794"/>
                </a:lnTo>
                <a:lnTo>
                  <a:pt x="1909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30:49Z</dcterms:created>
  <dc:creator>ученик</dc:creator>
  <dc:description/>
  <dc:language>en-US</dc:language>
  <cp:lastModifiedBy>Computer</cp:lastModifiedBy>
  <dcterms:modified xsi:type="dcterms:W3CDTF">2013-09-19T16:19:43Z</dcterms:modified>
  <cp:revision>55</cp:revision>
  <dc:subject/>
  <dc:title>Презентация PowerPoint</dc:title>
</cp:coreProperties>
</file>