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81B-86DD-4F31-87F2-4C233F4B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FDC-9D6D-4C8F-A369-2A64C2AC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C4211-C9C0-4DD6-B919-526B756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E263B-415C-47B2-9DA4-0B72E690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9CF92-4E10-4BA9-A22D-92DA9FC9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62B9-22B7-4E2D-874E-DA6CE88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39FED-09AC-4841-BEAD-BD676073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8DD62-E911-4361-8949-13F4A87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8949C-9248-4B49-B3FC-A5FF6BB1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6AC7B-3172-420E-85A6-9685D817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AAB3D-F523-4230-A07C-81521AF4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21D71-E956-4E37-A497-F56480FC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94F-088E-4C72-92DF-607C4B06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C6123-72F4-40DD-AA03-F0A4874A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3CF60-60C3-4A41-834C-32EFF76B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E274A-9E62-4AD3-9AB3-10FDA1F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6C331-8322-4FC9-A82C-E9FEC0DD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EDB02-FB3F-435B-8B20-509D3F8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D87BD-8EB3-4CC4-8ADF-BE77C11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676E8-FDEC-4BE9-9339-B5F45C5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2223E-712B-4BCB-B983-2D0D58B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602E9-738C-47D8-B6D6-D0525D50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58E5D-7BD3-49A3-A6DE-1A8BC0D1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A71-73C7-43FA-8DEF-69CC38A8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4EB3D-E9E9-4A25-99AE-17729F04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5F0C7-EEE7-45AD-B057-D12A464A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62E59-CEE2-4619-A1EF-555E3B2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00E19-316E-461D-B378-B9A9489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5A49D-3397-42BB-8D65-3DDE792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4A00B-31BF-4CFE-999C-B5110616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4980C-3CDB-4930-B01D-9B9B6BC2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CB65A-2E07-4A05-8649-1E8FAB3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A7C3-9A05-449C-90E5-C450B98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AB85A-D6DB-4099-A224-5313A5F8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364-E0EB-4C26-AC5E-B023A40F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1C648-EDED-4EA9-8456-44E7FF69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8A7B9-9A0F-4896-A1F0-12BE9C4B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0DC1B-3D90-4C88-940D-B4589745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00CA1-CAB9-40EB-BE3C-DD062BA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BE573-3CCB-415E-A3C5-1592A516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00207-C653-4791-85EB-B0DB139C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6871C-21DF-49B0-B112-D6BE6BF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30EED-FCD7-4FDA-97D1-108F3863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26A42-963F-4EA4-8542-47430E10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47FFB-9FF4-492F-9380-4A58126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B0A3-F3B7-463A-940E-51BFF97D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3A8AC-E2BD-42C8-881C-A82D7F7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38E5-A9C8-4E2C-8295-A1731AE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52E8F-0206-4CA3-97BD-586448D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B6A0-1C94-4BC6-9D11-7A78AF6F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CA655-84CF-4DD0-869F-69A5E506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47B8B-1EC6-4FC0-B89B-DFCC7133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F8045-AF95-4B08-AA9D-E90577B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AD0DD-74E3-4838-9FDC-2E8523D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F91EB-16CC-4489-87F9-C55AD455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68161-9D52-452B-AF96-78E52940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66F-F768-41F3-BFAF-E141115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DBB20-D998-4DF9-8F32-2105B9B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57EA9-E6AA-4609-9593-37CE593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601E7-2583-47D9-9BF6-A91D260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EFA67-7F4A-4B73-8806-BB9C807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8D376-BA18-4929-ADA3-68A2CD0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07EFE-EEE5-4775-81F1-E4076F75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4CE7C-462F-4D8C-AAC9-0B0BA1B2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BE8DB-8810-4B6D-B407-F11D770F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8385D-FB58-45C0-96AB-D3C49A6F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1D957-7730-4FEF-91CA-66FA246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626D-0605-4646-BF45-66934429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AEA2C-F50E-48CD-94FA-4F9EE85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A1C55-4A6B-44E9-B694-A7F29BE7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6D3E3-0B99-4860-880C-82519A29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D8A69-63E9-4F83-B1AB-B5C265B8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54FD3-7DDB-4215-AAA4-A9563620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3DA35-BF87-4A77-AFDB-2F82E901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3052A-889F-4166-ACCE-0B45BA3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D108C-E717-47F0-8AFF-24E44B32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6C8A6-9ECE-4252-A569-E67CD520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286D2-CCA7-4A25-95FD-97DE0EB4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5FC-7B27-4691-8050-F7E908E6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EF351-36EB-45F9-A0BD-93F4BE3D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C70D7D-4F34-4BD2-A06F-088D36C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8D101-7284-4A68-96BF-4366A45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5962A-CD11-4C06-8E3E-614960C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F5840-2AFB-4617-85CC-C8E6C990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0AF31-6237-4481-80AE-EE55746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817E9-B97D-4DCD-9825-0B2668E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BDD10-2797-4158-AE02-124AB18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8A519-414F-411F-9560-9D6CF71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D48AA-46C7-4AD2-B540-A8B23726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CB75-F006-4E11-AFDA-1D526C12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0DA1B-FB3F-458C-9D49-27612A8F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7BCE9-10FD-4FF1-BBB5-A16109FF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1C6FC-319D-43D9-B4B5-AF07C3F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51A01-532E-4935-B094-9528F4B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1B1F7-DA29-48B2-B1B0-FA5F64DB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89B2E-4E30-4B23-8F2E-4DE771C2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04D61-8C1D-46B1-9C73-6BC37E89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B274B-C00F-4640-99A9-6064D9CD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A4595-ECA4-4990-99EF-8EBE991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B0A53-CB38-47AB-BA76-E859241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0D63-AAC4-4FA6-B7A8-A952DEE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EEA7F-5EDB-40CA-9C82-09ED9FF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E54D6-8A18-4BCA-99C9-F809742D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A9AB6-C9B3-45FF-B785-DAE5436B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E17FB-17ED-4A83-9DB3-69462AC9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C8318-176B-4624-B3DD-71754A54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D1B1C-14FA-42AD-962B-BB79F4C4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22B05-CA05-447E-A60B-4B8A47AF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6B60E-40D7-4854-BDF6-3A5002A7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DBFFA-0955-421D-807A-B9EDE214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1C3F8-52C0-4FD5-8179-45B3A77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644-23D7-471C-947E-8EF8997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32FD-721B-4F99-B5F4-AD91764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C71C3-AE64-4518-80B5-33B6A20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C35BD-0AB4-4332-97B7-EAE1267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C2A73-4884-4152-87DE-7D5995B4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5BE56-F26F-4065-9DC7-18667134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20965-C4ED-4FD3-8E65-179D302A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A0B07-62EC-495C-9EFB-D2B45C89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61405-31FC-47B4-8658-9A6E7A5B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5803E-1DAB-4BA8-A446-1232CB7A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BA4D5-81E3-40B8-A583-736D029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A2A64-5B55-4AEB-BF0A-94FE1BC4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647-0196-426F-A48F-8A16662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3744C-3B7E-43D4-B368-69AE4FF7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32CB6-3D09-444F-BE98-DAB66F0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73D84-2107-4E78-891F-C38F6A0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50DDE-31F7-4C46-91E0-51B2B0A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043D9-68B6-4C40-B25C-20AF605E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48067-1259-4E21-BF72-B87A191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79CD9-1F21-4265-B7C2-82976BD0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E5AA1-EADD-4477-8EDE-43AAA4FF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BB5FE-ECCF-4828-B40D-9C55CE0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C3F8C-E124-4E04-B87A-47DB97D7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730-F906-4222-8806-27448ED7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67B5C-B104-487D-8CA9-8EDB4714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AF4E1-8B0F-4B5A-9A92-52ABECDC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B53D03-8A5A-4732-BD41-61E49EC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E4E57-B5A0-44B2-8629-1173B4E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625A3-C4E1-4DEB-B9F6-A372186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E82FA-900A-4EB4-94F0-0F5548D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85B27-24D9-4F6D-8E7C-BEECE476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64A72-1CDE-46CF-9BC8-4A083FC6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7706E-CE5A-434C-ACD3-5F391B64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64343-800E-4C6E-8B6B-4C859A06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1804-AABE-4063-B418-7C6FFB5D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99870-4BA5-4639-A60A-61E3F8DF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EF376-1C6E-4573-8C9A-1A713679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5AAD8-D034-4695-A776-BCCF506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93DB8-5BBA-43A6-82D4-7B747EB1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B7C6D-6EA9-4ACC-B87F-39F75C4C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D6765-4D68-47D2-9158-1AD9DA5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54BC6-849F-482A-A3DA-7B1BF80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F9B25-9C6A-46FE-B7E3-5D102DA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BDC52-5F82-4FDF-9739-77EF13C7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8DBAD-1951-455A-8951-5DB73653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E41-AE6C-43E6-B9EE-B0691BEC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6D980-5BCF-4579-99BE-10B7AFAE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07B4E1-23A4-41CB-8E04-DEAB0986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CE877-26D6-4B0D-93AE-96428F09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018B3-60E7-4A60-8A74-9BC4C75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43C99-025D-46DF-9F7F-99DB1199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CA9D0-6EBA-4CFE-90DF-C2E98CF1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B277A-F8A8-4FE2-A1BD-ACA1977D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94453-E544-450F-9C79-356160A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66E5E-773F-45FA-9B13-6955B09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9E844-7B33-4AD2-BE12-FEFE2EC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41B86-4161-4F1B-A8F8-4EE418FB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21AC0-CBEF-44AC-B974-DA120F47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DD8E6-3106-47CB-B19C-224154A0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44D25-D889-4BE4-AE92-6D55B1D0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4E1D2A-9D48-4CEC-9256-44D55BBA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AC61CE-526F-4635-87BF-453931D3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FF74C-93DC-40CD-A38A-02326AC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4E14B-9999-45A1-A0FF-BDF7F8B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B87780-2837-44BF-A790-6B97889B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6ABC2-F1E5-45B8-9AD2-D57D049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99C01-CF4E-4EC2-A8E1-73A2840B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27B3D-99C0-4643-ACA9-808FD09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8E3EA-752D-4B8E-8967-1C6B45D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E3E9EC-3617-4E56-8C4E-C501DA1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82FAE-BA27-48FF-9522-E5FF764F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2188FC-02FD-418A-9AF6-9F442E44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CA0B2-A2E2-4E5D-8014-D29226F8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175EB-6A3A-4CE2-85F7-16540874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9EA8BB-7152-43AC-A71B-D1B64D97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2ABDB-31E6-422E-B21E-372DE72C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93C40-D74E-4CAF-8EAB-474C0D98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86E8F1-49B1-48F4-A5BC-11401FAC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791D4-31E2-48E9-96D2-956A8EF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1F29E2-6E3C-4325-ADF2-E3D469C9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4B13C8-EF09-4CA8-BB19-5C1FA60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6F5B34-A5B4-4B6A-A42A-471B112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7D7D85-096F-4CE5-9AB5-61F1DABF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66983D-A884-498B-8760-978DFDAF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96EC51-3200-42CA-80A4-307A576A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FED17-9DCD-4B18-8FE6-9E26AD5D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FB5BE-4A0F-42D4-9820-E76324E2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E82D2-87CA-43BE-A18A-034527BE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977B91-AB5A-482A-923E-A2D5E3EB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359E4-1CE0-420B-BDE3-103D9CA0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9C6103-5D31-42C3-9E06-DAD0ECA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CDD7F9-2605-4223-81AD-96B5ADE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C9E880-0ACC-499F-91FD-0744F817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E820D9-0EEA-434E-BDB6-BDA99E06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C8D0B7-D1BF-4805-A762-1F50391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732E6D-AA58-4C73-B418-BDF9CC88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552764-CAB9-4F34-8EA4-0DB1E5A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C2203C-7157-4589-A171-F4924A19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A4A8FB-FB47-4E9B-B321-A0D36875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2AB21-6CBF-417B-AB5D-C885399B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845-6721-41BC-9378-8F778A55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EE00A-7D7E-4F76-A4E9-7B72F8C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7C7C0-3DC2-4AA3-8C50-7AA8617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EFDF6-D31C-459A-AC2D-60705EB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B895C-055E-41A3-B7E4-339055BC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E7E5A-D042-4CC7-91B4-4C111DE9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339E0-207D-40EB-A3B5-12B08DFB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D4FD3-C843-431D-91A5-6929ACA6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7506-17B3-429B-8341-502DC721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1B6C-F435-45E5-9BBD-945775A1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027E-6AB1-4038-A492-E19704C2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A06-915C-41E1-A0B2-93C74DA3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BFCEB-63AB-4BD7-A649-34D2D4A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59B3-5EAA-462B-8031-829B3CF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B330-465C-4E88-BCA0-CDFEE4C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428E-5652-4648-BC02-740657A4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2FAD-1A26-4F8B-B1F1-723A6C1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BCDA-F70B-4B91-B35C-3C89985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22302-4C8C-4D79-A70B-A03A222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B247-DB4A-44DC-8012-24FB1C6F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3C53-2D2C-436C-BCAE-D427FC39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118B-FAFC-4224-BF94-DC34416E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4E7-9CF8-45E6-91DA-2A7310FB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5D14-9368-4981-9325-ACFCE1D6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C6B0-4B95-48F2-8DFC-AF6BB1AA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B41C-3A17-4C7D-9493-BAA74D3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1C7D5-B400-40B8-968B-9FE42D6A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C2FF-0BE5-4B9D-BBB9-CEFEDE3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6B3E-AA7C-4DD6-8316-F8C610D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EE8EF-973D-4D38-A332-DC2385C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4618-AD61-4F8A-B9A7-58E2716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25AA-A6DD-4989-A538-41BFDF0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4AB0-082B-4873-8E2A-A1B64C2B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393-7CF7-4DB1-8C26-C7B8726C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0CB0-A0F3-465E-8A2A-7CA6CC00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56FE-AFEF-439E-892D-E616C41E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9479-1BB0-4638-843C-F00CF409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809C-A0D9-4124-BF84-D8E80B4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5FAD-1265-47D1-9FD7-50DC8697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BE4D-E4F6-4E6E-B618-997C2D2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22A99-919A-46B7-8569-AD0D28D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3A33-DE8A-4716-9E77-6F2A655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0BD8-DCD2-42A3-9214-A9B0305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2BFC-E196-4255-A6F4-2633F7C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7C9-0F15-44DE-B786-1F28C16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088D-065E-4048-8BEC-600A093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AFAD-2710-49C7-B417-5C7F9B86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7595-0AF2-4EEE-9295-40EF8419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2995D-A18D-4820-AB84-020A29E3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FEBC-0A7E-4B1B-82A3-4744C8B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C5E8E-9FA1-4B97-A37D-0009466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D70D-46E1-4827-B2F3-ADEC9CA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A1A2-8E6A-4B97-A59F-B8960AD4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046A8-D134-4DA5-A089-83E025B8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8A5B4-2DB1-428C-8FE6-35EE8FE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2F1-21E2-44C6-BA78-C791B61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48A12-87E2-42F6-8D20-510F498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F700-2D40-4F12-8BC0-94F92D7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A9B56-FABE-4203-A35A-8F865F1F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02BC-D138-44AA-A078-D06248AC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2B8BA-D1E5-47F5-8E25-2037C838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3E17-D5E7-4528-A075-4484340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12BF3-1240-45F0-B572-5C03D162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C34A-0712-4384-94D7-4B4809F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4F826-971D-49BA-BC26-E477C734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BEDE0-6205-4254-B151-C9E7268E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F2A-79B2-44C0-B881-CF9C07A4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FE939-946C-4593-8588-E9C89B4A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129FF-DFA7-478A-8EC2-ACF24E0B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06F27-7FFD-461C-8260-C318CEF2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843C7-0FF3-42A0-A113-3D8BD77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52BA-6055-4C8F-878A-8173921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29ABD-7EE4-4FE1-81FE-F72B6749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E838-1F4C-4919-954D-F9493682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54E1C-40A5-4061-8C71-F59E3852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9AB90-56DA-466E-9F34-65D9781F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B5FC6-0B50-4241-940B-43A5C62D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B8F-30D2-4ABD-AE48-A8695A6A8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8483-4164-4C41-9593-116717E78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B627-FA29-4377-9B08-92ED9C17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DAC6-5EF7-47BA-AD58-0C8700F3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CC2F-899D-4D74-A179-784BCB93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FCF-8C5F-45B2-9A27-C679E8166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5314-6D9B-48E6-8DBA-7F97655FA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B0CF-06FD-4B54-BCAE-71FCC47A4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8F41-51DE-4E3C-A195-D45D08C2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4F41-9DF6-4C6D-844E-B4971A224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2207-276C-42EA-AE06-F3561C9E1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747-1C69-40DA-90E5-9898C97D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C68-F133-4ABF-BF90-3D3C893B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222-2A02-4F8D-A03C-6F170F92F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CD0C-4786-432E-91C3-684C6CD1A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C24-D4C2-4B89-9CDA-E6DC13671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76E-6A2F-4847-AB60-388DC3E22C2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F650-EEBE-4EB1-BD80-40AB6088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F77-A333-4319-910C-BEFB1E25A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DD7-95FE-4ED0-A76E-12B22961D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457B-7189-46D6-A4ED-7B254FFDE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E40-C21B-4F67-BB96-4E5C4CA8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9FD-563D-4E53-B38E-388AD6893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11F-B770-43A1-B752-2B5191CA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9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21.xml"/><Relationship Id="rId13" Type="http://schemas.openxmlformats.org/officeDocument/2006/relationships/slide" Target="slide6.xml"/><Relationship Id="rId14" Type="http://schemas.openxmlformats.org/officeDocument/2006/relationships/slide" Target="slide10.xml"/><Relationship Id="rId15" Type="http://schemas.openxmlformats.org/officeDocument/2006/relationships/slide" Target="slide14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2"/>
          <p:cNvSpPr/>
          <p:nvPr/>
        </p:nvSpPr>
        <p:spPr>
          <a:xfrm>
            <a:off x="324000" y="5013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9 г.Ессент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шкова Татья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684360" y="765000"/>
            <a:ext cx="7343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"СВОЯ ИГРА"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835280" y="549360"/>
            <a:ext cx="47559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ллектуальная 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- викторин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7 класс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116000" y="3860640"/>
            <a:ext cx="66438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 истории России в 17в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д каким названием вошел в историю указ о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5-летнем сыске беглых крестья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2554920" y="220500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Урочные лета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Господствующее сословие 17 век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9280" y="206064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395280" y="5229360"/>
            <a:ext cx="77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ЕОДАЛЫ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Частновладельческие земли, Освобожденные от гос. податей и повинностей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2012400" y="263700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95280" y="522936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елые Слободы ( Белые Земли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оенное сословие, население Дона, Яика, Приуралья, Терека, Левобережной Украин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25120" y="270828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Rectangle 9"/>
          <p:cNvSpPr/>
          <p:nvPr/>
        </p:nvSpPr>
        <p:spPr>
          <a:xfrm>
            <a:off x="1835280" y="56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АЗАК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Лично свободные крестьяне, владевшие общинными землями и несшие государственные повинност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940760" y="263700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8"/>
          <p:cNvSpPr/>
          <p:nvPr/>
        </p:nvSpPr>
        <p:spPr>
          <a:xfrm>
            <a:off x="108000" y="5078880"/>
            <a:ext cx="73454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Черносошные крестьян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4"/>
          <p:cNvSpPr/>
          <p:nvPr/>
        </p:nvSpPr>
        <p:spPr>
          <a:xfrm>
            <a:off x="1436760" y="1773360"/>
            <a:ext cx="6230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Бунташный век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5"/>
          <p:cNvSpPr/>
          <p:nvPr/>
        </p:nvSpPr>
        <p:spPr>
          <a:xfrm>
            <a:off x="1042920" y="4581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оляного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Бунт 1648 г. получил название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Донской казак, предводитель Крестьянской войны 1670-1671 годов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850400" y="184464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755640" y="4203720"/>
            <a:ext cx="6337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тепан Тимофеевич Раз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Поговорка «Береги белую деньгу на черный день» появилась в связи 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1907280" y="249228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Медным бунтом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Кто принял Соборное уложение, закрепощение крестьян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728000" y="177336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1908000" y="501336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лексей Михайл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акой царь правил Россией в 1613-1645 гг.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031760" y="292428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1042920" y="53020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ихаил Федор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Группа 29"/>
          <p:cNvGrpSpPr/>
          <p:nvPr/>
        </p:nvGrpSpPr>
        <p:grpSpPr>
          <a:xfrm>
            <a:off x="250920" y="692280"/>
            <a:ext cx="8493120" cy="5662440"/>
            <a:chOff x="250920" y="692280"/>
            <a:chExt cx="8493120" cy="5662440"/>
          </a:xfrm>
        </p:grpSpPr>
        <p:sp>
          <p:nvSpPr>
            <p:cNvPr id="1116" name="Rectangle 4">
              <a:hlinkClick r:id="" action="ppaction://hlinkshowjump?jump=nextslide"/>
            </p:cNvPr>
            <p:cNvSpPr/>
            <p:nvPr/>
          </p:nvSpPr>
          <p:spPr>
            <a:xfrm>
              <a:off x="250920" y="69372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Древня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Русь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Rectangle 5">
              <a:hlinkClick r:id="" action="ppaction://hlinkshowjump?jump=nextslide"/>
            </p:cNvPr>
            <p:cNvSpPr/>
            <p:nvPr/>
          </p:nvSpPr>
          <p:spPr>
            <a:xfrm>
              <a:off x="1977840" y="693720"/>
              <a:ext cx="1655640" cy="1006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Смут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Rectangle 7">
              <a:hlinkClick r:id="" action="ppaction://hlinkshowjump?jump=nextslide"/>
            </p:cNvPr>
            <p:cNvSpPr/>
            <p:nvPr/>
          </p:nvSpPr>
          <p:spPr>
            <a:xfrm>
              <a:off x="7162920" y="69372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Первы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Романов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Rectangle 8"/>
            <p:cNvSpPr/>
            <p:nvPr/>
          </p:nvSpPr>
          <p:spPr>
            <a:xfrm>
              <a:off x="322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0" name="Rectangle 9"/>
            <p:cNvSpPr/>
            <p:nvPr/>
          </p:nvSpPr>
          <p:spPr>
            <a:xfrm>
              <a:off x="2050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2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1" name="Rectangle 10"/>
            <p:cNvSpPr/>
            <p:nvPr/>
          </p:nvSpPr>
          <p:spPr>
            <a:xfrm>
              <a:off x="3778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3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Rectangle 11"/>
            <p:cNvSpPr/>
            <p:nvPr/>
          </p:nvSpPr>
          <p:spPr>
            <a:xfrm>
              <a:off x="7162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4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Rectangle 12"/>
            <p:cNvSpPr/>
            <p:nvPr/>
          </p:nvSpPr>
          <p:spPr>
            <a:xfrm>
              <a:off x="322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5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Rectangle 14"/>
            <p:cNvSpPr/>
            <p:nvPr/>
          </p:nvSpPr>
          <p:spPr>
            <a:xfrm>
              <a:off x="2050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6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15"/>
            <p:cNvSpPr/>
            <p:nvPr/>
          </p:nvSpPr>
          <p:spPr>
            <a:xfrm>
              <a:off x="3778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7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16"/>
            <p:cNvSpPr/>
            <p:nvPr/>
          </p:nvSpPr>
          <p:spPr>
            <a:xfrm>
              <a:off x="7162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8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17"/>
            <p:cNvSpPr/>
            <p:nvPr/>
          </p:nvSpPr>
          <p:spPr>
            <a:xfrm>
              <a:off x="322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9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18"/>
            <p:cNvSpPr/>
            <p:nvPr/>
          </p:nvSpPr>
          <p:spPr>
            <a:xfrm>
              <a:off x="2050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0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9"/>
            <p:cNvSpPr/>
            <p:nvPr/>
          </p:nvSpPr>
          <p:spPr>
            <a:xfrm>
              <a:off x="3778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1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20"/>
            <p:cNvSpPr/>
            <p:nvPr/>
          </p:nvSpPr>
          <p:spPr>
            <a:xfrm>
              <a:off x="7162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2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21"/>
            <p:cNvSpPr/>
            <p:nvPr/>
          </p:nvSpPr>
          <p:spPr>
            <a:xfrm>
              <a:off x="322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3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22"/>
            <p:cNvSpPr/>
            <p:nvPr/>
          </p:nvSpPr>
          <p:spPr>
            <a:xfrm>
              <a:off x="2050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4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23"/>
            <p:cNvSpPr/>
            <p:nvPr/>
          </p:nvSpPr>
          <p:spPr>
            <a:xfrm>
              <a:off x="3778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5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24"/>
            <p:cNvSpPr/>
            <p:nvPr/>
          </p:nvSpPr>
          <p:spPr>
            <a:xfrm>
              <a:off x="7162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6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25">
              <a:hlinkClick r:id="" action="ppaction://hlinkshowjump?jump=nextslide"/>
            </p:cNvPr>
            <p:cNvSpPr/>
            <p:nvPr/>
          </p:nvSpPr>
          <p:spPr>
            <a:xfrm>
              <a:off x="5435640" y="69228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26">
              <a:hlinkClick r:id="" action="ppaction://hlinkshowjump?jump=nextslide"/>
            </p:cNvPr>
            <p:cNvSpPr/>
            <p:nvPr/>
          </p:nvSpPr>
          <p:spPr>
            <a:xfrm>
              <a:off x="3778200" y="69372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Сословия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27"/>
            <p:cNvSpPr/>
            <p:nvPr/>
          </p:nvSpPr>
          <p:spPr>
            <a:xfrm>
              <a:off x="543564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8"/>
            <p:cNvSpPr/>
            <p:nvPr/>
          </p:nvSpPr>
          <p:spPr>
            <a:xfrm>
              <a:off x="543564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9"/>
            <p:cNvSpPr/>
            <p:nvPr/>
          </p:nvSpPr>
          <p:spPr>
            <a:xfrm>
              <a:off x="543564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30"/>
            <p:cNvSpPr/>
            <p:nvPr/>
          </p:nvSpPr>
          <p:spPr>
            <a:xfrm>
              <a:off x="543564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32"/>
            <p:cNvSpPr/>
            <p:nvPr/>
          </p:nvSpPr>
          <p:spPr>
            <a:xfrm>
              <a:off x="5435640" y="766800"/>
              <a:ext cx="158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Бунташны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ве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аиболее тяжелая форма зависимости крестьян, проявлявшаяся в прикреплении их к земле и полном подчинении власти феодал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944640" y="234936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258920" y="5445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ЕПОСТНИЧЕСТВО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Был благоверен, зело кроток и милостлив». Он сумел сохранить равновесие всех общественных сил, никого не казнил.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Его имя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873000" y="234936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Михаил Федорович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Кто принял Соборное уложение, закрепостившее крестьян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397160" y="213372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468360" y="4941720"/>
            <a:ext cx="67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Алексей Михайлови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755640" y="12844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- А. А. Данилов, Л. Г. Косулина. История России конец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.в. Учебник для 7 класса общеобразовательных учреждений М., «Просвещение», 2006. 254 с.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Где жили первые монахи Киево-Печерского и Псково-Печерского монастыре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3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1728720" y="220500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611280" y="46530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вые монахи жили в землянках – пещерах. Старославянское слово «пещера» по-русски звучит как «печера».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07640" y="980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Скажите на древнерусском «сидящий рядом», если сейчас мы этим словом называем и «живущего рядом»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1617480" y="249228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250920" y="530064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се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сстригой на Руси называли бывшего военного или священника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1833480" y="299736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250920" y="5445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ывшего священнослужителя, добровольно отказавшегося от церковного сана или лишённого его за какой-либо проступо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7"/>
          <p:cNvSpPr/>
          <p:nvPr/>
        </p:nvSpPr>
        <p:spPr>
          <a:xfrm>
            <a:off x="7451640" y="587700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акое сооружение из камня и кирпича служило в русских избах для отопления помещения и приготовления пищи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655640" y="314172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324000" y="57340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еч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осле смерти  Бориса Годунова на престол России взошёл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262656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ЕГО СЫН - ФЕДОР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астоящее имя Лжедмитрия 1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263124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971640" y="4653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Григорий Отрепье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то был первым патриархом на Руси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262656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539640" y="4508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атриарх И́ов— первый Патриарх Московский и всея Руси (1589—1605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Computer</cp:lastModifiedBy>
  <dcterms:modified xsi:type="dcterms:W3CDTF">2013-09-19T16:19:43Z</dcterms:modified>
  <cp:revision>55</cp:revision>
  <dc:subject/>
  <dc:title>Презентация PowerPoint</dc:title>
</cp:coreProperties>
</file>