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03B-8F29-457A-A7E6-3121BF39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613-F05C-4780-87DF-C195D554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5C2CE-87AC-464D-9A50-773A21CB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A0B3C-3379-40CA-BCB3-5A8D3B0D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5BF7B-06F7-4FE1-A1EE-03FBA2C2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5DB16-A557-48C8-8832-1AEF3D15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A6C90-8335-4064-9A85-53E973CE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B4EAD-801D-4F97-820C-280A981F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7744E-50BE-443F-8BDA-1D1FC2DF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229B2-84FF-457C-8377-84440FAE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A12F2-E83E-4701-AA1A-B5FE899E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0787D-F7DD-41E8-9946-EA798275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BF4-FDED-4C19-B933-F4F16B27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00A39-DB89-40E2-8C0E-33CC85D0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488EB-97E5-4D21-B827-76333AA8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6B71F-C272-4B54-9BF1-B569C951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D5ACF-1E25-49A9-B8C3-D45B37D8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65B56-14A0-463E-B11C-97A6E222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C54B1-4CC8-42F4-9FCE-928705A5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5E25A-85BB-4A4F-A97C-BAC97A40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B4BC1-B5B9-458D-9F24-C8AD53B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CCC79-0F50-45B0-B5D1-CC57BF73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AC22E-BD09-46E7-AF7A-FA579368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7CC-82B0-4960-86F9-089DE2C4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63E46-4FF9-4E5C-B9DC-81164C41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29EA9-4C35-49A0-89FA-C36310EC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9B478-6024-4D6F-BF56-411ABFA8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61CC5-C1D2-4067-B3DD-9F9449AD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D4FCB-B259-4D42-B280-450A3A3F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CEE02-419B-43CC-AF34-68F12432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1CCB1-1B76-469F-9BC7-F4D0D294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5AA1-F1AB-4DE7-895E-E0E4775D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80887-005F-4C16-A4AD-F5C7268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AE365-96E9-4503-9529-CB62345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306B-8647-4B80-ABFD-36AE9C0C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8B5B0-E3CE-4994-9A7F-D961CD71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5E6E0-3C8B-4BFC-9B17-92EF720B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F7714-9853-4017-A249-96728CA7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E21E4-FE55-4E3E-92A1-00FBA253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26B71-C65A-44DC-B7B8-FAF9E35B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10D89-2D1F-4838-8370-E43C30EB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4EFBD-0F24-4428-AF2A-137D29EE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74FE0-E298-4B94-8BCA-1279D93E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F982C-1F4E-4151-AF07-26F3CE66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C96A3-BD2C-40AD-9E13-35AEF671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2E36-A022-4DFD-9A86-E697EEAF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360B6-6E8A-4B96-90C0-124B112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8CE28-931F-4B42-A9A4-DC8D18EF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4D3ED-FA6A-4B8F-B9BB-55ACDBD2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CC4C8-3676-4F1D-A1FB-94EFF7EC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80B7F-CC95-4405-850C-16A7AFE2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4769D-E763-4059-9DF8-76F465C5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22036-7367-4574-9EF6-C2F5F474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8E602-FDAF-449B-A936-98E46C19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03312-06E0-46DD-A918-731386F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7908B-7AC7-4BF7-9AE1-EEA7CF4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6A2E-CB67-4A8F-BD37-78EE5FF4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67E3D-2C54-44F5-8961-B8DA801F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899CF-C920-4455-87FD-D01C57EC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2F78E-5B59-4BC2-AE4A-87C7BEC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0618D-A2C0-45DA-AF85-309022BE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A7D1A-8F04-47BB-BCF0-7D87DB56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FBB2A-2AF4-43A9-9D1A-DE8AD947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A40F6-A359-457E-885F-F5129F47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36A57-6A01-4F63-89F3-3893B70D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858AE-FC93-4828-AD35-4F0E25C5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4028B-DA15-4833-B655-9E060A89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8895-8FBB-430C-A5A3-9268BA71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51074-7BE2-4C4C-8004-427CC807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F4CB0-242D-4034-97E1-52F06480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96136-AF0F-4339-A6E7-8BD11D06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77EE8-D6C5-4FDA-B5EA-411427AF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49018-736C-47F7-895C-EC94595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10B79-9243-4808-A04F-1CB4990A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1CB1A-C0FA-4DE7-84A7-16B28837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EFAA9-622C-4837-8C74-CE9B8969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35B47-2091-4D55-BDE8-E3C26784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BB52F-EEBF-4A3F-A8B8-46D9F3CB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AD71-6B25-4932-AAAF-075F30A4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DC981-A15C-4E41-9F11-1E684768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10745-A7E9-435E-80E0-2BFAE5C3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7F9E66-6D88-42DD-B0DE-33B97895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AC9A8-D579-4457-BB48-31BA5E77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28B8D-DB4A-4CFF-855F-1C48FCD7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DAE53-6668-4D7F-8A14-21A24D87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94521-1DE1-4C0D-9AF7-0441B98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2CFEC-FC56-4916-A6AF-434D1438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D5FA0-1D54-4D0F-9EBB-A51F412F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A86C4-E911-49FA-BF0E-28DB75C3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F341-2423-4134-B977-7911B72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E9D6C-A752-43FF-ABB2-F232B712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D3EA7-1550-4601-AE08-23AC2DA5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CE148-4687-4AFC-80D3-A4AC72BA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ECAC7-EFD4-48E3-8555-48831CFD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74CFB-2157-4CB9-9C9F-240A48A0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BE226-9C9D-4FC0-900D-6C4AA24D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F41D9-668E-42F6-9401-EC14A6B2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766F0-3563-4937-B298-DA4619BC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85AFF-7A59-4C6D-A5D9-D7C691C7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D8E2E-0C7A-406F-941D-1D7B3EC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ECE3-0EE3-4A25-934E-EE167924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50760-191D-4C3A-8733-9B04199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F8916-26F4-4D90-AFB9-CD13B056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EECE2-CD5D-46C3-8506-D9EEAADF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E3FAD-0D1B-4732-BECE-4AE2734F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5BDE9-ADC4-494F-A819-EE622DA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9F5E5-4BB3-43B2-A43B-77554AC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F0229-D4D2-43EF-B9A1-2ED95F06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D23FD-0F8D-4899-B7E8-DA027123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4AE70-73D8-48B9-ACBC-67B2ABFE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5C911-2A57-4482-91B3-2D5EA94E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88D-D997-4065-A357-9E5582B0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029A-2DBE-4A24-BBC6-1346C198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4E809D-3F30-467F-8256-886147A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3914F-1A42-40CA-84DC-2E14DFCD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4E7E2-DCD0-4CB2-9317-7C14DD2A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F60EF-0AC4-4187-BDAD-5172D1EA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8B0C0-85AA-4D80-8BB6-3082480C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0F5EE-F4A2-4753-A15E-EADF18E8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CA315-FA01-4F52-B4C6-97D9F996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586F0-67C5-4A9C-A652-C28633F6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03BF4-5D74-426A-B34C-3F8C37F0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4DC38-8A9D-4E89-B5B0-715E0623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CE00-B8D6-4C5A-B911-D0A6827D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B4296-10F8-4567-908B-C57873E0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44E06-8D98-4B12-9C81-AEF9623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353F4-B739-48B1-B300-AB49789E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895BA-16BF-413C-8EE1-3AEEE852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C1B07-C0DC-4F84-80AA-16EB7EDF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D441C-29AB-4293-8CEF-B4B337A2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BE9FC-00B2-4A08-85A2-EAB901A8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F41ACD-9630-4723-BC0E-C58EB1BD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51A6D-8C80-4CFF-8369-84C88585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B4307-2724-4843-841D-D4983D23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E321-FA0E-49BA-88F3-6E2DDD39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39067-4F32-4793-AF5D-3E8D8EA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199E2-95F9-4288-9F6A-FC5C6FAA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5ED72-4B49-46F4-B2B4-AD2D6760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5266E-D642-4184-87C0-AB63634D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A06C4-B020-4ABC-8CDD-36C118A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C0C9C-87EF-4787-B4F0-40E808D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DD4C9-0EC1-441F-A77B-CFA80E9F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24E9E-FCB6-425C-BE08-B1A97335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E5B626-C6D6-4DA3-B115-365E4074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0CD4D-E515-48C1-AABF-A2B2C294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07D4-392D-4BAD-8D22-E6D771C8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0F1AF-C4F7-461C-A820-B6D381C1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B01969-8189-4E18-9D26-2B51197E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8C459-2331-4527-8420-07614CC8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FFDD5-2030-4435-BF51-B7371CEC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A8F3D-55EF-49C2-A1B1-277A4CE2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8BCD3-5825-4207-A2F3-A679D7B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B91638-CFE2-4C5A-9370-92C8AC5B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12F65-A331-4A65-A858-AF262AF3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0F4A9-3BBC-4759-ACA5-A73E57A9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F8961-4292-4DAB-BB48-5587D7D8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7C37-37BA-4874-B0F3-4A33876C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8AE41-1284-4AC7-B4DF-072E62E6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D38665-849A-427A-B2F5-ABB3B999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230D3F-61E4-4CC3-9DC4-0C3FAC26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0020FA-FCE7-4EE8-983B-5E6A1CD2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C4DD8-394A-49EE-9E7D-A9EFCD0B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3B03A2-5BDA-46C4-8867-6D600DE0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F723B-33CF-4A2E-9EB9-9281BF12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EEA14-814E-4D61-8A6D-EA0BE237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F317A7-4C48-4F87-B6F6-051343AA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13EB9E-945D-421C-BC93-140B36D3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472E5-7E79-4FF1-B47B-CADD6EE9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77EA1C-CC02-4558-86B8-996C4D20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7EF90-9D74-43FF-A5CA-9FA88FC6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B2A6F-3EB2-4ECB-9307-8F66E8CE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6C2F68-6206-4525-B078-E3ECC902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19FF9C-5EBB-487D-AFB7-D07DDF26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26797B-769B-4A05-A00A-1CA11F13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FFA425-4B65-4428-9065-0B7F5198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D18A5A-D029-4906-A8C1-3905C67A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B1F0B8-E1F8-4E21-9F42-DF8E2B7D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85BAEC-56C9-4443-A761-9BDC1D2E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49B8A-3BA2-40A4-8A0C-050625A6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180562-4771-4F29-82BE-FF63E14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EDC975-8345-4E3D-BEC9-B1814725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BBBC92-59F0-484B-A805-0C82B44B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B4E22D-3DB5-4359-A843-437D0BE2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FBE277-7AF0-48D3-9F5A-6AF9D673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A8E4F5-718F-4203-9AA5-C9A21C42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927564-DF6E-4D03-B84C-73D19DDD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8EE5D1-9296-4D1E-99BB-6BDD69EC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B551A4-8C8C-4847-B3CE-90BCCC38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5F5BEE-436C-4EEE-8D83-754CDCC4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F6C33-F96E-4D53-AFF6-E5DB55C2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4CA5A5-98AC-419D-9807-67678952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1950F2-60BA-43A0-BD81-C8ACFDC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48E183-24E7-414B-9613-2182B236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48C91B-957B-46FE-A519-6C1A0313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DAF739-BFF4-410D-9745-1360C2ED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1C2C24-B7BF-4732-9EDD-398EEC96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7999D7-C649-4EEE-B9B4-11D29BBA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B392CF-BAF4-47F2-8F1A-96BF4906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FD74D0-9047-4EFD-943B-A0245D72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360E4D-9578-47A9-A1AE-1A5C85B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B971F-37F5-47E1-8D62-A938E0DE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39063E-C8D4-4591-9B09-35EBA3B3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475A1D-A536-4F01-BF2D-C0CA643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81E189-68CF-4828-B389-09ED9BAF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E5CF6B-E4C4-432C-96E3-376062B9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9221CB-C795-418E-8E31-D9C8705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6DCF5E-7812-4F17-9D2A-6CB73BF3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F2CA0E-9C3F-4FA1-84FA-E7F598C6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94C51-7398-46E4-9007-0CD8516A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2D1A49-8290-4C72-BC61-7278F5B2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CB831-24F7-40C6-9243-A195EF33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6B8-CC3C-4556-A64F-631303CC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896B8-6A6F-4807-809E-1D7B5061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C32A0-9701-4523-B33E-A4A3D9FD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6D191-5E68-441B-88C2-10769F7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F54D8-7A73-4EC6-8AFE-BB9E8F1B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51FD6-8561-4D5A-9E35-7EA10CF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FE66D-4993-4692-A5CC-4B9A3B79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91F15-7E7F-42FA-8C55-FCE54AD1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23CAC-D0F1-4B7B-BABE-649AB061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3C41-3F37-4CC7-A145-FD969D71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9657-D3C0-4B85-BF4B-2EF0707C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0A2-7CB7-4AC6-BF93-99893935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59CF-7250-493C-86F1-683547C2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0BB9-398B-4651-812A-C7CA2A25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E6A36-BF09-4571-9608-26BA5BEF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DBD8-5681-4636-B27C-DD364D8F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0022-4ADC-48E8-B17E-E411917E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C5EA-899D-416F-9417-90CDBAAB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8047-0727-40BB-9799-1C300A87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EBC1-3EA4-4D88-8256-EA92CCC8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E7472-E73F-4C8E-BE49-9D0EFB28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59D21-2FAF-4805-B0BF-C141B6AD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ABE-8797-4997-AABB-46163E15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80596-9000-4AFA-B64D-7BFFC38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0FBE1-7452-4447-A74C-F6D7FD33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363D-E7C7-476F-B254-7CF91FA6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7EA5-DC8F-4777-8CCC-102BA3DE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C715C-FFF8-406D-8F44-362E7FEB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419C9-6E95-4A57-8335-496C8CE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8755-9CCD-4531-80F8-B84B3B0C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C26C-FE6B-44D9-BCDA-A3DD90E6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CE9CD-A618-4057-BDE1-DADB152A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CCA3-1779-4963-A657-0BC2D228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049-FC58-4C0C-ABDD-28B8322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9130D-8392-46F7-90E5-DB8402EF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0B4DC-45DC-4C57-816E-F8DBDFFC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4FB0-034A-483D-AD64-2DFED4F6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3392-1865-4BC5-9E11-F151D6D3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88527-ED18-4331-943A-A3F0408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05D9F-C6EC-4F00-8D08-69C7B80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A85A5-88A2-4559-BA69-EE0FDDCA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F79B0-A9E8-4BB1-93D9-FDD2CA2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452BD-DE4A-47E0-B076-4F1A1C01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DD7D-A550-441B-9B06-30FCD2DC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796-AAA3-4D93-ABB0-BD443E4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4931B-C8DB-4C03-8B68-80C5E699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E2AF7-E5CC-46AB-9D83-85E8DABF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55BC9-77E3-44D8-9BAA-5591303B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7BD6C-B3B8-4405-9B97-ED1C05FC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E500D-19A5-4AE4-9267-CCFEE996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B75E-CE63-40D1-8557-A1F3F557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31342-65F2-41E2-8DF7-730107A6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94CA3-A047-46EE-92CC-D8F213C1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77D7-04B6-4216-A1F4-39EC8175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99C6-A9ED-4243-9E45-76957BD1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0D9-B788-4AE4-922A-324AF6F8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27026-E000-4ECD-A5E1-9871B86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E479F-01DD-4C2C-940C-16858DE6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F847C-344B-4F89-960F-E761D755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2D398-D612-4134-B6AD-4264B2A1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572EA-D030-42FC-96CD-ED1A3D10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A82F5-6C19-4A51-8165-8D0E27EC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2F511-646D-4577-ACAE-75A87840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DE9D6-0A22-4AE2-842D-780B6B2F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C05A8-B2A6-4E87-9E36-417E929C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63388-5806-409F-AFE6-D4360537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10C-3A5E-4B0B-ABED-51D95CA5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2867A-EA8B-4E1F-978B-700599B9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A1E49-FABA-4D4C-BF7B-F3528A0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AEF1-7895-4BB3-B4B2-F495E5F4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8FBE5-237F-4107-A5D7-A42482F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04135-3DDA-41D5-9FF7-54E71D0E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130BD-F769-45EA-A365-AF80AE17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7232D-EB06-4FA5-8B26-207E7FFD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56266-2675-4C4A-8D61-1AC12AAC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28808-45C1-497B-BA46-CA2138E8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E122E-6821-4AB3-B0DC-B9C96499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D160-649F-43E7-89A1-6A1A70D56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BAB-2D3B-4038-9D67-E0F7DE3F0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8BFC-DD61-4DF2-AB16-D1288988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4CA5-74BE-4A44-8587-0BE4445F3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70E4-CA27-4D72-827E-841C9A1FF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59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65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65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0778-6B93-4D61-98CF-AEEE07313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0264-EC07-4259-8D0B-70E328AD0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1907-8788-4B3E-ADE0-1808FF03E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E1F9-8BF9-4ADB-B1AA-1C6C28198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588E-A0E7-47F4-8D79-E459708BC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7556-0AC0-4740-86FA-5AA70C2B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1644-CA2E-4171-81AF-27DEC9FC0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96E3-7445-4165-B458-29C5EDD4A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F96A-070F-4DA2-AAC7-B53624EA5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9B2D-0FFA-41B8-9F04-F1245C0D9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E24D-4E8B-476A-88F4-542A22F75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1F4B-8833-4E67-8314-B997749CFB4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4C2F-70F4-430D-A5C6-F00BA14E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D6FF-5508-44F7-8D14-2FCFF0488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58A-02B5-4E01-9E74-5F991548E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DFEC-201C-4481-8219-6EC9B6810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54D1-1185-4F9A-A948-4CD1A19A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CD7E-3014-40FC-A7EF-1CB875E01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2896-6BB8-4F18-BA9C-13D92649E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9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" Target="slide5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21.xml"/><Relationship Id="rId13" Type="http://schemas.openxmlformats.org/officeDocument/2006/relationships/slide" Target="slide6.xml"/><Relationship Id="rId14" Type="http://schemas.openxmlformats.org/officeDocument/2006/relationships/slide" Target="slide10.xml"/><Relationship Id="rId15" Type="http://schemas.openxmlformats.org/officeDocument/2006/relationships/slide" Target="slide14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2"/>
          <p:cNvSpPr/>
          <p:nvPr/>
        </p:nvSpPr>
        <p:spPr>
          <a:xfrm>
            <a:off x="324000" y="5013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истор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9 г.Ессенту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шкова Татьяна Иван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684360" y="765000"/>
            <a:ext cx="73436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"СВОЯ ИГРА"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1835280" y="549360"/>
            <a:ext cx="47559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ллектуальная 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 - викторина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7 класса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116000" y="3860640"/>
            <a:ext cx="664380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 истории России в 17в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120" y="549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д каким названием вошел в историю указ о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5-летнем сыске беглых крестья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Rectangle 4"/>
          <p:cNvSpPr/>
          <p:nvPr/>
        </p:nvSpPr>
        <p:spPr>
          <a:xfrm>
            <a:off x="2554920" y="220500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539640" y="49417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Урочные лета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Господствующее сословие 17 век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9280" y="206064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5"/>
          <p:cNvSpPr/>
          <p:nvPr/>
        </p:nvSpPr>
        <p:spPr>
          <a:xfrm>
            <a:off x="395280" y="5229360"/>
            <a:ext cx="77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ФЕОДАЛЫ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Частновладельческие земли, Освобожденные от гос. податей и повинностей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2012400" y="2637000"/>
            <a:ext cx="4606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95280" y="522936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елые Слободы ( Белые Земли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Военное сословие, население Дона, Яика, Приуралья, Терека, Левобережной Украин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1725120" y="2708280"/>
            <a:ext cx="4606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Rectangle 9"/>
          <p:cNvSpPr/>
          <p:nvPr/>
        </p:nvSpPr>
        <p:spPr>
          <a:xfrm>
            <a:off x="1835280" y="56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АЗАКИ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Лично свободные крестьяне, владевшие общинными землями и несшие государственные повинност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1940760" y="2637000"/>
            <a:ext cx="4606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8"/>
          <p:cNvSpPr/>
          <p:nvPr/>
        </p:nvSpPr>
        <p:spPr>
          <a:xfrm>
            <a:off x="108000" y="5078880"/>
            <a:ext cx="73454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Черносошные крестьян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4"/>
          <p:cNvSpPr/>
          <p:nvPr/>
        </p:nvSpPr>
        <p:spPr>
          <a:xfrm>
            <a:off x="1436760" y="1773360"/>
            <a:ext cx="6230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Бунташный век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Text Box 5"/>
          <p:cNvSpPr/>
          <p:nvPr/>
        </p:nvSpPr>
        <p:spPr>
          <a:xfrm>
            <a:off x="1042920" y="4581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Соляного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Бунт 1648 г. получил название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Донской казак, предводитель Крестьянской войны 1670-1671 годов.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1850400" y="1844640"/>
            <a:ext cx="60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унташный век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755640" y="4203720"/>
            <a:ext cx="6337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Степан Тимофеевич Рази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Поговорка «Береги белую деньгу на черный день» появилась в связи с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1907280" y="2492280"/>
            <a:ext cx="60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унташный век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90000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Медным бунтом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Кто принял Соборное уложение, закрепощение крестьян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3" name="Rectangle 4"/>
          <p:cNvSpPr/>
          <p:nvPr/>
        </p:nvSpPr>
        <p:spPr>
          <a:xfrm>
            <a:off x="1728000" y="1773360"/>
            <a:ext cx="60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унташный век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1908000" y="501336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Алексей Михайл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акой царь правил Россией в 1613-1645 гг.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1031760" y="292428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1042920" y="53020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ихаил Федор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Группа 29"/>
          <p:cNvGrpSpPr/>
          <p:nvPr/>
        </p:nvGrpSpPr>
        <p:grpSpPr>
          <a:xfrm>
            <a:off x="250920" y="692280"/>
            <a:ext cx="8493120" cy="5662440"/>
            <a:chOff x="250920" y="692280"/>
            <a:chExt cx="8493120" cy="5662440"/>
          </a:xfrm>
        </p:grpSpPr>
        <p:sp>
          <p:nvSpPr>
            <p:cNvPr id="1116" name="Rectangle 4">
              <a:hlinkClick r:id="" action="ppaction://hlinkshowjump?jump=nextslide"/>
            </p:cNvPr>
            <p:cNvSpPr/>
            <p:nvPr/>
          </p:nvSpPr>
          <p:spPr>
            <a:xfrm>
              <a:off x="250920" y="693720"/>
              <a:ext cx="1584360" cy="988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Древня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Русь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Rectangle 5">
              <a:hlinkClick r:id="" action="ppaction://hlinkshowjump?jump=nextslide"/>
            </p:cNvPr>
            <p:cNvSpPr/>
            <p:nvPr/>
          </p:nvSpPr>
          <p:spPr>
            <a:xfrm>
              <a:off x="1977840" y="693720"/>
              <a:ext cx="1655640" cy="1006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Смут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Rectangle 7">
              <a:hlinkClick r:id="" action="ppaction://hlinkshowjump?jump=nextslide"/>
            </p:cNvPr>
            <p:cNvSpPr/>
            <p:nvPr/>
          </p:nvSpPr>
          <p:spPr>
            <a:xfrm>
              <a:off x="7162920" y="693720"/>
              <a:ext cx="158112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Первы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Романов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Rectangle 8"/>
            <p:cNvSpPr/>
            <p:nvPr/>
          </p:nvSpPr>
          <p:spPr>
            <a:xfrm>
              <a:off x="32220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0" name="Rectangle 9"/>
            <p:cNvSpPr/>
            <p:nvPr/>
          </p:nvSpPr>
          <p:spPr>
            <a:xfrm>
              <a:off x="205092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2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1" name="Rectangle 10"/>
            <p:cNvSpPr/>
            <p:nvPr/>
          </p:nvSpPr>
          <p:spPr>
            <a:xfrm>
              <a:off x="377820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3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Rectangle 11"/>
            <p:cNvSpPr/>
            <p:nvPr/>
          </p:nvSpPr>
          <p:spPr>
            <a:xfrm>
              <a:off x="716292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4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Rectangle 12"/>
            <p:cNvSpPr/>
            <p:nvPr/>
          </p:nvSpPr>
          <p:spPr>
            <a:xfrm>
              <a:off x="32220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5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Rectangle 14"/>
            <p:cNvSpPr/>
            <p:nvPr/>
          </p:nvSpPr>
          <p:spPr>
            <a:xfrm>
              <a:off x="205092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6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Rectangle 15"/>
            <p:cNvSpPr/>
            <p:nvPr/>
          </p:nvSpPr>
          <p:spPr>
            <a:xfrm>
              <a:off x="377820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7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Rectangle 16"/>
            <p:cNvSpPr/>
            <p:nvPr/>
          </p:nvSpPr>
          <p:spPr>
            <a:xfrm>
              <a:off x="716292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8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Rectangle 17"/>
            <p:cNvSpPr/>
            <p:nvPr/>
          </p:nvSpPr>
          <p:spPr>
            <a:xfrm>
              <a:off x="32220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9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Rectangle 18"/>
            <p:cNvSpPr/>
            <p:nvPr/>
          </p:nvSpPr>
          <p:spPr>
            <a:xfrm>
              <a:off x="205092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0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Rectangle 19"/>
            <p:cNvSpPr/>
            <p:nvPr/>
          </p:nvSpPr>
          <p:spPr>
            <a:xfrm>
              <a:off x="377820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1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Rectangle 20"/>
            <p:cNvSpPr/>
            <p:nvPr/>
          </p:nvSpPr>
          <p:spPr>
            <a:xfrm>
              <a:off x="716292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2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Rectangle 21"/>
            <p:cNvSpPr/>
            <p:nvPr/>
          </p:nvSpPr>
          <p:spPr>
            <a:xfrm>
              <a:off x="32220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3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Rectangle 22"/>
            <p:cNvSpPr/>
            <p:nvPr/>
          </p:nvSpPr>
          <p:spPr>
            <a:xfrm>
              <a:off x="205092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4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Rectangle 23"/>
            <p:cNvSpPr/>
            <p:nvPr/>
          </p:nvSpPr>
          <p:spPr>
            <a:xfrm>
              <a:off x="377820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5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Rectangle 24"/>
            <p:cNvSpPr/>
            <p:nvPr/>
          </p:nvSpPr>
          <p:spPr>
            <a:xfrm>
              <a:off x="716292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6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Rectangle 25">
              <a:hlinkClick r:id="" action="ppaction://hlinkshowjump?jump=nextslide"/>
            </p:cNvPr>
            <p:cNvSpPr/>
            <p:nvPr/>
          </p:nvSpPr>
          <p:spPr>
            <a:xfrm>
              <a:off x="5435640" y="692280"/>
              <a:ext cx="1511280" cy="1009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Rectangle 26">
              <a:hlinkClick r:id="" action="ppaction://hlinkshowjump?jump=nextslide"/>
            </p:cNvPr>
            <p:cNvSpPr/>
            <p:nvPr/>
          </p:nvSpPr>
          <p:spPr>
            <a:xfrm>
              <a:off x="3778200" y="693720"/>
              <a:ext cx="158436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Сословия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Rectangle 27"/>
            <p:cNvSpPr/>
            <p:nvPr/>
          </p:nvSpPr>
          <p:spPr>
            <a:xfrm>
              <a:off x="543564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Rectangle 28"/>
            <p:cNvSpPr/>
            <p:nvPr/>
          </p:nvSpPr>
          <p:spPr>
            <a:xfrm>
              <a:off x="543564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9" name="Rectangle 29"/>
            <p:cNvSpPr/>
            <p:nvPr/>
          </p:nvSpPr>
          <p:spPr>
            <a:xfrm>
              <a:off x="543564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0" name="Rectangle 30"/>
            <p:cNvSpPr/>
            <p:nvPr/>
          </p:nvSpPr>
          <p:spPr>
            <a:xfrm>
              <a:off x="543564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Rectangle 32"/>
            <p:cNvSpPr/>
            <p:nvPr/>
          </p:nvSpPr>
          <p:spPr>
            <a:xfrm>
              <a:off x="5435640" y="766800"/>
              <a:ext cx="158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Tahoma"/>
                </a:rPr>
                <a:t>Бунташный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ffcc00"/>
                  </a:solidFill>
                  <a:latin typeface="Tahoma"/>
                </a:rPr>
                <a:t>ве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Наиболее тяжелая форма зависимости крестьян, проявлявшаяся в прикреплении их к земле и полном подчинении власти феодал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944640" y="234936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1258920" y="5445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РЕПОСТНИЧЕСТВО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«Был благоверен, зело кроток и милостлив». Он сумел сохранить равновесие всех общественных сил, никого не казнил.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Его имя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873000" y="234936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900000" y="544500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Михаил Федорович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Кто принял Соборное уложение, закрепостившее крестьян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1397160" y="213372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5"/>
          <p:cNvSpPr/>
          <p:nvPr/>
        </p:nvSpPr>
        <p:spPr>
          <a:xfrm>
            <a:off x="468360" y="4941720"/>
            <a:ext cx="67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Алексей Михайлови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755640" y="12844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н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- А. А. Данилов, Л. Г. Косулина. История России конец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.в. Учебник для 7 класса общеобразовательных учреждений М., «Просвещение», 2006. 254 с.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09120" y="836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Где жили первые монахи Киево-Печерского и Псково-Печерского монастырей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3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7"/>
          <p:cNvSpPr/>
          <p:nvPr/>
        </p:nvSpPr>
        <p:spPr>
          <a:xfrm>
            <a:off x="1728720" y="220500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Text Box 8"/>
          <p:cNvSpPr/>
          <p:nvPr/>
        </p:nvSpPr>
        <p:spPr>
          <a:xfrm>
            <a:off x="611280" y="465300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вые монахи жили в землянках – пещерах. Старославянское слово «пещера» по-русски звучит как «печера».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07640" y="980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Скажите на древнерусском «сидящий рядом», если сейчас мы этим словом называем и «живущего рядом».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1617480" y="249228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250920" y="530064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се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асстригой на Руси называли бывшего военного или священника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1833480" y="299736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250920" y="5445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ывшего священнослужителя, добровольно отказавшегося от церковного сана или лишённого его за какой-либо проступо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7"/>
          <p:cNvSpPr/>
          <p:nvPr/>
        </p:nvSpPr>
        <p:spPr>
          <a:xfrm>
            <a:off x="7451640" y="587700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акое сооружение из камня и кирпича служило в русских избах для отопления помещения и приготовления пищи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1655640" y="314172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324000" y="57340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ечь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осле смерти  Бориса Годунова на престол России взошёл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2626560" y="1773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826920" y="5157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ЕГО СЫН - ФЕДОР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Настоящее имя Лжедмитрия 1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3" name="Rectangle 4"/>
          <p:cNvSpPr/>
          <p:nvPr/>
        </p:nvSpPr>
        <p:spPr>
          <a:xfrm>
            <a:off x="2631240" y="1773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971640" y="46530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Григорий Отрепье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то был первым патриархом на Руси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2626560" y="1773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Text Box 5"/>
          <p:cNvSpPr/>
          <p:nvPr/>
        </p:nvSpPr>
        <p:spPr>
          <a:xfrm>
            <a:off x="539640" y="4508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атриарх И́ов— первый Патриарх Московский и всея Руси (1589—1605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Computer</cp:lastModifiedBy>
  <dcterms:modified xsi:type="dcterms:W3CDTF">2013-09-19T16:19:43Z</dcterms:modified>
  <cp:revision>55</cp:revision>
  <dc:subject/>
  <dc:title>Презентация PowerPoint</dc:title>
</cp:coreProperties>
</file>