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61000"/>
            <a:ext cx="297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9261000"/>
            <a:ext cx="29700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929-841C-4695-BFC4-F921D9D9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A405-92EC-4491-A94E-B1B6BB0C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850-225C-41FB-B99E-3986AA4A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E7E9-92B2-4026-84C6-F04A37EB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3FA-BF9D-4D1F-83D9-F6F8F6CC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6A6E-C739-4FDC-A1A5-77B0B04DD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0D37-1C47-46EF-945E-FDD1114B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344-B920-4E87-98F8-ECDF8546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F1E1-5E5A-4BE7-8956-D565116D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DF4-7018-4F7E-87B0-32F159067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D5BE-4FA9-480F-A556-9E404687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6A06-69D7-41CD-9FA6-F9A0E37E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E1D-A192-4092-A58F-6CAE6A36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E57-61D2-4030-972F-26DD915C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FA1-1C8D-44C7-82B7-51F28DA9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2DE-8F16-4F9D-98BA-9B05341B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D18-1FCC-4CC4-B98B-37513630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510D-2767-4C49-B82F-ABC6D37B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3320" y="725400"/>
            <a:ext cx="4849920" cy="3637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2960" y="4601880"/>
            <a:ext cx="50292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8D90-7F45-4354-A1B7-E911EE83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FC2C-E199-4FA2-9DAC-8C836DA3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9873-C4CF-46DA-BFCA-B8ACD47F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9A6-4FF2-4CC6-B5A4-B4B11040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31B-8C51-46EE-9DE9-34C6A88E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179-BEC4-4F18-9B5A-E3383CEB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DB6-EE64-433E-9F01-D5281959F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0D1-9734-4B43-8DEA-0D953A6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C16-E575-49E2-94FD-8975349A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3D2-9075-4EA5-8281-331EB60C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495-2BE9-4684-A4F1-05A391D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14B-F902-4A27-8A92-04CBCD4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25E-A717-462E-9E86-BED424D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0A3-A601-4CD6-BC46-51EB6ED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DA5-67FB-49E8-9F57-AA75EA9A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C8B-DE14-46EB-BFED-50A807C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B01-38F9-4EC8-822D-F8A83C8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839-1230-4F97-A320-FD5F002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726-C882-44BA-A73C-6106209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Two Gu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5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2D8-C700-48EA-BEF3-769D1DC9EAF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New_CRDF_logo"/>
          <p:cNvPicPr/>
          <p:nvPr/>
        </p:nvPicPr>
        <p:blipFill>
          <a:blip r:embed="rId3"/>
          <a:stretch/>
        </p:blipFill>
        <p:spPr>
          <a:xfrm>
            <a:off x="304920" y="382680"/>
            <a:ext cx="175248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68580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2590920" y="602784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9DB-8E88-437B-ABA8-4FAC7A9D0410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3520" y="4336920"/>
            <a:ext cx="83818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мериканский Фонд Гражданских Исследований и Развития (АФГИ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граммы по развитию промышл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666880" y="3682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80"/>
                </a:solidFill>
                <a:latin typeface="Times New Roman"/>
              </a:rPr>
              <a:t>Ваш Партнёр в Совместных Предприятиях в Области Науки и Тех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1911240"/>
            <a:ext cx="5562720" cy="16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Бизнес Кейс – Пример для Изучения</a:t>
            </a:r>
            <a:br>
              <a:rPr sz="40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ерия «Инновационный Бизнес»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6" name="Picture 10" descr="argument"/>
          <p:cNvPicPr/>
          <p:nvPr/>
        </p:nvPicPr>
        <p:blipFill>
          <a:blip r:embed="rId1"/>
          <a:stretch/>
        </p:blipFill>
        <p:spPr>
          <a:xfrm>
            <a:off x="677880" y="1838160"/>
            <a:ext cx="1844640" cy="23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2197-F0C2-42E2-AE69-EB10CEBCB49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личные формы аргументов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итч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Pitch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5 до 30 секунд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5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10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айд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раткий Обзор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(Резюме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1-2 страниц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ложение допустимо в РЕДКИХ случая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9" name="Picture 6" descr="0060988606"/>
          <p:cNvPicPr/>
          <p:nvPr/>
        </p:nvPicPr>
        <p:blipFill>
          <a:blip r:embed="rId1"/>
          <a:stretch/>
        </p:blipFill>
        <p:spPr>
          <a:xfrm>
            <a:off x="4572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3FE3-8F01-4E0F-BE79-6F219F8E7941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орма выражен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 менталитет в бизнес сфер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ермин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ксплуатационные расх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Цел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крупный размер прибыл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высокий объём продаж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сильная позиция на рынк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низкий процент возвращённой продук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 при обслуживании клиентов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5" name="Picture 6" descr="vergaderen_square"/>
          <p:cNvPicPr/>
          <p:nvPr/>
        </p:nvPicPr>
        <p:blipFill>
          <a:blip r:embed="rId1"/>
          <a:stretch/>
        </p:blipFill>
        <p:spPr>
          <a:xfrm>
            <a:off x="6094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A2FA-86B2-4F69-8237-F0761B33130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ли Краткий Обзор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о слайду на каждую секцию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зва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лючевые аспекты вкратц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акт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название проект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инансирова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лан работы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ибыль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аграм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хе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аблиц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ек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Задача и реш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Сбыт </a:t>
            </a:r>
            <a:r>
              <a:rPr b="1" i="1" lang="en-US" sz="1400" spc="-1" strike="noStrike">
                <a:solidFill>
                  <a:srgbClr val="5f5f5f"/>
                </a:solidFill>
                <a:latin typeface="Tahoma"/>
              </a:rPr>
              <a:t>&amp; </a:t>
            </a: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дистрибьюшен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876920" y="1676520"/>
            <a:ext cx="3429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303C-71B2-47B8-854A-78E184ECEB36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тиль Деловой Переписки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Ясно и коротк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Фокус на одном ключевом аспекте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Один убедительный аргумент сильнее нескольких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т необходимости делать каждую секцию одинаковой по длине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Меньше слов – больше эффект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 вдавайтесь в детали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риводите ссылки и убедительную статистику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Выражайтесь доходчив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Picture 6" descr="writss13"/>
          <p:cNvPicPr/>
          <p:nvPr/>
        </p:nvPicPr>
        <p:blipFill>
          <a:blip r:embed="rId1"/>
          <a:srcRect l="4746" t="0" r="50004" b="30512"/>
          <a:stretch/>
        </p:blipFill>
        <p:spPr>
          <a:xfrm>
            <a:off x="609480" y="1447920"/>
            <a:ext cx="22860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6AF5-0270-4D8D-A96A-5F028AD7833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- Предложени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-за стандартов международного союза телекоммуникаций (МСТ), модемные банки получили широкое распространение.  Применение одобренного МСТ алгоритма в процессорах компан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Texa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nstrument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позволяет обрабатывать в два раза больше каналов без замены хардвер.  Таким образом, изготовляя ту же продукцию, производители модемных банков способны увеличить маржу на 37%, или удвоить производительность за ту же цену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09480" y="1371600"/>
            <a:ext cx="3505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F2F-A101-40C3-B387-A7B60518E5A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ынок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труктур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ключевые лиц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вигающие сил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инамик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озможности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угроз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хардвера для модемных банков доминируют производители оборудования (ПО) и системные интеграторы (СИ). ПО выпускают собственные модемные карточки, а СИ покупают их у девяти самых крупных поставщиков карточек.  Двигающей силой в данном случае является цена...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P2"/>
          <p:cNvPicPr/>
          <p:nvPr/>
        </p:nvPicPr>
        <p:blipFill>
          <a:blip r:embed="rId1"/>
          <a:srcRect l="0" t="18560" r="0" b="0"/>
          <a:stretch/>
        </p:blipFill>
        <p:spPr>
          <a:xfrm>
            <a:off x="4800600" y="121932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999-B7EA-4E6F-91F2-D4D69CFFF75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7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 Group, SignalCorp, and Motorola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аботают над новыми алгоритма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ешение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rou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требует использование более дорогого (на 20%) параллельного процессора.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ignalCor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ещё не протестировала алгоритм в реальном времени, а решение лаборатор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Motorola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сокращает хардвер только на 39%, а не на требуемые 50%.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85800" y="4267080"/>
            <a:ext cx="3124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пространённые ошибк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аких конкур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ственное решен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4502160" y="1125360"/>
            <a:ext cx="3706920" cy="1887840"/>
            <a:chOff x="4502160" y="1125360"/>
            <a:chExt cx="3706920" cy="1887840"/>
          </a:xfrm>
        </p:grpSpPr>
        <p:sp>
          <p:nvSpPr>
            <p:cNvPr id="150" name="AutoShape 7"/>
            <p:cNvSpPr/>
            <p:nvPr/>
          </p:nvSpPr>
          <p:spPr>
            <a:xfrm>
              <a:off x="4502160" y="1125360"/>
              <a:ext cx="3706920" cy="18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0" y="49"/>
                  </a:moveTo>
                  <a:lnTo>
                    <a:pt x="65" y="0"/>
                  </a:lnTo>
                  <a:lnTo>
                    <a:pt x="1113" y="0"/>
                  </a:lnTo>
                  <a:lnTo>
                    <a:pt x="1049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4792680" y="246528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4792680" y="22273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4792680" y="198900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4792680" y="17510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4792680" y="150804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4792680" y="12715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1113" y="0"/>
                  </a:moveTo>
                  <a:lnTo>
                    <a:pt x="1049" y="49"/>
                  </a:lnTo>
                  <a:lnTo>
                    <a:pt x="0" y="49"/>
                  </a:lnTo>
                  <a:lnTo>
                    <a:pt x="65" y="0"/>
                  </a:lnTo>
                  <a:lnTo>
                    <a:pt x="1113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5322960" y="1392120"/>
              <a:ext cx="101520" cy="1392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64" h="877">
                  <a:moveTo>
                    <a:pt x="0" y="877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828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rgbClr val="00664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5016600" y="1469880"/>
              <a:ext cx="306360" cy="131472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5016600" y="1392120"/>
              <a:ext cx="407880" cy="77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00997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5622840" y="2178000"/>
              <a:ext cx="106560" cy="6066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67" h="382">
                  <a:moveTo>
                    <a:pt x="0" y="382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333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1a1a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6"/>
            <p:cNvSpPr/>
            <p:nvPr/>
          </p:nvSpPr>
          <p:spPr>
            <a:xfrm>
              <a:off x="5322960" y="2255760"/>
              <a:ext cx="299880" cy="528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5322960" y="2178000"/>
              <a:ext cx="406440" cy="77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2626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8"/>
            <p:cNvSpPr/>
            <p:nvPr/>
          </p:nvSpPr>
          <p:spPr>
            <a:xfrm>
              <a:off x="5929200" y="2274840"/>
              <a:ext cx="101880" cy="5097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64" h="321">
                  <a:moveTo>
                    <a:pt x="0" y="321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272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6666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5622840" y="2352600"/>
              <a:ext cx="306360" cy="43200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5622840" y="2274840"/>
              <a:ext cx="408240" cy="777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9999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6229440" y="2585880"/>
              <a:ext cx="106200" cy="19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67" h="125">
                  <a:moveTo>
                    <a:pt x="0" y="125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959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2"/>
            <p:cNvSpPr/>
            <p:nvPr/>
          </p:nvSpPr>
          <p:spPr>
            <a:xfrm>
              <a:off x="5929200" y="2664000"/>
              <a:ext cx="300240" cy="12060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>
              <a:off x="5929200" y="2585880"/>
              <a:ext cx="406440" cy="78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86868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792680" y="1348920"/>
              <a:ext cx="1440" cy="1435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H="1">
              <a:off x="4768920" y="27846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H="1">
              <a:off x="4768920" y="2548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H="1">
              <a:off x="4768920" y="2305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 flipH="1">
              <a:off x="4768920" y="206676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9"/>
            <p:cNvSpPr/>
            <p:nvPr/>
          </p:nvSpPr>
          <p:spPr>
            <a:xfrm flipH="1">
              <a:off x="4768920" y="18288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 flipH="1">
              <a:off x="4768920" y="159084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 flipH="1">
              <a:off x="4768920" y="134928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2"/>
            <p:cNvSpPr/>
            <p:nvPr/>
          </p:nvSpPr>
          <p:spPr>
            <a:xfrm>
              <a:off x="4714920" y="2722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3"/>
            <p:cNvSpPr/>
            <p:nvPr/>
          </p:nvSpPr>
          <p:spPr>
            <a:xfrm>
              <a:off x="4656600" y="24843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4"/>
            <p:cNvSpPr/>
            <p:nvPr/>
          </p:nvSpPr>
          <p:spPr>
            <a:xfrm>
              <a:off x="4656600" y="22417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4656600" y="200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6"/>
            <p:cNvSpPr/>
            <p:nvPr/>
          </p:nvSpPr>
          <p:spPr>
            <a:xfrm>
              <a:off x="4656600" y="17654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4656600" y="1528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8"/>
            <p:cNvSpPr/>
            <p:nvPr/>
          </p:nvSpPr>
          <p:spPr>
            <a:xfrm>
              <a:off x="4656600" y="1285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>
              <a:off x="4792680" y="2784600"/>
              <a:ext cx="166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479268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645804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52"/>
            <p:cNvSpPr/>
            <p:nvPr/>
          </p:nvSpPr>
          <p:spPr>
            <a:xfrm>
              <a:off x="6632640" y="1305000"/>
              <a:ext cx="1430280" cy="1382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53"/>
            <p:cNvSpPr/>
            <p:nvPr/>
          </p:nvSpPr>
          <p:spPr>
            <a:xfrm>
              <a:off x="6875640" y="1441440"/>
              <a:ext cx="96840" cy="9684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54"/>
            <p:cNvSpPr/>
            <p:nvPr/>
          </p:nvSpPr>
          <p:spPr>
            <a:xfrm>
              <a:off x="7023960" y="1387440"/>
              <a:ext cx="39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«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Вы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5"/>
            <p:cNvSpPr/>
            <p:nvPr/>
          </p:nvSpPr>
          <p:spPr>
            <a:xfrm>
              <a:off x="6875640" y="1785960"/>
              <a:ext cx="96840" cy="96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6"/>
            <p:cNvSpPr/>
            <p:nvPr/>
          </p:nvSpPr>
          <p:spPr>
            <a:xfrm>
              <a:off x="7101360" y="1731960"/>
              <a:ext cx="80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SP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7"/>
            <p:cNvSpPr/>
            <p:nvPr/>
          </p:nvSpPr>
          <p:spPr>
            <a:xfrm>
              <a:off x="6875640" y="2130480"/>
              <a:ext cx="96840" cy="9684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8"/>
            <p:cNvSpPr/>
            <p:nvPr/>
          </p:nvSpPr>
          <p:spPr>
            <a:xfrm>
              <a:off x="7075440" y="2076480"/>
              <a:ext cx="70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9"/>
            <p:cNvSpPr/>
            <p:nvPr/>
          </p:nvSpPr>
          <p:spPr>
            <a:xfrm>
              <a:off x="6875640" y="2470320"/>
              <a:ext cx="96840" cy="9684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0"/>
            <p:cNvSpPr/>
            <p:nvPr/>
          </p:nvSpPr>
          <p:spPr>
            <a:xfrm>
              <a:off x="7093080" y="2416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ignalCo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2DA-8F3C-4664-8CC8-AA7EDD0F8F1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(КОИ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33560" y="2895480"/>
            <a:ext cx="4800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бщая сумма затрат на раб. силу и материалы = $1,500.  На данном уровне производства размер прибыли увеличивается на $100/ед., в общей сложности принося дополнительный доход в $7.500 за год.  Таким образом, окупаемость инвестиций за первый год равняется 500%.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14800" y="1447920"/>
          <a:ext cx="4343400" cy="1222200"/>
        </p:xfrm>
        <a:graphic>
          <a:graphicData uri="http://schemas.openxmlformats.org/drawingml/2006/table">
            <a:tbl>
              <a:tblPr/>
              <a:tblGrid>
                <a:gridCol w="2133720"/>
                <a:gridCol w="761760"/>
                <a:gridCol w="642960"/>
                <a:gridCol w="804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то им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б. сила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amp;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купаемость инвест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F8A-C215-45C4-A5EF-AB8801D804E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– Следующий Шаг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19360" y="137124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Встреч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чальник Инженерного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Te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х. Отде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емонстр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оказ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Финансовый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рект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Экономический аспект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писание проект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Контакт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1" descr="December%20Calendar"/>
          <p:cNvPicPr/>
          <p:nvPr/>
        </p:nvPicPr>
        <p:blipFill>
          <a:blip r:embed="rId1"/>
          <a:stretch/>
        </p:blipFill>
        <p:spPr>
          <a:xfrm>
            <a:off x="4648320" y="3849840"/>
            <a:ext cx="32004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7C1-EC44-4318-9C43-5BD35F29EB7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– 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Сбыт и Дистрибьюшен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ямой сбыт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артнёр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Мы планируем напрямую продавать нашу продукцию производителям оборудования. На сегодняшний момент существует где-то 15 крупных производителей и наша технология выгодна любому из них.  Нам будет достаточно легко связаться с их менеджерами из научно-исследовательского отдела.  Системные интеграторы не покупают технологию, а поставщики карточек не работают с учёными.  Наши партнёры по производству микросхем помогут нам организовать встречи с производителями оборудования. 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4572000" y="1295280"/>
            <a:ext cx="3581280" cy="2057400"/>
            <a:chOff x="4572000" y="1295280"/>
            <a:chExt cx="3581280" cy="2057400"/>
          </a:xfrm>
        </p:grpSpPr>
        <p:pic>
          <p:nvPicPr>
            <p:cNvPr id="223" name="Picture 7" descr="P2"/>
            <p:cNvPicPr/>
            <p:nvPr/>
          </p:nvPicPr>
          <p:blipFill>
            <a:blip r:embed="rId1"/>
            <a:srcRect l="0" t="17974" r="0" b="-1472"/>
            <a:stretch/>
          </p:blipFill>
          <p:spPr>
            <a:xfrm>
              <a:off x="4572000" y="1295280"/>
              <a:ext cx="3581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8"/>
            <p:cNvSpPr/>
            <p:nvPr/>
          </p:nvSpPr>
          <p:spPr>
            <a:xfrm>
              <a:off x="6095880" y="1295280"/>
              <a:ext cx="990720" cy="198144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9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F37-57D5-447C-A250-CD834DF4DAB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шибки при деловых переговорах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6200" y="1904760"/>
            <a:ext cx="4952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зятие инициативы разговора на себ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 время встреч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дача излишней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е тех вопросов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оминание полити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местная информ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Личные вопрос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2" name="Picture 6" descr="W14-1"/>
          <p:cNvPicPr/>
          <p:nvPr/>
        </p:nvPicPr>
        <p:blipFill>
          <a:blip r:embed="rId1"/>
          <a:stretch/>
        </p:blipFill>
        <p:spPr>
          <a:xfrm>
            <a:off x="1219320" y="1905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F319-F087-40C9-B67B-3501837F8000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43040" y="3657240"/>
            <a:ext cx="4419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низу-вверх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течение следующих 9 месяцев мы планируем заключить контракты с компаниям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ldec, Marzed, Pixel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 им подобными производителя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ходе каждого последующего кварта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мы планируем заключить хотя бы по одной дополнительной сделке (используя двух торговых представителей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0BB-806D-4443-9119-95896E14C36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Ошибки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19720" y="3809880"/>
            <a:ext cx="39621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верху вниз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ибк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комп. программ для модемных банков составляет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M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.  Мы планируем сбыть товар на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500.000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(или 5%)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30E4-2CD9-42C9-B633-AB5291E56A10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Предоложение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(Pitch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организация предлагает более оптимальное решение для производителей модемных бан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 сотрудничестве с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elegate Corporation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группа разработала компонен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торые позволяют снизить стоимость хардвера модемных банков на 50%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ы планируем продать данное решение изготовителя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Я – научный сотрудник Бакинского Институ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изики Полупроводников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У нас уже есть заинтересованные клиенты и мы ищем финансирование для производства первых ста экземляров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тенциальный партнёр сможет увеличить доход в 5 раз в течение первых 18 месяцев.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C168-642F-4E86-8E10-2BF84C70F8F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опросы и Ответ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9" name="Picture 1032" descr="strategy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B3ED-143C-46BF-B38F-932570EBFC55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.S. Civilian Research &amp; Development Foundation (CRDF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530 Wilson Boulevard, Suite 300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rlington, VA 22209 U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Эл. почт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го характер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d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по развитию партнёрств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g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ты на командиров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TG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Первы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F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Следующи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N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бсай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ww.crdf.or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Тел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: +1 (703) 526-9720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21E9-E84B-4315-8989-277865BEE98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информ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ясн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ать справк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демонстр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бед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обудить к действию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Picture 146" descr="taking_action_new"/>
          <p:cNvPicPr/>
          <p:nvPr/>
        </p:nvPicPr>
        <p:blipFill>
          <a:blip r:embed="rId1"/>
          <a:stretch/>
        </p:blipFill>
        <p:spPr>
          <a:xfrm>
            <a:off x="990720" y="1219320"/>
            <a:ext cx="32302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9B9-7B72-4DC1-8AA2-4063EEEC928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ачните с цели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го убеди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должен действова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Лицо, принимающее решени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ветник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трудник Фин. Отдел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ое действие необходим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азначьте встречу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бедите начальник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смотрите ваши материалы для презента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анализируйте выгоду партнёрств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чему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ни нуждаются в этом (а не просто заинтересованны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4" name="Picture 6" descr="3974"/>
          <p:cNvPicPr/>
          <p:nvPr/>
        </p:nvPicPr>
        <p:blipFill>
          <a:blip r:embed="rId1"/>
          <a:stretch/>
        </p:blipFill>
        <p:spPr>
          <a:xfrm>
            <a:off x="533520" y="1752480"/>
            <a:ext cx="35812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C487-7141-469F-9B22-6FB3B5C5CD8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пределите что им НЕОБХОДИМО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слушайте другую сторону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Задавайте вопросы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ложение на сегодн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едующие шаг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ые проблем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им образом ваша технологи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дукция сможет помочь и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0" name="Picture 6" descr="customer_meeting"/>
          <p:cNvPicPr/>
          <p:nvPr/>
        </p:nvPicPr>
        <p:blipFill>
          <a:blip r:embed="rId1"/>
          <a:stretch/>
        </p:blipFill>
        <p:spPr>
          <a:xfrm>
            <a:off x="4495680" y="1523880"/>
            <a:ext cx="403884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3C2A-2E5F-471A-A014-B18F292BF09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Цели или просто Пожелания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57600" y="175212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верьте Бизнес Цел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просите их дать своё определение успеха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Какие мер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верьте их отве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спех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Что ес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a’,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о не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b’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пределите наиболее важные и реальные цел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6" name="Picture 6" descr="goals"/>
          <p:cNvPicPr/>
          <p:nvPr/>
        </p:nvPicPr>
        <p:blipFill>
          <a:blip r:embed="rId1"/>
          <a:stretch/>
        </p:blipFill>
        <p:spPr>
          <a:xfrm>
            <a:off x="762120" y="167652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149-892A-4CFA-88AD-D28E9C98886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Установите кто является ключевыми лицами в принятии решени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284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коммерчески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ействует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финансовы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аёт тех. рекоменд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вы взаимоотношения между ключевыми людьм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е решение было последним и как оно было принят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2" name="Picture 6" descr="busmgr"/>
          <p:cNvPicPr/>
          <p:nvPr/>
        </p:nvPicPr>
        <p:blipFill>
          <a:blip r:embed="rId1"/>
          <a:stretch/>
        </p:blipFill>
        <p:spPr>
          <a:xfrm>
            <a:off x="685800" y="1752480"/>
            <a:ext cx="17146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4CA5-D750-4EC8-8E22-7E5E14EA82F4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отовы начина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нуждается другая сторон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 вы можете помоч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ключевые лица в принятии решений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ие действия вы хотите предприня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вы должны убедить другую сторон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аш аргумент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2FA-BB86-4085-9CF4-FBAAFBA1FFA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Бизнес Аргумент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вер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в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то вы предлагаете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ем ваше предложение выгодно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прос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дтвержд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ирова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Главные преимуществ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ифференцирова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стижимые результаты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Что нужно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ва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6" descr="argument"/>
          <p:cNvPicPr/>
          <p:nvPr/>
        </p:nvPicPr>
        <p:blipFill>
          <a:blip r:embed="rId1"/>
          <a:srcRect l="0" t="0" r="50019" b="0"/>
          <a:stretch/>
        </p:blipFill>
        <p:spPr>
          <a:xfrm>
            <a:off x="1219320" y="1523880"/>
            <a:ext cx="1733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09:12Z</dcterms:created>
  <dc:creator>Paul</dc:creator>
  <dc:description/>
  <dc:language>en-US</dc:language>
  <cp:lastModifiedBy>ZooM</cp:lastModifiedBy>
  <dcterms:modified xsi:type="dcterms:W3CDTF">2013-12-12T15:26:58Z</dcterms:modified>
  <cp:revision>701</cp:revision>
  <dc:subject/>
  <dc:title>PowerPoint Presentation</dc:title>
</cp:coreProperties>
</file>