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261000"/>
            <a:ext cx="2970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9261000"/>
            <a:ext cx="29700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26C1-C373-4A23-8197-BB3F09078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9CD5-79FC-4B88-B2EE-FA80FAB92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F779-1D26-42D7-A032-105A2493B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0DB2-3605-4CA6-AFBF-E2916AC77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4BC5-0EBA-4132-91AE-87E129A76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0473-5F13-4A99-A7EA-D2F45DCD3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1ABB-D077-4D1B-AD86-63F93CBDD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52CF-D677-468A-B91D-72C5F609F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C234-A917-40CF-AC06-CA258BC3A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B73E-19A4-4513-A36D-B8D194483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7FF3-E3AB-4882-8381-E9000088B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F7F8-AB14-43D6-ACA2-20CEB83D0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D13B-8CC7-4184-A6BB-B9B3D3979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3694-5682-4DA7-82BF-CA117E065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BF04-9E34-4272-8370-2B868EF99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D6F3-4C37-4B68-A801-C90F36C5A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C737-FFAE-4F0E-8C6F-302789E8D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5EC9-449C-4843-AC59-20DCB9911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003320" y="725400"/>
            <a:ext cx="4849920" cy="36370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2960" y="4601880"/>
            <a:ext cx="502920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FC83-0E8F-4564-9245-208DDEA74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73C0-1A74-4239-957D-DB19C0E89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35E7-4358-4AA5-98A7-2F45C1BDE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9D94-FE52-4900-B16C-BD814FF1C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F523-0FAC-429B-84EA-3A0E59CF7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3BAC-0132-4245-BADF-43289D24C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9261360"/>
            <a:ext cx="2970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A59C-429E-41CB-AE43-ADE3F3B78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2960" y="4632480"/>
            <a:ext cx="502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2CF4-12C2-4489-A585-37905BC45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A461-0661-4B5E-86FD-9EAB4EEB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0E06-1864-46C2-9B8D-AE33BC001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8479-5BAA-42F5-B822-7FAA190D0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3060-E446-4218-BFE3-CB4AEC18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3C9D-1710-407C-A31A-EAD4DD00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5CE0-05DE-48A2-AAEA-4BF807DD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82D5-A84D-4283-BDC4-A95F7C40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057400" y="380520"/>
            <a:ext cx="6400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C000-E4FF-4D34-9578-233CD585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D329-4516-4326-8D81-71E46516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9AA6-1345-4E0D-820F-97707391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6C7A-E15D-43E5-9383-3A172603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Two Guy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5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298A-F11D-41DC-A2A6-9580B4A83493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2" descr="New_CRDF_logo"/>
          <p:cNvPicPr/>
          <p:nvPr/>
        </p:nvPicPr>
        <p:blipFill>
          <a:blip r:embed="rId3"/>
          <a:stretch/>
        </p:blipFill>
        <p:spPr>
          <a:xfrm>
            <a:off x="304920" y="382680"/>
            <a:ext cx="1752480" cy="68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Дата 3"/>
          <p:cNvSpPr/>
          <p:nvPr/>
        </p:nvSpPr>
        <p:spPr>
          <a:xfrm>
            <a:off x="685800" y="6027840"/>
            <a:ext cx="1905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Нижний колонтитул 4"/>
          <p:cNvSpPr/>
          <p:nvPr/>
        </p:nvSpPr>
        <p:spPr>
          <a:xfrm>
            <a:off x="2590920" y="6027840"/>
            <a:ext cx="39621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Номер слайда 5"/>
          <p:cNvSpPr/>
          <p:nvPr/>
        </p:nvSpPr>
        <p:spPr>
          <a:xfrm>
            <a:off x="6553080" y="6027840"/>
            <a:ext cx="1905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0BB9-F040-4DB2-8E42-375F5693777E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533520" y="4336920"/>
            <a:ext cx="8381880" cy="15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Американский Фонд Гражданских Исследований и Развития (АФГИР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Программы по развитию промышлен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666880" y="36828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8080"/>
                </a:solidFill>
                <a:latin typeface="Times New Roman"/>
              </a:rPr>
              <a:t>Ваш Партнёр в Совместных Предприятиях в Области Науки и Техн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95480" y="1911240"/>
            <a:ext cx="5562720" cy="161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Tahoma"/>
              </a:rPr>
              <a:t>Бизнес Кейс – Пример для Изучения</a:t>
            </a:r>
            <a:br>
              <a:rPr sz="4000"/>
            </a:br>
            <a:br>
              <a:rPr sz="100"/>
            </a:br>
            <a:br>
              <a:rPr sz="100"/>
            </a:br>
            <a:br>
              <a:rPr sz="100"/>
            </a:br>
            <a:br>
              <a:rPr sz="100"/>
            </a:b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Серия «Инновационный Бизнес»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56" name="Picture 10" descr="argument"/>
          <p:cNvPicPr/>
          <p:nvPr/>
        </p:nvPicPr>
        <p:blipFill>
          <a:blip r:embed="rId1"/>
          <a:stretch/>
        </p:blipFill>
        <p:spPr>
          <a:xfrm>
            <a:off x="677880" y="1838160"/>
            <a:ext cx="1844640" cy="235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Дата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Нижний колонтитул 5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44DD-2B79-4BB9-AECA-6DCFC0A4AF0F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0968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Различные формы аргументов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7960" y="1447560"/>
            <a:ext cx="4190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Питч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(Pitch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от 5 до 30 секунд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Презентация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от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5 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до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10 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слайдов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Краткий Обзор 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(Резюме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1-2 страницы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Приложение допустимо в РЕДКИХ случаях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9" name="Picture 6" descr="0060988606"/>
          <p:cNvPicPr/>
          <p:nvPr/>
        </p:nvPicPr>
        <p:blipFill>
          <a:blip r:embed="rId1"/>
          <a:stretch/>
        </p:blipFill>
        <p:spPr>
          <a:xfrm>
            <a:off x="457200" y="137160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Дата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Нижний колонтитул 5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588F-C258-4DE9-8ABC-3AF0A4781411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09680" y="456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Форма выражения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и менталитет в бизнес сфере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343040" y="1447560"/>
            <a:ext cx="4267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Термины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Бизнес выгоды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Эксплуатационные расходы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Цели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Пониженные затраты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Более крупный размер прибыли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Более высокий объём продаж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Более сильная позиция на рынке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Более низкий процент возвращённой продукции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Пониженные затраты при обслуживании клиентов 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И т.д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15" name="Picture 6" descr="vergaderen_square"/>
          <p:cNvPicPr/>
          <p:nvPr/>
        </p:nvPicPr>
        <p:blipFill>
          <a:blip r:embed="rId1"/>
          <a:stretch/>
        </p:blipFill>
        <p:spPr>
          <a:xfrm>
            <a:off x="609480" y="182880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Дата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Нижний колонтитул 5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57AC-C880-4025-953C-834DFC9DE000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Призентация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или Краткий Обзор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Призентация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(</a:t>
            </a: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по слайду на каждую секцию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Название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Коммерческий вопрос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Технический вопрос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Техническое решение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ключевые аспекты вкратце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Бизнес выгоды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Рынок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 &amp; 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конкуренты 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Коэффициент окупаемости инвестиций 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(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время и деньги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Следующий шаг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Краткий Обзор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Факты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Контактная информация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название проекта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предложение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финансирование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план работы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прибыль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Предложение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Диаграммы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схемы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таблицы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Секции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Предложение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Задача и решение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Рынок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 &amp; </a:t>
            </a: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конкуренты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5f5f5f"/>
                </a:solidFill>
                <a:latin typeface="Tahoma"/>
              </a:rPr>
              <a:t>Сбыт </a:t>
            </a:r>
            <a:r>
              <a:rPr b="1" i="1" lang="en-US" sz="1400" spc="-1" strike="noStrike">
                <a:solidFill>
                  <a:srgbClr val="5f5f5f"/>
                </a:solidFill>
                <a:latin typeface="Tahoma"/>
              </a:rPr>
              <a:t>&amp; </a:t>
            </a:r>
            <a:r>
              <a:rPr b="1" i="1" lang="ru-RU" sz="1400" spc="-1" strike="noStrike">
                <a:solidFill>
                  <a:srgbClr val="5f5f5f"/>
                </a:solidFill>
                <a:latin typeface="Tahoma"/>
              </a:rPr>
              <a:t>дистрибьюшен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5f5f5f"/>
                </a:solidFill>
                <a:latin typeface="Tahoma"/>
              </a:rPr>
              <a:t>План управления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5f5f5f"/>
                </a:solidFill>
                <a:latin typeface="Tahoma"/>
              </a:rPr>
              <a:t>Прогнозы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Коэффициент окупаемости инвестиций 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(</a:t>
            </a: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время и деньги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4876920" y="1676520"/>
            <a:ext cx="34290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Дата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Нижний колонтитул 5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07BE-E9B8-45BC-81D1-92377C2A26BA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Стиль Деловой Переписки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124080" y="1447560"/>
            <a:ext cx="6019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ahoma"/>
              </a:rPr>
              <a:t>Ясно и коротко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ahoma"/>
              </a:rPr>
              <a:t>Фокус на одном ключевом аспекте</a:t>
            </a:r>
            <a:r>
              <a:rPr b="0" lang="en-US" sz="22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ahoma"/>
              </a:rPr>
              <a:t>Один убедительный аргумент сильнее нескольких 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ahoma"/>
              </a:rPr>
              <a:t>Нет необходимости делать каждую секцию одинаковой по длине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ahoma"/>
              </a:rPr>
              <a:t>Меньше слов – больше эффект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ahoma"/>
              </a:rPr>
              <a:t>Не вдавайтесь в детали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ahoma"/>
              </a:rPr>
              <a:t>Приводите ссылки и убедительную статистику 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Tahoma"/>
              </a:rPr>
              <a:t>Выражайтесь доходчиво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28" name="Picture 6" descr="writss13"/>
          <p:cNvPicPr/>
          <p:nvPr/>
        </p:nvPicPr>
        <p:blipFill>
          <a:blip r:embed="rId1"/>
          <a:srcRect l="4746" t="0" r="50004" b="30512"/>
          <a:stretch/>
        </p:blipFill>
        <p:spPr>
          <a:xfrm>
            <a:off x="609480" y="1447920"/>
            <a:ext cx="2286000" cy="27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Дата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Нижний колонтитул 4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4C0B-6D58-46A7-A3FF-306B5EE93C54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Примеры - Предложение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62160" y="1218960"/>
            <a:ext cx="4724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Из-за стандартов международного союза телекоммуникаций (МСТ), модемные банки получили широкое распространение.  Применение одобренного МСТ алгоритма в процессорах компании 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Texas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Instruments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позволяет обрабатывать в два раза больше каналов без замены хардвер.  Таким образом, изготовляя ту же продукцию, производители модемных банков способны увеличить маржу на 37%, или удвоить производительность за ту же цену. 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609480" y="1371600"/>
            <a:ext cx="3505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Коммерческий вопро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Технический вопро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Техническое реш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Бизнес выго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Рынок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&amp; 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нкуренты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эффициент окупаемости инвестиц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Следующий ша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Дата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Нижний колонтитул 4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2C56-AC28-469C-BD25-A4A75093E985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Примеры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 -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Рынок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419720" y="3429000"/>
            <a:ext cx="44956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Структура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ключевые лица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двигающие силы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динамика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возможности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угрозы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: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Рынок хардвера для модемных банков доминируют производители оборудования (ПО) и системные интеграторы (СИ). ПО выпускают собственные модемные карточки, а СИ покупают их у девяти самых крупных поставщиков карточек.  Двигающей силой в данном случае является цена...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609480" y="1371600"/>
            <a:ext cx="3657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ммерческий вопро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Технический вопро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Техническое реш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Бизнес выг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Рынок</a:t>
            </a: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&amp; 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нкуренты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эффициент окупаемости инвестиц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Следующий ша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7" descr="P2"/>
          <p:cNvPicPr/>
          <p:nvPr/>
        </p:nvPicPr>
        <p:blipFill>
          <a:blip r:embed="rId1"/>
          <a:srcRect l="0" t="18560" r="0" b="0"/>
          <a:stretch/>
        </p:blipFill>
        <p:spPr>
          <a:xfrm>
            <a:off x="4800600" y="1219320"/>
            <a:ext cx="3581280" cy="200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Дата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Нижний колонтитул 4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E413-E778-4375-A24C-38FBA46222B9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Примеры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 -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Конкуренты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90760" y="2895480"/>
            <a:ext cx="46479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DSP Group, SignalCorp, and Motorola 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работают над новыми алгоритмами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.  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Решение 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DSP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Group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требует использование более дорогого (на 20%) параллельного процессора. 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SignalCorp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ещё не протестировала алгоритм в реальном времени, а решение лаборатории 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Motorola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сокращает хардвер только на 39%, а не на требуемые 50%.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609480" y="1371600"/>
            <a:ext cx="3657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ммерческий вопро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Технический вопро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Техническое реш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Бизнес выг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Рынок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&amp; </a:t>
            </a: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конкуренты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эффициент окупаемости инвестиц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Следующий ша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685800" y="4267080"/>
            <a:ext cx="312408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Распространённые ошибки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икаких конкурен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динственное решение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Group 8"/>
          <p:cNvGrpSpPr/>
          <p:nvPr/>
        </p:nvGrpSpPr>
        <p:grpSpPr>
          <a:xfrm>
            <a:off x="4502160" y="1125360"/>
            <a:ext cx="3706920" cy="1887840"/>
            <a:chOff x="4502160" y="1125360"/>
            <a:chExt cx="3706920" cy="1887840"/>
          </a:xfrm>
        </p:grpSpPr>
        <p:sp>
          <p:nvSpPr>
            <p:cNvPr id="150" name="AutoShape 7"/>
            <p:cNvSpPr/>
            <p:nvPr/>
          </p:nvSpPr>
          <p:spPr>
            <a:xfrm>
              <a:off x="4502160" y="1125360"/>
              <a:ext cx="3706920" cy="188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Freeform 9"/>
            <p:cNvSpPr/>
            <p:nvPr/>
          </p:nvSpPr>
          <p:spPr>
            <a:xfrm>
              <a:off x="4792680" y="2706840"/>
              <a:ext cx="1766880" cy="77760"/>
            </a:xfrm>
            <a:custGeom>
              <a:avLst/>
              <a:gdLst>
                <a:gd name="textAreaLeft" fmla="*/ 0 w 1766880"/>
                <a:gd name="textAreaRight" fmla="*/ 1767240 w 17668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113" h="49">
                  <a:moveTo>
                    <a:pt x="0" y="49"/>
                  </a:moveTo>
                  <a:lnTo>
                    <a:pt x="65" y="0"/>
                  </a:lnTo>
                  <a:lnTo>
                    <a:pt x="1113" y="0"/>
                  </a:lnTo>
                  <a:lnTo>
                    <a:pt x="1049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10"/>
            <p:cNvSpPr/>
            <p:nvPr/>
          </p:nvSpPr>
          <p:spPr>
            <a:xfrm>
              <a:off x="4792680" y="1271520"/>
              <a:ext cx="103320" cy="151308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513080"/>
                <a:gd name="textAreaBottom" fmla="*/ 1513440 h 1513080"/>
              </a:gdLst>
              <a:ahLst/>
              <a:rect l="textAreaLeft" t="textAreaTop" r="textAreaRight" b="textAreaBottom"/>
              <a:pathLst>
                <a:path w="65" h="953">
                  <a:moveTo>
                    <a:pt x="0" y="953"/>
                  </a:moveTo>
                  <a:lnTo>
                    <a:pt x="0" y="49"/>
                  </a:lnTo>
                  <a:lnTo>
                    <a:pt x="65" y="0"/>
                  </a:lnTo>
                  <a:lnTo>
                    <a:pt x="65" y="904"/>
                  </a:lnTo>
                  <a:lnTo>
                    <a:pt x="0" y="95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1"/>
            <p:cNvSpPr/>
            <p:nvPr/>
          </p:nvSpPr>
          <p:spPr>
            <a:xfrm>
              <a:off x="4896000" y="1271520"/>
              <a:ext cx="1663560" cy="14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12"/>
            <p:cNvSpPr/>
            <p:nvPr/>
          </p:nvSpPr>
          <p:spPr>
            <a:xfrm>
              <a:off x="4792680" y="2706840"/>
              <a:ext cx="1766880" cy="77760"/>
            </a:xfrm>
            <a:custGeom>
              <a:avLst/>
              <a:gdLst>
                <a:gd name="textAreaLeft" fmla="*/ 0 w 1766880"/>
                <a:gd name="textAreaRight" fmla="*/ 1767240 w 17668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64" h="16">
                  <a:moveTo>
                    <a:pt x="0" y="16"/>
                  </a:moveTo>
                  <a:lnTo>
                    <a:pt x="21" y="0"/>
                  </a:lnTo>
                  <a:lnTo>
                    <a:pt x="364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13"/>
            <p:cNvSpPr/>
            <p:nvPr/>
          </p:nvSpPr>
          <p:spPr>
            <a:xfrm>
              <a:off x="4792680" y="2465280"/>
              <a:ext cx="1766880" cy="82800"/>
            </a:xfrm>
            <a:custGeom>
              <a:avLst/>
              <a:gdLst>
                <a:gd name="textAreaLeft" fmla="*/ 0 w 1766880"/>
                <a:gd name="textAreaRight" fmla="*/ 1767240 w 176688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364" h="17">
                  <a:moveTo>
                    <a:pt x="0" y="17"/>
                  </a:moveTo>
                  <a:lnTo>
                    <a:pt x="21" y="0"/>
                  </a:lnTo>
                  <a:lnTo>
                    <a:pt x="364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14"/>
            <p:cNvSpPr/>
            <p:nvPr/>
          </p:nvSpPr>
          <p:spPr>
            <a:xfrm>
              <a:off x="4792680" y="2227320"/>
              <a:ext cx="1766880" cy="77760"/>
            </a:xfrm>
            <a:custGeom>
              <a:avLst/>
              <a:gdLst>
                <a:gd name="textAreaLeft" fmla="*/ 0 w 1766880"/>
                <a:gd name="textAreaRight" fmla="*/ 1767240 w 17668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64" h="16">
                  <a:moveTo>
                    <a:pt x="0" y="16"/>
                  </a:moveTo>
                  <a:lnTo>
                    <a:pt x="21" y="0"/>
                  </a:lnTo>
                  <a:lnTo>
                    <a:pt x="364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15"/>
            <p:cNvSpPr/>
            <p:nvPr/>
          </p:nvSpPr>
          <p:spPr>
            <a:xfrm>
              <a:off x="4792680" y="1989000"/>
              <a:ext cx="1766880" cy="77760"/>
            </a:xfrm>
            <a:custGeom>
              <a:avLst/>
              <a:gdLst>
                <a:gd name="textAreaLeft" fmla="*/ 0 w 1766880"/>
                <a:gd name="textAreaRight" fmla="*/ 1767240 w 17668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64" h="16">
                  <a:moveTo>
                    <a:pt x="0" y="16"/>
                  </a:moveTo>
                  <a:lnTo>
                    <a:pt x="21" y="0"/>
                  </a:lnTo>
                  <a:lnTo>
                    <a:pt x="364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16"/>
            <p:cNvSpPr/>
            <p:nvPr/>
          </p:nvSpPr>
          <p:spPr>
            <a:xfrm>
              <a:off x="4792680" y="1751040"/>
              <a:ext cx="1766880" cy="77760"/>
            </a:xfrm>
            <a:custGeom>
              <a:avLst/>
              <a:gdLst>
                <a:gd name="textAreaLeft" fmla="*/ 0 w 1766880"/>
                <a:gd name="textAreaRight" fmla="*/ 1767240 w 17668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64" h="16">
                  <a:moveTo>
                    <a:pt x="0" y="16"/>
                  </a:moveTo>
                  <a:lnTo>
                    <a:pt x="21" y="0"/>
                  </a:lnTo>
                  <a:lnTo>
                    <a:pt x="364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17"/>
            <p:cNvSpPr/>
            <p:nvPr/>
          </p:nvSpPr>
          <p:spPr>
            <a:xfrm>
              <a:off x="4792680" y="1508040"/>
              <a:ext cx="1766880" cy="82800"/>
            </a:xfrm>
            <a:custGeom>
              <a:avLst/>
              <a:gdLst>
                <a:gd name="textAreaLeft" fmla="*/ 0 w 1766880"/>
                <a:gd name="textAreaRight" fmla="*/ 1767240 w 176688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364" h="17">
                  <a:moveTo>
                    <a:pt x="0" y="17"/>
                  </a:moveTo>
                  <a:lnTo>
                    <a:pt x="21" y="0"/>
                  </a:lnTo>
                  <a:lnTo>
                    <a:pt x="364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18"/>
            <p:cNvSpPr/>
            <p:nvPr/>
          </p:nvSpPr>
          <p:spPr>
            <a:xfrm>
              <a:off x="4792680" y="1271520"/>
              <a:ext cx="1766880" cy="77760"/>
            </a:xfrm>
            <a:custGeom>
              <a:avLst/>
              <a:gdLst>
                <a:gd name="textAreaLeft" fmla="*/ 0 w 1766880"/>
                <a:gd name="textAreaRight" fmla="*/ 1767240 w 17668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64" h="16">
                  <a:moveTo>
                    <a:pt x="0" y="16"/>
                  </a:moveTo>
                  <a:lnTo>
                    <a:pt x="21" y="0"/>
                  </a:lnTo>
                  <a:lnTo>
                    <a:pt x="364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19"/>
            <p:cNvSpPr/>
            <p:nvPr/>
          </p:nvSpPr>
          <p:spPr>
            <a:xfrm>
              <a:off x="4792680" y="2706840"/>
              <a:ext cx="1766880" cy="77760"/>
            </a:xfrm>
            <a:custGeom>
              <a:avLst/>
              <a:gdLst>
                <a:gd name="textAreaLeft" fmla="*/ 0 w 1766880"/>
                <a:gd name="textAreaRight" fmla="*/ 1767240 w 17668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113" h="49">
                  <a:moveTo>
                    <a:pt x="1113" y="0"/>
                  </a:moveTo>
                  <a:lnTo>
                    <a:pt x="1049" y="49"/>
                  </a:lnTo>
                  <a:lnTo>
                    <a:pt x="0" y="49"/>
                  </a:lnTo>
                  <a:lnTo>
                    <a:pt x="65" y="0"/>
                  </a:lnTo>
                  <a:lnTo>
                    <a:pt x="1113" y="0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20"/>
            <p:cNvSpPr/>
            <p:nvPr/>
          </p:nvSpPr>
          <p:spPr>
            <a:xfrm>
              <a:off x="4792680" y="1271520"/>
              <a:ext cx="103320" cy="151308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513080"/>
                <a:gd name="textAreaBottom" fmla="*/ 1513440 h 1513080"/>
              </a:gdLst>
              <a:ahLst/>
              <a:rect l="textAreaLeft" t="textAreaTop" r="textAreaRight" b="textAreaBottom"/>
              <a:pathLst>
                <a:path w="65" h="953">
                  <a:moveTo>
                    <a:pt x="0" y="953"/>
                  </a:moveTo>
                  <a:lnTo>
                    <a:pt x="0" y="49"/>
                  </a:lnTo>
                  <a:lnTo>
                    <a:pt x="65" y="0"/>
                  </a:lnTo>
                  <a:lnTo>
                    <a:pt x="65" y="904"/>
                  </a:lnTo>
                  <a:lnTo>
                    <a:pt x="0" y="953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21"/>
            <p:cNvSpPr/>
            <p:nvPr/>
          </p:nvSpPr>
          <p:spPr>
            <a:xfrm>
              <a:off x="4896000" y="1271520"/>
              <a:ext cx="1663560" cy="14353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22"/>
            <p:cNvSpPr/>
            <p:nvPr/>
          </p:nvSpPr>
          <p:spPr>
            <a:xfrm>
              <a:off x="5322960" y="1392120"/>
              <a:ext cx="101520" cy="13924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392480"/>
                <a:gd name="textAreaBottom" fmla="*/ 1392840 h 1392480"/>
              </a:gdLst>
              <a:ahLst/>
              <a:rect l="textAreaLeft" t="textAreaTop" r="textAreaRight" b="textAreaBottom"/>
              <a:pathLst>
                <a:path w="64" h="877">
                  <a:moveTo>
                    <a:pt x="0" y="877"/>
                  </a:moveTo>
                  <a:lnTo>
                    <a:pt x="0" y="49"/>
                  </a:lnTo>
                  <a:lnTo>
                    <a:pt x="64" y="0"/>
                  </a:lnTo>
                  <a:lnTo>
                    <a:pt x="64" y="828"/>
                  </a:lnTo>
                  <a:lnTo>
                    <a:pt x="0" y="877"/>
                  </a:lnTo>
                  <a:close/>
                </a:path>
              </a:pathLst>
            </a:custGeom>
            <a:solidFill>
              <a:srgbClr val="00664d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23"/>
            <p:cNvSpPr/>
            <p:nvPr/>
          </p:nvSpPr>
          <p:spPr>
            <a:xfrm>
              <a:off x="5016600" y="1469880"/>
              <a:ext cx="306360" cy="1314720"/>
            </a:xfrm>
            <a:prstGeom prst="rect">
              <a:avLst/>
            </a:prstGeom>
            <a:solidFill>
              <a:srgbClr val="00cc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24"/>
            <p:cNvSpPr/>
            <p:nvPr/>
          </p:nvSpPr>
          <p:spPr>
            <a:xfrm>
              <a:off x="5016600" y="1392120"/>
              <a:ext cx="407880" cy="77760"/>
            </a:xfrm>
            <a:custGeom>
              <a:avLst/>
              <a:gdLst>
                <a:gd name="textAreaLeft" fmla="*/ 0 w 407880"/>
                <a:gd name="textAreaRight" fmla="*/ 408240 w 4078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257" h="49">
                  <a:moveTo>
                    <a:pt x="193" y="49"/>
                  </a:moveTo>
                  <a:lnTo>
                    <a:pt x="257" y="0"/>
                  </a:lnTo>
                  <a:lnTo>
                    <a:pt x="67" y="0"/>
                  </a:lnTo>
                  <a:lnTo>
                    <a:pt x="0" y="49"/>
                  </a:lnTo>
                  <a:lnTo>
                    <a:pt x="193" y="49"/>
                  </a:lnTo>
                  <a:close/>
                </a:path>
              </a:pathLst>
            </a:custGeom>
            <a:solidFill>
              <a:srgbClr val="009973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25"/>
            <p:cNvSpPr/>
            <p:nvPr/>
          </p:nvSpPr>
          <p:spPr>
            <a:xfrm>
              <a:off x="5622840" y="2178000"/>
              <a:ext cx="106560" cy="60660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606600"/>
                <a:gd name="textAreaBottom" fmla="*/ 606960 h 606600"/>
              </a:gdLst>
              <a:ahLst/>
              <a:rect l="textAreaLeft" t="textAreaTop" r="textAreaRight" b="textAreaBottom"/>
              <a:pathLst>
                <a:path w="67" h="382">
                  <a:moveTo>
                    <a:pt x="0" y="382"/>
                  </a:moveTo>
                  <a:lnTo>
                    <a:pt x="0" y="49"/>
                  </a:lnTo>
                  <a:lnTo>
                    <a:pt x="67" y="0"/>
                  </a:lnTo>
                  <a:lnTo>
                    <a:pt x="67" y="333"/>
                  </a:lnTo>
                  <a:lnTo>
                    <a:pt x="0" y="382"/>
                  </a:lnTo>
                  <a:close/>
                </a:path>
              </a:pathLst>
            </a:custGeom>
            <a:solidFill>
              <a:srgbClr val="1a1a66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26"/>
            <p:cNvSpPr/>
            <p:nvPr/>
          </p:nvSpPr>
          <p:spPr>
            <a:xfrm>
              <a:off x="5322960" y="2255760"/>
              <a:ext cx="299880" cy="528840"/>
            </a:xfrm>
            <a:prstGeom prst="rect">
              <a:avLst/>
            </a:prstGeom>
            <a:solidFill>
              <a:srgbClr val="3333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Freeform 27"/>
            <p:cNvSpPr/>
            <p:nvPr/>
          </p:nvSpPr>
          <p:spPr>
            <a:xfrm>
              <a:off x="5322960" y="2178000"/>
              <a:ext cx="406440" cy="77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256" h="49">
                  <a:moveTo>
                    <a:pt x="189" y="49"/>
                  </a:moveTo>
                  <a:lnTo>
                    <a:pt x="256" y="0"/>
                  </a:lnTo>
                  <a:lnTo>
                    <a:pt x="64" y="0"/>
                  </a:lnTo>
                  <a:lnTo>
                    <a:pt x="0" y="49"/>
                  </a:lnTo>
                  <a:lnTo>
                    <a:pt x="189" y="49"/>
                  </a:lnTo>
                  <a:close/>
                </a:path>
              </a:pathLst>
            </a:custGeom>
            <a:solidFill>
              <a:srgbClr val="2626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Freeform 28"/>
            <p:cNvSpPr/>
            <p:nvPr/>
          </p:nvSpPr>
          <p:spPr>
            <a:xfrm>
              <a:off x="5929200" y="2274840"/>
              <a:ext cx="101880" cy="50976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509760"/>
                <a:gd name="textAreaBottom" fmla="*/ 510120 h 509760"/>
              </a:gdLst>
              <a:ahLst/>
              <a:rect l="textAreaLeft" t="textAreaTop" r="textAreaRight" b="textAreaBottom"/>
              <a:pathLst>
                <a:path w="64" h="321">
                  <a:moveTo>
                    <a:pt x="0" y="321"/>
                  </a:moveTo>
                  <a:lnTo>
                    <a:pt x="0" y="49"/>
                  </a:lnTo>
                  <a:lnTo>
                    <a:pt x="64" y="0"/>
                  </a:lnTo>
                  <a:lnTo>
                    <a:pt x="64" y="272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6666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29"/>
            <p:cNvSpPr/>
            <p:nvPr/>
          </p:nvSpPr>
          <p:spPr>
            <a:xfrm>
              <a:off x="5622840" y="2352600"/>
              <a:ext cx="306360" cy="432000"/>
            </a:xfrm>
            <a:prstGeom prst="rect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Freeform 30"/>
            <p:cNvSpPr/>
            <p:nvPr/>
          </p:nvSpPr>
          <p:spPr>
            <a:xfrm>
              <a:off x="5622840" y="2274840"/>
              <a:ext cx="408240" cy="77760"/>
            </a:xfrm>
            <a:custGeom>
              <a:avLst/>
              <a:gdLst>
                <a:gd name="textAreaLeft" fmla="*/ 0 w 408240"/>
                <a:gd name="textAreaRight" fmla="*/ 408600 w 40824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257" h="49">
                  <a:moveTo>
                    <a:pt x="193" y="49"/>
                  </a:moveTo>
                  <a:lnTo>
                    <a:pt x="257" y="0"/>
                  </a:lnTo>
                  <a:lnTo>
                    <a:pt x="67" y="0"/>
                  </a:lnTo>
                  <a:lnTo>
                    <a:pt x="0" y="49"/>
                  </a:lnTo>
                  <a:lnTo>
                    <a:pt x="193" y="49"/>
                  </a:lnTo>
                  <a:close/>
                </a:path>
              </a:pathLst>
            </a:custGeom>
            <a:solidFill>
              <a:srgbClr val="9999b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Freeform 31"/>
            <p:cNvSpPr/>
            <p:nvPr/>
          </p:nvSpPr>
          <p:spPr>
            <a:xfrm>
              <a:off x="6229440" y="2585880"/>
              <a:ext cx="106200" cy="19872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67" h="125">
                  <a:moveTo>
                    <a:pt x="0" y="125"/>
                  </a:moveTo>
                  <a:lnTo>
                    <a:pt x="0" y="49"/>
                  </a:lnTo>
                  <a:lnTo>
                    <a:pt x="67" y="0"/>
                  </a:lnTo>
                  <a:lnTo>
                    <a:pt x="67" y="76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59595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32"/>
            <p:cNvSpPr/>
            <p:nvPr/>
          </p:nvSpPr>
          <p:spPr>
            <a:xfrm>
              <a:off x="5929200" y="2664000"/>
              <a:ext cx="300240" cy="120600"/>
            </a:xfrm>
            <a:prstGeom prst="rect">
              <a:avLst/>
            </a:prstGeom>
            <a:solidFill>
              <a:srgbClr val="b2b2b2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Freeform 33"/>
            <p:cNvSpPr/>
            <p:nvPr/>
          </p:nvSpPr>
          <p:spPr>
            <a:xfrm>
              <a:off x="5929200" y="2585880"/>
              <a:ext cx="406440" cy="781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256" h="49">
                  <a:moveTo>
                    <a:pt x="189" y="49"/>
                  </a:moveTo>
                  <a:lnTo>
                    <a:pt x="256" y="0"/>
                  </a:lnTo>
                  <a:lnTo>
                    <a:pt x="64" y="0"/>
                  </a:lnTo>
                  <a:lnTo>
                    <a:pt x="0" y="49"/>
                  </a:lnTo>
                  <a:lnTo>
                    <a:pt x="189" y="49"/>
                  </a:lnTo>
                  <a:close/>
                </a:path>
              </a:pathLst>
            </a:custGeom>
            <a:solidFill>
              <a:srgbClr val="868686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34"/>
            <p:cNvSpPr/>
            <p:nvPr/>
          </p:nvSpPr>
          <p:spPr>
            <a:xfrm flipV="1">
              <a:off x="4792680" y="1348920"/>
              <a:ext cx="1440" cy="1435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35"/>
            <p:cNvSpPr/>
            <p:nvPr/>
          </p:nvSpPr>
          <p:spPr>
            <a:xfrm flipH="1">
              <a:off x="4768920" y="2784600"/>
              <a:ext cx="237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36"/>
            <p:cNvSpPr/>
            <p:nvPr/>
          </p:nvSpPr>
          <p:spPr>
            <a:xfrm flipH="1">
              <a:off x="4768920" y="2548080"/>
              <a:ext cx="237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37"/>
            <p:cNvSpPr/>
            <p:nvPr/>
          </p:nvSpPr>
          <p:spPr>
            <a:xfrm flipH="1">
              <a:off x="4768920" y="2305080"/>
              <a:ext cx="237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38"/>
            <p:cNvSpPr/>
            <p:nvPr/>
          </p:nvSpPr>
          <p:spPr>
            <a:xfrm flipH="1">
              <a:off x="4768920" y="2066760"/>
              <a:ext cx="2376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39"/>
            <p:cNvSpPr/>
            <p:nvPr/>
          </p:nvSpPr>
          <p:spPr>
            <a:xfrm flipH="1">
              <a:off x="4768920" y="1828800"/>
              <a:ext cx="237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40"/>
            <p:cNvSpPr/>
            <p:nvPr/>
          </p:nvSpPr>
          <p:spPr>
            <a:xfrm flipH="1">
              <a:off x="4768920" y="1590840"/>
              <a:ext cx="237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41"/>
            <p:cNvSpPr/>
            <p:nvPr/>
          </p:nvSpPr>
          <p:spPr>
            <a:xfrm flipH="1">
              <a:off x="4768920" y="1349280"/>
              <a:ext cx="2376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42"/>
            <p:cNvSpPr/>
            <p:nvPr/>
          </p:nvSpPr>
          <p:spPr>
            <a:xfrm>
              <a:off x="4714920" y="272268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43"/>
            <p:cNvSpPr/>
            <p:nvPr/>
          </p:nvSpPr>
          <p:spPr>
            <a:xfrm>
              <a:off x="4656600" y="24843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44"/>
            <p:cNvSpPr/>
            <p:nvPr/>
          </p:nvSpPr>
          <p:spPr>
            <a:xfrm>
              <a:off x="4656600" y="224172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45"/>
            <p:cNvSpPr/>
            <p:nvPr/>
          </p:nvSpPr>
          <p:spPr>
            <a:xfrm>
              <a:off x="4656600" y="200340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46"/>
            <p:cNvSpPr/>
            <p:nvPr/>
          </p:nvSpPr>
          <p:spPr>
            <a:xfrm>
              <a:off x="4656600" y="176544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Rectangle 47"/>
            <p:cNvSpPr/>
            <p:nvPr/>
          </p:nvSpPr>
          <p:spPr>
            <a:xfrm>
              <a:off x="4656600" y="152892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Rectangle 48"/>
            <p:cNvSpPr/>
            <p:nvPr/>
          </p:nvSpPr>
          <p:spPr>
            <a:xfrm>
              <a:off x="4656600" y="128592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49"/>
            <p:cNvSpPr/>
            <p:nvPr/>
          </p:nvSpPr>
          <p:spPr>
            <a:xfrm>
              <a:off x="4792680" y="2784600"/>
              <a:ext cx="16653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50"/>
            <p:cNvSpPr/>
            <p:nvPr/>
          </p:nvSpPr>
          <p:spPr>
            <a:xfrm>
              <a:off x="4792680" y="2784600"/>
              <a:ext cx="1440" cy="25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51"/>
            <p:cNvSpPr/>
            <p:nvPr/>
          </p:nvSpPr>
          <p:spPr>
            <a:xfrm>
              <a:off x="6458040" y="2784600"/>
              <a:ext cx="1440" cy="25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52"/>
            <p:cNvSpPr/>
            <p:nvPr/>
          </p:nvSpPr>
          <p:spPr>
            <a:xfrm>
              <a:off x="6632640" y="1305000"/>
              <a:ext cx="1430280" cy="13827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53"/>
            <p:cNvSpPr/>
            <p:nvPr/>
          </p:nvSpPr>
          <p:spPr>
            <a:xfrm>
              <a:off x="6875640" y="1441440"/>
              <a:ext cx="96840" cy="96840"/>
            </a:xfrm>
            <a:prstGeom prst="rect">
              <a:avLst/>
            </a:prstGeom>
            <a:solidFill>
              <a:srgbClr val="00cc99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54"/>
            <p:cNvSpPr/>
            <p:nvPr/>
          </p:nvSpPr>
          <p:spPr>
            <a:xfrm>
              <a:off x="7023960" y="1387440"/>
              <a:ext cx="398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«</a:t>
              </a:r>
              <a:r>
                <a:rPr b="1" lang="ru-RU" sz="1200" spc="-1" strike="noStrike">
                  <a:solidFill>
                    <a:srgbClr val="000000"/>
                  </a:solidFill>
                  <a:latin typeface="Tahoma"/>
                </a:rPr>
                <a:t>Вы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55"/>
            <p:cNvSpPr/>
            <p:nvPr/>
          </p:nvSpPr>
          <p:spPr>
            <a:xfrm>
              <a:off x="6875640" y="1785960"/>
              <a:ext cx="96840" cy="96840"/>
            </a:xfrm>
            <a:prstGeom prst="rect">
              <a:avLst/>
            </a:prstGeom>
            <a:solidFill>
              <a:srgbClr val="3333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56"/>
            <p:cNvSpPr/>
            <p:nvPr/>
          </p:nvSpPr>
          <p:spPr>
            <a:xfrm>
              <a:off x="7101360" y="1731960"/>
              <a:ext cx="80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DSP Gro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57"/>
            <p:cNvSpPr/>
            <p:nvPr/>
          </p:nvSpPr>
          <p:spPr>
            <a:xfrm>
              <a:off x="6875640" y="2130480"/>
              <a:ext cx="96840" cy="96840"/>
            </a:xfrm>
            <a:prstGeom prst="rect">
              <a:avLst/>
            </a:prstGeom>
            <a:solidFill>
              <a:srgbClr val="cc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Rectangle 58"/>
            <p:cNvSpPr/>
            <p:nvPr/>
          </p:nvSpPr>
          <p:spPr>
            <a:xfrm>
              <a:off x="7075440" y="2076480"/>
              <a:ext cx="700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otorol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59"/>
            <p:cNvSpPr/>
            <p:nvPr/>
          </p:nvSpPr>
          <p:spPr>
            <a:xfrm>
              <a:off x="6875640" y="2470320"/>
              <a:ext cx="96840" cy="96840"/>
            </a:xfrm>
            <a:prstGeom prst="rect">
              <a:avLst/>
            </a:prstGeom>
            <a:solidFill>
              <a:srgbClr val="b2b2b2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60"/>
            <p:cNvSpPr/>
            <p:nvPr/>
          </p:nvSpPr>
          <p:spPr>
            <a:xfrm>
              <a:off x="7093080" y="241632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SignalCo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Дата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Нижний колонтитул 4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72CA-7382-4AFA-A6A8-98FB268D4FA5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Примеры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 –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Коэффициент окупаемости инвестиций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(КОИ)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733560" y="2895480"/>
            <a:ext cx="4800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Общая сумма затрат на раб. силу и материалы = $1,500.  На данном уровне производства размер прибыли увеличивается на $100/ед., в общей сложности принося дополнительный доход в $7.500 за год.  Таким образом, окупаемость инвестиций за первый год равняется 500%.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609480" y="1371600"/>
            <a:ext cx="3657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ммерческий вопро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Технический вопро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Техническое реш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Бизнес выг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Рынок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&amp; 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конкуренты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Коэффициент окупаемости инвестиций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Следующий ша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114800" y="1447920"/>
          <a:ext cx="4343400" cy="1222200"/>
        </p:xfrm>
        <a:graphic>
          <a:graphicData uri="http://schemas.openxmlformats.org/drawingml/2006/table">
            <a:tbl>
              <a:tblPr/>
              <a:tblGrid>
                <a:gridCol w="2133720"/>
                <a:gridCol w="761760"/>
                <a:gridCol w="642960"/>
                <a:gridCol w="804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Что имен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$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аб. сила </a:t>
                      </a: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amp; </a:t>
                      </a: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матери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$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$1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Прибы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$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$7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Окупаемость инвести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5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Дата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Нижний колонтитул 4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0959-1E88-4B7E-A8A3-BA2258C6304C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Примеры – Следующий Шаг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419360" y="1371240"/>
            <a:ext cx="4343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66"/>
                </a:solidFill>
                <a:uFillTx/>
                <a:latin typeface="Tahoma"/>
              </a:rPr>
              <a:t>Встречи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: 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(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Презентация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96720" indent="-39672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Начальник Инженерного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/ Te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х. Отдела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 – 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Демонстрация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/ 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показ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96720" indent="-39672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Финансовый Менеджер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/ 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Директор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 – 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Экономический аспект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96720" indent="-39672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Бизнес Менеджер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 – 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Описание проекта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96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96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66"/>
                </a:solidFill>
                <a:uFillTx/>
                <a:latin typeface="Tahoma"/>
              </a:rPr>
              <a:t>Контакт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: 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(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Краткий Обзор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609480" y="1371600"/>
            <a:ext cx="3657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ммерческий вопро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Технический вопро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Техническое реш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Бизнес выг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Рынок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&amp; 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нкуренты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эффициент окупаемости инвестиц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Следующий ша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31" descr="December%20Calendar"/>
          <p:cNvPicPr/>
          <p:nvPr/>
        </p:nvPicPr>
        <p:blipFill>
          <a:blip r:embed="rId1"/>
          <a:stretch/>
        </p:blipFill>
        <p:spPr>
          <a:xfrm>
            <a:off x="4648320" y="3849840"/>
            <a:ext cx="3200400" cy="209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Дата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Нижний колонтитул 4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94BA-4E5F-4933-970E-A8E8B9CD6192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8080"/>
                </a:solidFill>
                <a:latin typeface="Tahoma"/>
              </a:rPr>
              <a:t>Примеры</a:t>
            </a:r>
            <a:r>
              <a:rPr b="1" i="1" lang="en-US" sz="2800" spc="-1" strike="noStrike">
                <a:solidFill>
                  <a:srgbClr val="808080"/>
                </a:solidFill>
                <a:latin typeface="Tahoma"/>
              </a:rPr>
              <a:t>– </a:t>
            </a:r>
            <a:r>
              <a:rPr b="1" i="1" lang="ru-RU" sz="2800" spc="-1" strike="noStrike">
                <a:solidFill>
                  <a:srgbClr val="808080"/>
                </a:solidFill>
                <a:latin typeface="Tahoma"/>
              </a:rPr>
              <a:t>Сбыт и Дистрибьюшен</a:t>
            </a:r>
            <a:r>
              <a:rPr b="1" i="1" lang="en-US" sz="2800" spc="-1" strike="noStrike">
                <a:solidFill>
                  <a:srgbClr val="808080"/>
                </a:solidFill>
                <a:latin typeface="Tahoma"/>
              </a:rPr>
              <a:t> (</a:t>
            </a:r>
            <a:r>
              <a:rPr b="1" i="1" lang="ru-RU" sz="2800" spc="-1" strike="noStrike">
                <a:solidFill>
                  <a:srgbClr val="808080"/>
                </a:solidFill>
                <a:latin typeface="Tahoma"/>
              </a:rPr>
              <a:t>только для Бизнес Плана</a:t>
            </a:r>
            <a:r>
              <a:rPr b="1" i="1" lang="en-US" sz="2800" spc="-1" strike="noStrike">
                <a:solidFill>
                  <a:srgbClr val="80808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419720" y="33526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Прямой сбыт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Партнёры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Мы планируем напрямую продавать нашу продукцию производителям оборудования. На сегодняшний момент существует где-то 15 крупных производителей и наша технология выгодна любому из них.  Нам будет достаточно легко связаться с их менеджерами из научно-исследовательского отдела.  Системные интеграторы не покупают технологию, а поставщики карточек не работают с учёными.  Наши партнёры по производству микросхем помогут нам организовать встречи с производителями оборудования.  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222" name="Group 10"/>
          <p:cNvGrpSpPr/>
          <p:nvPr/>
        </p:nvGrpSpPr>
        <p:grpSpPr>
          <a:xfrm>
            <a:off x="4572000" y="1295280"/>
            <a:ext cx="3581280" cy="2057400"/>
            <a:chOff x="4572000" y="1295280"/>
            <a:chExt cx="3581280" cy="2057400"/>
          </a:xfrm>
        </p:grpSpPr>
        <p:pic>
          <p:nvPicPr>
            <p:cNvPr id="223" name="Picture 7" descr="P2"/>
            <p:cNvPicPr/>
            <p:nvPr/>
          </p:nvPicPr>
          <p:blipFill>
            <a:blip r:embed="rId1"/>
            <a:srcRect l="0" t="17974" r="0" b="-1472"/>
            <a:stretch/>
          </p:blipFill>
          <p:spPr>
            <a:xfrm>
              <a:off x="4572000" y="1295280"/>
              <a:ext cx="358128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Rectangle 8"/>
            <p:cNvSpPr/>
            <p:nvPr/>
          </p:nvSpPr>
          <p:spPr>
            <a:xfrm>
              <a:off x="6095880" y="1295280"/>
              <a:ext cx="990720" cy="1981440"/>
            </a:xfrm>
            <a:prstGeom prst="rect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Rectangle 9"/>
          <p:cNvSpPr/>
          <p:nvPr/>
        </p:nvSpPr>
        <p:spPr>
          <a:xfrm>
            <a:off x="609480" y="1371600"/>
            <a:ext cx="3657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ммерческий вопро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Технический вопро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Техническое реш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Бизнес выг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Рынок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&amp; 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нкурент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f5f5f"/>
                </a:solidFill>
                <a:latin typeface="Tahoma"/>
              </a:rPr>
              <a:t>Сбыт и дистрибьюше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f5f5f"/>
                </a:solidFill>
                <a:latin typeface="Tahoma"/>
              </a:rPr>
              <a:t>Прогноз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f5f5f"/>
                </a:solidFill>
                <a:latin typeface="Tahoma"/>
              </a:rPr>
              <a:t>План управ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эффициент окупаемости инвестиций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Следующий ша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Tahoma"/>
              </a:rPr>
              <a:t>* </a:t>
            </a:r>
            <a:r>
              <a:rPr b="1" i="1" lang="ru-RU" sz="1400" spc="-1" strike="noStrike">
                <a:solidFill>
                  <a:srgbClr val="808080"/>
                </a:solidFill>
                <a:latin typeface="Tahoma"/>
              </a:rPr>
              <a:t>только для Бизнес Пла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Дата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Нижний колонтитул 5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116E-B6CD-4A43-AC97-46F2CEAA6673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Ошибки при деловых переговорах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86200" y="1904760"/>
            <a:ext cx="4952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Взятие инициативы разговора на себя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(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во время встречи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Выдача излишней информации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Обсуждение не тех вопросов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Упоминание политики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Не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уместная информация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Личные вопросы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62" name="Picture 6" descr="W14-1"/>
          <p:cNvPicPr/>
          <p:nvPr/>
        </p:nvPicPr>
        <p:blipFill>
          <a:blip r:embed="rId1"/>
          <a:stretch/>
        </p:blipFill>
        <p:spPr>
          <a:xfrm>
            <a:off x="1219320" y="19051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Дата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Нижний колонтитул 4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294E-BF03-4F27-9352-00CE3ADA274D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8080"/>
                </a:solidFill>
                <a:latin typeface="Tahoma"/>
              </a:rPr>
              <a:t>Примеры - Прогнозы</a:t>
            </a:r>
            <a:r>
              <a:rPr b="1" i="1" lang="en-US" sz="2800" spc="-1" strike="noStrike">
                <a:solidFill>
                  <a:srgbClr val="808080"/>
                </a:solidFill>
                <a:latin typeface="Tahoma"/>
              </a:rPr>
              <a:t> </a:t>
            </a:r>
            <a:br>
              <a:rPr sz="2800"/>
            </a:br>
            <a:r>
              <a:rPr b="1" i="1" lang="en-US" sz="2800" spc="-1" strike="noStrike">
                <a:solidFill>
                  <a:srgbClr val="808080"/>
                </a:solidFill>
                <a:latin typeface="Tahoma"/>
              </a:rPr>
              <a:t>(</a:t>
            </a:r>
            <a:r>
              <a:rPr b="1" i="1" lang="ru-RU" sz="2800" spc="-1" strike="noStrike">
                <a:solidFill>
                  <a:srgbClr val="808080"/>
                </a:solidFill>
                <a:latin typeface="Tahoma"/>
              </a:rPr>
              <a:t>только для Бизнес Плана</a:t>
            </a:r>
            <a:r>
              <a:rPr b="1" i="1" lang="en-US" sz="2800" spc="-1" strike="noStrike">
                <a:solidFill>
                  <a:srgbClr val="80808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343040" y="3657240"/>
            <a:ext cx="44197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Снизу-вверх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В течение следующих 9 месяцев мы планируем заключить контракты с компаниями 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Aldec, Marzed, Pixel, 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и им подобными производителями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.  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В ходе каждого последующего квартала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мы планируем заключить хотя бы по одной дополнительной сделке (используя двух торговых представителей)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609480" y="1371600"/>
            <a:ext cx="3657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ммерческий вопро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Технический вопро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Техническое реш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Бизнес выг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Рынок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&amp; 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нкурент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f5f5f"/>
                </a:solidFill>
                <a:latin typeface="Tahoma"/>
              </a:rPr>
              <a:t>Сбыт и дистрибьюше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f5f5f"/>
                </a:solidFill>
                <a:latin typeface="Tahoma"/>
              </a:rPr>
              <a:t>Прогноз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f5f5f"/>
                </a:solidFill>
                <a:latin typeface="Tahoma"/>
              </a:rPr>
              <a:t>План управ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эффициент окупаемости инвестиций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Следующий ша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Tahoma"/>
              </a:rPr>
              <a:t>* </a:t>
            </a:r>
            <a:r>
              <a:rPr b="1" i="1" lang="ru-RU" sz="1400" spc="-1" strike="noStrike">
                <a:solidFill>
                  <a:srgbClr val="808080"/>
                </a:solidFill>
                <a:latin typeface="Tahoma"/>
              </a:rPr>
              <a:t>только для Бизнес Пла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8" descr="citypower_salesgraph"/>
          <p:cNvPicPr/>
          <p:nvPr/>
        </p:nvPicPr>
        <p:blipFill>
          <a:blip r:embed="rId1"/>
          <a:srcRect l="15053" t="29513" r="21572" b="11127"/>
          <a:stretch/>
        </p:blipFill>
        <p:spPr>
          <a:xfrm>
            <a:off x="4419720" y="1447920"/>
            <a:ext cx="358128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Дата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Нижний колонтитул 4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CDE8-FF5E-48AB-95DE-3F5B0EF53C02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8080"/>
                </a:solidFill>
                <a:latin typeface="Tahoma"/>
              </a:rPr>
              <a:t>Примеры - Прогнозы</a:t>
            </a:r>
            <a:r>
              <a:rPr b="1" i="1" lang="en-US" sz="2800" spc="-1" strike="noStrike">
                <a:solidFill>
                  <a:srgbClr val="808080"/>
                </a:solidFill>
                <a:latin typeface="Tahoma"/>
              </a:rPr>
              <a:t> (</a:t>
            </a:r>
            <a:r>
              <a:rPr b="1" i="1" lang="ru-RU" sz="2800" spc="-1" strike="noStrike">
                <a:solidFill>
                  <a:srgbClr val="808080"/>
                </a:solidFill>
                <a:latin typeface="Tahoma"/>
              </a:rPr>
              <a:t>Ошибки</a:t>
            </a:r>
            <a:r>
              <a:rPr b="1" i="1" lang="en-US" sz="2800" spc="-1" strike="noStrike">
                <a:solidFill>
                  <a:srgbClr val="808080"/>
                </a:solidFill>
                <a:latin typeface="Tahoma"/>
              </a:rPr>
              <a:t>)</a:t>
            </a:r>
            <a:br>
              <a:rPr sz="2800"/>
            </a:br>
            <a:r>
              <a:rPr b="1" i="1" lang="en-US" sz="2800" spc="-1" strike="noStrike">
                <a:solidFill>
                  <a:srgbClr val="808080"/>
                </a:solidFill>
                <a:latin typeface="Tahoma"/>
              </a:rPr>
              <a:t>(</a:t>
            </a:r>
            <a:r>
              <a:rPr b="1" i="1" lang="ru-RU" sz="2800" spc="-1" strike="noStrike">
                <a:solidFill>
                  <a:srgbClr val="808080"/>
                </a:solidFill>
                <a:latin typeface="Tahoma"/>
              </a:rPr>
              <a:t>только для Бизнес Плана</a:t>
            </a:r>
            <a:r>
              <a:rPr b="1" i="1" lang="en-US" sz="2800" spc="-1" strike="noStrike">
                <a:solidFill>
                  <a:srgbClr val="80808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419720" y="3809880"/>
            <a:ext cx="396216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Сверху вниз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: (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ошибка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Рынок комп. программ для модемных банков составляет 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$10M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.  Мы планируем сбыть товар на 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$500.000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(или 5%).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609480" y="1371600"/>
            <a:ext cx="3657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ммерческий вопро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Технический вопро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Техническое реш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Бизнес выг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Рынок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&amp; 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нкурент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f5f5f"/>
                </a:solidFill>
                <a:latin typeface="Tahoma"/>
              </a:rPr>
              <a:t>Сбыт и дистрибьюше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f5f5f"/>
                </a:solidFill>
                <a:latin typeface="Tahoma"/>
              </a:rPr>
              <a:t>Прогноз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f5f5f"/>
                </a:solidFill>
                <a:latin typeface="Tahoma"/>
              </a:rPr>
              <a:t>План управ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эффициент окупаемости инвестиций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Следующий ша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Tahoma"/>
              </a:rPr>
              <a:t>* </a:t>
            </a:r>
            <a:r>
              <a:rPr b="1" i="1" lang="ru-RU" sz="1400" spc="-1" strike="noStrike">
                <a:solidFill>
                  <a:srgbClr val="808080"/>
                </a:solidFill>
                <a:latin typeface="Tahoma"/>
              </a:rPr>
              <a:t>только для Бизнес Пла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5" descr="citypower_salesgraph"/>
          <p:cNvPicPr/>
          <p:nvPr/>
        </p:nvPicPr>
        <p:blipFill>
          <a:blip r:embed="rId1"/>
          <a:srcRect l="15053" t="29513" r="21572" b="11127"/>
          <a:stretch/>
        </p:blipFill>
        <p:spPr>
          <a:xfrm>
            <a:off x="4419720" y="1447920"/>
            <a:ext cx="358128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Дата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Нижний колонтитул 4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2D81-78BD-4C77-BD31-96FE0493A96D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Бизнес Предоложение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 (Pitch)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Моя организация предлагает более оптимальное решение для производителей модемных банков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В сотрудничестве с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Telegate Corporation, 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моя группа разработала компоненты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которые позволяют снизить стоимость хардвера модемных банков на 50%.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Мы планируем продать данное решение изготовителям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Я – научный сотрудник Бакинского Института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Физики Полупроводников.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У нас уже есть заинтересованные клиенты и мы ищем финансирование для производства первых ста экземляров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Потенциальный партнёр сможет увеличить доход в 5 раз в течение первых 18 месяцев. 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Дата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Нижний колонтитул 4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0945-8F8D-4592-A3CB-7107F9908E3F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Вопросы и Ответы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49" name="Picture 1032" descr="strategy"/>
          <p:cNvPicPr/>
          <p:nvPr/>
        </p:nvPicPr>
        <p:blipFill>
          <a:blip r:embed="rId1"/>
          <a:stretch/>
        </p:blipFill>
        <p:spPr>
          <a:xfrm>
            <a:off x="2743200" y="20574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Дата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Нижний колонтитул 4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6753-8187-4E18-9307-77C5AB47E42B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Контактная Информация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U.S. Civilian Research &amp; Development Foundation (CRDF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1530 Wilson Boulevard, Suite 300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Arlington, VA 22209 US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Эл. почта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fo@crdf.or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просы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щего характера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dp@crdf.or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грамма по развитию партнёрств 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DP)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gp@crdf.or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ранты на командировки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TGP)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stm@crdf.or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грамма «Первые Шаги к Рынку»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FSTM)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stm@crdf.or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грамма «Следующие Шаги к Рынку»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NSTM)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ебсай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www.crdf.org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Тел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: +1 (703) 526-9720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Дата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Нижний колонтитул 5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A211-F20C-4164-8668-5566B172028B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Основная Задача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447560"/>
            <a:ext cx="4114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Проинформировать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Объяснить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Дать справку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Продемонстрировать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Убедить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Tahoma"/>
              </a:rPr>
              <a:t>Побудить к действию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68" name="Picture 146" descr="taking_action_new"/>
          <p:cNvPicPr/>
          <p:nvPr/>
        </p:nvPicPr>
        <p:blipFill>
          <a:blip r:embed="rId1"/>
          <a:stretch/>
        </p:blipFill>
        <p:spPr>
          <a:xfrm>
            <a:off x="990720" y="1219320"/>
            <a:ext cx="323028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Дата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Нижний колонтитул 5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6023-3352-4D03-AC4F-C4C5A78603B2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0968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Начните с цели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: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Кого убедить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343400" y="1371600"/>
            <a:ext cx="4495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Кто должен действовать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Лицо, принимающее решение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Советник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Сотрудник Фин. Отдела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Какое действие необходимо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Назначьте встречу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Убедите начальника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Просмотрите ваши материалы для презентации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Проанализируйте выгоду партнёрства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Почему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Они нуждаются в этом (а не просто заинтересованны)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74" name="Picture 6" descr="3974"/>
          <p:cNvPicPr/>
          <p:nvPr/>
        </p:nvPicPr>
        <p:blipFill>
          <a:blip r:embed="rId1"/>
          <a:stretch/>
        </p:blipFill>
        <p:spPr>
          <a:xfrm>
            <a:off x="533520" y="1752480"/>
            <a:ext cx="3581280" cy="33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Дата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Нижний колонтитул 5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8F42-8F1C-440A-A22D-2511C1A077D6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3720" y="3805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Определите что им НЕОБХОДИМО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Выслушайте другую сторону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Задавайте вопросы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Основная задача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Положение на сегодня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Следующие шаги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Основные проблемы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Каким образом ваша технология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/ 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продукция сможет помочь им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80" name="Picture 6" descr="customer_meeting"/>
          <p:cNvPicPr/>
          <p:nvPr/>
        </p:nvPicPr>
        <p:blipFill>
          <a:blip r:embed="rId1"/>
          <a:stretch/>
        </p:blipFill>
        <p:spPr>
          <a:xfrm>
            <a:off x="4495680" y="1523880"/>
            <a:ext cx="4038840" cy="30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Дата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Нижний колонтитул 5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61CF-EFBB-4FB6-AE73-9EA80966A989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704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Бизнес Цели или просто Пожелания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657600" y="1752120"/>
            <a:ext cx="5105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Проверьте Бизнес Цели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Попросите их дать своё определение успеха.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 Какие меры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Проверьте их ответы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Успех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?  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Что если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‘a’, 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но не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‘b’?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Определите наиболее важные и реальные цели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86" name="Picture 6" descr="goals"/>
          <p:cNvPicPr/>
          <p:nvPr/>
        </p:nvPicPr>
        <p:blipFill>
          <a:blip r:embed="rId1"/>
          <a:stretch/>
        </p:blipFill>
        <p:spPr>
          <a:xfrm>
            <a:off x="762120" y="1676520"/>
            <a:ext cx="2286000" cy="33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Дата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Нижний колонтитул 5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6198-3E02-464B-9C67-559EBA9B9A7C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09680" y="380880"/>
            <a:ext cx="69343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Установите кто является ключевыми лицами в принятии решений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42840" y="1752120"/>
            <a:ext cx="6095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Кто принимает коммерческие решения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Кто действует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Кто принимает финансовые решения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Кто даёт тех. рекомендации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Каковы взаимоотношения между ключевыми людьми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Какое решение было последним и как оно было принято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92" name="Picture 6" descr="busmgr"/>
          <p:cNvPicPr/>
          <p:nvPr/>
        </p:nvPicPr>
        <p:blipFill>
          <a:blip r:embed="rId1"/>
          <a:stretch/>
        </p:blipFill>
        <p:spPr>
          <a:xfrm>
            <a:off x="685800" y="1752480"/>
            <a:ext cx="1714680" cy="33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Дата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Нижний колонтитул 5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F646-EAA8-4142-9C17-08DA8CC81FB2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3372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Готовы начинать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В чём нуждается другая сторона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Как вы можете помочь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Кто ключевые лица в принятии решений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Какие действия вы хотите предпринять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В чём вы должны убедить другую сторону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Ваш аргумент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Дата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Ma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Нижний колонтитул 5"/>
          <p:cNvSpPr/>
          <p:nvPr/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(c) 2005, US Civilian R&amp;D Foun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9311-400D-40EA-B1A7-2E0CA6AA44DC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Бизнес Аргумент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580920" y="1600200"/>
            <a:ext cx="4800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Доверие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Кто вы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Что вы предлагаете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Чем ваше предложение выгодно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Вопрос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(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подтверждение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?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Решение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(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суммирование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Главные преимущества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Дифференцирование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Достижимые результаты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Что нужно </a:t>
            </a:r>
            <a:r>
              <a:rPr b="0" lang="ru-RU" sz="2400" spc="-1" strike="noStrike" u="sng">
                <a:solidFill>
                  <a:srgbClr val="000066"/>
                </a:solidFill>
                <a:uFillTx/>
                <a:latin typeface="Tahoma"/>
              </a:rPr>
              <a:t>вам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3" name="Picture 6" descr="argument"/>
          <p:cNvPicPr/>
          <p:nvPr/>
        </p:nvPicPr>
        <p:blipFill>
          <a:blip r:embed="rId1"/>
          <a:srcRect l="0" t="0" r="50019" b="0"/>
          <a:stretch/>
        </p:blipFill>
        <p:spPr>
          <a:xfrm>
            <a:off x="1219320" y="1523880"/>
            <a:ext cx="1733400" cy="441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3T18:09:12Z</dcterms:created>
  <dc:creator>Paul</dc:creator>
  <dc:description/>
  <dc:language>en-US</dc:language>
  <cp:lastModifiedBy>ZooM</cp:lastModifiedBy>
  <dcterms:modified xsi:type="dcterms:W3CDTF">2013-12-12T15:26:58Z</dcterms:modified>
  <cp:revision>701</cp:revision>
  <dc:subject/>
  <dc:title>PowerPoint Presentation</dc:title>
</cp:coreProperties>
</file>