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261000"/>
            <a:ext cx="2970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9261000"/>
            <a:ext cx="29700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C083-AEB8-40BB-8642-CC0830E33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41B-32FA-4B31-8B4F-D947B11B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73FD-913E-44B4-96D2-4E6013B96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637D-5C05-4DE6-B076-DE92118D5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8A89-F791-4525-A2CF-5616496E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BBE2-F0EA-47E3-BED7-01F1D5819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3F8E-4507-4764-90B3-8B3CC01F2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E1E9-8832-4B0E-A08C-5146D172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351D-AE42-4A1F-AF1A-97ECAAFB2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BCFC-EFD8-4365-B642-0170E032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9EC8-8089-4E52-8DC2-EDFAD5D6E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A25B-061D-4B70-B109-ACC7566C4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38F5-5BD0-4836-B84D-F3B7A8AA1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42F6-A02B-4BC5-B8F2-F6C03475F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25DE-86C6-4E08-B5A5-4A6F74DBF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8BB7-FA69-4B87-8AA0-84D8A469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8AB3-5C64-4594-9DD2-BB65F32A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9C20-5544-45D1-BEDF-2DF451240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003320" y="725400"/>
            <a:ext cx="4849920" cy="36370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2960" y="4601880"/>
            <a:ext cx="50292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12EE-0195-4E36-8A7C-AB2C4FD19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08B0-0E88-4A95-B82A-9724492BE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3D52-BE7A-4B79-8691-75BBC7530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57FC-05C7-4A61-89DE-CDD45626B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5DA3-9151-41B5-A15B-302CB76F8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1B31-78CB-45A4-801B-0199916F6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02BD-9833-4E8B-8DED-36D2B4A6C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B21-5B35-4908-9DA9-5382D5C5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314-AEDC-4109-8CC9-E8832C00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845-9724-44A7-BC75-BB920384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81D-6C41-4E17-BB78-F46307B3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E6F-80F9-49EC-8213-AF95EB3F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431-5360-4776-A0EF-3C316AC8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0B9-324B-40F4-8840-AE7FF16A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147-E639-4A89-A796-3A527CC5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538-0704-437E-B0D8-337F383E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7A8-BCE2-423D-98E3-4C085AE8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B12-6562-4E63-9E4F-7792956C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474-E251-45A7-A646-C1351444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Two Guy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5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A83A-4352-4050-A700-77197DE2CBBC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New_CRDF_logo"/>
          <p:cNvPicPr/>
          <p:nvPr/>
        </p:nvPicPr>
        <p:blipFill>
          <a:blip r:embed="rId3"/>
          <a:stretch/>
        </p:blipFill>
        <p:spPr>
          <a:xfrm>
            <a:off x="304920" y="382680"/>
            <a:ext cx="175248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Дата 3"/>
          <p:cNvSpPr/>
          <p:nvPr/>
        </p:nvSpPr>
        <p:spPr>
          <a:xfrm>
            <a:off x="685800" y="6027840"/>
            <a:ext cx="190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2590920" y="6027840"/>
            <a:ext cx="3962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027840"/>
            <a:ext cx="190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1EB0-EE60-4167-B3A6-E21BA0922AC1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33520" y="4336920"/>
            <a:ext cx="838188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мериканский Фонд Гражданских Исследований и Развития (АФГИ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граммы по развитию промышл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666880" y="3682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8080"/>
                </a:solidFill>
                <a:latin typeface="Times New Roman"/>
              </a:rPr>
              <a:t>Ваш Партнёр в Совместных Предприятиях в Области Науки и Тех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480" y="1911240"/>
            <a:ext cx="5562720" cy="16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ahoma"/>
              </a:rPr>
              <a:t>Бизнес Кейс – Пример для Изучения</a:t>
            </a:r>
            <a:br>
              <a:rPr sz="40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ерия «Инновационный Бизнес»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6" name="Picture 10" descr="argument"/>
          <p:cNvPicPr/>
          <p:nvPr/>
        </p:nvPicPr>
        <p:blipFill>
          <a:blip r:embed="rId1"/>
          <a:stretch/>
        </p:blipFill>
        <p:spPr>
          <a:xfrm>
            <a:off x="677880" y="1838160"/>
            <a:ext cx="1844640" cy="23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1E5F-98A9-4569-AC04-851A3B74F65A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азличные формы аргументов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итч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(Pitch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т 5 до 30 секунд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зентац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т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5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10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лайд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раткий Обзор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(Резюме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1-2 страниц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иложение допустимо в РЕДКИХ случаях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9" name="Picture 6" descr="0060988606"/>
          <p:cNvPicPr/>
          <p:nvPr/>
        </p:nvPicPr>
        <p:blipFill>
          <a:blip r:embed="rId1"/>
          <a:stretch/>
        </p:blipFill>
        <p:spPr>
          <a:xfrm>
            <a:off x="457200" y="13716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D5C4-71AF-419B-9EA1-A2DAA48E257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Форма выражения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и менталитет в бизнес сфере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43040" y="14475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ермин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Эксплуатационные расходы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Цел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ниженные затраты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крупный размер прибыли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высокий объём продаж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сильная позиция на рынке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низкий процент возвращённой продукции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ниженные затраты при обслуживании клиентов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 т.д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5" name="Picture 6" descr="vergaderen_square"/>
          <p:cNvPicPr/>
          <p:nvPr/>
        </p:nvPicPr>
        <p:blipFill>
          <a:blip r:embed="rId1"/>
          <a:stretch/>
        </p:blipFill>
        <p:spPr>
          <a:xfrm>
            <a:off x="6094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B498-2809-4BB8-BC2C-F188DBE459F6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зентация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или Краткий Обзор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ризентация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о слайду на каждую секцию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Назва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лючевые аспекты вкратце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ремя и деньг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раткий Обзор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Факт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онтактная информация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название проекта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едложение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финансирование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лан работы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ибыль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редложе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иаграммы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хемы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таблицы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екци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едложение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Задача и решение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Сбыт </a:t>
            </a:r>
            <a:r>
              <a:rPr b="1" i="1" lang="en-US" sz="1400" spc="-1" strike="noStrike">
                <a:solidFill>
                  <a:srgbClr val="5f5f5f"/>
                </a:solidFill>
                <a:latin typeface="Tahoma"/>
              </a:rPr>
              <a:t>&amp; </a:t>
            </a: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дистрибьюшен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время и деньги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876920" y="1676520"/>
            <a:ext cx="34290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835A-DBF0-4572-8172-EBB6B3B436ED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тиль Деловой Переписки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24080" y="14475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Ясно и коротко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Фокус на одном ключевом аспекте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Один убедительный аргумент сильнее нескольких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Нет необходимости делать каждую секцию одинаковой по длине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Меньше слов – больше эффект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Не вдавайтесь в детали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Приводите ссылки и убедительную статистику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Выражайтесь доходчиво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8" name="Picture 6" descr="writss13"/>
          <p:cNvPicPr/>
          <p:nvPr/>
        </p:nvPicPr>
        <p:blipFill>
          <a:blip r:embed="rId1"/>
          <a:srcRect l="4746" t="0" r="50004" b="30512"/>
          <a:stretch/>
        </p:blipFill>
        <p:spPr>
          <a:xfrm>
            <a:off x="609480" y="1447920"/>
            <a:ext cx="228600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36E7-6BB2-4667-8800-41B7FF0CD038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 - Предложение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62160" y="12189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з-за стандартов международного союза телекоммуникаций (МСТ), модемные банки получили широкое распространение.  Применение одобренного МСТ алгоритма в процессорах компани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Texas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Instruments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позволяет обрабатывать в два раза больше каналов без замены хардвер.  Таким образом, изготовляя ту же продукцию, производители модемных банков способны увеличить маржу на 37%, или удвоить производительность за ту же цену.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09480" y="1371600"/>
            <a:ext cx="3505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251C-5082-4DF2-8E16-1D0A7280378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ынок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1972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труктура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ключевые лица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двигающие силы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динамика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озможности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угрозы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ынок хардвера для модемных банков доминируют производители оборудования (ПО) и системные интеграторы (СИ). ПО выпускают собственные модемные карточки, а СИ покупают их у девяти самых крупных поставщиков карточек.  Двигающей силой в данном случае является цена...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P2"/>
          <p:cNvPicPr/>
          <p:nvPr/>
        </p:nvPicPr>
        <p:blipFill>
          <a:blip r:embed="rId1"/>
          <a:srcRect l="0" t="18560" r="0" b="0"/>
          <a:stretch/>
        </p:blipFill>
        <p:spPr>
          <a:xfrm>
            <a:off x="4800600" y="1219320"/>
            <a:ext cx="358128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974F-9749-4A7F-B37F-03E4FC20A53C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7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DSP Group, SignalCorp, and Motorola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аботают над новыми алгоритмам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. 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ешение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DSP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Group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требует использование более дорогого (на 20%) параллельного процессора.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ignalCorp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ещё не протестировала алгоритм в реальном времени, а решение лаборатори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Motorola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сокращает хардвер только на 39%, а не на требуемые 50%.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85800" y="4267080"/>
            <a:ext cx="31240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пространённые ошибк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аких конкур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ственное решен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4502160" y="1125360"/>
            <a:ext cx="3706920" cy="1887840"/>
            <a:chOff x="4502160" y="1125360"/>
            <a:chExt cx="3706920" cy="1887840"/>
          </a:xfrm>
        </p:grpSpPr>
        <p:sp>
          <p:nvSpPr>
            <p:cNvPr id="150" name="AutoShape 7"/>
            <p:cNvSpPr/>
            <p:nvPr/>
          </p:nvSpPr>
          <p:spPr>
            <a:xfrm>
              <a:off x="4502160" y="1125360"/>
              <a:ext cx="3706920" cy="18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4792680" y="27068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13" h="49">
                  <a:moveTo>
                    <a:pt x="0" y="49"/>
                  </a:moveTo>
                  <a:lnTo>
                    <a:pt x="65" y="0"/>
                  </a:lnTo>
                  <a:lnTo>
                    <a:pt x="1113" y="0"/>
                  </a:lnTo>
                  <a:lnTo>
                    <a:pt x="1049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4792680" y="1271520"/>
              <a:ext cx="103320" cy="1513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65" h="953">
                  <a:moveTo>
                    <a:pt x="0" y="953"/>
                  </a:moveTo>
                  <a:lnTo>
                    <a:pt x="0" y="49"/>
                  </a:lnTo>
                  <a:lnTo>
                    <a:pt x="65" y="0"/>
                  </a:lnTo>
                  <a:lnTo>
                    <a:pt x="65" y="904"/>
                  </a:lnTo>
                  <a:lnTo>
                    <a:pt x="0" y="9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1"/>
            <p:cNvSpPr/>
            <p:nvPr/>
          </p:nvSpPr>
          <p:spPr>
            <a:xfrm>
              <a:off x="4896000" y="1271520"/>
              <a:ext cx="16635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4792680" y="27068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4792680" y="2465280"/>
              <a:ext cx="1766880" cy="8280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64" h="17">
                  <a:moveTo>
                    <a:pt x="0" y="17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4792680" y="222732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4792680" y="198900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4792680" y="17510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4792680" y="1508040"/>
              <a:ext cx="1766880" cy="8280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64" h="17">
                  <a:moveTo>
                    <a:pt x="0" y="17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4792680" y="127152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4792680" y="27068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13" h="49">
                  <a:moveTo>
                    <a:pt x="1113" y="0"/>
                  </a:moveTo>
                  <a:lnTo>
                    <a:pt x="1049" y="49"/>
                  </a:lnTo>
                  <a:lnTo>
                    <a:pt x="0" y="49"/>
                  </a:lnTo>
                  <a:lnTo>
                    <a:pt x="65" y="0"/>
                  </a:lnTo>
                  <a:lnTo>
                    <a:pt x="1113" y="0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4792680" y="1271520"/>
              <a:ext cx="103320" cy="1513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65" h="953">
                  <a:moveTo>
                    <a:pt x="0" y="953"/>
                  </a:moveTo>
                  <a:lnTo>
                    <a:pt x="0" y="49"/>
                  </a:lnTo>
                  <a:lnTo>
                    <a:pt x="65" y="0"/>
                  </a:lnTo>
                  <a:lnTo>
                    <a:pt x="65" y="904"/>
                  </a:lnTo>
                  <a:lnTo>
                    <a:pt x="0" y="95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4896000" y="1271520"/>
              <a:ext cx="1663560" cy="1435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22"/>
            <p:cNvSpPr/>
            <p:nvPr/>
          </p:nvSpPr>
          <p:spPr>
            <a:xfrm>
              <a:off x="5322960" y="1392120"/>
              <a:ext cx="101520" cy="1392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64" h="877">
                  <a:moveTo>
                    <a:pt x="0" y="877"/>
                  </a:moveTo>
                  <a:lnTo>
                    <a:pt x="0" y="49"/>
                  </a:lnTo>
                  <a:lnTo>
                    <a:pt x="64" y="0"/>
                  </a:lnTo>
                  <a:lnTo>
                    <a:pt x="64" y="828"/>
                  </a:lnTo>
                  <a:lnTo>
                    <a:pt x="0" y="877"/>
                  </a:lnTo>
                  <a:close/>
                </a:path>
              </a:pathLst>
            </a:custGeom>
            <a:solidFill>
              <a:srgbClr val="00664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3"/>
            <p:cNvSpPr/>
            <p:nvPr/>
          </p:nvSpPr>
          <p:spPr>
            <a:xfrm>
              <a:off x="5016600" y="1469880"/>
              <a:ext cx="306360" cy="1314720"/>
            </a:xfrm>
            <a:prstGeom prst="rect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4"/>
            <p:cNvSpPr/>
            <p:nvPr/>
          </p:nvSpPr>
          <p:spPr>
            <a:xfrm>
              <a:off x="5016600" y="1392120"/>
              <a:ext cx="407880" cy="777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7" h="49">
                  <a:moveTo>
                    <a:pt x="193" y="49"/>
                  </a:moveTo>
                  <a:lnTo>
                    <a:pt x="257" y="0"/>
                  </a:lnTo>
                  <a:lnTo>
                    <a:pt x="67" y="0"/>
                  </a:lnTo>
                  <a:lnTo>
                    <a:pt x="0" y="49"/>
                  </a:lnTo>
                  <a:lnTo>
                    <a:pt x="193" y="49"/>
                  </a:lnTo>
                  <a:close/>
                </a:path>
              </a:pathLst>
            </a:custGeom>
            <a:solidFill>
              <a:srgbClr val="00997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>
              <a:off x="5622840" y="2178000"/>
              <a:ext cx="106560" cy="6066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67" h="382">
                  <a:moveTo>
                    <a:pt x="0" y="382"/>
                  </a:moveTo>
                  <a:lnTo>
                    <a:pt x="0" y="49"/>
                  </a:lnTo>
                  <a:lnTo>
                    <a:pt x="67" y="0"/>
                  </a:lnTo>
                  <a:lnTo>
                    <a:pt x="67" y="333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1a1a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6"/>
            <p:cNvSpPr/>
            <p:nvPr/>
          </p:nvSpPr>
          <p:spPr>
            <a:xfrm>
              <a:off x="5322960" y="2255760"/>
              <a:ext cx="299880" cy="528840"/>
            </a:xfrm>
            <a:prstGeom prst="rect">
              <a:avLst/>
            </a:prstGeom>
            <a:solidFill>
              <a:srgbClr val="3333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27"/>
            <p:cNvSpPr/>
            <p:nvPr/>
          </p:nvSpPr>
          <p:spPr>
            <a:xfrm>
              <a:off x="5322960" y="2178000"/>
              <a:ext cx="406440" cy="77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6" h="49">
                  <a:moveTo>
                    <a:pt x="189" y="49"/>
                  </a:moveTo>
                  <a:lnTo>
                    <a:pt x="256" y="0"/>
                  </a:lnTo>
                  <a:lnTo>
                    <a:pt x="64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2626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28"/>
            <p:cNvSpPr/>
            <p:nvPr/>
          </p:nvSpPr>
          <p:spPr>
            <a:xfrm>
              <a:off x="5929200" y="2274840"/>
              <a:ext cx="101880" cy="5097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64" h="321">
                  <a:moveTo>
                    <a:pt x="0" y="321"/>
                  </a:moveTo>
                  <a:lnTo>
                    <a:pt x="0" y="49"/>
                  </a:lnTo>
                  <a:lnTo>
                    <a:pt x="64" y="0"/>
                  </a:lnTo>
                  <a:lnTo>
                    <a:pt x="64" y="272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6666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9"/>
            <p:cNvSpPr/>
            <p:nvPr/>
          </p:nvSpPr>
          <p:spPr>
            <a:xfrm>
              <a:off x="5622840" y="2352600"/>
              <a:ext cx="306360" cy="432000"/>
            </a:xfrm>
            <a:prstGeom prst="rect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0"/>
            <p:cNvSpPr/>
            <p:nvPr/>
          </p:nvSpPr>
          <p:spPr>
            <a:xfrm>
              <a:off x="5622840" y="2274840"/>
              <a:ext cx="408240" cy="7776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7" h="49">
                  <a:moveTo>
                    <a:pt x="193" y="49"/>
                  </a:moveTo>
                  <a:lnTo>
                    <a:pt x="257" y="0"/>
                  </a:lnTo>
                  <a:lnTo>
                    <a:pt x="67" y="0"/>
                  </a:lnTo>
                  <a:lnTo>
                    <a:pt x="0" y="49"/>
                  </a:lnTo>
                  <a:lnTo>
                    <a:pt x="193" y="49"/>
                  </a:lnTo>
                  <a:close/>
                </a:path>
              </a:pathLst>
            </a:custGeom>
            <a:solidFill>
              <a:srgbClr val="9999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31"/>
            <p:cNvSpPr/>
            <p:nvPr/>
          </p:nvSpPr>
          <p:spPr>
            <a:xfrm>
              <a:off x="6229440" y="2585880"/>
              <a:ext cx="106200" cy="19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67" h="125">
                  <a:moveTo>
                    <a:pt x="0" y="125"/>
                  </a:moveTo>
                  <a:lnTo>
                    <a:pt x="0" y="49"/>
                  </a:lnTo>
                  <a:lnTo>
                    <a:pt x="67" y="0"/>
                  </a:lnTo>
                  <a:lnTo>
                    <a:pt x="67" y="7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959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32"/>
            <p:cNvSpPr/>
            <p:nvPr/>
          </p:nvSpPr>
          <p:spPr>
            <a:xfrm>
              <a:off x="5929200" y="2664000"/>
              <a:ext cx="300240" cy="120600"/>
            </a:xfrm>
            <a:prstGeom prst="rect">
              <a:avLst/>
            </a:prstGeom>
            <a:solidFill>
              <a:srgbClr val="b2b2b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33"/>
            <p:cNvSpPr/>
            <p:nvPr/>
          </p:nvSpPr>
          <p:spPr>
            <a:xfrm>
              <a:off x="5929200" y="2585880"/>
              <a:ext cx="406440" cy="78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56" h="49">
                  <a:moveTo>
                    <a:pt x="189" y="49"/>
                  </a:moveTo>
                  <a:lnTo>
                    <a:pt x="256" y="0"/>
                  </a:lnTo>
                  <a:lnTo>
                    <a:pt x="64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86868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4792680" y="1348920"/>
              <a:ext cx="1440" cy="1435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 flipH="1">
              <a:off x="4768920" y="278460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H="1">
              <a:off x="4768920" y="254808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 flipH="1">
              <a:off x="4768920" y="230508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8"/>
            <p:cNvSpPr/>
            <p:nvPr/>
          </p:nvSpPr>
          <p:spPr>
            <a:xfrm flipH="1">
              <a:off x="4768920" y="2066760"/>
              <a:ext cx="23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39"/>
            <p:cNvSpPr/>
            <p:nvPr/>
          </p:nvSpPr>
          <p:spPr>
            <a:xfrm flipH="1">
              <a:off x="4768920" y="182880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0"/>
            <p:cNvSpPr/>
            <p:nvPr/>
          </p:nvSpPr>
          <p:spPr>
            <a:xfrm flipH="1">
              <a:off x="4768920" y="159084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41"/>
            <p:cNvSpPr/>
            <p:nvPr/>
          </p:nvSpPr>
          <p:spPr>
            <a:xfrm flipH="1">
              <a:off x="4768920" y="1349280"/>
              <a:ext cx="23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42"/>
            <p:cNvSpPr/>
            <p:nvPr/>
          </p:nvSpPr>
          <p:spPr>
            <a:xfrm>
              <a:off x="4714920" y="2722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3"/>
            <p:cNvSpPr/>
            <p:nvPr/>
          </p:nvSpPr>
          <p:spPr>
            <a:xfrm>
              <a:off x="4656600" y="24843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4"/>
            <p:cNvSpPr/>
            <p:nvPr/>
          </p:nvSpPr>
          <p:spPr>
            <a:xfrm>
              <a:off x="4656600" y="22417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45"/>
            <p:cNvSpPr/>
            <p:nvPr/>
          </p:nvSpPr>
          <p:spPr>
            <a:xfrm>
              <a:off x="4656600" y="200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46"/>
            <p:cNvSpPr/>
            <p:nvPr/>
          </p:nvSpPr>
          <p:spPr>
            <a:xfrm>
              <a:off x="4656600" y="17654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47"/>
            <p:cNvSpPr/>
            <p:nvPr/>
          </p:nvSpPr>
          <p:spPr>
            <a:xfrm>
              <a:off x="4656600" y="15289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48"/>
            <p:cNvSpPr/>
            <p:nvPr/>
          </p:nvSpPr>
          <p:spPr>
            <a:xfrm>
              <a:off x="4656600" y="12859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9"/>
            <p:cNvSpPr/>
            <p:nvPr/>
          </p:nvSpPr>
          <p:spPr>
            <a:xfrm>
              <a:off x="4792680" y="2784600"/>
              <a:ext cx="166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0"/>
            <p:cNvSpPr/>
            <p:nvPr/>
          </p:nvSpPr>
          <p:spPr>
            <a:xfrm>
              <a:off x="4792680" y="2784600"/>
              <a:ext cx="144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1"/>
            <p:cNvSpPr/>
            <p:nvPr/>
          </p:nvSpPr>
          <p:spPr>
            <a:xfrm>
              <a:off x="6458040" y="2784600"/>
              <a:ext cx="144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52"/>
            <p:cNvSpPr/>
            <p:nvPr/>
          </p:nvSpPr>
          <p:spPr>
            <a:xfrm>
              <a:off x="6632640" y="1305000"/>
              <a:ext cx="1430280" cy="1382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53"/>
            <p:cNvSpPr/>
            <p:nvPr/>
          </p:nvSpPr>
          <p:spPr>
            <a:xfrm>
              <a:off x="6875640" y="1441440"/>
              <a:ext cx="96840" cy="96840"/>
            </a:xfrm>
            <a:prstGeom prst="rect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54"/>
            <p:cNvSpPr/>
            <p:nvPr/>
          </p:nvSpPr>
          <p:spPr>
            <a:xfrm>
              <a:off x="7023960" y="1387440"/>
              <a:ext cx="39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«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Вы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55"/>
            <p:cNvSpPr/>
            <p:nvPr/>
          </p:nvSpPr>
          <p:spPr>
            <a:xfrm>
              <a:off x="6875640" y="1785960"/>
              <a:ext cx="96840" cy="96840"/>
            </a:xfrm>
            <a:prstGeom prst="rect">
              <a:avLst/>
            </a:prstGeom>
            <a:solidFill>
              <a:srgbClr val="3333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6"/>
            <p:cNvSpPr/>
            <p:nvPr/>
          </p:nvSpPr>
          <p:spPr>
            <a:xfrm>
              <a:off x="7101360" y="1731960"/>
              <a:ext cx="80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SP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57"/>
            <p:cNvSpPr/>
            <p:nvPr/>
          </p:nvSpPr>
          <p:spPr>
            <a:xfrm>
              <a:off x="6875640" y="2130480"/>
              <a:ext cx="96840" cy="96840"/>
            </a:xfrm>
            <a:prstGeom prst="rect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8"/>
            <p:cNvSpPr/>
            <p:nvPr/>
          </p:nvSpPr>
          <p:spPr>
            <a:xfrm>
              <a:off x="7075440" y="2076480"/>
              <a:ext cx="70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9"/>
            <p:cNvSpPr/>
            <p:nvPr/>
          </p:nvSpPr>
          <p:spPr>
            <a:xfrm>
              <a:off x="6875640" y="2470320"/>
              <a:ext cx="96840" cy="96840"/>
            </a:xfrm>
            <a:prstGeom prst="rect">
              <a:avLst/>
            </a:prstGeom>
            <a:solidFill>
              <a:srgbClr val="b2b2b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60"/>
            <p:cNvSpPr/>
            <p:nvPr/>
          </p:nvSpPr>
          <p:spPr>
            <a:xfrm>
              <a:off x="7093080" y="2416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ignalCo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A14-C618-495B-815A-554883FCA7B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(КОИ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33560" y="2895480"/>
            <a:ext cx="4800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бщая сумма затрат на раб. силу и материалы = $1,500.  На данном уровне производства размер прибыли увеличивается на $100/ед., в общей сложности принося дополнительный доход в $7.500 за год.  Таким образом, окупаемость инвестиций за первый год равняется 500%.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14800" y="1447920"/>
          <a:ext cx="4343400" cy="1222200"/>
        </p:xfrm>
        <a:graphic>
          <a:graphicData uri="http://schemas.openxmlformats.org/drawingml/2006/table">
            <a:tbl>
              <a:tblPr/>
              <a:tblGrid>
                <a:gridCol w="2133720"/>
                <a:gridCol w="761760"/>
                <a:gridCol w="642960"/>
                <a:gridCol w="804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то им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аб. сила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amp;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купаемость инвести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49EB-5F85-4750-A81C-99DDA329C5F8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 – Следующий Шаг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19360" y="1371240"/>
            <a:ext cx="4343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Tahoma"/>
              </a:rPr>
              <a:t>Встречи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резентация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-3967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Начальник Инженерного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 Te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х. Отдела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емонстрация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оказ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-3967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Финансовый Менедже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иректо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Экономический аспект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-3967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изнес Менедже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писание проекта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Tahoma"/>
              </a:rPr>
              <a:t>Контакт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раткий Обзо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1" descr="December%20Calendar"/>
          <p:cNvPicPr/>
          <p:nvPr/>
        </p:nvPicPr>
        <p:blipFill>
          <a:blip r:embed="rId1"/>
          <a:stretch/>
        </p:blipFill>
        <p:spPr>
          <a:xfrm>
            <a:off x="4648320" y="3849840"/>
            <a:ext cx="320040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3B77-B3D3-4055-BE7A-40C63882B055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Примеры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– 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Сбыт и Дистрибьюшен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 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19720" y="33526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ямой сбыт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артнёры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Мы планируем напрямую продавать нашу продукцию производителям оборудования. На сегодняшний момент существует где-то 15 крупных производителей и наша технология выгодна любому из них.  Нам будет достаточно легко связаться с их менеджерами из научно-исследовательского отдела.  Системные интеграторы не покупают технологию, а поставщики карточек не работают с учёными.  Наши партнёры по производству микросхем помогут нам организовать встречи с производителями оборудования. 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22" name="Group 10"/>
          <p:cNvGrpSpPr/>
          <p:nvPr/>
        </p:nvGrpSpPr>
        <p:grpSpPr>
          <a:xfrm>
            <a:off x="4572000" y="1295280"/>
            <a:ext cx="3581280" cy="2057400"/>
            <a:chOff x="4572000" y="1295280"/>
            <a:chExt cx="3581280" cy="2057400"/>
          </a:xfrm>
        </p:grpSpPr>
        <p:pic>
          <p:nvPicPr>
            <p:cNvPr id="223" name="Picture 7" descr="P2"/>
            <p:cNvPicPr/>
            <p:nvPr/>
          </p:nvPicPr>
          <p:blipFill>
            <a:blip r:embed="rId1"/>
            <a:srcRect l="0" t="17974" r="0" b="-1472"/>
            <a:stretch/>
          </p:blipFill>
          <p:spPr>
            <a:xfrm>
              <a:off x="4572000" y="1295280"/>
              <a:ext cx="3581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8"/>
            <p:cNvSpPr/>
            <p:nvPr/>
          </p:nvSpPr>
          <p:spPr>
            <a:xfrm>
              <a:off x="6095880" y="1295280"/>
              <a:ext cx="990720" cy="198144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9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Tahoma"/>
              </a:rPr>
              <a:t>Сбыт и дистрибьюш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ahoma"/>
              </a:rPr>
              <a:t>* </a:t>
            </a:r>
            <a:r>
              <a:rPr b="1" i="1" lang="ru-RU" sz="14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E417-D1E4-40E3-98C9-930F304959F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шибки при деловых переговорах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6200" y="1904760"/>
            <a:ext cx="4952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зятие инициативы разговора на себ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о время встреч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ыдача излишней информаци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суждение не тех вопросов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поминание полити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местная информац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Личные вопрос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2" name="Picture 6" descr="W14-1"/>
          <p:cNvPicPr/>
          <p:nvPr/>
        </p:nvPicPr>
        <p:blipFill>
          <a:blip r:embed="rId1"/>
          <a:stretch/>
        </p:blipFill>
        <p:spPr>
          <a:xfrm>
            <a:off x="1219320" y="1905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22EC-A2E9-45B4-BC45-C225CDEE1F43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Примеры - Прогнозы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43040" y="3657240"/>
            <a:ext cx="4419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низу-вверх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 течение следующих 9 месяцев мы планируем заключить контракты с компаниям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Aldec, Marzed, Pixel,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 им подобными производителям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. 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 ходе каждого последующего квартала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мы планируем заключить хотя бы по одной дополнительной сделке (используя двух торговых представителей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Сбыт и дистрибьюш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ahoma"/>
              </a:rPr>
              <a:t>* </a:t>
            </a:r>
            <a:r>
              <a:rPr b="1" i="1" lang="ru-RU" sz="14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8" descr="citypower_salesgraph"/>
          <p:cNvPicPr/>
          <p:nvPr/>
        </p:nvPicPr>
        <p:blipFill>
          <a:blip r:embed="rId1"/>
          <a:srcRect l="15053" t="29513" r="21572" b="11127"/>
          <a:stretch/>
        </p:blipFill>
        <p:spPr>
          <a:xfrm>
            <a:off x="4419720" y="144792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BAD9-9D2E-44B4-8B88-BBE45814210C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Примеры - Прогнозы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 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Ошибки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19720" y="3809880"/>
            <a:ext cx="39621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верху вниз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шибк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ынок комп. программ для модемных банков составляет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0M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.  Мы планируем сбыть товар на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500.000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(или 5%).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Сбыт и дистрибьюш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ahoma"/>
              </a:rPr>
              <a:t>* </a:t>
            </a:r>
            <a:r>
              <a:rPr b="1" i="1" lang="ru-RU" sz="14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citypower_salesgraph"/>
          <p:cNvPicPr/>
          <p:nvPr/>
        </p:nvPicPr>
        <p:blipFill>
          <a:blip r:embed="rId1"/>
          <a:srcRect l="15053" t="29513" r="21572" b="11127"/>
          <a:stretch/>
        </p:blipFill>
        <p:spPr>
          <a:xfrm>
            <a:off x="4419720" y="144792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F100-C3F1-4D02-BA8A-6770B3A5953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Бизнес Предоложение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(Pitch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оя организация предлагает более оптимальное решение для производителей модемных банк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 сотрудничестве с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elegate Corporation,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оя группа разработала компонент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оторые позволяют снизить стоимость хардвера модемных банков на 50%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ы планируем продать данное решение изготовителям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Я – научный сотрудник Бакинского Институт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Физики Полупроводников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У нас уже есть заинтересованные клиенты и мы ищем финансирование для производства первых ста экземляров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тенциальный партнёр сможет увеличить доход в 5 раз в течение первых 18 месяцев.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191C-8D56-4CCE-9F83-D5D16BE921EE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Вопросы и Ответы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9" name="Picture 1032" descr="strategy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28E-2512-480F-BA34-9E9C39CFDCD8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Контактная Информац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U.S. Civilian Research &amp; Development Foundation (CRDF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1530 Wilson Boulevard, Suite 300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rlington, VA 22209 U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Эл. почт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го характер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dp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по развитию партнёрств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P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gp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ты на командировк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TGP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stm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«Первые Шаги к Рынку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FSTM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stm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«Следующие Шаги к Рынку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NSTM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бсай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ww.crdf.or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Тел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: +1 (703) 526-9720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B49-A423-4B4F-A68D-E25BB779910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сновная Задача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информирова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ъясни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ать справку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демонстрирова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беди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обудить к действию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8" name="Picture 146" descr="taking_action_new"/>
          <p:cNvPicPr/>
          <p:nvPr/>
        </p:nvPicPr>
        <p:blipFill>
          <a:blip r:embed="rId1"/>
          <a:stretch/>
        </p:blipFill>
        <p:spPr>
          <a:xfrm>
            <a:off x="990720" y="1219320"/>
            <a:ext cx="32302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3343-F30F-4AB7-986F-CF82F60B784B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Начните с цели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го убедить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340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то должен действовать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Лицо, принимающее решение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ветник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трудник Фин. Отдел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акое действие необходимо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азначьте встречу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бедите начальник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осмотрите ваши материалы для презентации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оанализируйте выгоду партнёрств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чему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Они нуждаются в этом (а не просто заинтересованны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74" name="Picture 6" descr="3974"/>
          <p:cNvPicPr/>
          <p:nvPr/>
        </p:nvPicPr>
        <p:blipFill>
          <a:blip r:embed="rId1"/>
          <a:stretch/>
        </p:blipFill>
        <p:spPr>
          <a:xfrm>
            <a:off x="533520" y="1752480"/>
            <a:ext cx="358128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6AB5-1AE4-4545-B677-F419A6724C9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пределите что им НЕОБХОДИМО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ыслушайте другую сторону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Задавайте вопросы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сновная задач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ложение на сегодня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ледующие шаг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сновные проблем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аким образом ваша технология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/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дукция сможет помочь им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0" name="Picture 6" descr="customer_meeting"/>
          <p:cNvPicPr/>
          <p:nvPr/>
        </p:nvPicPr>
        <p:blipFill>
          <a:blip r:embed="rId1"/>
          <a:stretch/>
        </p:blipFill>
        <p:spPr>
          <a:xfrm>
            <a:off x="4495680" y="1523880"/>
            <a:ext cx="403884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AE92-A96C-4EDB-A39B-61719D6B6886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Бизнес Цели или просто Пожелания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57600" y="1752120"/>
            <a:ext cx="5105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верьте Бизнес Цел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просите их дать своё определение успеха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Какие мер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верьте их ответ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спех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?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Что ес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‘a’,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о не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‘b’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пределите наиболее важные и реальные цел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6" name="Picture 6" descr="goals"/>
          <p:cNvPicPr/>
          <p:nvPr/>
        </p:nvPicPr>
        <p:blipFill>
          <a:blip r:embed="rId1"/>
          <a:stretch/>
        </p:blipFill>
        <p:spPr>
          <a:xfrm>
            <a:off x="762120" y="1676520"/>
            <a:ext cx="2286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9944-1809-4FDB-B24A-07A7BBDE12A9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Установите кто является ключевыми лицами в принятии решений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42840" y="17521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принимает коммерческие решени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действует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принимает финансовые решени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даёт тех. рекомендаци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овы взаимоотношения между ключевыми людьм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ое решение было последним и как оно было принято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2" name="Picture 6" descr="busmgr"/>
          <p:cNvPicPr/>
          <p:nvPr/>
        </p:nvPicPr>
        <p:blipFill>
          <a:blip r:embed="rId1"/>
          <a:stretch/>
        </p:blipFill>
        <p:spPr>
          <a:xfrm>
            <a:off x="685800" y="1752480"/>
            <a:ext cx="17146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66A-D0DA-4B62-8D2E-58CA2EE4677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Готовы начинать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 чём нуждается другая сторон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 вы можете помоч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ключевые лица в принятии решений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ие действия вы хотите предприня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 чём вы должны убедить другую сторону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аш аргумент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B6C0-545C-4E3A-8382-5E939A868CF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Бизнес Аргумент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092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вери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то в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Что вы предлагаете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Чем ваше предложение выгодно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опрос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дтверждени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шени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ммировани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Главные преимущества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ифференцировани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стижимые результаты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Что нужно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вам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6" descr="argument"/>
          <p:cNvPicPr/>
          <p:nvPr/>
        </p:nvPicPr>
        <p:blipFill>
          <a:blip r:embed="rId1"/>
          <a:srcRect l="0" t="0" r="50019" b="0"/>
          <a:stretch/>
        </p:blipFill>
        <p:spPr>
          <a:xfrm>
            <a:off x="1219320" y="1523880"/>
            <a:ext cx="17334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8:09:12Z</dcterms:created>
  <dc:creator>Paul</dc:creator>
  <dc:description/>
  <dc:language>en-US</dc:language>
  <cp:lastModifiedBy>ZooM</cp:lastModifiedBy>
  <dcterms:modified xsi:type="dcterms:W3CDTF">2013-12-12T15:26:58Z</dcterms:modified>
  <cp:revision>701</cp:revision>
  <dc:subject/>
  <dc:title>PowerPoint Presentation</dc:title>
</cp:coreProperties>
</file>