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10.wmf" ContentType="image/x-wmf"/>
  <Override PartName="/ppt/media/image2.png" ContentType="image/png"/>
  <Override PartName="/ppt/media/image7.jpeg" ContentType="image/jpeg"/>
  <Override PartName="/ppt/media/image18.gif" ContentType="image/gif"/>
  <Override PartName="/ppt/media/image12.wmf" ContentType="image/x-wmf"/>
  <Override PartName="/ppt/media/image4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9.png" ContentType="image/png"/>
  <Override PartName="/ppt/media/image13.wmf" ContentType="image/x-wmf"/>
  <Override PartName="/ppt/media/image6.jpeg" ContentType="image/jpeg"/>
  <Override PartName="/ppt/media/image5.gif" ContentType="image/gi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44E-17C3-485F-9819-66D03494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12C-4FB6-4A7A-8C37-9E216BA1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C1B-FAAB-4373-A794-397347BD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DDF8-8626-4F1F-963E-7E8CEBA5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AD42-A39C-4C9E-AC7F-16EA376D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C140-0548-4CC2-AE50-DA8E5CC1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CE12-2612-4F5B-8400-C093EA45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0213-ABDE-43EE-A920-75DECCC2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7019-422A-48C9-8D9E-D2499FB6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7094-FC51-4349-959C-76B57421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8C26-8CF9-4889-B868-CF73719B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687-8D4D-422D-9741-507B8213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318E-7687-4665-B954-60994CC7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9D7D-A669-433D-A49B-4F69903B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432D-7369-41DC-B983-DE2A2A95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93EA-4800-4A72-9BBC-FB4F3D61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562E-FC72-4BAE-8D5B-DC0B852C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D3F-46A0-4EDA-AFCD-4E2882E2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8BB-CE31-4F69-AF16-C7C3FE44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C88D-1301-41AA-B913-FCDDAFCD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576-D730-4F82-8BE4-31D85537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A5A-E5F8-453B-9E9B-E86D2C00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112-7733-401B-8587-97F1530F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5B4-2684-4808-A789-AB0328E7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d2d5d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7c849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BDEF-B178-4B27-B27F-07BDF1873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7c8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7c8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7c8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EC03-FAAC-42A0-A9BC-4D03447F6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8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98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01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04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 Narrow"/>
              </a:rPr>
              <a:t>Части слова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Monotype Corsiva"/>
              </a:rPr>
              <a:t>Вспомните, какие известны вам части слова?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28576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45 0.03564 L 0.58993 -0.58403 E">
                                      <p:cBhvr>
                                        <p:cTn id="1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539640" y="691920"/>
            <a:ext cx="8209080" cy="5703840"/>
            <a:chOff x="539640" y="691920"/>
            <a:chExt cx="8209080" cy="5703840"/>
          </a:xfrm>
        </p:grpSpPr>
        <p:cxnSp>
          <p:nvCxnSpPr>
            <p:cNvPr id="204" name="_s11320"/>
            <p:cNvCxnSpPr>
              <a:stCxn id="205" idx="0"/>
              <a:endCxn id="206" idx="2"/>
            </p:cNvCxnSpPr>
            <p:nvPr/>
          </p:nvCxnSpPr>
          <p:spPr>
            <a:xfrm flipH="1" flipV="1" rot="5400000">
              <a:off x="6890760" y="2527920"/>
              <a:ext cx="403920" cy="505800"/>
            </a:xfrm>
            <a:prstGeom prst="bentConnector3">
              <a:avLst>
                <a:gd name="adj1" fmla="val 28278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7" name="_s11318"/>
            <p:cNvCxnSpPr>
              <a:stCxn id="208" idx="0"/>
              <a:endCxn id="209" idx="2"/>
            </p:cNvCxnSpPr>
            <p:nvPr/>
          </p:nvCxnSpPr>
          <p:spPr>
            <a:xfrm flipH="1" flipV="1" rot="5400000">
              <a:off x="1404360" y="3403080"/>
              <a:ext cx="2952000" cy="1246680"/>
            </a:xfrm>
            <a:prstGeom prst="bentConnector3">
              <a:avLst>
                <a:gd name="adj1" fmla="val 3866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10" name="_s11316"/>
            <p:cNvCxnSpPr>
              <a:stCxn id="211" idx="0"/>
              <a:endCxn id="209" idx="2"/>
            </p:cNvCxnSpPr>
            <p:nvPr/>
          </p:nvCxnSpPr>
          <p:spPr>
            <a:xfrm flipV="1" rot="16200000">
              <a:off x="3588120" y="2465280"/>
              <a:ext cx="2304000" cy="2473920"/>
            </a:xfrm>
            <a:prstGeom prst="bentConnector3">
              <a:avLst>
                <a:gd name="adj1" fmla="val 4953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12" name="_s11314"/>
            <p:cNvCxnSpPr>
              <a:stCxn id="213" idx="0"/>
              <a:endCxn id="209" idx="2"/>
            </p:cNvCxnSpPr>
            <p:nvPr/>
          </p:nvCxnSpPr>
          <p:spPr>
            <a:xfrm flipH="1" flipV="1" rot="5400000">
              <a:off x="2417400" y="2112120"/>
              <a:ext cx="648360" cy="1524600"/>
            </a:xfrm>
            <a:prstGeom prst="bentConnector3">
              <a:avLst>
                <a:gd name="adj1" fmla="val 17611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14" name="_s11310"/>
            <p:cNvCxnSpPr>
              <a:stCxn id="206" idx="0"/>
              <a:endCxn id="215" idx="2"/>
            </p:cNvCxnSpPr>
            <p:nvPr/>
          </p:nvCxnSpPr>
          <p:spPr>
            <a:xfrm flipV="1" rot="16200000">
              <a:off x="5793120" y="206280"/>
              <a:ext cx="402480" cy="2702880"/>
            </a:xfrm>
            <a:prstGeom prst="bentConnector3">
              <a:avLst>
                <a:gd name="adj1" fmla="val 28379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16" name="_s11308"/>
            <p:cNvCxnSpPr>
              <a:stCxn id="209" idx="0"/>
              <a:endCxn id="215" idx="2"/>
            </p:cNvCxnSpPr>
            <p:nvPr/>
          </p:nvCxnSpPr>
          <p:spPr>
            <a:xfrm flipH="1" flipV="1" rot="5400000">
              <a:off x="3872160" y="987840"/>
              <a:ext cx="402480" cy="1140480"/>
            </a:xfrm>
            <a:prstGeom prst="bentConnector3">
              <a:avLst>
                <a:gd name="adj1" fmla="val 28379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15" name="_s11304"/>
            <p:cNvSpPr/>
            <p:nvPr/>
          </p:nvSpPr>
          <p:spPr>
            <a:xfrm>
              <a:off x="1834920" y="691920"/>
              <a:ext cx="5616720" cy="6508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00"/>
                  </a:solidFill>
                  <a:uFillTx/>
                  <a:latin typeface="Arial"/>
                </a:rPr>
                <a:t>Нулевое окончани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11305"/>
            <p:cNvSpPr/>
            <p:nvPr/>
          </p:nvSpPr>
          <p:spPr>
            <a:xfrm>
              <a:off x="1785960" y="1773000"/>
              <a:ext cx="3435120" cy="7635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существите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1307"/>
            <p:cNvSpPr/>
            <p:nvPr/>
          </p:nvSpPr>
          <p:spPr>
            <a:xfrm>
              <a:off x="5940360" y="1773000"/>
              <a:ext cx="2808360" cy="7923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гла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1313"/>
            <p:cNvSpPr/>
            <p:nvPr/>
          </p:nvSpPr>
          <p:spPr>
            <a:xfrm>
              <a:off x="610920" y="3213000"/>
              <a:ext cx="2737080" cy="115236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скл., мн.ч., Р.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ного) ро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1315"/>
            <p:cNvSpPr/>
            <p:nvPr/>
          </p:nvSpPr>
          <p:spPr>
            <a:xfrm>
              <a:off x="4284720" y="4868640"/>
              <a:ext cx="3382920" cy="10810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скл., ед.ч.,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.п, В.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рач, плед, ме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1317"/>
            <p:cNvSpPr/>
            <p:nvPr/>
          </p:nvSpPr>
          <p:spPr>
            <a:xfrm>
              <a:off x="539640" y="5516280"/>
              <a:ext cx="3435480" cy="8794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 скл., ед.ч., И.п, В.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ушь, ночь, доч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1319"/>
            <p:cNvSpPr/>
            <p:nvPr/>
          </p:nvSpPr>
          <p:spPr>
            <a:xfrm>
              <a:off x="5364000" y="2997000"/>
              <a:ext cx="2952720" cy="11527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ш.вр., ед.ч., м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ходил, говори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Задание: выделить все морфемы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11280" y="2133720"/>
          <a:ext cx="8229600" cy="3241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ИК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 ОЙ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Проверь!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9640" y="2349360"/>
          <a:ext cx="8229600" cy="2934000"/>
        </p:xfrm>
        <a:graphic>
          <a:graphicData uri="http://schemas.openxmlformats.org/drawingml/2006/table">
            <a:tbl>
              <a:tblPr/>
              <a:tblGrid>
                <a:gridCol w="4176720"/>
                <a:gridCol w="4052880"/>
              </a:tblGrid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ИК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 ОЙ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 flipV="1" rot="13008600">
            <a:off x="1526040" y="3061440"/>
            <a:ext cx="129816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700360" y="2852280"/>
            <a:ext cx="503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3640" y="2852640"/>
            <a:ext cx="4316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03280" y="3500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3645000"/>
            <a:ext cx="22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635280" y="3500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 rot="13008600">
            <a:off x="1454760" y="4502880"/>
            <a:ext cx="129708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556000" y="4365720"/>
            <a:ext cx="21564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00360" y="4365720"/>
            <a:ext cx="216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7640" y="458136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87640" y="51577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87640" y="458136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80000" y="458136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80000" y="3645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3213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494172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3280" y="515772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43280" y="51577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916360" y="486900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Поставь в нужные формы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39640" y="2349360"/>
          <a:ext cx="8229600" cy="2934000"/>
        </p:xfrm>
        <a:graphic>
          <a:graphicData uri="http://schemas.openxmlformats.org/drawingml/2006/table">
            <a:tbl>
              <a:tblPr/>
              <a:tblGrid>
                <a:gridCol w="4176720"/>
                <a:gridCol w="4052880"/>
              </a:tblGrid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ИК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.п., ед.ч. 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 ОЙ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, мн.ч. 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 flipV="1" rot="13008600">
            <a:off x="1526040" y="3061440"/>
            <a:ext cx="129816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700360" y="2852280"/>
            <a:ext cx="503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3640" y="2852640"/>
            <a:ext cx="4316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03280" y="3500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03280" y="3645000"/>
            <a:ext cx="22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635280" y="3500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 rot="13008600">
            <a:off x="1454760" y="4502880"/>
            <a:ext cx="129708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556000" y="4365720"/>
            <a:ext cx="21564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00360" y="4365720"/>
            <a:ext cx="216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87640" y="458136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87640" y="51577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87640" y="458136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80000" y="458136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3645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80000" y="3213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56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3280" y="494172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3280" y="515772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43280" y="51577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486900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Должно быть так: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39640" y="2349360"/>
          <a:ext cx="8229600" cy="2934000"/>
        </p:xfrm>
        <a:graphic>
          <a:graphicData uri="http://schemas.openxmlformats.org/drawingml/2006/table">
            <a:tbl>
              <a:tblPr/>
              <a:tblGrid>
                <a:gridCol w="4176720"/>
                <a:gridCol w="4052880"/>
              </a:tblGrid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ИК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.п., ед.ч. 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ико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 ОЙ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, мн.ч. 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 flipV="1" rot="13008600">
            <a:off x="1526040" y="3061440"/>
            <a:ext cx="129816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700360" y="2852280"/>
            <a:ext cx="503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3640" y="2852640"/>
            <a:ext cx="4316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03280" y="3500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03280" y="3645000"/>
            <a:ext cx="22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635280" y="3500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 rot="13008600">
            <a:off x="1454760" y="4502880"/>
            <a:ext cx="129708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556000" y="4365720"/>
            <a:ext cx="21564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00360" y="4365720"/>
            <a:ext cx="216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87640" y="458136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87640" y="51577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87640" y="458136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80000" y="458136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80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3645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80000" y="3213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03280" y="494172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03280" y="515772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43280" y="51577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916360" y="486900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600ff"/>
                </a:solidFill>
                <a:latin typeface="Arial Black"/>
              </a:rPr>
              <a:t>Есть ли смысл в предложении?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d0505"/>
                </a:solidFill>
                <a:latin typeface="Monotype Corsiva"/>
              </a:rPr>
              <a:t>Глокая куздра штеко будланула бокра и курдячит бокрё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124000" y="3573360"/>
            <a:ext cx="187164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Нарисуй свою оценка уроку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468360" y="1773360"/>
            <a:ext cx="2663640" cy="295272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48000" y="3645000"/>
            <a:ext cx="2664000" cy="2952720"/>
          </a:xfrm>
          <a:prstGeom prst="smileyFace">
            <a:avLst>
              <a:gd name="adj" fmla="val -22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27640" y="1773360"/>
            <a:ext cx="2664000" cy="2952720"/>
          </a:xfrm>
          <a:prstGeom prst="smileyFace">
            <a:avLst>
              <a:gd name="adj" fmla="val -465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 Narrow"/>
              </a:rPr>
              <a:t>ПРОВЕРЬТЕ СЕБЯ: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Приставка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Корень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Суффикс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Окончание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27050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 Narrow"/>
              </a:rPr>
              <a:t>Какая часть слова важнее?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Monotype Corsiva"/>
              </a:rPr>
              <a:t>Корень – самая важная и значимая часть слова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8880" indent="-578880">
              <a:spcBef>
                <a:spcPts val="799"/>
              </a:spcBef>
              <a:buClr>
                <a:srgbClr val="ff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Monotype Corsiva"/>
              </a:rPr>
              <a:t>Приставка как самая важная и значимая часть слова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8880" indent="-578880">
              <a:spcBef>
                <a:spcPts val="799"/>
              </a:spcBef>
              <a:buClr>
                <a:srgbClr val="ff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Monotype Corsiva"/>
              </a:rPr>
              <a:t>Значимость и важность суффикса в слове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8880" indent="-578880">
              <a:spcBef>
                <a:spcPts val="799"/>
              </a:spcBef>
              <a:buClr>
                <a:srgbClr val="ff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Monotype Corsiva"/>
              </a:rPr>
              <a:t>Окончание – самая важная и значимая морфема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 Narrow"/>
              </a:rPr>
              <a:t>Корень?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Monotype Corsiva"/>
              </a:rPr>
              <a:t>Разберите по составу слова: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Прыгнуть, перешагнуть, вынуть;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Привык,- отвык, сомкнул – отомкнул, разул- обул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419040" cy="219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084720" y="836640"/>
            <a:ext cx="23497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 Narrow"/>
              </a:rPr>
              <a:t>ПРИСТАВКА?</a:t>
            </a:r>
            <a:br>
              <a:rPr sz="2400"/>
            </a:br>
            <a:r>
              <a:rPr b="1" lang="en-US" sz="2400" spc="-1" strike="noStrike">
                <a:solidFill>
                  <a:srgbClr val="ff0066"/>
                </a:solidFill>
                <a:latin typeface="Arial Narrow"/>
              </a:rPr>
              <a:t>Задание:</a:t>
            </a:r>
            <a:r>
              <a:rPr b="1" lang="en-US" sz="2400" spc="-1" strike="noStrike">
                <a:solidFill>
                  <a:srgbClr val="6600ff"/>
                </a:solidFill>
                <a:latin typeface="Arial Narrow"/>
              </a:rPr>
              <a:t> представьте, что вы сидите перед телевизором, а вам называют только приставки в-, пере-, вы-. Что вас просят сделать? Как вы об этом догадались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3284280"/>
            <a:ext cx="81342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Включить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Переключить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Выключить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00720" y="3500280"/>
            <a:ext cx="25084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ВЪ ХОДИТЪ ВЪ ДОМЪ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5013360"/>
            <a:ext cx="914400" cy="477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300720" y="907920"/>
            <a:ext cx="1447920" cy="621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284720" y="4365720"/>
            <a:ext cx="2495520" cy="1581120"/>
          </a:xfrm>
          <a:custGeom>
            <a:avLst/>
            <a:gdLst/>
            <a:ahLst/>
            <a:rect l="l" t="t" r="r" b="b"/>
            <a:pathLst>
              <a:path w="1572" h="996">
                <a:moveTo>
                  <a:pt x="0" y="996"/>
                </a:moveTo>
                <a:cubicBezTo>
                  <a:pt x="39" y="971"/>
                  <a:pt x="77" y="947"/>
                  <a:pt x="123" y="937"/>
                </a:cubicBezTo>
                <a:cubicBezTo>
                  <a:pt x="169" y="928"/>
                  <a:pt x="234" y="960"/>
                  <a:pt x="275" y="940"/>
                </a:cubicBezTo>
                <a:cubicBezTo>
                  <a:pt x="315" y="920"/>
                  <a:pt x="347" y="855"/>
                  <a:pt x="368" y="820"/>
                </a:cubicBezTo>
                <a:cubicBezTo>
                  <a:pt x="388" y="785"/>
                  <a:pt x="384" y="749"/>
                  <a:pt x="400" y="730"/>
                </a:cubicBezTo>
                <a:cubicBezTo>
                  <a:pt x="415" y="710"/>
                  <a:pt x="433" y="707"/>
                  <a:pt x="461" y="700"/>
                </a:cubicBezTo>
                <a:cubicBezTo>
                  <a:pt x="489" y="693"/>
                  <a:pt x="534" y="709"/>
                  <a:pt x="567" y="687"/>
                </a:cubicBezTo>
                <a:cubicBezTo>
                  <a:pt x="600" y="665"/>
                  <a:pt x="639" y="602"/>
                  <a:pt x="660" y="567"/>
                </a:cubicBezTo>
                <a:cubicBezTo>
                  <a:pt x="681" y="532"/>
                  <a:pt x="666" y="501"/>
                  <a:pt x="692" y="476"/>
                </a:cubicBezTo>
                <a:cubicBezTo>
                  <a:pt x="718" y="451"/>
                  <a:pt x="776" y="455"/>
                  <a:pt x="815" y="418"/>
                </a:cubicBezTo>
                <a:cubicBezTo>
                  <a:pt x="853" y="380"/>
                  <a:pt x="870" y="284"/>
                  <a:pt x="924" y="252"/>
                </a:cubicBezTo>
                <a:cubicBezTo>
                  <a:pt x="977" y="220"/>
                  <a:pt x="1071" y="262"/>
                  <a:pt x="1137" y="226"/>
                </a:cubicBezTo>
                <a:cubicBezTo>
                  <a:pt x="1203" y="190"/>
                  <a:pt x="1247" y="72"/>
                  <a:pt x="1319" y="36"/>
                </a:cubicBezTo>
                <a:cubicBezTo>
                  <a:pt x="1391" y="0"/>
                  <a:pt x="1519" y="17"/>
                  <a:pt x="1572" y="12"/>
                </a:cubicBezTo>
              </a:path>
            </a:pathLst>
          </a:custGeom>
          <a:noFill/>
          <a:ln w="31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877080" y="4869000"/>
            <a:ext cx="876240" cy="877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547640" y="907920"/>
            <a:ext cx="32767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ff"/>
                </a:solidFill>
                <a:uFillTx/>
                <a:latin typeface="Arial Narrow"/>
              </a:rPr>
              <a:t>Задание</a:t>
            </a:r>
            <a:r>
              <a:rPr b="1" lang="en-US" sz="2800" spc="-1" strike="noStrike">
                <a:solidFill>
                  <a:srgbClr val="83ffff"/>
                </a:solidFill>
                <a:latin typeface="Arial Narrow"/>
              </a:rPr>
              <a:t>: </a:t>
            </a:r>
            <a:r>
              <a:rPr b="1" lang="en-US" sz="2800" spc="-1" strike="noStrike">
                <a:solidFill>
                  <a:srgbClr val="ff0066"/>
                </a:solidFill>
                <a:latin typeface="Arial Narrow"/>
              </a:rPr>
              <a:t>определите, к какой части речи будут принадлежать слова с данными суффиксам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-оват-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23479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нок- (-онок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8360" y="278136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онер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3213000"/>
            <a:ext cx="10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щик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3645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8360" y="400536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с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2008080"/>
            <a:ext cx="20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лага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80000" y="2440080"/>
            <a:ext cx="23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285264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35772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3716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08360" y="4076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515772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акое значение придают эти морфемы указан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частям р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32720" y="2008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88000" y="2513160"/>
            <a:ext cx="2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23684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ен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77080" y="285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90160" y="32846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е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00720" y="37162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шедше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4149720"/>
            <a:ext cx="16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вра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894040" cy="25243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575928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_CooperBlack"/>
              </a:rPr>
              <a:t>Дом ик и</a:t>
            </a:r>
            <a:endParaRPr b="0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665440" cy="1887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3384360" cy="2529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rot="18904800">
            <a:off x="1371960" y="2346840"/>
            <a:ext cx="2600280" cy="245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16" y="48"/>
                </a:moveTo>
                <a:arcTo wR="10800" hR="10800" stAng="-5076177" swAng="5076177"/>
                <a:lnTo>
                  <a:pt x="10800" y="10800"/>
                </a:lnTo>
                <a:close/>
              </a:path>
              <a:path fill="none" w="21600" h="21600">
                <a:moveTo>
                  <a:pt x="11816" y="48"/>
                </a:moveTo>
                <a:arcTo wR="10800" hR="10800" stAng="-5076177" swAng="5076177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73440" y="2205000"/>
            <a:ext cx="43344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106880" y="2205000"/>
            <a:ext cx="50328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2421000"/>
            <a:ext cx="649440" cy="93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328464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835280" y="3068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572000" y="3068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403280" y="1341360"/>
          <a:ext cx="6096240" cy="406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03280" y="1341360"/>
                    <a:ext cx="60962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714920" y="3535200"/>
            <a:ext cx="442908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_CooperBlack"/>
              </a:rPr>
              <a:t>Какую морфему вам пришлось изменить?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_CooperBlack"/>
              </a:rPr>
              <a:t>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_CooperBlack"/>
              </a:rPr>
              <a:t>???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_CooperBlack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_CooperBlack"/>
              </a:rPr>
              <a:t>Почему?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13520" y="2637000"/>
            <a:ext cx="3930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7:15:31Z</dcterms:created>
  <dc:creator>*</dc:creator>
  <dc:description/>
  <dc:language>en-US</dc:language>
  <cp:lastModifiedBy>houme</cp:lastModifiedBy>
  <dcterms:modified xsi:type="dcterms:W3CDTF">2007-09-08T15:56:59Z</dcterms:modified>
  <cp:revision>6</cp:revision>
  <dc:subject/>
  <dc:title>Домики</dc:title>
</cp:coreProperties>
</file>