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18.gif" ContentType="image/gif"/>
  <Override PartName="/ppt/media/image12.wmf" ContentType="image/x-wmf"/>
  <Override PartName="/ppt/media/image4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9.png" ContentType="image/png"/>
  <Override PartName="/ppt/media/image13.wmf" ContentType="image/x-wmf"/>
  <Override PartName="/ppt/media/image6.jpeg" ContentType="image/jpeg"/>
  <Override PartName="/ppt/media/image5.gif" ContentType="image/gi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AEA-ABB2-4963-B838-36738577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F28-247E-4262-A987-BB939168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039-467D-41AA-8239-3A7E51A0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7E2-D42A-453B-8661-E8F109CC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E398-EBC7-4A4D-B489-EA9B807D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2589-319D-4DE0-A9BB-F685BBE4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2FDD-2A92-408C-B9FE-861BAEA3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1B48-C7ED-434D-8E63-66CA80F4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8A1E-6FF1-4DA9-9D41-6B04F0D6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7C53-76FF-408C-9173-68A6EC28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4612-C083-4D29-9728-71F85EDE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973-36B6-4309-980D-17D07084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AB63-D5D8-4704-89C8-DA504ED3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B8D9-C262-4627-9C99-1B72A90F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3108-265F-4A1E-9ABD-2B3FF9A3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8F83-B7E3-439F-92F9-F7E503BA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737E-5C58-426D-B8A1-B8E9D3F5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55F-BB7E-415B-A2F3-74ECB959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029-48C5-410E-A21D-B09F5E48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B5D-88D6-4DF1-860B-F7EA2C42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73E-E3CA-4CF0-8317-D174D769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B17-445F-4434-8EBD-63929F4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01C-3440-41D9-A93F-85C6A04C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B88-2A13-4074-A587-EB3C5D23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7c849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157F-F81E-44E0-B722-9A5BF4C60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7c8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7c8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D107-FD05-456C-8916-2BA5BD560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8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01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 Narrow"/>
              </a:rPr>
              <a:t>Части слова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Monotype Corsiva"/>
              </a:rPr>
              <a:t>Вспомните, какие известны вам части слова?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28576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45 0.03564 L 0.58993 -0.58403 E">
                                      <p:cBhvr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539640" y="691920"/>
            <a:ext cx="8209080" cy="5703840"/>
            <a:chOff x="539640" y="691920"/>
            <a:chExt cx="8209080" cy="5703840"/>
          </a:xfrm>
        </p:grpSpPr>
        <p:cxnSp>
          <p:nvCxnSpPr>
            <p:cNvPr id="204" name="_s11320"/>
            <p:cNvCxnSpPr>
              <a:stCxn id="205" idx="0"/>
              <a:endCxn id="206" idx="2"/>
            </p:cNvCxnSpPr>
            <p:nvPr/>
          </p:nvCxnSpPr>
          <p:spPr>
            <a:xfrm flipH="1" flipV="1" rot="5400000">
              <a:off x="6890760" y="2527920"/>
              <a:ext cx="403920" cy="505800"/>
            </a:xfrm>
            <a:prstGeom prst="bentConnector3">
              <a:avLst>
                <a:gd name="adj1" fmla="val 28278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07" name="_s11318"/>
            <p:cNvCxnSpPr>
              <a:stCxn id="208" idx="0"/>
              <a:endCxn id="209" idx="2"/>
            </p:cNvCxnSpPr>
            <p:nvPr/>
          </p:nvCxnSpPr>
          <p:spPr>
            <a:xfrm flipH="1" flipV="1" rot="5400000">
              <a:off x="1404360" y="3403080"/>
              <a:ext cx="2952000" cy="1246680"/>
            </a:xfrm>
            <a:prstGeom prst="bentConnector3">
              <a:avLst>
                <a:gd name="adj1" fmla="val 3866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0" name="_s11316"/>
            <p:cNvCxnSpPr>
              <a:stCxn id="211" idx="0"/>
              <a:endCxn id="209" idx="2"/>
            </p:cNvCxnSpPr>
            <p:nvPr/>
          </p:nvCxnSpPr>
          <p:spPr>
            <a:xfrm flipV="1" rot="16200000">
              <a:off x="3588120" y="2465280"/>
              <a:ext cx="2304000" cy="2473920"/>
            </a:xfrm>
            <a:prstGeom prst="bentConnector3">
              <a:avLst>
                <a:gd name="adj1" fmla="val 4953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2" name="_s11314"/>
            <p:cNvCxnSpPr>
              <a:stCxn id="213" idx="0"/>
              <a:endCxn id="209" idx="2"/>
            </p:cNvCxnSpPr>
            <p:nvPr/>
          </p:nvCxnSpPr>
          <p:spPr>
            <a:xfrm flipH="1" flipV="1" rot="5400000">
              <a:off x="2417400" y="2112120"/>
              <a:ext cx="648360" cy="1524600"/>
            </a:xfrm>
            <a:prstGeom prst="bentConnector3">
              <a:avLst>
                <a:gd name="adj1" fmla="val 17611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4" name="_s11310"/>
            <p:cNvCxnSpPr>
              <a:stCxn id="206" idx="0"/>
              <a:endCxn id="215" idx="2"/>
            </p:cNvCxnSpPr>
            <p:nvPr/>
          </p:nvCxnSpPr>
          <p:spPr>
            <a:xfrm flipV="1" rot="16200000">
              <a:off x="5793120" y="206280"/>
              <a:ext cx="402480" cy="2702880"/>
            </a:xfrm>
            <a:prstGeom prst="bentConnector3">
              <a:avLst>
                <a:gd name="adj1" fmla="val 28379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6" name="_s11308"/>
            <p:cNvCxnSpPr>
              <a:stCxn id="209" idx="0"/>
              <a:endCxn id="215" idx="2"/>
            </p:cNvCxnSpPr>
            <p:nvPr/>
          </p:nvCxnSpPr>
          <p:spPr>
            <a:xfrm flipH="1" flipV="1" rot="5400000">
              <a:off x="3872160" y="987840"/>
              <a:ext cx="402480" cy="1140480"/>
            </a:xfrm>
            <a:prstGeom prst="bentConnector3">
              <a:avLst>
                <a:gd name="adj1" fmla="val 28379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215" name="_s11304"/>
            <p:cNvSpPr/>
            <p:nvPr/>
          </p:nvSpPr>
          <p:spPr>
            <a:xfrm>
              <a:off x="1834920" y="691920"/>
              <a:ext cx="5616720" cy="6508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Arial"/>
                </a:rPr>
                <a:t>Нулевое окончани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11305"/>
            <p:cNvSpPr/>
            <p:nvPr/>
          </p:nvSpPr>
          <p:spPr>
            <a:xfrm>
              <a:off x="1785960" y="1773000"/>
              <a:ext cx="3435120" cy="7635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существите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1307"/>
            <p:cNvSpPr/>
            <p:nvPr/>
          </p:nvSpPr>
          <p:spPr>
            <a:xfrm>
              <a:off x="5940360" y="1773000"/>
              <a:ext cx="2808360" cy="79236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глаго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1313"/>
            <p:cNvSpPr/>
            <p:nvPr/>
          </p:nvSpPr>
          <p:spPr>
            <a:xfrm>
              <a:off x="610920" y="3213000"/>
              <a:ext cx="2737080" cy="115236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скл., мн.ч., Р.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ного) ро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1315"/>
            <p:cNvSpPr/>
            <p:nvPr/>
          </p:nvSpPr>
          <p:spPr>
            <a:xfrm>
              <a:off x="4284720" y="4868640"/>
              <a:ext cx="3382920" cy="10810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 скл., ед.ч.,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.п, В.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рач, плед, ме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1317"/>
            <p:cNvSpPr/>
            <p:nvPr/>
          </p:nvSpPr>
          <p:spPr>
            <a:xfrm>
              <a:off x="539640" y="5516280"/>
              <a:ext cx="3435480" cy="87948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 скл., ед.ч., И.п, В.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ушь, ночь, доч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1319"/>
            <p:cNvSpPr/>
            <p:nvPr/>
          </p:nvSpPr>
          <p:spPr>
            <a:xfrm>
              <a:off x="5364000" y="2997000"/>
              <a:ext cx="2952720" cy="115272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ш.вр., ед.ч., м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иходил, говори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Задание: выделить все морфемы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11280" y="2133720"/>
          <a:ext cx="8229600" cy="324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 ОЙ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Проверь!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9640" y="2349360"/>
          <a:ext cx="8229600" cy="2934000"/>
        </p:xfrm>
        <a:graphic>
          <a:graphicData uri="http://schemas.openxmlformats.org/drawingml/2006/table">
            <a:tbl>
              <a:tblPr/>
              <a:tblGrid>
                <a:gridCol w="4176720"/>
                <a:gridCol w="4052880"/>
              </a:tblGrid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 ОЙ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 flipV="1" rot="13008600">
            <a:off x="1526040" y="3061440"/>
            <a:ext cx="12981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700360" y="2852280"/>
            <a:ext cx="503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2852640"/>
            <a:ext cx="43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03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3645000"/>
            <a:ext cx="22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635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 rot="13008600">
            <a:off x="1454760" y="4502880"/>
            <a:ext cx="12970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556000" y="4365720"/>
            <a:ext cx="215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00360" y="4365720"/>
            <a:ext cx="216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764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7640" y="51577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7640" y="458136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8000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3645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3213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494172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515772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3280" y="5157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916360" y="48690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Поставь в нужные формы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9640" y="2349360"/>
          <a:ext cx="8229600" cy="2934000"/>
        </p:xfrm>
        <a:graphic>
          <a:graphicData uri="http://schemas.openxmlformats.org/drawingml/2006/table">
            <a:tbl>
              <a:tblPr/>
              <a:tblGrid>
                <a:gridCol w="4176720"/>
                <a:gridCol w="4052880"/>
              </a:tblGrid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, ед.ч. 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 ОЙ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, мн.ч. 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 flipV="1" rot="13008600">
            <a:off x="1526040" y="3061440"/>
            <a:ext cx="12981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700360" y="2852280"/>
            <a:ext cx="503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2852640"/>
            <a:ext cx="43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3280" y="3645000"/>
            <a:ext cx="22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35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 rot="13008600">
            <a:off x="1454760" y="4502880"/>
            <a:ext cx="12970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556000" y="4365720"/>
            <a:ext cx="215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00360" y="4365720"/>
            <a:ext cx="216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8764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51577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87640" y="458136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3645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80000" y="3213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494172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515772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5157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48690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Должно быть так: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9640" y="2349360"/>
          <a:ext cx="8229600" cy="2934000"/>
        </p:xfrm>
        <a:graphic>
          <a:graphicData uri="http://schemas.openxmlformats.org/drawingml/2006/table">
            <a:tbl>
              <a:tblPr/>
              <a:tblGrid>
                <a:gridCol w="4176720"/>
                <a:gridCol w="4052880"/>
              </a:tblGrid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.п., ед.ч.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ик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 ОЙ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, мн.ч.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ес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 flipV="1" rot="13008600">
            <a:off x="1526040" y="3061440"/>
            <a:ext cx="129816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700360" y="2852280"/>
            <a:ext cx="503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3640" y="2852640"/>
            <a:ext cx="43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03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03280" y="3645000"/>
            <a:ext cx="22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635280" y="3500280"/>
            <a:ext cx="0" cy="1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 rot="13008600">
            <a:off x="1454760" y="4502880"/>
            <a:ext cx="129708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556000" y="4365720"/>
            <a:ext cx="21564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00360" y="4365720"/>
            <a:ext cx="216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8764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87640" y="51577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87640" y="458136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80000" y="458136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80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3645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321300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21300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03280" y="494172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03280" y="515772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43280" y="5157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916360" y="48690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00ff"/>
                </a:solidFill>
                <a:latin typeface="Arial Black"/>
              </a:rPr>
              <a:t>Есть ли смысл в предложении?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d0505"/>
                </a:solidFill>
                <a:latin typeface="Monotype Corsiva"/>
              </a:rPr>
              <a:t>Глокая куздра штеко будланула бокра и курдячит бокрё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124000" y="3573360"/>
            <a:ext cx="187164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Нарисуй свою оценка уроку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468360" y="1773360"/>
            <a:ext cx="2663640" cy="295272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48000" y="3645000"/>
            <a:ext cx="2664000" cy="2952720"/>
          </a:xfrm>
          <a:prstGeom prst="smileyFace">
            <a:avLst>
              <a:gd name="adj" fmla="val -22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1773360"/>
            <a:ext cx="2664000" cy="2952720"/>
          </a:xfrm>
          <a:prstGeom prst="smileyFace">
            <a:avLst>
              <a:gd name="adj" fmla="val -465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 Narrow"/>
              </a:rPr>
              <a:t>ПРОВЕРЬТЕ СЕБЯ: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Приставка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Корень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Суффикс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Окончание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705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 Narrow"/>
              </a:rPr>
              <a:t>Какая часть слова важнее?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Корень – самая важная и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spcBef>
                <a:spcPts val="799"/>
              </a:spcBef>
              <a:buClr>
                <a:srgbClr val="ff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Приставка как самая важная и значимая часть слов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spcBef>
                <a:spcPts val="799"/>
              </a:spcBef>
              <a:buClr>
                <a:srgbClr val="ff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Значимость и важность суффикса в слов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578880" indent="-578880">
              <a:spcBef>
                <a:spcPts val="799"/>
              </a:spcBef>
              <a:buClr>
                <a:srgbClr val="ff0066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Окончание – самая важная и значимая морфема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 Narrow"/>
              </a:rPr>
              <a:t>Корень?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Monotype Corsiva"/>
              </a:rPr>
              <a:t>Разберите по составу слова: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Прыгнуть, перешагнуть, вынуть;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Привык,- отвык, сомкнул – отомкнул, разул- обул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419040" cy="219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84720" y="836640"/>
            <a:ext cx="23497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 Narrow"/>
              </a:rPr>
              <a:t>ПРИСТАВКА?</a:t>
            </a: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Arial Narrow"/>
              </a:rPr>
              <a:t>Задание:</a:t>
            </a:r>
            <a:r>
              <a:rPr b="1" lang="en-US" sz="2400" spc="-1" strike="noStrike">
                <a:solidFill>
                  <a:srgbClr val="6600ff"/>
                </a:solidFill>
                <a:latin typeface="Arial Narrow"/>
              </a:rPr>
              <a:t> представьте, что вы сидите перед телевизором, а вам называют только приставки в-, пере-, вы-. Что вас просят сделать? Как вы об этом догадались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3284280"/>
            <a:ext cx="81342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Включить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Переключить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Выключить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00720" y="3500280"/>
            <a:ext cx="25084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Monotype Corsiva"/>
              </a:rPr>
              <a:t>ВЪ ХОДИТЪ ВЪ ДОМЪ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5013360"/>
            <a:ext cx="914400" cy="47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300720" y="907920"/>
            <a:ext cx="1447920" cy="621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284720" y="4365720"/>
            <a:ext cx="2495520" cy="1581120"/>
          </a:xfrm>
          <a:custGeom>
            <a:avLst/>
            <a:gdLst/>
            <a:ahLst/>
            <a:rect l="l" t="t" r="r" b="b"/>
            <a:pathLst>
              <a:path w="1572" h="996">
                <a:moveTo>
                  <a:pt x="0" y="996"/>
                </a:moveTo>
                <a:cubicBezTo>
                  <a:pt x="39" y="971"/>
                  <a:pt x="77" y="947"/>
                  <a:pt x="123" y="937"/>
                </a:cubicBezTo>
                <a:cubicBezTo>
                  <a:pt x="169" y="928"/>
                  <a:pt x="234" y="960"/>
                  <a:pt x="275" y="940"/>
                </a:cubicBezTo>
                <a:cubicBezTo>
                  <a:pt x="315" y="920"/>
                  <a:pt x="347" y="855"/>
                  <a:pt x="368" y="820"/>
                </a:cubicBezTo>
                <a:cubicBezTo>
                  <a:pt x="388" y="785"/>
                  <a:pt x="384" y="749"/>
                  <a:pt x="400" y="730"/>
                </a:cubicBezTo>
                <a:cubicBezTo>
                  <a:pt x="415" y="710"/>
                  <a:pt x="433" y="707"/>
                  <a:pt x="461" y="700"/>
                </a:cubicBezTo>
                <a:cubicBezTo>
                  <a:pt x="489" y="693"/>
                  <a:pt x="534" y="709"/>
                  <a:pt x="567" y="687"/>
                </a:cubicBezTo>
                <a:cubicBezTo>
                  <a:pt x="600" y="665"/>
                  <a:pt x="639" y="602"/>
                  <a:pt x="660" y="567"/>
                </a:cubicBezTo>
                <a:cubicBezTo>
                  <a:pt x="681" y="532"/>
                  <a:pt x="666" y="501"/>
                  <a:pt x="692" y="476"/>
                </a:cubicBezTo>
                <a:cubicBezTo>
                  <a:pt x="718" y="451"/>
                  <a:pt x="776" y="455"/>
                  <a:pt x="815" y="418"/>
                </a:cubicBezTo>
                <a:cubicBezTo>
                  <a:pt x="853" y="380"/>
                  <a:pt x="870" y="284"/>
                  <a:pt x="924" y="252"/>
                </a:cubicBezTo>
                <a:cubicBezTo>
                  <a:pt x="977" y="220"/>
                  <a:pt x="1071" y="262"/>
                  <a:pt x="1137" y="226"/>
                </a:cubicBezTo>
                <a:cubicBezTo>
                  <a:pt x="1203" y="190"/>
                  <a:pt x="1247" y="72"/>
                  <a:pt x="1319" y="36"/>
                </a:cubicBezTo>
                <a:cubicBezTo>
                  <a:pt x="1391" y="0"/>
                  <a:pt x="1519" y="17"/>
                  <a:pt x="1572" y="12"/>
                </a:cubicBezTo>
              </a:path>
            </a:pathLst>
          </a:custGeom>
          <a:noFill/>
          <a:ln w="317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877080" y="4869000"/>
            <a:ext cx="876240" cy="877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547640" y="907920"/>
            <a:ext cx="32767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ff"/>
                </a:solidFill>
                <a:uFillTx/>
                <a:latin typeface="Arial Narrow"/>
              </a:rPr>
              <a:t>Задание</a:t>
            </a:r>
            <a:r>
              <a:rPr b="1" lang="en-US" sz="2800" spc="-1" strike="noStrike">
                <a:solidFill>
                  <a:srgbClr val="83ffff"/>
                </a:solidFill>
                <a:latin typeface="Arial Narrow"/>
              </a:rPr>
              <a:t>: </a:t>
            </a:r>
            <a:r>
              <a:rPr b="1" lang="en-US" sz="2800" spc="-1" strike="noStrike">
                <a:solidFill>
                  <a:srgbClr val="ff0066"/>
                </a:solidFill>
                <a:latin typeface="Arial Narrow"/>
              </a:rPr>
              <a:t>определите, к какой части речи будут принадлежать слова с данными суффиксам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-оват-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23479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нок- (-онок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8360" y="278136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онер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321300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щик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3645000"/>
            <a:ext cx="7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8360" y="400536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2008080"/>
            <a:ext cx="20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0" y="2440080"/>
            <a:ext cx="23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285264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35772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ществи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716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08360" y="4076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1577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акое значение придают эти морфемы указа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частям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32720" y="2008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8000" y="251316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23684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ен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7080" y="28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90160" y="32846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00720" y="3716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шедше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4149720"/>
            <a:ext cx="16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вра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894040" cy="25243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_CooperBlack"/>
              </a:rPr>
              <a:t>Дом ик и</a:t>
            </a:r>
            <a:endParaRPr b="0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665440" cy="1887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3384360" cy="2529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rot="18904800">
            <a:off x="1371960" y="2346840"/>
            <a:ext cx="2600280" cy="245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16" y="48"/>
                </a:moveTo>
                <a:arcTo wR="10800" hR="10800" stAng="-5076177" swAng="5076177"/>
                <a:lnTo>
                  <a:pt x="10800" y="10800"/>
                </a:lnTo>
                <a:close/>
              </a:path>
              <a:path fill="none" w="21600" h="21600">
                <a:moveTo>
                  <a:pt x="11816" y="48"/>
                </a:moveTo>
                <a:arcTo wR="10800" hR="10800" stAng="-5076177" swAng="5076177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73440" y="2205000"/>
            <a:ext cx="43344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106880" y="2205000"/>
            <a:ext cx="5032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2421000"/>
            <a:ext cx="649440" cy="93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328464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35280" y="3068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72000" y="3068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403280" y="1341360"/>
          <a:ext cx="6096240" cy="406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3280" y="1341360"/>
                    <a:ext cx="60962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714920" y="3535200"/>
            <a:ext cx="442908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Какую морфему вам пришлось изменить?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???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_CooperBlack"/>
              </a:rPr>
              <a:t>Почему?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13520" y="2637000"/>
            <a:ext cx="3930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7:15:31Z</dcterms:created>
  <dc:creator>*</dc:creator>
  <dc:description/>
  <dc:language>en-US</dc:language>
  <cp:lastModifiedBy>houme</cp:lastModifiedBy>
  <dcterms:modified xsi:type="dcterms:W3CDTF">2007-09-08T15:56:59Z</dcterms:modified>
  <cp:revision>6</cp:revision>
  <dc:subject/>
  <dc:title>Домики</dc:title>
</cp:coreProperties>
</file>