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5.gif" ContentType="image/gif"/>
  <Override PartName="/ppt/media/image16.wmf" ContentType="image/x-wmf"/>
  <Override PartName="/ppt/media/image4.png" ContentType="image/png"/>
  <Override PartName="/ppt/media/image7.png" ContentType="image/png"/>
  <Override PartName="/ppt/media/image15.wmf" ContentType="image/x-wmf"/>
  <Override PartName="/ppt/media/image26.png" ContentType="image/png"/>
  <Override PartName="/ppt/media/image24.wmf" ContentType="image/x-wmf"/>
  <Override PartName="/ppt/media/image22.png" ContentType="image/png"/>
  <Override PartName="/ppt/media/image23.png" ContentType="image/png"/>
  <Override PartName="/ppt/media/image20.gif" ContentType="image/gif"/>
  <Override PartName="/ppt/media/image18.wmf" ContentType="image/x-wmf"/>
  <Override PartName="/ppt/media/image21.gif" ContentType="image/gif"/>
  <Override PartName="/ppt/media/image19.gif" ContentType="image/gif"/>
  <Override PartName="/ppt/media/image1.png" ContentType="image/png"/>
  <Override PartName="/ppt/media/image17.wmf" ContentType="image/x-wmf"/>
  <Override PartName="/ppt/media/image14.gif" ContentType="image/gif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A660-F948-4301-9BF3-396D5735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73AE-9226-4A84-8B99-E3E0363A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EB267-56F0-4EF3-AB04-759D7CA5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507AE-C429-41E5-A73C-E442874F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77073-8A71-4BF1-82F8-2BDE2BD8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D3577-C189-4D2A-A6A8-CB06F165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08236-02A2-4688-A27E-07EA5560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AA189-EDAC-477A-97CD-E3FD5DBC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F4060-3FDC-4E9C-9528-999EDA80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C46B4-6E17-48E3-B736-6F9BEBE1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258E4-1078-4636-9FD5-C00BBAF1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16465-4A1C-46DA-BA77-A7D31C83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79C5-7571-4065-A2F7-A01B700B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CF7E4-7CA1-499A-B4A7-6F5698CB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1760E-70B7-4B0D-A9E3-4A7F73E0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00BE4-2832-4546-9583-3EA3750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D30F9-24BE-4A13-A586-7F309F9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EA32D-A4B6-43B9-B3C6-BF406793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B5C24-DB01-44BC-B7AC-3C56BF9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A7813-F8A7-42F1-AF18-DCEA78AD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5CD62-5B67-4751-96AC-13E6D17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4BF55-B40B-44F5-BAB2-047DE296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71617-CAAA-4F4C-91F9-F1EAE594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64A8-F438-482E-8424-78D3545D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8FA22-2430-46D8-A691-56BB9634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CAF0DE-56E5-4D86-94D0-21297CB9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9727B8-A914-4842-8F67-ADC0435C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8DD1DF-793A-42F4-A77B-8EEC6CDF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EBBF87-B47C-4CF6-BD6B-AAC6F7B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B08304-2CC7-4154-840B-234D9B55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B55A89-F0F0-40C5-98F7-FF5239D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435B35-9B4C-468F-A230-94C8B539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754C3D-22A9-4FDD-AB9D-D6E46BD1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842315-F4E3-42E8-BB2E-CC72CED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F30CD-4BF5-4D11-8E2B-6DFFA3AA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7F6CAC-BBEF-4A4E-A5E0-FFFE2C81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BC3F02-3B84-4271-9C88-EF7DAB6D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686D22-52A2-4348-8111-BBDE9810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38B1F-1773-4BDD-A61A-28D847B5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F74DA-FAE0-4EAA-B02C-661DAFC9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03920-4161-46AE-B066-FC0D7C7E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291BC-8069-4B63-9642-6EE1CDDA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8D1AB-A725-4579-9BDF-31A3AEB5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60AABA-BDD7-44E0-BA0A-D6620A98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AD2C1-FC65-45E6-A51F-8043B189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41002-1A5E-4B4C-89CD-27567742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F564B-0914-44CF-A63E-760CB911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0A4E4B-01E2-4D18-A0A5-13DFF336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BE19C-B8AE-43A8-8725-22436A54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A8DD4-7723-4B97-A8CC-9C746286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49C2E-C2F1-47C9-9C78-5CA6403D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2B7218-66EA-4E97-9AFD-E081CAFA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0F05CD-3954-4BF4-BD05-260831C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22B469-5926-4448-AA11-DCBE3774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DA4D62-7AA6-492A-91F2-2F0F18FA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44927A-A487-4D30-8025-ACA96FD4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C6014-4AE7-4B78-BD22-835469C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88D9C90-ADE6-4E2F-A0D2-5347E14A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429D9D-C00F-4752-AFA4-C60105C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0C3D07-E883-41C3-BFE5-046C0F8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0FB5FC-AB76-402D-9600-4B02A744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43357B-03AC-4FC4-900F-57D0F0FC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652DF2-A07A-4CE9-9A76-E859738E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D183EC-89EB-47AF-9AAB-B4B56B11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76416-6C5E-41FB-B389-95766052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837B5-3A27-43D6-850A-117AB3CA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0FD56-04AB-4DBB-B548-786682D0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9B212-13A4-4C54-B426-9A84EAFE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DBE3-8C74-4136-BDD8-341F5449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CB749-8270-443A-A5AE-0A67097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D99FC-EC3C-40EE-89D4-8B56D4B5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AC9AF-4699-4B72-BD04-993B8EC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DB9EA-3070-4236-AE8B-9D354698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BC47B-A7B9-45D0-98A7-1F1F2B71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BD027-B4B5-4D1E-8A1E-3D7AA86E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E4FC8-5333-4338-AAE8-9D08D78E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312DC-3ABA-4E7F-94AB-A19A1114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026A3C-3DD1-4D47-B911-FD2EF455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F49A3-9BAB-403A-AA37-4404D502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8621-68EF-43B4-B23C-A2C98478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C0B0A-794B-4EB5-BA78-08D2EEF7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D7F4A6-D6B6-45AA-9084-0549A13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F2F243-FDA8-49F6-A683-DC82512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6D26F-F1CB-4EF3-9893-45DC6FBB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6924D-6EEE-4113-A975-4A4E56E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AA69C-ADC6-4EC5-B51D-2798B640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311A5-B43D-4EB1-8079-5029D113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9E730-9EB7-41FB-AE6A-008048D6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783C0-E261-4DB0-A3B6-7D91BAC4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7F999-E221-4864-AC01-59FC57ED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885B-BB8D-430F-A7BB-DCBF666D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DFC6A-7418-4DE1-A3BE-B6A9C3E7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E74A9-E9AA-46C6-9395-9E0315AF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6A439-99DD-4970-9096-4D37F13F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F2E3D-E108-4890-BAFC-22AF92B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52F2D-5529-422A-9D78-0B761DD1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EEE16-6452-485F-997D-F9B8D6A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6887F-E35C-403C-8BF6-5AA733AE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44F21-FFCF-47CA-BAE2-05A1DC3F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205C2-ED5A-4303-BA59-CD30B19A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9DEB6-A7AF-4480-AADD-F18CD629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1B5F-823A-45C7-82D4-D30BF1D1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E0A79C-B826-48B5-A0B7-2C3FA70C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CA4F9-B39E-4D1B-89F3-D7C3D168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40B91-6CDC-4584-9896-8864F52C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04AD54-0EEC-492E-9FFE-6C58D1CB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9DAA3D-DE71-4214-8416-AE9696CC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BDBC53-12A9-4C86-B36D-688129F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AB981E-0024-4960-994E-3D69F2F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014FD-02F9-45BB-9A85-73DA58CE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E6E20-63A9-4CFD-B939-47EC39B2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B70875-48EF-4423-A037-09077B4E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59DE-3D15-4939-9D32-9A491ED1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D35C0B-E500-4285-8412-7FD1EBB5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B56252-3FAC-4CAD-9386-F3E3939F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89397-6929-40A1-AA28-D6501376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7ED68A-B6E9-4F55-BFD4-7FCBBD4A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0D242-2A98-41ED-A5E4-7A84E673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E008C-3CC2-45BF-801B-EB60C4A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60AA81-52B0-44CA-9407-1D464DF8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0AF4DF-7D6F-4F8A-95AD-779AC9B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C3ADD-C748-47CC-B832-A717BE4D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66684E-9563-4952-8F0E-5CF99D7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A2B0-CDD9-47EC-A4C4-C91E7FE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303245-0A0E-4B98-BF29-8B4A0A18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381DAF-A07F-4982-90EE-7943E452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488FA6-F61E-4D15-913A-0B70B32B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6743DB-15FC-4B25-8056-2D435C09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B055DC-8B47-43AF-8106-351A4B02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60B548-F351-44AE-A300-4B73F91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596F7D-2870-4186-99A2-6444B9A2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14C050-3C0A-456D-83A3-46E0C64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0F988B-ED3F-4F36-9C66-B5C517C2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8D4832-784B-4BC4-B4B8-24BD5A18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601F-43B3-47CC-822A-CF002D0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1CA7C7-6420-454D-BCBB-232F8FD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9E9786-3D53-4D32-9AD6-C173E97F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56470-B69C-437E-9DB5-92ADD8F9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7A74C8-A8AF-4F81-A280-22BB5CB7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F0F203-BACD-4448-9CA7-34C08606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380D55-5BCF-4A85-A9ED-3968E3CF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125BEA-6B94-4A5C-A941-F459A32C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6C3C2D-5AE3-4733-8A50-18672E9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2A8C6D-5603-47EF-8AD9-C88C5FF6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3CCA6F-701C-4425-866C-75A2D7FB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75DD-8094-4D8F-9CDD-43ED734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1B05B2-C90A-4B7D-A76E-52895DBD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14DA96-3706-478E-AF0F-FFA00D8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F3A09D-25AA-4DF0-A207-92443208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0F26A6-B02C-4315-AE57-132D0B18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600797-22B3-4B6F-B3B0-7B7C538E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0F0852-4FCD-4496-BBD6-451D2F7C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777F3-D725-4434-B668-DF29562F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CCEB3-18DC-4510-9F9D-3263BB9B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F81AD-4548-4176-80A7-927175E4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98581-F5C4-43C6-85C8-81795AA9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1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E442-8D72-4805-A9C6-6BCDAEC1F43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7FC1-569B-4563-91CE-E6A890551A62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8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6470-11EC-421F-A056-4DDED4E300C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dt" idx="30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DF72-AB9D-4BDD-A349-26DCB94DC1E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31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A75A-7D28-4A59-AEC8-CCB50D63481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dt" idx="33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6F96-9BF5-46E9-BD02-37F649F5D15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3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857C-8710-43B4-9286-07FBC5D611C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dt" idx="3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528F-A57B-496C-9A56-ECD1E0E3CE2E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37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DE35-75FE-4365-AB57-E3CE9790F5C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dt" idx="39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4E38-A633-42C8-92A8-C4D8F6ECE80E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5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7B87-B679-48E1-994A-80A86921593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9ECE-9263-45BB-B0EB-C281FF5D62C3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7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80F6-CE03-49F5-928B-3318D089216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9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8471-58E0-406B-9807-317B78AB540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0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827B-66E9-46BE-AA91-891CB999084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12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9393-DA6F-47BD-8F21-BB11DCBCFCA7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3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47B7-1C2C-4949-B524-DA88922C7F1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dt" idx="15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1C9D-4F87-41DD-BB15-AC04F200A76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C14A-5550-40D9-86D2-B31E408DA36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dt" idx="18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FC7-B3AF-4875-AD48-36021C76B5B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9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5734-F4D0-4F16-85B0-EC444BCC955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dt" idx="21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08DA-B169-45A5-A64A-13A284BA6384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2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41A9-B306-4CBA-8C90-33A6B4F2652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dt" idx="24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DEF9-8200-4572-B1BE-9E905C57C9C5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25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0360-E21D-42A7-BD23-D40F84B0957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dt" idx="27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1E7-109F-4481-B6EB-75CB1DBAE74D}" type="datetime">
              <a:rPr b="0" lang="ru-RU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gi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Прямоугольник 7" descr=""/>
          <p:cNvPicPr/>
          <p:nvPr/>
        </p:nvPicPr>
        <p:blipFill>
          <a:blip r:embed="rId1"/>
          <a:stretch/>
        </p:blipFill>
        <p:spPr>
          <a:xfrm>
            <a:off x="2498760" y="2077920"/>
            <a:ext cx="4719600" cy="180504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8" descr="10.gif"/>
          <p:cNvPicPr/>
          <p:nvPr/>
        </p:nvPicPr>
        <p:blipFill>
          <a:blip r:embed="rId2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Прямоугольник 2"/>
          <p:cNvSpPr/>
          <p:nvPr/>
        </p:nvSpPr>
        <p:spPr>
          <a:xfrm>
            <a:off x="1600200" y="2438280"/>
            <a:ext cx="6472080" cy="204372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ставьте один день перед экзаменом на то, чтобы еще раз повторить самые трудные вопросы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Группа 4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1" name="TextBox 5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2" name="Рисунок 6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"/>
          <p:cNvSpPr/>
          <p:nvPr/>
        </p:nvSpPr>
        <p:spPr>
          <a:xfrm>
            <a:off x="533520" y="1758600"/>
            <a:ext cx="8200800" cy="478656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Накануне экзамен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 вечера совершите прогулку, перед сном примите душ. Выспитесь как можно лучше, чтобы встать с ощущением "боевого" настро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лицей Вы должны явиться, не опаздывая, лучше за 15-20 минут до начала экзамен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бирайте нужные вам вещи накануне, обязательно положите карандаш, ручку, линейки и т.п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Группа 2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5" name="TextBox 3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Рисунок 4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1"/>
          <p:cNvSpPr/>
          <p:nvPr/>
        </p:nvSpPr>
        <p:spPr>
          <a:xfrm>
            <a:off x="304920" y="1769760"/>
            <a:ext cx="8410320" cy="47865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еред началом экзаме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начале Вам сообщат необходимую информацию (как заполнять бланк, как подписать черновик какими буквами писать и т.д.)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дьте внимательны!!! От того, как Вы запомните все эти правила, зависит правильность Ваших ответов!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блюдайте все правила, не вступайте в спор с  преподавателем, оденьтесь  подобающ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89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"/>
          <p:cNvSpPr/>
          <p:nvPr/>
        </p:nvSpPr>
        <p:spPr>
          <a:xfrm>
            <a:off x="304920" y="1045800"/>
            <a:ext cx="8267760" cy="6066360"/>
          </a:xfrm>
          <a:prstGeom prst="rect">
            <a:avLst/>
          </a:prstGeom>
          <a:solidFill>
            <a:srgbClr val="ffe3b9">
              <a:alpha val="16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о время экзамен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бегите глазами все задания, чтобы увидеть, какого типа задачи в нем содержатс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нимательно прочитайте вопрос до конца, чтобы правильно понять его смысл. Если не знаете ответа на вопрос или не уверены, пропустите его, чтобы потом к нему вернуться. Начните с легкого!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Научитесь пропускать трудные или непонятные задания. Помните: в тексте всегда найдутся вопросы, с которыми Вы обязательно справитесь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Группа 3"/>
          <p:cNvGrpSpPr/>
          <p:nvPr/>
        </p:nvGrpSpPr>
        <p:grpSpPr>
          <a:xfrm>
            <a:off x="1905120" y="152280"/>
            <a:ext cx="6643440" cy="1334160"/>
            <a:chOff x="1905120" y="152280"/>
            <a:chExt cx="6643440" cy="1334160"/>
          </a:xfrm>
        </p:grpSpPr>
        <p:sp>
          <p:nvSpPr>
            <p:cNvPr id="593" name="TextBox 4"/>
            <p:cNvSpPr/>
            <p:nvPr/>
          </p:nvSpPr>
          <p:spPr>
            <a:xfrm>
              <a:off x="1905120" y="295200"/>
              <a:ext cx="564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48480" y="15228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"/>
          <p:cNvSpPr/>
          <p:nvPr/>
        </p:nvSpPr>
        <p:spPr>
          <a:xfrm>
            <a:off x="304920" y="1645560"/>
            <a:ext cx="8339040" cy="521460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умайте только о текущем задании! Когда Вы делаете новое задание, забудьте все, что было в предыдущем. Помните, задания в билетах не связаны друг с другом, поэтому знания, которые Вы применили в одном, решенном Вами, как правило, не помогают, а только мешают сконцентрироваться и правильно решить новое зада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Метод исключения позволяет в итоге сконцентрировать внимание всего на одном-двух вариантах, а не на всех пяти-семи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3"/>
          <p:cNvGrpSpPr/>
          <p:nvPr/>
        </p:nvGrpSpPr>
        <p:grpSpPr>
          <a:xfrm>
            <a:off x="1857240" y="285840"/>
            <a:ext cx="6643800" cy="1333800"/>
            <a:chOff x="1857240" y="285840"/>
            <a:chExt cx="6643800" cy="1333800"/>
          </a:xfrm>
        </p:grpSpPr>
        <p:sp>
          <p:nvSpPr>
            <p:cNvPr id="597" name="TextBox 4"/>
            <p:cNvSpPr/>
            <p:nvPr/>
          </p:nvSpPr>
          <p:spPr>
            <a:xfrm>
              <a:off x="1857240" y="42840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00960" y="2858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285920" y="2652840"/>
            <a:ext cx="7358040" cy="22269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ставьте время для проверки своей работы, чтобы успеть пробежать глазами и заметить явные ошибк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сли не уверены в выборе ответа, доверьтесь интуиции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Группа 3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601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2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Прямоугольник 2"/>
          <p:cNvSpPr/>
          <p:nvPr/>
        </p:nvSpPr>
        <p:spPr>
          <a:xfrm>
            <a:off x="938520" y="45720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609480" y="1069560"/>
            <a:ext cx="8177400" cy="1191240"/>
          </a:xfrm>
          <a:prstGeom prst="rect">
            <a:avLst/>
          </a:prstGeom>
          <a:solidFill>
            <a:srgbClr val="ffe3b9">
              <a:alpha val="3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жедневно выполняй упражнения, способствующие снятию напряжения, усталости, достижению расслабления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571680" y="2306520"/>
            <a:ext cx="8267400" cy="481680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Что делать, если устали глаза?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период подготовки к экзаменам увеличивается нагрузка на глаза. Если устали глаза, значит, устал и организм: ему может не хватить сил для выполнения экзаменационного задания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ыполните два любых  упражнения: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смотрите попеременно вверх-вниз (25 секунд), влево - вправо (15 секунд); - напишите глазами свое имя, отчество, фамилию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попеременно фиксируйте взгляд на удаленном предмете (20 секунд), потом на листе бумаги перед собой (20 секунд);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нарисуйте квадрат, треугольник – сначала по часовой стрелке, потом в противоположную сторону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8" descr="C:\Documents and Settings\Алена\Local Settings\Temporary Internet Files\Content.IE5\3LUZQUFV\MCHM00380_0000[1].wmf"/>
          <p:cNvPicPr/>
          <p:nvPr/>
        </p:nvPicPr>
        <p:blipFill>
          <a:blip r:embed="rId1"/>
          <a:stretch/>
        </p:blipFill>
        <p:spPr>
          <a:xfrm rot="21424800">
            <a:off x="7667640" y="1957320"/>
            <a:ext cx="1143000" cy="9781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C:\Documents and Settings\Алена\Local Settings\Temporary Internet Files\Content.IE5\3LUZQUFV\MCHM00380_0000[1].wmf"/>
          <p:cNvPicPr/>
          <p:nvPr/>
        </p:nvPicPr>
        <p:blipFill>
          <a:blip r:embed="rId2"/>
          <a:stretch/>
        </p:blipFill>
        <p:spPr>
          <a:xfrm rot="286800">
            <a:off x="6396120" y="1974600"/>
            <a:ext cx="1143000" cy="97776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11" descr="10.gif"/>
          <p:cNvPicPr/>
          <p:nvPr/>
        </p:nvPicPr>
        <p:blipFill>
          <a:blip r:embed="rId3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285840" y="1297800"/>
            <a:ext cx="8572320" cy="265428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Режим дня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азделите день на три части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отовьтесь к экзаменам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нимайтесь спортом, гуляйте на свежем воздухе, сходите на дискотеку, потанцуйте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- Спите не менее 8 часов, если есть желание и потребность, сделайте себе тихий час после обеда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85840" y="4149720"/>
            <a:ext cx="8643960" cy="1557000"/>
          </a:xfrm>
          <a:prstGeom prst="rect">
            <a:avLst/>
          </a:prstGeom>
          <a:solidFill>
            <a:srgbClr val="ffe3b9">
              <a:alpha val="1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гимнастических упражнениях предпочтение следует отдавать кувырку, свече, стойке на голове, так как усиливается приток крови к клеткам мозг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Минимум телевизионных передач! И компьютера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2"/>
          <p:cNvSpPr/>
          <p:nvPr/>
        </p:nvSpPr>
        <p:spPr>
          <a:xfrm>
            <a:off x="1037880" y="42876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Рисунок 7" descr="10.gif"/>
          <p:cNvPicPr/>
          <p:nvPr/>
        </p:nvPicPr>
        <p:blipFill>
          <a:blip r:embed="rId1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" descr="j0299763"/>
          <p:cNvPicPr/>
          <p:nvPr/>
        </p:nvPicPr>
        <p:blipFill>
          <a:blip r:embed="rId2"/>
          <a:stretch/>
        </p:blipFill>
        <p:spPr>
          <a:xfrm>
            <a:off x="4000680" y="1643040"/>
            <a:ext cx="885600" cy="787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7" descr="C:\Documents and Settings\Алена\Local Settings\Temporary Internet Files\Content.IE5\3LUZQUFV\MCj01990600000[1].wmf"/>
          <p:cNvPicPr/>
          <p:nvPr/>
        </p:nvPicPr>
        <p:blipFill>
          <a:blip r:embed="rId3"/>
          <a:stretch/>
        </p:blipFill>
        <p:spPr>
          <a:xfrm>
            <a:off x="7143840" y="4956120"/>
            <a:ext cx="12049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685800" y="1635840"/>
            <a:ext cx="7601040" cy="35067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  <a:ea typeface="Times New Roman"/>
              </a:rPr>
              <a:t>Питани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итание должно быть 3-4-разовым, калорийным и богатым витаминам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Употребляй в пищу грецкие орехи, молочные продукты, рыбу, мясо, овощи, фрукты, шоколад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ще один совет: перед экзаменами не следует наедаться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Прямоугольник 2"/>
          <p:cNvSpPr/>
          <p:nvPr/>
        </p:nvSpPr>
        <p:spPr>
          <a:xfrm>
            <a:off x="823320" y="50004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подготовиться физичес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Рисунок 6" descr="anim031.gif"/>
          <p:cNvPicPr/>
          <p:nvPr/>
        </p:nvPicPr>
        <p:blipFill>
          <a:blip r:embed="rId1"/>
          <a:stretch/>
        </p:blipFill>
        <p:spPr>
          <a:xfrm>
            <a:off x="7143840" y="5500800"/>
            <a:ext cx="1571400" cy="10969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9" descr="f3.gif"/>
          <p:cNvPicPr/>
          <p:nvPr/>
        </p:nvPicPr>
        <p:blipFill>
          <a:blip r:embed="rId2"/>
          <a:stretch/>
        </p:blipFill>
        <p:spPr>
          <a:xfrm>
            <a:off x="785880" y="5643720"/>
            <a:ext cx="1670040" cy="121428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1" descr="milk.gif"/>
          <p:cNvPicPr/>
          <p:nvPr/>
        </p:nvPicPr>
        <p:blipFill>
          <a:blip r:embed="rId3"/>
          <a:stretch/>
        </p:blipFill>
        <p:spPr>
          <a:xfrm>
            <a:off x="7643880" y="765000"/>
            <a:ext cx="121428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380880" y="761760"/>
            <a:ext cx="8406000" cy="6677640"/>
          </a:xfrm>
          <a:prstGeom prst="rect">
            <a:avLst/>
          </a:prstGeom>
          <a:solidFill>
            <a:srgbClr val="ffe3b9">
              <a:alpha val="3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Если не повторить в течение 1 часа, то забывается 60%, а если в течение суток – 80%. Через 3 дня забывается почти вс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Трудность растет непропорционально объему. Большой отрывок учить полезнее, чем короткое изрече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При одинаковой работе количество запоминаемого тем больше, чем выше степень понимания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Распределенное заучивание лучше концентрированного. Лучше учить с перерывами, чем подряд, лучше понемногу, чем сразу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Эффективнее больше времени тратить на повторение по памяти, чем на простое многократное чтение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Если работаешь с двумя материалами – большим и поменьше, разумно начинать с большего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Прямоугольник 2"/>
          <p:cNvSpPr/>
          <p:nvPr/>
        </p:nvSpPr>
        <p:spPr>
          <a:xfrm>
            <a:off x="1219320" y="380880"/>
            <a:ext cx="62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которые закономерности запоминани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Рисунок 3" descr="10.gif"/>
          <p:cNvPicPr/>
          <p:nvPr/>
        </p:nvPicPr>
        <p:blipFill>
          <a:blip r:embed="rId1"/>
          <a:stretch/>
        </p:blipFill>
        <p:spPr>
          <a:xfrm>
            <a:off x="7715160" y="64296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932000" y="2637000"/>
            <a:ext cx="36003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826920" y="436572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533520" y="2143080"/>
            <a:ext cx="8110440" cy="3934440"/>
          </a:xfrm>
          <a:prstGeom prst="rect">
            <a:avLst/>
          </a:prstGeom>
          <a:solidFill>
            <a:srgbClr val="ffe3b9">
              <a:alpha val="26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знания учебного предмет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знакомства с процедурой проведения экзамен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стратегии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26920" indent="-514080">
              <a:lnSpc>
                <a:spcPct val="100000"/>
              </a:lnSpc>
              <a:buClr>
                <a:srgbClr val="000000"/>
              </a:buClr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 уровня тревог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1285920" y="57168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От чего зависит успех на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экзамене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Рисунок 14" descr="10.gif"/>
          <p:cNvPicPr/>
          <p:nvPr/>
        </p:nvPicPr>
        <p:blipFill>
          <a:blip r:embed="rId1"/>
          <a:stretch/>
        </p:blipFill>
        <p:spPr>
          <a:xfrm>
            <a:off x="7786800" y="50004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4" name="Прямоугольник 3"/>
          <p:cNvSpPr/>
          <p:nvPr/>
        </p:nvSpPr>
        <p:spPr>
          <a:xfrm>
            <a:off x="500040" y="1857240"/>
            <a:ext cx="6357960" cy="3993480"/>
          </a:xfrm>
          <a:prstGeom prst="rect">
            <a:avLst/>
          </a:prstGeom>
          <a:solidFill>
            <a:srgbClr val="ffe3b9">
              <a:alpha val="2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овышенный уровень тревоги на экзамене может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иводить к дезорганизации деятельности, снижению концентрации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нимания и работоспособности 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"/>
          <p:cNvPicPr/>
          <p:nvPr/>
        </p:nvPicPr>
        <p:blipFill>
          <a:blip r:embed="rId1"/>
          <a:stretch/>
        </p:blipFill>
        <p:spPr>
          <a:xfrm>
            <a:off x="6429240" y="3214800"/>
            <a:ext cx="2381400" cy="3390840"/>
          </a:xfrm>
          <a:prstGeom prst="rect">
            <a:avLst/>
          </a:prstGeom>
          <a:ln w="9360">
            <a:solidFill>
              <a:srgbClr val="491a03"/>
            </a:solidFill>
            <a:miter/>
          </a:ln>
        </p:spPr>
      </p:pic>
      <p:pic>
        <p:nvPicPr>
          <p:cNvPr id="626" name="Рисунок 5" descr="10.gif"/>
          <p:cNvPicPr/>
          <p:nvPr/>
        </p:nvPicPr>
        <p:blipFill>
          <a:blip r:embed="rId2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6"/>
          <p:cNvSpPr/>
          <p:nvPr/>
        </p:nvSpPr>
        <p:spPr>
          <a:xfrm>
            <a:off x="214200" y="928800"/>
            <a:ext cx="87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умайте об экзамене, который вызывает у чувство тревоги или страха. Затем в течение 3-х минут примите сначала признаки неуверенного человека и скажите слова, выученный текст, формулы, стихи, которые вы должны отвечать. Затем примите признаки уверенности и 5 минут побудьте в этом состоянии. Произнесите выученный текст, формулы, доказательства, которые вы должны отвечать. Запомните это состояние и поймите разницу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1523880" y="22860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 избавления от страха общения с экзаменатор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Схема 8" descr=""/>
          <p:cNvPicPr/>
          <p:nvPr/>
        </p:nvPicPr>
        <p:blipFill>
          <a:blip r:embed="rId1"/>
          <a:stretch/>
        </p:blipFill>
        <p:spPr>
          <a:xfrm>
            <a:off x="622440" y="2981160"/>
            <a:ext cx="8283600" cy="38703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"/>
          <p:cNvSpPr/>
          <p:nvPr/>
        </p:nvSpPr>
        <p:spPr>
          <a:xfrm>
            <a:off x="3857760" y="5143680"/>
            <a:ext cx="1571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685800" y="1908720"/>
            <a:ext cx="7010280" cy="399348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сли вдруг возникает страх перед предметом, надо резко встать, отвернутся от стола,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делать несколько медленных, глубоких вдохов и выдохов и только затем опять приступить к делу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56840" y="71388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33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C:\Documents and Settings\Алена\Local Settings\Temporary Internet Files\Content.IE5\11PFLLNJ\MCj04352210000[1].wmf"/>
          <p:cNvPicPr/>
          <p:nvPr/>
        </p:nvPicPr>
        <p:blipFill>
          <a:blip r:embed="rId2"/>
          <a:stretch/>
        </p:blipFill>
        <p:spPr>
          <a:xfrm>
            <a:off x="7286760" y="4071960"/>
            <a:ext cx="1598400" cy="25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Прямоугольник 3"/>
          <p:cNvSpPr/>
          <p:nvPr/>
        </p:nvSpPr>
        <p:spPr>
          <a:xfrm>
            <a:off x="228600" y="1204920"/>
            <a:ext cx="8610480" cy="64929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ротивострессовое дыхание. Медленно выполняйте глубокий вдох через нос. На пике вдоха на мгновение задержите дыхание, после чего сделайте выдох как можно медленне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старайтесь представить себе, что с каждым глубоким вдохом и продолжительным выдохом вы частично избавляетесь от стрессового напряж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Минутная релаксация. Расслабьте уголки рта, увлажните губы. Расслабьте плечи. Сосредоточьтесь на выражении своего лица и положении тела: помните, что они отражают ваши эмоции, мысли, внутреннее состояни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37" name="Рисунок 3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оугольник 3"/>
          <p:cNvSpPr/>
          <p:nvPr/>
        </p:nvSpPr>
        <p:spPr>
          <a:xfrm>
            <a:off x="609480" y="1295280"/>
            <a:ext cx="8229600" cy="478656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3. Оглянитесь вокруг и внимательно осмотрите помещение, в котором вы находитесь. Медленно, не торопясь, мысленно переберите все предметы, один за другим в определенной последовательности. Говорите мысленно самому себе: «коричневый письменный стол, белые занавески, красная ваза для цветов» и т.д. Сосредоточившись на каждом отдельном предмете, вы отвлечетесь от напряж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356840" y="4284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к убрать сильное волнение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pic>
        <p:nvPicPr>
          <p:cNvPr id="640" name="Рисунок 5" descr="10.gif"/>
          <p:cNvPicPr/>
          <p:nvPr/>
        </p:nvPicPr>
        <p:blipFill>
          <a:blip r:embed="rId1"/>
          <a:stretch/>
        </p:blipFill>
        <p:spPr>
          <a:xfrm>
            <a:off x="7715160" y="714240"/>
            <a:ext cx="1000080" cy="6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71760" y="4284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43a"/>
                </a:solidFill>
                <a:latin typeface="Monotype Corsiva"/>
              </a:rPr>
              <a:t>Примеры релаксационных упражнений</a:t>
            </a:r>
            <a:endParaRPr b="0" lang="en-US" sz="3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228600" y="1357200"/>
            <a:ext cx="8558280" cy="5286600"/>
          </a:xfrm>
          <a:prstGeom prst="rect">
            <a:avLst/>
          </a:prstGeom>
          <a:solidFill>
            <a:srgbClr val="ffe3b9">
              <a:alpha val="19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a343a"/>
                </a:solidFill>
                <a:latin typeface="Monotype Corsiva"/>
              </a:rPr>
              <a:t>Путешествие в прошло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343a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1a343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тот период времени, когда вы были совершенны спокойны, расслаблены, ощущали гармонию с самим собой и окружающим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все в мельчайших подробностях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пример, речь может идти о путешествии на море, о походе в горы, об экскурси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спомните ваши ощущения относительно всех каналов восприятия информации: визуальный (что вы видите), аудиальный (какие звуки вам вспоминаются), кинестетический (что вы ощущаете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ждый раз при вспоминании у вас возникают соответствующие ощущения. Скажите себе: этот образ вызывает во мне состояние умиротворения, спокойствия, расслабл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хника расслабления мышц</a:t>
            </a: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уть метода - последовательное расслабление всех мышц тела от пальцев ног до макушки. Представляйте себе, как при расслаблении из вашего тела постепенно уходит напряжени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кройте глаза. Думайте о том, что все мышцы вашего тела расслабляютс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жмите кисти рук в кулаки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жмите руки в локтевых суставах до полного напряжения - выпрямите руки и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тяните руки вдоль тела и расслабьте и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ведите лопатки - расслабьте и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хмурьте брови - расслабьте мышцы лиц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репко зажмурьтесь - расслабьте век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лотно сожмите губы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тведите голову назад - наклоните голову вперед - расслабьте шею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ните спину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тяните живот, напрягите его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прягите ягодичные мышцы - расслабьтесь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гните ноги в коленях - расслабьт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5c2305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дожмите пальцы ног – расслабьтесь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13"/>
          <p:cNvSpPr/>
          <p:nvPr/>
        </p:nvSpPr>
        <p:spPr>
          <a:xfrm>
            <a:off x="714240" y="642960"/>
            <a:ext cx="7929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Прямоугольник 20"/>
          <p:cNvSpPr/>
          <p:nvPr/>
        </p:nvSpPr>
        <p:spPr>
          <a:xfrm>
            <a:off x="285840" y="428760"/>
            <a:ext cx="8858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2000160" y="5716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52280" y="1553760"/>
            <a:ext cx="5634000" cy="393444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есто: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Уберите со стола лишние вещи, удобно расположи те нужные учебники, тетради,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арандаши и т.п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"/>
          <p:cNvPicPr/>
          <p:nvPr/>
        </p:nvPicPr>
        <p:blipFill>
          <a:blip r:embed="rId1"/>
          <a:stretch/>
        </p:blipFill>
        <p:spPr>
          <a:xfrm>
            <a:off x="5000760" y="4071960"/>
            <a:ext cx="3857400" cy="257184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26770" dir="189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9" name="Рисунок 6" descr="10.gif"/>
          <p:cNvPicPr/>
          <p:nvPr/>
        </p:nvPicPr>
        <p:blipFill>
          <a:blip r:embed="rId2"/>
          <a:stretch/>
        </p:blipFill>
        <p:spPr>
          <a:xfrm>
            <a:off x="7715160" y="50004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457200" y="3180240"/>
            <a:ext cx="5357880" cy="3018600"/>
          </a:xfrm>
          <a:prstGeom prst="rect">
            <a:avLst/>
          </a:prstGeom>
          <a:solidFill>
            <a:srgbClr val="ffe3b9">
              <a:alpha val="48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ведите в интерьер комнаты желтый и фиолетовый цвета (они повышают интеллектуальную активность)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1643040" y="714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Рисунок 7" descr="bloema14.gif"/>
          <p:cNvPicPr/>
          <p:nvPr/>
        </p:nvPicPr>
        <p:blipFill>
          <a:blip r:embed="rId1"/>
          <a:stretch/>
        </p:blipFill>
        <p:spPr>
          <a:xfrm>
            <a:off x="714240" y="1214280"/>
            <a:ext cx="1505160" cy="1737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2"/>
          <a:srcRect l="16571" t="7275" r="13905" b="7843"/>
          <a:stretch/>
        </p:blipFill>
        <p:spPr>
          <a:xfrm>
            <a:off x="6500880" y="1428840"/>
            <a:ext cx="1857240" cy="3024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3"/>
          <a:stretch/>
        </p:blipFill>
        <p:spPr>
          <a:xfrm>
            <a:off x="5929200" y="4572000"/>
            <a:ext cx="2786040" cy="19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"/>
          <p:cNvSpPr/>
          <p:nvPr/>
        </p:nvSpPr>
        <p:spPr>
          <a:xfrm>
            <a:off x="380880" y="1779480"/>
            <a:ext cx="7548840" cy="5213160"/>
          </a:xfrm>
          <a:prstGeom prst="rect">
            <a:avLst/>
          </a:prstGeom>
          <a:solidFill>
            <a:srgbClr val="ffe3b9">
              <a:alpha val="21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авьте план занятий. Определите, кто вы - "сова" или "жаворонок", и в зависимости от этого максимально используйте утренние или вечерние часы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оставляя план на каждый день подготовки, необходимо четко определить, что именно сегодня будет изучаться. Не вообще: "немного позанимаюсь", а какие именно разделы и темы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Рисунок 2" descr="348.gif"/>
          <p:cNvPicPr/>
          <p:nvPr/>
        </p:nvPicPr>
        <p:blipFill>
          <a:blip r:embed="rId1"/>
          <a:stretch/>
        </p:blipFill>
        <p:spPr>
          <a:xfrm>
            <a:off x="7786800" y="5286240"/>
            <a:ext cx="933480" cy="117972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3" descr="ani-bird_blue.gif"/>
          <p:cNvPicPr/>
          <p:nvPr/>
        </p:nvPicPr>
        <p:blipFill>
          <a:blip r:embed="rId2"/>
          <a:stretch/>
        </p:blipFill>
        <p:spPr>
          <a:xfrm>
            <a:off x="214200" y="642960"/>
            <a:ext cx="1435320" cy="11476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1714680" y="64296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Рисунок 5" descr="10.gif"/>
          <p:cNvPicPr/>
          <p:nvPr/>
        </p:nvPicPr>
        <p:blipFill>
          <a:blip r:embed="rId3"/>
          <a:stretch/>
        </p:blipFill>
        <p:spPr>
          <a:xfrm>
            <a:off x="7572240" y="571680"/>
            <a:ext cx="100044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2"/>
          <p:cNvSpPr/>
          <p:nvPr/>
        </p:nvSpPr>
        <p:spPr>
          <a:xfrm>
            <a:off x="533520" y="2357280"/>
            <a:ext cx="7610400" cy="3506760"/>
          </a:xfrm>
          <a:prstGeom prst="rect">
            <a:avLst/>
          </a:prstGeom>
          <a:solidFill>
            <a:srgbClr val="ffe3b9">
              <a:alpha val="2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дачная альтернатива - техника подготовки "3-4-5". Время до экзамена (год, месяц, неделя) делится на три равные части. В первые, скажем, 10 дней надо пройти все темы на троечку, во вторые 10 дней - на четвёрку, а в оставшиеся - отшлифовать и убрать ошибк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1643040" y="71424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Рисунок 3" descr="10.gif"/>
          <p:cNvPicPr/>
          <p:nvPr/>
        </p:nvPicPr>
        <p:blipFill>
          <a:blip r:embed="rId1"/>
          <a:stretch/>
        </p:blipFill>
        <p:spPr>
          <a:xfrm>
            <a:off x="7786800" y="42876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2"/>
          <p:cNvSpPr/>
          <p:nvPr/>
        </p:nvSpPr>
        <p:spPr>
          <a:xfrm>
            <a:off x="609480" y="2428920"/>
            <a:ext cx="7248600" cy="3291840"/>
          </a:xfrm>
          <a:prstGeom prst="rect">
            <a:avLst/>
          </a:prstGeom>
          <a:solidFill>
            <a:srgbClr val="ffe3b9">
              <a:alpha val="12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Monotype Corsiva"/>
              </a:rPr>
              <a:t>Начните с самого трудного раздела, с того материала, который знаете хуже всего. Но если Вам трудно "раскачаться", можно начать с того материала, который наиболее всего интересен и приятен.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3200400" y="91440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4" descr=""/>
          <p:cNvPicPr/>
          <p:nvPr/>
        </p:nvPicPr>
        <p:blipFill>
          <a:blip r:embed="rId1"/>
          <a:stretch/>
        </p:blipFill>
        <p:spPr>
          <a:xfrm>
            <a:off x="5929200" y="4906800"/>
            <a:ext cx="2928960" cy="195120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</p:pic>
      <p:pic>
        <p:nvPicPr>
          <p:cNvPr id="566" name="Picture 5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2928960" cy="1955880"/>
          </a:xfrm>
          <a:prstGeom prst="rect">
            <a:avLst/>
          </a:prstGeom>
          <a:ln w="9360">
            <a:solidFill>
              <a:srgbClr val="491a03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7" name="Рисунок 6" descr="10.gif"/>
          <p:cNvPicPr/>
          <p:nvPr/>
        </p:nvPicPr>
        <p:blipFill>
          <a:blip r:embed="rId3"/>
          <a:stretch/>
        </p:blipFill>
        <p:spPr>
          <a:xfrm>
            <a:off x="7858080" y="357120"/>
            <a:ext cx="10000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914400" y="2448360"/>
            <a:ext cx="7372440" cy="3018600"/>
          </a:xfrm>
          <a:prstGeom prst="rect">
            <a:avLst/>
          </a:prstGeom>
          <a:solidFill>
            <a:srgbClr val="ffe3b9">
              <a:alpha val="10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ередуйте занятия и отдых: 40 минут занятий, затем 10 минут – перерыв. Во время перерыва можно помыть посуду, полить цветы, сделать зарядку, принять душ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2071800" y="57168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атегия подготовки к экзамену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Рисунок 6" descr="10.gif"/>
          <p:cNvPicPr/>
          <p:nvPr/>
        </p:nvPicPr>
        <p:blipFill>
          <a:blip r:embed="rId1"/>
          <a:stretch/>
        </p:blipFill>
        <p:spPr>
          <a:xfrm>
            <a:off x="7572240" y="971640"/>
            <a:ext cx="1000440" cy="6015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11.gif"/>
          <p:cNvPicPr/>
          <p:nvPr/>
        </p:nvPicPr>
        <p:blipFill>
          <a:blip r:embed="rId2"/>
          <a:stretch/>
        </p:blipFill>
        <p:spPr>
          <a:xfrm>
            <a:off x="7715160" y="5357880"/>
            <a:ext cx="857520" cy="83196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dart10.gif"/>
          <p:cNvPicPr/>
          <p:nvPr/>
        </p:nvPicPr>
        <p:blipFill>
          <a:blip r:embed="rId3"/>
          <a:stretch/>
        </p:blipFill>
        <p:spPr>
          <a:xfrm>
            <a:off x="500040" y="857160"/>
            <a:ext cx="158292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1600200" y="2883960"/>
            <a:ext cx="5657760" cy="3018600"/>
          </a:xfrm>
          <a:prstGeom prst="rect">
            <a:avLst/>
          </a:prstGeom>
          <a:solidFill>
            <a:srgbClr val="ffe3b9">
              <a:alpha val="14000"/>
            </a:srgbClr>
          </a:solidFill>
          <a:ln w="9360">
            <a:solidFill>
              <a:srgbClr val="491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отовясь к экзаменам, мысленно рисуйте себе картину триумфа. Никогда не думай о том, что не справишься с заданием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Группа 8"/>
          <p:cNvGrpSpPr/>
          <p:nvPr/>
        </p:nvGrpSpPr>
        <p:grpSpPr>
          <a:xfrm>
            <a:off x="1928880" y="500040"/>
            <a:ext cx="6643800" cy="1334160"/>
            <a:chOff x="1928880" y="500040"/>
            <a:chExt cx="6643800" cy="1334160"/>
          </a:xfrm>
        </p:grpSpPr>
        <p:sp>
          <p:nvSpPr>
            <p:cNvPr id="575" name="TextBox 4"/>
            <p:cNvSpPr/>
            <p:nvPr/>
          </p:nvSpPr>
          <p:spPr>
            <a:xfrm>
              <a:off x="1928880" y="642960"/>
              <a:ext cx="564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Monotype Corsiva"/>
                </a:rPr>
                <a:t>Стратегия подготовки к экзамену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Рисунок 5" descr="10.gif"/>
            <p:cNvPicPr/>
            <p:nvPr/>
          </p:nvPicPr>
          <p:blipFill>
            <a:blip r:embed="rId1"/>
            <a:stretch/>
          </p:blipFill>
          <p:spPr>
            <a:xfrm>
              <a:off x="7572600" y="500040"/>
              <a:ext cx="1000080" cy="60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7" name="Рисунок 6" descr="CALVIN2.gif"/>
          <p:cNvPicPr/>
          <p:nvPr/>
        </p:nvPicPr>
        <p:blipFill>
          <a:blip r:embed="rId2"/>
          <a:stretch/>
        </p:blipFill>
        <p:spPr>
          <a:xfrm>
            <a:off x="7215120" y="4286160"/>
            <a:ext cx="1714680" cy="2255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" descr="C:\Documents and Settings\Алена\Local Settings\Temporary Internet Files\Content.IE5\R9S2KF7R\MCj02504070000[1].wmf"/>
          <p:cNvPicPr/>
          <p:nvPr/>
        </p:nvPicPr>
        <p:blipFill>
          <a:blip r:embed="rId3"/>
          <a:stretch/>
        </p:blipFill>
        <p:spPr>
          <a:xfrm>
            <a:off x="285840" y="285840"/>
            <a:ext cx="2158920" cy="26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24:08Z</dcterms:created>
  <dc:creator>Фомичева Л.Ф.</dc:creator>
  <dc:description/>
  <dc:language>en-US</dc:language>
  <cp:lastModifiedBy>Коля</cp:lastModifiedBy>
  <cp:lastPrinted>1996-03-19T21:02:48Z</cp:lastPrinted>
  <dcterms:modified xsi:type="dcterms:W3CDTF">2013-04-18T11:22:57Z</dcterms:modified>
  <cp:revision>187</cp:revision>
  <dc:subject/>
  <dc:title>Добро пожаловать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871049</vt:lpwstr>
  </property>
</Properties>
</file>