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16.wmf" ContentType="image/x-wmf"/>
  <Override PartName="/ppt/media/image4.png" ContentType="image/png"/>
  <Override PartName="/ppt/media/image7.png" ContentType="image/png"/>
  <Override PartName="/ppt/media/image15.wmf" ContentType="image/x-wmf"/>
  <Override PartName="/ppt/media/image26.png" ContentType="image/png"/>
  <Override PartName="/ppt/media/image24.wmf" ContentType="image/x-wmf"/>
  <Override PartName="/ppt/media/image22.png" ContentType="image/png"/>
  <Override PartName="/ppt/media/image23.png" ContentType="image/png"/>
  <Override PartName="/ppt/media/image20.gif" ContentType="image/gif"/>
  <Override PartName="/ppt/media/image18.wmf" ContentType="image/x-wmf"/>
  <Override PartName="/ppt/media/image21.gif" ContentType="image/gif"/>
  <Override PartName="/ppt/media/image19.gif" ContentType="image/gif"/>
  <Override PartName="/ppt/media/image1.png" ContentType="image/png"/>
  <Override PartName="/ppt/media/image17.wmf" ContentType="image/x-wmf"/>
  <Override PartName="/ppt/media/image14.gif" ContentType="image/gif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010E-48CA-4CFA-A372-5EEF4B6E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4127-0552-4862-8DCB-8CAC22E3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4ACE8-3995-4FBD-B4CD-DA5ED649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5F3AB-D38A-4AD4-BB8E-25EBAEC6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78A47-648C-4ACE-AFBE-49ED62B0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20212-CA7D-4B5A-B9E8-806AEA2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477F0-5631-4366-B538-C693BDC2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86670-8CE8-42F6-92FF-E5162CB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969AC-7FE7-417E-AB23-4C133EA7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00785-FCB3-44D4-8DDB-A6FDE561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BAE99-CE19-425D-9F78-A5848546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16F86-AC76-4361-8D73-270F779F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8969-8FD2-493E-91A3-817122B3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DC397-F826-4397-B039-C0988850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9324E-0207-4A56-8A25-BEB1CCC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E273F-28BF-4144-B8E8-DA1A557E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DF982-CEB7-430D-982D-10B5F3C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955CE-7D5B-42D6-96D6-CEF1AE1C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15FCE-BFE3-4287-B504-1D22523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05C5A-5097-4775-A5A7-EF2A671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1AC62-5496-41A1-A9AF-330EAA4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4ADA7-97AE-408C-AD24-81F69F7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B0AC1-AD4B-43E9-A152-9D3865DC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B29B-3160-4D3E-97BE-0E869470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5FFB7-64D3-4859-874C-80B5E4D6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082ACE-2BE6-4D91-B107-656415CD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E262EE-6FB9-4C8E-B4A4-930100A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A828C2-76B4-431C-AE0D-519487A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8A0701-28F3-47A4-A0A4-0DA9C96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5BEEC5-26CE-4A57-8ADD-D718CEBA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59F07E-16DF-443D-977E-C634D140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8F5FA3-91D0-43E2-9619-19D8866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41ADAB-CA9B-4941-B02F-0789ABE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A66842-3DB4-4796-9BB0-387E6A7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3044E-AEF5-4BFF-9516-C23561E7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412BF2-03A0-4CEC-8233-C304ABA2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2A9053-3C69-4F2C-921C-C3DB2161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F7E31B-8718-427C-A59C-9BE006DB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369E2-A790-4B35-83FB-DE72F4BB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0E907-1295-4595-96F9-079D3F9F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4189B-1F70-4056-9ABB-3D8C9D1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55BDC-BAF2-4D2C-AC04-9C013D3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7ADCF-FF2C-4568-881C-0352B8BA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52D8F-360C-4F68-AEAA-E4CA0234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B6C34-10D6-4FF4-AE80-2F5939FB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DEEEC-4696-44EB-8AC2-1018222A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0489C-0532-46F4-A308-6643D93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CC014-C6DC-4146-B175-E9A357E6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B16E9-851B-4AF6-8B4C-421BB08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C8FD3-988B-42EC-B027-2C77A927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BAC68-DB7F-4583-A5EA-DBA0B1EC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FE65A3-7F17-4B27-875C-6F7CAF4C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D266D8-1C00-46C3-AB4F-039E340C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64B705-EA48-4297-8E41-8C073E58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A9D00F-2AB3-4D6E-A861-907C3050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D3FD47-71E0-4329-9BBD-FE630626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253FF-8D79-4385-94E5-A5B1BDA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E96A5A-A2F5-4726-B0A5-970A85E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C5D364-3B98-4AAE-94A8-5250482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C34A90-C0D9-4629-A06C-E2986F0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62250D-046A-4F78-A825-DE4EE89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030378-9C74-4346-804A-89D8CA8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5DFCBC-CA96-45B0-8344-BFDEA11D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AF0F53-6DE5-4B72-BF76-CEB78BFE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753BB-33AC-4A86-9032-85AF346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1A61-1D43-4F7C-81FC-ACE43B8D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4709C-3AAF-4DC5-B267-5769571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15BDF-2B38-4262-861B-B5AFAD85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22DC-5FE8-4A51-80C6-3339083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286A8-0DE4-4581-8C88-5BAF2EF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EF0B4-4EB0-4FDB-A193-3E16702C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2863E-8E0E-470A-9EE0-05B0913A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EAA3-2094-4BA9-A3F8-8262F3E6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5C506-7804-4AD7-BE0D-272D4E54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7B414-B610-4D2E-833E-7BCE68B5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ED0F5-927A-43BE-B1AE-E99D144B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F92D3-28A0-4D81-9E28-FF6E2EE9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17948-31AF-402F-B8C3-63DAA86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E194D-1609-4C35-9E4D-712A2CB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08F2-4622-419A-B83C-FF7C23E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F483E-6FB2-475D-9346-697F37D0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2EE51-1028-4935-8D42-ADBF0BF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A8107-2274-4143-9CAD-A6D8847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64FAE-8060-4F1A-9207-99AF0EC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441CD-0BD6-4DDE-B7F9-3BDD0F13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CB16D-66E3-4423-8915-49C9C164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C7D4A-C706-40AE-A041-2FE3F53D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35F45-9D7F-4AAA-93C8-5202EFB9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953EB-D733-4E1E-BEB4-39F53E85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BE44B-F2B1-4BEF-9B0B-74F4C4D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D1EB-673D-4357-97FB-6FEC8FD8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93F3A-1D4D-418A-889B-41C0ADA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95FF3-5E94-43BB-AA9F-6FF106A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5F84C-397C-42B3-82B9-32801A9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2B347-D8CC-4EB6-B658-C66A1EB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EF239-11C2-4EB1-8A5E-37FB86C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D5C28-CA63-4232-8B02-CDB1E0F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7E698-38AE-4D3B-9E6C-EEBA9927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C7541-E7E3-46A2-936E-C82C681F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26C15-10FB-4B2C-B798-785451D9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6B32C1-1920-4A29-B713-44331716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2A7A-296B-4359-B150-D04D387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B98E2-8B68-40BC-82FB-9E6679D5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48D56-6FAD-40AF-9E0A-8479FF0E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C0F62-B4B2-402B-B290-1D64CB33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CFCB1C-18A4-4777-9DD0-08C4B0D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071D4-DACF-48F0-B09F-7EAB4C4B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A9E70-65B3-4029-9629-D76E2660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7207F-4284-41E7-8C53-EA82717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0F1CA-B8B1-434A-8FD6-D73A488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4FC510-0793-475C-85B1-FDB0F6AD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9D369-2B85-4A67-9F4D-6F7AAD8A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0858-5F1B-4284-8476-B42F2430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27350-51FA-43B6-B283-304FA394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C4649-8DF9-4D6B-9887-53AB269C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82513-ECE9-4A4D-8B71-EB5A0C72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13D0E-211C-4196-BFAF-5EF98610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625F1E-3FAE-4093-858E-EB5328B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BD4EDE-5BBA-4D89-8CCE-980A8DBE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4B2BCF-C909-4DB2-9766-5D0711F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D61FE-2110-4CF3-AAA2-84C4CBE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D9E79-A0DA-4B64-954F-3C8441E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D09FD-6D18-48FC-A319-3A112E0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99B9-2749-4076-B93B-3723AF66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C846A1-7B88-48E1-B842-CD115470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3C99F-B839-4D10-B817-228AB866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B0473D-F261-4A64-BF6E-33DC8600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924B0B-D9E6-472C-9095-8DA0B86E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5DEACA-ED6E-470F-9384-86115029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F7C1C-25FF-4D2A-A6BF-1A2D5B96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2D955D-EF63-443A-9448-F32D223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238297-2E00-41E4-B7BD-85D51C2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AD9196-FCF7-4B2C-AC55-70DB9271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4D7C64-56D9-4F6A-AD79-E519F41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7605-17B6-4D2B-99DE-3A069BF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61BBD-AD3F-438A-9B4C-236FAF6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3575E-AE7A-4E26-B98A-0F23956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EC7B5B-49AC-480D-BCB1-110DDC7F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E38152-CE25-4221-8971-5398B252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05CFF6-7A76-4E5B-A043-C68A91A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E93A0-3E84-4E0A-9E67-7007D8B2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F85DDD-ACB7-4181-8876-1E3B5892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CFD801-DFD3-4A6E-944B-AF24F80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C9052A-BF7F-4DE0-AF6A-B0660BC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E8BC0-E714-4591-90E6-CE5ADF1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99D8-607F-4A9D-8866-79569E0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9CED0-36E8-4E4F-B254-13512D8A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A9F7B-169D-4447-892A-7DE6F78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2FBA2-531F-478E-BEE8-D5DA49D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8CF73B-7605-48A2-9AF8-2DBF3DC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CB7D2B-2B20-466A-B25B-EDA2870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C9D3A-59ED-47A3-A139-5EDE9A77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3E452-E809-4C81-8FA1-6831358C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914B3-12B9-4F57-8898-C5BE7DD8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3945-376D-478C-8C0D-E267314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AB92F-2C81-4B9B-B6E7-73A7234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3A73-0C04-4854-A91E-01DD50EF989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AABF-CE7A-43FA-82B8-BBA02847711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8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E95E-E280-4F67-9A48-B9BB4DC39ED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30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753-DB5C-40CB-8953-EAD0151EF8F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3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CC3D-FC23-424C-B7E9-C6AA13FC2BB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dt" idx="3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2AC6-FE6C-4233-8E72-36F6DC65104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201-7C2A-44BC-ABD4-FE293F450D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dt" idx="3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496D-DCBD-44A6-BB7F-4D6616A6B508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0BFD-1330-4549-BD03-FF28BEB8F13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dt" idx="3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92D0-0B79-4006-919E-A4C0846D001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17F-97E2-43B9-983D-8FAA70C6C00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588-A753-44BA-A169-85E94A97D6F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4F12-F7D0-4C40-B5B3-1E9464618F5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50D7-7EB7-4C22-A9DD-4CBD51FD548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0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23CE-A76D-4808-93E5-9FC2D735531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2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98D-3EC6-4DE3-A1BB-0AD7A694799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EE8-A9EA-4267-8A42-60035DC0144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dt" idx="15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D98-EC5F-49BF-A7A2-83F20397314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484-2FC5-467B-8A33-40DC26DB9A4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dt" idx="18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562-C366-4ACE-970E-85F251B7E53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9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B29-A9FB-4CCC-BE22-610D54BB322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dt" idx="21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CE1-788B-4A04-A26C-217CE26B1A6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2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736-AE23-44A2-A026-0E7C31A880A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dt" idx="24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D38B-EF4B-4DC8-A54B-D3A72F65957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5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DDA7-5418-4B25-880A-B2C7DB7D305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dt" idx="27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E67-F86F-48CC-BDDD-AEFFE4B68AB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7" descr=""/>
          <p:cNvPicPr/>
          <p:nvPr/>
        </p:nvPicPr>
        <p:blipFill>
          <a:blip r:embed="rId1"/>
          <a:stretch/>
        </p:blipFill>
        <p:spPr>
          <a:xfrm>
            <a:off x="2498760" y="2077920"/>
            <a:ext cx="4719600" cy="18050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8" descr="10.gif"/>
          <p:cNvPicPr/>
          <p:nvPr/>
        </p:nvPicPr>
        <p:blipFill>
          <a:blip r:embed="rId2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2"/>
          <p:cNvSpPr/>
          <p:nvPr/>
        </p:nvSpPr>
        <p:spPr>
          <a:xfrm>
            <a:off x="1600200" y="2438280"/>
            <a:ext cx="6472080" cy="204372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ставьте один день перед экзаменом на то, чтобы еще раз повторить самые трудные вопросы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Группа 4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1" name="TextBox 5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Рисунок 6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"/>
          <p:cNvSpPr/>
          <p:nvPr/>
        </p:nvSpPr>
        <p:spPr>
          <a:xfrm>
            <a:off x="533520" y="1758600"/>
            <a:ext cx="8200800" cy="478656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акануне экзамен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 вечера совершите прогулку, перед сном примите душ. Выспитесь как можно лучше, чтобы встать с ощущением "боевого" настро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лицей Вы должны явиться, не опаздывая, лучше за 15-20 минут до начала экзамен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бирайте нужные вам вещи накануне, обязательно положите карандаш, ручку, линейки и т.п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Группа 2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5" name="TextBox 3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Рисунок 4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304920" y="1769760"/>
            <a:ext cx="8410320" cy="47865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ед началом экзаме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начале Вам сообщат необходимую информацию (как заполнять бланк, как подписать черновик какими буквами писать и т.д.)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дьте внимательны!!! От того, как Вы запомните все эти правила, зависит правильность Ваших ответов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блюдайте все правила, не вступайте в спор с  преподавателем, оденьтесь  подобающ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9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304920" y="1045800"/>
            <a:ext cx="8267760" cy="6066360"/>
          </a:xfrm>
          <a:prstGeom prst="rect">
            <a:avLst/>
          </a:prstGeom>
          <a:solidFill>
            <a:srgbClr val="ffe3b9">
              <a:alpha val="16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о время экзаме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бегите глазами все задания, чтобы увидеть, какого типа задачи в нем содержатс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нимательно прочитайте вопрос до конца, чтобы правильно понять его смысл. Если не знаете ответа на вопрос или не уверены, пропустите его, чтобы потом к нему вернуться. Начните с легкого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учитесь пропускать трудные или непонятные задания. Помните: в тексте всегда найдутся вопросы, с которыми Вы обязательно справитесь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Группа 3"/>
          <p:cNvGrpSpPr/>
          <p:nvPr/>
        </p:nvGrpSpPr>
        <p:grpSpPr>
          <a:xfrm>
            <a:off x="1905120" y="152280"/>
            <a:ext cx="6643440" cy="1334160"/>
            <a:chOff x="1905120" y="152280"/>
            <a:chExt cx="6643440" cy="1334160"/>
          </a:xfrm>
        </p:grpSpPr>
        <p:sp>
          <p:nvSpPr>
            <p:cNvPr id="593" name="TextBox 4"/>
            <p:cNvSpPr/>
            <p:nvPr/>
          </p:nvSpPr>
          <p:spPr>
            <a:xfrm>
              <a:off x="1905120" y="295200"/>
              <a:ext cx="564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48480" y="15228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"/>
          <p:cNvSpPr/>
          <p:nvPr/>
        </p:nvSpPr>
        <p:spPr>
          <a:xfrm>
            <a:off x="304920" y="1645560"/>
            <a:ext cx="8339040" cy="521460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умайте только о текущем задании! Когда Вы делаете новое задание, забудьте все, что было в предыдущем. Помните, задания в билетах не связаны друг с другом, поэтому знания, которые Вы применили в одном, решенном Вами, как правило, не помогают, а только мешают сконцентрироваться и правильно решить новое зада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Метод исключения позволяет в итоге сконцентрировать внимание всего на одном-двух вариантах, а не на всех пяти-сем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3"/>
          <p:cNvGrpSpPr/>
          <p:nvPr/>
        </p:nvGrpSpPr>
        <p:grpSpPr>
          <a:xfrm>
            <a:off x="1857240" y="285840"/>
            <a:ext cx="6643800" cy="1333800"/>
            <a:chOff x="1857240" y="285840"/>
            <a:chExt cx="6643800" cy="1333800"/>
          </a:xfrm>
        </p:grpSpPr>
        <p:sp>
          <p:nvSpPr>
            <p:cNvPr id="597" name="TextBox 4"/>
            <p:cNvSpPr/>
            <p:nvPr/>
          </p:nvSpPr>
          <p:spPr>
            <a:xfrm>
              <a:off x="1857240" y="42840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00960" y="2858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285920" y="2652840"/>
            <a:ext cx="7358040" cy="22269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тавьте время для проверки своей работы, чтобы успеть пробежать глазами и заметить явные ошиб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сли не уверены в выборе ответа, доверьтесь интуици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601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2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рямоугольник 2"/>
          <p:cNvSpPr/>
          <p:nvPr/>
        </p:nvSpPr>
        <p:spPr>
          <a:xfrm>
            <a:off x="938520" y="45720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609480" y="1069560"/>
            <a:ext cx="8177400" cy="1191240"/>
          </a:xfrm>
          <a:prstGeom prst="rect">
            <a:avLst/>
          </a:prstGeom>
          <a:solidFill>
            <a:srgbClr val="ffe3b9">
              <a:alpha val="3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жедневно выполняй упражнения, способствующие снятию напряжения, усталости, достижению расслабления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571680" y="2306520"/>
            <a:ext cx="8267400" cy="481680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Что делать, если устали глаза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период подготовки к экзаменам увеличивается нагрузка на глаза. Если устали глаза, значит, устал и организм: ему может не хватить сил для выполнения экзаменационного задания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полните два любых  упражнения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смотрите попеременно вверх-вниз (25 секунд), влево - вправо (15 секунд); - напишите глазами свое имя, отчество, фамилию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переменно фиксируйте взгляд на удаленном предмете (20 секунд), потом на листе бумаги перед собой (20 секунд)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нарисуйте квадрат, треугольник – сначала по часовой стрелке, потом в противоположную сторону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8" descr="C:\Documents and Settings\Алена\Local Settings\Temporary Internet Files\Content.IE5\3LUZQUFV\MCHM00380_0000[1].wmf"/>
          <p:cNvPicPr/>
          <p:nvPr/>
        </p:nvPicPr>
        <p:blipFill>
          <a:blip r:embed="rId1"/>
          <a:stretch/>
        </p:blipFill>
        <p:spPr>
          <a:xfrm rot="21424800">
            <a:off x="7667640" y="19573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C:\Documents and Settings\Алена\Local Settings\Temporary Internet Files\Content.IE5\3LUZQUFV\MCHM00380_0000[1].wmf"/>
          <p:cNvPicPr/>
          <p:nvPr/>
        </p:nvPicPr>
        <p:blipFill>
          <a:blip r:embed="rId2"/>
          <a:stretch/>
        </p:blipFill>
        <p:spPr>
          <a:xfrm rot="286800">
            <a:off x="6396120" y="1974600"/>
            <a:ext cx="1143000" cy="97776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11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285840" y="1297800"/>
            <a:ext cx="8572320" cy="265428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Режим дня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делите день на три части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товьтесь к экзаменам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нимайтесь спортом, гуляйте на свежем воздухе, сходите на дискотеку, потанцуйте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Спите не менее 8 часов, если есть желание и потребность, сделайте себе тихий час после обеда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85840" y="4149720"/>
            <a:ext cx="8643960" cy="1557000"/>
          </a:xfrm>
          <a:prstGeom prst="rect">
            <a:avLst/>
          </a:prstGeom>
          <a:solidFill>
            <a:srgbClr val="ffe3b9">
              <a:alpha val="1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гимнастических упражнениях предпочтение следует отдавать кувырку, свече, стойке на голове, так как усиливается приток крови к клеткам мозг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инимум телевизионных передач! И компьютер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2"/>
          <p:cNvSpPr/>
          <p:nvPr/>
        </p:nvSpPr>
        <p:spPr>
          <a:xfrm>
            <a:off x="1037880" y="42876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Рисунок 7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" descr="j0299763"/>
          <p:cNvPicPr/>
          <p:nvPr/>
        </p:nvPicPr>
        <p:blipFill>
          <a:blip r:embed="rId2"/>
          <a:stretch/>
        </p:blipFill>
        <p:spPr>
          <a:xfrm>
            <a:off x="4000680" y="16430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C:\Documents and Settings\Алена\Local Settings\Temporary Internet Files\Content.IE5\3LUZQUFV\MCj01990600000[1].wmf"/>
          <p:cNvPicPr/>
          <p:nvPr/>
        </p:nvPicPr>
        <p:blipFill>
          <a:blip r:embed="rId3"/>
          <a:stretch/>
        </p:blipFill>
        <p:spPr>
          <a:xfrm>
            <a:off x="7143840" y="4956120"/>
            <a:ext cx="12049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685800" y="1635840"/>
            <a:ext cx="7601040" cy="35067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Питани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итание должно быть 3-4-разовым, калорийным и богатым витаминам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потребляй в пищу грецкие орехи, молочные продукты, рыбу, мясо, овощи, фрукты, шоколад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ще один совет: перед экзаменами не следует наедатьс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Прямоугольник 2"/>
          <p:cNvSpPr/>
          <p:nvPr/>
        </p:nvSpPr>
        <p:spPr>
          <a:xfrm>
            <a:off x="823320" y="50004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Рисунок 6" descr="anim031.gif"/>
          <p:cNvPicPr/>
          <p:nvPr/>
        </p:nvPicPr>
        <p:blipFill>
          <a:blip r:embed="rId1"/>
          <a:stretch/>
        </p:blipFill>
        <p:spPr>
          <a:xfrm>
            <a:off x="7143840" y="5500800"/>
            <a:ext cx="1571400" cy="10969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9" descr="f3.gif"/>
          <p:cNvPicPr/>
          <p:nvPr/>
        </p:nvPicPr>
        <p:blipFill>
          <a:blip r:embed="rId2"/>
          <a:stretch/>
        </p:blipFill>
        <p:spPr>
          <a:xfrm>
            <a:off x="785880" y="5643720"/>
            <a:ext cx="1670040" cy="121428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1" descr="milk.gif"/>
          <p:cNvPicPr/>
          <p:nvPr/>
        </p:nvPicPr>
        <p:blipFill>
          <a:blip r:embed="rId3"/>
          <a:stretch/>
        </p:blipFill>
        <p:spPr>
          <a:xfrm>
            <a:off x="7643880" y="765000"/>
            <a:ext cx="121428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380880" y="761760"/>
            <a:ext cx="8406000" cy="6677640"/>
          </a:xfrm>
          <a:prstGeom prst="rect">
            <a:avLst/>
          </a:prstGeom>
          <a:solidFill>
            <a:srgbClr val="ffe3b9">
              <a:alpha val="3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Если не повторить в течение 1 часа, то забывается 60%, а если в течение суток – 80%. Через 3 дня забывается почти вс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Трудность растет непропорционально объему. Большой отрывок учить полезнее, чем короткое изрече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При одинаковой работе количество запоминаемого тем больше, чем выше степень понимания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Распределенное заучивание лучше концентрированного. Лучше учить с перерывами, чем подряд, лучше понемногу, чем сразу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Эффективнее больше времени тратить на повторение по памяти, чем на простое многократное чте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Если работаешь с двумя материалами – большим и поменьше, разумно начинать с большего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Прямоугольник 2"/>
          <p:cNvSpPr/>
          <p:nvPr/>
        </p:nvSpPr>
        <p:spPr>
          <a:xfrm>
            <a:off x="1219320" y="38088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которые закономерности запоми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Рисунок 3" descr="10.gif"/>
          <p:cNvPicPr/>
          <p:nvPr/>
        </p:nvPicPr>
        <p:blipFill>
          <a:blip r:embed="rId1"/>
          <a:stretch/>
        </p:blipFill>
        <p:spPr>
          <a:xfrm>
            <a:off x="7715160" y="6429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932000" y="2637000"/>
            <a:ext cx="3600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826920" y="436572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533520" y="2143080"/>
            <a:ext cx="8110440" cy="3934440"/>
          </a:xfrm>
          <a:prstGeom prst="rect">
            <a:avLst/>
          </a:prstGeom>
          <a:solidFill>
            <a:srgbClr val="ffe3b9">
              <a:alpha val="26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знания учебного предмет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знакомства с процедурой проведения экзаме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стратегии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уровня тревог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285920" y="5716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 чего зависит успех на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экзамене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Рисунок 14" descr="10.gif"/>
          <p:cNvPicPr/>
          <p:nvPr/>
        </p:nvPicPr>
        <p:blipFill>
          <a:blip r:embed="rId1"/>
          <a:stretch/>
        </p:blipFill>
        <p:spPr>
          <a:xfrm>
            <a:off x="778680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4" name="Прямоугольник 3"/>
          <p:cNvSpPr/>
          <p:nvPr/>
        </p:nvSpPr>
        <p:spPr>
          <a:xfrm>
            <a:off x="500040" y="1857240"/>
            <a:ext cx="6357960" cy="3993480"/>
          </a:xfrm>
          <a:prstGeom prst="rect">
            <a:avLst/>
          </a:prstGeom>
          <a:solidFill>
            <a:srgbClr val="ffe3b9">
              <a:alpha val="2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вышенный уровень тревоги на экзамене может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водить к дезорганизации деятельности, снижению концентрации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нимания и работоспособности 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381400" cy="3390840"/>
          </a:xfrm>
          <a:prstGeom prst="rect">
            <a:avLst/>
          </a:prstGeom>
          <a:ln w="9360">
            <a:solidFill>
              <a:srgbClr val="491a03"/>
            </a:solidFill>
            <a:miter/>
          </a:ln>
        </p:spPr>
      </p:pic>
      <p:pic>
        <p:nvPicPr>
          <p:cNvPr id="626" name="Рисунок 5" descr="10.gif"/>
          <p:cNvPicPr/>
          <p:nvPr/>
        </p:nvPicPr>
        <p:blipFill>
          <a:blip r:embed="rId2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6"/>
          <p:cNvSpPr/>
          <p:nvPr/>
        </p:nvSpPr>
        <p:spPr>
          <a:xfrm>
            <a:off x="214200" y="928800"/>
            <a:ext cx="87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умайте об экзамене, который вызывает у чувство тревоги или страха. Затем в течение 3-х минут примите сначала признаки неуверенного человека и скажите слова, выученный текст, формулы, стихи, которые вы должны отвечать. Затем примите признаки уверенности и 5 минут побудьте в этом состоянии. Произнесите выученный текст, формулы, доказательства, которые вы должны отвечать. Запомните это состояние и поймите разниц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1523880" y="22860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 избавления от страха общения с экзаменатор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Схема 8" descr=""/>
          <p:cNvPicPr/>
          <p:nvPr/>
        </p:nvPicPr>
        <p:blipFill>
          <a:blip r:embed="rId1"/>
          <a:stretch/>
        </p:blipFill>
        <p:spPr>
          <a:xfrm>
            <a:off x="622440" y="2981160"/>
            <a:ext cx="8283600" cy="38703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3857760" y="5143680"/>
            <a:ext cx="1571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685800" y="1908720"/>
            <a:ext cx="7010280" cy="399348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вдруг возникает страх перед предметом, надо резко встать, отвернутся от стола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делать несколько медленных, глубоких вдохов и выдохов и только затем опять приступить к делу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3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C:\Documents and Settings\Алена\Local Settings\Temporary Internet Files\Content.IE5\11PFLLNJ\MCj04352210000[1].wmf"/>
          <p:cNvPicPr/>
          <p:nvPr/>
        </p:nvPicPr>
        <p:blipFill>
          <a:blip r:embed="rId2"/>
          <a:stretch/>
        </p:blipFill>
        <p:spPr>
          <a:xfrm>
            <a:off x="7286760" y="4071960"/>
            <a:ext cx="159840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рямоугольник 3"/>
          <p:cNvSpPr/>
          <p:nvPr/>
        </p:nvSpPr>
        <p:spPr>
          <a:xfrm>
            <a:off x="228600" y="1204920"/>
            <a:ext cx="8610480" cy="64929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тивострессовое дыхание. Медленно выполняйте глубокий вдох через нос. На пике вдоха на мгновение задержите дыхание, после чего сделайте выдох как можно медленне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старайтесь представить себе, что с каждым глубоким вдохом и продолжительным выдохом вы частично избавляетесь от стрессового напряж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Минутная релаксация. Расслабьте уголки рта, увлажните губы. Расслабьте плечи. Сосредоточьтесь на выражении своего лица и положении тела: помните, что они отражают ваши эмоции, мысли, внутреннее состояни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37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3"/>
          <p:cNvSpPr/>
          <p:nvPr/>
        </p:nvSpPr>
        <p:spPr>
          <a:xfrm>
            <a:off x="609480" y="1295280"/>
            <a:ext cx="8229600" cy="47865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Оглянитесь вокруг и внимательно осмотрите помещение, в котором вы находитесь. Медленно, не торопясь, мысленно переберите все предметы, один за другим в определенной последовательности. Говорите мысленно самому себе: «коричневый письменный стол, белые занавески, красная ваза для цветов» и т.д. Сосредоточившись на каждом отдельном предмете, вы отвлечетесь от напряж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40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71760" y="4284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43a"/>
                </a:solidFill>
                <a:latin typeface="Monotype Corsiva"/>
              </a:rPr>
              <a:t>Примеры релаксационных упражнений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228600" y="1357200"/>
            <a:ext cx="8558280" cy="5286600"/>
          </a:xfrm>
          <a:prstGeom prst="rect">
            <a:avLst/>
          </a:prstGeom>
          <a:solidFill>
            <a:srgbClr val="ffe3b9">
              <a:alpha val="19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343a"/>
                </a:solidFill>
                <a:latin typeface="Monotype Corsiva"/>
              </a:rPr>
              <a:t>Путешествие в прошл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343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1a343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тот период времени, когда вы были совершенны спокойны, расслаблены, ощущали гармонию с самим собой и окружающим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все в мельчайших подробностя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пример, речь может идти о путешествии на море, о походе в горы, об экскурси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ваши ощущения относительно всех каналов восприятия информации: визуальный (что вы видите), аудиальный (какие звуки вам вспоминаются), кинестетический (что вы ощущаете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ждый раз при вспоминании у вас возникают соответствующие ощущения. Скажите себе: этот образ вызывает во мне состояние умиротворения, спокойствия, расслабл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хника расслабления мышц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уть метода - последовательное расслабление всех мышц тела от пальцев ног до макушки. Представляйте себе, как при расслаблении из вашего тела постепенно уходит напряжени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кройте глаза. Думайте о том, что все мышцы вашего тела расслабляютс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жмите кисти рук в кулаки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жмите руки в локтевых суставах до полного напряжения - выпрямите руки и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тяните руки вдоль тела и расслабьте и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ведите лопатки - расслабьте и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хмурьте брови - расслабьте мышцы лиц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репко зажмурьтесь - расслабьте век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лотно сожмите губы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тведите голову назад - наклоните голову вперед - расслабьте шею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ните спину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тяните живот, напрягите его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прягите ягодичные мышцы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гните ноги в коленях - расслабьт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дожмите пальцы ног – расслабьтесь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13"/>
          <p:cNvSpPr/>
          <p:nvPr/>
        </p:nvSpPr>
        <p:spPr>
          <a:xfrm>
            <a:off x="714240" y="642960"/>
            <a:ext cx="792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Прямоугольник 20"/>
          <p:cNvSpPr/>
          <p:nvPr/>
        </p:nvSpPr>
        <p:spPr>
          <a:xfrm>
            <a:off x="285840" y="428760"/>
            <a:ext cx="885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2000160" y="5716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52280" y="1553760"/>
            <a:ext cx="5634000" cy="393444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есто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берите со стола лишние вещи, удобно расположи те нужные учебники, тетради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рандаши и т.п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9" name="Рисунок 6" descr="10.gif"/>
          <p:cNvPicPr/>
          <p:nvPr/>
        </p:nvPicPr>
        <p:blipFill>
          <a:blip r:embed="rId2"/>
          <a:stretch/>
        </p:blipFill>
        <p:spPr>
          <a:xfrm>
            <a:off x="771516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457200" y="3180240"/>
            <a:ext cx="5357880" cy="301860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ведите в интерьер комнаты желтый и фиолетовый цвета (они повышают интеллектуальную активность)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Рисунок 7" descr="bloema14.gif"/>
          <p:cNvPicPr/>
          <p:nvPr/>
        </p:nvPicPr>
        <p:blipFill>
          <a:blip r:embed="rId1"/>
          <a:stretch/>
        </p:blipFill>
        <p:spPr>
          <a:xfrm>
            <a:off x="714240" y="1214280"/>
            <a:ext cx="1505160" cy="1737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2"/>
          <a:srcRect l="16571" t="7275" r="13905" b="7843"/>
          <a:stretch/>
        </p:blipFill>
        <p:spPr>
          <a:xfrm>
            <a:off x="6500880" y="1428840"/>
            <a:ext cx="1857240" cy="3024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380880" y="1779480"/>
            <a:ext cx="7548840" cy="521316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ьте план занятий. Определите, кто вы - "сова" или "жаворонок", и в зависимости от этого максимально используйте утренние или вечерние час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ляя план на каждый день подготовки, необходимо четко определить, что именно сегодня будет изучаться. Не вообще: "немного позанимаюсь", а какие именно разделы и тем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Рисунок 2" descr="348.gif"/>
          <p:cNvPicPr/>
          <p:nvPr/>
        </p:nvPicPr>
        <p:blipFill>
          <a:blip r:embed="rId1"/>
          <a:stretch/>
        </p:blipFill>
        <p:spPr>
          <a:xfrm>
            <a:off x="7786800" y="5286240"/>
            <a:ext cx="933480" cy="11797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3" descr="ani-bird_blue.gif"/>
          <p:cNvPicPr/>
          <p:nvPr/>
        </p:nvPicPr>
        <p:blipFill>
          <a:blip r:embed="rId2"/>
          <a:stretch/>
        </p:blipFill>
        <p:spPr>
          <a:xfrm>
            <a:off x="214200" y="642960"/>
            <a:ext cx="1435320" cy="11476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1714680" y="6429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Рисунок 5" descr="10.gif"/>
          <p:cNvPicPr/>
          <p:nvPr/>
        </p:nvPicPr>
        <p:blipFill>
          <a:blip r:embed="rId3"/>
          <a:stretch/>
        </p:blipFill>
        <p:spPr>
          <a:xfrm>
            <a:off x="7572240" y="571680"/>
            <a:ext cx="10004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2"/>
          <p:cNvSpPr/>
          <p:nvPr/>
        </p:nvSpPr>
        <p:spPr>
          <a:xfrm>
            <a:off x="533520" y="2357280"/>
            <a:ext cx="7610400" cy="3506760"/>
          </a:xfrm>
          <a:prstGeom prst="rect">
            <a:avLst/>
          </a:prstGeom>
          <a:solidFill>
            <a:srgbClr val="ffe3b9">
              <a:alpha val="2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дачная альтернатива - техника подготовки "3-4-5". Время до экзамена (год, месяц, неделя) делится на три равные части. В первые, скажем, 10 дней надо пройти все темы на троечку, во вторые 10 дней - на четвёрку, а в оставшиеся - отшлифовать и убрать ошиб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Рисунок 3" descr="10.gif"/>
          <p:cNvPicPr/>
          <p:nvPr/>
        </p:nvPicPr>
        <p:blipFill>
          <a:blip r:embed="rId1"/>
          <a:stretch/>
        </p:blipFill>
        <p:spPr>
          <a:xfrm>
            <a:off x="7786800" y="4287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2"/>
          <p:cNvSpPr/>
          <p:nvPr/>
        </p:nvSpPr>
        <p:spPr>
          <a:xfrm>
            <a:off x="609480" y="2428920"/>
            <a:ext cx="7248600" cy="329184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Начните с самого трудного раздела, с того материала, который знаете хуже всего. Но если Вам трудно "раскачаться", можно начать с того материала, который наиболее всего интересен и приятен.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3200400" y="91440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5929200" y="4906800"/>
            <a:ext cx="2928960" cy="195120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2928960" cy="195588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7" name="Рисунок 6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914400" y="2448360"/>
            <a:ext cx="7372440" cy="3018600"/>
          </a:xfrm>
          <a:prstGeom prst="rect">
            <a:avLst/>
          </a:prstGeom>
          <a:solidFill>
            <a:srgbClr val="ffe3b9">
              <a:alpha val="10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ередуйте занятия и отдых: 40 минут занятий, затем 10 минут – перерыв. Во время перерыва можно помыть посуду, полить цветы, сделать зарядку, принять душ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2071800" y="57168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Рисунок 6" descr="10.gif"/>
          <p:cNvPicPr/>
          <p:nvPr/>
        </p:nvPicPr>
        <p:blipFill>
          <a:blip r:embed="rId1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11.gif"/>
          <p:cNvPicPr/>
          <p:nvPr/>
        </p:nvPicPr>
        <p:blipFill>
          <a:blip r:embed="rId2"/>
          <a:stretch/>
        </p:blipFill>
        <p:spPr>
          <a:xfrm>
            <a:off x="7715160" y="5357880"/>
            <a:ext cx="857520" cy="83196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dart10.gif"/>
          <p:cNvPicPr/>
          <p:nvPr/>
        </p:nvPicPr>
        <p:blipFill>
          <a:blip r:embed="rId3"/>
          <a:stretch/>
        </p:blipFill>
        <p:spPr>
          <a:xfrm>
            <a:off x="500040" y="857160"/>
            <a:ext cx="158292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1600200" y="2883960"/>
            <a:ext cx="5657760" cy="301860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отовясь к экзаменам, мысленно рисуйте себе картину триумфа. Никогда не думай о том, что не справишься с заданием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Группа 8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75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7" name="Рисунок 6" descr="CALVIN2.gif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2255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C:\Documents and Settings\Алена\Local Settings\Temporary Internet Files\Content.IE5\R9S2KF7R\MCj02504070000[1].wmf"/>
          <p:cNvPicPr/>
          <p:nvPr/>
        </p:nvPicPr>
        <p:blipFill>
          <a:blip r:embed="rId3"/>
          <a:stretch/>
        </p:blipFill>
        <p:spPr>
          <a:xfrm>
            <a:off x="285840" y="285840"/>
            <a:ext cx="2158920" cy="26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24:08Z</dcterms:created>
  <dc:creator>Фомичева Л.Ф.</dc:creator>
  <dc:description/>
  <dc:language>en-US</dc:language>
  <cp:lastModifiedBy>Коля</cp:lastModifiedBy>
  <cp:lastPrinted>1996-03-19T21:02:48Z</cp:lastPrinted>
  <dcterms:modified xsi:type="dcterms:W3CDTF">2013-04-18T11:22:57Z</dcterms:modified>
  <cp:revision>187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