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png" ContentType="image/png"/>
  <Override PartName="/ppt/media/image9.gif" ContentType="image/gif"/>
  <Override PartName="/ppt/media/image13.gif" ContentType="image/gif"/>
  <Override PartName="/ppt/media/image8.gif" ContentType="image/gif"/>
  <Override PartName="/ppt/media/image11.png" ContentType="image/png"/>
  <Override PartName="/ppt/media/image6.png" ContentType="image/png"/>
  <Override PartName="/ppt/media/image3.gif" ContentType="image/gif"/>
  <Override PartName="/ppt/media/image5.gif" ContentType="image/gif"/>
  <Override PartName="/ppt/media/image16.wmf" ContentType="image/x-wmf"/>
  <Override PartName="/ppt/media/image4.png" ContentType="image/png"/>
  <Override PartName="/ppt/media/image7.png" ContentType="image/png"/>
  <Override PartName="/ppt/media/image15.wmf" ContentType="image/x-wmf"/>
  <Override PartName="/ppt/media/image26.png" ContentType="image/png"/>
  <Override PartName="/ppt/media/image24.wmf" ContentType="image/x-wmf"/>
  <Override PartName="/ppt/media/image22.png" ContentType="image/png"/>
  <Override PartName="/ppt/media/image23.png" ContentType="image/png"/>
  <Override PartName="/ppt/media/image20.gif" ContentType="image/gif"/>
  <Override PartName="/ppt/media/image18.wmf" ContentType="image/x-wmf"/>
  <Override PartName="/ppt/media/image21.gif" ContentType="image/gif"/>
  <Override PartName="/ppt/media/image19.gif" ContentType="image/gif"/>
  <Override PartName="/ppt/media/image1.png" ContentType="image/png"/>
  <Override PartName="/ppt/media/image17.wmf" ContentType="image/x-wmf"/>
  <Override PartName="/ppt/media/image14.gif" ContentType="image/gif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34062-BBD3-4CAB-8FC8-CAC212C3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726A2-5224-477E-9AC8-8DE9BE53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31E9F0-5B51-4DFB-AC41-F52430E9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6B41F7-FC6C-41EC-9B9E-9CFBD4D4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28034A-EEF4-4F7E-97C9-BCC863D0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E84DBC-C527-45D4-ABC0-8C0F7A5E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DA4EB9-3E2E-4DD4-B723-C1AE63AE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C632CB-C53A-47FC-87FD-BEB6663E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2B639D-C2B2-4A2C-92CB-E6271C8A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3874D5-576E-4340-8284-4F131658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033D20-6EA9-4E4C-8AAE-D236AD4D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8A13E5-F5DA-4BFD-9195-E4807B9A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298C5-AD55-456A-BC77-65C216CD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3B10BB-8982-4697-908F-3E733B99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AEAAE-9261-471B-9E67-BAEAAA70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889138-E09A-4EC4-BC79-C899DC3E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3E03DE-BEA1-47F0-886F-13974BFD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373C05-A95E-4965-B39B-7E5A1FF8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DDA4C8-EE9E-4BE6-97A4-D609DBEB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8ECEFC-5C97-4FFA-985D-B54EA081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D490BA-CA64-4559-AABF-25F28155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031B39-0322-4390-BA8C-1C47DB53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8A9412-CDB0-4B64-B266-C8F6F9A4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767D3-72B3-4EDA-8B13-65587E56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B8ED90-E19B-4BFC-8AD6-45F0D370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34C625-AC55-42BF-A64B-A514655F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97216C-270F-4E9C-8CEA-90C10F09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91E4FB-A0A3-4BE7-B4FC-75077BE5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AFCECA-B624-4483-970D-5EA2902D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C2AD7F-761E-4AD5-B34F-C5828271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2E7095-6631-412B-83C1-607C200A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C22E92-14C0-439C-92C9-ACD20CF5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017DA0-F282-4ED8-A0FE-D47F6E63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47CEBE-9F45-4D1A-A7DD-957CB26D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CCF1B-983F-46BF-88D1-A773158E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DC3064-99FA-438D-A1A5-04145159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4E4641-1982-4D86-A0D7-060057BF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5624DB-CF97-459D-A11E-9FC03DC1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E9BCBB-6DF2-4623-84C8-03C1482C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0C8E40-F0BC-4B95-AD00-4E9345AD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E23575-8049-4565-BB6C-339E751E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50CD1-9AEB-47C7-BBFB-8D23FEEA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5E7E4-E2EB-49E2-83A4-95393E30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F245F-8F95-42A3-8E12-4DF00D6F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254079-FB55-4A63-8633-236CC9D6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F50DE-91FE-4242-8533-1E8DD043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FCB87C-F78D-4981-BFF5-7D72436B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5C29CD-4BFD-4505-B579-90F51E41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322504-1FF9-4FA1-8D06-24958F07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596837-4D04-4E3B-9671-FA0D9D6E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7D707E-F5E2-4997-8343-DB5CB582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CBB4C21-1524-45C1-A777-4EDC8DBA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2169F66-E212-4112-87EC-2B1E2921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50EE115-7366-49FE-B19F-CE3A7192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A9213C-B837-416B-BAED-C6024A36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E3A8F7F-6E12-43A1-BC64-598CDD84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9B86D-51C9-471F-A293-42761F29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6C83E1-E260-43F9-81BC-AABBA258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B79C6C-8AAC-4D28-9FAF-DA0B48A8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CB11FD-D88D-4E35-80D0-46D7889E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CE0CC4F-C5D8-4BB8-95B3-6D023293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330D4F8-CE5E-461D-9AC9-A2822A3D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483245-4AF8-4070-8ADF-10ABF83C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2A07AD-0AC6-49FA-A53D-EDDBA911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CB4BE-3B31-4C3F-9ED9-D8CF9E05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39D2E-C43E-439D-9AC5-79FCB6FB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5DE77-58D1-4782-BD21-949D8785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9B3D5-71FD-4A30-9B66-F31E91CB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C522-6DCE-4D44-97EB-94B9C0F0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C2361-3B47-4FE8-8CA2-4FA2605E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7BB61-8D54-47EA-AC55-C6D23FEC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04303-3B94-433C-90B8-10986445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CD1A9-029A-4754-A088-6F5026DB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43E0A-8C7E-48C0-8150-E4E1DF20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436765-F6E1-4FA2-B976-ABF9EB4F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589104-FF3D-4C58-949F-CC6B7101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60F382-2620-4004-A5D7-B3624932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9B4734-5ACD-49D2-8B5C-13ADD80B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EA6041-83CC-4DB7-B20C-251FDF7B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D104-5A23-413D-BFAE-ADDCE76C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5EE4AD-00DF-45F6-B083-5D24E222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27359B-9DD7-4D9B-A1E1-CF501EA1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DD6010-7E0D-4E67-95B8-0263C4F1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56A758-2C69-4BBD-9CE4-A5F79D27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2E1E16-FE25-447E-9474-1A2D45F7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E14190-2F12-405E-B786-044D4AAA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40E181-A07B-45AA-A7F0-29D3CC45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92F4E5-3C3A-4ADE-8248-9A4B31D5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2265D1-CE10-4BB3-ACEF-E1D9BED6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46E251-8D13-4371-A13D-4F271EEC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3FFA9-9738-4A3D-BE65-6EFCD9AF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AF09F7-4A05-4C6C-B76C-1EC4A837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879F79-E395-42E1-8B04-0117E78A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354789-29CB-4D74-8BA2-A7925E6C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448A2B-407D-4181-AC37-639577EA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E2BCBF-5D9A-41EF-B5D6-7A66215F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15AF0F-CD5A-4BB0-9381-C5662D9F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CF0D28-296A-48C9-9455-B59A9AF0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0BC784-17F6-403B-AAA0-E0C47E67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589E9B-BD0A-4081-B663-9F9B6B81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481080-4748-47F2-ACD6-39C927BC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2BAA6-C995-4D15-8DF5-A7C3BA98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EB1419-A05A-4A14-B4CE-D036659F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870564-37F2-48ED-A2F2-CCE0266B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1B8AF1-D493-4C06-9F7B-3E30258D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6377FC-BC05-4848-9C5C-FE586FE1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C6562C-2CB1-4F77-82C1-4FFD3487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284166-A851-42C2-967D-DBE5AED4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FEF0F6-E0DA-4BB5-8654-F4E367F5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0E56C0-C14E-4AEE-B976-A5249FF2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445A17-1C33-42DE-92E4-BC9A3CF7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0AA5C5-BEFB-439D-971A-F324DBD0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377A-85E5-485F-B9B7-054D3872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5875C7-AAC8-4A8F-B6B5-3387DEF5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44C2FB-DF3E-4C7C-A373-7AC97260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7B6F0B-CD63-4220-AC09-7EA46785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D0F90C-8439-4464-8343-16F62D29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94991B-6937-40B0-A810-E16EDD3D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EA7771-77B3-4492-9D98-9BFC0EC8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D08C2C-29FF-44B0-B7C7-A56F3EB8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1282DE-7529-442C-B781-ECA5F049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497AA0-8ED3-4626-A2CD-496F7C96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652009-320C-49C7-BF64-7FA4FFFC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93CDB-4C77-4C4F-84AA-C013C745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C775B9-6ACF-4BE4-B198-FAB0D929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6F564D-0477-4565-BF9C-0D8EDE99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E343B2-E749-4272-8588-0727180C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0085DD-1DA7-42BE-AD56-F9FCCDF9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6B686F-BFFB-49C9-AE97-A5AC3F74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823008-365F-4BA1-8E04-2A367870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65A04E-4A4E-4529-8D5F-61BC84BF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7D7615-AB11-4537-857C-CAE3CDBB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76A810-0F81-410D-95E9-12BAB0DA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463EBF-42AC-408A-B1CA-CD9E9827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6084-5C21-4493-B6F0-EEDF3FD4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92484A-BAF6-41F1-B201-F43F1AB6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918E7D-A227-4D85-A989-526C12B0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0C4E3C-D801-49DA-9887-4F81F999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B3D501-FB34-4FA2-A2A3-8EB0F076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C532F9-18D8-4EF5-A9EC-04FEA219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D1180C-6F30-44FB-8A22-0903DB1B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4E8BD3-601E-462D-AFD6-A998E1AF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9CBDC8-A187-48FF-B74F-6BAFBCB6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2B6570-661F-46A4-89F1-BCB05596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B5B6DB-2920-4404-8B9C-8F5C3438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F24C7-0158-4191-9AF9-65D14555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324103-60A9-427A-B899-7EE737A6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B327FB-ABE0-49B9-809D-A18BB3FF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730152-DB48-4446-BA88-5144C2F9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55AA37-00A8-450F-8AF7-88002CF3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A42807-7F09-4460-A13E-C33ACBA7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E80F1C-2D1F-41B3-A867-4B49A04C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AE77D7-E488-43DC-BE85-2AD6F6A6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DF24D-DB25-4125-8DC0-6AB17301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F7E421-37CC-43DA-A703-B6124634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09B5AB-B5B5-441A-900D-2A1018B5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1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F457-B89A-4F57-8360-559BD5E8635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842B-8F6D-45BB-88B7-B56B9AF1C2DC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28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046F-906A-47D1-B4BB-17AE44CDC21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dt" idx="30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EA8B-3D3D-4CE0-9160-95F7A3D73572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Num" idx="31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80BC-A20A-4607-AF06-3E69BE48338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dt" idx="33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9DA0-A3AB-4D91-9F09-1A6C3B06F364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34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F1B6-2F38-436D-95E3-D7E2D1175C3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dt" idx="36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57F0-D6AC-4EBA-9989-5743C550AEA2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37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AF68-0586-4FE6-8B01-658720E098E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dt" idx="39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4EE5-CA37-4628-A754-8A5928AFCB0D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5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35E5-3516-467F-9ABC-A33CCE01F70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dt" idx="6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C0CA-0B22-4353-AEF0-83AE4C283E80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7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B148-9D8C-4697-8DAD-F94134ECF21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9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30D1-C9C0-440F-A576-6F73EB188E70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10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4F27-359F-41E0-9F51-514A11627A8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dt" idx="12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BEAF-0813-46D3-82E5-3CEE63E6D9FD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3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755F-A44A-477A-9A78-3C73EDD99FB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dt" idx="15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158C-169B-4CEB-A7C4-9720A7FB0397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6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DAA1-D8DE-4EEB-9807-762785FB880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dt" idx="18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7A72-09FA-4E0A-A517-0B3C768C112E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9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79C7-732F-42EB-AD64-BDEB621D7B4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dt" idx="21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66BD-82FE-409A-A9A5-481BE3CBF72D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22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80F9-A71D-4804-9C35-4A68828EFCA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dt" idx="24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4ED9-F923-45DA-B2FA-E9E3D875EADA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25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6603-12F9-4800-8081-882E681F435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dt" idx="27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B289-0EB3-4EB7-B0F3-E9CE393DBF04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4.gi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Прямоугольник 7" descr=""/>
          <p:cNvPicPr/>
          <p:nvPr/>
        </p:nvPicPr>
        <p:blipFill>
          <a:blip r:embed="rId1"/>
          <a:stretch/>
        </p:blipFill>
        <p:spPr>
          <a:xfrm>
            <a:off x="2498760" y="2077920"/>
            <a:ext cx="4719600" cy="1805040"/>
          </a:xfrm>
          <a:prstGeom prst="rect">
            <a:avLst/>
          </a:prstGeom>
          <a:ln w="0">
            <a:noFill/>
          </a:ln>
        </p:spPr>
      </p:pic>
      <p:pic>
        <p:nvPicPr>
          <p:cNvPr id="538" name="Рисунок 8" descr="10.gif"/>
          <p:cNvPicPr/>
          <p:nvPr/>
        </p:nvPicPr>
        <p:blipFill>
          <a:blip r:embed="rId2"/>
          <a:stretch/>
        </p:blipFill>
        <p:spPr>
          <a:xfrm>
            <a:off x="7572240" y="971640"/>
            <a:ext cx="100044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Прямоугольник 2"/>
          <p:cNvSpPr/>
          <p:nvPr/>
        </p:nvSpPr>
        <p:spPr>
          <a:xfrm>
            <a:off x="1600200" y="2438280"/>
            <a:ext cx="6472080" cy="2043720"/>
          </a:xfrm>
          <a:prstGeom prst="rect">
            <a:avLst/>
          </a:prstGeom>
          <a:solidFill>
            <a:srgbClr val="ffe3b9">
              <a:alpha val="12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Оставьте один день перед экзаменом на то, чтобы еще раз повторить самые трудные вопросы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Группа 4"/>
          <p:cNvGrpSpPr/>
          <p:nvPr/>
        </p:nvGrpSpPr>
        <p:grpSpPr>
          <a:xfrm>
            <a:off x="1928880" y="500040"/>
            <a:ext cx="6643800" cy="1334160"/>
            <a:chOff x="1928880" y="500040"/>
            <a:chExt cx="6643800" cy="1334160"/>
          </a:xfrm>
        </p:grpSpPr>
        <p:sp>
          <p:nvSpPr>
            <p:cNvPr id="581" name="TextBox 5"/>
            <p:cNvSpPr/>
            <p:nvPr/>
          </p:nvSpPr>
          <p:spPr>
            <a:xfrm>
              <a:off x="1928880" y="64296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2" name="Рисунок 6" descr="10.gif"/>
            <p:cNvPicPr/>
            <p:nvPr/>
          </p:nvPicPr>
          <p:blipFill>
            <a:blip r:embed="rId1"/>
            <a:stretch/>
          </p:blipFill>
          <p:spPr>
            <a:xfrm>
              <a:off x="7572600" y="5000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"/>
          <p:cNvSpPr/>
          <p:nvPr/>
        </p:nvSpPr>
        <p:spPr>
          <a:xfrm>
            <a:off x="533520" y="1758600"/>
            <a:ext cx="8200800" cy="4786560"/>
          </a:xfrm>
          <a:prstGeom prst="rect">
            <a:avLst/>
          </a:prstGeom>
          <a:solidFill>
            <a:srgbClr val="ffe3b9">
              <a:alpha val="21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Накануне экзамен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 вечера совершите прогулку, перед сном примите душ. Выспитесь как можно лучше, чтобы встать с ощущением "боевого" настроя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 лицей Вы должны явиться, не опаздывая, лучше за 15-20 минут до начала экзамен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обирайте нужные вам вещи накануне, обязательно положите карандаш, ручку, линейки и т.п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Группа 2"/>
          <p:cNvGrpSpPr/>
          <p:nvPr/>
        </p:nvGrpSpPr>
        <p:grpSpPr>
          <a:xfrm>
            <a:off x="1928880" y="500040"/>
            <a:ext cx="6643800" cy="1334160"/>
            <a:chOff x="1928880" y="500040"/>
            <a:chExt cx="6643800" cy="1334160"/>
          </a:xfrm>
        </p:grpSpPr>
        <p:sp>
          <p:nvSpPr>
            <p:cNvPr id="585" name="TextBox 3"/>
            <p:cNvSpPr/>
            <p:nvPr/>
          </p:nvSpPr>
          <p:spPr>
            <a:xfrm>
              <a:off x="1928880" y="64296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6" name="Рисунок 4" descr="10.gif"/>
            <p:cNvPicPr/>
            <p:nvPr/>
          </p:nvPicPr>
          <p:blipFill>
            <a:blip r:embed="rId1"/>
            <a:stretch/>
          </p:blipFill>
          <p:spPr>
            <a:xfrm>
              <a:off x="7572600" y="5000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1"/>
          <p:cNvSpPr/>
          <p:nvPr/>
        </p:nvSpPr>
        <p:spPr>
          <a:xfrm>
            <a:off x="304920" y="1769760"/>
            <a:ext cx="8410320" cy="4786560"/>
          </a:xfrm>
          <a:prstGeom prst="rect">
            <a:avLst/>
          </a:prstGeom>
          <a:solidFill>
            <a:srgbClr val="ffe3b9">
              <a:alpha val="1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Перед началом экзамен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 начале Вам сообщат необходимую информацию (как заполнять бланк, как подписать черновик какими буквами писать и т.д.)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удьте внимательны!!! От того, как Вы запомните все эти правила, зависит правильность Ваших ответов!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облюдайте все правила, не вступайте в спор с  преподавателем, оденьтесь  подобающ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Группа 3"/>
          <p:cNvGrpSpPr/>
          <p:nvPr/>
        </p:nvGrpSpPr>
        <p:grpSpPr>
          <a:xfrm>
            <a:off x="1928880" y="500040"/>
            <a:ext cx="6643800" cy="1334160"/>
            <a:chOff x="1928880" y="500040"/>
            <a:chExt cx="6643800" cy="1334160"/>
          </a:xfrm>
        </p:grpSpPr>
        <p:sp>
          <p:nvSpPr>
            <p:cNvPr id="589" name="TextBox 4"/>
            <p:cNvSpPr/>
            <p:nvPr/>
          </p:nvSpPr>
          <p:spPr>
            <a:xfrm>
              <a:off x="1928880" y="64296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0" name="Рисунок 5" descr="10.gif"/>
            <p:cNvPicPr/>
            <p:nvPr/>
          </p:nvPicPr>
          <p:blipFill>
            <a:blip r:embed="rId1"/>
            <a:stretch/>
          </p:blipFill>
          <p:spPr>
            <a:xfrm>
              <a:off x="7572600" y="5000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"/>
          <p:cNvSpPr/>
          <p:nvPr/>
        </p:nvSpPr>
        <p:spPr>
          <a:xfrm>
            <a:off x="304920" y="1045800"/>
            <a:ext cx="8267760" cy="6066360"/>
          </a:xfrm>
          <a:prstGeom prst="rect">
            <a:avLst/>
          </a:prstGeom>
          <a:solidFill>
            <a:srgbClr val="ffe3b9">
              <a:alpha val="16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Во время экзамен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робегите глазами все задания, чтобы увидеть, какого типа задачи в нем содержатся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нимательно прочитайте вопрос до конца, чтобы правильно понять его смысл. Если не знаете ответа на вопрос или не уверены, пропустите его, чтобы потом к нему вернуться. Начните с легкого!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Научитесь пропускать трудные или непонятные задания. Помните: в тексте всегда найдутся вопросы, с которыми Вы обязательно справитесь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Группа 3"/>
          <p:cNvGrpSpPr/>
          <p:nvPr/>
        </p:nvGrpSpPr>
        <p:grpSpPr>
          <a:xfrm>
            <a:off x="1905120" y="152280"/>
            <a:ext cx="6643440" cy="1334160"/>
            <a:chOff x="1905120" y="152280"/>
            <a:chExt cx="6643440" cy="1334160"/>
          </a:xfrm>
        </p:grpSpPr>
        <p:sp>
          <p:nvSpPr>
            <p:cNvPr id="593" name="TextBox 4"/>
            <p:cNvSpPr/>
            <p:nvPr/>
          </p:nvSpPr>
          <p:spPr>
            <a:xfrm>
              <a:off x="1905120" y="295200"/>
              <a:ext cx="5643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4" name="Рисунок 5" descr="10.gif"/>
            <p:cNvPicPr/>
            <p:nvPr/>
          </p:nvPicPr>
          <p:blipFill>
            <a:blip r:embed="rId1"/>
            <a:stretch/>
          </p:blipFill>
          <p:spPr>
            <a:xfrm>
              <a:off x="7548480" y="15228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1"/>
          <p:cNvSpPr/>
          <p:nvPr/>
        </p:nvSpPr>
        <p:spPr>
          <a:xfrm>
            <a:off x="304920" y="1645560"/>
            <a:ext cx="8339040" cy="5214600"/>
          </a:xfrm>
          <a:prstGeom prst="rect">
            <a:avLst/>
          </a:prstGeom>
          <a:solidFill>
            <a:srgbClr val="ffe3b9">
              <a:alpha val="12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умайте только о текущем задании! Когда Вы делаете новое задание, забудьте все, что было в предыдущем. Помните, задания в билетах не связаны друг с другом, поэтому знания, которые Вы применили в одном, решенном Вами, как правило, не помогают, а только мешают сконцентрироваться и правильно решить новое задание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ногие задания можно быстрее решить, если не искать сразу правильный вариант ответа, а последовательно исключать те, которые явно не подходят. Метод исключения позволяет в итоге сконцентрировать внимание всего на одном-двух вариантах, а не на всех пяти-семи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Группа 3"/>
          <p:cNvGrpSpPr/>
          <p:nvPr/>
        </p:nvGrpSpPr>
        <p:grpSpPr>
          <a:xfrm>
            <a:off x="1857240" y="285840"/>
            <a:ext cx="6643800" cy="1333800"/>
            <a:chOff x="1857240" y="285840"/>
            <a:chExt cx="6643800" cy="1333800"/>
          </a:xfrm>
        </p:grpSpPr>
        <p:sp>
          <p:nvSpPr>
            <p:cNvPr id="597" name="TextBox 4"/>
            <p:cNvSpPr/>
            <p:nvPr/>
          </p:nvSpPr>
          <p:spPr>
            <a:xfrm>
              <a:off x="1857240" y="42840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8" name="Рисунок 5" descr="10.gif"/>
            <p:cNvPicPr/>
            <p:nvPr/>
          </p:nvPicPr>
          <p:blipFill>
            <a:blip r:embed="rId1"/>
            <a:stretch/>
          </p:blipFill>
          <p:spPr>
            <a:xfrm>
              <a:off x="7500960" y="2858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1"/>
          <p:cNvSpPr/>
          <p:nvPr/>
        </p:nvSpPr>
        <p:spPr>
          <a:xfrm>
            <a:off x="1285920" y="2652840"/>
            <a:ext cx="7358040" cy="2226960"/>
          </a:xfrm>
          <a:prstGeom prst="rect">
            <a:avLst/>
          </a:prstGeom>
          <a:solidFill>
            <a:srgbClr val="ffe3b9">
              <a:alpha val="1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ставьте время для проверки своей работы, чтобы успеть пробежать глазами и заметить явные ошибки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Если не уверены в выборе ответа, доверьтесь интуиции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Группа 3"/>
          <p:cNvGrpSpPr/>
          <p:nvPr/>
        </p:nvGrpSpPr>
        <p:grpSpPr>
          <a:xfrm>
            <a:off x="1928880" y="500040"/>
            <a:ext cx="6643800" cy="1334160"/>
            <a:chOff x="1928880" y="500040"/>
            <a:chExt cx="6643800" cy="1334160"/>
          </a:xfrm>
        </p:grpSpPr>
        <p:sp>
          <p:nvSpPr>
            <p:cNvPr id="601" name="TextBox 4"/>
            <p:cNvSpPr/>
            <p:nvPr/>
          </p:nvSpPr>
          <p:spPr>
            <a:xfrm>
              <a:off x="1928880" y="64296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2" name="Рисунок 5" descr="10.gif"/>
            <p:cNvPicPr/>
            <p:nvPr/>
          </p:nvPicPr>
          <p:blipFill>
            <a:blip r:embed="rId1"/>
            <a:stretch/>
          </p:blipFill>
          <p:spPr>
            <a:xfrm>
              <a:off x="7572600" y="5000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Прямоугольник 2"/>
          <p:cNvSpPr/>
          <p:nvPr/>
        </p:nvSpPr>
        <p:spPr>
          <a:xfrm>
            <a:off x="938520" y="457200"/>
            <a:ext cx="76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подготовиться физически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2"/>
          <p:cNvSpPr/>
          <p:nvPr/>
        </p:nvSpPr>
        <p:spPr>
          <a:xfrm>
            <a:off x="609480" y="1069560"/>
            <a:ext cx="8177400" cy="1191240"/>
          </a:xfrm>
          <a:prstGeom prst="rect">
            <a:avLst/>
          </a:prstGeom>
          <a:solidFill>
            <a:srgbClr val="ffe3b9">
              <a:alpha val="3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Ежедневно выполняй упражнения, способствующие снятию напряжения, усталости, достижению расслабления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571680" y="2306520"/>
            <a:ext cx="8267400" cy="4816800"/>
          </a:xfrm>
          <a:prstGeom prst="rect">
            <a:avLst/>
          </a:prstGeom>
          <a:solidFill>
            <a:srgbClr val="ffe3b9">
              <a:alpha val="21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Monotype Corsiva"/>
                <a:ea typeface="Times New Roman"/>
              </a:rPr>
              <a:t>Что делать, если устали глаза?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 период подготовки к экзаменам увеличивается нагрузка на глаза. Если устали глаза, значит, устал и организм: ему может не хватить сил для выполнения экзаменационного задания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ыполните два любых  упражнения: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- посмотрите попеременно вверх-вниз (25 секунд), влево - вправо (15 секунд); - напишите глазами свое имя, отчество, фамилию;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- попеременно фиксируйте взгляд на удаленном предмете (20 секунд), потом на листе бумаги перед собой (20 секунд);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- нарисуйте квадрат, треугольник – сначала по часовой стрелке, потом в противоположную сторону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8" descr="C:\Documents and Settings\Алена\Local Settings\Temporary Internet Files\Content.IE5\3LUZQUFV\MCHM00380_0000[1].wmf"/>
          <p:cNvPicPr/>
          <p:nvPr/>
        </p:nvPicPr>
        <p:blipFill>
          <a:blip r:embed="rId1"/>
          <a:stretch/>
        </p:blipFill>
        <p:spPr>
          <a:xfrm rot="21424800">
            <a:off x="7667640" y="1957320"/>
            <a:ext cx="1143000" cy="9781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8" descr="C:\Documents and Settings\Алена\Local Settings\Temporary Internet Files\Content.IE5\3LUZQUFV\MCHM00380_0000[1].wmf"/>
          <p:cNvPicPr/>
          <p:nvPr/>
        </p:nvPicPr>
        <p:blipFill>
          <a:blip r:embed="rId2"/>
          <a:stretch/>
        </p:blipFill>
        <p:spPr>
          <a:xfrm rot="286800">
            <a:off x="6396120" y="1974600"/>
            <a:ext cx="1143000" cy="977760"/>
          </a:xfrm>
          <a:prstGeom prst="rect">
            <a:avLst/>
          </a:prstGeom>
          <a:ln w="0">
            <a:noFill/>
          </a:ln>
        </p:spPr>
      </p:pic>
      <p:pic>
        <p:nvPicPr>
          <p:cNvPr id="608" name="Рисунок 11" descr="10.gif"/>
          <p:cNvPicPr/>
          <p:nvPr/>
        </p:nvPicPr>
        <p:blipFill>
          <a:blip r:embed="rId3"/>
          <a:stretch/>
        </p:blipFill>
        <p:spPr>
          <a:xfrm>
            <a:off x="7858080" y="357120"/>
            <a:ext cx="10000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3"/>
          <p:cNvSpPr/>
          <p:nvPr/>
        </p:nvSpPr>
        <p:spPr>
          <a:xfrm>
            <a:off x="285840" y="1297800"/>
            <a:ext cx="8572320" cy="2654280"/>
          </a:xfrm>
          <a:prstGeom prst="rect">
            <a:avLst/>
          </a:prstGeom>
          <a:solidFill>
            <a:srgbClr val="ffe3b9">
              <a:alpha val="1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  <a:ea typeface="Times New Roman"/>
              </a:rPr>
              <a:t>Режим дня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азделите день на три части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Готовьтесь к экзаменам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нимайтесь спортом, гуляйте на свежем воздухе, сходите на дискотеку, потанцуйте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- Спите не менее 8 часов, если есть желание и потребность, сделайте себе тихий час после обеда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285840" y="4149720"/>
            <a:ext cx="8643960" cy="1557000"/>
          </a:xfrm>
          <a:prstGeom prst="rect">
            <a:avLst/>
          </a:prstGeom>
          <a:solidFill>
            <a:srgbClr val="ffe3b9">
              <a:alpha val="18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 гимнастических упражнениях предпочтение следует отдавать кувырку, свече, стойке на голове, так как усиливается приток крови к клеткам мозг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Минимум телевизионных передач! И компьютера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Прямоугольник 2"/>
          <p:cNvSpPr/>
          <p:nvPr/>
        </p:nvSpPr>
        <p:spPr>
          <a:xfrm>
            <a:off x="1037880" y="428760"/>
            <a:ext cx="76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подготовиться физически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Рисунок 7" descr="10.gif"/>
          <p:cNvPicPr/>
          <p:nvPr/>
        </p:nvPicPr>
        <p:blipFill>
          <a:blip r:embed="rId1"/>
          <a:stretch/>
        </p:blipFill>
        <p:spPr>
          <a:xfrm>
            <a:off x="7858080" y="357120"/>
            <a:ext cx="1000080" cy="6015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" descr="j0299763"/>
          <p:cNvPicPr/>
          <p:nvPr/>
        </p:nvPicPr>
        <p:blipFill>
          <a:blip r:embed="rId2"/>
          <a:stretch/>
        </p:blipFill>
        <p:spPr>
          <a:xfrm>
            <a:off x="4000680" y="1643040"/>
            <a:ext cx="885600" cy="7873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7" descr="C:\Documents and Settings\Алена\Local Settings\Temporary Internet Files\Content.IE5\3LUZQUFV\MCj01990600000[1].wmf"/>
          <p:cNvPicPr/>
          <p:nvPr/>
        </p:nvPicPr>
        <p:blipFill>
          <a:blip r:embed="rId3"/>
          <a:stretch/>
        </p:blipFill>
        <p:spPr>
          <a:xfrm>
            <a:off x="7143840" y="4956120"/>
            <a:ext cx="120492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1"/>
          <p:cNvSpPr/>
          <p:nvPr/>
        </p:nvSpPr>
        <p:spPr>
          <a:xfrm>
            <a:off x="685800" y="1635840"/>
            <a:ext cx="7601040" cy="3506760"/>
          </a:xfrm>
          <a:prstGeom prst="rect">
            <a:avLst/>
          </a:prstGeom>
          <a:solidFill>
            <a:srgbClr val="ffe3b9">
              <a:alpha val="1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  <a:ea typeface="Times New Roman"/>
              </a:rPr>
              <a:t>Питани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итание должно быть 3-4-разовым, калорийным и богатым витаминами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Употребляй в пищу грецкие орехи, молочные продукты, рыбу, мясо, овощи, фрукты, шоколад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Еще один совет: перед экзаменами не следует наедаться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Прямоугольник 2"/>
          <p:cNvSpPr/>
          <p:nvPr/>
        </p:nvSpPr>
        <p:spPr>
          <a:xfrm>
            <a:off x="823320" y="500040"/>
            <a:ext cx="76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подготовиться физически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Рисунок 6" descr="anim031.gif"/>
          <p:cNvPicPr/>
          <p:nvPr/>
        </p:nvPicPr>
        <p:blipFill>
          <a:blip r:embed="rId1"/>
          <a:stretch/>
        </p:blipFill>
        <p:spPr>
          <a:xfrm>
            <a:off x="7143840" y="5500800"/>
            <a:ext cx="1571400" cy="109692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9" descr="f3.gif"/>
          <p:cNvPicPr/>
          <p:nvPr/>
        </p:nvPicPr>
        <p:blipFill>
          <a:blip r:embed="rId2"/>
          <a:stretch/>
        </p:blipFill>
        <p:spPr>
          <a:xfrm>
            <a:off x="785880" y="5643720"/>
            <a:ext cx="1670040" cy="121428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11" descr="milk.gif"/>
          <p:cNvPicPr/>
          <p:nvPr/>
        </p:nvPicPr>
        <p:blipFill>
          <a:blip r:embed="rId3"/>
          <a:stretch/>
        </p:blipFill>
        <p:spPr>
          <a:xfrm>
            <a:off x="7643880" y="765000"/>
            <a:ext cx="1214280" cy="10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4"/>
          <p:cNvSpPr/>
          <p:nvPr/>
        </p:nvSpPr>
        <p:spPr>
          <a:xfrm>
            <a:off x="380880" y="761760"/>
            <a:ext cx="8406000" cy="6677640"/>
          </a:xfrm>
          <a:prstGeom prst="rect">
            <a:avLst/>
          </a:prstGeom>
          <a:solidFill>
            <a:srgbClr val="ffe3b9">
              <a:alpha val="31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1. Если не повторить в течение 1 часа, то забывается 60%, а если в течение суток – 80%. Через 3 дня забывается почти вс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2. Трудность растет непропорционально объему. Большой отрывок учить полезнее, чем короткое изречение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3. При одинаковой работе количество запоминаемого тем больше, чем выше степень понимания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4. Распределенное заучивание лучше концентрированного. Лучше учить с перерывами, чем подряд, лучше понемногу, чем сразу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5. Эффективнее больше времени тратить на повторение по памяти, чем на простое многократное чтение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6. Если работаешь с двумя материалами – большим и поменьше, разумно начинать с большего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Прямоугольник 2"/>
          <p:cNvSpPr/>
          <p:nvPr/>
        </p:nvSpPr>
        <p:spPr>
          <a:xfrm>
            <a:off x="1219320" y="380880"/>
            <a:ext cx="621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екоторые закономерности запоминани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Рисунок 3" descr="10.gif"/>
          <p:cNvPicPr/>
          <p:nvPr/>
        </p:nvPicPr>
        <p:blipFill>
          <a:blip r:embed="rId1"/>
          <a:stretch/>
        </p:blipFill>
        <p:spPr>
          <a:xfrm>
            <a:off x="7715160" y="642960"/>
            <a:ext cx="10000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932000" y="2637000"/>
            <a:ext cx="36003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40" name="Text Box 13"/>
          <p:cNvSpPr/>
          <p:nvPr/>
        </p:nvSpPr>
        <p:spPr>
          <a:xfrm>
            <a:off x="826920" y="4365720"/>
            <a:ext cx="252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Box 5"/>
          <p:cNvSpPr/>
          <p:nvPr/>
        </p:nvSpPr>
        <p:spPr>
          <a:xfrm>
            <a:off x="533520" y="2143080"/>
            <a:ext cx="8110440" cy="3934440"/>
          </a:xfrm>
          <a:prstGeom prst="rect">
            <a:avLst/>
          </a:prstGeom>
          <a:solidFill>
            <a:srgbClr val="ffe3b9">
              <a:alpha val="26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6920" indent="-514080">
              <a:lnSpc>
                <a:spcPct val="100000"/>
              </a:lnSpc>
              <a:buClr>
                <a:srgbClr val="000000"/>
              </a:buClr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т знания учебного предмет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26920" indent="-514080">
              <a:lnSpc>
                <a:spcPct val="100000"/>
              </a:lnSpc>
              <a:buClr>
                <a:srgbClr val="000000"/>
              </a:buClr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т знакомства с процедурой проведения экзамен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26920" indent="-514080">
              <a:lnSpc>
                <a:spcPct val="100000"/>
              </a:lnSpc>
              <a:buClr>
                <a:srgbClr val="000000"/>
              </a:buClr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т стратегии подготовки к экзамен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26920" indent="-514080">
              <a:lnSpc>
                <a:spcPct val="100000"/>
              </a:lnSpc>
              <a:buClr>
                <a:srgbClr val="000000"/>
              </a:buClr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т уровня тревоги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Box 13"/>
          <p:cNvSpPr/>
          <p:nvPr/>
        </p:nvSpPr>
        <p:spPr>
          <a:xfrm>
            <a:off x="1285920" y="571680"/>
            <a:ext cx="714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От чего зависит успех на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экзамене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Рисунок 14" descr="10.gif"/>
          <p:cNvPicPr/>
          <p:nvPr/>
        </p:nvPicPr>
        <p:blipFill>
          <a:blip r:embed="rId1"/>
          <a:stretch/>
        </p:blipFill>
        <p:spPr>
          <a:xfrm>
            <a:off x="7786800" y="500040"/>
            <a:ext cx="10000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356840" y="71388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убрать сильное волнение</a:t>
            </a: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24" name="Прямоугольник 3"/>
          <p:cNvSpPr/>
          <p:nvPr/>
        </p:nvSpPr>
        <p:spPr>
          <a:xfrm>
            <a:off x="500040" y="1857240"/>
            <a:ext cx="6357960" cy="3993480"/>
          </a:xfrm>
          <a:prstGeom prst="rect">
            <a:avLst/>
          </a:prstGeom>
          <a:solidFill>
            <a:srgbClr val="ffe3b9">
              <a:alpha val="22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Повышенный уровень тревоги на экзамене может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риводить к дезорганизации деятельности, снижению концентрации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нимания и работоспособности 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5" descr=""/>
          <p:cNvPicPr/>
          <p:nvPr/>
        </p:nvPicPr>
        <p:blipFill>
          <a:blip r:embed="rId1"/>
          <a:stretch/>
        </p:blipFill>
        <p:spPr>
          <a:xfrm>
            <a:off x="6429240" y="3214800"/>
            <a:ext cx="2381400" cy="3390840"/>
          </a:xfrm>
          <a:prstGeom prst="rect">
            <a:avLst/>
          </a:prstGeom>
          <a:ln w="9360">
            <a:solidFill>
              <a:srgbClr val="491a03"/>
            </a:solidFill>
            <a:miter/>
          </a:ln>
        </p:spPr>
      </p:pic>
      <p:pic>
        <p:nvPicPr>
          <p:cNvPr id="626" name="Рисунок 5" descr="10.gif"/>
          <p:cNvPicPr/>
          <p:nvPr/>
        </p:nvPicPr>
        <p:blipFill>
          <a:blip r:embed="rId2"/>
          <a:stretch/>
        </p:blipFill>
        <p:spPr>
          <a:xfrm>
            <a:off x="7715160" y="714240"/>
            <a:ext cx="1000080" cy="6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Прямоугольник 6"/>
          <p:cNvSpPr/>
          <p:nvPr/>
        </p:nvSpPr>
        <p:spPr>
          <a:xfrm>
            <a:off x="214200" y="928800"/>
            <a:ext cx="870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умайте об экзамене, который вызывает у чувство тревоги или страха. Затем в течение 3-х минут примите сначала признаки неуверенного человека и скажите слова, выученный текст, формулы, стихи, которые вы должны отвечать. Затем примите признаки уверенности и 5 минут побудьте в этом состоянии. Произнесите выученный текст, формулы, доказательства, которые вы должны отвечать. Запомните это состояние и поймите разницу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7"/>
          <p:cNvSpPr/>
          <p:nvPr/>
        </p:nvSpPr>
        <p:spPr>
          <a:xfrm>
            <a:off x="1523880" y="228600"/>
            <a:ext cx="628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особ избавления от страха общения с экзаменаторо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Схема 8" descr=""/>
          <p:cNvPicPr/>
          <p:nvPr/>
        </p:nvPicPr>
        <p:blipFill>
          <a:blip r:embed="rId1"/>
          <a:stretch/>
        </p:blipFill>
        <p:spPr>
          <a:xfrm>
            <a:off x="622440" y="2981160"/>
            <a:ext cx="8283600" cy="3870360"/>
          </a:xfrm>
          <a:prstGeom prst="rect">
            <a:avLst/>
          </a:prstGeom>
          <a:ln w="0">
            <a:noFill/>
          </a:ln>
        </p:spPr>
      </p:pic>
      <p:sp>
        <p:nvSpPr>
          <p:cNvPr id="630" name="TextBox 5"/>
          <p:cNvSpPr/>
          <p:nvPr/>
        </p:nvSpPr>
        <p:spPr>
          <a:xfrm>
            <a:off x="3857760" y="5143680"/>
            <a:ext cx="15714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ла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 общего к частном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"/>
          <p:cNvSpPr/>
          <p:nvPr/>
        </p:nvSpPr>
        <p:spPr>
          <a:xfrm>
            <a:off x="685800" y="1908720"/>
            <a:ext cx="7010280" cy="3993480"/>
          </a:xfrm>
          <a:prstGeom prst="rect">
            <a:avLst/>
          </a:prstGeom>
          <a:solidFill>
            <a:srgbClr val="ffe3b9">
              <a:alpha val="12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Если вдруг возникает страх перед предметом, надо резко встать, отвернутся от стола,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делать несколько медленных, глубоких вдохов и выдохов и только затем опять приступить к делу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356840" y="71388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убрать сильное волнение</a:t>
            </a: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633" name="Рисунок 3" descr="10.gif"/>
          <p:cNvPicPr/>
          <p:nvPr/>
        </p:nvPicPr>
        <p:blipFill>
          <a:blip r:embed="rId1"/>
          <a:stretch/>
        </p:blipFill>
        <p:spPr>
          <a:xfrm>
            <a:off x="7715160" y="714240"/>
            <a:ext cx="1000080" cy="6019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" descr="C:\Documents and Settings\Алена\Local Settings\Temporary Internet Files\Content.IE5\11PFLLNJ\MCj04352210000[1].wmf"/>
          <p:cNvPicPr/>
          <p:nvPr/>
        </p:nvPicPr>
        <p:blipFill>
          <a:blip r:embed="rId2"/>
          <a:stretch/>
        </p:blipFill>
        <p:spPr>
          <a:xfrm>
            <a:off x="7286760" y="4071960"/>
            <a:ext cx="1598400" cy="25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Прямоугольник 3"/>
          <p:cNvSpPr/>
          <p:nvPr/>
        </p:nvSpPr>
        <p:spPr>
          <a:xfrm>
            <a:off x="228600" y="1204920"/>
            <a:ext cx="8610480" cy="6492960"/>
          </a:xfrm>
          <a:prstGeom prst="rect">
            <a:avLst/>
          </a:prstGeom>
          <a:solidFill>
            <a:srgbClr val="ffe3b9">
              <a:alpha val="1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ротивострессовое дыхание. Медленно выполняйте глубокий вдох через нос. На пике вдоха на мгновение задержите дыхание, после чего сделайте выдох как можно медленне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остарайтесь представить себе, что с каждым глубоким вдохом и продолжительным выдохом вы частично избавляетесь от стрессового напряжени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2. Минутная релаксация. Расслабьте уголки рта, увлажните губы. Расслабьте плечи. Сосредоточьтесь на выражении своего лица и положении тела: помните, что они отражают ваши эмоции, мысли, внутреннее состояни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56840" y="42840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убрать сильное волнение</a:t>
            </a: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637" name="Рисунок 3" descr="10.gif"/>
          <p:cNvPicPr/>
          <p:nvPr/>
        </p:nvPicPr>
        <p:blipFill>
          <a:blip r:embed="rId1"/>
          <a:stretch/>
        </p:blipFill>
        <p:spPr>
          <a:xfrm>
            <a:off x="7715160" y="714240"/>
            <a:ext cx="1000080" cy="6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Прямоугольник 3"/>
          <p:cNvSpPr/>
          <p:nvPr/>
        </p:nvSpPr>
        <p:spPr>
          <a:xfrm>
            <a:off x="609480" y="1295280"/>
            <a:ext cx="8229600" cy="4786560"/>
          </a:xfrm>
          <a:prstGeom prst="rect">
            <a:avLst/>
          </a:prstGeom>
          <a:solidFill>
            <a:srgbClr val="ffe3b9">
              <a:alpha val="1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3. Оглянитесь вокруг и внимательно осмотрите помещение, в котором вы находитесь. Медленно, не торопясь, мысленно переберите все предметы, один за другим в определенной последовательности. Говорите мысленно самому себе: «коричневый письменный стол, белые занавески, красная ваза для цветов» и т.д. Сосредоточившись на каждом отдельном предмете, вы отвлечетесь от напряжени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356840" y="42840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убрать сильное волнение</a:t>
            </a: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640" name="Рисунок 5" descr="10.gif"/>
          <p:cNvPicPr/>
          <p:nvPr/>
        </p:nvPicPr>
        <p:blipFill>
          <a:blip r:embed="rId1"/>
          <a:stretch/>
        </p:blipFill>
        <p:spPr>
          <a:xfrm>
            <a:off x="7715160" y="714240"/>
            <a:ext cx="1000080" cy="6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71760" y="42840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a343a"/>
                </a:solidFill>
                <a:latin typeface="Monotype Corsiva"/>
              </a:rPr>
              <a:t>Примеры релаксационных упражнений</a:t>
            </a: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228600" y="1357200"/>
            <a:ext cx="8558280" cy="5286600"/>
          </a:xfrm>
          <a:prstGeom prst="rect">
            <a:avLst/>
          </a:prstGeom>
          <a:solidFill>
            <a:srgbClr val="ffe3b9">
              <a:alpha val="19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a343a"/>
                </a:solidFill>
                <a:latin typeface="Monotype Corsiva"/>
              </a:rPr>
              <a:t>Путешествие в прошло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a343a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1a343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спомните тот период времени, когда вы были совершенны спокойны, расслаблены, ощущали гармонию с самим собой и окружающим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спомните все в мельчайших подробностях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апример, речь может идти о путешествии на море, о походе в горы, об экскурси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спомните ваши ощущения относительно всех каналов восприятия информации: визуальный (что вы видите), аудиальный (какие звуки вам вспоминаются), кинестетический (что вы ощущаете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аждый раз при вспоминании у вас возникают соответствующие ощущения. Скажите себе: этот образ вызывает во мне состояние умиротворения, спокойствия, расслабл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Техника расслабления мышц</a:t>
            </a:r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228600" y="990720"/>
            <a:ext cx="8686800" cy="5867280"/>
          </a:xfrm>
          <a:prstGeom prst="rect">
            <a:avLst/>
          </a:prstGeom>
          <a:solidFill>
            <a:srgbClr val="ffe3b9">
              <a:alpha val="48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уть метода - последовательное расслабление всех мышц тела от пальцев ног до макушки. Представляйте себе, как при расслаблении из вашего тела постепенно уходит напряжение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Закройте глаза. Думайте о том, что все мышцы вашего тела расслабляются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ожмите кисти рук в кулаки - расслабьтесь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ожмите руки в локтевых суставах до полного напряжения - выпрямите руки и расслабьтесь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ытяните руки вдоль тела и расслабьте их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ведите лопатки - расслабьте их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Нахмурьте брови - расслабьте мышцы лиц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Крепко зажмурьтесь - расслабьте веки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лотно сожмите губы - расслабьтесь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Отведите голову назад - наклоните голову вперед - расслабьте шею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ыгните спину - расслабьтесь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ытяните живот, напрягите его - расслабьтесь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Напрягите ягодичные мышцы - расслабьтесь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огните ноги в коленях - расслабьте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одожмите пальцы ног – расслабьтесь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Прямоугольник 13"/>
          <p:cNvSpPr/>
          <p:nvPr/>
        </p:nvSpPr>
        <p:spPr>
          <a:xfrm>
            <a:off x="714240" y="642960"/>
            <a:ext cx="7929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Прямоугольник 20"/>
          <p:cNvSpPr/>
          <p:nvPr/>
        </p:nvSpPr>
        <p:spPr>
          <a:xfrm>
            <a:off x="285840" y="428760"/>
            <a:ext cx="8858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4"/>
          <p:cNvSpPr/>
          <p:nvPr/>
        </p:nvSpPr>
        <p:spPr>
          <a:xfrm>
            <a:off x="2000160" y="57168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152280" y="1553760"/>
            <a:ext cx="5634000" cy="3934440"/>
          </a:xfrm>
          <a:prstGeom prst="rect">
            <a:avLst/>
          </a:prstGeom>
          <a:solidFill>
            <a:srgbClr val="ffe3b9">
              <a:alpha val="48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Место: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Уберите со стола лишние вещи, удобно расположи те нужные учебники, тетради,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рандаши и т.п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6" descr=""/>
          <p:cNvPicPr/>
          <p:nvPr/>
        </p:nvPicPr>
        <p:blipFill>
          <a:blip r:embed="rId1"/>
          <a:stretch/>
        </p:blipFill>
        <p:spPr>
          <a:xfrm>
            <a:off x="5000760" y="4071960"/>
            <a:ext cx="3857400" cy="2571840"/>
          </a:xfrm>
          <a:prstGeom prst="rect">
            <a:avLst/>
          </a:prstGeom>
          <a:ln w="9360">
            <a:solidFill>
              <a:srgbClr val="491a03"/>
            </a:solidFill>
            <a:miter/>
          </a:ln>
          <a:effectLst>
            <a:outerShdw dist="126770" dir="189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49" name="Рисунок 6" descr="10.gif"/>
          <p:cNvPicPr/>
          <p:nvPr/>
        </p:nvPicPr>
        <p:blipFill>
          <a:blip r:embed="rId2"/>
          <a:stretch/>
        </p:blipFill>
        <p:spPr>
          <a:xfrm>
            <a:off x="7715160" y="500040"/>
            <a:ext cx="10000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4"/>
          <p:cNvSpPr/>
          <p:nvPr/>
        </p:nvSpPr>
        <p:spPr>
          <a:xfrm>
            <a:off x="457200" y="3180240"/>
            <a:ext cx="5357880" cy="3018600"/>
          </a:xfrm>
          <a:prstGeom prst="rect">
            <a:avLst/>
          </a:prstGeom>
          <a:solidFill>
            <a:srgbClr val="ffe3b9">
              <a:alpha val="48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ведите в интерьер комнаты желтый и фиолетовый цвета (они повышают интеллектуальную активность)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Box 4"/>
          <p:cNvSpPr/>
          <p:nvPr/>
        </p:nvSpPr>
        <p:spPr>
          <a:xfrm>
            <a:off x="1643040" y="71424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Рисунок 7" descr="bloema14.gif"/>
          <p:cNvPicPr/>
          <p:nvPr/>
        </p:nvPicPr>
        <p:blipFill>
          <a:blip r:embed="rId1"/>
          <a:stretch/>
        </p:blipFill>
        <p:spPr>
          <a:xfrm>
            <a:off x="714240" y="1214280"/>
            <a:ext cx="1505160" cy="17370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" descr=""/>
          <p:cNvPicPr/>
          <p:nvPr/>
        </p:nvPicPr>
        <p:blipFill>
          <a:blip r:embed="rId2"/>
          <a:srcRect l="16571" t="7275" r="13905" b="7843"/>
          <a:stretch/>
        </p:blipFill>
        <p:spPr>
          <a:xfrm>
            <a:off x="6500880" y="1428840"/>
            <a:ext cx="1857240" cy="30240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"/>
          <p:cNvPicPr/>
          <p:nvPr/>
        </p:nvPicPr>
        <p:blipFill>
          <a:blip r:embed="rId3"/>
          <a:stretch/>
        </p:blipFill>
        <p:spPr>
          <a:xfrm>
            <a:off x="5929200" y="4572000"/>
            <a:ext cx="2786040" cy="19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1"/>
          <p:cNvSpPr/>
          <p:nvPr/>
        </p:nvSpPr>
        <p:spPr>
          <a:xfrm>
            <a:off x="380880" y="1779480"/>
            <a:ext cx="7548840" cy="5213160"/>
          </a:xfrm>
          <a:prstGeom prst="rect">
            <a:avLst/>
          </a:prstGeom>
          <a:solidFill>
            <a:srgbClr val="ffe3b9">
              <a:alpha val="21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оставьте план занятий. Определите, кто вы - "сова" или "жаворонок", и в зависимости от этого максимально используйте утренние или вечерние часы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оставляя план на каждый день подготовки, необходимо четко определить, что именно сегодня будет изучаться. Не вообще: "немного позанимаюсь", а какие именно разделы и темы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Рисунок 2" descr="348.gif"/>
          <p:cNvPicPr/>
          <p:nvPr/>
        </p:nvPicPr>
        <p:blipFill>
          <a:blip r:embed="rId1"/>
          <a:stretch/>
        </p:blipFill>
        <p:spPr>
          <a:xfrm>
            <a:off x="7786800" y="5286240"/>
            <a:ext cx="933480" cy="1179720"/>
          </a:xfrm>
          <a:prstGeom prst="rect">
            <a:avLst/>
          </a:prstGeom>
          <a:ln w="0">
            <a:noFill/>
          </a:ln>
        </p:spPr>
      </p:pic>
      <p:pic>
        <p:nvPicPr>
          <p:cNvPr id="557" name="Рисунок 3" descr="ani-bird_blue.gif"/>
          <p:cNvPicPr/>
          <p:nvPr/>
        </p:nvPicPr>
        <p:blipFill>
          <a:blip r:embed="rId2"/>
          <a:stretch/>
        </p:blipFill>
        <p:spPr>
          <a:xfrm>
            <a:off x="214200" y="642960"/>
            <a:ext cx="1435320" cy="1147680"/>
          </a:xfrm>
          <a:prstGeom prst="rect">
            <a:avLst/>
          </a:prstGeom>
          <a:ln w="0">
            <a:noFill/>
          </a:ln>
        </p:spPr>
      </p:pic>
      <p:sp>
        <p:nvSpPr>
          <p:cNvPr id="558" name="TextBox 4"/>
          <p:cNvSpPr/>
          <p:nvPr/>
        </p:nvSpPr>
        <p:spPr>
          <a:xfrm>
            <a:off x="1714680" y="64296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Рисунок 5" descr="10.gif"/>
          <p:cNvPicPr/>
          <p:nvPr/>
        </p:nvPicPr>
        <p:blipFill>
          <a:blip r:embed="rId3"/>
          <a:stretch/>
        </p:blipFill>
        <p:spPr>
          <a:xfrm>
            <a:off x="7572240" y="571680"/>
            <a:ext cx="100044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2"/>
          <p:cNvSpPr/>
          <p:nvPr/>
        </p:nvSpPr>
        <p:spPr>
          <a:xfrm>
            <a:off x="533520" y="2357280"/>
            <a:ext cx="7610400" cy="3506760"/>
          </a:xfrm>
          <a:prstGeom prst="rect">
            <a:avLst/>
          </a:prstGeom>
          <a:solidFill>
            <a:srgbClr val="ffe3b9">
              <a:alpha val="2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Удачная альтернатива - техника подготовки "3-4-5". Время до экзамена (год, месяц, неделя) делится на три равные части. В первые, скажем, 10 дней надо пройти все темы на троечку, во вторые 10 дней - на четвёрку, а в оставшиеся - отшлифовать и убрать ошибки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Box 4"/>
          <p:cNvSpPr/>
          <p:nvPr/>
        </p:nvSpPr>
        <p:spPr>
          <a:xfrm>
            <a:off x="1643040" y="71424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Рисунок 3" descr="10.gif"/>
          <p:cNvPicPr/>
          <p:nvPr/>
        </p:nvPicPr>
        <p:blipFill>
          <a:blip r:embed="rId1"/>
          <a:stretch/>
        </p:blipFill>
        <p:spPr>
          <a:xfrm>
            <a:off x="7786800" y="428760"/>
            <a:ext cx="10000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Прямоугольник 2"/>
          <p:cNvSpPr/>
          <p:nvPr/>
        </p:nvSpPr>
        <p:spPr>
          <a:xfrm>
            <a:off x="609480" y="2428920"/>
            <a:ext cx="7248600" cy="3291840"/>
          </a:xfrm>
          <a:prstGeom prst="rect">
            <a:avLst/>
          </a:prstGeom>
          <a:solidFill>
            <a:srgbClr val="ffe3b9">
              <a:alpha val="12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Monotype Corsiva"/>
              </a:rPr>
              <a:t>Начните с самого трудного раздела, с того материала, который знаете хуже всего. Но если Вам трудно "раскачаться", можно начать с того материала, который наиболее всего интересен и приятен.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Box 4"/>
          <p:cNvSpPr/>
          <p:nvPr/>
        </p:nvSpPr>
        <p:spPr>
          <a:xfrm>
            <a:off x="3200400" y="91440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4" descr=""/>
          <p:cNvPicPr/>
          <p:nvPr/>
        </p:nvPicPr>
        <p:blipFill>
          <a:blip r:embed="rId1"/>
          <a:stretch/>
        </p:blipFill>
        <p:spPr>
          <a:xfrm>
            <a:off x="5929200" y="4906800"/>
            <a:ext cx="2928960" cy="1951200"/>
          </a:xfrm>
          <a:prstGeom prst="rect">
            <a:avLst/>
          </a:prstGeom>
          <a:ln w="9360">
            <a:solidFill>
              <a:srgbClr val="491a03"/>
            </a:solidFill>
            <a:miter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</p:pic>
      <p:pic>
        <p:nvPicPr>
          <p:cNvPr id="566" name="Picture 5" descr=""/>
          <p:cNvPicPr/>
          <p:nvPr/>
        </p:nvPicPr>
        <p:blipFill>
          <a:blip r:embed="rId2"/>
          <a:stretch/>
        </p:blipFill>
        <p:spPr>
          <a:xfrm>
            <a:off x="214200" y="285840"/>
            <a:ext cx="2928960" cy="1955880"/>
          </a:xfrm>
          <a:prstGeom prst="rect">
            <a:avLst/>
          </a:prstGeom>
          <a:ln w="9360">
            <a:solidFill>
              <a:srgbClr val="491a03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67" name="Рисунок 6" descr="10.gif"/>
          <p:cNvPicPr/>
          <p:nvPr/>
        </p:nvPicPr>
        <p:blipFill>
          <a:blip r:embed="rId3"/>
          <a:stretch/>
        </p:blipFill>
        <p:spPr>
          <a:xfrm>
            <a:off x="7858080" y="357120"/>
            <a:ext cx="10000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"/>
          <p:cNvSpPr/>
          <p:nvPr/>
        </p:nvSpPr>
        <p:spPr>
          <a:xfrm>
            <a:off x="914400" y="2448360"/>
            <a:ext cx="7372440" cy="3018600"/>
          </a:xfrm>
          <a:prstGeom prst="rect">
            <a:avLst/>
          </a:prstGeom>
          <a:solidFill>
            <a:srgbClr val="ffe3b9">
              <a:alpha val="10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Чередуйте занятия и отдых: 40 минут занятий, затем 10 минут – перерыв. Во время перерыва можно помыть посуду, полить цветы, сделать зарядку, принять душ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Box 4"/>
          <p:cNvSpPr/>
          <p:nvPr/>
        </p:nvSpPr>
        <p:spPr>
          <a:xfrm>
            <a:off x="2071800" y="57168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Рисунок 6" descr="10.gif"/>
          <p:cNvPicPr/>
          <p:nvPr/>
        </p:nvPicPr>
        <p:blipFill>
          <a:blip r:embed="rId1"/>
          <a:stretch/>
        </p:blipFill>
        <p:spPr>
          <a:xfrm>
            <a:off x="7572240" y="971640"/>
            <a:ext cx="1000440" cy="60156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9" descr="11.gif"/>
          <p:cNvPicPr/>
          <p:nvPr/>
        </p:nvPicPr>
        <p:blipFill>
          <a:blip r:embed="rId2"/>
          <a:stretch/>
        </p:blipFill>
        <p:spPr>
          <a:xfrm>
            <a:off x="7715160" y="5357880"/>
            <a:ext cx="857520" cy="831960"/>
          </a:xfrm>
          <a:prstGeom prst="rect">
            <a:avLst/>
          </a:prstGeom>
          <a:ln w="0">
            <a:noFill/>
          </a:ln>
        </p:spPr>
      </p:pic>
      <p:pic>
        <p:nvPicPr>
          <p:cNvPr id="572" name="Рисунок 10" descr="dart10.gif"/>
          <p:cNvPicPr/>
          <p:nvPr/>
        </p:nvPicPr>
        <p:blipFill>
          <a:blip r:embed="rId3"/>
          <a:stretch/>
        </p:blipFill>
        <p:spPr>
          <a:xfrm>
            <a:off x="500040" y="857160"/>
            <a:ext cx="1582920" cy="13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1"/>
          <p:cNvSpPr/>
          <p:nvPr/>
        </p:nvSpPr>
        <p:spPr>
          <a:xfrm>
            <a:off x="1600200" y="2883960"/>
            <a:ext cx="5657760" cy="3018600"/>
          </a:xfrm>
          <a:prstGeom prst="rect">
            <a:avLst/>
          </a:prstGeom>
          <a:solidFill>
            <a:srgbClr val="ffe3b9">
              <a:alpha val="1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Готовясь к экзаменам, мысленно рисуйте себе картину триумфа. Никогда не думай о том, что не справишься с заданием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Группа 8"/>
          <p:cNvGrpSpPr/>
          <p:nvPr/>
        </p:nvGrpSpPr>
        <p:grpSpPr>
          <a:xfrm>
            <a:off x="1928880" y="500040"/>
            <a:ext cx="6643800" cy="1334160"/>
            <a:chOff x="1928880" y="500040"/>
            <a:chExt cx="6643800" cy="1334160"/>
          </a:xfrm>
        </p:grpSpPr>
        <p:sp>
          <p:nvSpPr>
            <p:cNvPr id="575" name="TextBox 4"/>
            <p:cNvSpPr/>
            <p:nvPr/>
          </p:nvSpPr>
          <p:spPr>
            <a:xfrm>
              <a:off x="1928880" y="64296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6" name="Рисунок 5" descr="10.gif"/>
            <p:cNvPicPr/>
            <p:nvPr/>
          </p:nvPicPr>
          <p:blipFill>
            <a:blip r:embed="rId1"/>
            <a:stretch/>
          </p:blipFill>
          <p:spPr>
            <a:xfrm>
              <a:off x="7572600" y="5000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7" name="Рисунок 6" descr="CALVIN2.gif"/>
          <p:cNvPicPr/>
          <p:nvPr/>
        </p:nvPicPr>
        <p:blipFill>
          <a:blip r:embed="rId2"/>
          <a:stretch/>
        </p:blipFill>
        <p:spPr>
          <a:xfrm>
            <a:off x="7215120" y="4286160"/>
            <a:ext cx="1714680" cy="22557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5" descr="C:\Documents and Settings\Алена\Local Settings\Temporary Internet Files\Content.IE5\R9S2KF7R\MCj02504070000[1].wmf"/>
          <p:cNvPicPr/>
          <p:nvPr/>
        </p:nvPicPr>
        <p:blipFill>
          <a:blip r:embed="rId3"/>
          <a:stretch/>
        </p:blipFill>
        <p:spPr>
          <a:xfrm>
            <a:off x="285840" y="285840"/>
            <a:ext cx="2158920" cy="260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17:24:08Z</dcterms:created>
  <dc:creator>Фомичева Л.Ф.</dc:creator>
  <dc:description/>
  <dc:language>en-US</dc:language>
  <cp:lastModifiedBy>Коля</cp:lastModifiedBy>
  <cp:lastPrinted>1996-03-19T21:02:48Z</cp:lastPrinted>
  <dcterms:modified xsi:type="dcterms:W3CDTF">2013-04-18T11:22:57Z</dcterms:modified>
  <cp:revision>187</cp:revision>
  <dc:subject/>
  <dc:title>Добро пожаловать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871049</vt:lpwstr>
  </property>
</Properties>
</file>