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F8BD-68B1-4344-9BDA-4CA6F1738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E713-C51A-479E-8828-099C08B5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6C53-3DAA-4D0B-B1FD-298C2554F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20B0-8A1D-4BB3-86D5-922D50E62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9FCD-BA39-4B3A-874B-C22FEBDF1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FEEB-071C-44EF-8B58-1A33AE3E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D04F-AA5C-4529-90E6-AF1F208E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A4CE-358F-4333-958C-824F9CF4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FBE6-E53B-4C3C-9DCA-080D6246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F99B4-42AB-4F26-AB12-12DEA93A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A3C5-CA49-48BD-94BC-1CFD21DD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C9C9-6EEF-43C5-9D11-850DB5AC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2C52-F9D1-4A2B-B6B4-B2A5B869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818B1-DC08-4826-8614-612F090A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A1B3-90DA-4A8E-943B-31FA6B99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FA4BB-C098-49BA-BB59-96A254677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9EE80-7C8E-4284-9B3E-EBFC2AB03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30C4-26D9-4B14-B599-FBCAD0D2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8AF6-FD7F-40A3-8A9A-8B37EBD6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921F-52CC-4248-9F2C-F992BF37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B108-F9A0-4AB4-A3EC-65F4B0CB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7CBC-39EC-4FAF-BB86-B70D25EF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48AF-7B53-41DA-9BE7-81099A76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2039-C183-4354-84E2-5DD6DE52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3b9e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05A0-5A68-4BE0-8140-F23191DB905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3b9e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2F33-B068-40F0-9ADD-540AE7D3516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Круговорот веществ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995280" y="4221000"/>
            <a:ext cx="3102120" cy="11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кции по эк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ф.Хи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ТИ ЮФ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ц.,к.х.н. Е.В.Воробь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Круговорот фосфор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фосфор copy"/>
          <p:cNvPicPr/>
          <p:nvPr/>
        </p:nvPicPr>
        <p:blipFill>
          <a:blip r:embed="rId1"/>
          <a:stretch/>
        </p:blipFill>
        <p:spPr>
          <a:xfrm>
            <a:off x="179280" y="1197000"/>
            <a:ext cx="879480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руговорот вод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вода copy"/>
          <p:cNvPicPr/>
          <p:nvPr/>
        </p:nvPicPr>
        <p:blipFill>
          <a:blip r:embed="rId1"/>
          <a:stretch/>
        </p:blipFill>
        <p:spPr>
          <a:xfrm>
            <a:off x="611280" y="1413000"/>
            <a:ext cx="7659720" cy="5126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круговорот кальция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вестняки (как и др. породы) на континенте разрушаются - растворимые соли кальция реками сносятся в море (ежегодно около 5·1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кальция. В тёплых морях углекислый кальций интенсивно потребляется низшими организмами — фораминиферами, кораллами и др. — на постройку своих скелетов. После гибели этих организмов их скелеты из углекислого кальция образуют осадки на дне морей - формируется порода — известняк. При регрессии моря известняк обнажается, оказывается на суше и начинается процесс его разрушения. Но состав вновь образующегося известняка несколько иной. Так, оказалось, что палеозойские известняки более богаты углекислым магнием, известняки же более молодые — беднее углекислым магнием. При излиянии лавы известняки частично могут быть ею ассимилированы, т. е. войти в большой круговорот вещест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Круговорот серы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ера в виде трёхокиси (SO</a:t>
            </a:r>
            <a:r>
              <a:rPr b="0" lang="ru-RU" sz="21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, двуокиси (SO</a:t>
            </a:r>
            <a:r>
              <a:rPr b="0" lang="ru-RU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, сероводорода (H</a:t>
            </a:r>
            <a:r>
              <a:rPr b="0" lang="ru-RU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S) и главным образом элементарной серы выбрасывается вулканам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природе - сульфиды металлов: железа, свинца, цинка и др. Сульфидная сера окисляется в биосфере при участии микроорганизмов до сульфатной серы (SO''</a:t>
            </a:r>
            <a:r>
              <a:rPr b="0" lang="ru-RU" sz="21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 почв и водоёмов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ульфаты поглощаются растениями. В организмах сера входит в состав аминокислот и белков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цессы разрушения остатков организмов в почвах и в илах морей сопровождаются очень сложными превращениями серы. При разрушении белков с участием микроорганизмов образуется сероводород, который далее окисляется до элементарной серы или до сульфатов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ероводород может вновь образовать «вторичные» сульфиды, а сульфатная сера — залежи гипса. Сульфиды и гипс вновь подвергаются разрушению, и сера возобновляет свою миграцию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Задание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амостоятельно предложить схему круговорота с участием конкретных организмов и факторов неживой природы для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ислоро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Желез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глеро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зо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9640" y="14839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уговорот вещест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повторяющиеся процессы превращения и перемещения вещества в природе, имеющие более или менее выраженный циклический характе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ют поступательное движение - не происходит полного повторения циклов, всегда имеются те или иные изменения в количестве и составе образующихся вещест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Разделение веществ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4546440" cy="44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 млрд. лет назад произошла дифференциация вещества Земли, разделение его на ряд геосфер: атмосферу, гидросферу, земную кору, гранитную, базальтовую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ду всеми геосферами и внутри каждой продолжался обмен веществ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ачале наиболее существенную роль играл вынос вещества из недр Земли на поверхность в результате процессов выплавления легкоплавкого вещества Земли и дега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планету copy"/>
          <p:cNvPicPr/>
          <p:nvPr/>
        </p:nvPicPr>
        <p:blipFill>
          <a:blip r:embed="rId1"/>
          <a:stretch/>
        </p:blipFill>
        <p:spPr>
          <a:xfrm>
            <a:off x="4788000" y="1700280"/>
            <a:ext cx="4140000" cy="4140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42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Продолжительность цикл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74167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олжительность того пли иного цикла можно условно оценить по тому времени, которое было бы необходимо, чтобы вся масса данного вещества могла обернуться один раз на Земле в том или ином процес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ремя, достаточное для полного оборота веще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68360" y="2492280"/>
          <a:ext cx="8147160" cy="3652920"/>
        </p:xfrm>
        <a:graphic>
          <a:graphicData uri="http://schemas.openxmlformats.org/drawingml/2006/table">
            <a:tbl>
              <a:tblPr/>
              <a:tblGrid>
                <a:gridCol w="5832360"/>
                <a:gridCol w="2314800"/>
              </a:tblGrid>
              <a:tr h="48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еств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 (годы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лекислый газ атмосферы (через фотосинтез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лород атмосферы (через фотосинтез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а океана (путём испарения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от атмосферы (путём окисления электрическими разрядами, фотохимическим путём и биологической фиксацией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ество континентов (путём денудации — выветривания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0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76720" y="620280"/>
            <a:ext cx="350064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УГЛЕРОД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858920" y="1773000"/>
            <a:ext cx="41115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глерод — основной биогенный элемент; играет важнейшую роль в образовании живого вещества биосферы. 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з атмосферы в процессе фотосинте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ссимилируется и превращается в органические соединения растений. Растительные организмы, особенно низшие микроорганизмы, морской фитопланктон, благодаря исключительной скорости размножения продуцируют в год около 1,5·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глерода в виде органической массы, что соответствует 5,86·1020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ж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1,4·1020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а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нерг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68360" y="549360"/>
          <a:ext cx="4249800" cy="5905440"/>
        </p:xfrm>
        <a:graphic>
          <a:graphicData uri="http://schemas.openxmlformats.org/drawingml/2006/table">
            <a:tbl>
              <a:tblPr/>
              <a:tblGrid>
                <a:gridCol w="2808360"/>
                <a:gridCol w="1441440"/>
              </a:tblGrid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са (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вотн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*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*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мосф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е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сив.крист.пор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ни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оль, нефть и т.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ст.сланц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бон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Круговорот углерод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углерод copy"/>
          <p:cNvPicPr/>
          <p:nvPr/>
        </p:nvPicPr>
        <p:blipFill>
          <a:blip r:embed="rId1"/>
          <a:stretch/>
        </p:blipFill>
        <p:spPr>
          <a:xfrm>
            <a:off x="539640" y="1557360"/>
            <a:ext cx="7981920" cy="4876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18920" y="122400"/>
            <a:ext cx="638172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АЗО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сточником азота на Земле был вулканогенный NH</a:t>
            </a:r>
            <a:r>
              <a:rPr b="0" lang="ru-RU" sz="21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окисленный O</a:t>
            </a:r>
            <a:r>
              <a:rPr b="0" lang="ru-RU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Основная масса азота - в виде газа N</a:t>
            </a:r>
            <a:r>
              <a:rPr b="0" lang="ru-RU" sz="21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атмосфере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ути его вовлечения в биогенный круговорот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1) процессы электрического (в тихом разряде) и фотохимического окисления азота воздуха, дающие разные окислы азота, которые растворяются в дождевой воде и вносятся т. о. в почвы, воду океана (30мг нитратов на 1 кв.м. в год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2) биологическая фиксация N</a:t>
            </a:r>
            <a:r>
              <a:rPr b="0" lang="ru-RU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клубеньковыми бактериями, свободными азотфиксаторами и др. микроорганизмами. (100мг нитратов на 1 кв.м. в год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начение азота в обмене веществ - входит в состав белков и их разнообразных производных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685152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Круговорот азот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7" name="Picture 4" descr="азот copy"/>
          <p:cNvPicPr/>
          <p:nvPr/>
        </p:nvPicPr>
        <p:blipFill>
          <a:blip r:embed="rId1"/>
          <a:stretch/>
        </p:blipFill>
        <p:spPr>
          <a:xfrm>
            <a:off x="1332000" y="907920"/>
            <a:ext cx="6202440" cy="5743800"/>
          </a:xfrm>
          <a:prstGeom prst="rect">
            <a:avLst/>
          </a:prstGeom>
          <a:ln w="0">
            <a:solidFill>
              <a:srgbClr val="000000"/>
            </a:solidFill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ФОСФОР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сточник фосфора в биосфере – апатит (в магматических породах). В превращениях фосфора большую роль играет живое вещество. Организмы извлекают фосфор из почв, водных растворов. Фосфор входит в состав белков, нуклеиновых кислот, лецитинов, фитина и др. органических соединений; особенно много фосфора в костях животных. С гибелью организмов фосфор возвращается в почву и в донные отложения. Он концентрируется в виде морских фосфатных конкреций, отложений костей рыб, гуано, что создаёт условия для образования богатых фосфором пород, которые, в свою очередь, служат источниками фосфора в биогенном цикл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18:05:59Z</dcterms:created>
  <dc:creator>all right</dc:creator>
  <dc:description/>
  <dc:language>en-US</dc:language>
  <cp:lastModifiedBy>ZooM</cp:lastModifiedBy>
  <dcterms:modified xsi:type="dcterms:W3CDTF">2013-12-06T01:40:25Z</dcterms:modified>
  <cp:revision>5</cp:revision>
  <dc:subject/>
  <dc:title>Круговорот веществ</dc:title>
</cp:coreProperties>
</file>