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DC5-53C3-4AFA-9755-AE8D46DE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3A1-EF2F-42AA-B626-0609FF10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40E-187D-4980-8371-D321A9CB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B39-1222-435A-B6F5-6BBF777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9C07-AE3C-45DE-87AA-B37E95E7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DE60-BFEB-4F07-A24A-420D365B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1467-A564-45E9-B33C-4116BB4B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9FB6-7DC0-4834-9F8D-924216D1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C8E5-47CB-4F9D-9606-E3D4153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8FC7-81EE-417F-827B-D91B804C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291-7E27-4470-A138-7C85680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087-1B83-40FF-A4B0-5E08F9C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4C59-ACFC-417A-8CC8-21C9DB5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C883-5DAB-4CEE-94D0-593F77EB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605E-814D-4CC4-B2AF-05273C07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9D60-EA70-4395-B62E-C39AA9A5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D174-1DBF-478A-9AA3-D32BE05F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286-FCEE-424F-A362-7515111B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DE2-864A-4FFE-9D8F-38ACC96D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2AA-A466-4013-A7B3-C9964DB2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98A-2142-4C52-9DF8-7C045B41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B75-2057-4308-975D-33459AD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0E2-FA2C-46D1-9941-B0D7152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A15-75D4-433D-9CD2-4C7E767A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b9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85EA-C909-4BC2-9B4D-A4E28E3362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b9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60A9-6CBA-4284-ADE9-1165C4FB4B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руговорот веществ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95280" y="4221000"/>
            <a:ext cx="310212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по эк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.Хи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ТИ Ю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ц.,к.х.н. Е.В.Вороб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фосфор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фосфор copy"/>
          <p:cNvPicPr/>
          <p:nvPr/>
        </p:nvPicPr>
        <p:blipFill>
          <a:blip r:embed="rId1"/>
          <a:stretch/>
        </p:blipFill>
        <p:spPr>
          <a:xfrm>
            <a:off x="179280" y="1197000"/>
            <a:ext cx="8794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уговорот 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вода copy"/>
          <p:cNvPicPr/>
          <p:nvPr/>
        </p:nvPicPr>
        <p:blipFill>
          <a:blip r:embed="rId1"/>
          <a:stretch/>
        </p:blipFill>
        <p:spPr>
          <a:xfrm>
            <a:off x="611280" y="1413000"/>
            <a:ext cx="7659720" cy="512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кальц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вестняки (как и др. породы) на континенте разрушаются - растворимые соли кальция реками сносятся в море (ежегодно около 5·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льция. В тёплых морях углекислый кальций интенсивно потребляется низшими организмами — фораминиферами, кораллами и др. — на постройку своих скелетов. После гибели этих организмов их скелеты из углекислого кальция образуют осадки на дне морей - формируется порода — известняк. При регрессии моря известняк обнажается, оказывается на суше и начинается процесс его разрушения. Но состав вновь образующегося известняка несколько иной. Так, оказалось, что палеозойские известняки более богаты углекислым магнием, известняки же более молодые — беднее углекислым магнием. При излиянии лавы известняки частично могут быть ею ассимилированы, т. е. войти в большой круговорот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сер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а в виде трёхокиси (S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двуокиси (S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сероводорода (H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S) и главным образом элементарной серы выбрасывается вулкан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природе - сульфиды металлов: железа, свинца, цинка и др. Сульфидная сера окисляется в биосфере при участии микроорганизмов до сульфатной серы (SO''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почв и водоём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льфаты поглощаются растениями. В организмах сера входит в состав аминокислот и бел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цессы разрушения остатков организмов в почвах и в илах морей сопровождаются очень сложными превращениями серы. При разрушении белков с участием микроорганизмов образуется сероводород, который далее окисляется до элементарной серы или до сульфа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оводород может вновь образовать «вторичные» сульфиды, а сульфатная сера — залежи гипса. Сульфиды и гипс вновь подвергаются разрушению, и сера возобновляет свою миграцию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стоятельно предложить схему круговорота с участием конкретных организмов и факторов неживой природы дл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лер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з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оворот вещест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овторяющиеся процессы превращения и перемещения вещества в природе, имеющие более или менее выраженный циклический харак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поступательное движение - не происходит полного повторения циклов, всегда имеются те или иные изменения в количестве и составе образующихся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Разделение веще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5464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млрд. лет назад произошла дифференциация вещества Земли, разделение его на ряд геосфер: атмосферу, гидросферу, земную кору, гранитную, базальтовую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всеми геосферами и внутри каждой продолжался обмен вещ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ачале наиболее существенную роль играл вынос вещества из недр Земли на поверхность в результате процессов выплавления легкоплавкого вещества Земли и дега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планету copy"/>
          <p:cNvPicPr/>
          <p:nvPr/>
        </p:nvPicPr>
        <p:blipFill>
          <a:blip r:embed="rId1"/>
          <a:stretch/>
        </p:blipFill>
        <p:spPr>
          <a:xfrm>
            <a:off x="4788000" y="1700280"/>
            <a:ext cx="4140000" cy="41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должительность цикл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416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того пли иного цикла можно условно оценить по тому времени, которое было бы необходимо, чтобы вся масса данного вещества могла обернуться один раз на Земле в том или и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, достаточное для полного оборота вещ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2492280"/>
          <a:ext cx="8147160" cy="3652920"/>
        </p:xfrm>
        <a:graphic>
          <a:graphicData uri="http://schemas.openxmlformats.org/drawingml/2006/table">
            <a:tbl>
              <a:tblPr/>
              <a:tblGrid>
                <a:gridCol w="5832360"/>
                <a:gridCol w="2314800"/>
              </a:tblGrid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(годы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кислый газ атмосферы (через фотосинтез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 атмосферы (через фотосинтез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 океана (путём испарен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 атмосферы (путём окисления электрическими разрядами, фотохимическим путём и биологической фиксацие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 континентов (путём денудации — выветриван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6720" y="620280"/>
            <a:ext cx="350064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ГЛЕРОД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58920" y="1773000"/>
            <a:ext cx="41115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 — основной биогенный элемент; играет важнейшую роль в образовании живого вещества биосферы.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атмосферы в процессе фотосинте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имилируется и превращается в органические соединения растений. Растительные организмы, особенно низшие микроорганизмы, морской фитопланктон, благодаря исключительной скорости размножения продуцируют в год около 1,5·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а в виде органической массы, что соответствует 5,86·102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,4·102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549360"/>
          <a:ext cx="4249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(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.крист.по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, нефть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ст.слан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бон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углерод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углерод copy"/>
          <p:cNvPicPr/>
          <p:nvPr/>
        </p:nvPicPr>
        <p:blipFill>
          <a:blip r:embed="rId1"/>
          <a:stretch/>
        </p:blipFill>
        <p:spPr>
          <a:xfrm>
            <a:off x="539640" y="1557360"/>
            <a:ext cx="7981920" cy="487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8920" y="122400"/>
            <a:ext cx="638172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ЗО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чником азота на Земле был вулканогенный NH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окисленный 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сновная масса азота - в виде газа N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атмосфе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его вовлечения в биогенный круговоро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) процессы электрического (в тихом разряде) и фотохимического окисления азота воздуха, дающие разные окислы азота, которые растворяются в дождевой воде и вносятся т. о. в почвы, воду океана (30мг нитратов на 1 кв.м. в год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) биологическая фиксация N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лубеньковыми бактериями, свободными азотфиксаторами и др. микроорганизмами. (100мг нитратов на 1 кв.м. в год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ение азота в обмене веществ - входит в состав белков и их разнообразных производны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15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азо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азот copy"/>
          <p:cNvPicPr/>
          <p:nvPr/>
        </p:nvPicPr>
        <p:blipFill>
          <a:blip r:embed="rId1"/>
          <a:stretch/>
        </p:blipFill>
        <p:spPr>
          <a:xfrm>
            <a:off x="1332000" y="907920"/>
            <a:ext cx="6202440" cy="5743800"/>
          </a:xfrm>
          <a:prstGeom prst="rect">
            <a:avLst/>
          </a:prstGeom>
          <a:ln w="0">
            <a:solidFill>
              <a:srgbClr val="0000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ОСФО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чник фосфора в биосфере – апатит (в магматических породах). В превращениях фосфора большую роль играет живое вещество. Организмы извлекают фосфор из почв, водных растворов. Фосфор входит в состав белков, нуклеиновых кислот, лецитинов, фитина и др. органических соединений; особенно много фосфора в костях животных. С гибелью организмов фосфор возвращается в почву и в донные отложения. Он концентрируется в виде морских фосфатных конкреций, отложений костей рыб, гуано, что создаёт условия для образования богатых фосфором пород, которые, в свою очередь, служат источниками фосфора в биогенном цикл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8:05:59Z</dcterms:created>
  <dc:creator>all right</dc:creator>
  <dc:description/>
  <dc:language>en-US</dc:language>
  <cp:lastModifiedBy>ZooM</cp:lastModifiedBy>
  <dcterms:modified xsi:type="dcterms:W3CDTF">2013-12-06T01:40:25Z</dcterms:modified>
  <cp:revision>5</cp:revision>
  <dc:subject/>
  <dc:title>Круговорот веществ</dc:title>
</cp:coreProperties>
</file>