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62B-5C68-458D-96CC-4C122AC4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D16-0825-45E9-9DF8-853FD2C8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178-656F-4804-8434-2C456C5D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79B-B054-40A0-88F1-1AE5E484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2652-93B2-4311-AF5E-AA364505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75E-8B19-4F68-8439-7EE1EE9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A36-148E-41AF-A79B-18D927B6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F12B-CE7B-4887-B53D-9C4D254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20F8-9762-4CDC-8AC0-141FAC1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5BA-354F-4BA1-97C6-D0E7D89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EE6B-68D4-4836-8084-F6D0A817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B77-A61A-4012-BAE3-FBBE044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C043-4689-42D7-AC95-F7558C1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CAF2-E804-4C3B-8CF5-776BF2D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B54B-1093-42D7-8371-02E1C0A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A3AE-2179-44B7-8A1F-D3238884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2FFE-31B7-4EA6-BE7B-E70C079E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730-CAF2-41F7-992C-C3F1827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7BC-E501-4DAB-85F8-036E20E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D1D-C5EB-42A1-882F-82F21AF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3C0-E933-4BEC-BD6E-0E1B0D2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000-E616-4034-BB7E-6FF0881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C44-BE18-4661-93C4-3D09714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9C6-90C8-4A14-8ED5-9297D27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39E-2117-4245-BAC6-04E90E94BD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968-DD3C-480D-8B16-FEFCB3D682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руговорот вещест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95280" y="4221000"/>
            <a:ext cx="310212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по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.Хи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ТИ Ю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ц.,к.х.н. Е.В.Воро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фосфор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фосфор copy"/>
          <p:cNvPicPr/>
          <p:nvPr/>
        </p:nvPicPr>
        <p:blipFill>
          <a:blip r:embed="rId1"/>
          <a:stretch/>
        </p:blipFill>
        <p:spPr>
          <a:xfrm>
            <a:off x="179280" y="1197000"/>
            <a:ext cx="8794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уговорот 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вода copy"/>
          <p:cNvPicPr/>
          <p:nvPr/>
        </p:nvPicPr>
        <p:blipFill>
          <a:blip r:embed="rId1"/>
          <a:stretch/>
        </p:blipFill>
        <p:spPr>
          <a:xfrm>
            <a:off x="611280" y="1413000"/>
            <a:ext cx="7659720" cy="512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кальц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вестняки (как и др. породы) на континенте разрушаются - растворимые соли кальция реками сносятся в море (ежегодно около 5·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льция. В тёплых морях углекислый кальций интенсивно потребляется низшими организмами — фораминиферами, кораллами и др. — на постройку своих скелетов. После гибели этих организмов их скелеты из углекислого кальция образуют осадки на дне морей - формируется порода — известняк. При регрессии моря известняк обнажается, оказывается на суше и начинается процесс его разрушения. Но состав вновь образующегося известняка несколько иной. Так, оказалось, что палеозойские известняки более богаты углекислым магнием, известняки же более молодые — беднее углекислым магнием. При излиянии лавы известняки частично могут быть ею ассимилированы, т. е. войти в большой круговорот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сер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а в виде трёх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дву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сероводорода (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S) и главным образом элементарной серы выбрасывается вулкан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рироде - сульфиды металлов: железа, свинца, цинка и др. Сульфидная сера окисляется в биосфере при участии микроорганизмов до сульфатной серы (SO''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почв и водоём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льфаты поглощаются растениями. В организмах сера входит в состав аминокислот и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цессы разрушения остатков организмов в почвах и в илах морей сопровождаются очень сложными превращениями серы. При разрушении белков с участием микроорганизмов образуется сероводород, который далее окисляется до элементарной серы или до сульфа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оводород может вновь образовать «вторичные» сульфиды, а сульфатная сера — залежи гипса. Сульфиды и гипс вновь подвергаются разрушению, и сера возобновляет свою миграци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о предложить схему круговорота с участием конкретных организмов и факторов неживой природы дл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ле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з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оворот веще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овторяющиеся процессы превращения и перемещения вещества в природе, имеющие более или менее выраженный циклически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поступательное движение - не происходит полного повторения циклов, всегда имеются те или иные изменения в количестве и составе образующихся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Разделение ве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5464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млрд. лет назад произошла дифференциация вещества Земли, разделение его на ряд геосфер: атмосферу, гидросферу, земную кору, гранитную, базальтовую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всеми геосферами и внутри каждой продолжался обмен ве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наиболее существенную роль играл вынос вещества из недр Земли на поверхность в результате процессов выплавления легкоплавкого вещества Земли и дега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планету copy"/>
          <p:cNvPicPr/>
          <p:nvPr/>
        </p:nvPicPr>
        <p:blipFill>
          <a:blip r:embed="rId1"/>
          <a:stretch/>
        </p:blipFill>
        <p:spPr>
          <a:xfrm>
            <a:off x="4788000" y="1700280"/>
            <a:ext cx="4140000" cy="41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должительность цик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того пли иного цикла можно условно оценить по тому времени, которое было бы необходимо, чтобы вся масса данного вещества могла обернуться один раз на Земле в том или и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, достаточное для полного оборота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2492280"/>
          <a:ext cx="8147160" cy="3652920"/>
        </p:xfrm>
        <a:graphic>
          <a:graphicData uri="http://schemas.openxmlformats.org/drawingml/2006/table">
            <a:tbl>
              <a:tblPr/>
              <a:tblGrid>
                <a:gridCol w="5832360"/>
                <a:gridCol w="2314800"/>
              </a:tblGrid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годы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 газ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океана (путём испар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атмосферы (путём окисления электрическими разрядами, фотохимическим путём и биологической фиксацие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континентов (путём денудации — выветрива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720" y="620280"/>
            <a:ext cx="350064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ЛЕР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41115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 — основной биогенный элемент; играет важнейшую роль в образовании живого вещества биосферы.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атмосферы в процессе фотосинт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имилируется и превращается в органические соединения растений. Растительные организмы, особенно низшие микроорганизмы, морской фитопланктон, благодаря исключительной скорости размножения продуцируют в год около 1,5·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а в виде органической массы, что соответствует 5,86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,4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549360"/>
          <a:ext cx="4249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(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.крист.по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, нефть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ст.слан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бон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углерод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углерод copy"/>
          <p:cNvPicPr/>
          <p:nvPr/>
        </p:nvPicPr>
        <p:blipFill>
          <a:blip r:embed="rId1"/>
          <a:stretch/>
        </p:blipFill>
        <p:spPr>
          <a:xfrm>
            <a:off x="539640" y="1557360"/>
            <a:ext cx="7981920" cy="487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122400"/>
            <a:ext cx="638172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ЗО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ом азота на Земле был вулканогенный N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кисленный 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сновная масса азота - в виде газа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его вовлечения в биогенный круговоро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) процессы электрического (в тихом разряде) и фотохимического окисления азота воздуха, дающие разные окислы азота, которые растворяются в дождевой воде и вносятся т. о. в почвы, воду океана (30мг нитратов на 1 кв.м. в год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) биологическая фиксация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лубеньковыми бактериями, свободными азотфиксаторами и др. микроорганизмами. (100мг нитратов на 1 кв.м. в год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азота в обмене веществ - входит в состав белков и их разнообразных производны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15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азо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азот copy"/>
          <p:cNvPicPr/>
          <p:nvPr/>
        </p:nvPicPr>
        <p:blipFill>
          <a:blip r:embed="rId1"/>
          <a:stretch/>
        </p:blipFill>
        <p:spPr>
          <a:xfrm>
            <a:off x="1332000" y="907920"/>
            <a:ext cx="6202440" cy="574380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ОСФО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 фосфора в биосфере – апатит (в магматических породах). В превращениях фосфора большую роль играет живое вещество. Организмы извлекают фосфор из почв, водных растворов. Фосфор входит в состав белков, нуклеиновых кислот, лецитинов, фитина и др. органических соединений; особенно много фосфора в костях животных. С гибелью организмов фосфор возвращается в почву и в донные отложения. Он концентрируется в виде морских фосфатных конкреций, отложений костей рыб, гуано, что создаёт условия для образования богатых фосфором пород, которые, в свою очередь, служат источниками фосфора в биогенном цикл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05:59Z</dcterms:created>
  <dc:creator>all right</dc:creator>
  <dc:description/>
  <dc:language>en-US</dc:language>
  <cp:lastModifiedBy>ZooM</cp:lastModifiedBy>
  <dcterms:modified xsi:type="dcterms:W3CDTF">2013-12-06T01:40:25Z</dcterms:modified>
  <cp:revision>5</cp:revision>
  <dc:subject/>
  <dc:title>Круговорот веществ</dc:title>
</cp:coreProperties>
</file>