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66F5-AF89-4B85-B5D5-ECD19A997E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93F6-2CB4-4074-A238-D8459654FD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788F-B1E7-457C-9CC8-EBBE2F51AB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EEC-D68E-445C-B301-12062F982C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346A-36C3-430F-A42A-C6C1B90274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6883-9F3A-4B3E-936B-2DCCCAD835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9220-BCF7-41E2-9F4F-FDC651F298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7D8D-28C9-4909-A544-4DD9AE2318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BB7D-D057-49EC-B44F-049F5E4CD4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DC38-C0C0-4D00-8CE5-960A0C8770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4460-693E-4498-B7A1-50DAFB1315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E489-93C7-4520-9B68-FE037024AE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240F-5CFE-4FA2-A4B6-0D1C9255DA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E58D-64D4-4561-A295-47B1B522D9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5050-FC5A-49F9-AFB1-094EC7D53C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631D-ACD0-4DB8-B7DF-251A946F5C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02A1-088F-46B3-9028-3F34EBB87F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775-4273-49BA-8399-344F459C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A0A-CD58-4365-8333-E57A7E31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D9D-BC36-46E2-BF05-0536DD60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556-27D4-43C7-B401-2DBC9F15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1002-BE21-44BD-9E23-8A0F3974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27F4-4DA1-4790-87BB-F0409AC5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B542-E543-4334-B4B5-F2A5A801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253C-E654-4F2D-9D59-FED7D33F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F39-D177-465B-ACB7-97C22635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C1C4-8515-4951-AFDE-1172A1A9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57C-B516-45D4-B65A-76EEB9A8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2EA-3807-4816-AEDE-10A597E1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7B81-77A4-4C0C-963B-439300FD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843C-B5FC-44CA-AF36-3687C9D9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826C-9AB2-435C-B9B4-A4484F9D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B66A-ED7B-4DC4-AA4A-A2056C62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090D-A480-4F01-93F9-47EF024B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1BAF4-DF92-42B9-B3A6-5895E0E7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AA726-085B-4989-8ABC-EE56414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E86B7-7920-4241-8EFC-BAD079E9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45E59-095D-40C6-B580-CF773D63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F9BE7-73CA-4D55-B34B-0809D049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753-DD1F-4F04-9244-F06D6CB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CCC31-F847-43E7-B76C-6D77BAD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AD872-3C03-4581-9384-B00B41E7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4C6CC-74AA-4718-966A-68C5B850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76EFC-7E16-4DBF-AEDA-3F7EF7AB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5E0AF-6205-4C51-965F-6CC71D1A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D8DCA-9680-460A-81DD-244FE775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3126D-AF91-4865-A042-9A0F6CC0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0324-B685-4D6D-8E4E-3ED70F79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AF285-1C67-45A4-B863-6D77882A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845BD-0609-44C8-97C0-E6DE0F07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29A-9B18-4C41-92F1-1558EBB7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9761-14BF-49DB-9A55-F9F6225B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5B931-25DD-4653-8C1A-8D33D64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298E-F648-4EA1-A44D-7B1023EF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0A66-047C-4C98-A709-0A7A8B00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A75B8-63A9-4450-95B5-89E4E31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BE17-96C9-4A13-8ADA-F96AE476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9E0F7-A886-41EE-9E55-4D29DC27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E578-C680-436C-B366-716B13F7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141DF-8D9A-42D8-BA02-BD9956FD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E7B-15A4-47F4-B538-5CDE0A77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247-AE0C-4887-A259-D6C53D4F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EBC-5DDF-4AD5-B5ED-C0E6C202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22D-4838-4F66-8F2A-CA9F576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689-909C-4CAD-8460-8DD1FA0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F8D1-4419-4D99-AC93-4FC78B7CC64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7CE1-B975-4090-A0B6-4979772E99C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52F0-2C93-4606-B924-52C945B1EF9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5537-4D27-49D7-8C60-F618F23D623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ическая лаборатор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Цель: систематизировать знания по теме «Функции и их графики», закрепить навыки работы с графиками функц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642960" y="1285920"/>
          <a:ext cx="741528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285920"/>
                    <a:ext cx="741528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а функция 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 = ах</a:t>
            </a:r>
            <a:r>
              <a:rPr b="1" i="1" lang="ru-RU" sz="2800" spc="-1" strike="noStrike" baseline="30000">
                <a:solidFill>
                  <a:srgbClr val="424456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+ Ьх + с</a:t>
            </a:r>
            <a:r>
              <a:rPr b="0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 каком рисунке изображен график этой функции, если известно, что 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 &gt;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квадратный трехчлен   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24456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+ Ьх + с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меет два положительных корня?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500040" y="2857680"/>
            <a:ext cx="1357200" cy="2786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2286000" y="2857680"/>
            <a:ext cx="1428840" cy="2786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3"/>
          <a:stretch/>
        </p:blipFill>
        <p:spPr>
          <a:xfrm>
            <a:off x="4357800" y="2786040"/>
            <a:ext cx="135720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4"/>
          <a:stretch/>
        </p:blipFill>
        <p:spPr>
          <a:xfrm>
            <a:off x="6429240" y="2786040"/>
            <a:ext cx="142884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спользуя график функции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f(x)</a:t>
            </a: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 определите какое утверждение верно.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2)=4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.Функция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f(x)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озрастает на промежутке (-∞;1]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f(x)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&lt;0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-0,5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&lt;x&lt;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3  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Г.Нулями функции являются числа -0,5;1-;3.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Содержимое 3" descr="IMG_0008.jpg"/>
          <p:cNvPicPr/>
          <p:nvPr/>
        </p:nvPicPr>
        <p:blipFill>
          <a:blip r:embed="rId1"/>
          <a:stretch/>
        </p:blipFill>
        <p:spPr>
          <a:xfrm>
            <a:off x="1071720" y="2571840"/>
            <a:ext cx="6858000" cy="357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кой из графиков функции изображен на рисунке?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+4   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2x +4   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x² -4   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x² +4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3" descr="IMG_0009.jpg"/>
          <p:cNvPicPr/>
          <p:nvPr/>
        </p:nvPicPr>
        <p:blipFill>
          <a:blip r:embed="rId1"/>
          <a:stretch/>
        </p:blipFill>
        <p:spPr>
          <a:xfrm>
            <a:off x="1428840" y="2571840"/>
            <a:ext cx="6429240" cy="350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кая из следующих прямых отсутствует на рисунке?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+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Б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-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В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2x +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Г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2x -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Содержимое 3" descr="IMG_0010.jpg"/>
          <p:cNvPicPr/>
          <p:nvPr/>
        </p:nvPicPr>
        <p:blipFill>
          <a:blip r:embed="rId1"/>
          <a:stretch/>
        </p:blipFill>
        <p:spPr>
          <a:xfrm>
            <a:off x="1143000" y="2000160"/>
            <a:ext cx="6643800" cy="400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 рисунке изображен график функции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f(x)</a:t>
            </a: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 Используя график, сравните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-1,5) </a:t>
            </a: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1,5)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-1,5) &lt; f(1,5)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Б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f(-1,5) &gt; f(1,5)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f(-1,5) = f(1,5)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Г.Сравнить нельзя.</a:t>
            </a:r>
            <a:br>
              <a:rPr sz="25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Содержимое 3" descr="IMG_0011.jpg"/>
          <p:cNvPicPr/>
          <p:nvPr/>
        </p:nvPicPr>
        <p:blipFill>
          <a:blip r:embed="rId1"/>
          <a:stretch/>
        </p:blipFill>
        <p:spPr>
          <a:xfrm>
            <a:off x="1071720" y="2500200"/>
            <a:ext cx="6858000" cy="344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Задайте аналитически функцию, график которой изображен на рисунке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8" name="Содержимое 3" descr="IMG_0012.jpg"/>
          <p:cNvPicPr/>
          <p:nvPr/>
        </p:nvPicPr>
        <p:blipFill>
          <a:blip r:embed="rId1"/>
          <a:stretch/>
        </p:blipFill>
        <p:spPr>
          <a:xfrm>
            <a:off x="928800" y="2500200"/>
            <a:ext cx="735804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вторить определения и свойства функц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 задание по теме, для соседа по парте. ( Учащиеся творчески подходят к заданию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ть: определения функций, свойства и графики.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меть: применять свойства и графики функций при решен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очитайте граф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Содержимое 3" descr="IMG.jpg"/>
          <p:cNvPicPr/>
          <p:nvPr/>
        </p:nvPicPr>
        <p:blipFill>
          <a:blip r:embed="rId1"/>
          <a:stretch/>
        </p:blipFill>
        <p:spPr>
          <a:xfrm>
            <a:off x="642960" y="2500200"/>
            <a:ext cx="8072280" cy="3786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ля каждой из функций, заданной формулой, укажите её график.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1)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 = -x -1          2) y= x – 1      3) y=x² -1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Содержимое 3" descr="IMG_0002.jpg"/>
          <p:cNvPicPr/>
          <p:nvPr/>
        </p:nvPicPr>
        <p:blipFill>
          <a:blip r:embed="rId1"/>
          <a:stretch/>
        </p:blipFill>
        <p:spPr>
          <a:xfrm>
            <a:off x="857160" y="1857240"/>
            <a:ext cx="7429680" cy="41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рафик какой функции изображен на рисунке?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Б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 +2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В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²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² + 2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0" name="Содержимое 3" descr="IMG_0007.jpg"/>
          <p:cNvPicPr/>
          <p:nvPr/>
        </p:nvPicPr>
        <p:blipFill>
          <a:blip r:embed="rId1"/>
          <a:stretch/>
        </p:blipFill>
        <p:spPr>
          <a:xfrm>
            <a:off x="1000080" y="2643120"/>
            <a:ext cx="6929640" cy="3714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 рисунке изображены графики функций вида </a:t>
            </a:r>
            <a:br>
              <a:rPr sz="2800"/>
            </a:b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kx +b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становите соответствие между графиками и знаками коэффициентов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b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&g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b&gt;0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&g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b&l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&l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b&g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Содержимое 3" descr="IMG_0003.jpg"/>
          <p:cNvPicPr/>
          <p:nvPr/>
        </p:nvPicPr>
        <p:blipFill>
          <a:blip r:embed="rId1"/>
          <a:stretch/>
        </p:blipFill>
        <p:spPr>
          <a:xfrm>
            <a:off x="928800" y="2214720"/>
            <a:ext cx="7358040" cy="39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ждый график соотнесите с соответствующей ему формулой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/x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- x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 +2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Содержимое 3" descr="IMG_0004.jpg"/>
          <p:cNvPicPr/>
          <p:nvPr/>
        </p:nvPicPr>
        <p:blipFill>
          <a:blip r:embed="rId1"/>
          <a:stretch/>
        </p:blipFill>
        <p:spPr>
          <a:xfrm>
            <a:off x="1143000" y="2000160"/>
            <a:ext cx="7000920" cy="407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ользуясь рисунком, укажите систему уравнений, решением которой является пара 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x=4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y=0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Содержимое 3" descr="IMG_0005.jpg"/>
          <p:cNvPicPr/>
          <p:nvPr/>
        </p:nvPicPr>
        <p:blipFill>
          <a:blip r:embed="rId1"/>
          <a:stretch/>
        </p:blipFill>
        <p:spPr>
          <a:xfrm>
            <a:off x="714240" y="2357280"/>
            <a:ext cx="7572600" cy="3929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спользуя графики, решите систему уравнений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9" name="Содержимое 3" descr="IMG_0006.jpg"/>
          <p:cNvPicPr/>
          <p:nvPr/>
        </p:nvPicPr>
        <p:blipFill>
          <a:blip r:embed="rId1"/>
          <a:stretch/>
        </p:blipFill>
        <p:spPr>
          <a:xfrm>
            <a:off x="928800" y="2357280"/>
            <a:ext cx="7215120" cy="3857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о</cp:lastModifiedBy>
  <dcterms:modified xsi:type="dcterms:W3CDTF">2011-12-04T16:48:22Z</dcterms:modified>
  <cp:revision>24</cp:revision>
  <dc:subject/>
  <dc:title>Графическая лаборатория</dc:title>
</cp:coreProperties>
</file>