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EFBC-A97E-427D-A98E-6C23E6CC17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A2D6-DB49-4209-A217-B529567BB5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BB85-E2E3-4607-BFC4-D489ACE593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9C68-8618-4F08-AB86-E2ABB3DDF6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4F4C-C538-4F86-B773-9E44A043A2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AAC4-7BFB-405C-8DCC-8D4A83C392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89F9-2CAB-481C-9414-3DF725247D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8198-270F-4B2F-8528-ED562B4631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5C0E-1FEC-493E-91EC-899C45494F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437B-B8B1-4ACD-A36F-BB06300C97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D0B2-1DB0-4E38-ABDF-A5C1196C32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2161-C508-40F7-A322-8527CF5F19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3CC1-36A1-4AB6-8794-082CEFEA5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B968-E064-4DFB-9A6A-164E873D8C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7807-A755-4511-9E5A-E273E0C660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AE24-0290-4B54-91FA-B1E7BEADD7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07B6-EADF-4FF4-AABB-54CE094979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71F-0E3F-46B2-8E1B-1C111886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08D-A8CD-4A2F-8F8B-EC13D156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386-B3F8-4387-964F-DD7DE11B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A08-D63E-4A8D-98EF-C3E112CF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7100-F86A-41F7-9928-9A4BA85E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05AC-A758-4438-9226-C3C95B27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355C-6934-4566-A1A4-23DE1372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CE24-563E-4D83-BAC6-64EE0BD7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034C-75F2-45EF-A7AA-8D4E57D3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2CD4-7B1C-47D8-94F6-AD00079C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6A69-308C-4E9A-A1F7-873948B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863-D0BC-4D85-BFF9-687B1FE9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8DD3-987C-41F6-9F3C-AE669C20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330E-D0B5-42A3-82A4-D115A9C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9F21-D497-4C1E-BE60-272F29B9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3C7F-2BB1-4C2F-B884-D6DDF3CD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84E0-21B2-4818-84CF-62EF6091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AACF1-5E65-47C7-8D2B-C984962A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B8B24-D251-4639-AD47-59E28988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CBDB5-C0C3-4AF1-8142-5DC89C11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E96E1-8EE8-4017-8657-DB4DF8E0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28A56-775E-4FB5-88D4-3242D1C8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6DF-A969-4545-9C1E-9DA5A584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3DE69-505D-4060-A7F5-EE8DF049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20FC3-A320-4B1B-AA42-59DB5DD8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C8FEB-2B0E-40F0-A295-6FA4E36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23195-6700-49C3-830E-DF9E182B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52366-4A9E-4DBB-82FC-E225045C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C173C-F198-47D5-895A-24C87906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B2F3BE-8D8C-4A36-ADE6-DEDC265E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F148-9BEF-4DF0-86AA-E4C186E1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B307-3FE7-4701-B6C8-CEF5B0EB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DCCFB-FD37-4AD9-891D-3C239C51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167-CE03-4BE4-B570-9CA433EE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DBDDA-C85D-4CD8-ACFF-D4346C1C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C5EC-03E8-44E1-9101-617C08EF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966FA-D066-44F6-89D1-E26DE482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F2F07-158D-481F-B5DD-EB696B4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20D67-A430-4A1E-A617-94A6D015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6DB9-0516-4DBB-A48B-0072F1E2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A1067-5F26-45F6-B184-5A6F19E3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F35FF-D2ED-4936-8834-A76D5175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B825-71C5-4004-B1A0-C19A67C8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082-B894-4392-A622-7766E574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DA0-10A0-44E7-A16F-A0D145A5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CA8-4529-4B37-94DA-5823B558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067-79B7-4D13-8A79-3F50B2E6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FD8-E590-4C90-A34C-F406D7B7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2C2F-C443-45FE-B52F-4853ACDECCA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8CC9-B372-4130-9D16-48AF7DDF986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A30C-0E63-4645-B8FE-81D4BCA169E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9FD5-4E26-4D8F-8616-8CC8499B2BF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фическая лаборатор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Цель: систематизировать знания по теме «Функции и их графики», закрепить навыки работы с графиками функц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642960" y="1285920"/>
          <a:ext cx="741528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285920"/>
                    <a:ext cx="741528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ана функция 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 = ах</a:t>
            </a:r>
            <a:r>
              <a:rPr b="1" i="1" lang="ru-RU" sz="2800" spc="-1" strike="noStrike" baseline="30000">
                <a:solidFill>
                  <a:srgbClr val="424456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+ Ьх + с</a:t>
            </a:r>
            <a:r>
              <a:rPr b="0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 каком рисунке изображен график этой функции, если известно, что 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 &gt;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 квадратный трехчлен   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х</a:t>
            </a:r>
            <a:r>
              <a:rPr b="1" i="1" lang="ru-RU" sz="2800" spc="-1" strike="noStrike" baseline="30000">
                <a:solidFill>
                  <a:srgbClr val="424456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+ Ьх + с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меет два положительных корня?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500040" y="2857680"/>
            <a:ext cx="1357200" cy="2786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2286000" y="2857680"/>
            <a:ext cx="1428840" cy="2786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3"/>
          <a:stretch/>
        </p:blipFill>
        <p:spPr>
          <a:xfrm>
            <a:off x="4357800" y="2786040"/>
            <a:ext cx="135720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4"/>
          <a:stretch/>
        </p:blipFill>
        <p:spPr>
          <a:xfrm>
            <a:off x="6429240" y="2786040"/>
            <a:ext cx="1428840" cy="2857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спользуя график функции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f(x)</a:t>
            </a: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 определите какое утверждение верно.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2)=4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.Функция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f(x)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озрастает на промежутке (-∞;1]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f(x)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&lt;0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 -0,5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&lt;x&lt;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3  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Г.Нулями функции являются числа -0,5;1-;3.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Содержимое 3" descr="IMG_0008.jpg"/>
          <p:cNvPicPr/>
          <p:nvPr/>
        </p:nvPicPr>
        <p:blipFill>
          <a:blip r:embed="rId1"/>
          <a:stretch/>
        </p:blipFill>
        <p:spPr>
          <a:xfrm>
            <a:off x="1071720" y="2571840"/>
            <a:ext cx="6858000" cy="3571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кой из графиков функции изображен на рисунке?</a:t>
            </a:r>
            <a:br>
              <a:rPr sz="2800"/>
            </a:b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+4   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2x +4   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x² -4   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x² +4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3" descr="IMG_0009.jpg"/>
          <p:cNvPicPr/>
          <p:nvPr/>
        </p:nvPicPr>
        <p:blipFill>
          <a:blip r:embed="rId1"/>
          <a:stretch/>
        </p:blipFill>
        <p:spPr>
          <a:xfrm>
            <a:off x="1428840" y="2571840"/>
            <a:ext cx="6429240" cy="350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кая из следующих прямых отсутствует на рисунке?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+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Б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-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В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2x +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Г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-2x -3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Содержимое 3" descr="IMG_0010.jpg"/>
          <p:cNvPicPr/>
          <p:nvPr/>
        </p:nvPicPr>
        <p:blipFill>
          <a:blip r:embed="rId1"/>
          <a:stretch/>
        </p:blipFill>
        <p:spPr>
          <a:xfrm>
            <a:off x="1143000" y="2000160"/>
            <a:ext cx="6643800" cy="4000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 рисунке изображен график функции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f(x)</a:t>
            </a: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 Используя график, сравните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-1,5) </a:t>
            </a: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 </a:t>
            </a:r>
            <a:r>
              <a:rPr b="0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1,5)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f(-1,5) &lt; f(1,5)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Б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f(-1,5) &gt; f(1,5)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.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f(-1,5) = f(1,5) </a:t>
            </a: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Г.Сравнить нельзя.</a:t>
            </a:r>
            <a:br>
              <a:rPr sz="2500"/>
            </a:b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Содержимое 3" descr="IMG_0011.jpg"/>
          <p:cNvPicPr/>
          <p:nvPr/>
        </p:nvPicPr>
        <p:blipFill>
          <a:blip r:embed="rId1"/>
          <a:stretch/>
        </p:blipFill>
        <p:spPr>
          <a:xfrm>
            <a:off x="1071720" y="2500200"/>
            <a:ext cx="6858000" cy="3440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Задайте аналитически функцию, график которой изображен на рисунке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8" name="Содержимое 3" descr="IMG_0012.jpg"/>
          <p:cNvPicPr/>
          <p:nvPr/>
        </p:nvPicPr>
        <p:blipFill>
          <a:blip r:embed="rId1"/>
          <a:stretch/>
        </p:blipFill>
        <p:spPr>
          <a:xfrm>
            <a:off x="928800" y="2500200"/>
            <a:ext cx="735804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вторить определения и свойства функц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ить задание по теме, для соседа по парте. ( Учащиеся творчески подходят к заданию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ть: определения функций, свойства и графики.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меть: применять свойства и графики функций при решен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очитайте график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6" name="Содержимое 3" descr="IMG.jpg"/>
          <p:cNvPicPr/>
          <p:nvPr/>
        </p:nvPicPr>
        <p:blipFill>
          <a:blip r:embed="rId1"/>
          <a:stretch/>
        </p:blipFill>
        <p:spPr>
          <a:xfrm>
            <a:off x="642960" y="2500200"/>
            <a:ext cx="8072280" cy="3786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ля каждой из функций, заданной формулой, укажите её график.</a:t>
            </a: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1) </a:t>
            </a:r>
            <a:r>
              <a:rPr b="1" lang="en-US" sz="25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 = -x -1          2) y= x – 1      3) y=x² -1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Содержимое 3" descr="IMG_0002.jpg"/>
          <p:cNvPicPr/>
          <p:nvPr/>
        </p:nvPicPr>
        <p:blipFill>
          <a:blip r:embed="rId1"/>
          <a:stretch/>
        </p:blipFill>
        <p:spPr>
          <a:xfrm>
            <a:off x="857160" y="1857240"/>
            <a:ext cx="7429680" cy="414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рафик какой функции изображен на рисунке?</a:t>
            </a:r>
            <a:br>
              <a:rPr sz="2800"/>
            </a:b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Б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 +2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В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²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² + 2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0" name="Содержимое 3" descr="IMG_0007.jpg"/>
          <p:cNvPicPr/>
          <p:nvPr/>
        </p:nvPicPr>
        <p:blipFill>
          <a:blip r:embed="rId1"/>
          <a:stretch/>
        </p:blipFill>
        <p:spPr>
          <a:xfrm>
            <a:off x="1000080" y="2643120"/>
            <a:ext cx="6929640" cy="3714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На рисунке изображены графики функций вида </a:t>
            </a:r>
            <a:br>
              <a:rPr sz="2800"/>
            </a:b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kx +b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становите соответствие между графиками и знаками коэффициентов</a:t>
            </a: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 </a:t>
            </a: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b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&g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b&gt;0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&g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b&l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k&l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b&gt;0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Содержимое 3" descr="IMG_0003.jpg"/>
          <p:cNvPicPr/>
          <p:nvPr/>
        </p:nvPicPr>
        <p:blipFill>
          <a:blip r:embed="rId1"/>
          <a:stretch/>
        </p:blipFill>
        <p:spPr>
          <a:xfrm>
            <a:off x="928800" y="2214720"/>
            <a:ext cx="7358040" cy="39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ждый график соотнесите с соответствующей ему формулой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/x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б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2x 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- x 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)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y= 2x +2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Содержимое 3" descr="IMG_0004.jpg"/>
          <p:cNvPicPr/>
          <p:nvPr/>
        </p:nvPicPr>
        <p:blipFill>
          <a:blip r:embed="rId1"/>
          <a:stretch/>
        </p:blipFill>
        <p:spPr>
          <a:xfrm>
            <a:off x="1143000" y="2000160"/>
            <a:ext cx="7000920" cy="407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ользуясь рисунком, укажите систему уравнений, решением которой является пара 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x=4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y=0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Содержимое 3" descr="IMG_0005.jpg"/>
          <p:cNvPicPr/>
          <p:nvPr/>
        </p:nvPicPr>
        <p:blipFill>
          <a:blip r:embed="rId1"/>
          <a:stretch/>
        </p:blipFill>
        <p:spPr>
          <a:xfrm>
            <a:off x="714240" y="2357280"/>
            <a:ext cx="7572600" cy="3929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спользуя графики, решите систему уравнений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9" name="Содержимое 3" descr="IMG_0006.jpg"/>
          <p:cNvPicPr/>
          <p:nvPr/>
        </p:nvPicPr>
        <p:blipFill>
          <a:blip r:embed="rId1"/>
          <a:stretch/>
        </p:blipFill>
        <p:spPr>
          <a:xfrm>
            <a:off x="928800" y="2357280"/>
            <a:ext cx="7215120" cy="3857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о</cp:lastModifiedBy>
  <dcterms:modified xsi:type="dcterms:W3CDTF">2011-12-04T16:48:22Z</dcterms:modified>
  <cp:revision>24</cp:revision>
  <dc:subject/>
  <dc:title>Графическая лаборатория</dc:title>
</cp:coreProperties>
</file>