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0D75-A383-421B-9659-DFBCE1A540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55DC-89C6-4C53-9A31-86F62D6C62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77E9-C927-4CB1-A853-CF7F445A88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105C-D12B-4558-AE3E-2745CEE904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C80E-1EFF-4687-8B19-A7D4120F6D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31FF-6F31-400E-8DFE-9B0D6C308A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9BAD-F227-436A-B9E8-54F5244273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A928-0B4E-4A12-B67D-7F102CEFE8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44F6-F6E7-4AC7-B83E-3807DB73AC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3D45-F56E-4F65-AF34-E654BDEDC9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D7CC-D42E-409B-9E9F-A0017B4DC4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7CB3-C56A-4562-9FFD-891CDDF90A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91EC-04D3-4AA6-A20C-266CB3F1D2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3703-100C-4ACA-A1C2-BD39D2BA35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683D-1EA6-4F23-A5EE-ECD6EF9FA8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78FD-D79C-4DDA-987F-CDF8009D6E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5D6A-BD00-4CD3-8C38-EC13EDAFED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7C41-CD1F-46CD-AE0B-78DA81EF7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B774-207D-4AE0-BA60-FA99F0F8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E13C-7A83-4932-8561-C4A0F53A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92A1-1763-4D7A-8FEB-D0B99988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B39B-102B-489E-8F2D-B67364013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F41C-6E9B-4183-B1A8-ACE5C098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A2A0-0F03-4243-A937-99793C76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17D4-05B8-413A-A922-B46250B1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48BF-BB67-417F-8875-7C9149AF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7AF9-9CEE-4FB7-90E6-C3FB5FBB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EC90-B7D3-498C-9813-65C389EB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8DD0-942D-4B17-A4B0-4370D1CC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7AA4-E41B-46D9-8B8B-CC898A32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5139-E17A-4F4A-B19C-C2D2EEAD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602A-2A84-4E4D-8FFF-E549281E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0377-F819-4601-801A-3EDC860EE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B998-D992-4E2A-99D3-6F716067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08B848-6A13-461E-9D4D-2D4101A7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0B786A-FC4D-41DF-8320-41D076DD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C172F4-E365-42BF-85B6-8191D0FD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47AF8E-2F3D-4AAB-8D2F-C9AF198D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46F62C-680F-4ED7-96ED-5678BFD4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5211-F134-4B6A-AC03-543B076A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3F9A1C-9E35-4366-A29C-84C02C20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A8B2FE-D42F-4F94-A15C-F122D406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6F5BDE-E442-4FFA-9AF2-4E1117B8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7F1212-D2A4-4E63-BE91-1D59BEF4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078B68-EF3D-47A9-8D13-D249DC69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2CA011-4D9D-407F-B951-67C6BCD8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E77CCC-8E15-4D64-B3A3-E651E8890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EA9AB-8167-4DA8-98A5-25E5AC44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32802-6D20-47DB-99AD-C8BE78F1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D342F-0DB5-4D03-AEF6-963F591D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B5AC-8244-4D58-A89C-61B8BEF1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53D2E-0724-476D-888F-F0DBA983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FC536-DE5E-4274-B9BE-5B1567FA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D609C-6E0A-4D10-A29F-329A43FA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CF800-872E-41C0-819D-12BCCE86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5A2D9-1199-4101-A08B-FC57BC25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FEB1B-331C-421E-908C-C18E9754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2B5FC-352A-42C7-A8A9-A6B7A410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6CCF2-F2B3-4DCB-B4FC-8E0DE58C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50790-509C-49B4-B70F-F415C0D07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044F-76F2-4C16-B02F-E4A7ABCD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DA91-6C92-4CB4-91ED-3C255EBC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17B3-A8D6-4B4C-9198-D1E42718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6E7F-4774-4B84-9126-B0B16AF8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8462-1836-4F5C-9D29-4287B275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4692-E992-49C6-9972-EE76B3F9AC3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6614-BED2-4632-AE56-7BE5B555368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6ACC-6BB4-42F1-9733-1C7BE872529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5785-73A8-4C46-AA69-62EDDC56852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фическая лаборатория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Цель: систематизировать знания по теме «Функции и их графики», закрепить навыки работы с графиками функци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42" name="Object 2"/>
          <p:cNvGraphicFramePr/>
          <p:nvPr/>
        </p:nvGraphicFramePr>
        <p:xfrm>
          <a:off x="642960" y="1285920"/>
          <a:ext cx="741528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1285920"/>
                    <a:ext cx="741528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Дана функция </a:t>
            </a:r>
            <a:r>
              <a:rPr b="1" i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 = ах</a:t>
            </a:r>
            <a:r>
              <a:rPr b="1" i="1" lang="ru-RU" sz="2800" spc="-1" strike="noStrike" baseline="30000">
                <a:solidFill>
                  <a:srgbClr val="424456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+ Ьх + с</a:t>
            </a:r>
            <a:r>
              <a:rPr b="0" i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. </a:t>
            </a: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На каком рисунке изображен график этой функции, если известно, что </a:t>
            </a:r>
            <a:r>
              <a:rPr b="1" i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а &gt;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0 </a:t>
            </a: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и квадратный трехчлен   </a:t>
            </a:r>
            <a:r>
              <a:rPr b="1" i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ах</a:t>
            </a:r>
            <a:r>
              <a:rPr b="1" i="1" lang="ru-RU" sz="2800" spc="-1" strike="noStrike" baseline="30000">
                <a:solidFill>
                  <a:srgbClr val="424456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+ Ьх + с </a:t>
            </a: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имеет два положительных корня?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500040" y="2857680"/>
            <a:ext cx="1357200" cy="27860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"/>
          <p:cNvPicPr/>
          <p:nvPr/>
        </p:nvPicPr>
        <p:blipFill>
          <a:blip r:embed="rId2"/>
          <a:stretch/>
        </p:blipFill>
        <p:spPr>
          <a:xfrm>
            <a:off x="2286000" y="2857680"/>
            <a:ext cx="1428840" cy="27860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3"/>
          <a:stretch/>
        </p:blipFill>
        <p:spPr>
          <a:xfrm>
            <a:off x="4357800" y="2786040"/>
            <a:ext cx="1357200" cy="2857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"/>
          <p:cNvPicPr/>
          <p:nvPr/>
        </p:nvPicPr>
        <p:blipFill>
          <a:blip r:embed="rId4"/>
          <a:stretch/>
        </p:blipFill>
        <p:spPr>
          <a:xfrm>
            <a:off x="6429240" y="2786040"/>
            <a:ext cx="1428840" cy="2857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Используя график функции </a:t>
            </a:r>
            <a:r>
              <a:rPr b="0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 f(x)</a:t>
            </a:r>
            <a:r>
              <a:rPr b="0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, определите какое утверждение верно. 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А.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f(2)=4 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br>
              <a:rPr sz="2500"/>
            </a:br>
            <a:r>
              <a:rPr b="0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Б.Функция 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f(x)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озрастает на промежутке (-∞;1] </a:t>
            </a:r>
            <a:br>
              <a:rPr sz="2500"/>
            </a:b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.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f(x)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&lt;0 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ри -0,5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&lt;x&lt;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3   </a:t>
            </a:r>
            <a:br>
              <a:rPr sz="2500"/>
            </a:b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Г.Нулями функции являются числа -0,5;1-;3.</a:t>
            </a:r>
            <a:endParaRPr b="0" lang="en-US" sz="25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0" name="Содержимое 3" descr="IMG_0008.jpg"/>
          <p:cNvPicPr/>
          <p:nvPr/>
        </p:nvPicPr>
        <p:blipFill>
          <a:blip r:embed="rId1"/>
          <a:stretch/>
        </p:blipFill>
        <p:spPr>
          <a:xfrm>
            <a:off x="1071720" y="2571840"/>
            <a:ext cx="6858000" cy="3571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акой из графиков функции изображен на рисунке?</a:t>
            </a:r>
            <a:br>
              <a:rPr sz="2800"/>
            </a:b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А.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2x +4    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Б.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-2x +4    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.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x² -4    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Г.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-x² +4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2" name="Содержимое 3" descr="IMG_0009.jpg"/>
          <p:cNvPicPr/>
          <p:nvPr/>
        </p:nvPicPr>
        <p:blipFill>
          <a:blip r:embed="rId1"/>
          <a:stretch/>
        </p:blipFill>
        <p:spPr>
          <a:xfrm>
            <a:off x="1428840" y="2571840"/>
            <a:ext cx="6429240" cy="3500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акая из следующих прямых отсутствует на рисунке? </a:t>
            </a:r>
            <a:br>
              <a:rPr sz="2500"/>
            </a:b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А.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2x +3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Б.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2x -3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В.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-2x +3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Г.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-2x -3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4" name="Содержимое 3" descr="IMG_0010.jpg"/>
          <p:cNvPicPr/>
          <p:nvPr/>
        </p:nvPicPr>
        <p:blipFill>
          <a:blip r:embed="rId1"/>
          <a:stretch/>
        </p:blipFill>
        <p:spPr>
          <a:xfrm>
            <a:off x="1143000" y="2000160"/>
            <a:ext cx="6643800" cy="4000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На рисунке изображен график функции </a:t>
            </a:r>
            <a:r>
              <a:rPr b="0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f(x)</a:t>
            </a:r>
            <a:r>
              <a:rPr b="0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. Используя график, сравните </a:t>
            </a:r>
            <a:r>
              <a:rPr b="0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f(-1,5) </a:t>
            </a:r>
            <a:r>
              <a:rPr b="0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и </a:t>
            </a:r>
            <a:r>
              <a:rPr b="0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f(1,5)</a:t>
            </a:r>
            <a:br>
              <a:rPr sz="2500"/>
            </a:b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А.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f(-1,5) &lt; f(1,5)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Б.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f(-1,5) &gt; f(1,5) 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br>
              <a:rPr sz="2500"/>
            </a:b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.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f(-1,5) = f(1,5) 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 Г.Сравнить нельзя.</a:t>
            </a:r>
            <a:br>
              <a:rPr sz="2500"/>
            </a:br>
            <a:endParaRPr b="0" lang="en-US" sz="25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6" name="Содержимое 3" descr="IMG_0011.jpg"/>
          <p:cNvPicPr/>
          <p:nvPr/>
        </p:nvPicPr>
        <p:blipFill>
          <a:blip r:embed="rId1"/>
          <a:stretch/>
        </p:blipFill>
        <p:spPr>
          <a:xfrm>
            <a:off x="1071720" y="2500200"/>
            <a:ext cx="6858000" cy="3440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Задайте аналитически функцию, график которой изображен на рисунке.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8" name="Содержимое 3" descr="IMG_0012.jpg"/>
          <p:cNvPicPr/>
          <p:nvPr/>
        </p:nvPicPr>
        <p:blipFill>
          <a:blip r:embed="rId1"/>
          <a:stretch/>
        </p:blipFill>
        <p:spPr>
          <a:xfrm>
            <a:off x="928800" y="2500200"/>
            <a:ext cx="7358040" cy="3429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вторить определения и свойства функц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дготовить задание по теме, для соседа по парте. ( Учащиеся творчески подходят к заданию 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ть: определения функций, свойства и графики.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меть: применять свойства и графики функций при решени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рочитайте график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6" name="Содержимое 3" descr="IMG.jpg"/>
          <p:cNvPicPr/>
          <p:nvPr/>
        </p:nvPicPr>
        <p:blipFill>
          <a:blip r:embed="rId1"/>
          <a:stretch/>
        </p:blipFill>
        <p:spPr>
          <a:xfrm>
            <a:off x="642960" y="2500200"/>
            <a:ext cx="8072280" cy="3786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Для каждой из функций, заданной формулой, укажите её график.</a:t>
            </a:r>
            <a:br>
              <a:rPr sz="2500"/>
            </a:b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1) 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 = -x -1          2) y= x – 1      3) y=x² -1</a:t>
            </a:r>
            <a:endParaRPr b="0" lang="en-US" sz="25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8" name="Содержимое 3" descr="IMG_0002.jpg"/>
          <p:cNvPicPr/>
          <p:nvPr/>
        </p:nvPicPr>
        <p:blipFill>
          <a:blip r:embed="rId1"/>
          <a:stretch/>
        </p:blipFill>
        <p:spPr>
          <a:xfrm>
            <a:off x="857160" y="1857240"/>
            <a:ext cx="7429680" cy="4143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График какой функции изображен на рисунке?</a:t>
            </a:r>
            <a:br>
              <a:rPr sz="2800"/>
            </a:b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А.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2x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  Б.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 2x +2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В.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 2x²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Г.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 2x² + 2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0" name="Содержимое 3" descr="IMG_0007.jpg"/>
          <p:cNvPicPr/>
          <p:nvPr/>
        </p:nvPicPr>
        <p:blipFill>
          <a:blip r:embed="rId1"/>
          <a:stretch/>
        </p:blipFill>
        <p:spPr>
          <a:xfrm>
            <a:off x="1000080" y="2643120"/>
            <a:ext cx="6929640" cy="3714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На рисунке изображены графики функций вида </a:t>
            </a:r>
            <a:br>
              <a:rPr sz="2800"/>
            </a:b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kx +b </a:t>
            </a: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становите соответствие между графиками и знаками коэффициентов</a:t>
            </a:r>
            <a:r>
              <a:rPr b="0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k </a:t>
            </a: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и </a:t>
            </a:r>
            <a:r>
              <a:rPr b="0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b </a:t>
            </a: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а) 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k&gt;0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b&gt;0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  </a:t>
            </a:r>
            <a:br>
              <a:rPr sz="2800"/>
            </a:br>
            <a:r>
              <a:rPr b="0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б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k&gt;0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b&lt;0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) 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k&lt;0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b&gt;0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.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2" name="Содержимое 3" descr="IMG_0003.jpg"/>
          <p:cNvPicPr/>
          <p:nvPr/>
        </p:nvPicPr>
        <p:blipFill>
          <a:blip r:embed="rId1"/>
          <a:stretch/>
        </p:blipFill>
        <p:spPr>
          <a:xfrm>
            <a:off x="928800" y="2214720"/>
            <a:ext cx="7358040" cy="3929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аждый график соотнесите с соответствующей ему формулой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а) 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2/x 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б) 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2x 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) 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 2- x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г) 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 2x +2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4" name="Содержимое 3" descr="IMG_0004.jpg"/>
          <p:cNvPicPr/>
          <p:nvPr/>
        </p:nvPicPr>
        <p:blipFill>
          <a:blip r:embed="rId1"/>
          <a:stretch/>
        </p:blipFill>
        <p:spPr>
          <a:xfrm>
            <a:off x="1143000" y="2000160"/>
            <a:ext cx="7000920" cy="4071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5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ользуясь рисунком, укажите систему уравнений, решением которой является пара  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x=4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y=0</a:t>
            </a: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7" name="Содержимое 3" descr="IMG_0005.jpg"/>
          <p:cNvPicPr/>
          <p:nvPr/>
        </p:nvPicPr>
        <p:blipFill>
          <a:blip r:embed="rId1"/>
          <a:stretch/>
        </p:blipFill>
        <p:spPr>
          <a:xfrm>
            <a:off x="714240" y="2357280"/>
            <a:ext cx="7572600" cy="3929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Используя графики, решите систему уравнений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9" name="Содержимое 3" descr="IMG_0006.jpg"/>
          <p:cNvPicPr/>
          <p:nvPr/>
        </p:nvPicPr>
        <p:blipFill>
          <a:blip r:embed="rId1"/>
          <a:stretch/>
        </p:blipFill>
        <p:spPr>
          <a:xfrm>
            <a:off x="928800" y="2357280"/>
            <a:ext cx="7215120" cy="3857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ео</cp:lastModifiedBy>
  <dcterms:modified xsi:type="dcterms:W3CDTF">2011-12-04T16:48:22Z</dcterms:modified>
  <cp:revision>24</cp:revision>
  <dc:subject/>
  <dc:title>Графическая лаборатория</dc:title>
</cp:coreProperties>
</file>