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C21-2267-4D6B-A5B6-A98A1DE8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49D-C9E7-4A8A-81D8-DDBEED80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23B-7964-43C5-BA21-A3DB7038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D96-8AFB-43D1-ACFD-4996E42F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D64A-6437-466B-B174-C37F3B4B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983E-AFA2-412C-8C34-F798080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DA6-3E85-44F1-9FAE-B10EC56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09CA-4A99-4816-96EB-66A2A598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A9D-E630-469B-A55F-48FEF82C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F83C-B088-4F4D-B3C4-EEDE1974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9BA-33EE-44BB-9671-D0EDDC1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994-F502-4E2E-8DC6-53DF7F6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1EC-26B9-456C-9B96-221D28B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5FE9-BB65-43AF-9BED-467A12AC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4070-4C36-4089-AD27-944E7BE8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9371-2F99-4EDE-9BBD-C1EF18D5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D169-2914-4358-9647-4AA27290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A55-26EB-4BB0-AF0E-285600EF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AEE-8E63-4F23-97D3-EC31018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B07-BFF3-424B-9702-2F6E3FC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234-105C-4551-8EB3-111AA912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6A0-C901-4A8A-8308-4A9E102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E32-B9D0-4D8C-B5BD-C1789B8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A0F-152F-4299-8D71-34F426C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AEB-5F8E-4CA9-A08C-04A792ECE6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E86-5CB6-4107-A1BC-57E88A8E018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накомство с определенным артиклем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,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о употребления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2класс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Разработала и составила учитель английского языка ГБОУ СОШ№1008 г Москв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алкина Наталья Анатоль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i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6" descr=""/>
          <p:cNvPicPr/>
          <p:nvPr/>
        </p:nvPicPr>
        <p:blipFill>
          <a:blip r:embed="rId1"/>
          <a:srcRect l="21226" t="17925" r="20933" b="10376"/>
          <a:stretch/>
        </p:blipFill>
        <p:spPr>
          <a:xfrm>
            <a:off x="0" y="1522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рась ячейки, в которых буква совпадает со звуко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057400"/>
          <a:ext cx="9144000" cy="434340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2133720"/>
          <a:ext cx="9143640" cy="4495680"/>
        </p:xfrm>
        <a:graphic>
          <a:graphicData uri="http://schemas.openxmlformats.org/drawingml/2006/table">
            <a:tbl>
              <a:tblPr/>
              <a:tblGrid>
                <a:gridCol w="531360"/>
                <a:gridCol w="531360"/>
                <a:gridCol w="529920"/>
                <a:gridCol w="531720"/>
                <a:gridCol w="531360"/>
                <a:gridCol w="531360"/>
                <a:gridCol w="531720"/>
                <a:gridCol w="531360"/>
                <a:gridCol w="529560"/>
                <a:gridCol w="531720"/>
                <a:gridCol w="531360"/>
                <a:gridCol w="531720"/>
                <a:gridCol w="531720"/>
                <a:gridCol w="531360"/>
                <a:gridCol w="529560"/>
                <a:gridCol w="531720"/>
                <a:gridCol w="6447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уже говорили о том, что такое артикль, и ты, наверное, привык к тому, что перед некоторыми словами надо ставить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а</a:t>
            </a:r>
            <a:r>
              <a:rPr b="1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a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 Этот артикль называется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неопределенным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, потому, что он употребляется перед словами, которые называют каких-то новых неизвестных нам людей или обозначают новые впервые упоминаемые предметы.  Этот артикль употребляется только с существительными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 is a cat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- Это кошка( какая-то кошка про которую мы ничего не знаем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– У Ани есть собака(какая-то соба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Если же называется человек или предмет, который нам уже известен ( упоминался раньше), то следует употреблять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определенный артикль-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the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. The dog is big and black.-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н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( эта собака, собака Ани) большая и чер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Запомни 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не стави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перед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именам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om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словосочетаниям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ислительное +существительное: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ix cat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ven pig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….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…..box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….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1941120"/>
                <a:gridCol w="1943640"/>
                <a:gridCol w="1943640"/>
                <a:gridCol w="19436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f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 –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b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6450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3505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r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-s6110-01</cp:lastModifiedBy>
  <dcterms:modified xsi:type="dcterms:W3CDTF">2014-02-06T18:18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