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4A5-6ECE-462D-9AF8-DC217EFD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FE8-E7BF-4CF9-93AA-B029BDB2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551-A27B-466E-8FA5-650A2D98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CEC-7508-49C8-BAAF-AA7B5451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5272-2713-4F2F-A9FF-E1938B3A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82E-1CFF-4156-BAC9-D3C600E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020-5600-4803-9400-C76F4E5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65D0-9231-4044-B67D-EDB9FE9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990-C903-474A-9D65-F9878C57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426-5DC0-4DE2-88A0-46EC13A5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4E4-9B8D-4068-9BEF-80D3576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10E-5D0B-4C42-8C49-97C3F13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0D4-0F4B-4ED1-BCEC-53FDD6B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7A97-BA4D-474A-8A54-0FF2396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22A8-C3A5-4B68-B164-98FDB1B4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D26-2948-4035-AFE5-F975CDAF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16B-97C0-4F86-B582-2ED17E3C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873-A14A-4409-8332-857FDF8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CAA-1538-4E48-8C24-F824AB8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2AF-0893-4557-9997-6A9EDA7C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462-F4D9-4B79-AA94-0B599E5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210-0DD3-406D-884F-A7C435D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24B-DB75-43F2-8DB9-9F31E76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0BC-2117-4113-B447-A59DF23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C04-BFE1-4AFA-A01E-1E9FB263C86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E27A-9F12-48F9-99DB-CB8885B8530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накомство с определенным артиклем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,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о употребления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2класс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Разработала и составила учитель английского языка ГБОУ СОШ№1008 г Москв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алкина Наталья Анатоль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i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6" descr=""/>
          <p:cNvPicPr/>
          <p:nvPr/>
        </p:nvPicPr>
        <p:blipFill>
          <a:blip r:embed="rId1"/>
          <a:srcRect l="21226" t="17925" r="20933" b="10376"/>
          <a:stretch/>
        </p:blipFill>
        <p:spPr>
          <a:xfrm>
            <a:off x="0" y="1522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рась ячейки, в которых буква совпадает со звуко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057400"/>
          <a:ext cx="9144000" cy="434340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2133720"/>
          <a:ext cx="9143640" cy="4495680"/>
        </p:xfrm>
        <a:graphic>
          <a:graphicData uri="http://schemas.openxmlformats.org/drawingml/2006/table">
            <a:tbl>
              <a:tblPr/>
              <a:tblGrid>
                <a:gridCol w="531360"/>
                <a:gridCol w="531360"/>
                <a:gridCol w="529920"/>
                <a:gridCol w="531720"/>
                <a:gridCol w="531360"/>
                <a:gridCol w="531360"/>
                <a:gridCol w="531720"/>
                <a:gridCol w="531360"/>
                <a:gridCol w="529560"/>
                <a:gridCol w="531720"/>
                <a:gridCol w="531360"/>
                <a:gridCol w="531720"/>
                <a:gridCol w="531720"/>
                <a:gridCol w="531360"/>
                <a:gridCol w="529560"/>
                <a:gridCol w="531720"/>
                <a:gridCol w="6447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уже говорили о том, что такое артикль, и ты, наверное, привык к тому, что перед некоторыми словами надо ставить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а</a:t>
            </a:r>
            <a:r>
              <a:rPr b="1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a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 Этот артикль называется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неопределенным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, потому, что он употребляется перед словами, которые называют каких-то новых неизвестных нам людей или обозначают новые впервые упоминаемые предметы.  Этот артикль употребляется только с существительными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 is a cat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- Это кошка( какая-то кошка про которую мы ничего не знаем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– У Ани есть собака(какая-то соба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Если же называется человек или предмет, который нам уже известен ( упоминался раньше), то следует употреблять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определенный артикль-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the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. The dog is big and black.-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н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( эта собака, собака Ани) большая и чер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Запомни 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не стави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перед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именам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om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словосочетаниям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ислительное +существительное: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ix cat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ven pig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….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…..box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….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1941120"/>
                <a:gridCol w="1943640"/>
                <a:gridCol w="1943640"/>
                <a:gridCol w="19436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f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 –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b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6450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3505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r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-s6110-01</cp:lastModifiedBy>
  <dcterms:modified xsi:type="dcterms:W3CDTF">2014-02-06T18:18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