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AC8-6A7B-4329-B2BA-3765E7D9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E8D-2627-4313-A036-8ECCFC11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0B3-34FF-49D1-AABD-E72B4538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CE76-8427-41A4-896E-3351D3FA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CF81-6296-42EE-B8C4-68D43A06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6E9E-7D7F-4CDA-AEB6-40E0601C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E2D7-2F2F-4D7B-A43A-4478F623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03A7-2915-4AB5-A0C9-9EC599E1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BA48-43ED-4DCE-8A76-0C33DFD5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E53A-5A4D-4ABA-B5FE-C6DA7152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C460-F811-466C-BE25-69BDABCC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9FD-73C3-451D-98F9-DFBAE9C8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A589-B79B-430F-BCF1-E1621BD8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D16E-9474-4EE7-A16A-7A5956E9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F8FC-48A2-4E28-BABE-D3382EFC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4CF4-BA0B-4D88-8A45-DA124806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7D79-501C-4749-89B9-49200159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4AD-D982-4289-A4EF-D65AB9FF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736-FAD4-4A79-A132-113A3FC2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CC9-D9FC-4F78-89A8-EEDBF080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7680-D6A1-4A2D-B090-FD9EBE15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C2D-89E9-4DAF-9AB2-489BA861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9B3-091B-4245-82E0-68B1C1AB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71DF-73DC-4D79-ACA5-03F31140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9931-A25F-4BEB-B3DA-059BAC83C42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8945-798F-4816-BBDB-25C8075B74F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Знакомство с определенным артиклем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,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авило употребления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2класс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Разработала и составила учитель английского языка ГБОУ СОШ№1008 г Москв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алкина Наталья Анатольев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p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p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a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- a p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i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- a 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353040" cy="2394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629400" y="18288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rcRect l="5266" t="-3987" r="10531" b="3837"/>
          <a:stretch/>
        </p:blipFill>
        <p:spPr>
          <a:xfrm>
            <a:off x="304920" y="190512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rcRect l="9839" t="13878" r="14759" b="12664"/>
          <a:stretch/>
        </p:blipFill>
        <p:spPr>
          <a:xfrm>
            <a:off x="1066680" y="4114800"/>
            <a:ext cx="1994040" cy="2514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V="1">
            <a:off x="3048120" y="27432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35812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4648320"/>
            <a:ext cx="2286000" cy="6858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p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p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a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- a p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i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- a pi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353040" cy="2394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629400" y="18288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rcRect l="5266" t="-3987" r="10531" b="3837"/>
          <a:stretch/>
        </p:blipFill>
        <p:spPr>
          <a:xfrm>
            <a:off x="304920" y="190512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rcRect l="9839" t="13878" r="14759" b="12664"/>
          <a:stretch/>
        </p:blipFill>
        <p:spPr>
          <a:xfrm>
            <a:off x="1066680" y="4114800"/>
            <a:ext cx="19940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3048120" y="27432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43800" y="35812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4648320"/>
            <a:ext cx="2286000" cy="6858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6" descr=""/>
          <p:cNvPicPr/>
          <p:nvPr/>
        </p:nvPicPr>
        <p:blipFill>
          <a:blip r:embed="rId1"/>
          <a:srcRect l="21226" t="17925" r="20933" b="10376"/>
          <a:stretch/>
        </p:blipFill>
        <p:spPr>
          <a:xfrm>
            <a:off x="0" y="15228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крась ячейки, в которых буква совпадает со звуком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2057400"/>
          <a:ext cx="9144000" cy="4343400"/>
        </p:xfrm>
        <a:graphic>
          <a:graphicData uri="http://schemas.openxmlformats.org/drawingml/2006/table">
            <a:tbl>
              <a:tblPr/>
              <a:tblGrid>
                <a:gridCol w="538200"/>
                <a:gridCol w="538200"/>
                <a:gridCol w="536400"/>
                <a:gridCol w="538200"/>
                <a:gridCol w="538200"/>
                <a:gridCol w="538200"/>
                <a:gridCol w="538200"/>
                <a:gridCol w="538200"/>
                <a:gridCol w="536400"/>
                <a:gridCol w="538200"/>
                <a:gridCol w="538200"/>
                <a:gridCol w="538200"/>
                <a:gridCol w="538200"/>
                <a:gridCol w="538200"/>
                <a:gridCol w="536400"/>
                <a:gridCol w="538200"/>
                <a:gridCol w="53820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i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k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t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d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k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n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i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z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s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0" y="2133720"/>
          <a:ext cx="9143640" cy="4495680"/>
        </p:xfrm>
        <a:graphic>
          <a:graphicData uri="http://schemas.openxmlformats.org/drawingml/2006/table">
            <a:tbl>
              <a:tblPr/>
              <a:tblGrid>
                <a:gridCol w="531360"/>
                <a:gridCol w="531360"/>
                <a:gridCol w="529920"/>
                <a:gridCol w="531720"/>
                <a:gridCol w="531360"/>
                <a:gridCol w="531360"/>
                <a:gridCol w="531720"/>
                <a:gridCol w="531360"/>
                <a:gridCol w="529560"/>
                <a:gridCol w="531720"/>
                <a:gridCol w="531360"/>
                <a:gridCol w="531720"/>
                <a:gridCol w="531720"/>
                <a:gridCol w="531360"/>
                <a:gridCol w="529560"/>
                <a:gridCol w="531720"/>
                <a:gridCol w="64476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k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n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m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t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b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d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k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n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0" lang="ru-RU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æ</a:t>
                      </a: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i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z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[s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ило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57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ы уже говорили о том, что такое артикль, и ты, наверное, привык к тому, что перед некоторыми словами надо ставить артикль </a:t>
            </a: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ahoma"/>
              </a:rPr>
              <a:t>а</a:t>
            </a:r>
            <a:r>
              <a:rPr b="1" i="1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Tahoma"/>
              </a:rPr>
              <a:t>an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. Этот артикль называется </a:t>
            </a:r>
            <a:r>
              <a:rPr b="1" i="1" lang="ru-RU" sz="1800" spc="-1" strike="noStrike">
                <a:solidFill>
                  <a:srgbClr val="3333cc"/>
                </a:solidFill>
                <a:latin typeface="Tahoma"/>
              </a:rPr>
              <a:t>неопределенным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, потому, что он употребляется перед словами, которые называют каких-то новых неизвестных нам людей или обозначают новые впервые упоминаемые предметы.  Этот артикль употребляется только с существительными в единственном числ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пример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t is a cat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 - Это кошка( какая-то кошка про которую мы ничего не знаем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n has got a dog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 – У Ани есть собака(какая-то собака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Если же называется человек или предмет, который нам уже известен ( упоминался раньше), то следует употреблять </a:t>
            </a:r>
            <a:r>
              <a:rPr b="1" i="1" lang="ru-RU" sz="1800" spc="-1" strike="noStrike">
                <a:solidFill>
                  <a:srgbClr val="3333cc"/>
                </a:solidFill>
                <a:latin typeface="Tahoma"/>
              </a:rPr>
              <a:t>определенный артикль-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Tahoma"/>
              </a:rPr>
              <a:t>the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пример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n has got a dog. The dog is big and black.-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Ани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обака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обака( эта собака, собака Ани) большая и чер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Запомни  артикль </a:t>
            </a:r>
            <a:r>
              <a:rPr b="1" i="1" lang="ru-RU" sz="1800" spc="-1" strike="noStrike" u="sng">
                <a:solidFill>
                  <a:srgbClr val="333399"/>
                </a:solidFill>
                <a:uFillTx/>
                <a:latin typeface="Tahoma"/>
              </a:rPr>
              <a:t>не ставится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 перед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-именами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om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n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-словосочетаниям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числительное +существительное: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ix cats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ven pigs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ck. ….clock is r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…..Bill has got…..box.  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box is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…..Jim has got….stick. 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….box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….stick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….stick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….stick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82600" y="2017800"/>
          <a:ext cx="7772040" cy="4114440"/>
        </p:xfrm>
        <a:graphic>
          <a:graphicData uri="http://schemas.openxmlformats.org/drawingml/2006/table">
            <a:tbl>
              <a:tblPr/>
              <a:tblGrid>
                <a:gridCol w="1941120"/>
                <a:gridCol w="1943640"/>
                <a:gridCol w="1943640"/>
                <a:gridCol w="194364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c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…..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t. 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t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….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t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ig. 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t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ig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ig has got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t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….Jill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ig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ig has go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is gr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ставь артикли там, где это необходим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…..Ann has got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ock.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ock is r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…..Bill has go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ox.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x is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…..Jim has go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ick.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ck isn`t 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…..Jill has go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at.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t is bl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….Jill has go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ig.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ig has got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.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ouse is gre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f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x –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b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645000" cy="4114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0" y="35053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r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44760" y="2017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486400" y="3083040"/>
            <a:ext cx="3657600" cy="2657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42916" t="9696" r="26045" b="51844"/>
          <a:stretch/>
        </p:blipFill>
        <p:spPr>
          <a:xfrm>
            <a:off x="2895480" y="3241800"/>
            <a:ext cx="2667240" cy="242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86000" y="396252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4191120"/>
            <a:ext cx="761760" cy="485640"/>
          </a:xfrm>
          <a:prstGeom prst="rightArrow">
            <a:avLst>
              <a:gd name="adj1" fmla="val 50000"/>
              <a:gd name="adj2" fmla="val 392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r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44760" y="2017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486400" y="3083040"/>
            <a:ext cx="3657600" cy="2657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42916" t="9696" r="26045" b="51844"/>
          <a:stretch/>
        </p:blipFill>
        <p:spPr>
          <a:xfrm>
            <a:off x="2895480" y="3241800"/>
            <a:ext cx="2667240" cy="2423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0" y="396252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4191120"/>
            <a:ext cx="761760" cy="485640"/>
          </a:xfrm>
          <a:prstGeom prst="rightArrow">
            <a:avLst>
              <a:gd name="adj1" fmla="val 50000"/>
              <a:gd name="adj2" fmla="val 392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r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4760" y="2017440"/>
            <a:ext cx="3809880" cy="1981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486400" y="3083040"/>
            <a:ext cx="3657600" cy="2657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42916" t="9696" r="26045" b="51844"/>
          <a:stretch/>
        </p:blipFill>
        <p:spPr>
          <a:xfrm>
            <a:off x="2895480" y="3241800"/>
            <a:ext cx="2667240" cy="2423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6000" y="3962520"/>
            <a:ext cx="609480" cy="533160"/>
          </a:xfrm>
          <a:prstGeom prst="rightArrow">
            <a:avLst>
              <a:gd name="adj1" fmla="val 50000"/>
              <a:gd name="adj2" fmla="val 2857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191120"/>
            <a:ext cx="761760" cy="485640"/>
          </a:xfrm>
          <a:prstGeom prst="rightArrow">
            <a:avLst>
              <a:gd name="adj1" fmla="val 50000"/>
              <a:gd name="adj2" fmla="val 392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.en- a ..n- a ..n- a 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353040" cy="2394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629400" y="18288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rcRect l="5266" t="-3987" r="10531" b="3837"/>
          <a:stretch/>
        </p:blipFill>
        <p:spPr>
          <a:xfrm>
            <a:off x="304920" y="190512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rcRect l="9839" t="13878" r="14759" b="12664"/>
          <a:stretch/>
        </p:blipFill>
        <p:spPr>
          <a:xfrm>
            <a:off x="1066680" y="4114800"/>
            <a:ext cx="1994040" cy="2514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V="1">
            <a:off x="3048120" y="27432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5812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4648320"/>
            <a:ext cx="2286000" cy="6858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p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..n- a ..n- a 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353040" cy="2394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629400" y="18288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rcRect l="5266" t="-3987" r="10531" b="3837"/>
          <a:stretch/>
        </p:blipFill>
        <p:spPr>
          <a:xfrm>
            <a:off x="304920" y="190512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rcRect l="9839" t="13878" r="14759" b="12664"/>
          <a:stretch/>
        </p:blipFill>
        <p:spPr>
          <a:xfrm>
            <a:off x="1066680" y="4114800"/>
            <a:ext cx="1994040" cy="2514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3048120" y="27432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35812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4648320"/>
            <a:ext cx="2286000" cy="6858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h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p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n- a p</a:t>
            </a:r>
            <a:r>
              <a:rPr b="1" lang="en-US" sz="4400" spc="-1" strike="noStrike">
                <a:solidFill>
                  <a:srgbClr val="00e4a8"/>
                </a:solidFill>
                <a:latin typeface="Tahoma"/>
              </a:rPr>
              <a:t>a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- a ..n- a 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3353040" cy="2394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629400" y="18288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rcRect l="5266" t="-3987" r="10531" b="3837"/>
          <a:stretch/>
        </p:blipFill>
        <p:spPr>
          <a:xfrm>
            <a:off x="304920" y="190512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rcRect l="9839" t="13878" r="14759" b="12664"/>
          <a:stretch/>
        </p:blipFill>
        <p:spPr>
          <a:xfrm>
            <a:off x="1066680" y="4114800"/>
            <a:ext cx="1994040" cy="2514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V="1">
            <a:off x="3048120" y="27432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819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35812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4648320"/>
            <a:ext cx="2286000" cy="6858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b-s6110-01</cp:lastModifiedBy>
  <dcterms:modified xsi:type="dcterms:W3CDTF">2014-02-06T18:18:1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