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446B-EDA1-4EBA-9380-4F51426F1D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F3BE-63F4-4A9F-B321-B9F7633422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5963-278E-4213-B891-FECF3FE120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37F3-25E2-4EE0-8687-BFA6557173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2959-C145-42D6-8D11-E259C7F918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F166-EA85-44F5-8797-1A3E6259EE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D808-988D-4081-B32D-D13303CFD1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D863-C99C-4A54-A8F5-5ECAAEF909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0B9C-C835-498A-AC61-9626A3CEE3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B41B-17FF-44A8-95ED-0EBB296B05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5AAD-1078-4704-8593-1790A1120E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3111-26FB-42F2-B200-6136B24B9A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33FC-C3E7-4B87-BE7F-7C4EFDA822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8FF8-640D-4928-A4B7-0A71A670C1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8012-2EB1-415B-B4B3-B41C361B0F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08FA-FAEE-4803-A57E-528394FF29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058-5A5D-4577-ADCD-E564AEE7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2641-B58D-479C-8570-B7D0E52C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D00-F9B5-4084-A104-2CD48DF7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DD4-569E-4398-AED4-63B15E12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7F07-9008-4CC0-85FE-D4ED129F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1C74-2DA6-497D-B1C0-42F78570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00BF-C7F6-4091-8B14-E9988348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79D6-65CD-4E38-B2B7-E9FB09FA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7D84-1AA3-4D97-B172-CC7EC878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3702-E06B-4616-87DE-600462A6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F2B9-2BC7-4BD0-947A-6CEE64CD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8B3-F16D-4935-A1B6-8587CB08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F7DC-6B28-4605-9FCD-A5E05F7B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D629-17D7-40DA-9EAE-CAFB1932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F86D-EAB5-4330-A90A-9E2FB44C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26DC-95D6-4E24-8DAF-E71B8574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3AA8-3967-42A9-886E-C0F0840D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4219-E543-4C4E-A64C-9842B728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509F-198B-4DD0-8C80-143BBCA1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736C-70F8-4DAF-82E1-44E2FD04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0DC9-5722-483A-9298-5EA4D8CF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FB5-C490-40F5-80FC-EBC56E04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CFF-287D-41D5-AD22-2D3AD871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4F0-6EB4-415A-904F-61125AFE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134E-C455-49C6-B19B-DC6DE6D2DB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FA16-6E3B-40BA-8B5F-BEFEBA4E2E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ыразительные средства текс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открытого занятия элективного курса в 8 «Б»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Борисова И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95280" y="-58680"/>
            <a:ext cx="64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68360" y="549360"/>
            <a:ext cx="63597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липсис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пуск элемента высказы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Мы села – в пепел, грады – в п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целля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собое членение высказывания, при котором возникают неполные предложения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Какие только толкования не предлагали разные эпохи и разные ученые. И все толкования были правильны. Интересны. Глуб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11280" y="-658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764640"/>
            <a:ext cx="6400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Риторический вопро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а кого не действует новиз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Риторическое обращ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ечты, мечты! Где ваша слад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Тренировочные упражнения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11280" y="126792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сна! Весна! Как высоко на крыльях ветерка, ласкаясь к солнечным лучам, летают обл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  За все, за все тебя благодарю 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 тайные мучения страст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 горечь слез, отраву поцелу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 месть друзей, за клевету друз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47640" y="32760"/>
            <a:ext cx="62816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5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59280" y="1484280"/>
            <a:ext cx="5689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для тебя ль по скалам бегут и брызжут водопады? Не для тебя ль в ночной тиши вчера цветы благоух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юди добрые  злые, храбрые  и трусливые, умные и недалек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Тренировочные упражнения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тя страшился он сказать, не трудно было б отгадать, когд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…но сердце, чем моложе, тем боязливее и строже хранит причину от людей своих надежд, своих стра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стало темнее вокруг, если гаснет звезда за звездою, если скрылась луна в облаках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амостоятельное исследование текст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26920" y="1341000"/>
            <a:ext cx="5832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ь чувств у человека есть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колько в нас таится 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учтены ни долг, ни че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чувство инту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кроме чувства высо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м всем ничуть не ме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о чувство крас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чувство отвращ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чувство локтя- наконец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гонит чувство страха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чувство юмора – венец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оторым – хоть на плах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ыразительные средства текс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сические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уковые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такс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Лексические средств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23640" y="2420640"/>
            <a:ext cx="556596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сюмо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Звуковые средств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лит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сона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ф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ыразительные средства синтаксис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ф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 напрасно дули вет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 напрасно шла гро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пи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не бы хотелось знать, отчего  я титулярный советник? Почему именно титулярный советн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ыразительные средства синтаксис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теза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ы богат, я очень беден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ы прозаик, я по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р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метливость его и тонкость чутья меня порази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Градац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ходящ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расположение слов в порядке усиливающегося зна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шел, увидел, побед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сходящая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сположение слов в порядке уменьшающегося  зна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ыбу ловят в океанах, реках, прудах, а под Москвой также в лужицах и кана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ыразительные средства синтакси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союзие (асиндет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вед, русский колет, рубит ре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лков бояться – в лес не хо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союзие (полисиндет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ед глазами ходил океан, и колыхался,      и гремел, и сверкал, и                                   угасал, и уходил куда-то в бесконе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9680" y="836640"/>
            <a:ext cx="69343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аллелизм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вой ум глубок, что мор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вой дух высок, что гор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молч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лушай: если я должна тебе… кинжалом я владею, я близ Кавказа рожд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5:47:17Z</dcterms:created>
  <dc:creator>ЗАО дом</dc:creator>
  <dc:description/>
  <dc:language>en-US</dc:language>
  <cp:lastModifiedBy>Коля</cp:lastModifiedBy>
  <dcterms:modified xsi:type="dcterms:W3CDTF">2013-04-22T14:01:10Z</dcterms:modified>
  <cp:revision>6</cp:revision>
  <dc:subject/>
  <dc:title>Выразительные средства текста</dc:title>
</cp:coreProperties>
</file>