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5F0-7B09-46A3-BB94-2A47157C7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4ED-5019-41F0-98F5-F468D48B8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106-AA61-4C38-9E3A-01444D223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3EC0-16BD-4DC9-87CA-6C7FE8A55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FFF-F9F8-4EF1-9244-9372ED138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F3DD-099D-4BF8-A000-D524A8CE9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2ACF-7412-47D5-A287-DF65B1E7A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391-B9FD-46A7-B695-0B55187C2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AB0-F203-434B-BB1B-2F2B75AF5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9B30-F70B-4B4E-BE79-31C800C71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682-364F-4D21-8DE2-AF5CC06B8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B391-2DA1-4FF3-9F84-981CF30F6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A784-F8B9-43A0-8109-BF8748F06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062-9CFC-4261-8D5C-D464CBC43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8D1-ECF5-4210-8EC5-14FD73536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DB7-2155-4009-B8C4-F6587094A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C14-FEB3-47D6-BBFB-3FCE0F18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9FC-E8DB-483B-99D7-F877E3B2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49A-13E0-45CE-B09F-E20A8FD6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6E6-D1E8-4585-B4A1-CECA9FA6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6396-26C4-4129-859B-10834CFD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DC09-4047-457B-965D-F973C60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F5E-3040-483F-B882-74163035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D52-32AD-424B-B854-8356B0F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DCC8-083E-43D4-88ED-2555493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45D-6BB3-4A6A-8653-537EA1A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B82-E35C-4F6B-B732-ACC505D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A62-2CB6-473B-B777-06F2969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0C9B-F2EE-4AA3-9735-4A86BC9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49E6-7695-423E-B99D-99F09DA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A9BB-BD0A-4466-BC60-D092AD62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5538-E31C-4C1C-B838-1CEA2C61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DD0-B891-423F-BA63-199FD8A2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BCD-FAF2-41A1-AEF9-264DEDF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592-7F83-4ECA-8920-DA2FFC0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77C-A9FC-406F-9DA1-4A347673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236-68CA-4A0C-898A-05375CC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A7E-7A0C-4739-A612-02F33D8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8B5-F286-44B9-ABAA-C124D8E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3C5-52A8-4DEE-ABBD-70C097B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0A7-6FA7-429F-9CD1-331974D5D5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C30-2574-4C91-85C7-EC035A1916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открытого занятия элективного курса в 8 «Б»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Борис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280" y="-58680"/>
            <a:ext cx="64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8360" y="549360"/>
            <a:ext cx="63597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липсис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пуск элемента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ы села – в пепел, грады – в п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целля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обое членение высказывания, при котором возникают неполные предложения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Какие только толкования не предлагали разные эпохи и разные ученые. И все толкования были правильны. Интересны. Глуб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-658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764640"/>
            <a:ext cx="6400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ий вопр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кого не действует новиз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ое обра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ечты, мечты! Где ваша сл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на! Весна! Как высоко на крыльях ветерка, ласкаясь к солнечным лучам, летают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  За все, за все тебя благодарю 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тайные мучения страс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горечь слез, отраву поцелу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месть друзей, за клевету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47640" y="32760"/>
            <a:ext cx="6281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59280" y="1484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ля тебя ль по скалам бегут и брызжут водопады? Не для тебя ль в ночной тиши вчера цветы благоух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юди добрые  злые, храбрые  и трусливые, умные и недале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страшился он сказать, не трудно было б отгадать, ког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…но сердце, чем моложе, тем боязливее и строже хранит причину от людей своих надежд, своих стр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ало темнее вокруг, если гаснет звезда за звездою, если скрылась луна в облаках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амостоятельное исследование текст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26920" y="1341000"/>
            <a:ext cx="583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ь чувств у человека ес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в нас таится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тены ни долг, н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чувство инту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оме чувства выс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всем ничуть не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о чувство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отвра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локтя- нако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гонит чувство страх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увство юмора – ве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ым – хоть на пла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е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овые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Лексически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3640" y="2420640"/>
            <a:ext cx="55659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вуковы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н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ф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дули ве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шла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пи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бы хотелось знать, отчего  я титулярный советник? Почему именно титулярный совет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тез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богат, я очень беден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прозаик, я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р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тливость его и тонкость чутья меня пораз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Градац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ходящ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расположение слов в порядке усиливающегося зна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шел, увидел, побе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сходящая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положение слов в порядке уменьшающегося 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ыбу ловят в океанах, реках, прудах, а под Москвой также в лужицах и кана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юзие (а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вед, русский колет, рубит ре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лков бояться – в лес не 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союзие (поли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глазами ходил океан, и колыхался,      и гремел, и сверкал, и                                   угасал, и уходил куда-то в бесконе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836640"/>
            <a:ext cx="6934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ллелизм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ум глубок, что мор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дух высок, что го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олч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лушай: если я должна тебе… кинжалом я владею, я близ Кавказа рож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5:47:17Z</dcterms:created>
  <dc:creator>ЗАО дом</dc:creator>
  <dc:description/>
  <dc:language>en-US</dc:language>
  <cp:lastModifiedBy>Коля</cp:lastModifiedBy>
  <dcterms:modified xsi:type="dcterms:W3CDTF">2013-04-22T14:01:10Z</dcterms:modified>
  <cp:revision>6</cp:revision>
  <dc:subject/>
  <dc:title>Выразительные средства текста</dc:title>
</cp:coreProperties>
</file>