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5C7B-2917-47CE-81A7-A334574053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6293-CC28-402F-8720-6D180D9206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D95D-8854-4732-9762-AE1C9B67F8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4DB8-B6A7-4D59-B0B9-C179E352C1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2A43-6620-455E-888D-99EC036008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9C0A-56D0-4CE1-9E09-D05C08A750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B11B-A664-4CFC-91EA-01A8DC0FEF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2065-7462-4FBE-885F-F66134CCDE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95B7-2EA4-4634-AEB7-F1C53D4A40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3FE8-27CF-4F05-A4A1-D255F4969B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205D-ACC3-44A0-800B-DEFD206B0E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8BCD-2DB0-4CDA-ADFC-BF45E53502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7842-4DEC-43E0-8F6A-0C86A7AB33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064D-4EEB-476E-B726-B8F18A09D5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0B7B-3AD5-4246-9D4C-4356264AF2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AE52-83C8-419C-8871-50AD0C4280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20C5-EDB7-45C6-AFB2-10D17C14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BBDB-4D72-41EE-A96F-7BA49134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AA77-EADD-47BE-A70C-97B6617A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5A4C-3373-42FD-BFBE-618E41A8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1420-FC41-4714-B5A1-D61FF54F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2276-CC8F-4DED-AB53-1C283D61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EAEC-0411-44CA-988C-F68CE9B1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CDB9-3778-4840-8379-AACA5B7F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0DEC-D1F1-480B-A9DC-346C0660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666A-A364-467E-9A9C-C6305C54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648D-A59F-4143-BED4-822D34DF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74F0-34B8-4D74-B0A3-E3B4048D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3C06-E1D0-4817-8A6F-EF7D0FA3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4A31-60BB-4ABF-9404-7AFD8EEA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0447-CFAC-449D-908C-D493DB49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ECD3-A422-42BA-8D29-7E132E7D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33D2-C7B5-4AB3-9D4C-AA56FF92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E324-A123-4D84-B97E-FF5B2471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BAE5-DBAF-4AB5-8656-67D726DD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BC48-B499-4688-AC1E-5AB611D4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B9B0-C9E8-4093-9EC7-DF34A5CA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BFD0-4508-401C-997E-B4A7CB50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DFA5-9620-4F5D-92B4-1989C1BA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EE9C-54CF-4F4C-8E25-9672EC64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93D8-F4D1-4B6D-9701-E0FC6A9778F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7CD2-7161-4DF7-BADA-72F2835E9A5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ыразительные средства текс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открытого занятия элективного курса в 8 «Б»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Борисова И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95280" y="-58680"/>
            <a:ext cx="64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68360" y="549360"/>
            <a:ext cx="63597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липсис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пуск элемента высказы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Мы села – в пепел, грады – в п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целля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собое членение высказывания, при котором возникают неполные предложения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Какие только толкования не предлагали разные эпохи и разные ученые. И все толкования были правильны. Интересны. Глуб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11280" y="-6588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764640"/>
            <a:ext cx="6400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Риторический вопро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а кого не действует новиз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Риторическое обращ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ечты, мечты! Где ваша слад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Тренировочные упражнения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11280" y="126792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сна! Весна! Как высоко на крыльях ветерка, ласкаясь к солнечным лучам, летают обл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   За все, за все тебя благодарю 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 тайные мучения страст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 горечь слез, отраву поцелу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 месть друзей, за клевету друз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47640" y="32760"/>
            <a:ext cx="62816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5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59280" y="1484280"/>
            <a:ext cx="5689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для тебя ль по скалам бегут и брызжут водопады? Не для тебя ль в ночной тиши вчера цветы благоух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люди добрые  злые, храбрые  и трусливые, умные и недалек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Тренировочные упражнения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тя страшился он сказать, не трудно было б отгадать, когд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…но сердце, чем моложе, тем боязливее и строже хранит причину от людей своих надежд, своих стра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стало темнее вокруг, если гаснет звезда за звездою, если скрылась луна в облаках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амостоятельное исследование текста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26920" y="1341000"/>
            <a:ext cx="5832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ять чувств у человека есть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сколько в нас таится 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учтены ни долг, ни че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чувство инту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кроме чувства высо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м всем ничуть не ме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мо чувство крас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чувство отвращ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чувство локтя- наконец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гонит чувство страха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чувство юмора – венец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оторым – хоть на плах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ыразительные средства текс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сические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уковые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такс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Лексические средств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23640" y="2420640"/>
            <a:ext cx="556596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н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ерб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сюмо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Звуковые средств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лит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сона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ф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ыразительные средства синтаксиса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ф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 напрасно дули вет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 напрасно шла гро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пи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не бы хотелось знать, отчего  я титулярный советник? Почему именно титулярный советн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ыразительные средства синтаксиса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итеза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ы богат, я очень беден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ы прозаик, я поэ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р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метливость его и тонкость чутья меня порази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Градац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ходяща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расположение слов в порядке усиливающегося зна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шел, увидел, побед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сходящая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сположение слов в порядке уменьшающегося  зна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ыбу ловят в океанах, реках, прудах, а под Москвой также в лужицах и канав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ыразительные средства синтакси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союзие (асиндет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вед, русский колет, рубит реж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лков бояться – в лес не ход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союзие (полисиндет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ед глазами ходил океан, и колыхался,      и гремел, и сверкал, и                                   угасал, и уходил куда-то в бесконе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9680" y="836640"/>
            <a:ext cx="69343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раллелизм.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вой ум глубок, что мор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вой дух высок, что гор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молч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лушай: если я должна тебе… кинжалом я владею, я близ Кавказа рожд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5:47:17Z</dcterms:created>
  <dc:creator>ЗАО дом</dc:creator>
  <dc:description/>
  <dc:language>en-US</dc:language>
  <cp:lastModifiedBy>Коля</cp:lastModifiedBy>
  <dcterms:modified xsi:type="dcterms:W3CDTF">2013-04-22T14:01:10Z</dcterms:modified>
  <cp:revision>6</cp:revision>
  <dc:subject/>
  <dc:title>Выразительные средства текста</dc:title>
</cp:coreProperties>
</file>