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3B9-EF3E-4E2E-8A20-0D23E609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9B2-51CE-4435-A37E-A6F09942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E0D-F6B4-4040-9FAC-3CEE48BA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6EC-FC9A-4F83-A579-529A3B3A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55C-D165-4564-A636-716845E2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2EE-1338-4344-8F5E-4B70B8FE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AE2-23D4-40FB-8A00-FC10F25D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C79-4080-4BFE-A6ED-8D0AAFF3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CF9-0264-421B-A122-9BE40B73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BB3-3727-4734-9460-0632D7C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1C3-A450-426D-B73D-5059D244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266-B2A7-426D-9A25-E157A761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DE86-6D93-4A6E-973C-9CED42461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411280" y="549360"/>
            <a:ext cx="6372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Словарь мод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от А до 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5661000"/>
            <a:ext cx="76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ем технологии МБОУ СОШ пгт. Уруша Ам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ой Ольгой Василье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8000" y="44085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-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:\Документы\Мои рисунки\Организатор клипов (Microsoft)\j0406226.wmf"/>
          <p:cNvPicPr/>
          <p:nvPr/>
        </p:nvPicPr>
        <p:blipFill>
          <a:blip r:embed="rId1"/>
          <a:stretch/>
        </p:blipFill>
        <p:spPr>
          <a:xfrm>
            <a:off x="755640" y="765000"/>
            <a:ext cx="1179360" cy="10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Документы\Мои рисунки\Организатор клипов (Microsoft)\j0113278.wmf"/>
          <p:cNvPicPr/>
          <p:nvPr/>
        </p:nvPicPr>
        <p:blipFill>
          <a:blip r:embed="rId2"/>
          <a:stretch/>
        </p:blipFill>
        <p:spPr>
          <a:xfrm>
            <a:off x="539640" y="2565360"/>
            <a:ext cx="186696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D:\Документы\Мои рисунки\Организатор клипов (Microsoft)\j0113388.wmf"/>
          <p:cNvPicPr/>
          <p:nvPr/>
        </p:nvPicPr>
        <p:blipFill>
          <a:blip r:embed="rId3"/>
          <a:stretch/>
        </p:blipFill>
        <p:spPr>
          <a:xfrm>
            <a:off x="2556000" y="4076640"/>
            <a:ext cx="17668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469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ьто (гол). - первоначально одежда с рукавами, в настоящее время так называется верхняя распашная одежда, обычно из плотного материала с карман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Дипломат» (франц.)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19 веке простое дамское полуприлегающее двубортное пальт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6160" y="1890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льто - 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561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ая модная деталь как в мужской, так и в женской одежде. Пояса были известны уже в бронзовом веке. Пояс считался символом чести и целомудрия. Женщинам лёгкого поведения запрещалось носить пояса. В средневековье на него вешали сумочки, кисеты, колокольчики, а также украшения и зеркаль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17-18 веках пояс используется очень редко (такова мода), а вот в канун Первой мировой войны пояса снова вернулись, и сейчас являются модным и необходимым элементом одеж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476280"/>
            <a:ext cx="2842920" cy="590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43240" y="189000"/>
            <a:ext cx="14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я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44751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жской двубортный или однобортный короткий пиджак  был известен под названием  «сак» в Англии в 19 веке. Во второй половине 17 века сложились три основные элементы мужского гардероба: пиджак, жилет и брюки. В разное время был длинным, имел много карманов и пуговиц, был богато вышитым и шился из тяжелых тканей. Сейчас это элемент и мужской, и женс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4542" t="2735" r="8769" b="0"/>
          <a:stretch/>
        </p:blipFill>
        <p:spPr>
          <a:xfrm>
            <a:off x="5435640" y="1125360"/>
            <a:ext cx="3454200" cy="508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86520" y="1890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дж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525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ежда древних египтян, состоящая из куска ткани, прикреплённая к поя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ная юбка, богато декорирова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ёмный перед, который прикалывался к верхней юбке булавками во французской моде 17 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усской моде – занавеска, самая модная, декоративно украшенная часть женского кост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849400" cy="626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4720" y="26028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редник (фарту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665280"/>
            <a:ext cx="44276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ты – декоративные детали на карманах, рукавах в виде полосок разной формы, выполняются накладными на застежках или втачиваются  в ш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гоны – декоративные детали в виде полос на плече  или в верхней части рука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032360" cy="55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295600" y="18900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ты, пог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852640"/>
            <a:ext cx="17269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211640" y="2923920"/>
            <a:ext cx="3672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ла известна в Европе благодаря путешественникам, завезшим её из тропиков. Только с начала 20 века входит в моду, особенно у мужчин, которым она полностью заменила ночную руба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4360" y="1890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жа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0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4248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воначально короткий плащ, который носили странники-пилигримы. У богатых были из парчи и бархата, а у бедных из плотных шерстяных тка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явившиеся двубортные пальто вытеснили пелер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360" y="26028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лер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3959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248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. - спортивная рубашка мягкая и легкая, с мягким воротником и застежкой до середины груди, чаще всего с короткими рукавами. Воротники, планки, застёжки иногда делают из полотна другого цвета. Название идёт от названия спортивной игры в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5440" y="2602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2519280" cy="528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234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4248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ревней Руси широкая распашная одежда без рукавов, надеваемая внакидку. Позже так стали называть любую верхнюю одежду из лёгкого плотного материала с водоотталкивающими свойствами на застёж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интошем назван по имени шотландского химика  Чарльза Макинтоша (1868-192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1080" y="404640"/>
            <a:ext cx="41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щ - макинто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46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3889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 женской одежды, который состоит из лифа и  юбки, может быть цельнокроеным или отрезным по талии, бедрам. Может иметь рукава, воротник, карманы, застежку, а может быть без них, может быть повседневным или наря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весь набор одежды человека, кроме верх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7640" y="260280"/>
            <a:ext cx="20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ть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235b.jpg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4467" t="4472" r="13182" b="0"/>
          <a:stretch/>
        </p:blipFill>
        <p:spPr>
          <a:xfrm>
            <a:off x="4284720" y="260280"/>
            <a:ext cx="237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м. – первоначально узкие мужские брюки для верховой езды, плотно обтягивающие ноги; в настоящее время это длинные облегающие  брюки, женские или детские, трикотажные или вязаные из шер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без следа или с перемычкой на следе ног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7440" y="33336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ейту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3889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сесов Я.Н. «История моды» из се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познаю мир», Москва, издательство «АСТ», 1998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2010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мод «Бурда», 2009-2010 г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 презентации взят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ida.ucoz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инки - анимашки взяты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imashki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остюм «Шане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, предложенная знаменитым модельером Габриэль (Коко) Шанель. Подобие мужского пиджака, без воротника, отделан контрастной тканью, характерная ткань – в кле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2521080" cy="41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25207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2205000"/>
            <a:ext cx="194292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379080"/>
            <a:ext cx="4332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улиска, ку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970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ска ткани, настрачиваемая на изделие для вдёргивание пояса или резинки. Может быть выполнена цельно кроеным способом, и резинка вдёргивается между двумя машинными параллельными стр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2305080" cy="575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2421000"/>
            <a:ext cx="1657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Рисунок4"/>
          <p:cNvPicPr/>
          <p:nvPr/>
        </p:nvPicPr>
        <p:blipFill>
          <a:blip r:embed="rId1"/>
          <a:stretch/>
        </p:blipFill>
        <p:spPr>
          <a:xfrm>
            <a:off x="468360" y="1413000"/>
            <a:ext cx="3200400" cy="3504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37080" y="33336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ац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93040" y="5373720"/>
            <a:ext cx="438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. – отогнутая ввер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ь б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619280" y="2637000"/>
            <a:ext cx="302400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476280"/>
            <a:ext cx="2735280" cy="568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4859280" y="2060640"/>
            <a:ext cx="2233800" cy="1582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3095640" cy="554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80036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18880" y="18900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о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052640"/>
            <a:ext cx="369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начально штаны из лосиной или оленьей кожи, позже из замши, элемент военной формы некоторых стран. Сначала смачивались, а затем одевались на тело и на нём уже высых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это изящные женские брючки в обтяжку из трикотажа с лайк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7640" cy="532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5080" y="260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н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89000"/>
            <a:ext cx="434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ранц. – «рукавчик», впервые манжеты в виде кружевной оборки на рукавах появились во Франции в 16 веке, в 17 веке из Франции переместились в Евро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нжеты модны до сих пор: принято считать, что манжеты создают  элегантный вид и одежда без манжет теряет свою эффективность. Мужская сорочка невозможна без манж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9640" y="400536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3640" y="558972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5805360"/>
            <a:ext cx="1224000" cy="21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3:27:50Z</dcterms:created>
  <dc:creator>Teacher</dc:creator>
  <dc:description/>
  <dc:language>en-US</dc:language>
  <cp:lastModifiedBy>Admin</cp:lastModifiedBy>
  <dcterms:modified xsi:type="dcterms:W3CDTF">2013-02-12T10:33:33Z</dcterms:modified>
  <cp:revision>10</cp:revision>
  <dc:subject/>
  <dc:title>Слайд 1</dc:title>
</cp:coreProperties>
</file>