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57A6E-8E46-4367-A8FB-016627194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CCA96-6625-4675-B3CE-724FDF9A4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8E9EE-02C0-43CB-814D-97C716025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F6150-6CF2-4D77-ADB0-54BCF00CB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EBD51-AFB7-4D05-9C70-C586F3A2B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DABB4-642E-4F1B-82BC-56198E0B1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5F573-D2F4-4D24-913E-C745933BC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C1D81-3DFD-4FC3-BFB3-466EF2604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85225-D44A-4D86-AB2A-832C627B5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41F4C-FC77-4B3B-A2DE-2189A903E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EB80D-0AAD-4EB9-9C9B-3E649E88B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8DF0D-487B-45FA-9D4D-A73B9699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9229-8F15-47D3-8EEC-3595937F5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1BAE1-70C3-4F76-A4CA-396F1630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ABF09-2C16-4E06-976D-2D13BA4F9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A1F55-D377-4458-8C5A-8992B421A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CCB9F-7D83-4AFD-B91C-DCF011BDF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17FFC-65B0-412D-B0CE-2542B90E7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863E8-CA51-4D91-AED0-52791BECF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7AA2D-CA22-4A33-9AB1-B01947F8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7EFD4-1817-4887-A280-3F2DD662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2D428-F940-4C58-B2A7-45074440F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A018-6FFA-434E-9612-D4186F08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806A-821B-4238-AA6F-2A4BCC73F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B363-B9BA-4BD5-9EE4-9CFA284BE40D}"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5F0C-31EA-4795-84C3-A624983E9DEB}"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28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Лекция 15</a:t>
            </a:r>
            <a:endParaRPr b="0" lang="en-US" sz="2800" spc="-1" strike="noStrike">
              <a:solidFill>
                <a:srgbClr val="ccecff"/>
              </a:solidFill>
              <a:latin typeface="Arial"/>
            </a:endParaRPr>
          </a:p>
        </p:txBody>
      </p:sp>
      <p:sp>
        <p:nvSpPr>
          <p:cNvPr id="157" name="PlaceHolder 2"/>
          <p:cNvSpPr>
            <a:spLocks noGrp="1"/>
          </p:cNvSpPr>
          <p:nvPr>
            <p:ph type="subTitle"/>
          </p:nvPr>
        </p:nvSpPr>
        <p:spPr>
          <a:xfrm>
            <a:off x="1332000" y="3141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АНТИМИКРОБНАЯ ХИМИОТЕРАП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ФАКТОРЫ СО СТОРОНЫ ПАЦИЕНТА, ОКАЗЫВАЮЩИЕ ВЛИЯНИЕ НА ВЫБОР АНТИМИКРОБНОГО ПРЕПАРАТА</a:t>
            </a:r>
            <a:endParaRPr b="0" lang="en-US" sz="2400" spc="-1" strike="noStrike">
              <a:solidFill>
                <a:srgbClr val="ccecff"/>
              </a:solidFill>
              <a:latin typeface="Arial"/>
            </a:endParaRPr>
          </a:p>
        </p:txBody>
      </p:sp>
      <p:sp>
        <p:nvSpPr>
          <p:cNvPr id="177" name="PlaceHolder 2"/>
          <p:cNvSpPr>
            <a:spLocks noGrp="1"/>
          </p:cNvSpPr>
          <p:nvPr>
            <p:ph/>
          </p:nvPr>
        </p:nvSpPr>
        <p:spPr>
          <a:xfrm>
            <a:off x="395280" y="1557000"/>
            <a:ext cx="8569440" cy="504036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2000" spc="-1" strike="noStrike">
                <a:solidFill>
                  <a:srgbClr val="ffffff"/>
                </a:solidFill>
                <a:latin typeface="Verdana"/>
              </a:rPr>
              <a:t>а. </a:t>
            </a:r>
            <a:r>
              <a:rPr b="0" lang="ru-RU" sz="2000" spc="-1" strike="noStrike">
                <a:solidFill>
                  <a:srgbClr val="ffffff"/>
                </a:solidFill>
                <a:latin typeface="Verdana"/>
              </a:rPr>
              <a:t>нежелательные реакции (НР) на АМП, в первую очередь аллергического характера, в анамнезе;</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Verdana"/>
              </a:rPr>
              <a:t> </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б</a:t>
            </a:r>
            <a:r>
              <a:rPr b="0" i="1" lang="ru-RU" sz="2000" spc="-1" strike="noStrike">
                <a:solidFill>
                  <a:srgbClr val="ffffff"/>
                </a:solidFill>
                <a:latin typeface="Verdana"/>
              </a:rPr>
              <a:t>. </a:t>
            </a:r>
            <a:r>
              <a:rPr b="0" lang="ru-RU" sz="2000" spc="-1" strike="noStrike">
                <a:solidFill>
                  <a:srgbClr val="ffffff"/>
                </a:solidFill>
                <a:latin typeface="Verdana"/>
              </a:rPr>
              <a:t>возраст. Возраст пациента является одним из существенных факторов при выборе АМП. Так, например, рН желудочного сока у детей в возрасте до 3 лет и у пожилых людей (&gt;60 лет) выше по сравнению с другими возрастными группами. Это обусловливает, в частности, увеличение всасывания у них пероральных пенициллинов. </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Другим примером является функция почек, которая снижена у новорождённых и пожилых пациентов. Вследствие этого, дозы препаратов, основной путь выведения которых - почечный (например, аминогликозиды), должны подвергаться соответствующей коррекции.</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Ряд препаратов не разрешён к применению в определённых возрастных группах (например, тетрациклины у детей в возрасте до 8 лет и др.)</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ФАКТОРЫ СО СТОРОНЫ ПАЦИЕНТА, ОКАЗЫВАЮЩИЕ ВЛИЯНИЕ НА ВЫБОР АНТИМИКРОБНОГО ПРЕПАРАТА</a:t>
            </a:r>
            <a:endParaRPr b="0" lang="en-US" sz="2400" spc="-1" strike="noStrike">
              <a:solidFill>
                <a:srgbClr val="ccecff"/>
              </a:solidFill>
              <a:latin typeface="Arial"/>
            </a:endParaRPr>
          </a:p>
        </p:txBody>
      </p:sp>
      <p:sp>
        <p:nvSpPr>
          <p:cNvPr id="179"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2000" spc="-1" strike="noStrike">
                <a:solidFill>
                  <a:srgbClr val="ffffff"/>
                </a:solidFill>
                <a:latin typeface="Verdana"/>
              </a:rPr>
              <a:t>в. </a:t>
            </a:r>
            <a:r>
              <a:rPr b="0" lang="ru-RU" sz="2000" spc="-1" strike="noStrike">
                <a:solidFill>
                  <a:srgbClr val="ffffff"/>
                </a:solidFill>
                <a:latin typeface="Verdana"/>
              </a:rPr>
              <a:t> генетические и метаболические особенности. Они могут оказать значительное влияние на использование или токсичность некоторых АМП. Так, например, скорость конъюгации и биологической инактивации изониазида определена генетически. Так называемые "быстрые ацетиляторы" наиболее часто встречаются среди азиатской популяции, "медленные" - в США и Северной Европе.</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Сульфаниламиды, хлорамфеникол и некоторые другие препараты способны вызывать гемолиз у лиц с дефицитом глюкозы-6-фосфат дегидрогеназы.</a:t>
            </a:r>
            <a:endParaRPr b="0" lang="en-US" sz="20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1"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800" spc="-1" strike="noStrike">
                <a:solidFill>
                  <a:srgbClr val="ffffff"/>
                </a:solidFill>
                <a:latin typeface="Verdana"/>
              </a:rPr>
              <a:t>г. беременность и лактация.  Считается, что все АМП способны проникать через плаценту, однако степень проникновения среди них значительно варьирует. Несмотря на практически полное отсутствие клинически подтвержденных данных о тератогенном потенциале АМП у людей, опыт показывает, что большинство пенициллинов, цефалоспоринов, а также эритромицин безопасны для использования у беременных. В то же время, например, метронидазол обладал тератогенным эффектом у грызунов, поэтому его не рекомендуется использовать у беременных в I триместре. </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рактически все АМП проникают в грудное молоко. Количество препарата, проникающее в молоко, зависит от степени его ионизации, молекулярной массы, растворимости в воде и липидах. В большинстве случаев концентрация АМП в грудном молоке является достаточно низкой. Однако даже низкие концентрации определенных препаратов способны привести к неблагоприятным последствиям для ребенка.</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3"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2000" spc="-1" strike="noStrike">
                <a:solidFill>
                  <a:srgbClr val="ffffff"/>
                </a:solidFill>
                <a:latin typeface="Verdana"/>
              </a:rPr>
              <a:t>д.  учет функции печени и почек. Способность печени и почек пациента к метаболизму и элиминации применяемых АМП является одним из наиболее важных факторов при решении вопроса об их назначении, особенно в случае, если высокие сывороточные или тканевые концентрации препарата являются потенциально токсичными. В случае нарушения функции почек для большинства препаратов требуется коррекция дозы. Для других препаратов (например, эритромицина) коррекция дозы требуется при нарушении функции печени. Исключениями из вышеуказанных правил являются препараты, имеющие двойной путь выведения (например, цефоперазон), коррекция дозы которых требуется лишь в случае комбинированного нарушения функции печени и почек.</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95280" y="476280"/>
            <a:ext cx="8278920" cy="5843520"/>
          </a:xfrm>
          <a:prstGeom prst="rect">
            <a:avLst/>
          </a:prstGeom>
          <a:ln w="0">
            <a:noFill/>
          </a:ln>
        </p:spPr>
      </p:pic>
      <p:sp>
        <p:nvSpPr>
          <p:cNvPr id="185" name=""/>
          <p:cNvSpPr/>
          <p:nvPr/>
        </p:nvSpPr>
        <p:spPr>
          <a:xfrm>
            <a:off x="663480" y="6324480"/>
            <a:ext cx="8480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трачунский Л.С., Белоусов Ю.Б, Козлов С.Н.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актическое  руководство по антиинфекционной химиотерапии, 200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7"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е. учет приема других лекарственных средств для исключения возможности фармакологического взаимодействия между ним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4. Выбор рационального режима дозирован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разовая доза;</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кратность введен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путь введ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ВЫБОР ДОЗЫ И ПУТИ ВВЕДЕНИЯ </a:t>
            </a:r>
            <a:br>
              <a:rPr sz="2800"/>
            </a:br>
            <a:r>
              <a:rPr b="0" lang="ru-RU" sz="2800" spc="-1" strike="noStrike">
                <a:solidFill>
                  <a:srgbClr val="ccecff"/>
                </a:solidFill>
                <a:latin typeface="Arial"/>
              </a:rPr>
              <a:t>АНТИМИКРОБНОГО ПРЕПАРАТА</a:t>
            </a:r>
            <a:endParaRPr b="0" lang="en-US" sz="28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инфекциях легкой и средней степени тяжести препараты назначаются, как правило, в среднетерапевтических дозах, предпочтительным является их пероральный прием (при условии хорошей биодоступности).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тяжелых инфекциях необходимо парентеральное, желательно внутривенное, введени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угрожающих жизни инфекциях (сепсис, менингит  и др.) ЛС следует вводить только внутривенно, используя максимальные суточные дозы.</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93" name="PlaceHolder 2"/>
          <p:cNvSpPr>
            <a:spLocks noGrp="1"/>
          </p:cNvSpPr>
          <p:nvPr>
            <p:ph/>
          </p:nvPr>
        </p:nvSpPr>
        <p:spPr>
          <a:xfrm>
            <a:off x="250920" y="1600200"/>
            <a:ext cx="8642160" cy="49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5. Планирование сроков и методов оценки эффективности терапи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имерный срок определяется исходя из локализации процесса и вида возбудителя (например, лечение внебольничной пневмонии, вызванной </a:t>
            </a:r>
            <a:r>
              <a:rPr b="0" lang="en-US" sz="2000" spc="-1" strike="noStrike">
                <a:solidFill>
                  <a:srgbClr val="ffffff"/>
                </a:solidFill>
                <a:latin typeface="Verdana"/>
              </a:rPr>
              <a:t>Str. pneumoniae</a:t>
            </a:r>
            <a:r>
              <a:rPr b="0" lang="ru-RU" sz="2000" spc="-1" strike="noStrike">
                <a:solidFill>
                  <a:srgbClr val="ffffff"/>
                </a:solidFill>
                <a:latin typeface="Verdana"/>
              </a:rPr>
              <a:t>, рекомендуется проводить 7-10 дней);</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ервую оценку эффективности проводят на 2-3 день лечения. если первоначально выбранный препарат эффективен, его необходимо назначать на полный курс в соответствии с особенностями данной инфекции. Рекомендации об обязательной смене химиопрепаратов каждые 5-7 дней «в целях профилактики развития резистентности возбудителя» не имеют под собой доказательной основы;</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и большинстве инфекций, если первоначально антимикробные препараты вводились парентерально, после улучшения состояния пациентов (3 - 4-е сутки) можно переходить на пероральный прием. Такой режим лечения известен под названием </a:t>
            </a:r>
            <a:r>
              <a:rPr b="0" i="1" lang="ru-RU" sz="2000" spc="-1" strike="noStrike">
                <a:solidFill>
                  <a:srgbClr val="ffffff"/>
                </a:solidFill>
                <a:latin typeface="Verdana"/>
              </a:rPr>
              <a:t>ступенчатая терапия</a:t>
            </a:r>
            <a:r>
              <a:rPr b="0" lang="ru-RU"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УПЕНЧАТАЯ ТЕРАПИЯ АНТИБАКТЕРИАЛЬНЫМИ ПРЕПАРАТАМИ</a:t>
            </a:r>
            <a:endParaRPr b="0" lang="en-US" sz="2800" spc="-1" strike="noStrike">
              <a:solidFill>
                <a:srgbClr val="ccecff"/>
              </a:solidFill>
              <a:latin typeface="Arial"/>
            </a:endParaRPr>
          </a:p>
        </p:txBody>
      </p:sp>
      <p:sp>
        <p:nvSpPr>
          <p:cNvPr id="195" name="PlaceHolder 2"/>
          <p:cNvSpPr>
            <a:spLocks noGrp="1"/>
          </p:cNvSpPr>
          <p:nvPr>
            <p:ph/>
          </p:nvPr>
        </p:nvSpPr>
        <p:spPr>
          <a:xfrm>
            <a:off x="394920" y="1628280"/>
            <a:ext cx="842652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тупенчатая терапия - двухэтапное применение антиинфекционных препаратов с переходом  с парентерального на непарентеральный (как правило, пероральный) путь введения в возможно более короткие сроки с учетом клинического состояния пациент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новная идея ступенчатой терапии - сокращение длительности парентерального введения антиинфекционного препарата, что может привести к значительному уменьшению стоимости лечения, сокращению срока пребывания в стационаре при сохранении высокой клинической эффективности терапи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95280" y="1267920"/>
            <a:ext cx="8424720" cy="47530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   </a:t>
            </a:r>
            <a:r>
              <a:rPr b="1" lang="ru-RU" sz="2800" spc="-1" strike="noStrike">
                <a:solidFill>
                  <a:srgbClr val="ffffff"/>
                </a:solidFill>
                <a:latin typeface="Verdana"/>
              </a:rPr>
              <a:t>Антимикробная химиотерапия  - </a:t>
            </a:r>
            <a:r>
              <a:rPr b="0" lang="ru-RU" sz="2800" spc="-1" strike="noStrike">
                <a:solidFill>
                  <a:srgbClr val="ffffff"/>
                </a:solidFill>
                <a:latin typeface="Verdana"/>
              </a:rPr>
              <a:t>терапия, проводимая с использованием лекарственных средств, действие которых направлено на подавление жизнедеятельности возбудителей инфекционных заболеваний: бактерий, грибов, простейших, вирусов.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801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ИМУЩЕСТВА СТУПЕНЧАТОЙ ТЕРАПИИ </a:t>
            </a:r>
            <a:br>
              <a:rPr sz="2800"/>
            </a:br>
            <a:r>
              <a:rPr b="0" lang="ru-RU" sz="2800" spc="-1" strike="noStrike">
                <a:solidFill>
                  <a:srgbClr val="ccecff"/>
                </a:solidFill>
                <a:latin typeface="Arial"/>
              </a:rPr>
              <a:t>ДЛЯ СТАЦИОНАРА</a:t>
            </a:r>
            <a:endParaRPr b="0" lang="en-US" sz="2800" spc="-1" strike="noStrike">
              <a:solidFill>
                <a:srgbClr val="ccecff"/>
              </a:solidFill>
              <a:latin typeface="Arial"/>
            </a:endParaRPr>
          </a:p>
        </p:txBody>
      </p:sp>
      <p:sp>
        <p:nvSpPr>
          <p:cNvPr id="197" name="PlaceHolder 2"/>
          <p:cNvSpPr>
            <a:spLocks noGrp="1"/>
          </p:cNvSpPr>
          <p:nvPr>
            <p:ph/>
          </p:nvPr>
        </p:nvSpPr>
        <p:spPr>
          <a:xfrm>
            <a:off x="468360" y="1412640"/>
            <a:ext cx="777240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затрат в связи с меньшей стоимостью оральных антибактериальных препаратов</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непрямых расходов при применении оральных антибактериальных препаратов (этиловый спирт, шприцы, иглы, системы для инфузий, перчатки и др.)</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анняя выписка из стационара, так как оральные антибактериальные препараты можно продолжать принимать в домашних условиях</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риска возникновения нозокомиальной инфекции, в том числе и постинъекционных осложнений, а также расходов, связанных с их лечением</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99" name="PlaceHolder 2"/>
          <p:cNvSpPr>
            <a:spLocks noGrp="1"/>
          </p:cNvSpPr>
          <p:nvPr>
            <p:ph/>
          </p:nvPr>
        </p:nvSpPr>
        <p:spPr>
          <a:xfrm>
            <a:off x="250920" y="1600200"/>
            <a:ext cx="8642160" cy="4997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5. Планирование сроков и методов оценки эффективности терапии:</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решение вопроса о завершении антимикробной химиотерапии, во-первых, следует исходить из клинических данных - есть ли клиническое улучшение или выздоровление – плюс данные лабораторных, рентгенологических и др. методов исследования. Во-вторых, по возможности принимать во внимание микробиологические показатели. Значимость эрадикации возбудителя имеет большое значение, например, при стрептококковом тонзиллофарингите, язвенной болезни желудка и 12-ти перстной кишки (</a:t>
            </a:r>
            <a:r>
              <a:rPr b="0" lang="en-US" sz="2000" spc="-1" strike="noStrike">
                <a:solidFill>
                  <a:srgbClr val="ffffff"/>
                </a:solidFill>
                <a:latin typeface="Verdana"/>
              </a:rPr>
              <a:t>H. pylori)</a:t>
            </a:r>
            <a:r>
              <a:rPr b="0" lang="ru-RU" sz="2000" spc="-1" strike="noStrike">
                <a:solidFill>
                  <a:srgbClr val="ffffff"/>
                </a:solidFill>
                <a:latin typeface="Verdana"/>
              </a:rPr>
              <a:t> и инфекциях МВ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ЧИНЫ ОТСУТСТВИЯ ЭФФЕКТА  ОТ ПРОВОДИМОЙ АНТИМИКРОБНОЙ ХИМИОТЕРАПИИ</a:t>
            </a:r>
            <a:endParaRPr b="0" lang="en-US" sz="2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Неправильно поставленный диагноз инфекционного процесс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слабление эффекта антимикробного препарата другими назначенными ЛС</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исоединение суперинфекции</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Формирование гнойника (абсцесс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Наличие инородного тел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Лекарственная лихорадка (могут вызывать сам антимикробный препарат или параллельно назначенные ЛС)</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ГДА ОПРАВДАНА ЗАМЕНА </a:t>
            </a:r>
            <a:br>
              <a:rPr sz="2400"/>
            </a:br>
            <a:r>
              <a:rPr b="0" lang="ru-RU" sz="2400" spc="-1" strike="noStrike">
                <a:solidFill>
                  <a:srgbClr val="ccecff"/>
                </a:solidFill>
                <a:latin typeface="Arial"/>
              </a:rPr>
              <a:t>АНТИМИКРОБНОГО ПРЕПАРАТ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неэффективности препарата (если исключены другие факторы неэффективности терапи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развитии угрожающих здоровью или жизни пациента нежелательных реакций, которые вызваны антимикробным препаратом;</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применении препаратов с кумулятивной токсичностью, для которых установлены лимитированные сроки длительности назначения (например, аминогликозиды: обычно 7-10 дней, только при инфекционном эндокардите 14 дней, при туберкулезе – 2 месяц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ЩИЕ СПЕЦИФИЧЕСКИЕ СВОЙСТВА АНТИМИКРОБНЫХ ПРЕПАРАТОВ</a:t>
            </a:r>
            <a:endParaRPr b="0" lang="en-US" sz="2800" spc="-1" strike="noStrike">
              <a:solidFill>
                <a:srgbClr val="ccecff"/>
              </a:solidFill>
              <a:latin typeface="Arial"/>
            </a:endParaRPr>
          </a:p>
        </p:txBody>
      </p:sp>
      <p:sp>
        <p:nvSpPr>
          <p:cNvPr id="160" name="PlaceHolder 2"/>
          <p:cNvSpPr>
            <a:spLocks noGrp="1"/>
          </p:cNvSpPr>
          <p:nvPr>
            <p:ph/>
          </p:nvPr>
        </p:nvSpPr>
        <p:spPr>
          <a:xfrm>
            <a:off x="250560" y="1557360"/>
            <a:ext cx="8713800" cy="4896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Избирательность действия - активность только против микроорганизмов, при сохранной жизнеспособности клеток хозяина и действие на определенные роды и виды микроорганизмов.</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ff"/>
                </a:solidFill>
                <a:latin typeface="Verdana"/>
              </a:rPr>
              <a:t>Мишень их действия находится не в тканях человека, а в клетках микроорганизмов</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Активность антимикробных ЛС не является постоянной, а снижается со временем, что обусловлено формированием у микробов лекарственной устойчивости (резистентности). Такая резистентность является закономерным биологическим явлением, и избежать её практически невозможно.</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2124000" y="549360"/>
            <a:ext cx="4896000" cy="1224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ВИДЫ АНТИМИКРОБНОЙ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ХИМИОТЕРАПИИ</a:t>
            </a:r>
            <a:endParaRPr b="0" lang="en-US" sz="2400" spc="-1" strike="noStrike">
              <a:solidFill>
                <a:srgbClr val="ffffff"/>
              </a:solidFill>
              <a:latin typeface="Times New Roman"/>
            </a:endParaRPr>
          </a:p>
        </p:txBody>
      </p:sp>
      <p:sp>
        <p:nvSpPr>
          <p:cNvPr id="162" name=""/>
          <p:cNvSpPr/>
          <p:nvPr/>
        </p:nvSpPr>
        <p:spPr>
          <a:xfrm>
            <a:off x="179280" y="2492280"/>
            <a:ext cx="4105440" cy="27147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Этиотропная терапи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дполагает целенаправленно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именение антимикробных</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паратов против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установленного возбудител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инфекции</a:t>
            </a:r>
            <a:r>
              <a:rPr b="0" lang="ru-RU" sz="1800" spc="-1" strike="noStrike">
                <a:solidFill>
                  <a:srgbClr val="ffffff"/>
                </a:solidFill>
                <a:latin typeface="Verdana"/>
              </a:rPr>
              <a:t>.</a:t>
            </a:r>
            <a:endParaRPr b="0" lang="en-US" sz="1800" spc="-1" strike="noStrike">
              <a:solidFill>
                <a:srgbClr val="ffffff"/>
              </a:solidFill>
              <a:latin typeface="Times New Roman"/>
            </a:endParaRPr>
          </a:p>
        </p:txBody>
      </p:sp>
      <p:sp>
        <p:nvSpPr>
          <p:cNvPr id="163" name=""/>
          <p:cNvSpPr/>
          <p:nvPr/>
        </p:nvSpPr>
        <p:spPr>
          <a:xfrm>
            <a:off x="4859280" y="2492280"/>
            <a:ext cx="4032360" cy="2737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Эмпирическая терапи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ыбор</a:t>
            </a:r>
            <a:r>
              <a:rPr b="1" lang="ru-RU" sz="1800" spc="-1" strike="noStrike">
                <a:solidFill>
                  <a:srgbClr val="ff0000"/>
                </a:solidFill>
                <a:latin typeface="Verdana"/>
              </a:rPr>
              <a:t> </a:t>
            </a:r>
            <a:r>
              <a:rPr b="0" lang="ru-RU" sz="1800" spc="-1" strike="noStrike">
                <a:solidFill>
                  <a:srgbClr val="ff0000"/>
                </a:solidFill>
                <a:latin typeface="Verdana"/>
              </a:rPr>
              <a:t>антимикробных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паратов проводитс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с учетом наиболе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ероятных возбудителей</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данной инфекции и наиболе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ероятной чувствительности</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этих возбудителей к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антимикробным препаратам</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flipH="1">
            <a:off x="1908000" y="1773360"/>
            <a:ext cx="172728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435640" y="1773360"/>
            <a:ext cx="187308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260280"/>
            <a:ext cx="7772400" cy="100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ЭМПИРИЧЕСКИЙ ПОДХОД ПРИ ЛЕЧЕНИИ АНТИБАКТЕРИАЛЬНЫМИ ПРЕПАРАТАМИ</a:t>
            </a:r>
            <a:endParaRPr b="0" lang="en-US" sz="2400" spc="-1" strike="noStrike">
              <a:solidFill>
                <a:srgbClr val="ccecff"/>
              </a:solidFill>
              <a:latin typeface="Arial"/>
            </a:endParaRPr>
          </a:p>
        </p:txBody>
      </p:sp>
      <p:pic>
        <p:nvPicPr>
          <p:cNvPr id="167" name="" descr=""/>
          <p:cNvPicPr/>
          <p:nvPr/>
        </p:nvPicPr>
        <p:blipFill>
          <a:blip r:embed="rId1"/>
          <a:stretch/>
        </p:blipFill>
        <p:spPr>
          <a:xfrm>
            <a:off x="468360" y="1413000"/>
            <a:ext cx="8256600" cy="482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69" name="PlaceHolder 2"/>
          <p:cNvSpPr>
            <a:spLocks noGrp="1"/>
          </p:cNvSpPr>
          <p:nvPr>
            <p:ph/>
          </p:nvPr>
        </p:nvSpPr>
        <p:spPr>
          <a:xfrm>
            <a:off x="250560" y="1600200"/>
            <a:ext cx="871380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1. Точная постановка диагноз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Локализация и степень тяжести инфекции (необходимо для выбора антимикробного ЛС при эмпирической химиотерапии, выбора дозы и способа введения ЛС.</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Вид инфекции (бактериальная, грибковая, вирусная или др., или это  - микст-инфекция). Так большинство  вирусных инфекций не требуют специфического лечения.</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едполагаемый(ые) или установленный(ые) возбудитель(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огнозируемая или известная чувствительность к антимикробным препарат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Локальные данные о вторичной (приобретенной) резистентности возбудителя (при эмпирической терапии).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277920"/>
            <a:ext cx="8713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1" name="PlaceHolder 2"/>
          <p:cNvSpPr>
            <a:spLocks noGrp="1"/>
          </p:cNvSpPr>
          <p:nvPr>
            <p:ph/>
          </p:nvPr>
        </p:nvSpPr>
        <p:spPr>
          <a:xfrm>
            <a:off x="323640" y="2060280"/>
            <a:ext cx="8507160" cy="4141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2. Обоснованность назначения антимикробных препаратов.</a:t>
            </a:r>
            <a:endParaRPr b="0" lang="en-US" sz="2000" spc="-1" strike="noStrike">
              <a:solidFill>
                <a:srgbClr val="ffffff"/>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Например, некоторые бактериальные и большинство вирусных инфекций не требуют специфического лечени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3. Выбор оптимального антимикробного препарат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специфичность действия его в отношении предполагаемого (или установленного) возбудителя. Большинство инфекций вызывается одним (ведущим) возбудителем, поэтому «избыточная» широта спектра не только не дает никаких преимуществ, но и опасна с точки зрения нормальной микрофлоры. Следует стремиться к применению препаратов с максимально узким спектром активности, особенно при выделенном возбудител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если предполагается (или установлено) несколько возбудителей, то следует назначать либо монотерапию препаратом, спектру активности которого они соответствуют, либо адекватную комбинацию препаратов (например, пенициллины + АГ, ЦС + АГ, ЦС + макролид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3. Выбор оптимального антимикробного препарат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комбинации назначаются также в тех случаях, когда необходимо достичь синергоидного эффекта в отношении природно устойчивых к большинству антибиотиков микроорганизмов (синегнойная палочка, энтерококки) или если монотерапия ведет к быстрому развитию резистентности возбудителя (туберкулез);</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типа антимикробного препарата – при тяжелых инфекциях предпочтительны химиопрепараты, обладающие цидным действием;</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особенностей фармакокинетики – проникновение в очаг инфекции и создание в нем терапевтических концентраций; при инфекциях, вызываемых внутриклеточными возбудителями – способность проникать в клетки макроорганизм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прогнозирование возможных нежелательных реакций;</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особенностей пациента (возраст, масса тела, алергологический анамнез, функции почек и печени, беременность, кормление грудью, одновременный прием других ЛС).</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ZZ</cp:lastModifiedBy>
  <dcterms:modified xsi:type="dcterms:W3CDTF">2008-03-14T05:25:37Z</dcterms:modified>
  <cp:revision>73</cp:revision>
  <dc:subject/>
  <dc:title>PowerPoint Presentation</dc:title>
</cp:coreProperties>
</file>