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7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DD8F-CF83-45BD-BE75-BD86D2721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C8BF-C90F-41B2-AC24-3B710F0AB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8382-0E04-47C4-89A1-417CFEE60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C835-A75A-4EAE-A126-425542E4A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E51B-1A98-4DC8-8721-F15B0843F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42BB-F35E-436A-85A3-964A8CE85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8CE0-EF30-425D-90D2-25DED0680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0EF6-0DF3-49E4-A7CA-C1F2D1168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288B-7268-4171-813B-CB56CF4BD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E40C-888B-4DDE-A655-427462EE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6335-1646-4486-8090-C54864F1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4F1A-A7BE-42AE-8F79-8F5EF296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541E8-93B8-492B-95C4-216D2FA952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642920" y="3716280"/>
            <a:ext cx="4064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борудование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епродукция        карт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Цели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ознакомить учащихся с особенностями художественного описания помещения, подготовить детей к описанию карт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4716360" y="333360"/>
            <a:ext cx="3835440" cy="350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очине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о картине Т. Н. Яблонской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" Утро "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43" name="Picture 8" descr="551"/>
          <p:cNvPicPr/>
          <p:nvPr/>
        </p:nvPicPr>
        <p:blipFill>
          <a:blip r:embed="rId2"/>
          <a:stretch/>
        </p:blipFill>
        <p:spPr>
          <a:xfrm>
            <a:off x="7885080" y="5589720"/>
            <a:ext cx="1047960" cy="799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Т.Н. Яблонская - Утро"/>
          <p:cNvPicPr/>
          <p:nvPr/>
        </p:nvPicPr>
        <p:blipFill>
          <a:blip r:embed="rId3"/>
          <a:stretch/>
        </p:blipFill>
        <p:spPr>
          <a:xfrm>
            <a:off x="324000" y="189000"/>
            <a:ext cx="382428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868480" y="189000"/>
            <a:ext cx="627552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еред нами картина Т.Н. Яблонской «Утро». На ней изображена комната девочки со столом и кроватью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 переднем плане картины изображен стол с только что принесенным завтраком: хлебом, молоком в кувшине и маслом.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 центральном плане изображена девочка, делающая зарядку. Ей лет десять. Она собирается в школу. У нее напряженное лицо. Она худощавая и высокая. Рядом с девочкой изображен стул. На нем лежит школьная форма. На спинке стула висит пионерский галстук. Там же стоит кровать. По ее виду заметно, что девочка только что проснулась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 заднем плане – стена. На ней декоративная глиняная тарелка с птицами. Там же находится балкон нараспашку. Окно старинного типа. Наконец, на заднем плане находится город. Окна выходят на восток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общем, картина мне понравилась, потому что она светлая и радостная.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Т.Н. Яблонская - Утро"/>
          <p:cNvPicPr/>
          <p:nvPr/>
        </p:nvPicPr>
        <p:blipFill>
          <a:blip r:embed="rId2"/>
          <a:stretch/>
        </p:blipFill>
        <p:spPr>
          <a:xfrm>
            <a:off x="0" y="620640"/>
            <a:ext cx="31924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1044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000066"/>
                </a:solidFill>
                <a:uFillTx/>
                <a:latin typeface="Arial"/>
              </a:rPr>
              <a:t>Вступительное слово о художнице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тьяна Ниловна Яблонская - известный мастер живописи, лауреат Государственной премии. Она изображает на полотнах простых людей, их труд. Очень любит писать дет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  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картине " Утро " художница учит нас видеть прекрасное в обыденном, в том, что нас окружает и что мы далеко не всегда замечаем. Всё как будто очень незатейливо в этой картине. На самом деле всё в ней очень хорошо продумано и помогает художнице раскрыть свой замыс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Т.Н. Яблонская - Утро"/>
          <p:cNvPicPr/>
          <p:nvPr/>
        </p:nvPicPr>
        <p:blipFill>
          <a:blip r:embed="rId2"/>
          <a:stretch/>
        </p:blipFill>
        <p:spPr>
          <a:xfrm>
            <a:off x="0" y="0"/>
            <a:ext cx="11844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" dur="3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" dur="3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8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800000"/>
                </a:solidFill>
                <a:uFillTx/>
                <a:latin typeface="Arial"/>
              </a:rPr>
              <a:t>Беседа по картин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(Используются вопросы, данные в упр. 177.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800000"/>
              </a:buClr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800000"/>
                </a:solidFill>
                <a:uFillTx/>
                <a:latin typeface="Arial"/>
              </a:rPr>
              <a:t>Составление рабочих материалов к описанию карти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(Часть работы выполняется коллективно, часть — самостоятельно.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7020000" y="3933720"/>
            <a:ext cx="1412640" cy="22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74872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66"/>
                </a:solidFill>
                <a:uFillTx/>
                <a:latin typeface="Arial"/>
              </a:rPr>
              <a:t>Беседа по картине и параллельная запись рабочих материалов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403848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1). Что изображено на картине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2). Какое это время года? 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3). Опишите девочку, чем она занята?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4). Как характеризует хозяйку её комната? 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5). Расскажите, что мы видим в открытую на балкон дверь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8320" y="692280"/>
            <a:ext cx="403848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тро свежее, солнечное, над городом тума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есна, ощущается прохлада раннего ут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вочка худенькая, стройная, изящная, грациозная, лицо светлое, счастливое; хозяйка опрятная, делает утреннюю гимнастику. форма девочки: ленты для кос, пионерский галстук, школьное плать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мната солнечная, просторная, много воздуха и света, блестящий паркетный пол, не заставлена мебелью, круглый стол, кувшин, деревянная кровать, белоснежное постельное бельё, декоративная тарелка, кашпо с вьющимся цветком, цветок изящно свисает с балконной двери, чистота и уют, цветы на подоконнике. Видно, что маленькая хозяйка очень любит свою комнату, поддерживает чистоту и ую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уман над городом, очертания зданий, утреннее небо, ясное и спокойно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Т.Н. Яблонская - Утро"/>
          <p:cNvPicPr/>
          <p:nvPr/>
        </p:nvPicPr>
        <p:blipFill>
          <a:blip r:embed="rId2"/>
          <a:stretch/>
        </p:blipFill>
        <p:spPr>
          <a:xfrm>
            <a:off x="2195640" y="3500280"/>
            <a:ext cx="13492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0" fill="hold"/>
                                        <p:tgtEl>
                                          <p:spTgt spid="5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0" fill="hold"/>
                                        <p:tgtEl>
                                          <p:spTgt spid="5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800000"/>
                </a:solidFill>
                <a:uFillTx/>
                <a:latin typeface="Arial"/>
              </a:rPr>
              <a:t>Составление плана сочинения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53272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1)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Утро в город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2). Комната девочки (мебель, украшения, одежда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 </a:t>
            </a: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3). Хозяйка комнат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        </a:t>
            </a: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а). Описание внешност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        </a:t>
            </a: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б). что делает девоч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 </a:t>
            </a: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4). Впечатления, полученные от просмотра карти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Т.Н. Яблонская - Утро"/>
          <p:cNvPicPr/>
          <p:nvPr/>
        </p:nvPicPr>
        <p:blipFill>
          <a:blip r:embed="rId2"/>
          <a:stretch/>
        </p:blipFill>
        <p:spPr>
          <a:xfrm>
            <a:off x="7524720" y="260280"/>
            <a:ext cx="13492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3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3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0"/>
                            </p:stCondLst>
                            <p:childTnLst>
                              <p:par>
                                <p:cTn id="13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3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3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8000"/>
                            </p:stCondLst>
                            <p:childTnLst>
                              <p:par>
                                <p:cTn id="13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3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3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3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3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3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3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3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3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едупреждение речевых ошибо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     </a:t>
            </a:r>
            <a:r>
              <a:rPr b="1" i="1" lang="ru-RU" sz="4000" spc="-1" strike="noStrike" u="sng">
                <a:solidFill>
                  <a:srgbClr val="003300"/>
                </a:solidFill>
                <a:uFillTx/>
                <a:latin typeface="Arial"/>
              </a:rPr>
              <a:t>Девочка </a:t>
            </a:r>
            <a:r>
              <a:rPr b="1" i="1" lang="ru-RU" sz="4000" spc="-1" strike="noStrike">
                <a:solidFill>
                  <a:srgbClr val="003300"/>
                </a:solidFill>
                <a:latin typeface="Arial"/>
              </a:rPr>
              <a:t>- она - хозяйка комна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00"/>
                </a:solidFill>
                <a:latin typeface="Arial"/>
              </a:rPr>
              <a:t>     </a:t>
            </a:r>
            <a:r>
              <a:rPr b="1" i="1" lang="ru-RU" sz="4000" spc="-1" strike="noStrike" u="sng">
                <a:solidFill>
                  <a:srgbClr val="003300"/>
                </a:solidFill>
                <a:uFillTx/>
                <a:latin typeface="Arial"/>
              </a:rPr>
              <a:t>Изображено</a:t>
            </a:r>
            <a:r>
              <a:rPr b="1" i="1" lang="ru-RU" sz="4000" spc="-1" strike="noStrike">
                <a:solidFill>
                  <a:srgbClr val="003300"/>
                </a:solidFill>
                <a:latin typeface="Arial"/>
              </a:rPr>
              <a:t> - показано - находится и т. д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Т.Н. Яблонская - Утро"/>
          <p:cNvPicPr/>
          <p:nvPr/>
        </p:nvPicPr>
        <p:blipFill>
          <a:blip r:embed="rId2"/>
          <a:stretch/>
        </p:blipFill>
        <p:spPr>
          <a:xfrm>
            <a:off x="7236000" y="4437000"/>
            <a:ext cx="13492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0"/>
                            </p:stCondLst>
                            <p:childTnLst>
                              <p:par>
                                <p:cTn id="17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179280" y="1397160"/>
          <a:ext cx="8569440" cy="5460840"/>
        </p:xfrm>
        <a:graphic>
          <a:graphicData uri="http://schemas.openxmlformats.org/drawingml/2006/table">
            <a:tbl>
              <a:tblPr/>
              <a:tblGrid>
                <a:gridCol w="4092840"/>
                <a:gridCol w="382320"/>
                <a:gridCol w="4094280"/>
              </a:tblGrid>
              <a:tr h="546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 u="sng">
                          <a:solidFill>
                            <a:srgbClr val="333399"/>
                          </a:solidFill>
                          <a:uFillTx/>
                          <a:latin typeface="Times New Roman"/>
                          <a:ea typeface="Times New Roman"/>
                        </a:rPr>
                        <a:t>Сочинение по картине</a:t>
                      </a:r>
                      <a:br>
                        <a:rPr sz="2400"/>
                      </a:br>
                      <a:r>
                        <a:rPr b="1" i="1" lang="ru-RU" sz="2400" spc="-1" strike="noStrike" u="sng">
                          <a:solidFill>
                            <a:srgbClr val="333399"/>
                          </a:solidFill>
                          <a:uFillTx/>
                          <a:latin typeface="Times New Roman"/>
                          <a:ea typeface="Times New Roman"/>
                        </a:rPr>
                        <a:t>Е. В. Сыромятниковой</a:t>
                      </a:r>
                      <a:br>
                        <a:rPr sz="2400"/>
                      </a:br>
                      <a:r>
                        <a:rPr b="1" i="1" lang="ru-RU" sz="2400" spc="-1" strike="noStrike" u="sng">
                          <a:solidFill>
                            <a:srgbClr val="333399"/>
                          </a:solidFill>
                          <a:uFillTx/>
                          <a:latin typeface="Times New Roman"/>
                          <a:ea typeface="Times New Roman"/>
                        </a:rPr>
                        <a:t>«Первые зрители»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 этой картине была изображена комната художника. Она хорошо убрана. Окно было открыто. За окном была опушка леса, зеленая трава, слева большие березы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 окно заглядывали два мальчика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 u="sng">
                          <a:solidFill>
                            <a:srgbClr val="333399"/>
                          </a:solidFill>
                          <a:uFillTx/>
                          <a:latin typeface="Times New Roman"/>
                          <a:ea typeface="Times New Roman"/>
                        </a:rPr>
                        <a:t>Вопросы для анализа</a:t>
                      </a:r>
                      <a:br>
                        <a:rPr sz="2400"/>
                      </a:b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чему лучше описывать картину в настоящем времени? Это позволит избежать повторения глагола </a:t>
                      </a: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ыть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</a:t>
                      </a: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ыла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, кроме того, то, что изобразил художник, есть и сейчас — когда мы описываем картину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бедительно ли для читателя утверждение, что комната хорошо убрана? (Нет, так как дальше эта мысль не раскрыта и комнату трудно представить.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WordArt 18"/>
          <p:cNvSpPr txBox="1"/>
          <p:nvPr/>
        </p:nvSpPr>
        <p:spPr>
          <a:xfrm>
            <a:off x="1763640" y="260280"/>
            <a:ext cx="68803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Анализ аналогичного сочинения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с недочетами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62" name="Picture 19" descr=""/>
          <p:cNvPicPr/>
          <p:nvPr/>
        </p:nvPicPr>
        <p:blipFill>
          <a:blip r:embed="rId6"/>
          <a:stretch/>
        </p:blipFill>
        <p:spPr>
          <a:xfrm>
            <a:off x="395280" y="0"/>
            <a:ext cx="93996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11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Основная мысль сочин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для чего написан текст?) – это душа сочинения, его стержень, то, для чего оно написано, то, что хотел сказать авто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езно </a:t>
            </a:r>
            <a:r>
              <a:rPr b="1" i="1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завести картотеку с высказываниями великих люде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разному поводу, чтобы потом использовать их как эпиграф, вступление, заключение или цита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План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ранее намеченная система работы с сочинен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План бывает кратким и развернут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3"/>
          <p:cNvSpPr txBox="1"/>
          <p:nvPr/>
        </p:nvSpPr>
        <p:spPr>
          <a:xfrm>
            <a:off x="1187280" y="836640"/>
            <a:ext cx="6769440" cy="1152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prstDash val="dash"/>
                  <a:miter/>
                </a:ln>
                <a:solidFill>
                  <a:srgbClr val="800080"/>
                </a:solidFill>
                <a:latin typeface="Arial"/>
              </a:rPr>
              <a:t>Помни!</a:t>
            </a:r>
            <a:endParaRPr b="1" lang="en-US" sz="1800" spc="1" strike="noStrike">
              <a:ln w="9360">
                <a:solidFill>
                  <a:srgbClr val="ff0000"/>
                </a:solidFill>
                <a:prstDash val="dash"/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Т.Н. Яблонская - Утро"/>
          <p:cNvPicPr/>
          <p:nvPr/>
        </p:nvPicPr>
        <p:blipFill>
          <a:blip r:embed="rId1"/>
          <a:stretch/>
        </p:blipFill>
        <p:spPr>
          <a:xfrm>
            <a:off x="0" y="0"/>
            <a:ext cx="434016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140000" y="-360"/>
            <a:ext cx="500364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едо мной картина Т.Н. Яблонской «Утро». На ней изображено утро девочки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переднем плане стол с завтраком из хлеба, масла и молока. Комната просторная, светлая и очень ухоженная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центре картины девочка десяти лет. Она делает зарядку. А потом пойдет в школу, потому что на заднем плане перед открытым окном стоит стул, на котором висит пионерский галстук, уже поглаженный, и школьная форма. Еще перед балконом стоит кровать. Она не заправлена и помята. По-видимому, девочка только что встала и уже собирается в школу. Вид у нее приличный, аккуратный. Сама она чем-то озадачена, у нее напряженное лицо. Девочка готовится идти в школу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целом картина хорошая, потому что в ней много загадочности и смысла, так что ее можно описывать очень долго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85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8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22:41:09Z</dcterms:created>
  <dc:creator>USER</dc:creator>
  <dc:description/>
  <dc:language>en-US</dc:language>
  <cp:lastModifiedBy>Инна</cp:lastModifiedBy>
  <dcterms:modified xsi:type="dcterms:W3CDTF">2009-01-28T12:31:20Z</dcterms:modified>
  <cp:revision>6</cp:revision>
  <dc:subject/>
  <dc:title>Слайд 1</dc:title>
</cp:coreProperties>
</file>