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566-C81E-49A2-9DE0-98F2BA33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45A-6B85-4B60-B028-B63FADB8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9E8-DCAB-45DF-9E73-31594F58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8E6-9F45-49B4-8C19-B4B70E9A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A09-6047-4EF3-992D-E11C458E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E22-6852-483A-8F06-CAC1CAB1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82B6-52ED-43D1-B00A-A5EB25FE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998-569F-4A25-8FCE-D101D0B9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1AF-4939-4A71-BDC0-A05E03E1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7FAD-9B4E-4C9B-A318-F9336031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CAE-33AC-42CD-A4F0-AB8F47D8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7445-42EB-45CE-AA1C-A0DF89EF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6644-3C50-42B8-B752-15BE2207B9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42920" y="3716280"/>
            <a:ext cx="406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орудовани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продукция        кар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и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знакомить учащихся с особенностями художественного описания помещения, подготовить детей к описанию кар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716360" y="333360"/>
            <a:ext cx="3835440" cy="350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чин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 картине Т. Н. Яблонск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Утро "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Picture 8" descr="551"/>
          <p:cNvPicPr/>
          <p:nvPr/>
        </p:nvPicPr>
        <p:blipFill>
          <a:blip r:embed="rId2"/>
          <a:stretch/>
        </p:blipFill>
        <p:spPr>
          <a:xfrm>
            <a:off x="7885080" y="5589720"/>
            <a:ext cx="1047960" cy="799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Т.Н. Яблонская - Утро"/>
          <p:cNvPicPr/>
          <p:nvPr/>
        </p:nvPicPr>
        <p:blipFill>
          <a:blip r:embed="rId3"/>
          <a:stretch/>
        </p:blipFill>
        <p:spPr>
          <a:xfrm>
            <a:off x="324000" y="189000"/>
            <a:ext cx="3824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868480" y="189000"/>
            <a:ext cx="62755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д нами картина Т.Н. Яблонской «Утро». На ней изображена комната девочки со столом и кроватью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переднем плане картины изображен стол с только что принесенным завтраком: хлебом, молоком в кувшине и маслом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центральном плане изображена девочка, делающая зарядку. Ей лет десять. Она собирается в школу. У нее напряженное лицо. Она худощавая и высокая. Рядом с девочкой изображен стул. На нем лежит школьная форма. На спинке стула висит пионерский галстук. Там же стоит кровать. По ее виду заметно, что девочка только что проснулась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заднем плане – стена. На ней декоративная глиняная тарелка с птицами. Там же находится балкон нараспашку. Окно старинного типа. Наконец, на заднем плане находится город. Окна выходят на восток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бщем, картина мне понравилась, потому что она светлая и радостная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Т.Н. Яблонская - Утро"/>
          <p:cNvPicPr/>
          <p:nvPr/>
        </p:nvPicPr>
        <p:blipFill>
          <a:blip r:embed="rId2"/>
          <a:stretch/>
        </p:blipFill>
        <p:spPr>
          <a:xfrm>
            <a:off x="0" y="620640"/>
            <a:ext cx="3192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66"/>
                </a:solidFill>
                <a:uFillTx/>
                <a:latin typeface="Arial"/>
              </a:rPr>
              <a:t>Вступительное слово о художнице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85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тьяна Ниловна Яблонская - известный мастер живописи, лауреат Государственной премии. Она изображает на полотнах простых людей, их труд. Очень любит писать де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ртине " Утро " художница учит нас видеть прекрасное в обыденном, в том, что нас окружает и что мы далеко не всегда замечаем. Всё как будто очень незатейливо в этой картине. На самом деле всё в ней очень хорошо продумано и помогает художнице раскрыть свой замы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Т.Н. Яблонская - Утро"/>
          <p:cNvPicPr/>
          <p:nvPr/>
        </p:nvPicPr>
        <p:blipFill>
          <a:blip r:embed="rId2"/>
          <a:stretch/>
        </p:blipFill>
        <p:spPr>
          <a:xfrm>
            <a:off x="0" y="0"/>
            <a:ext cx="1184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3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8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Беседа по карти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Используются вопросы, данные в упр. 177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8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Составление рабочих материалов к описанию карт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Часть работы выполняется коллективно, часть — самостоятельно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020000" y="3933720"/>
            <a:ext cx="14126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7487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Беседа по картине и параллельная запись рабочих материал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384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1). Что изображено на картин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2). Какое это время года?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3). Опишите девочку, чем она занята?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4). Как характеризует хозяйку её комната?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5). Расскажите, что мы видим в открытую на балкон дверь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тро свежее, солнечное, над городом тум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сна, ощущается прохлада раннего у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вочка худенькая, стройная, изящная, грациозная, лицо светлое, счастливое; хозяйка опрятная, делает утреннюю гимнастику. форма девочки: ленты для кос, пионерский галстук, школьное плат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ната солнечная, просторная, много воздуха и света, блестящий паркетный пол, не заставлена мебелью, круглый стол, кувшин, деревянная кровать, белоснежное постельное бельё, декоративная тарелка, кашпо с вьющимся цветком, цветок изящно свисает с балконной двери, чистота и уют, цветы на подоконнике. Видно, что маленькая хозяйка очень любит свою комнату, поддерживает чистоту и у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уман над городом, очертания зданий, утреннее небо, ясное и спокой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Т.Н. Яблонская - Утро"/>
          <p:cNvPicPr/>
          <p:nvPr/>
        </p:nvPicPr>
        <p:blipFill>
          <a:blip r:embed="rId2"/>
          <a:stretch/>
        </p:blipFill>
        <p:spPr>
          <a:xfrm>
            <a:off x="2195640" y="3500280"/>
            <a:ext cx="1349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Составление плана сочинени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532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)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Утро в горо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2). Комната девочки (мебель, украшения, одежд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3). Хозяйка комна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        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а). Описание внеш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       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б). что делает девоч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4). Впечатления, полученные от просмотра карт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Т.Н. Яблонская - Утро"/>
          <p:cNvPicPr/>
          <p:nvPr/>
        </p:nvPicPr>
        <p:blipFill>
          <a:blip r:embed="rId2"/>
          <a:stretch/>
        </p:blipFill>
        <p:spPr>
          <a:xfrm>
            <a:off x="7524720" y="260280"/>
            <a:ext cx="1349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дупреждение речевых ошиб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1" i="1" lang="ru-RU" sz="4000" spc="-1" strike="noStrike" u="sng">
                <a:solidFill>
                  <a:srgbClr val="003300"/>
                </a:solidFill>
                <a:uFillTx/>
                <a:latin typeface="Arial"/>
              </a:rPr>
              <a:t>Девочка </a:t>
            </a: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- она - хозяйка комн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     </a:t>
            </a:r>
            <a:r>
              <a:rPr b="1" i="1" lang="ru-RU" sz="4000" spc="-1" strike="noStrike" u="sng">
                <a:solidFill>
                  <a:srgbClr val="003300"/>
                </a:solidFill>
                <a:uFillTx/>
                <a:latin typeface="Arial"/>
              </a:rPr>
              <a:t>Изображено</a:t>
            </a: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 - показано - находится и т. 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Т.Н. Яблонская - Утро"/>
          <p:cNvPicPr/>
          <p:nvPr/>
        </p:nvPicPr>
        <p:blipFill>
          <a:blip r:embed="rId2"/>
          <a:stretch/>
        </p:blipFill>
        <p:spPr>
          <a:xfrm>
            <a:off x="7236000" y="4437000"/>
            <a:ext cx="1349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79280" y="1397160"/>
          <a:ext cx="8569440" cy="5460840"/>
        </p:xfrm>
        <a:graphic>
          <a:graphicData uri="http://schemas.openxmlformats.org/drawingml/2006/table">
            <a:tbl>
              <a:tblPr/>
              <a:tblGrid>
                <a:gridCol w="4092840"/>
                <a:gridCol w="382320"/>
                <a:gridCol w="4094280"/>
              </a:tblGrid>
              <a:tr h="546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  <a:ea typeface="Times New Roman"/>
                        </a:rPr>
                        <a:t>Сочинение по картине</a:t>
                      </a:r>
                      <a:br>
                        <a:rPr sz="2400"/>
                      </a:br>
                      <a:r>
                        <a:rPr b="1" i="1" lang="ru-RU" sz="24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  <a:ea typeface="Times New Roman"/>
                        </a:rPr>
                        <a:t>Е. В. Сыромятниковой</a:t>
                      </a:r>
                      <a:br>
                        <a:rPr sz="2400"/>
                      </a:br>
                      <a:r>
                        <a:rPr b="1" i="1" lang="ru-RU" sz="24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  <a:ea typeface="Times New Roman"/>
                        </a:rPr>
                        <a:t>«Первые зрители»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 этой картине была изображена комната художника. Она хорошо убрана. Окно было открыто. За окном была опушка леса, зеленая трава, слева большие берез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 окно заглядывали два мальчика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333399"/>
                          </a:solidFill>
                          <a:uFillTx/>
                          <a:latin typeface="Times New Roman"/>
                          <a:ea typeface="Times New Roman"/>
                        </a:rPr>
                        <a:t>Вопросы для анализа</a:t>
                      </a:r>
                      <a:br>
                        <a:rPr sz="2400"/>
                      </a:b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 лучше описывать картину в настоящем времени? Это позволит избежать повторения глагола </a:t>
                      </a: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ь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а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кроме того, то, что изобразил художник, есть и сейчас — когда мы описываем картину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едительно ли для читателя утверждение, что комната хорошо убрана? (Нет, так как дальше эта мысль не раскрыта и комнату трудно представить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WordArt 18"/>
          <p:cNvSpPr txBox="1"/>
          <p:nvPr/>
        </p:nvSpPr>
        <p:spPr>
          <a:xfrm>
            <a:off x="1763640" y="260280"/>
            <a:ext cx="68803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Анализ аналогичного сочинен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с недочетам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6"/>
          <a:stretch/>
        </p:blipFill>
        <p:spPr>
          <a:xfrm>
            <a:off x="395280" y="0"/>
            <a:ext cx="9399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Основная мысль сочи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для чего написан текст?) – это душа сочинения, его стержень, то, для чего оно написано, то, что хотел сказать ав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езно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завести картотеку с высказываниями великих люд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разному поводу, чтобы потом использовать их как эпиграф, вступление, заключение или цита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ла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ранее намеченная система работы с сочин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лан бывает кратким и развернут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3"/>
          <p:cNvSpPr txBox="1"/>
          <p:nvPr/>
        </p:nvSpPr>
        <p:spPr>
          <a:xfrm>
            <a:off x="1187280" y="836640"/>
            <a:ext cx="676944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800080"/>
                </a:solidFill>
                <a:latin typeface="Arial"/>
              </a:rPr>
              <a:t>Помни!</a:t>
            </a:r>
            <a:endParaRPr b="1" lang="en-US" sz="18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Т.Н. Яблонская - Утро"/>
          <p:cNvPicPr/>
          <p:nvPr/>
        </p:nvPicPr>
        <p:blipFill>
          <a:blip r:embed="rId1"/>
          <a:stretch/>
        </p:blipFill>
        <p:spPr>
          <a:xfrm>
            <a:off x="0" y="0"/>
            <a:ext cx="43401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140000" y="-360"/>
            <a:ext cx="50036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о мной картина Т.Н. Яблонской «Утро». На ней изображено утро девочк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ереднем плане стол с завтраком из хлеба, масла и молока. Комната просторная, светлая и очень ухоженная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центре картины девочка десяти лет. Она делает зарядку. А потом пойдет в школу, потому что на заднем плане перед открытым окном стоит стул, на котором висит пионерский галстук, уже поглаженный, и школьная форма. Еще перед балконом стоит кровать. Она не заправлена и помята. По-видимому, девочка только что встала и уже собирается в школу. Вид у нее приличный, аккуратный. Сама она чем-то озадачена, у нее напряженное лицо. Девочка готовится идти в школу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целом картина хорошая, потому что в ней много загадочности и смысла, так что ее можно описывать очень долго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5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2:41:09Z</dcterms:created>
  <dc:creator>USER</dc:creator>
  <dc:description/>
  <dc:language>en-US</dc:language>
  <cp:lastModifiedBy>Инна</cp:lastModifiedBy>
  <dcterms:modified xsi:type="dcterms:W3CDTF">2009-01-28T12:31:20Z</dcterms:modified>
  <cp:revision>6</cp:revision>
  <dc:subject/>
  <dc:title>Слайд 1</dc:title>
</cp:coreProperties>
</file>