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ED2F-59B8-4BFE-9AF5-29E96AABE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CBEA-5E16-414B-B8CC-08A63D14E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25A2-A661-4575-A826-5FEAACE4F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9D98-8A8B-428B-8525-C5C1452DF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3E434-4BC1-4301-B5BB-1E3274C3B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FDE66-BA86-4112-8D73-B4F82C1A7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9D6B4-9377-4B53-B748-030D4BDBE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233C2-96AC-44AE-A92D-ACAFE2C51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C63C3-8C39-48D6-9D27-36F9E2205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18030-544B-4C9A-A0BF-20148C69F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4C628-5056-4FB4-B045-3292DF32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045A-F857-4E16-AEAC-C03049D8A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C86B0-537E-46E6-8EB3-15327759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348C4-FD1C-4E2D-89CB-E9F20F7B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996A5-24C9-4973-A3C2-B3EAC8204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61111-89B4-4380-88C8-335471056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10F39-47C5-4240-BCC2-3DE502AFB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DAAD-8ED5-4613-B54D-3A0A69A2D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8936-BFF4-4DA8-8FD1-2A56A706B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1918-6959-42D8-9D8E-D2B1C2D68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85BF-25C1-43E7-A64E-818B02980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05E1-5ACF-4DA8-8270-CC9D03FFE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BC98-35E7-45AF-809D-90F6E6AE3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25AC-03DE-406A-8283-F097A0535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29944-03E5-4AA6-82F0-A40FECA7EAA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38D13-080C-47E7-B265-4521D1EFD3D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6720" y="189000"/>
            <a:ext cx="784692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Первичная и вторичная сукцессия, климаксные сообщества.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156360" y="4149360"/>
            <a:ext cx="273528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Выполнила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Студентка 1-го курса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Группы ХО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Факультета ХОТиД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Фадеева Анна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Содержание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66"/>
                </a:solidFill>
                <a:uFillTx/>
                <a:latin typeface="Verdana"/>
                <a:hlinkClick r:id="rId2" action="ppaction://hlinksldjump"/>
              </a:rPr>
              <a:t>Первичная и вторичная сукцессия, климаксные сообществ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66"/>
                </a:solidFill>
                <a:uFillTx/>
                <a:latin typeface="Verdana"/>
                <a:hlinkClick r:id="rId3" action="ppaction://hlinksldjump"/>
              </a:rPr>
              <a:t>Сообществ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66"/>
                </a:solidFill>
                <a:uFillTx/>
                <a:latin typeface="Verdana"/>
                <a:hlinkClick r:id="rId4" action="ppaction://hlinksldjump"/>
              </a:rPr>
              <a:t>Сукцесси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66"/>
                </a:solidFill>
                <a:uFillTx/>
                <a:latin typeface="Verdana"/>
                <a:hlinkClick r:id="rId5" action="ppaction://hlinksldjump"/>
              </a:rPr>
              <a:t>Фредерик </a:t>
            </a:r>
            <a:r>
              <a:rPr b="0" lang="ru-RU" sz="1800" spc="-1" strike="noStrike" u="sng">
                <a:solidFill>
                  <a:srgbClr val="006666"/>
                </a:solidFill>
                <a:uFillTx/>
                <a:latin typeface="Verdana"/>
                <a:hlinkClick r:id="rId6" action="ppaction://hlinksldjump"/>
              </a:rPr>
              <a:t>Клемент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онцепция моноклимакса и поликлимакс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Заключе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Сообщество.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71280" y="182736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Пионерные сообществ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Климаксное сообщество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796000" y="1628640"/>
            <a:ext cx="2975040" cy="1989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5796000" y="4292640"/>
            <a:ext cx="297504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Сукцессия.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Первичная                       Вторичная 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2411280" y="1700280"/>
            <a:ext cx="865440" cy="79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300720" y="1700280"/>
            <a:ext cx="792360" cy="649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79280" y="3573360"/>
            <a:ext cx="3435480" cy="25765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292720" y="3573360"/>
            <a:ext cx="366228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Arial"/>
              </a:rPr>
              <a:t>Фредерик Клементс.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843280" y="1844640"/>
            <a:ext cx="38876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концепция моноклимакса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концепция поликлимакса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508720" y="4076640"/>
            <a:ext cx="347976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116000" y="2421000"/>
            <a:ext cx="7488360" cy="3168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за внимани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77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" dur="770" fill="hold"/>
                                        <p:tgtEl>
                                          <p:spTgt spid="1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" dur="77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" dur="77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9T17:07:47Z</dcterms:created>
  <dc:creator>---</dc:creator>
  <dc:description/>
  <dc:language>en-US</dc:language>
  <cp:lastModifiedBy>---</cp:lastModifiedBy>
  <dcterms:modified xsi:type="dcterms:W3CDTF">2011-05-09T18:04:40Z</dcterms:modified>
  <cp:revision>4</cp:revision>
  <dc:subject/>
  <dc:title>Первичная и вторичная сукцессия, климаксные сообщества.</dc:title>
</cp:coreProperties>
</file>