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C0239-98E9-4A6D-8D26-B3AA8BE4D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048F9-41C1-4ED8-A8E9-0D8B08F08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A1499-066F-413D-8246-D0808C5F1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CD928-B7B8-43E1-8123-45D9C5DDD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3653B-466F-47E0-A287-44A261D30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C179B-3DE3-454C-969B-D92C90DFF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53234-E9C6-40D4-BAD6-0AD8AF948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D3365-EF95-4C35-8089-31F4F5622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DFE65-05A0-4223-87EC-D2EB42A52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94AF5-25E5-46CF-AD11-85320A7F0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AEA49-31E0-412F-962E-794A1ED34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B6E71-24C1-4832-AFCB-825B0FABE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E1562-3D63-4C47-8CF3-169EB4EC9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DA709-985E-40EC-B4A0-BC094571A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0345B-3335-420F-9295-F3C398F52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93592-58B2-407E-BC77-C2ACD0435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5BFC5-D66D-4A02-A755-BBC75BB8F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48395-BCC6-4CF5-870C-69D69FC53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82449-D176-4D73-A418-ED8BDB57C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40683-6FC0-41E1-B5E0-74A68F1BE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7258E-CA8C-4EFE-8FF5-F7BBAFED1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77D49-AE68-407B-A78A-A65EF99D6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20B27-61F3-4DDF-8718-9FB08717B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C2253-BC67-4619-9DD2-8D0EEDD82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D780D-4ABF-4737-AC62-6BAF143783C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D63B9-1F25-4A7E-844D-ACB5D3D329B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5.xml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96720" y="189000"/>
            <a:ext cx="784692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Первичная и вторичная сукцессия, климаксные сообщества.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156360" y="4149360"/>
            <a:ext cx="273528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Выполнила: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Студентка 1-го курса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Группы ХО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Факультета ХОТиД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Фадеева Анна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" dur="5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" dur="5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403280" y="33300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Содержание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6666"/>
                </a:solidFill>
                <a:uFillTx/>
                <a:latin typeface="Verdana"/>
                <a:hlinkClick r:id="rId2" action="ppaction://hlinksldjump"/>
              </a:rPr>
              <a:t>Первичная и вторичная сукцессия, климаксные сообществ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6666"/>
                </a:solidFill>
                <a:uFillTx/>
                <a:latin typeface="Verdana"/>
                <a:hlinkClick r:id="rId3" action="ppaction://hlinksldjump"/>
              </a:rPr>
              <a:t>Сообщество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6666"/>
                </a:solidFill>
                <a:uFillTx/>
                <a:latin typeface="Verdana"/>
                <a:hlinkClick r:id="rId4" action="ppaction://hlinksldjump"/>
              </a:rPr>
              <a:t>Сукцесси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6666"/>
                </a:solidFill>
                <a:uFillTx/>
                <a:latin typeface="Verdana"/>
                <a:hlinkClick r:id="rId5" action="ppaction://hlinksldjump"/>
              </a:rPr>
              <a:t>Фредерик </a:t>
            </a:r>
            <a:r>
              <a:rPr b="0" lang="ru-RU" sz="1800" spc="-1" strike="noStrike" u="sng">
                <a:solidFill>
                  <a:srgbClr val="006666"/>
                </a:solidFill>
                <a:uFillTx/>
                <a:latin typeface="Verdana"/>
                <a:hlinkClick r:id="rId6" action="ppaction://hlinksldjump"/>
              </a:rPr>
              <a:t>Клементс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Концепция моноклимакса и поликлимакс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Заключение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Сообщество.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71280" y="182736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Пионерные сообщества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Климаксное сообщество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5796000" y="1628640"/>
            <a:ext cx="2975040" cy="19893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5796000" y="4292640"/>
            <a:ext cx="2975040" cy="21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Сукцессия.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Первичная                       Вторичная  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2411280" y="1700280"/>
            <a:ext cx="865440" cy="79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300720" y="1700280"/>
            <a:ext cx="792360" cy="6490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179280" y="3573360"/>
            <a:ext cx="3435480" cy="25765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5292720" y="3573360"/>
            <a:ext cx="3662280" cy="25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5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Arial"/>
              </a:rPr>
              <a:t>Фредерик Клементс.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2843280" y="1844640"/>
            <a:ext cx="388764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концепция моноклимакса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концепция поликлимакса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5508720" y="4076640"/>
            <a:ext cx="3479760" cy="26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116000" y="2421000"/>
            <a:ext cx="7488360" cy="31687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пасибо за внимание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77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9" dur="770" fill="hold"/>
                                        <p:tgtEl>
                                          <p:spTgt spid="10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1" dur="77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3" dur="77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9T17:07:47Z</dcterms:created>
  <dc:creator>---</dc:creator>
  <dc:description/>
  <dc:language>en-US</dc:language>
  <cp:lastModifiedBy>---</cp:lastModifiedBy>
  <dcterms:modified xsi:type="dcterms:W3CDTF">2011-05-09T18:04:40Z</dcterms:modified>
  <cp:revision>4</cp:revision>
  <dc:subject/>
  <dc:title>Первичная и вторичная сукцессия, климаксные сообщества.</dc:title>
</cp:coreProperties>
</file>