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891-D50F-47CB-B7A3-B6B9C0F4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142-F00A-4BB7-ACA9-BACC723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000-92DF-4B39-B0FF-77BFADE7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D74-06BC-468E-AFC3-7B6D2346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2E34-6F82-41F8-96C8-5C826434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515A-DDB1-4588-82CD-87D7D87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B3E4-C609-4F39-B1CD-B7C5B987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10EC-4730-41F0-8735-3DF81B00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1559-4C0B-4E52-992E-B194347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68E6-0D29-45F1-9932-6AC75A25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2D2-AABD-4413-91BA-2CAE4083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916-3C62-4173-9DC0-4964FAB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A29C-0210-4B64-AC9A-6D98EB1A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6675-0E8E-43AD-8F94-1D4A5B73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DD79-F05E-40A0-8028-D4D49104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1856-64E7-4388-9680-BF9F0C0F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D788-7E2F-4ADA-A53B-A708A85A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615-E3DE-4E89-98F3-64F32EF4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C03-494A-4C45-96B6-D04F35D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3BA-72EA-4679-81C1-B5D0C2D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6A3-C781-4F8B-B78E-D2069B7C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8B1-D278-4D95-AA8F-65443870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18FF-620C-4AAD-83EB-4ABB258C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028-4983-4BB3-8327-877DCF25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9EF9-FA7E-45C8-944C-2310E7000E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E50E-E593-4E52-8127-BA6965CB6D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189000"/>
            <a:ext cx="784692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Первичная и вторичная сукцессия, климаксные сообщества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56360" y="4149360"/>
            <a:ext cx="27352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ил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удентка 1-го курс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руппы Х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акультета ХОТи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адеева Ан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Первичная и вторичная сукцессия, климаксные сообще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Сообще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4" action="ppaction://hlinksldjump"/>
              </a:rPr>
              <a:t>Сукцес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5" action="ppaction://hlinksldjump"/>
              </a:rPr>
              <a:t>Фредерик 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Verdana"/>
                <a:hlinkClick r:id="rId6" action="ppaction://hlinksldjump"/>
              </a:rPr>
              <a:t>Клемент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цепция моноклимакса и поликлимак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ообщество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ионерные сообще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лимаксное сообществ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975040" cy="198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29750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укцессия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ервичная                       Вторичная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411280" y="1700280"/>
            <a:ext cx="86544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1700280"/>
            <a:ext cx="792360" cy="64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35480" cy="2576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92720" y="3573360"/>
            <a:ext cx="3662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Фредерик Клементс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887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цепция моноклимакс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нцепция поликлимакс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16000" y="2421000"/>
            <a:ext cx="7488360" cy="31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7:07:47Z</dcterms:created>
  <dc:creator>---</dc:creator>
  <dc:description/>
  <dc:language>en-US</dc:language>
  <cp:lastModifiedBy>---</cp:lastModifiedBy>
  <dcterms:modified xsi:type="dcterms:W3CDTF">2011-05-09T18:04:40Z</dcterms:modified>
  <cp:revision>4</cp:revision>
  <dc:subject/>
  <dc:title>Первичная и вторичная сукцессия, климаксные сообщества.</dc:title>
</cp:coreProperties>
</file>