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2.png" ContentType="image/png"/>
  <Override PartName="/ppt/media/image20.jpeg" ContentType="image/jpeg"/>
  <Override PartName="/ppt/media/image24.png" ContentType="image/pn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B3C-216E-46E2-8861-ACE44AA6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2CF9-2909-45D0-B8AE-017C495A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9E2-D43B-4636-BA1D-B045D276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5F2-B23D-4492-8625-D0D9D9F7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76C3-2631-4B6A-B2C3-D3399ECC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ACD7-ED45-4292-87E9-63DD29AB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E4AF-BE40-4971-9FF2-F23B4DB1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60AC-3365-4AA8-8FE4-2D08239C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4C89-606F-493F-B916-BA7EC7BA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1FF6-AC9D-4A47-ACBF-B1DF5FA5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F6FA-00EA-4B48-8367-98D13CD5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EC5-FFA4-410F-8F7D-6565361B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FC05-0861-4451-B608-B1119841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4965-6918-4EFD-846E-5F66EF34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741C-74F4-46BB-9910-4D1B1048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2FB8-43D8-40AF-89F6-A1B7AFA7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144D-3F7D-4F9F-B871-00008B9A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261-E24C-45EA-832F-AC2F1185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F88-7373-48AC-82BB-AB14051D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79C-F3A1-40C3-BA95-05906163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21EE-1E7D-4820-8204-4288C7C8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1B8-6EB1-421B-911B-3FF63FB4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BFB-5787-4F0D-B2BA-A3DF7E69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A0D-84D6-4948-8330-CDB25760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94CD-B585-4C6C-BFFF-27C3D2CAB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8A0A-C27A-444D-9541-7B22B3054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nt"/>
          <p:cNvSpPr/>
          <p:nvPr/>
        </p:nvSpPr>
        <p:spPr>
          <a:xfrm>
            <a:off x="0" y="0"/>
            <a:ext cx="1558800" cy="1557360"/>
          </a:xfrm>
          <a:custGeom>
            <a:avLst/>
            <a:gdLst>
              <a:gd name="textAreaLeft" fmla="*/ 512280 w 1558800"/>
              <a:gd name="textAreaRight" fmla="*/ 1049760 w 1558800"/>
              <a:gd name="textAreaTop" fmla="*/ 727560 h 1557360"/>
              <a:gd name="textAreaBottom" fmla="*/ 978480 h 155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3399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5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6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8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0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49312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веты – земной красы нача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4000" y="1528560"/>
            <a:ext cx="54720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Красота облада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силой и даром носить мир в сердце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(М. Сервантес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Скругленный прямоугольник 4"/>
          <p:cNvSpPr/>
          <p:nvPr/>
        </p:nvSpPr>
        <p:spPr>
          <a:xfrm>
            <a:off x="-181080" y="4437000"/>
            <a:ext cx="6193080" cy="187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e5"/>
                </a:solidFill>
                <a:latin typeface="Comic Sans MS"/>
              </a:rPr>
              <a:t>Творческий проект учителя русского языка и лит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e5"/>
                </a:solidFill>
                <a:latin typeface="Comic Sans MS"/>
              </a:rPr>
              <a:t>МОУ «СОШ №7 г. Йошкар-Ол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e5"/>
                </a:solidFill>
                <a:latin typeface="Comic Sans MS"/>
              </a:rPr>
              <a:t>Гусевой Анастасии Василь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ания утверждают, что этот цветок – это счастливый смех русалки Мавки рассыпавшийся по весеннему лесу, когда она впервые узнала радость любви. Не только легенды, но и сказания, стихи посвящались очаровательному цветку, в его честь устраивали праздники, гуляния. С 17 века накануне майского воскресенья отмечают праздник этого цветка французы. Этот цветок считался символом любв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древнему поверью, этот цветок славит первый из двенадцати подвигов Герак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темном лесу жил жестокий лев, он приносил много бед жителям Немейской долины. Никто не осмеливался убить льва, и только храбрый Геракл совершил этот подви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 создам цветок”, - сказала мудрая Флора, - который всегда будет напоминать людям разодранную пасть немейского льва и подвиг Геракла”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2331720"/>
            <a:ext cx="82296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 Голландии приехал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мороз наш не помеха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ж цветов он «знатный пан»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пачком цветет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снежн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1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5364360" cy="402264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езабуд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1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rcRect l="0" t="0" r="1260" b="0"/>
          <a:stretch/>
        </p:blipFill>
        <p:spPr>
          <a:xfrm>
            <a:off x="1547640" y="1844640"/>
            <a:ext cx="6193080" cy="428616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4" descr="29"/>
          <p:cNvPicPr/>
          <p:nvPr/>
        </p:nvPicPr>
        <p:blipFill>
          <a:blip r:embed="rId1"/>
          <a:stretch/>
        </p:blipFill>
        <p:spPr>
          <a:xfrm>
            <a:off x="3924360" y="3068640"/>
            <a:ext cx="4103640" cy="324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ил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17"/>
          <p:cNvPicPr/>
          <p:nvPr/>
        </p:nvPicPr>
        <p:blipFill>
          <a:blip r:embed="rId3"/>
          <a:stretch/>
        </p:blipFill>
        <p:spPr>
          <a:xfrm>
            <a:off x="395280" y="1628640"/>
            <a:ext cx="4105440" cy="321804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771640" y="3933720"/>
            <a:ext cx="3313080" cy="259092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ирен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3313080" cy="259236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pic>
        <p:nvPicPr>
          <p:cNvPr id="145" name="Picture 2" descr=""/>
          <p:cNvPicPr/>
          <p:nvPr/>
        </p:nvPicPr>
        <p:blipFill>
          <a:blip r:embed="rId4"/>
          <a:stretch/>
        </p:blipFill>
        <p:spPr>
          <a:xfrm>
            <a:off x="5148360" y="1700280"/>
            <a:ext cx="3311280" cy="252072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5" descr="bell"/>
          <p:cNvPicPr/>
          <p:nvPr/>
        </p:nvPicPr>
        <p:blipFill>
          <a:blip r:embed="rId1"/>
          <a:stretch/>
        </p:blipFill>
        <p:spPr>
          <a:xfrm>
            <a:off x="3851280" y="3357720"/>
            <a:ext cx="4392720" cy="324000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локольч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3600360" cy="410364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1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4" descr="18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476360" y="1700280"/>
            <a:ext cx="6189840" cy="452592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rcRect l="0" t="0" r="2236" b="5040"/>
          <a:stretch/>
        </p:blipFill>
        <p:spPr>
          <a:xfrm>
            <a:off x="2627280" y="2205000"/>
            <a:ext cx="2716200" cy="410364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асиле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3"/>
          <a:stretch/>
        </p:blipFill>
        <p:spPr>
          <a:xfrm>
            <a:off x="1332000" y="1700280"/>
            <a:ext cx="6624720" cy="475308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1600200"/>
            <a:ext cx="7489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евняя легенда гласит: когда Адам и Ева были изгнаны из рая, шел  снег, и Еве было очень холодно. Тогда несколько снежинок, желая утешить ее,превратились в цветы. Увидев их, Ева повеселела, у нее появилась надежда на лучшее время. Отсюда и символ этого цвет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ессмертн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Содержимое 4" descr="ьтм.jpeg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1979640" y="1773360"/>
            <a:ext cx="4896000" cy="427356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pic>
        <p:nvPicPr>
          <p:cNvPr id="159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анды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1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62" name="Содержимое 7" descr="0_19634_3b7de5ef_L.jpeg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468360" y="1773360"/>
            <a:ext cx="3598920" cy="327636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3635280" y="3284640"/>
            <a:ext cx="4176720" cy="338436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ьвиный з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Содержимое 4" descr="ень.jpeg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684360" y="1557360"/>
            <a:ext cx="3238200" cy="345600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pic>
        <p:nvPicPr>
          <p:cNvPr id="166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Содержимое 8" descr="орпа.jpeg"/>
          <p:cNvPicPr/>
          <p:nvPr/>
        </p:nvPicPr>
        <p:blipFill>
          <a:blip r:embed="rId3">
            <a:alphaModFix amt="80000"/>
          </a:blip>
          <a:stretch/>
        </p:blipFill>
        <p:spPr>
          <a:xfrm>
            <a:off x="3851280" y="3141720"/>
            <a:ext cx="3529080" cy="371628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юльпа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1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20"/>
          <p:cNvPicPr/>
          <p:nvPr/>
        </p:nvPicPr>
        <p:blipFill>
          <a:blip r:embed="rId2"/>
          <a:stretch/>
        </p:blipFill>
        <p:spPr>
          <a:xfrm>
            <a:off x="611280" y="1916280"/>
            <a:ext cx="3816360" cy="2881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71" name="Picture 12" descr="16"/>
          <p:cNvPicPr/>
          <p:nvPr/>
        </p:nvPicPr>
        <p:blipFill>
          <a:blip r:embed="rId3"/>
          <a:stretch/>
        </p:blipFill>
        <p:spPr>
          <a:xfrm>
            <a:off x="4140360" y="3573360"/>
            <a:ext cx="3744720" cy="280692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6756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Я шел вперед, но всюду замедлялис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ои шаги при взгляде на цветы»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А. Дант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Вивальди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5" name="Вивальди.wma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Вивальди.wma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39088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9088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39088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39088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днажды богиня цветов Флора спустилась на землю и стала одаривать цветы именами. Одарила всех и хотела удалиться, но услышала слабый голосок: « Ты забыла меня, Флора, дай, мне, пожалуйста, имя». Флора еле-еле разглядела в разнотравье маленький голубой цветоче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веток получил своё название от древнегалльского слова, которое обозначало «белый-белый». По библейской легенде, он вырос из слёз Евы, изгнанной из рая. На Руси  считался символом чистоты и невинности. Его дарили невес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колько белых и темно-лиловых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доль ограды кустов разрослось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тку тронешь – дождем лепестковым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ыпается мокрая дрож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421000"/>
            <a:ext cx="43308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этого цветка есть много имен – балаболки, звонцы, бубны, но во всех этих названиях звучит любовь к нему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565360"/>
            <a:ext cx="5770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т шершавый стебелек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ередине уголе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епестки блестят, как лак,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пустился красный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342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невой небесной, нестерпим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ыхая, словно огоньки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глаза детей, глаза любимых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ойцов глядели ……………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. А. Гончаров писал об этом растении: «Они (цветы) лежат, не изменяясь, помногу лет: через 10 лет так же сухи, ярки цветом и также ничем не пахнут, как сорванные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6:03:23Z</dcterms:created>
  <dc:creator>Гусева</dc:creator>
  <dc:description/>
  <dc:language>en-US</dc:language>
  <cp:lastModifiedBy>Гусева</cp:lastModifiedBy>
  <dcterms:modified xsi:type="dcterms:W3CDTF">2011-04-01T18:03:22Z</dcterms:modified>
  <cp:revision>48</cp:revision>
  <dc:subject/>
  <dc:title>Живая красота земли</dc:title>
</cp:coreProperties>
</file>