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png" ContentType="image/png"/>
  <Override PartName="/ppt/media/image20.jpeg" ContentType="image/jpeg"/>
  <Override PartName="/ppt/media/image24.png" ContentType="image/pn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093-B667-4023-8AD3-0649046A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2EE-39CE-4B1E-BB14-D3E4ABF1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272-DFC9-4E74-B5E5-325F45C8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E63-FCBC-4C23-8DCA-4CD95BBD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5ED3-A7E4-4E51-8709-D32D67E8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0EB1-B3A9-47A4-ABEB-489DE9CB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6A3A-0B39-4C35-9D7A-A19E8311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1FF7-C21D-4DAB-87B2-E476D94E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206B-05D2-4DE9-AC03-788E853A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D726-68D5-4AE1-A6CA-6567A155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28D5-B8B0-4B0A-A045-D76AB2A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213-50DC-4CEB-A2EF-111A5AEF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9C63-AB98-4C25-A918-130208B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B53-6048-4C55-8DDE-D0CA3885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AFFB-8E07-4E90-89A7-94394CF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CBC8-87AF-48EF-816E-94ABC82D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2E2A-4F17-4091-8852-3C9DE554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CB6-F706-4C3E-A08E-058C732F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EF1-0397-4951-AEE6-7CF4F82A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1D3-A53E-4CAD-806C-F70E7E92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9AE-7BED-4AFE-A8CC-2BB85F3B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DBB-B857-4B32-84F3-5C7F2C0B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152-9EA8-4EFB-ABB3-1EA6AA50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B7F-3ABD-4607-BE05-35C747AA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8C4A-B392-4C7D-A821-15B10B37A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911D-BEA1-4980-8543-A5D9C13C6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nt"/>
          <p:cNvSpPr/>
          <p:nvPr/>
        </p:nvSpPr>
        <p:spPr>
          <a:xfrm>
            <a:off x="0" y="0"/>
            <a:ext cx="1558800" cy="1557360"/>
          </a:xfrm>
          <a:custGeom>
            <a:avLst/>
            <a:gdLst>
              <a:gd name="textAreaLeft" fmla="*/ 512280 w 1558800"/>
              <a:gd name="textAreaRight" fmla="*/ 1049760 w 1558800"/>
              <a:gd name="textAreaTop" fmla="*/ 727560 h 1557360"/>
              <a:gd name="textAreaBottom" fmla="*/ 978480 h 15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6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49312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веты – земной красы нача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1528560"/>
            <a:ext cx="54720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Красота облада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силой и даром носить мир в сердц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(М. Сервантес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Скругленный прямоугольник 4"/>
          <p:cNvSpPr/>
          <p:nvPr/>
        </p:nvSpPr>
        <p:spPr>
          <a:xfrm>
            <a:off x="-181080" y="4437000"/>
            <a:ext cx="6193080" cy="187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Comic Sans MS"/>
              </a:rPr>
              <a:t>Творческий проект учителя русского языка и лит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Comic Sans MS"/>
              </a:rPr>
              <a:t>МОУ «СОШ №7 г. Йошкар-Ол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Comic Sans MS"/>
              </a:rPr>
              <a:t>Гусевой Анастасии Василь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ания утверждают, что этот цветок – это счастливый смех русалки Мавки рассыпавшийся по весеннему лесу, когда она впервые узнала радость любви. Не только легенды, но и сказания, стихи посвящались очаровательному цветку, в его честь устраивали праздники, гуляния. С 17 века накануне майского воскресенья отмечают праздник этого цветка французы. Этот цветок считался символом любв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древнему поверью, этот цветок славит первый из двенадцати подвигов Герак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темном лесу жил жестокий лев, он приносил много бед жителям Немейской долины. Никто не осмеливался убить льва, и только храбрый Геракл совершил этот подви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создам цветок”, - сказала мудрая Флора, - который всегда будет напоминать людям разодранную пасть немейского льва и подвиг Геракла”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 Голландии приехал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мороз наш не помех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ж цветов он «знатный пан»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пачком цветет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364360" cy="4022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езабу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rcRect l="0" t="0" r="1260" b="0"/>
          <a:stretch/>
        </p:blipFill>
        <p:spPr>
          <a:xfrm>
            <a:off x="1547640" y="1844640"/>
            <a:ext cx="6193080" cy="42861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29"/>
          <p:cNvPicPr/>
          <p:nvPr/>
        </p:nvPicPr>
        <p:blipFill>
          <a:blip r:embed="rId1"/>
          <a:stretch/>
        </p:blipFill>
        <p:spPr>
          <a:xfrm>
            <a:off x="3924360" y="3068640"/>
            <a:ext cx="4103640" cy="32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л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17"/>
          <p:cNvPicPr/>
          <p:nvPr/>
        </p:nvPicPr>
        <p:blipFill>
          <a:blip r:embed="rId3"/>
          <a:stretch/>
        </p:blipFill>
        <p:spPr>
          <a:xfrm>
            <a:off x="395280" y="1628640"/>
            <a:ext cx="4105440" cy="32180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771640" y="3933720"/>
            <a:ext cx="3313080" cy="25909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рен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3313080" cy="25923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45" name="Picture 2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3311280" cy="25207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5" descr="bell"/>
          <p:cNvPicPr/>
          <p:nvPr/>
        </p:nvPicPr>
        <p:blipFill>
          <a:blip r:embed="rId1"/>
          <a:stretch/>
        </p:blipFill>
        <p:spPr>
          <a:xfrm>
            <a:off x="3851280" y="3357720"/>
            <a:ext cx="4392720" cy="324000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окольч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600360" cy="4103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4" descr="18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476360" y="1700280"/>
            <a:ext cx="6189840" cy="45259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rcRect l="0" t="0" r="2236" b="5040"/>
          <a:stretch/>
        </p:blipFill>
        <p:spPr>
          <a:xfrm>
            <a:off x="2627280" y="2205000"/>
            <a:ext cx="2716200" cy="4103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асиле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6624720" cy="475308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1600200"/>
            <a:ext cx="7489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евняя легенда гласит: когда Адам и Ева были изгнаны из рая, шел  снег, и Еве было очень холодно. Тогда несколько снежинок, желая утешить ее,превратились в цветы. Увидев их, Ева повеселела, у нее появилась надежда на лучшее время. Отсюда и символ этого цве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ессмерт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Содержимое 4" descr="ьтм.jpeg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1979640" y="1773360"/>
            <a:ext cx="4896000" cy="42735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59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нд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7" descr="0_19634_3b7de5ef_L.jpeg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68360" y="1773360"/>
            <a:ext cx="3598920" cy="32763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3635280" y="3284640"/>
            <a:ext cx="4176720" cy="33843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ьвиный з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Содержимое 4" descr="ень.jpeg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4360" y="1557360"/>
            <a:ext cx="3238200" cy="345600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66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8" descr="орпа.jpeg"/>
          <p:cNvPicPr/>
          <p:nvPr/>
        </p:nvPicPr>
        <p:blipFill>
          <a:blip r:embed="rId3">
            <a:alphaModFix amt="80000"/>
          </a:blip>
          <a:stretch/>
        </p:blipFill>
        <p:spPr>
          <a:xfrm>
            <a:off x="3851280" y="3141720"/>
            <a:ext cx="3529080" cy="371628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юльп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20"/>
          <p:cNvPicPr/>
          <p:nvPr/>
        </p:nvPicPr>
        <p:blipFill>
          <a:blip r:embed="rId2"/>
          <a:stretch/>
        </p:blipFill>
        <p:spPr>
          <a:xfrm>
            <a:off x="611280" y="1916280"/>
            <a:ext cx="3816360" cy="2881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71" name="Picture 12" descr="16"/>
          <p:cNvPicPr/>
          <p:nvPr/>
        </p:nvPicPr>
        <p:blipFill>
          <a:blip r:embed="rId3"/>
          <a:stretch/>
        </p:blipFill>
        <p:spPr>
          <a:xfrm>
            <a:off x="4140360" y="3573360"/>
            <a:ext cx="3744720" cy="28069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75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Я шел вперед, но всюду замедлялис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ои шаги при взгляде на цветы»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А. Дан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Вивальди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Вивальди.wma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Вивальди.wma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3908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9088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3908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3908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нажды богиня цветов Флора спустилась на землю и стала одаривать цветы именами. Одарила всех и хотела удалиться, но услышала слабый голосок: « Ты забыла меня, Флора, дай, мне, пожалуйста, имя». Флора еле-еле разглядела в разнотравье маленький голубой цветоче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веток получил своё название от древнегалльского слова, которое обозначало «белый-белый». По библейской легенде, он вырос из слёз Евы, изгнанной из рая. На Руси  считался символом чистоты и невинности. Его дарили невес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олько белых и темно-лиловых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доль ограды кустов разрослось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тку тронешь – дождем лепестковым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ыпается мокрая дрож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21000"/>
            <a:ext cx="4330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этого цветка есть много имен – балаболки, звонцы, бубны, но во всех этих названиях звучит любовь к нему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565360"/>
            <a:ext cx="5770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т шершавый стебеле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ередине уголе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пестки блестят, как лак,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устился красный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342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невой небесной, нестерпим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ыхая, словно огоньк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глаза детей, глаза любимых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ойцов глядели …………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. А. Гончаров писал об этом растении: «Они (цветы) лежат, не изменяясь, помногу лет: через 10 лет так же сухи, ярки цветом и также ничем не пахнут, как сорванные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6:03:23Z</dcterms:created>
  <dc:creator>Гусева</dc:creator>
  <dc:description/>
  <dc:language>en-US</dc:language>
  <cp:lastModifiedBy>Гусева</cp:lastModifiedBy>
  <dcterms:modified xsi:type="dcterms:W3CDTF">2011-04-01T18:03:22Z</dcterms:modified>
  <cp:revision>48</cp:revision>
  <dc:subject/>
  <dc:title>Живая красота земли</dc:title>
</cp:coreProperties>
</file>