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12.png" ContentType="image/png"/>
  <Override PartName="/ppt/media/image20.jpeg" ContentType="image/jpeg"/>
  <Override PartName="/ppt/media/image24.png" ContentType="image/png"/>
  <Override PartName="/ppt/media/image18.jpeg" ContentType="image/jpeg"/>
  <Override PartName="/ppt/media/image3.gif" ContentType="image/gif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25D4-8B12-47D5-B6D2-5F128C9EA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4DEE-19AC-4C57-8139-517379A1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1325-AA12-45FB-B05F-9B7FBE3D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8093-3B36-4573-ACAB-949814D26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7D63-1D99-4792-84E1-337F7A6B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B82B-1AD9-45C4-82DD-5F0BCFBF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41F2-BCA4-4599-B992-B3F15C67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12E6-1E47-4E94-B635-F7E6668D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848A-A22F-46C5-B4AF-21A978D6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381D-7B8D-4BED-B0BD-D09B6659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01E6-24BE-439F-9FEA-43835E72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7A82-D8AE-49FD-9F14-8D07AD80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546C-112B-4F30-AA35-C94BCB99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5C84-BDE8-4F13-BBA9-3657AA2B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6C82-8208-40E7-9496-97203D84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1333-04B4-4DCE-BB28-6B2EB0C5C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D213-818B-466B-882C-69057FC44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A281-C21C-418F-B805-62E2CB4E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E708-B608-4F6E-912A-9AA25906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2CEC-7CAE-490E-9AA5-4C9933CC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45BB-D539-4132-8979-83607D0C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53F2-1D0C-4DA4-BC64-7FF82698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0644-19C7-4ABF-BC7F-D1E36396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433B-81EE-4C03-A14E-70C7C889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ff">
              <a:alpha val="80000"/>
            </a:srgbClr>
          </a:solidFill>
          <a:ln w="19080">
            <a:solidFill>
              <a:srgbClr val="cc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A8D9-C285-4D9D-80D6-50D42BDB72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260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9360">
            <a:solidFill>
              <a:srgbClr val="3399ff"/>
            </a:solidFill>
            <a:prstDash val="dash"/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9360">
            <a:solidFill>
              <a:srgbClr val="3399ff"/>
            </a:solidFill>
            <a:prstDash val="dash"/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9360">
            <a:solidFill>
              <a:srgbClr val="3399ff"/>
            </a:solidFill>
            <a:prstDash val="dash"/>
            <a:miter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24A3-4962-475A-B7D9-C1F05FF3E0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nt"/>
          <p:cNvSpPr/>
          <p:nvPr/>
        </p:nvSpPr>
        <p:spPr>
          <a:xfrm>
            <a:off x="0" y="0"/>
            <a:ext cx="1558800" cy="1557360"/>
          </a:xfrm>
          <a:custGeom>
            <a:avLst/>
            <a:gdLst>
              <a:gd name="textAreaLeft" fmla="*/ 512280 w 1558800"/>
              <a:gd name="textAreaRight" fmla="*/ 1049760 w 1558800"/>
              <a:gd name="textAreaTop" fmla="*/ 727560 h 1557360"/>
              <a:gd name="textAreaBottom" fmla="*/ 978480 h 155736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3399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gi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gi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3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4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5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6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7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8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9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0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493120" cy="100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веты – земной красы начал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24000" y="1528560"/>
            <a:ext cx="5472000" cy="25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Красота обладае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силой и даром носить мир в сердце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(М. Сервантес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Скругленный прямоугольник 4"/>
          <p:cNvSpPr/>
          <p:nvPr/>
        </p:nvSpPr>
        <p:spPr>
          <a:xfrm>
            <a:off x="-181080" y="4437000"/>
            <a:ext cx="6193080" cy="1871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e5"/>
                </a:solidFill>
                <a:latin typeface="Comic Sans MS"/>
              </a:rPr>
              <a:t>Творческий проект учителя русского языка и литерату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e5"/>
                </a:solidFill>
                <a:latin typeface="Comic Sans MS"/>
              </a:rPr>
              <a:t>МОУ «СОШ №7 г. Йошкар-Ол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e5"/>
                </a:solidFill>
                <a:latin typeface="Comic Sans MS"/>
              </a:rPr>
              <a:t>Гусевой Анастасии Василье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прос № 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дания утверждают, что этот цветок – это счастливый смех русалки Мавки рассыпавшийся по весеннему лесу, когда она впервые узнала радость любви. Не только легенды, но и сказания, стихи посвящались очаровательному цветку, в его честь устраивали праздники, гуляния. С 17 века накануне майского воскресенья отмечают праздник этого цветка французы. Этот цветок считался символом любв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2" name="Picture 53" descr="C:\Documents and Settings\Елена\Мои документы\Мои рисунки\анимированные\цветы ан\цветок\461_marisch.gif"/>
          <p:cNvPicPr/>
          <p:nvPr/>
        </p:nvPicPr>
        <p:blipFill>
          <a:blip r:embed="rId2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прос № 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4000" y="2349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 древнему поверью, этот цветок славит первый из двенадцати подвигов Геракл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темном лесу жил жестокий лев, он приносил много бед жителям Немейской долины. Никто не осмеливался убить льва, и только храбрый Геракл совершил этот подви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Я создам цветок”, - сказала мудрая Флора, - который всегда будет напоминать людям разодранную пасть немейского льва и подвиг Геракла”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6" name="Picture 53" descr="C:\Documents and Settings\Елена\Мои документы\Мои рисунки\анимированные\цветы ан\цветок\461_marisch.gif"/>
          <p:cNvPicPr/>
          <p:nvPr/>
        </p:nvPicPr>
        <p:blipFill>
          <a:blip r:embed="rId2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прос № 1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2331720"/>
            <a:ext cx="822960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 Голландии приехал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мороз наш не помеха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еж цветов он «знатный пан»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лпачком цветет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0" name="Picture 53" descr="C:\Documents and Settings\Елена\Мои документы\Мои рисунки\анимированные\цветы ан\цветок\461_marisch.gif"/>
          <p:cNvPicPr/>
          <p:nvPr/>
        </p:nvPicPr>
        <p:blipFill>
          <a:blip r:embed="rId2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одснежни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" name="Picture 53" descr="C:\Documents and Settings\Елена\Мои документы\Мои рисунки\анимированные\цветы ан\цветок\461_marisch.gif"/>
          <p:cNvPicPr/>
          <p:nvPr/>
        </p:nvPicPr>
        <p:blipFill>
          <a:blip r:embed="rId1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1763640" y="1773360"/>
            <a:ext cx="5364360" cy="402264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езабуд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5" name="Picture 53" descr="C:\Documents and Settings\Елена\Мои документы\Мои рисунки\анимированные\цветы ан\цветок\461_marisch.gif"/>
          <p:cNvPicPr/>
          <p:nvPr/>
        </p:nvPicPr>
        <p:blipFill>
          <a:blip r:embed="rId1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2"/>
          <a:srcRect l="0" t="0" r="1260" b="0"/>
          <a:stretch/>
        </p:blipFill>
        <p:spPr>
          <a:xfrm>
            <a:off x="1547640" y="1844640"/>
            <a:ext cx="6193080" cy="428616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</p:spTree>
  </p:cSld>
  <p:transition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4" descr="29"/>
          <p:cNvPicPr/>
          <p:nvPr/>
        </p:nvPicPr>
        <p:blipFill>
          <a:blip r:embed="rId1"/>
          <a:stretch/>
        </p:blipFill>
        <p:spPr>
          <a:xfrm>
            <a:off x="3924360" y="3068640"/>
            <a:ext cx="4103640" cy="324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Лил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Picture 53" descr="C:\Documents and Settings\Елена\Мои документы\Мои рисунки\анимированные\цветы ан\цветок\461_marisch.gif"/>
          <p:cNvPicPr/>
          <p:nvPr/>
        </p:nvPicPr>
        <p:blipFill>
          <a:blip r:embed="rId2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17"/>
          <p:cNvPicPr/>
          <p:nvPr/>
        </p:nvPicPr>
        <p:blipFill>
          <a:blip r:embed="rId3"/>
          <a:stretch/>
        </p:blipFill>
        <p:spPr>
          <a:xfrm>
            <a:off x="395280" y="1628640"/>
            <a:ext cx="4105440" cy="321804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</p:spTree>
  </p:cSld>
  <p:transition>
    <p:split dir="out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771640" y="3933720"/>
            <a:ext cx="3313080" cy="259092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ирен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Picture 53" descr="C:\Documents and Settings\Елена\Мои документы\Мои рисунки\анимированные\цветы ан\цветок\461_marisch.gif"/>
          <p:cNvPicPr/>
          <p:nvPr/>
        </p:nvPicPr>
        <p:blipFill>
          <a:blip r:embed="rId2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3"/>
          <a:stretch/>
        </p:blipFill>
        <p:spPr>
          <a:xfrm>
            <a:off x="395280" y="1700280"/>
            <a:ext cx="3313080" cy="259236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  <p:pic>
        <p:nvPicPr>
          <p:cNvPr id="145" name="Picture 2" descr=""/>
          <p:cNvPicPr/>
          <p:nvPr/>
        </p:nvPicPr>
        <p:blipFill>
          <a:blip r:embed="rId4"/>
          <a:stretch/>
        </p:blipFill>
        <p:spPr>
          <a:xfrm>
            <a:off x="5148360" y="1700280"/>
            <a:ext cx="3311280" cy="252072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</p:spTree>
  </p:cSld>
  <p:transition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5" descr="bell"/>
          <p:cNvPicPr/>
          <p:nvPr/>
        </p:nvPicPr>
        <p:blipFill>
          <a:blip r:embed="rId1"/>
          <a:stretch/>
        </p:blipFill>
        <p:spPr>
          <a:xfrm>
            <a:off x="3851280" y="3357720"/>
            <a:ext cx="4392720" cy="324000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олокольчи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Picture 53" descr="C:\Documents and Settings\Елена\Мои документы\Мои рисунки\анимированные\цветы ан\цветок\461_marisch.gif"/>
          <p:cNvPicPr/>
          <p:nvPr/>
        </p:nvPicPr>
        <p:blipFill>
          <a:blip r:embed="rId2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3"/>
          <a:stretch/>
        </p:blipFill>
        <p:spPr>
          <a:xfrm>
            <a:off x="611280" y="1773360"/>
            <a:ext cx="3600360" cy="410364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</p:spTree>
  </p:cSld>
  <p:transition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а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1" name="Picture 53" descr="C:\Documents and Settings\Елена\Мои документы\Мои рисунки\анимированные\цветы ан\цветок\461_marisch.gif"/>
          <p:cNvPicPr/>
          <p:nvPr/>
        </p:nvPicPr>
        <p:blipFill>
          <a:blip r:embed="rId1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4" descr="18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476360" y="1700280"/>
            <a:ext cx="6189840" cy="452592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</p:spTree>
  </p:cSld>
  <p:transition>
    <p:split dir="out" orient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rcRect l="0" t="0" r="2236" b="5040"/>
          <a:stretch/>
        </p:blipFill>
        <p:spPr>
          <a:xfrm>
            <a:off x="2627280" y="2205000"/>
            <a:ext cx="2716200" cy="410364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асиле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53" descr="C:\Documents and Settings\Елена\Мои документы\Мои рисунки\анимированные\цветы ан\цветок\461_marisch.gif"/>
          <p:cNvPicPr/>
          <p:nvPr/>
        </p:nvPicPr>
        <p:blipFill>
          <a:blip r:embed="rId2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3"/>
          <a:stretch/>
        </p:blipFill>
        <p:spPr>
          <a:xfrm>
            <a:off x="1332000" y="1700280"/>
            <a:ext cx="6624720" cy="475308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</p:spTree>
  </p:cSld>
  <p:transition>
    <p:split dir="out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прос №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0560" y="1600200"/>
            <a:ext cx="7489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ревняя легенда гласит: когда Адам и Ева были изгнаны из рая, шел  снег, и Еве было очень холодно. Тогда несколько снежинок, желая утешить ее,превратились в цветы. Увидев их, Ева повеселела, у нее появилась надежда на лучшее время. Отсюда и символ этого цвет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53" descr="C:\Documents and Settings\Елена\Мои документы\Мои рисунки\анимированные\цветы ан\цветок\461_marisch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Бессмертни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Содержимое 4" descr="ьтм.jpeg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1979640" y="1773360"/>
            <a:ext cx="4896000" cy="427356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  <p:pic>
        <p:nvPicPr>
          <p:cNvPr id="159" name="Picture 53" descr="C:\Documents and Settings\Елена\Мои документы\Мои рисунки\анимированные\цветы ан\цветок\461_marisch.gif"/>
          <p:cNvPicPr/>
          <p:nvPr/>
        </p:nvPicPr>
        <p:blipFill>
          <a:blip r:embed="rId2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Ланды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53" descr="C:\Documents and Settings\Елена\Мои документы\Мои рисунки\анимированные\цветы ан\цветок\461_marisch.gif"/>
          <p:cNvPicPr/>
          <p:nvPr/>
        </p:nvPicPr>
        <p:blipFill>
          <a:blip r:embed="rId1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  <p:pic>
        <p:nvPicPr>
          <p:cNvPr id="162" name="Содержимое 7" descr="0_19634_3b7de5ef_L.jpeg"/>
          <p:cNvPicPr/>
          <p:nvPr/>
        </p:nvPicPr>
        <p:blipFill>
          <a:blip r:embed="rId2">
            <a:alphaModFix amt="80000"/>
          </a:blip>
          <a:stretch/>
        </p:blipFill>
        <p:spPr>
          <a:xfrm>
            <a:off x="468360" y="1773360"/>
            <a:ext cx="3598920" cy="327636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  <p:pic>
        <p:nvPicPr>
          <p:cNvPr id="163" name="Picture 2" descr=""/>
          <p:cNvPicPr/>
          <p:nvPr/>
        </p:nvPicPr>
        <p:blipFill>
          <a:blip r:embed="rId3"/>
          <a:stretch/>
        </p:blipFill>
        <p:spPr>
          <a:xfrm>
            <a:off x="3635280" y="3284640"/>
            <a:ext cx="4176720" cy="338436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</p:spTree>
  </p:cSld>
  <p:transition>
    <p:split dir="out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97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Львиный зе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Содержимое 4" descr="ень.jpeg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684360" y="1557360"/>
            <a:ext cx="3238200" cy="345600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  <p:pic>
        <p:nvPicPr>
          <p:cNvPr id="166" name="Picture 53" descr="C:\Documents and Settings\Елена\Мои документы\Мои рисунки\анимированные\цветы ан\цветок\461_marisch.gif"/>
          <p:cNvPicPr/>
          <p:nvPr/>
        </p:nvPicPr>
        <p:blipFill>
          <a:blip r:embed="rId2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  <p:pic>
        <p:nvPicPr>
          <p:cNvPr id="167" name="Содержимое 8" descr="орпа.jpeg"/>
          <p:cNvPicPr/>
          <p:nvPr/>
        </p:nvPicPr>
        <p:blipFill>
          <a:blip r:embed="rId3">
            <a:alphaModFix amt="80000"/>
          </a:blip>
          <a:stretch/>
        </p:blipFill>
        <p:spPr>
          <a:xfrm>
            <a:off x="3851280" y="3141720"/>
            <a:ext cx="3529080" cy="371628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</p:spTree>
  </p:cSld>
  <p:transition>
    <p:split dir="out" orient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юльпа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53" descr="C:\Documents and Settings\Елена\Мои документы\Мои рисунки\анимированные\цветы ан\цветок\461_marisch.gif"/>
          <p:cNvPicPr/>
          <p:nvPr/>
        </p:nvPicPr>
        <p:blipFill>
          <a:blip r:embed="rId1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5" descr="20"/>
          <p:cNvPicPr/>
          <p:nvPr/>
        </p:nvPicPr>
        <p:blipFill>
          <a:blip r:embed="rId2"/>
          <a:stretch/>
        </p:blipFill>
        <p:spPr>
          <a:xfrm>
            <a:off x="611280" y="1916280"/>
            <a:ext cx="3816360" cy="28810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71" name="Picture 12" descr="16"/>
          <p:cNvPicPr/>
          <p:nvPr/>
        </p:nvPicPr>
        <p:blipFill>
          <a:blip r:embed="rId3"/>
          <a:stretch/>
        </p:blipFill>
        <p:spPr>
          <a:xfrm>
            <a:off x="4140360" y="3573360"/>
            <a:ext cx="3744720" cy="280692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</p:spTree>
  </p:cSld>
  <p:transition>
    <p:split dir="out" orient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67564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«Я шел вперед, но всюду замедлялись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ои шаги при взгляде на цветы»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А. Дант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Вивальди.wma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5" name="Вивальди.wma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6" name="Вивальди.wma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139088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39088"/>
                            </p:stCondLst>
                            <p:childTnLst>
                              <p:par>
                                <p:cTn id="1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139088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39088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прос №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днажды богиня цветов Флора спустилась на землю и стала одаривать цветы именами. Одарила всех и хотела удалиться, но услышала слабый голосок: « Ты забыла меня, Флора, дай, мне, пожалуйста, имя». Флора еле-еле разглядела в разнотравье маленький голубой цветоче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4" name="Picture 53" descr="C:\Documents and Settings\Елена\Мои документы\Мои рисунки\анимированные\цветы ан\цветок\461_marisch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прос №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Цветок получил своё название от древнегалльского слова, которое обозначало «белый-белый». По библейской легенде, он вырос из слёз Евы, изгнанной из рая. На Руси  считался символом чистоты и невинности. Его дарили невест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53" descr="C:\Documents and Settings\Елена\Мои документы\Мои рисунки\анимированные\цветы ан\цветок\461_marisch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прос №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колько белых и темно-лиловых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доль ограды кустов разрослось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етку тронешь – дождем лепестковым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сыпается мокрая дрож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Picture 53" descr="C:\Documents and Settings\Елена\Мои документы\Мои рисунки\анимированные\цветы ан\цветок\461_marisch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прос №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421000"/>
            <a:ext cx="43308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 этого цветка есть много имен – балаболки, звонцы, бубны, но во всех этих названиях звучит любовь к нему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53" descr="C:\Documents and Settings\Елена\Мои документы\Мои рисунки\анимированные\цветы ан\цветок\461_marisch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прос №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4920" y="2565360"/>
            <a:ext cx="57704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т шершавый стебелек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середине уголе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епестки блестят, как лак,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спустился красный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Picture 53" descr="C:\Documents and Settings\Елена\Мои документы\Мои рисунки\анимированные\цветы ан\цветок\461_marisch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прос № 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0920" y="3428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иневой небесной, нестерпимо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лыхая, словно огоньки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глаза детей, глаза любимых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бойцов глядели ……………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Picture 53" descr="C:\Documents and Settings\Елена\Мои документы\Мои рисунки\анимированные\цветы ан\цветок\461_marisch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>
                  <a:alpha val="80000"/>
                </a:srgbClr>
              </a:gs>
            </a:gsLst>
            <a:lin ang="2700000"/>
          </a:gradFill>
          <a:ln w="9360">
            <a:solidFill>
              <a:srgbClr val="3399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прос № 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. А. Гончаров писал об этом растении: «Они (цветы) лежат, не изменяясь, помногу лет: через 10 лет так же сухи, ярки цветом и также ничем не пахнут, как сорванные»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8" name="Picture 53" descr="C:\Documents and Settings\Елена\Мои документы\Мои рисунки\анимированные\цветы ан\цветок\461_marisch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9720" y="5572080"/>
            <a:ext cx="1214280" cy="128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06:03:23Z</dcterms:created>
  <dc:creator>Гусева</dc:creator>
  <dc:description/>
  <dc:language>en-US</dc:language>
  <cp:lastModifiedBy>Гусева</cp:lastModifiedBy>
  <dcterms:modified xsi:type="dcterms:W3CDTF">2011-04-01T18:03:22Z</dcterms:modified>
  <cp:revision>48</cp:revision>
  <dc:subject/>
  <dc:title>Живая красота земли</dc:title>
</cp:coreProperties>
</file>