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A81C-A8FC-4F47-9AF0-DDB8D4148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6F47-FFB5-4C4E-BAAE-3EDE9CB5FA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9B7-0311-4451-A4E1-D7B51551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D77-7849-4E2E-81FC-AA8013DE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478-083C-4A21-83C8-693B5E84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BC4-6871-444B-9D42-5CBB3FF4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AD7-C08D-442B-B111-4E938BEB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509-07A9-46B0-A74E-4609558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008-7D9A-4C9D-ADFC-D8E58A1D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382-9B79-46F6-9958-E736C7B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0CA-5075-42D9-8A97-D548F8C6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92B-53DB-4FC4-86C9-8F08215F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623-78C5-49E0-AF20-F9B9058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CC3-FAD0-4F45-817D-502A1139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78C8-C9B1-4F29-9CE5-0BA579FA2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8058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«Защита прав участников рынка: как обезопасить себя и своих клиентов »</a:t>
            </a:r>
            <a:br>
              <a:rPr sz="2800"/>
            </a:br>
            <a:br>
              <a:rPr sz="4000"/>
            </a:b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кладчик:  Валентина Нагиева, Генеральный директор компании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GF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2600" y="3714480"/>
            <a:ext cx="80010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Октябрь 2009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и продавца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400" y="2071440"/>
            <a:ext cx="4429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верка докум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юридическая поддерж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плата и раздел комиссио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ст.продажное обслуж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исковые страны  и форс-мажорные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куренция и борьба за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799-C843-4A3E-9F44-8507171E4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http://www.interestate.ru/pics/TVUZ2QNR.jpg"/>
          <p:cNvPicPr/>
          <p:nvPr/>
        </p:nvPicPr>
        <p:blipFill>
          <a:blip r:embed="rId2"/>
          <a:stretch/>
        </p:blipFill>
        <p:spPr>
          <a:xfrm>
            <a:off x="4786200" y="2143080"/>
            <a:ext cx="40719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Конгломерат: продавец-покупатель .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Минимизация рис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785600"/>
            <a:ext cx="8007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Эксклюзивные дого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ачество обслуж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Международные ассоциации, чёр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остпродажное обслуж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мплексное обслуж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рректность поведения на ры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рофессионализм, открыт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026F-BEB5-4BF5-A4CB-04F8BFC12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285840" y="285840"/>
          <a:ext cx="4572000" cy="17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85840"/>
                    <a:ext cx="45720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5072040" y="357120"/>
            <a:ext cx="3429000" cy="1143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b050"/>
            </a:outerShdw>
          </a:effectLst>
        </p:spPr>
      </p:pic>
      <p:pic>
        <p:nvPicPr>
          <p:cNvPr id="56" name="Picture 10" descr=""/>
          <p:cNvPicPr/>
          <p:nvPr/>
        </p:nvPicPr>
        <p:blipFill>
          <a:blip r:embed="rId5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385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Тези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2143080"/>
            <a:ext cx="8416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Причины приобретения зарубежной недвижимости россиян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Изменения спроса на рынке зарубежной недвижимости в период кризиса с осени 2008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овые страны для приобретения недвиж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и покуп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и продав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Примеры  практических  советов  и  рекомендаций  п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минимизированию  рисков  при покупке зарубеж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недвиж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E4A4-EBAE-45F9-853D-2F827B9D1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Причины приобретения зарубежной недвижимости россиянами</a:t>
            </a:r>
            <a:r>
              <a:rPr b="1" lang="ru-RU" sz="2500" spc="-1" strike="noStrike">
                <a:solidFill>
                  <a:srgbClr val="ffc000"/>
                </a:solidFill>
                <a:latin typeface="Monotype Corsiva"/>
              </a:rPr>
              <a:t>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2356920"/>
            <a:ext cx="47862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хранение сбере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долгосрочного отдыха семь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торо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вест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умножение сбере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Запасной аэродро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обучени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ра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М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руго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E244-0F54-41BC-A615-1E65FFDF2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Valentina\Зарубежная\Пресса\НБ\france_3.jpg"/>
          <p:cNvPicPr/>
          <p:nvPr/>
        </p:nvPicPr>
        <p:blipFill>
          <a:blip r:embed="rId2"/>
          <a:stretch/>
        </p:blipFill>
        <p:spPr>
          <a:xfrm>
            <a:off x="5143680" y="2428920"/>
            <a:ext cx="38574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Изменения спроса на рынке зарубежной недвижимости в период с осени 2008г. по данным компании  «</a:t>
            </a:r>
            <a:r>
              <a:rPr b="0" lang="en-US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GFPI</a:t>
            </a:r>
            <a:r>
              <a:rPr b="0" lang="ru-RU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2142720"/>
            <a:ext cx="8007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2008 г.                                            2009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Болгария                                          1. Итал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Кипр                                                  2. Фран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Египет                                               3. Кип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Финляндия                                      4. Финлянд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Испания                                           5. Герм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ОАЭ                                                   6.  Гре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Calibri"/>
              </a:rPr>
              <a:t>P.S. 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Новые страны: Индия, Мексика, Авст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AF4-D36C-4F72-9977-253BFF4C1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овые страны для  россия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1785600"/>
            <a:ext cx="8007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 религиозным мотивам :                                      2. Нестабильность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АЭ                                                                                                         -Чи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нис                                                                                                      -Пана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гипет                                                                                                     -Коста-Ри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р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арокк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Природные катаклизмы:                                          4. Долевое строительств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аиланд                                                                                                - Болга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оминикана                                                                                        - Исп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ре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 Политическая ситуация:                                                 6.  Права собств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рция                                                                                                 -ОА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стония                                                                                               -Швейцария(квот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зраиль                                                                                              -Чехия (юр.лиц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реция                                                                                                 -Таиланд (земл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293-D3F1-4352-A12D-523253EE2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285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  <a:ea typeface="Arial"/>
              </a:rPr>
              <a:t>Ситуация на рынках зарубежной недвижимости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857240"/>
            <a:ext cx="4500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Любое обдуманное приобретение недвижимости за рубежом является надёжной инвести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                      </a:t>
            </a:r>
            <a:r>
              <a:rPr b="0" lang="ru-RU" sz="2000" spc="-1" strike="noStrike">
                <a:solidFill>
                  <a:srgbClr val="ffc000"/>
                </a:solidFill>
                <a:latin typeface="Georgi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Стабильность в стране с гарантиями или риски в странах с высокой доходностью -  инвестор выбирает себе место, отвечающее его требованиям и задач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Narro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Narrow"/>
              </a:rPr>
              <a:t>Поэтому, главное - понять, для чего вам это нуж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143680" y="1857240"/>
            <a:ext cx="3701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840" y="1500120"/>
            <a:ext cx="8487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  <a:ea typeface="Arial"/>
              </a:rPr>
              <a:t>Ситуация на рынках зарубежной недвижим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3280" y="2214720"/>
            <a:ext cx="87152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ые стра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стаби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ые проек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гот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Ипоте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ало где остала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Германия, Кипр, Италия, Фра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ложная ситуация по сдаче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Испания, Болгария, ОАЭ, Панам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адение цен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фы или?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Англия, Чехия-Прага, США-Майами, Испания-Барсел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Франция - Лазурный Берег, Италия-Тоскана, Лигур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остров, Бокас дель Торо - Red Frog, Панама"/>
          <p:cNvPicPr/>
          <p:nvPr/>
        </p:nvPicPr>
        <p:blipFill>
          <a:blip r:embed="rId2"/>
          <a:stretch/>
        </p:blipFill>
        <p:spPr>
          <a:xfrm>
            <a:off x="5857920" y="2214720"/>
            <a:ext cx="28954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и покупателя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920" y="1785960"/>
            <a:ext cx="4857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Незнакомое законода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Иностранный язы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Не везде страхуются и защищаются риски государством по недостроенным проек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Визовый реж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Открытие банковских с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Сложности по адаптации в стра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 легализация, работа, обучение и т.д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12CB-7D1F-4914-A9E0-AC0B2CB9E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http://www.interestate.ru/pics/2X7FCLHO.jpg"/>
          <p:cNvPicPr/>
          <p:nvPr/>
        </p:nvPicPr>
        <p:blipFill>
          <a:blip r:embed="rId2"/>
          <a:stretch/>
        </p:blipFill>
        <p:spPr>
          <a:xfrm>
            <a:off x="5000760" y="200016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4:54:25Z</dcterms:created>
  <dc:creator>Ольга Попова</dc:creator>
  <dc:description/>
  <dc:language>en-US</dc:language>
  <cp:lastModifiedBy>Valna</cp:lastModifiedBy>
  <dcterms:modified xsi:type="dcterms:W3CDTF">2009-10-01T16:09:51Z</dcterms:modified>
  <cp:revision>377</cp:revision>
  <dc:subject/>
  <dc:title>Презентация инвестиционного проекта</dc:title>
</cp:coreProperties>
</file>