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295-7211-41AC-AB18-DCBE3CEF96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9092-54F8-4C7A-BB55-FA5F462647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1D1-61DC-43D6-A097-08E136C2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F0D-FE8E-4310-8354-3DDFEA8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ED2F-505C-415A-890C-B894F40B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196-7C58-4949-9465-150E4D3D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68A-175F-43D0-8DE5-F73723B9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2BD-6828-4359-9B20-5D2BCB3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DE9-23CB-4016-B51A-3D96C11E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6A1-AB6B-494F-80FD-EA71558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8DE-2FF8-4D1C-8E64-7F3F471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45F-A1EC-4DE7-B6C9-0A5784C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76D-2AAE-4D4F-B2F3-83B7949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FD1-B9E3-4F8D-9B3D-2B15479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7B24-1B98-4EF6-BCC4-97595A203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1928880"/>
            <a:ext cx="80582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c000"/>
                </a:solidFill>
                <a:latin typeface="Arial Black"/>
              </a:rPr>
              <a:t>«Защита прав участников рынка: как обезопасить себя и своих клиентов »</a:t>
            </a:r>
            <a:br>
              <a:rPr sz="2800"/>
            </a:br>
            <a:br>
              <a:rPr sz="4000"/>
            </a:b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кладчик:  Валентина Нагиева, Генеральный директор компании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GF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42600" y="3714480"/>
            <a:ext cx="80010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Октябрь 2009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родавца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400" y="2071440"/>
            <a:ext cx="4429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верка докумен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юридическая поддерж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ыплата и раздел комиссио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ст.продажное обслужи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рисковые страны  и форс-мажорные ситу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онкуренция и борьба за кли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539-1813-4C62-850C-AB826D666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www.interestate.ru/pics/TVUZ2QNR.jpg"/>
          <p:cNvPicPr/>
          <p:nvPr/>
        </p:nvPicPr>
        <p:blipFill>
          <a:blip r:embed="rId2"/>
          <a:stretch/>
        </p:blipFill>
        <p:spPr>
          <a:xfrm>
            <a:off x="4786200" y="2143080"/>
            <a:ext cx="40719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Конгломерат: продавец-покупатель .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Минимизация рис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Эксклюзивные дого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ачество обслужи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Международные ассоциации, чёрные спи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остпродаж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мплексное обслуж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Корректность поведения на ры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  <a:ea typeface="Arial"/>
              </a:rPr>
              <a:t>Профессионализм, открыт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0AD5-271B-406A-89B2-5D1FF501A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285840" y="285840"/>
          <a:ext cx="457200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45720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5072040" y="357120"/>
            <a:ext cx="3429000" cy="1143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b050"/>
            </a:outerShdw>
          </a:effectLst>
        </p:spPr>
      </p:pic>
      <p:pic>
        <p:nvPicPr>
          <p:cNvPr id="56" name="Picture 10" descr=""/>
          <p:cNvPicPr/>
          <p:nvPr/>
        </p:nvPicPr>
        <p:blipFill>
          <a:blip r:embed="rId5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385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Тези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2143080"/>
            <a:ext cx="8416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чины приобретения зарубежной недвижимости россияна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Изменения спроса на рынке зарубежной недвижимости в период кризиса с осени 2008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овые страны для приобретения 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окупа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Риски продав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Примеры  практических  советов  и  рекомендаций  п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минимизированию  рисков  при покупке зарубеж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Arial Narrow"/>
              </a:rPr>
              <a:t>недвижим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AB2-54E0-4BF7-A19F-D0A07505A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Причины приобретения зарубежной недвижимости россиянами</a:t>
            </a:r>
            <a:r>
              <a:rPr b="1" lang="ru-RU" sz="2500" spc="-1" strike="noStrike">
                <a:solidFill>
                  <a:srgbClr val="ffc000"/>
                </a:solidFill>
                <a:latin typeface="Monotype Corsiva"/>
              </a:rPr>
              <a:t>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2356920"/>
            <a:ext cx="47862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хран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долгосрочного отдыха семь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торо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вести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умножение сбереж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Запасной аэродро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обучения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сто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М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ругое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E53-2710-4622-85AC-57D63CA34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Valentina\Зарубежная\Пресса\НБ\france_3.jpg"/>
          <p:cNvPicPr/>
          <p:nvPr/>
        </p:nvPicPr>
        <p:blipFill>
          <a:blip r:embed="rId2"/>
          <a:stretch/>
        </p:blipFill>
        <p:spPr>
          <a:xfrm>
            <a:off x="5143680" y="2428920"/>
            <a:ext cx="385740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Изменения спроса на рынке зарубежной недвижимости в период с осени 2008г. по данным компании  «</a:t>
            </a:r>
            <a:r>
              <a:rPr b="0" lang="en-US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GFPI</a:t>
            </a:r>
            <a:r>
              <a:rPr b="0" lang="ru-RU" sz="24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2142720"/>
            <a:ext cx="8007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2008 г.                                            2009 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Болгария                                          1. Итал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Кипр                                                  2. Фран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Египет                                               3. Кип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Финляндия                                      4. Финлянд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Испания                                           5. Герма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6. ОАЭ                                                   6.  Грец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Calibri"/>
              </a:rPr>
              <a:t>P.S. 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Новые страны: Индия, Мексика, Авст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AB5-B7BA-41FB-8978-49398D16D9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овые страны для  россия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8760" y="1785600"/>
            <a:ext cx="8007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60000"/>
              </a:lnSpc>
              <a:spcBef>
                <a:spcPts val="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о религиозным мотивам :                                      2. Нестабильность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АЭ                                                                                                         -Чи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нис                                                                                                      -Пана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Египет                                                                                                     -Коста-Р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Марок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 Природные катаклизмы:                                          4. Долевое строительство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аиланд                                                                                                - Болга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оминикана                                                                                        - Исп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 Политическая ситуация:                                                 6.  Права собств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Турция                                                                                                 -ОА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стония                                                                                               -Швейцария(квот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Израиль                                                                                              -Чехия (юр.лиц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Греция                                                                                                 -Таиланд (земл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CD3E-E68D-4B46-901C-0D1C044FBF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1285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857240"/>
            <a:ext cx="4500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Любое обдуманное приобретение недвижимости за рубежом является надёжной инвести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Georgia"/>
              </a:rPr>
              <a:t>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Georgi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Стабильность в стране с гарантиями или риски в странах с высокой доходностью -  инвестор выбирает себе место, отвечающее его требованиям и задач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 Narrow"/>
              </a:rPr>
              <a:t>Поэтому, главное - понять, для чего вам это нужн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701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840" y="1500120"/>
            <a:ext cx="8487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Monotype Corsiva"/>
                <a:ea typeface="Arial"/>
              </a:rPr>
              <a:t>Ситуация на рынках зарубежной недвижимо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43280" y="2214720"/>
            <a:ext cx="87152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стра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стабиль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риоритетные проек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гото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Ипотек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мало где остала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Германия, Кипр, Италия, Фра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Сложная ситуация по сдач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Испания, Болгария, ОАЭ, Панам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  <a:ea typeface="Arial"/>
              </a:rPr>
              <a:t>Падение цен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фы или?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Англия, Чехия-Прага, США-Майами, Испания-Барсел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РЫ: Франция - Лазурный Берег, Италия-Тоскана, Лигур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остров, Бокас дель Торо - Red Frog, Панама"/>
          <p:cNvPicPr/>
          <p:nvPr/>
        </p:nvPicPr>
        <p:blipFill>
          <a:blip r:embed="rId2"/>
          <a:stretch/>
        </p:blipFill>
        <p:spPr>
          <a:xfrm>
            <a:off x="5857920" y="2214720"/>
            <a:ext cx="28954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sus F9\Desktop\Презентация горизонтальна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3851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Monotype Corsiva"/>
                <a:ea typeface="Malgun Gothic"/>
              </a:rPr>
              <a:t>Риски покупателя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2920" y="1785960"/>
            <a:ext cx="48578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знакомое законода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Иностранны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Не везде страхуются и защищаются риски государством по недостроенным проек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Визовый реж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Открытие банковских с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Сложности по адаптации в стра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  <a:ea typeface="Arial"/>
              </a:rPr>
              <a:t>( легализация, работа, обучение и т.д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E7C-0FF8-4CB1-B390-6BC4FB850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2503440" y="3244680"/>
            <a:ext cx="262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http://www.interestate.ru/pics/2X7FCLHO.jpg"/>
          <p:cNvPicPr/>
          <p:nvPr/>
        </p:nvPicPr>
        <p:blipFill>
          <a:blip r:embed="rId2"/>
          <a:stretch/>
        </p:blipFill>
        <p:spPr>
          <a:xfrm>
            <a:off x="5000760" y="200016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4:54:25Z</dcterms:created>
  <dc:creator>Ольга Попова</dc:creator>
  <dc:description/>
  <dc:language>en-US</dc:language>
  <cp:lastModifiedBy>Valna</cp:lastModifiedBy>
  <dcterms:modified xsi:type="dcterms:W3CDTF">2009-10-01T16:09:51Z</dcterms:modified>
  <cp:revision>377</cp:revision>
  <dc:subject/>
  <dc:title>Презентация инвестиционного проекта</dc:title>
</cp:coreProperties>
</file>