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B00-0989-4ADD-A0E7-37FF660D3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93B-A813-4419-AB8F-C7ED2465F8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F18-8F6A-4F88-9048-FA356800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927-4F48-43CA-89C7-AD21EB3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A97-8824-4F3B-A474-21EDB22A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627-2968-4696-9D8D-1B444058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FCF-F9A6-4ACD-81B2-7582095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09B-9088-49CA-8231-9C937C2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B5F-8F36-4DED-B66C-EEC4DF1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963-E136-4F59-86CB-FD14AB7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623-FB8D-4727-9987-0F9D2CA2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256-7961-4BFD-8CBA-ECA41093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D71-A35C-4164-9722-BAC4F9B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87D-2548-41FA-9FDE-9887684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78D2-2852-42AB-B3C1-325C17158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8058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«Защита прав участников рынка: как обезопасить себя и своих клиентов »</a:t>
            </a:r>
            <a:br>
              <a:rPr sz="2800"/>
            </a:br>
            <a:br>
              <a:rPr sz="4000"/>
            </a:b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кладчик:  Валентина Нагиева, Генеральный директор компании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GF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600" y="3714480"/>
            <a:ext cx="80010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Октябрь 2009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и продавца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400" y="2071440"/>
            <a:ext cx="4429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верка докум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юридическая поддерж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та и раздел комиссио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ст.продажное обслу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исковые страны  и форс-мажорные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куренция и борьба за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5151-FF43-4CA6-931F-97059589D8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ttp://www.interestate.ru/pics/TVUZ2QNR.jpg"/>
          <p:cNvPicPr/>
          <p:nvPr/>
        </p:nvPicPr>
        <p:blipFill>
          <a:blip r:embed="rId2"/>
          <a:stretch/>
        </p:blipFill>
        <p:spPr>
          <a:xfrm>
            <a:off x="4786200" y="214308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Конгломерат: продавец-покупатель .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Минимизация рис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785600"/>
            <a:ext cx="8007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Эксклюзивные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ачество обслуж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Международные ассоциации, чёр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остпродажное обслуж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мплексное обслуж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рректность поведения на ры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офессионализм, открыт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FFE-FA51-4730-9A7F-AC945C609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85840" y="285840"/>
          <a:ext cx="457200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45720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5072040" y="357120"/>
            <a:ext cx="3429000" cy="1143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b050"/>
            </a:outerShdw>
          </a:effectLst>
        </p:spPr>
      </p:pic>
      <p:pic>
        <p:nvPicPr>
          <p:cNvPr id="56" name="Picture 10" descr=""/>
          <p:cNvPicPr/>
          <p:nvPr/>
        </p:nvPicPr>
        <p:blipFill>
          <a:blip r:embed="rId5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385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Тези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2143080"/>
            <a:ext cx="841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Причины приобретения зарубежной недвижимости россиян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Изменения спроса на рынке зарубежной недвижимости в период кризиса с осени 200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овые страны для приобретения недвиж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и покуп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и продав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Примеры  практических  советов  и  рекомендаций  п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минимизированию  рисков  при покупке зарубеж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недвиж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CC77-BD56-4A04-82AA-119617D3E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Причины приобретения зарубежной недвижимости россиянами</a:t>
            </a:r>
            <a:r>
              <a:rPr b="1" lang="ru-RU" sz="2500" spc="-1" strike="noStrike">
                <a:solidFill>
                  <a:srgbClr val="ffc000"/>
                </a:solidFill>
                <a:latin typeface="Monotype Corsiva"/>
              </a:rPr>
              <a:t>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2356920"/>
            <a:ext cx="47862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хранение сбере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долгосрочного отдыха семь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торо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вест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умножение сбере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Запасной аэродро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обучени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ра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М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руго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5AD-49F6-4EC9-9BA8-7D6054A18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Valentina\Зарубежная\Пресса\НБ\france_3.jpg"/>
          <p:cNvPicPr/>
          <p:nvPr/>
        </p:nvPicPr>
        <p:blipFill>
          <a:blip r:embed="rId2"/>
          <a:stretch/>
        </p:blipFill>
        <p:spPr>
          <a:xfrm>
            <a:off x="5143680" y="2428920"/>
            <a:ext cx="38574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Изменения спроса на рынке зарубежной недвижимости в период с осени 2008г. по данным компании  «</a:t>
            </a:r>
            <a:r>
              <a:rPr b="0" lang="en-US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GFPI</a:t>
            </a:r>
            <a:r>
              <a:rPr b="0" lang="ru-RU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2142720"/>
            <a:ext cx="8007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2008 г.                                            2009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Болгария                                          1. Итал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Кипр                                                  2. Фран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Египет                                               3. Кип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Финляндия                                      4. Финлянд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Испания                                           5. Герм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ОАЭ                                                   6.  Гре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Calibri"/>
              </a:rPr>
              <a:t>P.S. 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Новые страны: Индия, Мексика, Авст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2350-B37C-4DD2-8512-BFD7E1381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овые страны для  россия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1785600"/>
            <a:ext cx="8007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 религиозным мотивам :                                      2. Нестабильность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АЭ                                                                                                         -Чи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нис                                                                                                      -Пана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гипет                                                                                                     -Коста-Ри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р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арокк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Природные катаклизмы:                                          4. Долевое строительств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аиланд                                                                                                - Болга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оминикана                                                                                        - Исп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ре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Политическая ситуация:                                                 6.  Права собств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рция                                                                                                 -ОА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стония                                                                                               -Швейцария(квот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зраиль                                                                                              -Чехия (юр.лиц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реция                                                                                                 -Таиланд (земл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8B3-A64F-45B6-B5C9-053DE2A55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285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  <a:ea typeface="Arial"/>
              </a:rPr>
              <a:t>Ситуация на рынках зарубежной недвижимости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857240"/>
            <a:ext cx="4500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Любое обдуманное приобретение недвижимости за рубежом является надёжной инвести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Georgi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Стабильность в стране с гарантиями или риски в странах с высокой доходностью -  инвестор выбирает себе место, отвечающее его требованиям и задач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Поэтому, главное - понять, для чего вам это н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143680" y="1857240"/>
            <a:ext cx="3701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1500120"/>
            <a:ext cx="8487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  <a:ea typeface="Arial"/>
              </a:rPr>
              <a:t>Ситуация на рынках зарубежной недвижим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3280" y="2214720"/>
            <a:ext cx="87152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ые стра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стаби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ые проек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гот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поте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ало где остала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Германия, Кипр, Италия, Фра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ложная ситуация по сдаче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Испания, Болгария, ОАЭ, Панам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адение цен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фы или?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Англия, Чехия-Прага, США-Майами, Испания-Барсел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Франция - Лазурный Берег, Италия-Тоскана, Лигур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остров, Бокас дель Торо - Red Frog, Панама"/>
          <p:cNvPicPr/>
          <p:nvPr/>
        </p:nvPicPr>
        <p:blipFill>
          <a:blip r:embed="rId2"/>
          <a:stretch/>
        </p:blipFill>
        <p:spPr>
          <a:xfrm>
            <a:off x="5857920" y="2214720"/>
            <a:ext cx="28954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и покупателя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785960"/>
            <a:ext cx="4857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Незнакомое законода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Иностранный язы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Не везде страхуются и защищаются риски государством по недостроенным проек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Визовый реж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Открытие банковских с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Сложности по адаптации в стра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 легализация, работа, обучение и т.д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822-E206-401F-BE52-A568829B2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http://www.interestate.ru/pics/2X7FCLHO.jpg"/>
          <p:cNvPicPr/>
          <p:nvPr/>
        </p:nvPicPr>
        <p:blipFill>
          <a:blip r:embed="rId2"/>
          <a:stretch/>
        </p:blipFill>
        <p:spPr>
          <a:xfrm>
            <a:off x="5000760" y="200016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4:54:25Z</dcterms:created>
  <dc:creator>Ольга Попова</dc:creator>
  <dc:description/>
  <dc:language>en-US</dc:language>
  <cp:lastModifiedBy>Valna</cp:lastModifiedBy>
  <dcterms:modified xsi:type="dcterms:W3CDTF">2009-10-01T16:09:51Z</dcterms:modified>
  <cp:revision>377</cp:revision>
  <dc:subject/>
  <dc:title>Презентация инвестиционного проекта</dc:title>
</cp:coreProperties>
</file>