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0.png" ContentType="image/png"/>
  <Override PartName="/ppt/media/image18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5.png" ContentType="image/pn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dt" idx="46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ftr" idx="47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 type="sldNum" idx="48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A66-A23B-4F7F-A70D-6BEF183B74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3931-3870-4450-84D9-A9D0C7D4C8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40B-958A-4956-884D-1B58149D4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C3446-4D5A-4E22-A6E7-B07788DC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77EB1-4AE0-4843-A557-39128A3F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EF52-715C-4D01-BB8D-5AAD132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F7A81-8C3A-425F-B025-39CF7F17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3895E-A354-4D96-B397-C3D014C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CAAA7-DA42-4DF3-B767-B61A79A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2BBF3-42D1-47F5-AE6F-792C0406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CB1AC-47F7-4EBC-9DCF-B1523BCE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EF119-E258-4B25-B0C3-174C421F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DA57B-8E66-4ABC-A525-2925E120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81F49-2EFD-4DB1-B14E-F5D7E9F7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E3AA2-B46D-4F25-8B86-8A1F326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991D9-F07D-4E7B-B067-371C34DF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D90D3-AF3A-4937-B91B-7916EE1A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90693-F9F7-42A4-A547-A2BA0800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21B7D-DB23-4EB6-AF9F-6400960A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DE50E-8661-48E8-B8F0-EAA4F93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AD68-7A19-4BE2-A83A-FAC4DCE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BCE0E-871C-43E1-B55C-1B8FCC3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DE1D2-1786-4FF6-9996-A8E697DF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4C4AA-931B-4C66-8419-33FCA1AF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C7676-E2F2-439F-8A07-AC9D6E99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2A580-B88E-46B7-882E-A6D83096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26445-48A4-4E82-A210-B437424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001D6-79FA-4A92-B231-50541BE4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8F1F3-8C93-4211-80DE-1C9BDEB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31361-2F33-414E-8C14-B05574F3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E8819-D70A-451A-8AF1-3B02BFF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7EE8-4D97-4740-8622-2FAB6B4C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7044F-BD86-4329-8812-A81F8D57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53A-7833-4EE0-A402-A6BA6E6E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3F56F-552B-4B29-BA06-5E4C148A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C1688-0801-4200-9EEB-06C47129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23217-CD4C-4663-B94B-0AF1ADFA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C0CD-6A69-40D6-AA08-2FDDB18E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34ED9-F3BE-4413-A9CF-777471AF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A5D74-B65F-4B5C-AA0F-4B53CD5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CAEC7-CCB1-41AB-84F4-643B190E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31C48-FE59-4F6B-B9FD-9D28CDF2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E5057-B0CD-4CDB-BE7D-873B326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D159D-BD1E-415C-A359-1588D43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478-6C3B-4FFA-AE8E-494DA9C4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E6AFC-072D-4D2A-B678-CF8AD0B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377EA-3C70-43D5-8EC8-108EBFF3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8540F-0744-4A9F-8EBF-8A8B8C63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13FE4-259D-488C-A1CF-4C591180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C2F54-16F3-4684-A70D-F910F9CA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C7C2C-852E-446C-83AE-E08A8829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5A034-FABC-4167-9498-7D4144B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A2799-C9CD-4B98-8940-6C7BDC80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44324-B919-489D-875C-A84DB0F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04D2C-D2CF-476D-A68C-90A7DFB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766-BF75-4EF2-8CDC-518CFA68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43273-3ABC-4E28-A11C-C1BF6307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1DECA-1A7E-4C9E-975C-9A34669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46B16-2CE1-4E79-88FE-DEE0266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A4463-585B-4553-B803-BE2F02F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9BE18-9A0C-4B6A-A3F0-496753A2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DCC48-760B-4419-B431-107D2F5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FD425-D98B-497C-B750-D7DEA675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71460-DC8C-495A-BEAD-F9B069DC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4764D-CD8F-4999-90C3-89D193EF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CE90E-3879-4044-9B2D-37F813F2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B82-62A6-47EB-8542-4FAD79E2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64AA1-C432-4CAB-8EAD-F1334755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64D9D-9B00-4397-AA3E-A1214CD3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4C3AD-CA21-49E5-AF61-FCBE5083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48CDD-9966-436F-8E3E-31EA64F6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B9EB2-176F-4B34-B88C-014DD5C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2E357-1EF8-407E-BB60-DBC279C7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28729-6F5A-432C-8771-907D362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C3E6A-970A-42A7-A733-F3E98BE4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14004-1F7D-4423-ABE2-DDBA78E0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632D9-7168-447B-ADF4-F16E46DE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60E-6414-454C-8093-88AC1B8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EBF25-B0DE-4CD2-8A68-F6DB9D3B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6335F-3419-42F6-A54E-3448E9C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E3A3D-6EB0-470C-9356-CE15140A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E57FB-EE18-47BB-9E9F-980932D6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516B8-5E16-431A-8E19-DC533C29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154C4-296B-4E48-9F61-265595F2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8EDEC-4188-40DC-A717-28AE64E3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93FB5-A0CF-43FE-BF10-0810E55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98BFD-3EFF-4705-892B-7A9B46BA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CAC8F-AFD7-45D4-AAA4-0409681B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B3E-078F-465C-9648-8830C577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829C0-E4AC-47FC-BF3B-7FF307CF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6D8F7-9199-4802-825C-87F1E5A2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D2241-9520-445D-BE26-04DA3AE0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6BA54-941B-4714-8690-F47FE0AA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5CBE7-E620-46D8-9E5C-09944006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3CF44-F900-4C2D-908C-A11A97C0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6F0A8-4DA0-4759-95BB-9B5CC607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7EBB5-2929-41B2-A687-18EB196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52432-EC3C-45F3-AADC-CEA67B4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0A57D-7ACC-4C3A-B4EE-F67F739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427-9C02-47A6-BF4F-CCDCB84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35CE7-A322-4936-99F7-6AEA301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E7A62-AE7F-453B-92F5-BB755BFB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108B6-6C45-448E-8912-293AFAA7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DB4-8767-4016-A127-A6DA46F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222-6144-49C1-A261-9A4FFDCE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169-ADF6-40C7-8122-FD72E56E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C38-6630-473C-9C49-CB1F1ABE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BCF-3DF7-40FB-B422-3C569D35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E6F-0512-4F21-9FAE-A1B54A62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E489-BC41-43EE-ADDB-CE9AD76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2839-4E65-4A6D-88F5-93A830C1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D974-A14F-44AE-9BC4-CB3C00AF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8F8A-901A-44C8-8EE9-817EE754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E8E1-FB3E-4E13-9ECD-8DC492D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AA3-0D17-41E1-A60B-7FB9442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02E3-8B8A-42DB-A187-A463FD9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C17-7BD4-4994-838A-816D4DD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B86E-A4B9-479B-8F2F-2AFBDCD2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DB3B-74CF-4A4A-8837-67FCFB60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50A-58EB-4750-AE5F-22F5258A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03CB-7B87-4034-B188-813138E6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5A04-A30C-4B87-AE62-63882F3C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3A6F-B4DC-4E81-9B02-DB0E1B75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8C49-C2DA-46A4-A8DB-E43B1A08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781B-5918-48F3-8803-ACF6D069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278D-15AF-4B23-BD38-869AEC9E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54FD-ECA4-4F8B-8FD3-44836DE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9BD6-FEB6-4BD4-A27B-C6DAF6A5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64CB-1A06-4E0C-8BBC-563821F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272E-B472-4EAA-BB43-B8A3CE67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7AE9-3420-49A3-9881-9EFD4BEE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25DB-1317-45ED-8076-F511197B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C6BD-7D55-4C14-8810-8A20F972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7CF8-7501-4366-9743-8BFD4BB9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519D-E235-4B93-8B8B-F29D7556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D9A3-0DC3-4929-A779-8289557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EB1D-13CA-4620-AC97-500834BB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F099-C8C9-4B7D-8095-887B9408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CA7B-0A19-4B14-BFC3-9E12FB1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DE0A-8D7A-4C36-AFB3-99C2670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C514-A0A8-449A-93DA-7D870907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F7AE1-2FB8-49A8-93D3-9DB7E065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4BBA-11D5-4394-B33C-003DC42A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5BA2-7373-4583-BF2C-9F1B8668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32FE-A68F-4A2D-A0B9-1F3C3B08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26E4-B74B-4C84-9A0E-464B2BFB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32A2E-E291-4110-AFEB-F195ED5D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0CFE-CAC3-4B28-9427-604B83CB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E1DF-DB32-485D-904F-F722D16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BCB0-1F48-4AAC-A275-D653FAF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3F98-71A4-4EE8-A110-75806A9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236BA-B59A-47DC-A8DC-EAA9368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017F8-3CB2-4797-8314-5B7C539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0680B-FB77-4A4D-A92D-38636F8D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9D45-10BE-49FD-8F04-02FB7076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C799-69EF-401C-B4A5-5CE82057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CE6DB-3BA0-48BB-A3EF-46D04EA5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992B0-5F7E-455B-9C64-09FE2C7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5128E-8951-4F71-8A34-F881CA7B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FB6E2-EAE0-4B00-B4CA-28E9EF14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AE8D1-7446-4C1B-80F7-BF6C7E7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633A5-E94F-4DFE-8931-A6F4B71B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21BB-BC17-4CC2-9DCC-C14DCD5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9E00-A150-4358-9443-77FF76C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684E-961D-4094-8634-9F6A6AD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33540-9EF7-4525-8F87-4F8E8FE8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5283-ECDB-4667-B9DC-2CA21015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7C06-87EE-43CC-916F-FDB42542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02931-AD2C-40B0-8281-EE807326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892F8-7E71-4C63-BF14-31E40A42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CC816-D211-4E8F-BDE1-FD5E2229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A4BD-FEBA-457C-83CB-1366285B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B587-5D99-4E6D-9830-F2FA2D4A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82E20-09C6-4FE8-95AB-D1D997AC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FBC73-17A9-49A8-9CD2-67D9DECC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89DBE-2ADD-42A6-A59A-7C67DF8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9B909-0CD1-45B1-A036-EF643AEE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6897-34F3-45C7-99E7-B862075A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A8DE-E204-41F8-B9AC-F09F3B69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862B-1229-443F-90B8-A2F4B412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5470B-526F-442D-A668-2099C56F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994C-BDB0-402A-B1AE-88CEBC7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0E77-0FF5-4370-999E-53572DF0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46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7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48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49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50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51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52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53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54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55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56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57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58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59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60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61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62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63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7B60-4AA8-45CE-B6BE-7C13D61689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C40-172C-4A78-BC47-7103E45C6C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640D-353C-47D1-A768-90EAEC03C6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5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E688-9763-438D-9CA8-4AF9847C4E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F23-9FA5-4414-9154-C9772683C3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4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322C-AC7B-4C6C-A378-703D261C27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4D0-8748-4539-8397-0B4023D8F3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9432-72CE-4102-9414-E7AB4C06CB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2" name="Rectangle 46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7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48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49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50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1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2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09" name="Rectangle 53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4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5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2" name="Rectangle 56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7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58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15" name="Rectangle 59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0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1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18" name="Rectangle 62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3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8333-02F0-47E8-AB3D-34B7969471B4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8DA4-88CF-4E4B-9C60-6D9D2296C5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F987-3D39-4ADA-808A-1250ED0225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82B2-A744-4FCF-92E1-490F23B7CF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9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6ABA-E16B-40E4-A9AE-566F0FCF3E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A491-56A6-47E8-B124-091477FBDA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1ED-20C8-4F22-9466-F79E0F0680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hyperlink" Target="file:///C:/Documents%20and%20Settings/user/&#1056;&#1072;&#1073;&#1086;&#1095;&#1080;&#1081;%20&#1089;&#1090;&#1086;&#1083;/&#1059;&#1088;&#1086;&#1082;%2041.%20&#1057;&#1057;&#1057;&#1056;%20&#1074;%20&#1085;&#1072;&#1095;&#1072;&#1083;&#1077;%20&#1042;&#1090;&#1086;&#1088;&#1086;&#1081;%20&#1084;&#1080;&#1088;&#1086;&#1074;&#1086;&#1081;%20&#1074;&#1086;&#1081;&#1085;&#1099;%20(1939%20-%201941%20&#1075;&#1075;.)/&#1055;&#1045;&#1088;&#1074;&#1099;&#1081;%20&#1101;&#1090;&#1072;&#1087;%20&#1042;&#1090;&#1086;&#1088;&#1086;&#1081;%20&#1084;&#1080;&#1088;&#1086;&#1074;&#1086;&#1081;%20&#1074;&#1086;&#1081;&#1085;&#1099;.swf" TargetMode="Externa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&#1056;&#1072;&#1073;&#1086;&#1095;&#1080;&#1081;%20&#1089;&#1090;&#1086;&#1083;/&#1059;&#1088;&#1086;&#1082;%2041.%20&#1057;&#1057;&#1057;&#1056;%20&#1074;%20&#1085;&#1072;&#1095;&#1072;&#1083;&#1077;%20&#1042;&#1090;&#1086;&#1088;&#1086;&#1081;%20&#1084;&#1080;&#1088;&#1086;&#1074;&#1086;&#1081;%20&#1074;&#1086;&#1081;&#1085;&#1099;%20(1939%20-%201941%20&#1075;&#1075;.)/&#1087;&#1054;&#1058;&#1045;&#1056;&#1048;%202%20&#1084;&#1074;.swf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00"/>
                </a:solidFill>
                <a:latin typeface="Monotype Corsiva"/>
              </a:rPr>
              <a:t>СССР в начале Второй мировой войны</a:t>
            </a:r>
            <a:br>
              <a:rPr sz="6600"/>
            </a:br>
            <a:r>
              <a:rPr b="0" lang="ru-RU" sz="6600" spc="-1" strike="noStrike">
                <a:solidFill>
                  <a:srgbClr val="333300"/>
                </a:solidFill>
                <a:latin typeface="Monotype Corsiva"/>
              </a:rPr>
              <a:t> (1939 – 1941 гг.)</a:t>
            </a:r>
            <a:endParaRPr b="0" lang="en-US" sz="66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Monotype Corsiva"/>
              </a:rPr>
              <a:t>Периодизация Второй Мировой войны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01.09.1939 г.–21.06.1941 г.)– Начало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22.06.1941-18.11.1942) – Начальный этап Великой Отечественной войны. Вторжение Германии в СССР. Отступление советских войс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I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.11.1942 г. – 1943 г.) – Коренной перелом во Второй мировой и Великой Отечественной войн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V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44 г. – 09.05.1945 г.) – Разгром фашистской Германии. Окончание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V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09.05 – 02.09.1945 г.) – Разгром милитаристской Японии. Окончание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7" name="Управляющая кнопка: домой 1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533520" y="5562720"/>
            <a:ext cx="8076960" cy="114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939-1940 гг. – присоединение Литв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твии и Эстонии к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533520" y="609480"/>
            <a:ext cx="8076960" cy="1600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17 сентября 1939 года – Красная Армия взяла  под свой контрол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Западную Украину и Западную Белоруссию, а в ноябре они законодатель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были включены в состав Белорусской и Украинской ССС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533520" y="2438280"/>
            <a:ext cx="8076960" cy="152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30 ноября 1939 г. – 12 марта 1940 г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ветско-финляндская война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соединение к СССР Карельского перешей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северного побережья Ладожского оз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533520" y="4191120"/>
            <a:ext cx="8076960" cy="114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юнь 1940 г. – отторжение от Румы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ессарабии и Северной Буков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присоединение их к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Управляющая кнопка: домой 1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" descr=""/>
          <p:cNvPicPr/>
          <p:nvPr/>
        </p:nvPicPr>
        <p:blipFill>
          <a:blip r:embed="rId1"/>
          <a:stretch/>
        </p:blipFill>
        <p:spPr>
          <a:xfrm>
            <a:off x="506520" y="615960"/>
            <a:ext cx="8083440" cy="1219320"/>
          </a:xfrm>
          <a:prstGeom prst="rect">
            <a:avLst/>
          </a:prstGeom>
          <a:ln w="0">
            <a:noFill/>
          </a:ln>
        </p:spPr>
      </p:pic>
      <p:sp>
        <p:nvSpPr>
          <p:cNvPr id="804" name="TextBox 2"/>
          <p:cNvSpPr/>
          <p:nvPr/>
        </p:nvSpPr>
        <p:spPr>
          <a:xfrm>
            <a:off x="990720" y="1981080"/>
            <a:ext cx="752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. Стремление СССР избежать войны на два фронта: с Германией и Япони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3"/>
          <p:cNvSpPr/>
          <p:nvPr/>
        </p:nvSpPr>
        <p:spPr>
          <a:xfrm>
            <a:off x="990720" y="2895480"/>
            <a:ext cx="70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. Желание лидеров Англии и Франции направить Германию на восток против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4"/>
          <p:cNvSpPr/>
          <p:nvPr/>
        </p:nvSpPr>
        <p:spPr>
          <a:xfrm>
            <a:off x="990720" y="38862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. Безрезультативные англо – французско – советские переговоры в Моск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280800" y="487692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. Недоверие Сталина к Англии и Фра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Управляющая кнопка: домой 6"/>
          <p:cNvSpPr/>
          <p:nvPr/>
        </p:nvSpPr>
        <p:spPr>
          <a:xfrm>
            <a:off x="8513640" y="6172200"/>
            <a:ext cx="630360" cy="68580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85800"/>
              <a:gd name="textAreaBottom" fmla="*/ 645120 h 685800"/>
            </a:gdLst>
            <a:ahLst/>
            <a:rect l="textAreaLeft" t="textAreaTop" r="textAreaRight" b="textAreaBottom"/>
            <a:pathLst>
              <a:path w="21600" h="23499">
                <a:moveTo>
                  <a:pt x="0" y="0"/>
                </a:moveTo>
                <a:lnTo>
                  <a:pt x="21600" y="0"/>
                </a:lnTo>
                <a:lnTo>
                  <a:pt x="21600" y="23499"/>
                </a:lnTo>
                <a:lnTo>
                  <a:pt x="0" y="23499"/>
                </a:lnTo>
                <a:close/>
              </a:path>
              <a:path fill="lightenLess" w="21600" h="234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9">
                <a:moveTo>
                  <a:pt x="21600" y="0"/>
                </a:moveTo>
                <a:lnTo>
                  <a:pt x="21600" y="23499"/>
                </a:lnTo>
                <a:lnTo>
                  <a:pt x="20200" y="22099"/>
                </a:lnTo>
                <a:lnTo>
                  <a:pt x="20200" y="1400"/>
                </a:lnTo>
                <a:close/>
              </a:path>
              <a:path fill="darkenLess" w="21600" h="23499">
                <a:moveTo>
                  <a:pt x="21600" y="23499"/>
                </a:moveTo>
                <a:lnTo>
                  <a:pt x="0" y="23499"/>
                </a:lnTo>
                <a:lnTo>
                  <a:pt x="1400" y="22099"/>
                </a:lnTo>
                <a:lnTo>
                  <a:pt x="20200" y="22099"/>
                </a:lnTo>
                <a:close/>
              </a:path>
              <a:path fill="lighten" w="21600" h="23499">
                <a:moveTo>
                  <a:pt x="0" y="234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9"/>
                </a:lnTo>
                <a:close/>
              </a:path>
              <a:path fill="darken" w="21600" h="23499">
                <a:moveTo>
                  <a:pt x="10800" y="4786"/>
                </a:moveTo>
                <a:lnTo>
                  <a:pt x="13376" y="7397"/>
                </a:lnTo>
                <a:lnTo>
                  <a:pt x="13376" y="5657"/>
                </a:lnTo>
                <a:lnTo>
                  <a:pt x="15152" y="5657"/>
                </a:lnTo>
                <a:lnTo>
                  <a:pt x="15152" y="9173"/>
                </a:lnTo>
                <a:lnTo>
                  <a:pt x="17763" y="11749"/>
                </a:lnTo>
                <a:lnTo>
                  <a:pt x="16109" y="11749"/>
                </a:lnTo>
                <a:lnTo>
                  <a:pt x="16109" y="18939"/>
                </a:lnTo>
                <a:lnTo>
                  <a:pt x="5491" y="18939"/>
                </a:lnTo>
                <a:lnTo>
                  <a:pt x="5491" y="11749"/>
                </a:lnTo>
                <a:lnTo>
                  <a:pt x="3837" y="11749"/>
                </a:lnTo>
                <a:close/>
              </a:path>
              <a:path fill="darkenLess" w="21600" h="23499">
                <a:moveTo>
                  <a:pt x="13376" y="7397"/>
                </a:moveTo>
                <a:lnTo>
                  <a:pt x="13376" y="5657"/>
                </a:lnTo>
                <a:lnTo>
                  <a:pt x="15152" y="5657"/>
                </a:lnTo>
                <a:lnTo>
                  <a:pt x="15152" y="9173"/>
                </a:lnTo>
                <a:close/>
              </a:path>
              <a:path fill="darkenLess" w="21600" h="23499">
                <a:moveTo>
                  <a:pt x="9877" y="15248"/>
                </a:moveTo>
                <a:lnTo>
                  <a:pt x="11723" y="15248"/>
                </a:lnTo>
                <a:lnTo>
                  <a:pt x="11723" y="18939"/>
                </a:lnTo>
                <a:lnTo>
                  <a:pt x="16109" y="18939"/>
                </a:lnTo>
                <a:lnTo>
                  <a:pt x="16109" y="11749"/>
                </a:lnTo>
                <a:lnTo>
                  <a:pt x="5491" y="11749"/>
                </a:lnTo>
                <a:lnTo>
                  <a:pt x="5491" y="18939"/>
                </a:lnTo>
                <a:lnTo>
                  <a:pt x="9877" y="1893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Box 1"/>
          <p:cNvSpPr/>
          <p:nvPr/>
        </p:nvSpPr>
        <p:spPr>
          <a:xfrm>
            <a:off x="1313280" y="685800"/>
            <a:ext cx="62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крытие нов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2"/>
          <p:cNvSpPr/>
          <p:nvPr/>
        </p:nvSpPr>
        <p:spPr>
          <a:xfrm>
            <a:off x="-175320" y="15159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Задание: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полните задание №1, стр. 211 (учебни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4"/>
          <p:cNvSpPr/>
          <p:nvPr/>
        </p:nvSpPr>
        <p:spPr>
          <a:xfrm>
            <a:off x="723960" y="2065320"/>
            <a:ext cx="77724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Monotype Corsiva"/>
              </a:rPr>
              <a:t>Факт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астие СССР вместе с Германией в разделе Поль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местный советско – германский парад в Бре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ставка в Германию продовольствия, нефти, металл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етско – германский договор «О дружбе и границ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екращение в СССР антифашистской пропаг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1"/>
          <p:cNvSpPr/>
          <p:nvPr/>
        </p:nvSpPr>
        <p:spPr>
          <a:xfrm>
            <a:off x="1313280" y="685800"/>
            <a:ext cx="62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крытие нов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2"/>
          <p:cNvSpPr/>
          <p:nvPr/>
        </p:nvSpPr>
        <p:spPr>
          <a:xfrm>
            <a:off x="762120" y="1260360"/>
            <a:ext cx="76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Задание: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ставьте таблицу «Расширение границ и присоединение новых территорий к ССС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457200" y="2362320"/>
          <a:ext cx="8229600" cy="4002120"/>
        </p:xfrm>
        <a:graphic>
          <a:graphicData uri="http://schemas.openxmlformats.org/drawingml/2006/table">
            <a:tbl>
              <a:tblPr/>
              <a:tblGrid>
                <a:gridCol w="1066680"/>
                <a:gridCol w="2819520"/>
                <a:gridCol w="4343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исоединённая терр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пособ при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3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падная Украина и Западная 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вод советских войск на территории, отторгнутые Польшей у России в 192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арельский переше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оветско – финская война 1939 – 1940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ессарабия и Северная Бук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нужденная передача Румынией территорией, оккупированных ею в 191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ю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ибалтийски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 нажимом СССР ввод дополнительных контингентов советских войск , формирование  «народных правительств», подконтрольные выборы в парла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</a:tbl>
          </a:graphicData>
        </a:graphic>
      </p:graphicFrame>
      <p:sp>
        <p:nvSpPr>
          <p:cNvPr id="815" name="TextBox 5"/>
          <p:cNvSpPr/>
          <p:nvPr/>
        </p:nvSpPr>
        <p:spPr>
          <a:xfrm>
            <a:off x="457200" y="609480"/>
            <a:ext cx="8229600" cy="2288520"/>
          </a:xfrm>
          <a:prstGeom prst="rect">
            <a:avLst/>
          </a:prstGeom>
          <a:solidFill>
            <a:srgbClr val="ffffcc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Является  ли  присоединение  Карельского перешейка , Прибалтики и Молдавии  агрессией со стороны ССС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TextBox 1" descr=""/>
          <p:cNvPicPr/>
          <p:nvPr/>
        </p:nvPicPr>
        <p:blipFill>
          <a:blip r:embed="rId1"/>
          <a:stretch/>
        </p:blipFill>
        <p:spPr>
          <a:xfrm>
            <a:off x="2614680" y="628560"/>
            <a:ext cx="3402000" cy="871560"/>
          </a:xfrm>
          <a:prstGeom prst="rect">
            <a:avLst/>
          </a:prstGeom>
          <a:ln w="0">
            <a:noFill/>
          </a:ln>
        </p:spPr>
      </p:pic>
      <p:pic>
        <p:nvPicPr>
          <p:cNvPr id="817" name="TextBox 2" descr=""/>
          <p:cNvPicPr/>
          <p:nvPr/>
        </p:nvPicPr>
        <p:blipFill>
          <a:blip r:embed="rId2"/>
          <a:stretch/>
        </p:blipFill>
        <p:spPr>
          <a:xfrm>
            <a:off x="487440" y="1951200"/>
            <a:ext cx="8199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Monotype Corsiva"/>
              </a:rPr>
              <a:t>План уро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1" action="ppaction://hlinksldjump"/>
              </a:rPr>
              <a:t>Общие сведения в Второй мировой войн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2" action="ppaction://hlinksldjump"/>
              </a:rPr>
              <a:t>Планы крупнейших стран – участников войн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3" action="ppaction://hlinksldjump"/>
              </a:rPr>
              <a:t>Европа к  1939 г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4" action="ppaction://hlinksldjump"/>
              </a:rPr>
              <a:t>Театры военных действи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5" action="ppaction://hlinksldjump"/>
              </a:rPr>
              <a:t>Периодизация Второй мировой войн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зд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6"/>
              </a:rPr>
              <a:t>Основные события и результаты первого этапа войны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7" action="ppaction://hlinksldjump"/>
              </a:rPr>
              <a:t>(таблица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8" action="ppaction://hlinksldjump"/>
              </a:rPr>
              <a:t>Причины заключения  советско – германского догов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7.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9" action="ppaction://hlinksldjump"/>
              </a:rPr>
              <a:t>Открытие нового знания. Решение проблем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5"/>
          <p:cNvSpPr/>
          <p:nvPr/>
        </p:nvSpPr>
        <p:spPr>
          <a:xfrm>
            <a:off x="584280" y="712800"/>
            <a:ext cx="806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Monotype Corsiva"/>
              </a:rPr>
              <a:t>ОСОБЕННОСТИ ВТОРОЙ МИРОВ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Прямоугольник 1"/>
          <p:cNvSpPr/>
          <p:nvPr/>
        </p:nvSpPr>
        <p:spPr>
          <a:xfrm>
            <a:off x="584280" y="1295280"/>
            <a:ext cx="79502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. Вторая мировая война развернулась на огром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ерриториях Европы, Азии и Афр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2. Военные действия велись на Северном Ледовитом, Тих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тлантическом и Индийском  океанах и прилегающих к ни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ор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3. Продолжительность – 2194 д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4. В войне участвовали 62 государства ми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. Нейтральных государств –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6. Боевые действия проходили на территории 40 государ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4. В войну оказались втянуты 1 млрд. 700 млн. челов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¾  населения земного шар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. В армию было мобилизовано 110 млн. челов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в 1,5 раз больше, чем в Первую мировую войну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Monotype Corsiva"/>
                <a:hlinkClick r:id="rId1"/>
              </a:rPr>
              <a:t>Убитыми человечество потеряло более 60 млн. челов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7. Ущерб от разрушений и средства, потрач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 ведение войны, достигали 4 трлн. долла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Управляющая кнопка: домой 2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3"/>
          <p:cNvSpPr/>
          <p:nvPr/>
        </p:nvSpPr>
        <p:spPr>
          <a:xfrm>
            <a:off x="1547640" y="1844640"/>
            <a:ext cx="5759640" cy="40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В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сего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за 6 лет восстановила военную мощ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И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збегала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войны на два фро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Н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астроена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на реванш за поражение в  </a:t>
            </a:r>
            <a:r>
              <a:rPr b="1" lang="en-US" sz="3600" spc="-1" strike="noStrike">
                <a:solidFill>
                  <a:srgbClr val="ffcc66"/>
                </a:solidFill>
                <a:latin typeface="Monotype Corsiva"/>
              </a:rPr>
              <a:t>I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А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 её цель -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ировое господ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21" descr="Орёл фашистов пр"/>
          <p:cNvPicPr/>
          <p:nvPr/>
        </p:nvPicPr>
        <p:blipFill>
          <a:blip r:embed="rId1"/>
          <a:stretch/>
        </p:blipFill>
        <p:spPr>
          <a:xfrm>
            <a:off x="2514600" y="4535640"/>
            <a:ext cx="3456000" cy="232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4" descr="Изменение размера Г 5"/>
          <p:cNvPicPr/>
          <p:nvPr/>
        </p:nvPicPr>
        <p:blipFill>
          <a:blip r:embed="rId2"/>
          <a:stretch/>
        </p:blipFill>
        <p:spPr>
          <a:xfrm>
            <a:off x="250920" y="1916280"/>
            <a:ext cx="1338120" cy="49417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"/>
          <p:cNvSpPr/>
          <p:nvPr/>
        </p:nvSpPr>
        <p:spPr>
          <a:xfrm>
            <a:off x="1696320" y="457200"/>
            <a:ext cx="454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8000"/>
                </a:solidFill>
                <a:latin typeface="Monotype Corsiva"/>
              </a:rPr>
              <a:t>Герм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23" descr="Изменение размера Г 1"/>
          <p:cNvPicPr/>
          <p:nvPr/>
        </p:nvPicPr>
        <p:blipFill>
          <a:blip r:embed="rId3"/>
          <a:stretch/>
        </p:blipFill>
        <p:spPr>
          <a:xfrm>
            <a:off x="6781680" y="1560600"/>
            <a:ext cx="257832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449568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Monotype Corsiva"/>
              </a:rPr>
              <a:t>ЯПОНИЯ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52" name="Picture 14" descr="Я 3"/>
          <p:cNvPicPr/>
          <p:nvPr/>
        </p:nvPicPr>
        <p:blipFill>
          <a:blip r:embed="rId1"/>
          <a:stretch/>
        </p:blipFill>
        <p:spPr>
          <a:xfrm>
            <a:off x="609480" y="1235160"/>
            <a:ext cx="1590840" cy="5013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5" descr="Я 1"/>
          <p:cNvPicPr/>
          <p:nvPr/>
        </p:nvPicPr>
        <p:blipFill>
          <a:blip r:embed="rId2"/>
          <a:stretch/>
        </p:blipFill>
        <p:spPr>
          <a:xfrm>
            <a:off x="6659640" y="447840"/>
            <a:ext cx="2112840" cy="515592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16"/>
          <p:cNvSpPr/>
          <p:nvPr/>
        </p:nvSpPr>
        <p:spPr>
          <a:xfrm>
            <a:off x="1908000" y="3573360"/>
            <a:ext cx="475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7"/>
          <p:cNvSpPr/>
          <p:nvPr/>
        </p:nvSpPr>
        <p:spPr>
          <a:xfrm>
            <a:off x="1979640" y="1828800"/>
            <a:ext cx="5400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Т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радици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самура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О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кончи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модернизац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К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ораб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и авиацию подготов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И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спользова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камикадзе (смертников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О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 господстве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в Азии меч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Изменение размера США 5"/>
          <p:cNvPicPr/>
          <p:nvPr/>
        </p:nvPicPr>
        <p:blipFill>
          <a:blip r:embed="rId1"/>
          <a:stretch/>
        </p:blipFill>
        <p:spPr>
          <a:xfrm>
            <a:off x="6458040" y="2057400"/>
            <a:ext cx="2114640" cy="46530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524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Monotype Corsiva"/>
              </a:rPr>
              <a:t>АНГЛИЯ, ФРАНЦИЯ</a:t>
            </a:r>
            <a:r>
              <a:rPr b="1" lang="en-US" sz="2800" spc="-1" strike="noStrike">
                <a:solidFill>
                  <a:srgbClr val="808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808000"/>
                </a:solidFill>
                <a:latin typeface="Monotype Corsiva"/>
              </a:rPr>
              <a:t>И США  ЖЕЛАЛИ: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58" name="Picture 10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14"/>
          <p:cNvSpPr/>
          <p:nvPr/>
        </p:nvSpPr>
        <p:spPr>
          <a:xfrm>
            <a:off x="2057400" y="1600200"/>
            <a:ext cx="4896000" cy="5031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охран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свои коло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толкну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Германию и СССР в вой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н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режимы в Германии и ССС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Р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уковод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иром как преж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4" descr="Изменение размера В 6"/>
          <p:cNvPicPr/>
          <p:nvPr/>
        </p:nvPicPr>
        <p:blipFill>
          <a:blip r:embed="rId3"/>
          <a:stretch/>
        </p:blipFill>
        <p:spPr>
          <a:xfrm>
            <a:off x="457200" y="1600200"/>
            <a:ext cx="213840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 rot="20339400">
            <a:off x="591480" y="748440"/>
            <a:ext cx="1871640" cy="824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СССР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2362320" y="870120"/>
            <a:ext cx="5327640" cy="1410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есно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отрудничал с Герман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говори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 ней сферы влияния в Европ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Ж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да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захвата Гитлером Евро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Э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кспортирова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революцию в ходе вой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Picture 18" descr="Изменение размера СС 7"/>
          <p:cNvPicPr/>
          <p:nvPr/>
        </p:nvPicPr>
        <p:blipFill>
          <a:blip r:embed="rId1"/>
          <a:stretch/>
        </p:blipFill>
        <p:spPr>
          <a:xfrm rot="226800">
            <a:off x="7104240" y="2561760"/>
            <a:ext cx="1903320" cy="41403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" descr="Изменение размера СС4"/>
          <p:cNvPicPr/>
          <p:nvPr/>
        </p:nvPicPr>
        <p:blipFill>
          <a:blip r:embed="rId2"/>
          <a:stretch/>
        </p:blipFill>
        <p:spPr>
          <a:xfrm>
            <a:off x="250920" y="2421000"/>
            <a:ext cx="1603440" cy="42926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0" descr="Изменение размера СС 1"/>
          <p:cNvPicPr/>
          <p:nvPr/>
        </p:nvPicPr>
        <p:blipFill>
          <a:blip r:embed="rId3"/>
          <a:stretch/>
        </p:blipFill>
        <p:spPr>
          <a:xfrm>
            <a:off x="1692360" y="2205000"/>
            <a:ext cx="1774800" cy="45086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1" descr="Изменение размера СС 12"/>
          <p:cNvPicPr/>
          <p:nvPr/>
        </p:nvPicPr>
        <p:blipFill>
          <a:blip r:embed="rId4"/>
          <a:stretch/>
        </p:blipFill>
        <p:spPr>
          <a:xfrm>
            <a:off x="5292720" y="2276640"/>
            <a:ext cx="2001960" cy="4437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2" descr="Изменение размера Копия Герб СССР оо"/>
          <p:cNvPicPr/>
          <p:nvPr/>
        </p:nvPicPr>
        <p:blipFill>
          <a:blip r:embed="rId5"/>
          <a:stretch/>
        </p:blipFill>
        <p:spPr>
          <a:xfrm>
            <a:off x="3219480" y="3581280"/>
            <a:ext cx="2556000" cy="2657520"/>
          </a:xfrm>
          <a:prstGeom prst="rect">
            <a:avLst/>
          </a:prstGeom>
          <a:ln w="0">
            <a:noFill/>
          </a:ln>
        </p:spPr>
      </p:pic>
      <p:sp>
        <p:nvSpPr>
          <p:cNvPr id="768" name="Управляющая кнопка: домой 2"/>
          <p:cNvSpPr/>
          <p:nvPr/>
        </p:nvSpPr>
        <p:spPr>
          <a:xfrm>
            <a:off x="8458200" y="6238800"/>
            <a:ext cx="684360" cy="61920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19200"/>
              <a:gd name="textAreaBottom" fmla="*/ 579240 h 619200"/>
            </a:gdLst>
            <a:ahLst/>
            <a:rect l="textAreaLeft" t="textAreaTop" r="textAreaRight" b="textAreaBottom"/>
            <a:pathLst>
              <a:path w="23872" h="21600">
                <a:moveTo>
                  <a:pt x="0" y="0"/>
                </a:moveTo>
                <a:lnTo>
                  <a:pt x="23872" y="0"/>
                </a:lnTo>
                <a:lnTo>
                  <a:pt x="23872" y="21600"/>
                </a:lnTo>
                <a:lnTo>
                  <a:pt x="0" y="21600"/>
                </a:lnTo>
                <a:close/>
              </a:path>
              <a:path fill="lightenLess" w="23872" h="21600">
                <a:moveTo>
                  <a:pt x="0" y="0"/>
                </a:moveTo>
                <a:lnTo>
                  <a:pt x="23872" y="0"/>
                </a:lnTo>
                <a:lnTo>
                  <a:pt x="22472" y="1400"/>
                </a:lnTo>
                <a:lnTo>
                  <a:pt x="1400" y="1400"/>
                </a:lnTo>
                <a:close/>
              </a:path>
              <a:path fill="darken" w="23872" h="21600">
                <a:moveTo>
                  <a:pt x="23872" y="0"/>
                </a:moveTo>
                <a:lnTo>
                  <a:pt x="23872" y="21600"/>
                </a:lnTo>
                <a:lnTo>
                  <a:pt x="22472" y="20200"/>
                </a:lnTo>
                <a:lnTo>
                  <a:pt x="22472" y="1400"/>
                </a:lnTo>
                <a:close/>
              </a:path>
              <a:path fill="darkenLess" w="23872" h="21600">
                <a:moveTo>
                  <a:pt x="23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2" y="20200"/>
                </a:lnTo>
                <a:close/>
              </a:path>
              <a:path fill="lighten" w="23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2" h="21600">
                <a:moveTo>
                  <a:pt x="11936" y="3837"/>
                </a:moveTo>
                <a:lnTo>
                  <a:pt x="14512" y="6448"/>
                </a:lnTo>
                <a:lnTo>
                  <a:pt x="14512" y="4707"/>
                </a:lnTo>
                <a:lnTo>
                  <a:pt x="16288" y="4707"/>
                </a:lnTo>
                <a:lnTo>
                  <a:pt x="16288" y="8224"/>
                </a:lnTo>
                <a:lnTo>
                  <a:pt x="18899" y="10800"/>
                </a:lnTo>
                <a:lnTo>
                  <a:pt x="17245" y="10800"/>
                </a:lnTo>
                <a:lnTo>
                  <a:pt x="17245" y="17989"/>
                </a:lnTo>
                <a:lnTo>
                  <a:pt x="6627" y="17989"/>
                </a:lnTo>
                <a:lnTo>
                  <a:pt x="6627" y="10800"/>
                </a:lnTo>
                <a:lnTo>
                  <a:pt x="4973" y="10800"/>
                </a:lnTo>
                <a:close/>
              </a:path>
              <a:path fill="darkenLess" w="23872" h="21600">
                <a:moveTo>
                  <a:pt x="14512" y="6448"/>
                </a:moveTo>
                <a:lnTo>
                  <a:pt x="14512" y="4707"/>
                </a:lnTo>
                <a:lnTo>
                  <a:pt x="16288" y="4707"/>
                </a:lnTo>
                <a:lnTo>
                  <a:pt x="16288" y="8224"/>
                </a:lnTo>
                <a:close/>
              </a:path>
              <a:path fill="darkenLess" w="23872" h="21600">
                <a:moveTo>
                  <a:pt x="11013" y="14299"/>
                </a:moveTo>
                <a:lnTo>
                  <a:pt x="12858" y="14299"/>
                </a:lnTo>
                <a:lnTo>
                  <a:pt x="12858" y="17989"/>
                </a:lnTo>
                <a:lnTo>
                  <a:pt x="17245" y="17989"/>
                </a:lnTo>
                <a:lnTo>
                  <a:pt x="17245" y="10800"/>
                </a:lnTo>
                <a:lnTo>
                  <a:pt x="6627" y="10800"/>
                </a:lnTo>
                <a:lnTo>
                  <a:pt x="6627" y="17989"/>
                </a:lnTo>
                <a:lnTo>
                  <a:pt x="11013" y="17989"/>
                </a:lnTo>
                <a:close/>
              </a:path>
            </a:pathLst>
          </a:custGeom>
          <a:solidFill>
            <a:srgbClr val="ffffe2"/>
          </a:solidFill>
          <a:ln w="381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6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5" descr="Изменение размера к 1941 г Европа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3527640" cy="51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2200"/>
                </a:solidFill>
                <a:latin typeface="Arial"/>
              </a:rPr>
              <a:t>ЕВРОПА  В 1941 г.</a:t>
            </a:r>
            <a:endParaRPr b="0" lang="en-US" sz="28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772" name="Picture 4" descr="J0354376"/>
          <p:cNvPicPr/>
          <p:nvPr/>
        </p:nvPicPr>
        <p:blipFill>
          <a:blip r:embed="rId2"/>
          <a:stretch/>
        </p:blipFill>
        <p:spPr>
          <a:xfrm>
            <a:off x="8381880" y="614376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Ландшафты мира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711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5640" cy="39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ТЕАТРЫ  БОВЫХ  ДЕЙСТВИЙ  ВТОРОЙ  МИРОВОЙ  ВОЙНЫ</a:t>
            </a:r>
            <a:endParaRPr b="0" lang="en-US" sz="20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76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777" name="AutoShape 6"/>
          <p:cNvSpPr/>
          <p:nvPr/>
        </p:nvSpPr>
        <p:spPr>
          <a:xfrm>
            <a:off x="1476360" y="2060640"/>
            <a:ext cx="1295280" cy="12240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 rot="20128200">
            <a:off x="2356920" y="3325680"/>
            <a:ext cx="935280" cy="144144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>
            <a:off x="5508720" y="2492280"/>
            <a:ext cx="1295280" cy="194472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179280" y="2133720"/>
            <a:ext cx="1224000" cy="15112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0"/>
          <p:cNvSpPr/>
          <p:nvPr/>
        </p:nvSpPr>
        <p:spPr>
          <a:xfrm rot="1615200">
            <a:off x="6714720" y="2487600"/>
            <a:ext cx="2303640" cy="31845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1"/>
          <p:cNvSpPr/>
          <p:nvPr/>
        </p:nvSpPr>
        <p:spPr>
          <a:xfrm rot="18100800">
            <a:off x="2338200" y="1387800"/>
            <a:ext cx="1487520" cy="18586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Picture 12" descr="J0178298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61128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3" descr="J0178299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627280" y="3860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4" descr="J0178300"/>
          <p:cNvPicPr/>
          <p:nvPr/>
        </p:nvPicPr>
        <p:blipFill>
          <a:blip r:embed="rId5"/>
          <a:stretch/>
        </p:blipFill>
        <p:spPr>
          <a:xfrm>
            <a:off x="5940360" y="321300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5" descr="J0178301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843280" y="21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6" descr="J0178302"/>
          <p:cNvPicPr/>
          <p:nvPr/>
        </p:nvPicPr>
        <p:blipFill>
          <a:blip r:embed="rId7">
            <a:lum bright="-18000"/>
          </a:blip>
          <a:stretch/>
        </p:blipFill>
        <p:spPr>
          <a:xfrm>
            <a:off x="7524720" y="3716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7" descr="J0178297"/>
          <p:cNvPicPr/>
          <p:nvPr/>
        </p:nvPicPr>
        <p:blipFill>
          <a:blip r:embed="rId8">
            <a:lum bright="-24000"/>
          </a:blip>
          <a:stretch/>
        </p:blipFill>
        <p:spPr>
          <a:xfrm>
            <a:off x="1979640" y="2492280"/>
            <a:ext cx="358920" cy="360360"/>
          </a:xfrm>
          <a:prstGeom prst="rect">
            <a:avLst/>
          </a:prstGeom>
          <a:ln w="0">
            <a:noFill/>
          </a:ln>
        </p:spPr>
      </p:pic>
      <p:sp>
        <p:nvSpPr>
          <p:cNvPr id="789" name="WordArt 18"/>
          <p:cNvSpPr txBox="1"/>
          <p:nvPr/>
        </p:nvSpPr>
        <p:spPr>
          <a:xfrm>
            <a:off x="3708360" y="156384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ТОЧНО-ЕВРОПЕЙ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0" name="WordArt 19"/>
          <p:cNvSpPr txBox="1"/>
          <p:nvPr/>
        </p:nvSpPr>
        <p:spPr>
          <a:xfrm>
            <a:off x="176040" y="3575160"/>
            <a:ext cx="15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ЛАН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WordArt 20"/>
          <p:cNvSpPr txBox="1"/>
          <p:nvPr/>
        </p:nvSpPr>
        <p:spPr>
          <a:xfrm>
            <a:off x="179280" y="1628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ЕЙ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2" name="WordArt 21"/>
          <p:cNvSpPr txBox="1"/>
          <p:nvPr/>
        </p:nvSpPr>
        <p:spPr>
          <a:xfrm>
            <a:off x="826920" y="4724280"/>
            <a:ext cx="2086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РИКА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3" name="WordArt 22"/>
          <p:cNvSpPr txBox="1"/>
          <p:nvPr/>
        </p:nvSpPr>
        <p:spPr>
          <a:xfrm>
            <a:off x="5724360" y="5445000"/>
            <a:ext cx="23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ХООКЕА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WordArt 23"/>
          <p:cNvSpPr txBox="1"/>
          <p:nvPr/>
        </p:nvSpPr>
        <p:spPr>
          <a:xfrm>
            <a:off x="4716360" y="4437000"/>
            <a:ext cx="16542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ИАТ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.П. Офёркина</cp:lastModifiedBy>
  <dcterms:modified xsi:type="dcterms:W3CDTF">2012-11-21T17:53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