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0.png" ContentType="image/png"/>
  <Override PartName="/ppt/media/image18.gif" ContentType="image/gi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5.png" ContentType="image/pn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dt" idx="46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ftr" idx="47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 type="sldNum" idx="48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A669-E567-4101-982A-EF47ABE152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1A9A-2096-4677-97DF-CFCA1B9BD0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Номер слайда 3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C97E-C777-4FE2-AEBD-32764D5300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7F47C-0B2A-4BB2-A398-C2E0B2AF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916F2-1C91-443E-A373-B97832C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1925C-C2AE-404E-A923-56652EA1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B7254-3784-4F1B-9DA1-FE9B58FF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9A984-4D27-4478-B4B0-C05029B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468B0-12A1-440F-AD9B-4086238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9D5B8-04E0-4587-90D6-BF8B12B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430D6-F53B-4B72-8134-3593EF2A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BA8B6-4976-495C-B9A2-D31DC3F4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CCA78-61F6-4BFD-831E-35CFA571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C4A54-78EF-42CF-91E1-FFC96721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490B0-DFD4-4D04-B37B-EF62FD70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15692-BC80-4141-858B-2A0D0522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35B16-BE9D-458D-8910-C566075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19D35-5A5E-4CAA-BB8B-20E2A63B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4EDCB-7DAF-4752-A7E9-E7B61E47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A2990-BD00-492D-80A3-52C82BE0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943D1-FA17-4F1E-AA4C-EFB90F3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BC2BD-6B07-4FE2-83F6-913FC89E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64DD0-AA06-430C-88E7-C54E4B2B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C93ED-C656-4043-A86B-A42EFF3F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4897D-9176-479F-838C-6DE1E7B6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47AF7-E181-437E-8CE8-73D4977E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C6EFC-5879-4E93-B7D8-2CB0ED9A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2BA08-CDE8-4302-A23D-2C267155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7435C-3949-4609-BA0A-7165A6CD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5F3F8-CF82-4D4D-8ACD-A045E40F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DE4B0-955F-4BF9-83AA-252381C5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F4803-238C-41B9-819A-EC280878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CD82B-F328-472B-AD81-CEAE09FE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7BC-3CD2-4D99-93B6-4F8419B0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CF8AA-2514-4A7F-97BB-484905A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329E1-8296-4680-BD84-6A9E3486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78B1E-8AE1-425F-A4A6-DB1A0EFB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A957F-9B70-493E-8542-84F36A5A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8A1D4-DFE4-4A08-BA1E-C52F657C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F75FE-4C2B-45A4-80F4-6FA12439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06E6E-9601-45D3-BCE2-E52BFEAA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D3856-67C0-4CB2-8F0C-3123E889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6A2FE-7A43-4F83-8B4A-9082CDDE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9019F-837F-4C3E-8027-EC6CD4A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5C2-4568-4CEA-8EE2-2FBEF0A7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98E83-4781-4801-97A0-C70C7389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336CA-3EDB-4340-BA8C-75A7C882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8837D-9C60-45E6-88FF-85A6C51A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A30BA-33C4-44AC-99FF-87302D89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CB0BD-DBE5-4EEE-8185-108DE147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52AA9-4086-4D0F-8F47-BA988C8F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28145-71E6-445C-942B-D9D9C9C3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AA6C4-BDCA-4217-BA96-1C3704FC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71B7B-3E39-49C6-81D1-669000FE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62B7C-487C-4D5B-8519-09E4D7E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B7A-0411-40C1-A5DE-84A524D1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08208-E466-4C3E-9BA4-ED7D1327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4E7B3-37A5-424A-B6B1-09025504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922FB-8502-482B-ADA6-8CE6ABA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50448-94D8-453D-8D2F-1F238715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23047-5702-4E91-9204-41231F3A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79A2E-834D-4D2E-AC65-D7B28438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4DBF4-E5E5-4B82-8DFD-56383D2E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E20D5-D9CB-42F3-BD17-7667362E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B5285-4FFE-4E0A-9838-1A0D7AA7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23858-5F2B-4FE2-B30A-4820FA93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FA5-2EFC-4795-B22E-97090C1C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68CF9-D0E2-4A17-BA75-205B514D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87219-D626-45C1-A829-5D748452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58582-16EF-4E29-9460-F2ED49F6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CD018-D5F3-460E-883D-39D424F9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09799-7247-4B1A-A8E5-4E583BB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9A6D0-6A7E-4B4A-A49B-1D997ED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51790-5D33-4510-AA44-4941177F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07879-CC3C-4C09-B4DD-323865BE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A8E2E-AFBA-418C-847A-CACC4E40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05E49-D7F5-477A-B6F5-6F02C1EE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24C-0C47-4C85-8E56-5549BAFC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7B325-E9A4-44F1-AF40-97A5AC15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7A802-5747-4D61-9B19-05DEFBF7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13DD2-45CE-4477-8754-9370FD7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2C490-D4F2-44EC-952C-59404BBA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4B289-8527-4EA0-B456-D6F7FB62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86E81-4C95-43D6-AC03-A3C36675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7636B-8EDF-463C-8BE0-D86619F7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1EE4C-8694-427D-A7E1-C18B253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E6274-1D3C-4250-9F48-72EB114E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134AD-F24E-4D08-8F5A-ADB54668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926-DE5C-4B88-9C43-6399462D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9D9B0-2AF9-4133-8285-5EF5996A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2FDF5-02B5-4303-B301-8C9220A7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04DB6-6EC5-4704-ABA5-BEBA5102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0FAFB-234E-49EC-AF96-EF5C727E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CCD72-2D6C-480B-9337-08F52FB2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26735-5057-487D-B54F-EECD6985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E8DE8-F3F6-4173-A612-25837C9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6AE5C-7420-4910-B954-6239283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9AF88-B9B2-43A7-AD2D-CBEF7BBE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B05BD-2953-4CDB-AFEE-A7E90CD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22F-141C-4DE0-B794-12D6FD9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01269-D1D5-4F51-9B08-91459782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21CB6-1DEE-42C6-99EE-EB21788D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283C2-7F94-4802-8FAE-EFDDA647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4A8-2185-4C34-93ED-C18D0A58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E15-FC48-48A2-9879-6F1C1532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678-CE74-45AF-9F0B-0F0975ED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574-B21E-4A68-A253-E3CE9979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C25-8D39-416E-95BA-C51A2BFB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9BAB-6BDE-44EB-B62E-5D1FB175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7B73-3C13-41F0-A527-2C350CEE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03A8-830A-46F7-AC88-F11C3FC7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876C-E490-4885-840D-F01E1425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4868-9656-4FB6-9D04-2F03BE9C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DDF9-6EF2-417F-920C-AC3B7E4A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E2F8-9A7E-4CF3-85C9-CCF0132C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2299-2EE2-4871-A8CA-CD78D433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A605-F9C4-47A1-AE7A-4E4531F6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08DA-6D2F-4C72-BD07-AB1C7483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43B0-9B1E-4847-BAFA-65574342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543C-6A96-4BB7-8B6D-08B3934F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280E-0075-40EB-B01E-E2E8A199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DBBD-0097-48A8-9951-D8AD0034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9F9F-6FBA-4DED-96AD-4130E19D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3222-618F-4A6E-B9FA-48D25F9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D75B-9E32-4FEE-BA1F-8F7244C8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B143-2E92-452C-A353-640694E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443D-3016-42FB-A87E-F589D262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052F1-A76D-4D01-BFA3-D02E5237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B292-C8D1-4220-B8F2-8AE48C6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D4B0-7D48-4A8C-B2AF-0E15941B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F3D3-BE98-41E0-8F5A-E7ACC52C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E051-ACD7-49F2-9B1A-09B82095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87C36-1DFD-444C-8B9E-1F5F5D81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8361-65A1-4C4B-917A-06CD6243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43C4A-ECB2-4364-8732-D1656D89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0FA1-F301-4300-9A91-A9B5023B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23BB-80D2-4594-BACB-585CFC4B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21AD-5E02-4C00-A6BC-16876A67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3056-623A-403B-90A5-48ADA17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CB839-710C-4A93-9D63-52F3620B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B470-27A1-4D05-85C4-E18839BB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6326-9232-4304-9E3D-D7D5BABD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65B2-82D5-47CB-BEFE-604F3FF4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53E7B-A410-49F3-A7BD-61C2881A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F731E-8A04-43ED-B39C-988C138A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97D55-0EA2-40AF-8963-422C48E8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AC4C6-23E8-4226-8C29-D791A18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2687-8A04-42FC-95BE-59C5464D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5D54A-6FA4-4D4D-9A79-0E70EB60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B146F-5CD4-40AD-B085-F62B0B91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3555-D590-47A2-B646-06DDACA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27600-9804-4FCE-8E07-BFD58EE8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73368-1E20-4393-8DF7-8EED8452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9FAE9-90F8-4055-B221-07D2BE4E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851C-6037-479A-8F5E-130EC03C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F58E8-D33C-4E2E-9165-EFD510C0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5ED44-3F7C-4FAD-80F8-AB59B583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52286-E228-4BCC-8CF6-3A2CDE79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1880-E80F-4FB4-81C6-C976145E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0723-C543-4267-B8EC-D73379DB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44780-E85B-47A3-AA3D-26917D26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340BB-8187-493E-A4AD-24E2693B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4693-435C-463B-BC69-AF9CE6D0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033CA-9962-473F-B6F5-064B4D4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AE35-0A52-4398-8513-09474B6D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6B7D3-7BC4-4A61-B845-AED2AB2D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91CE1-4CEA-4A55-B5DB-676EC018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9ED8-0677-459F-9A90-13909E3A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8F4C1-77BA-4487-AD4A-E92FE983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3D360-839E-4CE7-A389-394A290D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77B3-D02F-4EB1-8E35-FC8DA3D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5906D-B3A4-4554-B298-2F65C1FE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4F551-69D0-4482-875F-AE3141AD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039BB-D9F1-4DFC-B876-91FEBAFF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8539D-1BDE-49C7-8F3B-A29CB36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8ABB-84A7-4087-8C93-7B88766F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5B31C-0F5C-42D5-AAD3-A3AFADC3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8F489-6328-4750-BAA5-C11AF185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20481-2BD2-485B-91D3-0A76A6E2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5227-05F2-47AA-B7E7-FB33DBF8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9D936-C938-4D16-A271-155AF161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97F48-547C-4CB0-9051-0A68B3B4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DACE1-119A-4666-9CCC-6C5488DE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46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7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48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49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50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51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52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53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54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55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56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57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58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59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60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61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62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63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AFE9-575F-40CE-95C0-5A5ED7EE26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C49C-9950-424E-95BF-C5C05E2C72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45A4-9188-40F7-A4BB-B62E097DEC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5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64ED-D8D9-4CED-A7F3-C02C730F29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282D-E307-43CD-A3D4-F568E079B1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4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8AD9-7DC6-4175-8FD9-63AA7189C6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9100-C14A-495E-925E-7C6A6BA805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2FB0-5762-4204-8E04-6F9E64C65E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2" name="Rectangle 46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7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48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49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50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51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2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09" name="Rectangle 53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4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5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2" name="Rectangle 56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7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58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15" name="Rectangle 59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0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1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18" name="Rectangle 62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3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FC7E-A8BB-40C8-94CC-8BCC52D91A85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416E-76FB-4028-86AC-41223FE5CB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C196-70DC-4594-AD39-07BACCE0EA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4A4F-B5FC-4A79-8DF8-7F7EB9818E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9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118F-332E-4536-96F4-7BB93D3E72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6FE2-4A8D-4BCB-AA8D-26CD89EC0C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4E1B-969C-4A4D-BACE-BDB1E02E34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hyperlink" Target="file:///C:/Documents%20and%20Settings/user/&#1056;&#1072;&#1073;&#1086;&#1095;&#1080;&#1081;%20&#1089;&#1090;&#1086;&#1083;/&#1059;&#1088;&#1086;&#1082;%2041.%20&#1057;&#1057;&#1057;&#1056;%20&#1074;%20&#1085;&#1072;&#1095;&#1072;&#1083;&#1077;%20&#1042;&#1090;&#1086;&#1088;&#1086;&#1081;%20&#1084;&#1080;&#1088;&#1086;&#1074;&#1086;&#1081;%20&#1074;&#1086;&#1081;&#1085;&#1099;%20(1939%20-%201941%20&#1075;&#1075;.)/&#1055;&#1045;&#1088;&#1074;&#1099;&#1081;%20&#1101;&#1090;&#1072;&#1087;%20&#1042;&#1090;&#1086;&#1088;&#1086;&#1081;%20&#1084;&#1080;&#1088;&#1086;&#1074;&#1086;&#1081;%20&#1074;&#1086;&#1081;&#1085;&#1099;.swf" TargetMode="Externa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ser/&#1056;&#1072;&#1073;&#1086;&#1095;&#1080;&#1081;%20&#1089;&#1090;&#1086;&#1083;/&#1059;&#1088;&#1086;&#1082;%2041.%20&#1057;&#1057;&#1057;&#1056;%20&#1074;%20&#1085;&#1072;&#1095;&#1072;&#1083;&#1077;%20&#1042;&#1090;&#1086;&#1088;&#1086;&#1081;%20&#1084;&#1080;&#1088;&#1086;&#1074;&#1086;&#1081;%20&#1074;&#1086;&#1081;&#1085;&#1099;%20(1939%20-%201941%20&#1075;&#1075;.)/&#1087;&#1054;&#1058;&#1045;&#1056;&#1048;%202%20&#1084;&#1074;.swf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00"/>
                </a:solidFill>
                <a:latin typeface="Monotype Corsiva"/>
              </a:rPr>
              <a:t>СССР в начале Второй мировой войны</a:t>
            </a:r>
            <a:br>
              <a:rPr sz="6600"/>
            </a:br>
            <a:r>
              <a:rPr b="0" lang="ru-RU" sz="6600" spc="-1" strike="noStrike">
                <a:solidFill>
                  <a:srgbClr val="333300"/>
                </a:solidFill>
                <a:latin typeface="Monotype Corsiva"/>
              </a:rPr>
              <a:t> (1939 – 1941 гг.)</a:t>
            </a:r>
            <a:endParaRPr b="0" lang="en-US" sz="66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7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Monotype Corsiva"/>
              </a:rPr>
              <a:t>Периодизация Второй Мировой войны</a:t>
            </a: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01.09.1939 г.–21.06.1941 г.)– Начало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I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22.06.1941-18.11.1942) – Начальный этап Великой Отечественной войны. Вторжение Германии в СССР. Отступление советских войс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II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19.11.1942 г. – 1943 г.) – Коренной перелом во Второй мировой и Великой Отечественной войн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V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1944 г. – 09.05.1945 г.) – Разгром фашистской Германии. Окончание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V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09.05 – 02.09.1945 г.) – Разгром милитаристской Японии. Окончание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7" name="Управляющая кнопка: домой 1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533520" y="5562720"/>
            <a:ext cx="8076960" cy="1143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939-1940 гг. – присоединение Литв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твии и Эстонии к СС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533520" y="609480"/>
            <a:ext cx="8076960" cy="1600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17 сентября 1939 года – Красная Армия взяла  под свой контрол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Западную Украину и Западную Белоруссию, а в ноябре они законодатель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были включены в состав Белорусской и Украинской ССС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533520" y="2438280"/>
            <a:ext cx="8076960" cy="152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30 ноября 1939 г. – 12 марта 1940 г.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ветско-финляндская война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соединение к СССР Карельского перешей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северного побережья Ладожского оз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533520" y="4191120"/>
            <a:ext cx="8076960" cy="1143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юнь 1940 г. – отторжение от Румы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Бессарабии и Северной Буков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присоединение их к СС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Управляющая кнопка: домой 1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" descr=""/>
          <p:cNvPicPr/>
          <p:nvPr/>
        </p:nvPicPr>
        <p:blipFill>
          <a:blip r:embed="rId1"/>
          <a:stretch/>
        </p:blipFill>
        <p:spPr>
          <a:xfrm>
            <a:off x="506520" y="615960"/>
            <a:ext cx="8083440" cy="1219320"/>
          </a:xfrm>
          <a:prstGeom prst="rect">
            <a:avLst/>
          </a:prstGeom>
          <a:ln w="0">
            <a:noFill/>
          </a:ln>
        </p:spPr>
      </p:pic>
      <p:sp>
        <p:nvSpPr>
          <p:cNvPr id="804" name="TextBox 2"/>
          <p:cNvSpPr/>
          <p:nvPr/>
        </p:nvSpPr>
        <p:spPr>
          <a:xfrm>
            <a:off x="990720" y="1981080"/>
            <a:ext cx="752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. Стремление СССР избежать войны на два фронта: с Германией и Япони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3"/>
          <p:cNvSpPr/>
          <p:nvPr/>
        </p:nvSpPr>
        <p:spPr>
          <a:xfrm>
            <a:off x="990720" y="2895480"/>
            <a:ext cx="70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. Желание лидеров Англии и Франции направить Германию на восток против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Box 4"/>
          <p:cNvSpPr/>
          <p:nvPr/>
        </p:nvSpPr>
        <p:spPr>
          <a:xfrm>
            <a:off x="990720" y="38862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3. Безрезультативные англо – французско – советские переговоры в Моск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5"/>
          <p:cNvSpPr/>
          <p:nvPr/>
        </p:nvSpPr>
        <p:spPr>
          <a:xfrm>
            <a:off x="280800" y="4876920"/>
            <a:ext cx="78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4. Недоверие Сталина к Англии и Фра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Управляющая кнопка: домой 6"/>
          <p:cNvSpPr/>
          <p:nvPr/>
        </p:nvSpPr>
        <p:spPr>
          <a:xfrm>
            <a:off x="8513640" y="6172200"/>
            <a:ext cx="630360" cy="68580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85800"/>
              <a:gd name="textAreaBottom" fmla="*/ 645120 h 685800"/>
            </a:gdLst>
            <a:ahLst/>
            <a:rect l="textAreaLeft" t="textAreaTop" r="textAreaRight" b="textAreaBottom"/>
            <a:pathLst>
              <a:path w="21600" h="23499">
                <a:moveTo>
                  <a:pt x="0" y="0"/>
                </a:moveTo>
                <a:lnTo>
                  <a:pt x="21600" y="0"/>
                </a:lnTo>
                <a:lnTo>
                  <a:pt x="21600" y="23499"/>
                </a:lnTo>
                <a:lnTo>
                  <a:pt x="0" y="23499"/>
                </a:lnTo>
                <a:close/>
              </a:path>
              <a:path fill="lightenLess" w="21600" h="234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9">
                <a:moveTo>
                  <a:pt x="21600" y="0"/>
                </a:moveTo>
                <a:lnTo>
                  <a:pt x="21600" y="23499"/>
                </a:lnTo>
                <a:lnTo>
                  <a:pt x="20200" y="22099"/>
                </a:lnTo>
                <a:lnTo>
                  <a:pt x="20200" y="1400"/>
                </a:lnTo>
                <a:close/>
              </a:path>
              <a:path fill="darkenLess" w="21600" h="23499">
                <a:moveTo>
                  <a:pt x="21600" y="23499"/>
                </a:moveTo>
                <a:lnTo>
                  <a:pt x="0" y="23499"/>
                </a:lnTo>
                <a:lnTo>
                  <a:pt x="1400" y="22099"/>
                </a:lnTo>
                <a:lnTo>
                  <a:pt x="20200" y="22099"/>
                </a:lnTo>
                <a:close/>
              </a:path>
              <a:path fill="lighten" w="21600" h="23499">
                <a:moveTo>
                  <a:pt x="0" y="234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9"/>
                </a:lnTo>
                <a:close/>
              </a:path>
              <a:path fill="darken" w="21600" h="23499">
                <a:moveTo>
                  <a:pt x="10800" y="4786"/>
                </a:moveTo>
                <a:lnTo>
                  <a:pt x="13376" y="7397"/>
                </a:lnTo>
                <a:lnTo>
                  <a:pt x="13376" y="5657"/>
                </a:lnTo>
                <a:lnTo>
                  <a:pt x="15152" y="5657"/>
                </a:lnTo>
                <a:lnTo>
                  <a:pt x="15152" y="9173"/>
                </a:lnTo>
                <a:lnTo>
                  <a:pt x="17763" y="11749"/>
                </a:lnTo>
                <a:lnTo>
                  <a:pt x="16109" y="11749"/>
                </a:lnTo>
                <a:lnTo>
                  <a:pt x="16109" y="18939"/>
                </a:lnTo>
                <a:lnTo>
                  <a:pt x="5491" y="18939"/>
                </a:lnTo>
                <a:lnTo>
                  <a:pt x="5491" y="11749"/>
                </a:lnTo>
                <a:lnTo>
                  <a:pt x="3837" y="11749"/>
                </a:lnTo>
                <a:close/>
              </a:path>
              <a:path fill="darkenLess" w="21600" h="23499">
                <a:moveTo>
                  <a:pt x="13376" y="7397"/>
                </a:moveTo>
                <a:lnTo>
                  <a:pt x="13376" y="5657"/>
                </a:lnTo>
                <a:lnTo>
                  <a:pt x="15152" y="5657"/>
                </a:lnTo>
                <a:lnTo>
                  <a:pt x="15152" y="9173"/>
                </a:lnTo>
                <a:close/>
              </a:path>
              <a:path fill="darkenLess" w="21600" h="23499">
                <a:moveTo>
                  <a:pt x="9877" y="15248"/>
                </a:moveTo>
                <a:lnTo>
                  <a:pt x="11723" y="15248"/>
                </a:lnTo>
                <a:lnTo>
                  <a:pt x="11723" y="18939"/>
                </a:lnTo>
                <a:lnTo>
                  <a:pt x="16109" y="18939"/>
                </a:lnTo>
                <a:lnTo>
                  <a:pt x="16109" y="11749"/>
                </a:lnTo>
                <a:lnTo>
                  <a:pt x="5491" y="11749"/>
                </a:lnTo>
                <a:lnTo>
                  <a:pt x="5491" y="18939"/>
                </a:lnTo>
                <a:lnTo>
                  <a:pt x="9877" y="1893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Box 1"/>
          <p:cNvSpPr/>
          <p:nvPr/>
        </p:nvSpPr>
        <p:spPr>
          <a:xfrm>
            <a:off x="1313280" y="685800"/>
            <a:ext cx="62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крытие нового зн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2"/>
          <p:cNvSpPr/>
          <p:nvPr/>
        </p:nvSpPr>
        <p:spPr>
          <a:xfrm>
            <a:off x="-175320" y="15159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Задание: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полните задание №1, стр. 211 (учебни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4"/>
          <p:cNvSpPr/>
          <p:nvPr/>
        </p:nvSpPr>
        <p:spPr>
          <a:xfrm>
            <a:off x="723960" y="2065320"/>
            <a:ext cx="77724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Monotype Corsiva"/>
              </a:rPr>
              <a:t>Факты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астие СССР вместе с Германией в разделе Поль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местный советско – германский парад в Бре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ставка в Германию продовольствия, нефти, металл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етско – германский договор «О дружбе и границ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екращение в СССР антифашистской пропаг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1"/>
          <p:cNvSpPr/>
          <p:nvPr/>
        </p:nvSpPr>
        <p:spPr>
          <a:xfrm>
            <a:off x="1313280" y="685800"/>
            <a:ext cx="62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крытие нового зн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2"/>
          <p:cNvSpPr/>
          <p:nvPr/>
        </p:nvSpPr>
        <p:spPr>
          <a:xfrm>
            <a:off x="762120" y="1260360"/>
            <a:ext cx="76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Задание: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ставьте таблицу «Расширение границ и присоединение новых территорий к ССС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457200" y="2362320"/>
          <a:ext cx="8229600" cy="4002120"/>
        </p:xfrm>
        <a:graphic>
          <a:graphicData uri="http://schemas.openxmlformats.org/drawingml/2006/table">
            <a:tbl>
              <a:tblPr/>
              <a:tblGrid>
                <a:gridCol w="1066680"/>
                <a:gridCol w="2819520"/>
                <a:gridCol w="4343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исоединённая терр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пособ при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3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падная Украина и Западная 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вод советских войск на территории, отторгнутые Польшей у России в 192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4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Карельский переше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оветско – финская война 1939 – 1940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4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ессарабия и Северная Буко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нужденная передача Румынией территорией, оккупированных ею в 191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ю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4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ибалтийски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 нажимом СССР ввод дополнительных контингентов советских войск , формирование  «народных правительств», подконтрольные выборы в парла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</a:tr>
            </a:tbl>
          </a:graphicData>
        </a:graphic>
      </p:graphicFrame>
      <p:sp>
        <p:nvSpPr>
          <p:cNvPr id="815" name="TextBox 5"/>
          <p:cNvSpPr/>
          <p:nvPr/>
        </p:nvSpPr>
        <p:spPr>
          <a:xfrm>
            <a:off x="457200" y="609480"/>
            <a:ext cx="8229600" cy="2288520"/>
          </a:xfrm>
          <a:prstGeom prst="rect">
            <a:avLst/>
          </a:prstGeom>
          <a:solidFill>
            <a:srgbClr val="ffffcc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Является  ли  присоединение  Карельского перешейка , Прибалтики и Молдавии  агрессией со стороны ССС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TextBox 1" descr=""/>
          <p:cNvPicPr/>
          <p:nvPr/>
        </p:nvPicPr>
        <p:blipFill>
          <a:blip r:embed="rId1"/>
          <a:stretch/>
        </p:blipFill>
        <p:spPr>
          <a:xfrm>
            <a:off x="2614680" y="628560"/>
            <a:ext cx="3402000" cy="871560"/>
          </a:xfrm>
          <a:prstGeom prst="rect">
            <a:avLst/>
          </a:prstGeom>
          <a:ln w="0">
            <a:noFill/>
          </a:ln>
        </p:spPr>
      </p:pic>
      <p:pic>
        <p:nvPicPr>
          <p:cNvPr id="817" name="TextBox 2" descr=""/>
          <p:cNvPicPr/>
          <p:nvPr/>
        </p:nvPicPr>
        <p:blipFill>
          <a:blip r:embed="rId2"/>
          <a:stretch/>
        </p:blipFill>
        <p:spPr>
          <a:xfrm>
            <a:off x="487440" y="1951200"/>
            <a:ext cx="8199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Monotype Corsiva"/>
              </a:rPr>
              <a:t>План уро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1" action="ppaction://hlinksldjump"/>
              </a:rPr>
              <a:t>Общие сведения в Второй мировой войн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2" action="ppaction://hlinksldjump"/>
              </a:rPr>
              <a:t>Планы крупнейших стран – участников войн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3" action="ppaction://hlinksldjump"/>
              </a:rPr>
              <a:t>Европа к  1939 г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4" action="ppaction://hlinksldjump"/>
              </a:rPr>
              <a:t>Театры военных действи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5" action="ppaction://hlinksldjump"/>
              </a:rPr>
              <a:t>Периодизация Второй мировой войн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зд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6"/>
              </a:rPr>
              <a:t>Основные события и результаты первого этапа войны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7" action="ppaction://hlinksldjump"/>
              </a:rPr>
              <a:t>(таблица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8" action="ppaction://hlinksldjump"/>
              </a:rPr>
              <a:t>Причины заключения  советско – германского догов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7. 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9" action="ppaction://hlinksldjump"/>
              </a:rPr>
              <a:t>Открытие нового знания. Решение проблем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5"/>
          <p:cNvSpPr/>
          <p:nvPr/>
        </p:nvSpPr>
        <p:spPr>
          <a:xfrm>
            <a:off x="584280" y="712800"/>
            <a:ext cx="8062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Monotype Corsiva"/>
              </a:rPr>
              <a:t>ОСОБЕННОСТИ ВТОРОЙ МИРОВ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Прямоугольник 1"/>
          <p:cNvSpPr/>
          <p:nvPr/>
        </p:nvSpPr>
        <p:spPr>
          <a:xfrm>
            <a:off x="584280" y="1295280"/>
            <a:ext cx="79502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. Вторая мировая война развернулась на огром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ерриториях Европы, Азии и Афр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2. Военные действия велись на Северном Ледовитом, Тих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тлантическом и Индийском  океанах и прилегающих к ни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ор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3. Продолжительность – 2194 д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4. В войне участвовали 62 государства ми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5. Нейтральных государств –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6. Боевые действия проходили на территории 40 государ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4. В войну оказались втянуты 1 млрд. 700 млн. челове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(¾  населения земного шар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5. В армию было мобилизовано 110 млн. челове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(в 1,5 раз больше, чем в Первую мировую войну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Monotype Corsiva"/>
                <a:hlinkClick r:id="rId1"/>
              </a:rPr>
              <a:t>Убитыми человечество потеряло более 60 млн. челов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7. Ущерб от разрушений и средства, потраче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 ведение войны, достигали 4 трлн. долла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Управляющая кнопка: домой 2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3"/>
          <p:cNvSpPr/>
          <p:nvPr/>
        </p:nvSpPr>
        <p:spPr>
          <a:xfrm>
            <a:off x="1547640" y="1844640"/>
            <a:ext cx="5759640" cy="40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В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сего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за 6 лет восстановила военную мощ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И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збегала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войны на два фрон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Н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астроена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на реванш за поражение в  </a:t>
            </a:r>
            <a:r>
              <a:rPr b="1" lang="en-US" sz="3600" spc="-1" strike="noStrike">
                <a:solidFill>
                  <a:srgbClr val="ffcc66"/>
                </a:solidFill>
                <a:latin typeface="Monotype Corsiva"/>
              </a:rPr>
              <a:t>I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А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 её цель -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ировое господст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21" descr="Орёл фашистов пр"/>
          <p:cNvPicPr/>
          <p:nvPr/>
        </p:nvPicPr>
        <p:blipFill>
          <a:blip r:embed="rId1"/>
          <a:stretch/>
        </p:blipFill>
        <p:spPr>
          <a:xfrm>
            <a:off x="2514600" y="4535640"/>
            <a:ext cx="3456000" cy="232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4" descr="Изменение размера Г 5"/>
          <p:cNvPicPr/>
          <p:nvPr/>
        </p:nvPicPr>
        <p:blipFill>
          <a:blip r:embed="rId2"/>
          <a:stretch/>
        </p:blipFill>
        <p:spPr>
          <a:xfrm>
            <a:off x="250920" y="1916280"/>
            <a:ext cx="1338120" cy="49417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"/>
          <p:cNvSpPr/>
          <p:nvPr/>
        </p:nvSpPr>
        <p:spPr>
          <a:xfrm>
            <a:off x="1696320" y="457200"/>
            <a:ext cx="454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8000"/>
                </a:solidFill>
                <a:latin typeface="Monotype Corsiva"/>
              </a:rPr>
              <a:t>Герм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Picture 23" descr="Изменение размера Г 1"/>
          <p:cNvPicPr/>
          <p:nvPr/>
        </p:nvPicPr>
        <p:blipFill>
          <a:blip r:embed="rId3"/>
          <a:stretch/>
        </p:blipFill>
        <p:spPr>
          <a:xfrm>
            <a:off x="6781680" y="1560600"/>
            <a:ext cx="257832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449568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Monotype Corsiva"/>
              </a:rPr>
              <a:t>ЯПОНИЯ</a:t>
            </a: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52" name="Picture 14" descr="Я 3"/>
          <p:cNvPicPr/>
          <p:nvPr/>
        </p:nvPicPr>
        <p:blipFill>
          <a:blip r:embed="rId1"/>
          <a:stretch/>
        </p:blipFill>
        <p:spPr>
          <a:xfrm>
            <a:off x="609480" y="1235160"/>
            <a:ext cx="1590840" cy="5013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5" descr="Я 1"/>
          <p:cNvPicPr/>
          <p:nvPr/>
        </p:nvPicPr>
        <p:blipFill>
          <a:blip r:embed="rId2"/>
          <a:stretch/>
        </p:blipFill>
        <p:spPr>
          <a:xfrm>
            <a:off x="6659640" y="447840"/>
            <a:ext cx="2112840" cy="515592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16"/>
          <p:cNvSpPr/>
          <p:nvPr/>
        </p:nvSpPr>
        <p:spPr>
          <a:xfrm>
            <a:off x="1908000" y="3573360"/>
            <a:ext cx="475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17"/>
          <p:cNvSpPr/>
          <p:nvPr/>
        </p:nvSpPr>
        <p:spPr>
          <a:xfrm>
            <a:off x="1979640" y="1828800"/>
            <a:ext cx="5400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Т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радици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самура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О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кончил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модернизац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К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орабл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и авиацию подготов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И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спользовал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камикадзе (смертников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О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 господстве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в Азии меч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2" descr="Изменение размера США 5"/>
          <p:cNvPicPr/>
          <p:nvPr/>
        </p:nvPicPr>
        <p:blipFill>
          <a:blip r:embed="rId1"/>
          <a:stretch/>
        </p:blipFill>
        <p:spPr>
          <a:xfrm>
            <a:off x="6458040" y="2057400"/>
            <a:ext cx="2114640" cy="46530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524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Monotype Corsiva"/>
              </a:rPr>
              <a:t>АНГЛИЯ, ФРАНЦИЯ</a:t>
            </a:r>
            <a:r>
              <a:rPr b="1" lang="en-US" sz="2800" spc="-1" strike="noStrike">
                <a:solidFill>
                  <a:srgbClr val="808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808000"/>
                </a:solidFill>
                <a:latin typeface="Monotype Corsiva"/>
              </a:rPr>
              <a:t>И США  ЖЕЛАЛИ: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58" name="Picture 10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14"/>
          <p:cNvSpPr/>
          <p:nvPr/>
        </p:nvSpPr>
        <p:spPr>
          <a:xfrm>
            <a:off x="2057400" y="1600200"/>
            <a:ext cx="4896000" cy="50317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С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охрани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свои коло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С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толкну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Германию и СССР в вой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С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ни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режимы в Германии и ССС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Р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уководи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иром как преж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4" descr="Изменение размера В 6"/>
          <p:cNvPicPr/>
          <p:nvPr/>
        </p:nvPicPr>
        <p:blipFill>
          <a:blip r:embed="rId3"/>
          <a:stretch/>
        </p:blipFill>
        <p:spPr>
          <a:xfrm>
            <a:off x="457200" y="1600200"/>
            <a:ext cx="2138400" cy="478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 rot="20339400">
            <a:off x="591480" y="748440"/>
            <a:ext cx="1871640" cy="824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СССР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2362320" y="870120"/>
            <a:ext cx="5327640" cy="1410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есно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отрудничал с Герман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говорил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 ней сферы влияния в Европ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Ж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дал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захвата Гитлером Евро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Э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кспортировал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революцию в ходе вой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Picture 18" descr="Изменение размера СС 7"/>
          <p:cNvPicPr/>
          <p:nvPr/>
        </p:nvPicPr>
        <p:blipFill>
          <a:blip r:embed="rId1"/>
          <a:stretch/>
        </p:blipFill>
        <p:spPr>
          <a:xfrm rot="226800">
            <a:off x="7104240" y="2561760"/>
            <a:ext cx="1903320" cy="41403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9" descr="Изменение размера СС4"/>
          <p:cNvPicPr/>
          <p:nvPr/>
        </p:nvPicPr>
        <p:blipFill>
          <a:blip r:embed="rId2"/>
          <a:stretch/>
        </p:blipFill>
        <p:spPr>
          <a:xfrm>
            <a:off x="250920" y="2421000"/>
            <a:ext cx="1603440" cy="42926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0" descr="Изменение размера СС 1"/>
          <p:cNvPicPr/>
          <p:nvPr/>
        </p:nvPicPr>
        <p:blipFill>
          <a:blip r:embed="rId3"/>
          <a:stretch/>
        </p:blipFill>
        <p:spPr>
          <a:xfrm>
            <a:off x="1692360" y="2205000"/>
            <a:ext cx="1774800" cy="45086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1" descr="Изменение размера СС 12"/>
          <p:cNvPicPr/>
          <p:nvPr/>
        </p:nvPicPr>
        <p:blipFill>
          <a:blip r:embed="rId4"/>
          <a:stretch/>
        </p:blipFill>
        <p:spPr>
          <a:xfrm>
            <a:off x="5292720" y="2276640"/>
            <a:ext cx="2001960" cy="4437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2" descr="Изменение размера Копия Герб СССР оо"/>
          <p:cNvPicPr/>
          <p:nvPr/>
        </p:nvPicPr>
        <p:blipFill>
          <a:blip r:embed="rId5"/>
          <a:stretch/>
        </p:blipFill>
        <p:spPr>
          <a:xfrm>
            <a:off x="3219480" y="3581280"/>
            <a:ext cx="2556000" cy="2657520"/>
          </a:xfrm>
          <a:prstGeom prst="rect">
            <a:avLst/>
          </a:prstGeom>
          <a:ln w="0">
            <a:noFill/>
          </a:ln>
        </p:spPr>
      </p:pic>
      <p:sp>
        <p:nvSpPr>
          <p:cNvPr id="768" name="Управляющая кнопка: домой 2"/>
          <p:cNvSpPr/>
          <p:nvPr/>
        </p:nvSpPr>
        <p:spPr>
          <a:xfrm>
            <a:off x="8458200" y="6238800"/>
            <a:ext cx="684360" cy="61920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19200"/>
              <a:gd name="textAreaBottom" fmla="*/ 579240 h 619200"/>
            </a:gdLst>
            <a:ahLst/>
            <a:rect l="textAreaLeft" t="textAreaTop" r="textAreaRight" b="textAreaBottom"/>
            <a:pathLst>
              <a:path w="23872" h="21600">
                <a:moveTo>
                  <a:pt x="0" y="0"/>
                </a:moveTo>
                <a:lnTo>
                  <a:pt x="23872" y="0"/>
                </a:lnTo>
                <a:lnTo>
                  <a:pt x="23872" y="21600"/>
                </a:lnTo>
                <a:lnTo>
                  <a:pt x="0" y="21600"/>
                </a:lnTo>
                <a:close/>
              </a:path>
              <a:path fill="lightenLess" w="23872" h="21600">
                <a:moveTo>
                  <a:pt x="0" y="0"/>
                </a:moveTo>
                <a:lnTo>
                  <a:pt x="23872" y="0"/>
                </a:lnTo>
                <a:lnTo>
                  <a:pt x="22472" y="1400"/>
                </a:lnTo>
                <a:lnTo>
                  <a:pt x="1400" y="1400"/>
                </a:lnTo>
                <a:close/>
              </a:path>
              <a:path fill="darken" w="23872" h="21600">
                <a:moveTo>
                  <a:pt x="23872" y="0"/>
                </a:moveTo>
                <a:lnTo>
                  <a:pt x="23872" y="21600"/>
                </a:lnTo>
                <a:lnTo>
                  <a:pt x="22472" y="20200"/>
                </a:lnTo>
                <a:lnTo>
                  <a:pt x="22472" y="1400"/>
                </a:lnTo>
                <a:close/>
              </a:path>
              <a:path fill="darkenLess" w="23872" h="21600">
                <a:moveTo>
                  <a:pt x="23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2" y="20200"/>
                </a:lnTo>
                <a:close/>
              </a:path>
              <a:path fill="lighten" w="23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2" h="21600">
                <a:moveTo>
                  <a:pt x="11936" y="3837"/>
                </a:moveTo>
                <a:lnTo>
                  <a:pt x="14512" y="6448"/>
                </a:lnTo>
                <a:lnTo>
                  <a:pt x="14512" y="4707"/>
                </a:lnTo>
                <a:lnTo>
                  <a:pt x="16288" y="4707"/>
                </a:lnTo>
                <a:lnTo>
                  <a:pt x="16288" y="8224"/>
                </a:lnTo>
                <a:lnTo>
                  <a:pt x="18899" y="10800"/>
                </a:lnTo>
                <a:lnTo>
                  <a:pt x="17245" y="10800"/>
                </a:lnTo>
                <a:lnTo>
                  <a:pt x="17245" y="17989"/>
                </a:lnTo>
                <a:lnTo>
                  <a:pt x="6627" y="17989"/>
                </a:lnTo>
                <a:lnTo>
                  <a:pt x="6627" y="10800"/>
                </a:lnTo>
                <a:lnTo>
                  <a:pt x="4973" y="10800"/>
                </a:lnTo>
                <a:close/>
              </a:path>
              <a:path fill="darkenLess" w="23872" h="21600">
                <a:moveTo>
                  <a:pt x="14512" y="6448"/>
                </a:moveTo>
                <a:lnTo>
                  <a:pt x="14512" y="4707"/>
                </a:lnTo>
                <a:lnTo>
                  <a:pt x="16288" y="4707"/>
                </a:lnTo>
                <a:lnTo>
                  <a:pt x="16288" y="8224"/>
                </a:lnTo>
                <a:close/>
              </a:path>
              <a:path fill="darkenLess" w="23872" h="21600">
                <a:moveTo>
                  <a:pt x="11013" y="14299"/>
                </a:moveTo>
                <a:lnTo>
                  <a:pt x="12858" y="14299"/>
                </a:lnTo>
                <a:lnTo>
                  <a:pt x="12858" y="17989"/>
                </a:lnTo>
                <a:lnTo>
                  <a:pt x="17245" y="17989"/>
                </a:lnTo>
                <a:lnTo>
                  <a:pt x="17245" y="10800"/>
                </a:lnTo>
                <a:lnTo>
                  <a:pt x="6627" y="10800"/>
                </a:lnTo>
                <a:lnTo>
                  <a:pt x="6627" y="17989"/>
                </a:lnTo>
                <a:lnTo>
                  <a:pt x="11013" y="17989"/>
                </a:lnTo>
                <a:close/>
              </a:path>
            </a:pathLst>
          </a:custGeom>
          <a:solidFill>
            <a:srgbClr val="ffffe2"/>
          </a:solidFill>
          <a:ln w="381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6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5" descr="Изменение размера к 1941 г Европа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3527640" cy="519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2200"/>
                </a:solidFill>
                <a:latin typeface="Arial"/>
              </a:rPr>
              <a:t>ЕВРОПА  В 1941 г.</a:t>
            </a:r>
            <a:endParaRPr b="0" lang="en-US" sz="28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772" name="Picture 4" descr="J0354376"/>
          <p:cNvPicPr/>
          <p:nvPr/>
        </p:nvPicPr>
        <p:blipFill>
          <a:blip r:embed="rId2"/>
          <a:stretch/>
        </p:blipFill>
        <p:spPr>
          <a:xfrm>
            <a:off x="8381880" y="614376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Ландшафты мира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711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35640" cy="39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ТЕАТРЫ  БОВЫХ  ДЕЙСТВИЙ  ВТОРОЙ  МИРОВОЙ  ВОЙНЫ</a:t>
            </a:r>
            <a:endParaRPr b="0" lang="en-US" sz="20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76" name="Picture 5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777" name="AutoShape 6"/>
          <p:cNvSpPr/>
          <p:nvPr/>
        </p:nvSpPr>
        <p:spPr>
          <a:xfrm>
            <a:off x="1476360" y="2060640"/>
            <a:ext cx="1295280" cy="12240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7"/>
          <p:cNvSpPr/>
          <p:nvPr/>
        </p:nvSpPr>
        <p:spPr>
          <a:xfrm rot="20128200">
            <a:off x="2356920" y="3325680"/>
            <a:ext cx="935280" cy="144144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>
            <a:off x="5508720" y="2492280"/>
            <a:ext cx="1295280" cy="194472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179280" y="2133720"/>
            <a:ext cx="1224000" cy="15112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10"/>
          <p:cNvSpPr/>
          <p:nvPr/>
        </p:nvSpPr>
        <p:spPr>
          <a:xfrm rot="1615200">
            <a:off x="6714720" y="2487600"/>
            <a:ext cx="2303640" cy="31845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11"/>
          <p:cNvSpPr/>
          <p:nvPr/>
        </p:nvSpPr>
        <p:spPr>
          <a:xfrm rot="18100800">
            <a:off x="2338200" y="1387800"/>
            <a:ext cx="1487520" cy="18586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Picture 12" descr="J0178298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61128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3" descr="J0178299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627280" y="3860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4" descr="J0178300"/>
          <p:cNvPicPr/>
          <p:nvPr/>
        </p:nvPicPr>
        <p:blipFill>
          <a:blip r:embed="rId5"/>
          <a:stretch/>
        </p:blipFill>
        <p:spPr>
          <a:xfrm>
            <a:off x="5940360" y="321300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5" descr="J0178301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2843280" y="21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6" descr="J0178302"/>
          <p:cNvPicPr/>
          <p:nvPr/>
        </p:nvPicPr>
        <p:blipFill>
          <a:blip r:embed="rId7">
            <a:lum bright="-18000"/>
          </a:blip>
          <a:stretch/>
        </p:blipFill>
        <p:spPr>
          <a:xfrm>
            <a:off x="7524720" y="3716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7" descr="J0178297"/>
          <p:cNvPicPr/>
          <p:nvPr/>
        </p:nvPicPr>
        <p:blipFill>
          <a:blip r:embed="rId8">
            <a:lum bright="-24000"/>
          </a:blip>
          <a:stretch/>
        </p:blipFill>
        <p:spPr>
          <a:xfrm>
            <a:off x="1979640" y="2492280"/>
            <a:ext cx="358920" cy="360360"/>
          </a:xfrm>
          <a:prstGeom prst="rect">
            <a:avLst/>
          </a:prstGeom>
          <a:ln w="0">
            <a:noFill/>
          </a:ln>
        </p:spPr>
      </p:pic>
      <p:sp>
        <p:nvSpPr>
          <p:cNvPr id="789" name="WordArt 18"/>
          <p:cNvSpPr txBox="1"/>
          <p:nvPr/>
        </p:nvSpPr>
        <p:spPr>
          <a:xfrm>
            <a:off x="3708360" y="156384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ТОЧНО-ЕВРОПЕЙ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0" name="WordArt 19"/>
          <p:cNvSpPr txBox="1"/>
          <p:nvPr/>
        </p:nvSpPr>
        <p:spPr>
          <a:xfrm>
            <a:off x="176040" y="3575160"/>
            <a:ext cx="15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ЛАН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1" name="WordArt 20"/>
          <p:cNvSpPr txBox="1"/>
          <p:nvPr/>
        </p:nvSpPr>
        <p:spPr>
          <a:xfrm>
            <a:off x="179280" y="1628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ЕЙ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2" name="WordArt 21"/>
          <p:cNvSpPr txBox="1"/>
          <p:nvPr/>
        </p:nvSpPr>
        <p:spPr>
          <a:xfrm>
            <a:off x="826920" y="4724280"/>
            <a:ext cx="2086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РИКАН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3" name="WordArt 22"/>
          <p:cNvSpPr txBox="1"/>
          <p:nvPr/>
        </p:nvSpPr>
        <p:spPr>
          <a:xfrm>
            <a:off x="5724360" y="5445000"/>
            <a:ext cx="23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ХООКЕАН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WordArt 23"/>
          <p:cNvSpPr txBox="1"/>
          <p:nvPr/>
        </p:nvSpPr>
        <p:spPr>
          <a:xfrm>
            <a:off x="4716360" y="4437000"/>
            <a:ext cx="16542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ИАТ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.П. Офёркина</cp:lastModifiedBy>
  <dcterms:modified xsi:type="dcterms:W3CDTF">2012-11-21T17:53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