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0.png" ContentType="image/png"/>
  <Override PartName="/ppt/media/image18.gif" ContentType="image/gif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5.png" ContentType="image/pn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dt" idx="46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ftr" idx="47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 type="sldNum" idx="48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E30C-7153-45CE-AF17-75EF581D9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57BD-0F4E-4084-9B3E-3F3B5004F9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Номер слайда 3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A75-0D55-41C8-B3FC-1FF85DAC75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CB21-475D-440D-A631-D65DE05A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933DC-5904-404D-B70B-7FABF916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82B3C-1EBC-4C40-A89F-23AA7319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193A1-F04E-4877-B8C2-FEDADB5C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AB309-EC32-4D00-B784-7C25BD4B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5C815-7A22-4D34-956A-8F93E73D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96ADF-E60A-4E23-AE27-E1885F3A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9D62B-9308-4311-A748-F7DFF510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B35A5-7FCE-4171-A32F-9C0F1FD4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E754B-1D9A-438F-89E6-D19E0421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63A46-138F-4D18-BC74-11A42F2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E466D-EDC8-439A-AC5C-8EBD136E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AA767-76A0-4A2B-BC8A-39265D26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BB5A0-2CFC-4B52-9B91-53EB6822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FC697-86B0-48ED-87BD-8AC8ACBE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C408E-0404-4CD5-9297-7287F05C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5327F-E2F4-41FB-9F40-3E85C826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83316-72A3-4A64-98DE-B23F773E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ED2A6-58CE-4623-BB0F-7B81C6A7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F3A2B-87E9-4341-91DC-4C523429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8FCC8-BDA9-4C20-B93A-C3C18F5A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F832D-64F8-49C4-BF78-2F60F782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71D2E-E835-4AC4-BF3B-03C0FA5A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F4815-8F73-4403-9A8D-35E74CF1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28588-1FD4-4D61-8A2F-38F4F196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E26DD-506C-46A6-853C-B2C795CD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42321-D0FA-4699-A2F9-D534FD6D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B43E8-500B-4375-9DAD-07FDF409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ABAE7-121E-405D-A345-0DC742B5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9AE3A-31D1-45E2-91BD-84FF04F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0EB-EC5A-4A3A-8E9E-7A9CDE20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AA90C-E72B-4156-A316-6AD9F218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BF7CA-33D5-433A-B5DE-002DBB67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A9C79-997B-439D-AF7A-A0DA642E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00758-BC8C-41A1-8FC1-F0B20C3D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006FF-C118-4ECA-8381-CBDAF8E3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DBBD0-3B08-42DE-908C-22CBA38A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E54B1-787A-48F0-8977-DE803327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D14CC-29CD-4214-9603-BD3790DD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112DB-2193-4DDA-968C-8B238F6B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4D1A2-C931-462E-8691-715D5BC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08A-D737-4DB5-89BE-CD8111CE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FD12C-DB34-4CFE-B29B-6D2AE918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494CC-8984-495E-B507-1B79536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CE404-789A-4F4A-845E-503F28EE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BB783-16D6-40B1-8704-DA3B0B01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39DD2-BF2E-436D-B581-B0F984D6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4B140-0559-493D-822F-5A280300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8FA37-F2BE-4730-8B60-A399A678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0AD8A-A5F2-4985-8B2D-EE3DA59C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48F1D-A32B-4FF7-8857-4C3052F0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7F98B-FEE8-4C36-BCBA-0DA7A4FE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09D-483F-4C08-BA3C-2637460F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CEE3B-AEBB-47C4-8553-EC282A9E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4165F-1AEE-4E1F-993D-E93130BC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C5A97-D2D9-4C0B-BDEC-E443D599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7519C-1258-4F50-9F37-67F74991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51445-01AC-48ED-ADD4-92491DD7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04B30-B3DE-4DD7-A7F0-FE976BE1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8EF03-4502-47B3-87CF-832D32CD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42D50-F781-4849-94B5-1E26782A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4DE18-EA6E-423E-8D17-3B76D5DB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FA092-8BE5-45EA-9A4F-3CD6EBB7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C44-F3DD-466F-8F5F-9A3B773D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8E6DD-9774-48C5-8E27-4209796C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9C394-3E5D-435F-AB38-87BB8E83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948DB4-A96E-47FE-9AB7-8269A809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841E6-3718-4CB1-9FB2-3CFEAEF7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19FFA-2599-4322-B70F-8B6AE8C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44171-278B-4BD8-B56B-F9AC789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BD837-0AD2-4261-996F-31F7CE77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1F7F0-0750-4E17-8904-E60E4DEB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F7961-C2F8-4FA8-A020-4A4CBB30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FBAAA-C57B-49F4-9BC4-FAD7B4FA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05C-4866-410E-A1E5-0522F730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C2927-6274-4DE0-BE69-1E95DF0F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11FD8-D73C-4E9B-B120-3A206E51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3E19B-907F-4F83-A66E-E31581A1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41762-4E9B-465B-9217-62F2AC90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714C2-26A6-4807-83B9-CAE7D4BF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512A2-1658-4E8C-BF80-3E40E13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53F44-7FCD-4B48-93EC-1356A858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D1338-5642-40D3-8A5F-BF94144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43F42-82A3-49BA-A593-8A402B05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A7E38-22DE-4B75-975A-48CC8C50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509-5460-45DF-AC3C-43839059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E6999-8A18-4CBA-8E84-FC6B21DB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B5DCC-A363-4C71-BA6E-36FB6E5A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66AF6-3712-4168-BA38-3606DB62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96027-78B7-4F52-9F3D-DE6C5422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3BD51-4718-4227-A322-B3237FFD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0FF94-9C0B-4746-8E1F-CA270CA8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23F48-3DD4-4257-9A65-742EE3E9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5A7CE-6099-4381-B2E7-E7F3D984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392C1C-6A96-46CD-9BF4-23BB66C0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304AC-0773-4C5E-B0D3-8DC9A82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6EE-29EC-4B14-B833-A568475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9E6F4-3184-4C91-B9A3-D8E1E017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5727B-7AF9-4A1C-90A4-051D770A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56333E-9355-4A0A-B629-F40F9E9B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1BD-49C1-4684-9B77-D3F540D1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088-1F51-4AE1-9216-B9CBA91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29D-C640-4B7D-82EB-154E533D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398-501B-4BFC-89EB-06116B44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17D-E9DA-4BE2-B6A3-A60E7742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88E0-8690-40C8-AE75-05344D4B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230B-CE8C-4227-82AE-DF1CD462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8356-9F50-4F8F-8027-4708954F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3780-6A48-46F0-9EBC-E156C46A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6A7D-CC89-4DBB-B39E-1D3E2D81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AB84-DFCC-46AA-8ED6-4C5A626E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623B-BA38-4C24-9A70-4A3531A8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C9B1-BFA4-4113-A147-57B994A0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41DB-3BED-483E-A2D2-F329E2ED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E865-33D2-462E-927B-7E9DDD61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1247-BA96-4760-A4F9-94E54DBF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EE6E-E3D8-4F07-89C7-50E22F32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EF108-242C-43D6-906D-8F149646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7813-BA04-4675-B811-DC9B0EFC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7C1D-7905-470A-9EB8-27AFA6A6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BDFF-2E04-4A4A-ACCA-6348B3AF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1C643-EB91-4462-8F12-C7D88AE0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5E80-78B4-4B4D-9B46-7DEB3A5B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2F14-710C-4811-863D-646F7FC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0610-1D0D-4679-BC0A-D595A49B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A822-BFE8-47CD-884C-24C6B7A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F5FF-F659-47C1-BCC2-1AD7BE17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45A1-6018-4D54-9300-D10A5712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2B988-AA4C-4001-B8D4-A63B3D4D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8B37-BD99-48D1-8A8C-9687154C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B656A-801E-4F40-9EB8-4849863E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C9CB-7AB4-47FB-9E07-079E4014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6649-670F-48AF-83F1-49AD2164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4A0B2-615E-4A12-B73D-0483192E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F6D48-1568-4899-9C66-47F85FD0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B58E3-99D2-4AFE-8C74-E02C1D85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E095E-287C-4F72-99FA-0121E537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0993-8371-4B25-9DF9-66671AEB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CA75-3414-4A3B-9F0E-0F03C683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DCD8-6DFC-453D-938C-90286D46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42CD-8B88-4241-86CC-C79E082C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51FFF-D155-4240-9BC7-622A7037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49BD3-0304-4FD8-92A1-7602A1F7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1DBBF-D11A-4D74-8A9F-69BEBB1A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F3779-E2DC-4E8C-A868-7F8EB80E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CE411-C9A3-4DF4-9804-2CB2FE37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2ABDA-A647-432F-949F-DC6B427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3EEE4-2BA3-425D-B2D3-7E0AE633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3B379-18B8-4EDA-8573-55B7A193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35DF-D51B-4F1C-B4AC-9382303F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A9CFD-7390-4688-828F-EEE52E36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13706-EF0A-40A9-B8DE-BFD7028C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543AA-1DF2-4A42-A80F-7A64FE3E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5E022-75BA-4513-B673-93E4360F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29531-902B-4FE0-954A-40168C3D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0AE62-C9C9-4AF0-A49F-A91979D6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EA670-0C56-46F6-BD5B-C0004594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205F8-F72A-4804-A75B-DDF80A13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A9D23-E529-4411-9E00-B33E4BC3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E6F97-5D8B-40C5-8E9C-33E56EF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B55D1-DD9B-4AEC-812B-7E68B803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424A8-CF30-431D-A15E-3971A26D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EE061-EE16-4C1D-99A5-00C4D033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C244D-F822-48DD-AF20-51B2182F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4B274-F0FA-439A-AD4C-78AFE74D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EEA95-C142-4254-AD3F-182C3AF2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E43B2-DC7D-43F1-9A7C-5DFB031A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4EAB2-4B8C-427A-A6EF-B9BBE1A8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2022E-A112-4FD2-9A0C-0DB47486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48CC7-4F49-48AB-9693-DF6870E6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90C85-0D8E-4F7A-A9D4-E3AC5D01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76FBC-9CDA-4EB4-BA89-6C2BFD1A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22418-C99C-4525-9B71-353CE157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BB88F-0430-4D22-A363-B13D9D17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45419-7D64-4FFD-9A44-08BAAF3A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3E922-A8C8-4DF1-A95D-455B16DA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1FA0C-7594-43CD-982C-B9CD8A9F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DB6A-40A8-4A8A-A78C-29B1579C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CD11D-4BAA-4AEF-868C-66D94CEB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45AAB-5D93-4E2A-8F34-6DDD2C49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46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7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48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49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50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51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52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53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54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55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56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57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58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59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60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61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62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63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8DC2-403B-4C43-BB59-436EDC466DE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5CF7-3E9B-4E05-9EF5-DE9FA6A3EB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F767-5BA4-4B07-9324-DD80CB27F13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5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FB76-9FDB-47FE-8B0A-E65A9115AE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3748-E776-4E45-BABB-68104CCB6D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4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8DC4-B60C-4BFB-AFCA-9A60F4D11A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2F7C-5914-4191-BE97-C7793668D9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DA21-423B-46CA-9A57-6F8DAE78ED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45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2" name="Rectangle 46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7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48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49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50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51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2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09" name="Rectangle 53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4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55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2" name="Rectangle 56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7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58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15" name="Rectangle 59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0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61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18" name="Rectangle 62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3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9DEC-518C-4AAE-AC91-5937B41EBC58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F096-B419-4870-B907-92730D4491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6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25B4-59AE-476E-800D-203A89BE43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AD23-F6A1-4D87-A861-B6FD483F18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9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E1F1-CBE2-45A3-832C-07E54C230A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3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2D25-4DB5-4AFB-8A7E-3E319E25D4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dc9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9dc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2142-DC2D-4251-9411-375B1BB59B8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hyperlink" Target="file:///C:/Documents%20and%20Settings/user/&#1056;&#1072;&#1073;&#1086;&#1095;&#1080;&#1081;%20&#1089;&#1090;&#1086;&#1083;/&#1059;&#1088;&#1086;&#1082;%2041.%20&#1057;&#1057;&#1057;&#1056;%20&#1074;%20&#1085;&#1072;&#1095;&#1072;&#1083;&#1077;%20&#1042;&#1090;&#1086;&#1088;&#1086;&#1081;%20&#1084;&#1080;&#1088;&#1086;&#1074;&#1086;&#1081;%20&#1074;&#1086;&#1081;&#1085;&#1099;%20(1939%20-%201941%20&#1075;&#1075;.)/&#1055;&#1045;&#1088;&#1074;&#1099;&#1081;%20&#1101;&#1090;&#1072;&#1087;%20&#1042;&#1090;&#1086;&#1088;&#1086;&#1081;%20&#1084;&#1080;&#1088;&#1086;&#1074;&#1086;&#1081;%20&#1074;&#1086;&#1081;&#1085;&#1099;.swf" TargetMode="Externa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user/&#1056;&#1072;&#1073;&#1086;&#1095;&#1080;&#1081;%20&#1089;&#1090;&#1086;&#1083;/&#1059;&#1088;&#1086;&#1082;%2041.%20&#1057;&#1057;&#1057;&#1056;%20&#1074;%20&#1085;&#1072;&#1095;&#1072;&#1083;&#1077;%20&#1042;&#1090;&#1086;&#1088;&#1086;&#1081;%20&#1084;&#1080;&#1088;&#1086;&#1074;&#1086;&#1081;%20&#1074;&#1086;&#1081;&#1085;&#1099;%20(1939%20-%201941%20&#1075;&#1075;.)/&#1087;&#1054;&#1058;&#1045;&#1056;&#1048;%202%20&#1084;&#1074;.swf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00"/>
                </a:solidFill>
                <a:latin typeface="Monotype Corsiva"/>
              </a:rPr>
              <a:t>СССР в начале Второй мировой войны</a:t>
            </a:r>
            <a:br>
              <a:rPr sz="6600"/>
            </a:br>
            <a:r>
              <a:rPr b="0" lang="ru-RU" sz="6600" spc="-1" strike="noStrike">
                <a:solidFill>
                  <a:srgbClr val="333300"/>
                </a:solidFill>
                <a:latin typeface="Monotype Corsiva"/>
              </a:rPr>
              <a:t> (1939 – 1941 гг.)</a:t>
            </a:r>
            <a:endParaRPr b="0" lang="en-US" sz="66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7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Monotype Corsiva"/>
              </a:rPr>
              <a:t>Периодизация Второй Мировой войны</a:t>
            </a: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01.09.1939 г.–21.06.1941 г.)– Начало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I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22.06.1941-18.11.1942) – Начальный этап Великой Отечественной войны. Вторжение Германии в СССР. Отступление советских войс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II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19.11.1942 г. – 1943 г.) – Коренной перелом во Второй мировой и Великой Отечественной войне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IV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1944 г. – 09.05.1945 г.) – Разгром фашистской Германии. Окончание Великой Отечественной войн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V этап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09.05 – 02.09.1945 г.) – Разгром милитаристской Японии. Окончание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7" name="Управляющая кнопка: домой 1"/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533520" y="5562720"/>
            <a:ext cx="8076960" cy="1143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1939-1940 гг. – присоединение Литв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твии и Эстонии к ССС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533520" y="609480"/>
            <a:ext cx="8076960" cy="1600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17 сентября 1939 года – Красная Армия взяла  под свой контрол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Западную Украину и Западную Белоруссию, а в ноябре они законодательн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Monotype Corsiva"/>
              </a:rPr>
              <a:t>были включены в состав Белорусской и Украинской ССС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533520" y="2438280"/>
            <a:ext cx="8076960" cy="1524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30 ноября 1939 г. – 12 марта 1940 г.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ветско-финляндская война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исоединение к СССР Карельского перешей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северного побережья Ладожского оз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533520" y="4191120"/>
            <a:ext cx="8076960" cy="1143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юнь 1940 г. – отторжение от Румы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Бессарабии и Северной Буков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 присоединение их к ССС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Управляющая кнопка: домой 1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" descr=""/>
          <p:cNvPicPr/>
          <p:nvPr/>
        </p:nvPicPr>
        <p:blipFill>
          <a:blip r:embed="rId1"/>
          <a:stretch/>
        </p:blipFill>
        <p:spPr>
          <a:xfrm>
            <a:off x="506520" y="615960"/>
            <a:ext cx="8083440" cy="1219320"/>
          </a:xfrm>
          <a:prstGeom prst="rect">
            <a:avLst/>
          </a:prstGeom>
          <a:ln w="0">
            <a:noFill/>
          </a:ln>
        </p:spPr>
      </p:pic>
      <p:sp>
        <p:nvSpPr>
          <p:cNvPr id="804" name="TextBox 2"/>
          <p:cNvSpPr/>
          <p:nvPr/>
        </p:nvSpPr>
        <p:spPr>
          <a:xfrm>
            <a:off x="990720" y="1981080"/>
            <a:ext cx="752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1. Стремление СССР избежать войны на два фронта: с Германией и Японие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Box 3"/>
          <p:cNvSpPr/>
          <p:nvPr/>
        </p:nvSpPr>
        <p:spPr>
          <a:xfrm>
            <a:off x="990720" y="2895480"/>
            <a:ext cx="702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2. Желание лидеров Англии и Франции направить Германию на восток против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Box 4"/>
          <p:cNvSpPr/>
          <p:nvPr/>
        </p:nvSpPr>
        <p:spPr>
          <a:xfrm>
            <a:off x="990720" y="38862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3. Безрезультативные англо – французско – советские переговоры в Моск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5"/>
          <p:cNvSpPr/>
          <p:nvPr/>
        </p:nvSpPr>
        <p:spPr>
          <a:xfrm>
            <a:off x="280800" y="4876920"/>
            <a:ext cx="78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4. Недоверие Сталина к Англии и Фра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Управляющая кнопка: домой 6"/>
          <p:cNvSpPr/>
          <p:nvPr/>
        </p:nvSpPr>
        <p:spPr>
          <a:xfrm>
            <a:off x="8513640" y="6172200"/>
            <a:ext cx="630360" cy="685800"/>
          </a:xfrm>
          <a:custGeom>
            <a:avLst/>
            <a:gdLst>
              <a:gd name="textAreaLeft" fmla="*/ 40680 w 630360"/>
              <a:gd name="textAreaRight" fmla="*/ 589680 w 630360"/>
              <a:gd name="textAreaTop" fmla="*/ 40680 h 685800"/>
              <a:gd name="textAreaBottom" fmla="*/ 645120 h 685800"/>
            </a:gdLst>
            <a:ahLst/>
            <a:rect l="textAreaLeft" t="textAreaTop" r="textAreaRight" b="textAreaBottom"/>
            <a:pathLst>
              <a:path w="21600" h="23499">
                <a:moveTo>
                  <a:pt x="0" y="0"/>
                </a:moveTo>
                <a:lnTo>
                  <a:pt x="21600" y="0"/>
                </a:lnTo>
                <a:lnTo>
                  <a:pt x="21600" y="23499"/>
                </a:lnTo>
                <a:lnTo>
                  <a:pt x="0" y="23499"/>
                </a:lnTo>
                <a:close/>
              </a:path>
              <a:path fill="lightenLess" w="21600" h="234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99">
                <a:moveTo>
                  <a:pt x="21600" y="0"/>
                </a:moveTo>
                <a:lnTo>
                  <a:pt x="21600" y="23499"/>
                </a:lnTo>
                <a:lnTo>
                  <a:pt x="20200" y="22099"/>
                </a:lnTo>
                <a:lnTo>
                  <a:pt x="20200" y="1400"/>
                </a:lnTo>
                <a:close/>
              </a:path>
              <a:path fill="darkenLess" w="21600" h="23499">
                <a:moveTo>
                  <a:pt x="21600" y="23499"/>
                </a:moveTo>
                <a:lnTo>
                  <a:pt x="0" y="23499"/>
                </a:lnTo>
                <a:lnTo>
                  <a:pt x="1400" y="22099"/>
                </a:lnTo>
                <a:lnTo>
                  <a:pt x="20200" y="22099"/>
                </a:lnTo>
                <a:close/>
              </a:path>
              <a:path fill="lighten" w="21600" h="23499">
                <a:moveTo>
                  <a:pt x="0" y="234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99"/>
                </a:lnTo>
                <a:close/>
              </a:path>
              <a:path fill="darken" w="21600" h="23499">
                <a:moveTo>
                  <a:pt x="10800" y="4786"/>
                </a:moveTo>
                <a:lnTo>
                  <a:pt x="13376" y="7397"/>
                </a:lnTo>
                <a:lnTo>
                  <a:pt x="13376" y="5657"/>
                </a:lnTo>
                <a:lnTo>
                  <a:pt x="15152" y="5657"/>
                </a:lnTo>
                <a:lnTo>
                  <a:pt x="15152" y="9173"/>
                </a:lnTo>
                <a:lnTo>
                  <a:pt x="17763" y="11749"/>
                </a:lnTo>
                <a:lnTo>
                  <a:pt x="16109" y="11749"/>
                </a:lnTo>
                <a:lnTo>
                  <a:pt x="16109" y="18939"/>
                </a:lnTo>
                <a:lnTo>
                  <a:pt x="5491" y="18939"/>
                </a:lnTo>
                <a:lnTo>
                  <a:pt x="5491" y="11749"/>
                </a:lnTo>
                <a:lnTo>
                  <a:pt x="3837" y="11749"/>
                </a:lnTo>
                <a:close/>
              </a:path>
              <a:path fill="darkenLess" w="21600" h="23499">
                <a:moveTo>
                  <a:pt x="13376" y="7397"/>
                </a:moveTo>
                <a:lnTo>
                  <a:pt x="13376" y="5657"/>
                </a:lnTo>
                <a:lnTo>
                  <a:pt x="15152" y="5657"/>
                </a:lnTo>
                <a:lnTo>
                  <a:pt x="15152" y="9173"/>
                </a:lnTo>
                <a:close/>
              </a:path>
              <a:path fill="darkenLess" w="21600" h="23499">
                <a:moveTo>
                  <a:pt x="9877" y="15248"/>
                </a:moveTo>
                <a:lnTo>
                  <a:pt x="11723" y="15248"/>
                </a:lnTo>
                <a:lnTo>
                  <a:pt x="11723" y="18939"/>
                </a:lnTo>
                <a:lnTo>
                  <a:pt x="16109" y="18939"/>
                </a:lnTo>
                <a:lnTo>
                  <a:pt x="16109" y="11749"/>
                </a:lnTo>
                <a:lnTo>
                  <a:pt x="5491" y="11749"/>
                </a:lnTo>
                <a:lnTo>
                  <a:pt x="5491" y="18939"/>
                </a:lnTo>
                <a:lnTo>
                  <a:pt x="9877" y="1893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Box 1"/>
          <p:cNvSpPr/>
          <p:nvPr/>
        </p:nvSpPr>
        <p:spPr>
          <a:xfrm>
            <a:off x="1313280" y="685800"/>
            <a:ext cx="62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крытие нового зн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2"/>
          <p:cNvSpPr/>
          <p:nvPr/>
        </p:nvSpPr>
        <p:spPr>
          <a:xfrm>
            <a:off x="-175320" y="151596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Задание: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ыполните задание №1, стр. 211 (учебни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4"/>
          <p:cNvSpPr/>
          <p:nvPr/>
        </p:nvSpPr>
        <p:spPr>
          <a:xfrm>
            <a:off x="723960" y="2065320"/>
            <a:ext cx="77724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Monotype Corsiva"/>
              </a:rPr>
              <a:t>Факты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астие СССР вместе с Германией в разделе Поль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вместный советско – германский парад в Бре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ставка в Германию продовольствия, нефти, металл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ветско – германский договор «О дружбе и границ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екращение в СССР антифашистской пропаган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1"/>
          <p:cNvSpPr/>
          <p:nvPr/>
        </p:nvSpPr>
        <p:spPr>
          <a:xfrm>
            <a:off x="1313280" y="685800"/>
            <a:ext cx="62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крытие нового зн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2"/>
          <p:cNvSpPr/>
          <p:nvPr/>
        </p:nvSpPr>
        <p:spPr>
          <a:xfrm>
            <a:off x="762120" y="1260360"/>
            <a:ext cx="76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Monotype Corsiva"/>
              </a:rPr>
              <a:t>Задание: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оставьте таблицу «Расширение границ и присоединение новых территорий к ССС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457200" y="2362320"/>
          <a:ext cx="8229600" cy="4002120"/>
        </p:xfrm>
        <a:graphic>
          <a:graphicData uri="http://schemas.openxmlformats.org/drawingml/2006/table">
            <a:tbl>
              <a:tblPr/>
              <a:tblGrid>
                <a:gridCol w="1066680"/>
                <a:gridCol w="2819520"/>
                <a:gridCol w="4343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исоединённая терри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пособ присоеди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ен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39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падная Украина и Западная Белору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вод советских войск на территории, отторгнутые Польшей у России в 1921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4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Карельский переше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оветско – финская война 1939 – 1940 г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4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ессарабия и Северная Буков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нужденная передача Румынией территорией, оккупированных ею в 191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ddcbcc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ю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94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рибалтийские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д нажимом СССР ввод дополнительных контингентов советских войск , формирование  «народных правительств», подконтрольные выборы в парла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5001d"/>
                      </a:solidFill>
                    </a:lnL>
                    <a:lnR w="5760">
                      <a:solidFill>
                        <a:srgbClr val="95001d"/>
                      </a:solidFill>
                    </a:lnR>
                    <a:lnT w="5760">
                      <a:solidFill>
                        <a:srgbClr val="95001d"/>
                      </a:solidFill>
                    </a:lnT>
                    <a:lnB w="5760">
                      <a:solidFill>
                        <a:srgbClr val="95001d"/>
                      </a:solidFill>
                    </a:lnB>
                    <a:solidFill>
                      <a:srgbClr val="efe7e7"/>
                    </a:solidFill>
                  </a:tcPr>
                </a:tc>
              </a:tr>
            </a:tbl>
          </a:graphicData>
        </a:graphic>
      </p:graphicFrame>
      <p:sp>
        <p:nvSpPr>
          <p:cNvPr id="815" name="TextBox 5"/>
          <p:cNvSpPr/>
          <p:nvPr/>
        </p:nvSpPr>
        <p:spPr>
          <a:xfrm>
            <a:off x="457200" y="609480"/>
            <a:ext cx="8229600" cy="2288520"/>
          </a:xfrm>
          <a:prstGeom prst="rect">
            <a:avLst/>
          </a:prstGeom>
          <a:solidFill>
            <a:srgbClr val="ffffcc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Является  ли  присоединение  Карельского перешейка , Прибалтики и Молдавии  агрессией со стороны ССС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TextBox 1" descr=""/>
          <p:cNvPicPr/>
          <p:nvPr/>
        </p:nvPicPr>
        <p:blipFill>
          <a:blip r:embed="rId1"/>
          <a:stretch/>
        </p:blipFill>
        <p:spPr>
          <a:xfrm>
            <a:off x="2614680" y="628560"/>
            <a:ext cx="3402000" cy="871560"/>
          </a:xfrm>
          <a:prstGeom prst="rect">
            <a:avLst/>
          </a:prstGeom>
          <a:ln w="0">
            <a:noFill/>
          </a:ln>
        </p:spPr>
      </p:pic>
      <p:pic>
        <p:nvPicPr>
          <p:cNvPr id="817" name="TextBox 2" descr=""/>
          <p:cNvPicPr/>
          <p:nvPr/>
        </p:nvPicPr>
        <p:blipFill>
          <a:blip r:embed="rId2"/>
          <a:stretch/>
        </p:blipFill>
        <p:spPr>
          <a:xfrm>
            <a:off x="487440" y="1951200"/>
            <a:ext cx="8199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00"/>
                </a:solidFill>
                <a:latin typeface="Monotype Corsiva"/>
              </a:rPr>
              <a:t>План уро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1" action="ppaction://hlinksldjump"/>
              </a:rPr>
              <a:t>Общие сведения в Второй мировой войн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2" action="ppaction://hlinksldjump"/>
              </a:rPr>
              <a:t>Планы крупнейших стран – участников войн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3" action="ppaction://hlinksldjump"/>
              </a:rPr>
              <a:t>Европа к  1939 г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4" action="ppaction://hlinksldjump"/>
              </a:rPr>
              <a:t>Театры военных действи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5" action="ppaction://hlinksldjump"/>
              </a:rPr>
              <a:t>Периодизация Второй мировой войн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зда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-383760">
              <a:spcBef>
                <a:spcPts val="601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6"/>
              </a:rPr>
              <a:t>Основные события и результаты первого этапа войны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7" action="ppaction://hlinksldjump"/>
              </a:rPr>
              <a:t>(таблица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6. 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8" action="ppaction://hlinksldjump"/>
              </a:rPr>
              <a:t>Причины заключения  советско – германского догов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7. </a:t>
            </a:r>
            <a:r>
              <a:rPr b="0" lang="ru-RU" sz="2400" spc="-1" strike="noStrike" u="sng">
                <a:solidFill>
                  <a:srgbClr val="cc9900"/>
                </a:solidFill>
                <a:uFillTx/>
                <a:latin typeface="Monotype Corsiva"/>
                <a:hlinkClick r:id="rId9" action="ppaction://hlinksldjump"/>
              </a:rPr>
              <a:t>Открытие нового знания. Решение проблемы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8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5"/>
          <p:cNvSpPr/>
          <p:nvPr/>
        </p:nvSpPr>
        <p:spPr>
          <a:xfrm>
            <a:off x="584280" y="712800"/>
            <a:ext cx="8062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Monotype Corsiva"/>
              </a:rPr>
              <a:t>ОСОБЕННОСТИ ВТОРОЙ МИРОВ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Прямоугольник 1"/>
          <p:cNvSpPr/>
          <p:nvPr/>
        </p:nvSpPr>
        <p:spPr>
          <a:xfrm>
            <a:off x="584280" y="1295280"/>
            <a:ext cx="79502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1. Вторая мировая война развернулась на огром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ерриториях Европы, Азии и Афр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2. Военные действия велись на Северном Ледовитом, Тих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тлантическом и Индийском  океанах и прилегающих к ни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ор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3. Продолжительность – 2194 дн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4. В войне участвовали 62 государства ми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5. Нейтральных государств – 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6. Боевые действия проходили на территории 40 государ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4. В войну оказались втянуты 1 млрд. 700 млн. челове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(¾  населения земного шар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5. В армию было мобилизовано 110 млн. челове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(в 1,5 раз больше, чем в Первую мировую войну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6. </a:t>
            </a:r>
            <a:r>
              <a:rPr b="0" lang="ru-RU" sz="2000" spc="-1" strike="noStrike" u="sng">
                <a:solidFill>
                  <a:srgbClr val="cc9900"/>
                </a:solidFill>
                <a:uFillTx/>
                <a:latin typeface="Monotype Corsiva"/>
                <a:hlinkClick r:id="rId1"/>
              </a:rPr>
              <a:t>Убитыми человечество потеряло более 60 млн. челов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7. Ущерб от разрушений и средства, потраче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 ведение войны, достигали 4 трлн. долла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Управляющая кнопка: домой 2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e2"/>
          </a:solidFill>
          <a:ln w="25560">
            <a:solidFill>
              <a:srgbClr val="bcb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3"/>
          <p:cNvSpPr/>
          <p:nvPr/>
        </p:nvSpPr>
        <p:spPr>
          <a:xfrm>
            <a:off x="1547640" y="1844640"/>
            <a:ext cx="5759640" cy="404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В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сего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за 6 лет восстановила военную мощ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И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збегала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войны на два фрон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Н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астроена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на реванш за поражение в  </a:t>
            </a:r>
            <a:r>
              <a:rPr b="1" lang="en-US" sz="3600" spc="-1" strike="noStrike">
                <a:solidFill>
                  <a:srgbClr val="ffcc66"/>
                </a:solidFill>
                <a:latin typeface="Monotype Corsiva"/>
              </a:rPr>
              <a:t>I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А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 её цель -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ировое господств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21" descr="Орёл фашистов пр"/>
          <p:cNvPicPr/>
          <p:nvPr/>
        </p:nvPicPr>
        <p:blipFill>
          <a:blip r:embed="rId1"/>
          <a:stretch/>
        </p:blipFill>
        <p:spPr>
          <a:xfrm>
            <a:off x="2514600" y="4535640"/>
            <a:ext cx="3456000" cy="23223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4" descr="Изменение размера Г 5"/>
          <p:cNvPicPr/>
          <p:nvPr/>
        </p:nvPicPr>
        <p:blipFill>
          <a:blip r:embed="rId2"/>
          <a:stretch/>
        </p:blipFill>
        <p:spPr>
          <a:xfrm>
            <a:off x="250920" y="1916280"/>
            <a:ext cx="1338120" cy="4941720"/>
          </a:xfrm>
          <a:prstGeom prst="rect">
            <a:avLst/>
          </a:prstGeom>
          <a:ln w="0">
            <a:noFill/>
          </a:ln>
        </p:spPr>
      </p:pic>
      <p:sp>
        <p:nvSpPr>
          <p:cNvPr id="749" name="TextBox 1"/>
          <p:cNvSpPr/>
          <p:nvPr/>
        </p:nvSpPr>
        <p:spPr>
          <a:xfrm>
            <a:off x="1696320" y="457200"/>
            <a:ext cx="454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8000"/>
                </a:solidFill>
                <a:latin typeface="Monotype Corsiva"/>
              </a:rPr>
              <a:t>Герм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Picture 23" descr="Изменение размера Г 1"/>
          <p:cNvPicPr/>
          <p:nvPr/>
        </p:nvPicPr>
        <p:blipFill>
          <a:blip r:embed="rId3"/>
          <a:stretch/>
        </p:blipFill>
        <p:spPr>
          <a:xfrm>
            <a:off x="6781680" y="1560600"/>
            <a:ext cx="2578320" cy="508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449568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00"/>
                </a:solidFill>
                <a:latin typeface="Monotype Corsiva"/>
              </a:rPr>
              <a:t>ЯПОНИЯ</a:t>
            </a:r>
            <a:endParaRPr b="0" lang="en-US" sz="40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752" name="Picture 14" descr="Я 3"/>
          <p:cNvPicPr/>
          <p:nvPr/>
        </p:nvPicPr>
        <p:blipFill>
          <a:blip r:embed="rId1"/>
          <a:stretch/>
        </p:blipFill>
        <p:spPr>
          <a:xfrm>
            <a:off x="609480" y="1235160"/>
            <a:ext cx="1590840" cy="50133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5" descr="Я 1"/>
          <p:cNvPicPr/>
          <p:nvPr/>
        </p:nvPicPr>
        <p:blipFill>
          <a:blip r:embed="rId2"/>
          <a:stretch/>
        </p:blipFill>
        <p:spPr>
          <a:xfrm>
            <a:off x="6659640" y="447840"/>
            <a:ext cx="2112840" cy="515592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16"/>
          <p:cNvSpPr/>
          <p:nvPr/>
        </p:nvSpPr>
        <p:spPr>
          <a:xfrm>
            <a:off x="1908000" y="3573360"/>
            <a:ext cx="4751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17"/>
          <p:cNvSpPr/>
          <p:nvPr/>
        </p:nvSpPr>
        <p:spPr>
          <a:xfrm>
            <a:off x="1979640" y="1828800"/>
            <a:ext cx="5400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Т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радици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самура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О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кончил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модернизац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К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орабл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и авиацию подготови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И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спользовали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камикадзе (смертников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О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 господстве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808000"/>
                </a:solidFill>
                <a:latin typeface="Monotype Corsiva"/>
              </a:rPr>
              <a:t>в Азии меч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2" descr="Изменение размера США 5"/>
          <p:cNvPicPr/>
          <p:nvPr/>
        </p:nvPicPr>
        <p:blipFill>
          <a:blip r:embed="rId1"/>
          <a:stretch/>
        </p:blipFill>
        <p:spPr>
          <a:xfrm>
            <a:off x="6458040" y="2057400"/>
            <a:ext cx="2114640" cy="465300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524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Monotype Corsiva"/>
              </a:rPr>
              <a:t>АНГЛИЯ, ФРАНЦИЯ</a:t>
            </a:r>
            <a:r>
              <a:rPr b="1" lang="en-US" sz="2800" spc="-1" strike="noStrike">
                <a:solidFill>
                  <a:srgbClr val="8080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808000"/>
                </a:solidFill>
                <a:latin typeface="Monotype Corsiva"/>
              </a:rPr>
              <a:t>И США  ЖЕЛАЛИ: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758" name="Picture 10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759" name="Text Box 14"/>
          <p:cNvSpPr/>
          <p:nvPr/>
        </p:nvSpPr>
        <p:spPr>
          <a:xfrm>
            <a:off x="2057400" y="1600200"/>
            <a:ext cx="4896000" cy="50317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С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охрани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свои колон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С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толкну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Германию и СССР в вой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С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мени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режимы в Германии и ССС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a3000"/>
                </a:solidFill>
                <a:latin typeface="Monotype Corsiva"/>
              </a:rPr>
              <a:t>Р</a:t>
            </a:r>
            <a:r>
              <a:rPr b="1" lang="ru-RU" sz="3600" spc="-1" strike="noStrike">
                <a:solidFill>
                  <a:srgbClr val="333300"/>
                </a:solidFill>
                <a:latin typeface="Monotype Corsiva"/>
              </a:rPr>
              <a:t>уководить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иром как прежд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4" descr="Изменение размера В 6"/>
          <p:cNvPicPr/>
          <p:nvPr/>
        </p:nvPicPr>
        <p:blipFill>
          <a:blip r:embed="rId3"/>
          <a:stretch/>
        </p:blipFill>
        <p:spPr>
          <a:xfrm>
            <a:off x="457200" y="1600200"/>
            <a:ext cx="2138400" cy="478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 rot="20339400">
            <a:off x="591480" y="748440"/>
            <a:ext cx="1871640" cy="824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СССР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2362320" y="870120"/>
            <a:ext cx="5327640" cy="1410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есно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отрудничал с Герман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говорил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 ней сферы влияния в Европ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Ж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дал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захвата Гитлером Евро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a3000"/>
                </a:solidFill>
                <a:latin typeface="Arial"/>
              </a:rPr>
              <a:t>Э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кспортировал 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революцию в ходе вой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Picture 18" descr="Изменение размера СС 7"/>
          <p:cNvPicPr/>
          <p:nvPr/>
        </p:nvPicPr>
        <p:blipFill>
          <a:blip r:embed="rId1"/>
          <a:stretch/>
        </p:blipFill>
        <p:spPr>
          <a:xfrm rot="226800">
            <a:off x="7104240" y="2561760"/>
            <a:ext cx="1903320" cy="414036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9" descr="Изменение размера СС4"/>
          <p:cNvPicPr/>
          <p:nvPr/>
        </p:nvPicPr>
        <p:blipFill>
          <a:blip r:embed="rId2"/>
          <a:stretch/>
        </p:blipFill>
        <p:spPr>
          <a:xfrm>
            <a:off x="250920" y="2421000"/>
            <a:ext cx="1603440" cy="429264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0" descr="Изменение размера СС 1"/>
          <p:cNvPicPr/>
          <p:nvPr/>
        </p:nvPicPr>
        <p:blipFill>
          <a:blip r:embed="rId3"/>
          <a:stretch/>
        </p:blipFill>
        <p:spPr>
          <a:xfrm>
            <a:off x="1692360" y="2205000"/>
            <a:ext cx="1774800" cy="45086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1" descr="Изменение размера СС 12"/>
          <p:cNvPicPr/>
          <p:nvPr/>
        </p:nvPicPr>
        <p:blipFill>
          <a:blip r:embed="rId4"/>
          <a:stretch/>
        </p:blipFill>
        <p:spPr>
          <a:xfrm>
            <a:off x="5292720" y="2276640"/>
            <a:ext cx="2001960" cy="4437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2" descr="Изменение размера Копия Герб СССР оо"/>
          <p:cNvPicPr/>
          <p:nvPr/>
        </p:nvPicPr>
        <p:blipFill>
          <a:blip r:embed="rId5"/>
          <a:stretch/>
        </p:blipFill>
        <p:spPr>
          <a:xfrm>
            <a:off x="3219480" y="3581280"/>
            <a:ext cx="2556000" cy="2657520"/>
          </a:xfrm>
          <a:prstGeom prst="rect">
            <a:avLst/>
          </a:prstGeom>
          <a:ln w="0">
            <a:noFill/>
          </a:ln>
        </p:spPr>
      </p:pic>
      <p:sp>
        <p:nvSpPr>
          <p:cNvPr id="768" name="Управляющая кнопка: домой 2"/>
          <p:cNvSpPr/>
          <p:nvPr/>
        </p:nvSpPr>
        <p:spPr>
          <a:xfrm>
            <a:off x="8458200" y="6238800"/>
            <a:ext cx="684360" cy="61920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19200"/>
              <a:gd name="textAreaBottom" fmla="*/ 579240 h 619200"/>
            </a:gdLst>
            <a:ahLst/>
            <a:rect l="textAreaLeft" t="textAreaTop" r="textAreaRight" b="textAreaBottom"/>
            <a:pathLst>
              <a:path w="23872" h="21600">
                <a:moveTo>
                  <a:pt x="0" y="0"/>
                </a:moveTo>
                <a:lnTo>
                  <a:pt x="23872" y="0"/>
                </a:lnTo>
                <a:lnTo>
                  <a:pt x="23872" y="21600"/>
                </a:lnTo>
                <a:lnTo>
                  <a:pt x="0" y="21600"/>
                </a:lnTo>
                <a:close/>
              </a:path>
              <a:path fill="lightenLess" w="23872" h="21600">
                <a:moveTo>
                  <a:pt x="0" y="0"/>
                </a:moveTo>
                <a:lnTo>
                  <a:pt x="23872" y="0"/>
                </a:lnTo>
                <a:lnTo>
                  <a:pt x="22472" y="1400"/>
                </a:lnTo>
                <a:lnTo>
                  <a:pt x="1400" y="1400"/>
                </a:lnTo>
                <a:close/>
              </a:path>
              <a:path fill="darken" w="23872" h="21600">
                <a:moveTo>
                  <a:pt x="23872" y="0"/>
                </a:moveTo>
                <a:lnTo>
                  <a:pt x="23872" y="21600"/>
                </a:lnTo>
                <a:lnTo>
                  <a:pt x="22472" y="20200"/>
                </a:lnTo>
                <a:lnTo>
                  <a:pt x="22472" y="1400"/>
                </a:lnTo>
                <a:close/>
              </a:path>
              <a:path fill="darkenLess" w="23872" h="21600">
                <a:moveTo>
                  <a:pt x="23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2" y="20200"/>
                </a:lnTo>
                <a:close/>
              </a:path>
              <a:path fill="lighten" w="23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2" h="21600">
                <a:moveTo>
                  <a:pt x="11936" y="3837"/>
                </a:moveTo>
                <a:lnTo>
                  <a:pt x="14512" y="6448"/>
                </a:lnTo>
                <a:lnTo>
                  <a:pt x="14512" y="4707"/>
                </a:lnTo>
                <a:lnTo>
                  <a:pt x="16288" y="4707"/>
                </a:lnTo>
                <a:lnTo>
                  <a:pt x="16288" y="8224"/>
                </a:lnTo>
                <a:lnTo>
                  <a:pt x="18899" y="10800"/>
                </a:lnTo>
                <a:lnTo>
                  <a:pt x="17245" y="10800"/>
                </a:lnTo>
                <a:lnTo>
                  <a:pt x="17245" y="17989"/>
                </a:lnTo>
                <a:lnTo>
                  <a:pt x="6627" y="17989"/>
                </a:lnTo>
                <a:lnTo>
                  <a:pt x="6627" y="10800"/>
                </a:lnTo>
                <a:lnTo>
                  <a:pt x="4973" y="10800"/>
                </a:lnTo>
                <a:close/>
              </a:path>
              <a:path fill="darkenLess" w="23872" h="21600">
                <a:moveTo>
                  <a:pt x="14512" y="6448"/>
                </a:moveTo>
                <a:lnTo>
                  <a:pt x="14512" y="4707"/>
                </a:lnTo>
                <a:lnTo>
                  <a:pt x="16288" y="4707"/>
                </a:lnTo>
                <a:lnTo>
                  <a:pt x="16288" y="8224"/>
                </a:lnTo>
                <a:close/>
              </a:path>
              <a:path fill="darkenLess" w="23872" h="21600">
                <a:moveTo>
                  <a:pt x="11013" y="14299"/>
                </a:moveTo>
                <a:lnTo>
                  <a:pt x="12858" y="14299"/>
                </a:lnTo>
                <a:lnTo>
                  <a:pt x="12858" y="17989"/>
                </a:lnTo>
                <a:lnTo>
                  <a:pt x="17245" y="17989"/>
                </a:lnTo>
                <a:lnTo>
                  <a:pt x="17245" y="10800"/>
                </a:lnTo>
                <a:lnTo>
                  <a:pt x="6627" y="10800"/>
                </a:lnTo>
                <a:lnTo>
                  <a:pt x="6627" y="17989"/>
                </a:lnTo>
                <a:lnTo>
                  <a:pt x="11013" y="17989"/>
                </a:lnTo>
                <a:close/>
              </a:path>
            </a:pathLst>
          </a:custGeom>
          <a:solidFill>
            <a:srgbClr val="ffffe2"/>
          </a:solidFill>
          <a:ln w="38160">
            <a:solidFill>
              <a:srgbClr val="ffff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6"/>
          <p:cNvSpPr/>
          <p:nvPr/>
        </p:nvSpPr>
        <p:spPr>
          <a:xfrm>
            <a:off x="0" y="0"/>
            <a:ext cx="2124000" cy="6858000"/>
          </a:xfrm>
          <a:prstGeom prst="rect">
            <a:avLst/>
          </a:prstGeom>
          <a:gradFill rotWithShape="0">
            <a:gsLst>
              <a:gs pos="0">
                <a:srgbClr val="737373"/>
              </a:gs>
              <a:gs pos="100000">
                <a:srgbClr val="f8f8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5" descr="Изменение размера к 1941 г Европа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3527640" cy="519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42200"/>
                </a:solidFill>
                <a:latin typeface="Arial"/>
              </a:rPr>
              <a:t>ЕВРОПА  В 1941 г.</a:t>
            </a:r>
            <a:endParaRPr b="0" lang="en-US" sz="28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772" name="Picture 4" descr="J0354376"/>
          <p:cNvPicPr/>
          <p:nvPr/>
        </p:nvPicPr>
        <p:blipFill>
          <a:blip r:embed="rId2"/>
          <a:stretch/>
        </p:blipFill>
        <p:spPr>
          <a:xfrm>
            <a:off x="8381880" y="614376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2" descr="Ландшафты мира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0" y="71136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35640" cy="397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ТЕАТРЫ  БОВЫХ  ДЕЙСТВИЙ  ВТОРОЙ  МИРОВОЙ  ВОЙНЫ</a:t>
            </a:r>
            <a:endParaRPr b="0" lang="en-US" sz="20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776" name="Picture 5" descr="J0354376"/>
          <p:cNvPicPr/>
          <p:nvPr/>
        </p:nvPicPr>
        <p:blipFill>
          <a:blip r:embed="rId2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777" name="AutoShape 6"/>
          <p:cNvSpPr/>
          <p:nvPr/>
        </p:nvSpPr>
        <p:spPr>
          <a:xfrm>
            <a:off x="1476360" y="2060640"/>
            <a:ext cx="1295280" cy="12240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7"/>
          <p:cNvSpPr/>
          <p:nvPr/>
        </p:nvSpPr>
        <p:spPr>
          <a:xfrm rot="20128200">
            <a:off x="2356920" y="3325680"/>
            <a:ext cx="935280" cy="144144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>
            <a:off x="5508720" y="2492280"/>
            <a:ext cx="1295280" cy="194472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179280" y="2133720"/>
            <a:ext cx="1224000" cy="15112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10"/>
          <p:cNvSpPr/>
          <p:nvPr/>
        </p:nvSpPr>
        <p:spPr>
          <a:xfrm rot="1615200">
            <a:off x="6714720" y="2487600"/>
            <a:ext cx="2303640" cy="31845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11"/>
          <p:cNvSpPr/>
          <p:nvPr/>
        </p:nvSpPr>
        <p:spPr>
          <a:xfrm rot="18100800">
            <a:off x="2338200" y="1387800"/>
            <a:ext cx="1487520" cy="185868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ffcc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Picture 12" descr="J0178298"/>
          <p:cNvPicPr/>
          <p:nvPr/>
        </p:nvPicPr>
        <p:blipFill>
          <a:blip r:embed="rId3">
            <a:lum bright="-24000"/>
          </a:blip>
          <a:stretch/>
        </p:blipFill>
        <p:spPr>
          <a:xfrm>
            <a:off x="61128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3" descr="J0178299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627280" y="3860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4" descr="J0178300"/>
          <p:cNvPicPr/>
          <p:nvPr/>
        </p:nvPicPr>
        <p:blipFill>
          <a:blip r:embed="rId5"/>
          <a:stretch/>
        </p:blipFill>
        <p:spPr>
          <a:xfrm>
            <a:off x="5940360" y="321300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15" descr="J0178301"/>
          <p:cNvPicPr/>
          <p:nvPr/>
        </p:nvPicPr>
        <p:blipFill>
          <a:blip r:embed="rId6">
            <a:lum bright="-24000"/>
          </a:blip>
          <a:stretch/>
        </p:blipFill>
        <p:spPr>
          <a:xfrm>
            <a:off x="2843280" y="21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16" descr="J0178302"/>
          <p:cNvPicPr/>
          <p:nvPr/>
        </p:nvPicPr>
        <p:blipFill>
          <a:blip r:embed="rId7">
            <a:lum bright="-18000"/>
          </a:blip>
          <a:stretch/>
        </p:blipFill>
        <p:spPr>
          <a:xfrm>
            <a:off x="7524720" y="3716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17" descr="J0178297"/>
          <p:cNvPicPr/>
          <p:nvPr/>
        </p:nvPicPr>
        <p:blipFill>
          <a:blip r:embed="rId8">
            <a:lum bright="-24000"/>
          </a:blip>
          <a:stretch/>
        </p:blipFill>
        <p:spPr>
          <a:xfrm>
            <a:off x="1979640" y="2492280"/>
            <a:ext cx="358920" cy="360360"/>
          </a:xfrm>
          <a:prstGeom prst="rect">
            <a:avLst/>
          </a:prstGeom>
          <a:ln w="0">
            <a:noFill/>
          </a:ln>
        </p:spPr>
      </p:pic>
      <p:sp>
        <p:nvSpPr>
          <p:cNvPr id="789" name="WordArt 18"/>
          <p:cNvSpPr txBox="1"/>
          <p:nvPr/>
        </p:nvSpPr>
        <p:spPr>
          <a:xfrm>
            <a:off x="3708360" y="1563840"/>
            <a:ext cx="36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СТОЧНО-ЕВРОПЕЙ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0" name="WordArt 19"/>
          <p:cNvSpPr txBox="1"/>
          <p:nvPr/>
        </p:nvSpPr>
        <p:spPr>
          <a:xfrm>
            <a:off x="176040" y="3575160"/>
            <a:ext cx="15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ЛАН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1" name="WordArt 20"/>
          <p:cNvSpPr txBox="1"/>
          <p:nvPr/>
        </p:nvSpPr>
        <p:spPr>
          <a:xfrm>
            <a:off x="179280" y="1628640"/>
            <a:ext cx="187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ЕЙ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2" name="WordArt 21"/>
          <p:cNvSpPr txBox="1"/>
          <p:nvPr/>
        </p:nvSpPr>
        <p:spPr>
          <a:xfrm>
            <a:off x="826920" y="4724280"/>
            <a:ext cx="2086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ФРИКАН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3" name="WordArt 22"/>
          <p:cNvSpPr txBox="1"/>
          <p:nvPr/>
        </p:nvSpPr>
        <p:spPr>
          <a:xfrm>
            <a:off x="5724360" y="5445000"/>
            <a:ext cx="2305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ХООКЕАН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4" name="WordArt 23"/>
          <p:cNvSpPr txBox="1"/>
          <p:nvPr/>
        </p:nvSpPr>
        <p:spPr>
          <a:xfrm>
            <a:off x="4716360" y="4437000"/>
            <a:ext cx="16542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100000">
                      <a:srgbClr val="3b3b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ЗИАТ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.П. Офёркина</cp:lastModifiedBy>
  <dcterms:modified xsi:type="dcterms:W3CDTF">2012-11-21T17:53:3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