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D53-8B1B-47DA-B8FE-9C24FC48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2AF-72F1-4A10-8A6E-88546272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3ED-818C-4AF0-A9F8-7D16EAF5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0B4-7781-4B1A-B1A7-0535A66F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C1D4-1C2A-485D-9CB8-4447843C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1CFF-C7FE-4E11-9C31-9074DC4D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BDD4-71A6-4331-A32F-438FA8DD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44A1-7E72-46C5-A87C-C48FFA1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140A-1F0D-4304-8F9B-184EE6DE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D4F9-B7C0-4156-91CE-9A4FC712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A23-7F0E-4F61-8652-558F24E6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5D0-BF38-4546-855F-9E40526D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D754-48C9-451E-8137-98317743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2BEF-8D7B-4ED8-8F2A-DE3B464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ABEC-E8C1-4943-B7FB-9A89F803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232B-6A05-4167-99FC-759AD7D8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4A13-2038-42B7-9DF7-0F7392DF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5742A-B9C7-43B3-9FC0-079E996B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29150-B23F-4F31-A91F-F93E96F0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802C0-E852-4F18-9B23-F80566A0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0D092-B489-4E4F-8DD1-08B7B699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8A409-70F9-41B3-A2AA-3438C40A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9D6-5ED1-4823-98B7-EC04F453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2B157-F731-4AA5-BB5C-90BAD140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68928-6D41-4CD5-8B48-0F10CE63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A004C-D673-452F-953B-8F8C008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6AADE-2393-4C14-9E67-723C08B4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63A32-7EB2-478E-ABFA-B9C2CFE0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73B37-BD52-409B-BB74-5CDC56CC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7C78A-7A87-4C50-A956-DA3F5D92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1403-18BE-4D5E-B933-EDB275F7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DCD0B-1119-4724-8E04-848340FE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99AD2-0876-4A7D-8E3D-7A6E83B3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A99-A444-4ADA-A359-2ACD795F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83E3-E0E1-46E5-9B33-33AD200C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B3CC-69AE-499A-AB51-6C65AC99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CB8B4-684D-4C8F-B753-39CEC42B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D3FA-72A5-4C4A-93F9-C5B160C6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F15F5-109A-43A1-B036-7704ED43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ED62-396A-480E-9970-63931BC8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34D6B-5BF4-4D9C-8994-A45A94BF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A9303-AF55-4851-83BF-55D0A868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F4706-0F2C-456F-BE31-858D40C0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BB9-9223-423D-9F4F-71CE96CA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1E5-6586-4901-B1D0-3C4D847C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E2C-9E64-49C4-9931-FF213143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F91-DC81-41CC-908D-5A56739C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297-4078-4BD1-AFB0-2C368189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944A-2C46-4826-A79A-EEFC86160AF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E1B3-90F4-4EA0-865C-FDDAD4DE389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CB56-2977-431E-9AC7-BC6F9FE40C1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DE01-7FF6-4311-91F3-452BD158CC4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дно-Сибирский экономический район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Работу выполняли</a:t>
            </a:r>
            <a:r>
              <a:rPr b="0" lang="en-US" sz="2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Гриценко Али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Панкина Али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Иванова Ири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Панин Владимир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9-3 класс лицей №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Природные условия З-СЭР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676520"/>
          <a:ext cx="8229600" cy="424008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369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н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тоническое 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о-Сибирская плита. На юге: байкальская, каледонская, герцинская складчат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38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ье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ет равнинный рельеф: Западно-Сибирская равнина, Сибирские увалы, Васюганская и Ишимская равнины, барабинская низменность. На юге З-СЭР - горный рельеф: Алтай (гора Белуха - 4082 м), отроги Западного Саяна, Кузнецкий Алатау, Салаирский кря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929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ический, субарктический и умеренный пояса. Преобладает умеренный пояс,континентальный тип климата. Основной тип погоды - антициклонный. Среднегодовое количество осадков - 400-600 мм/год, в предгорьях Алтая 1000мм/год. Основные вздушные массы: континентальные арктические, континентальные умерен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0" y="273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ресурсы З-С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 обладает огромными ресурсами: лесными, минеральными, агроклиматическими, почвенными и др. Освоение минеральных ресурсов на севере района осложнено суровыми климатическими условиями, заболоченностью территории, большим количеством кровососущи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йнем юге З-СЭР распространены черноземы и каштановые почвы, на которых выращивают зерновые (пшеницу). Пойменный луга рек – пастбищные и сенокосные угодья, здесь получило развитие мясомолочное произ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 богат водными ресур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80880" y="990720"/>
          <a:ext cx="8229600" cy="4787640"/>
        </p:xfrm>
        <a:graphic>
          <a:graphicData uri="http://schemas.openxmlformats.org/drawingml/2006/table">
            <a:tbl>
              <a:tblPr/>
              <a:tblGrid>
                <a:gridCol w="2362320"/>
                <a:gridCol w="5867280"/>
              </a:tblGrid>
              <a:tr h="36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н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ические, тундро-глеевые, торфянистые, подзолистые, дерново-подзолистые, лугово-черноземные, типичные черноземы (Алтайский край), горно-луговые и горно-таёжные почв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преимущественно смешанное питание: снеговое, дождевое, грунтовое. Основные реки: Обь, Иртыш, Ишим, Тобол, Чулым, Кеть, Надым, Пур, Таз принадлежат к бассейну Северного Ледовитого океана. По режиму - это реки с весенним половодьем, летней  и зимней меженью, летне-осенними дождевыми паводками. Озера района представляют собой озера-блюдца или бессточные соленые озера на юге. Крупнейшие постоянные озера: Чаны, Кулунда, Телецкое. На севере и в центре - многолетняя мерзл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одные з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ические пустыни, тундра, лесотундра, тайга, смешанные и широколиственные леса, лесостепи и степ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траслевая структура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Промышленного производства З-СЭР, %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1828800"/>
          <a:ext cx="3276720" cy="4749840"/>
        </p:xfrm>
        <a:graphic>
          <a:graphicData uri="http://schemas.openxmlformats.org/drawingml/2006/table">
            <a:tbl>
              <a:tblPr/>
              <a:tblGrid>
                <a:gridCol w="457200"/>
                <a:gridCol w="2362320"/>
                <a:gridCol w="457200"/>
              </a:tblGrid>
              <a:tr h="54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опливн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аллургический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шиностроительный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Химико-лесной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63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изводство строй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егк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ищевая промышлость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39" name="Диаграмма 4" descr=""/>
          <p:cNvPicPr/>
          <p:nvPr/>
        </p:nvPicPr>
        <p:blipFill>
          <a:blip r:embed="rId1"/>
          <a:stretch/>
        </p:blipFill>
        <p:spPr>
          <a:xfrm>
            <a:off x="3468600" y="2816280"/>
            <a:ext cx="56818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28240" y="380880"/>
            <a:ext cx="5334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дно-Сибирский экономический райо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дин из 11 экономических районов Российской Федерации, состоит из 8 федеральных субъектов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ров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мен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ий автономный окру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ало-Ненецкий автономный окру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Алта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 — 14 607 тыс. чел. (1987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расли специализации: добыча нефти, газа, каменного угля, металлургия, машиностроение, химия, крупный центр лесозаготовк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хозяйство зерново-животноводческого направ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Рисунок 3" descr="zap_sib.jpg"/>
          <p:cNvPicPr/>
          <p:nvPr/>
        </p:nvPicPr>
        <p:blipFill>
          <a:blip r:embed="rId1"/>
          <a:stretch/>
        </p:blipFill>
        <p:spPr>
          <a:xfrm>
            <a:off x="5486400" y="380880"/>
            <a:ext cx="3352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0880" y="14479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является третьим по площади и четвёртым по численности населения районом России, 90% территории составляют равнины. Район отличается силтной заболоченностью. Среди отраслей специализации выделяются отрасли топливной промышленн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-СЭР добывают 90% газа и 75% нефти России. В районе находится крупнейший угольный бассейн – Кузбасс, где добывают около 25% коксующихся угл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й сельского хозяйства района является Алтайский край, который снабжает З-СЭР продукцией АП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47600" y="1752480"/>
          <a:ext cx="8996400" cy="4267440"/>
        </p:xfrm>
        <a:graphic>
          <a:graphicData uri="http://schemas.openxmlformats.org/drawingml/2006/table">
            <a:tbl>
              <a:tblPr/>
              <a:tblGrid>
                <a:gridCol w="2824200"/>
                <a:gridCol w="2057400"/>
                <a:gridCol w="2057400"/>
                <a:gridCol w="2057400"/>
              </a:tblGrid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ъект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тр субъ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, кв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еление, тыс. человек (2002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мало-Ненецкий авт.ок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ехар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ты-Мансийский авт.ок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ты-Манси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на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5 20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о-Алта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Вместе с Ямало-Ненецким и Ханты-Мансийским автономными окру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Экономический лидер – Новосибирск.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600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ы З-СЭР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выходит к Карскому мор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выходит к сухопутной границы России с Казахстаном, Китаем, Монголи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граничит со следующими экономическими районами: Северным, Уральским, Восточно-Сибирски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о-географическое положение райо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ГП З-СЭР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сительно выгод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район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едствует с высокоразвитым Уральским ЭР и быстроразвивающейся Восточной Сибирь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расположен на пересечении больших рек и железнодорожны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выходит к государственной границе и тесно взаимодействует с Казахстано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«Визитная карточка»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219320"/>
          <a:ext cx="8229600" cy="5008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ритория, млн. кв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убъектов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, млн. человек (9.10.20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е население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населения, чел. на кв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с/х угодий, млн. га (% от Р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 (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ашни, млн. га (% от Р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9 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, покрытая лесом, млн. 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истость территори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сы древесины, млрд. куб.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 промышленности, % от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 сельского хозяйства, % от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отребительских товаров, % от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оля З-СЭР в населении России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3520" y="1828800"/>
          <a:ext cx="1904760" cy="74124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-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6" name="Диаграмма 4" descr=""/>
          <p:cNvPicPr/>
          <p:nvPr/>
        </p:nvPicPr>
        <p:blipFill>
          <a:blip r:embed="rId1"/>
          <a:stretch/>
        </p:blipFill>
        <p:spPr>
          <a:xfrm>
            <a:off x="2432160" y="1444680"/>
            <a:ext cx="6261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оля З-СЭР в промышленности России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1828800"/>
          <a:ext cx="1904760" cy="74124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-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Диаграмма 4" descr=""/>
          <p:cNvPicPr/>
          <p:nvPr/>
        </p:nvPicPr>
        <p:blipFill>
          <a:blip r:embed="rId1"/>
          <a:stretch/>
        </p:blipFill>
        <p:spPr>
          <a:xfrm>
            <a:off x="2432160" y="1292400"/>
            <a:ext cx="62611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оля З-СЭР в сельском хозяйстве России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3520" y="1828800"/>
          <a:ext cx="1904760" cy="74124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-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32" name="Диаграмма 4" descr=""/>
          <p:cNvPicPr/>
          <p:nvPr/>
        </p:nvPicPr>
        <p:blipFill>
          <a:blip r:embed="rId1"/>
          <a:stretch/>
        </p:blipFill>
        <p:spPr>
          <a:xfrm>
            <a:off x="2432160" y="1365120"/>
            <a:ext cx="62611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7-05T12:11:00Z</dcterms:modified>
  <cp:revision>12</cp:revision>
  <dc:subject/>
  <dc:title>Слайд 1</dc:title>
</cp:coreProperties>
</file>