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EA6-FA45-42E1-97CD-FE542279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C91-0C17-4DDF-96CF-B56B455C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CA5-F47D-41AD-8A15-F5400E69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A8F-377F-4AAD-BDBE-DD050A81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C7A6-36F7-4449-8000-ACC5D7D6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34AE-7263-4B12-A3FE-424C679C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4D9D-944B-43D3-B1B7-44D945A1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8E82-5F10-4C45-ABA5-ABD3E60E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EE79-43D0-490E-AB2B-CDC39121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16EF-232C-46C1-A724-553A5D0A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50AA-AF78-473A-8616-19F76AF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BFA-5B33-45D2-968F-649ECDD9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7AD9-4D33-426B-8407-6BA463A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33EE-C05B-4514-8415-CD731860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78BF-C3EB-4D57-AEDD-E4D58EAE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498E-6FFE-4395-B5A5-0C3ACC3E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5D7D-3846-4090-A43B-291F0B37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5C96C-3681-40CD-B3FC-69ECD29C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D5A0A-0276-4B0F-B9B4-20FBF0D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C7F9B-966B-47C8-80F0-4A1697C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CBFD8-E8CA-48CA-B30C-9E3EAFC9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703EF-8C72-4D12-8F4B-7A4C50C1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3FA-FB64-4244-94E2-B4FCB6C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D7C53-702E-4923-8C7F-67974A8B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97F78-9757-4FA4-AFCC-0737AA2E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863BB-A111-4E73-8C93-0271F4E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1EF56-2C14-40E3-B82E-AFF0FB8B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6E094-706F-4C8C-8DBC-CD4FB712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4FF03-1789-4DEC-B9B7-E156F417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CF7ED-2684-439A-9BBC-064AEA02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9A9E-0466-4C30-8503-A64E0705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1298-BBDE-4C42-AB35-DCFF5723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4313F-3C2D-43BF-83FF-14A1C875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1D5-3DBD-4E78-8F60-4CDD791D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16A9-9BE3-4101-B2BD-73BA283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4237-975E-48D6-A858-7A3D470C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EBE10-3835-4E03-A490-3AEBC881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AB1B-B6AC-4451-9DD9-BB612F5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4637E-210F-4557-B2B0-025B344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4BDEC-00D0-4E16-BCA7-F1C96690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65F1-BF11-478B-91C3-1B1B6988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6F24-5843-434D-B098-3DFCF65D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A156-2B47-4F83-9C84-16288629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899-9A4F-40F5-92EA-39A8564F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D00-7592-42B7-A13A-CA1930E2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2F9-9AD6-4D5B-A41C-B85D49B6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2C0-5039-4927-8E5B-A4D6B062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603-2CDA-4F58-B645-A2B888AE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FD0E-DF0B-44EF-8595-FD8C920C382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094B-C759-4A5D-935B-70AFB6602FC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6CC1-A5C3-4FC4-B5A5-22CD3606076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E513-D17F-45F8-BB5B-8C5D48CA3E4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адно-Сибирский экономический район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Работу выполняли</a:t>
            </a:r>
            <a:r>
              <a:rPr b="0" lang="en-US" sz="2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Гриценко Али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Панкина Али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Иванова Ири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Панин Владимир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Georgia"/>
              </a:rPr>
              <a:t>9-3 класс лицей №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Природные условия З-СЭР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76520"/>
          <a:ext cx="8229600" cy="424008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369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тоническое 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о-Сибирская плита. На юге: байкальская, каледонская, герцинская складчат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38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ье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ладает равнинный рельеф: Западно-Сибирская равнина, Сибирские увалы, Васюганская и Ишимская равнины, барабинская низменность. На юге З-СЭР - горный рельеф: Алтай (гора Белуха - 4082 м), отроги Западного Саяна, Кузнецкий Алатау, Салаирский кряж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929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ический, субарктический и умеренный пояса. Преобладает умеренный пояс,континентальный тип климата. Основной тип погоды - антициклонный. Среднегодовое количество осадков - 400-600 мм/год, в предгорьях Алтая 1000мм/год. Основные вздушные массы: континентальные арктические, континентальные умерен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0" y="273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ресурсы З-С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 обладает огромными ресурсами: лесными, минеральными, агроклиматическими, почвенными и др. Освоение минеральных ресурсов на севере района осложнено суровыми климатическими условиями, заболоченностью территории, большим количеством кровососущи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йнем юге З-СЭР распространены черноземы и каштановые почвы, на которых выращивают зерновые (пшеницу). Пойменный луга рек – пастбищные и сенокосные угодья, здесь получило развитие мясомолочное произ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 богат водными ресур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380880" y="990720"/>
          <a:ext cx="8229600" cy="4787640"/>
        </p:xfrm>
        <a:graphic>
          <a:graphicData uri="http://schemas.openxmlformats.org/drawingml/2006/table">
            <a:tbl>
              <a:tblPr/>
              <a:tblGrid>
                <a:gridCol w="2362320"/>
                <a:gridCol w="5867280"/>
              </a:tblGrid>
              <a:tr h="36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ые усло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ая 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ические, тундро-глеевые, торфянистые, подзолистые, дерново-подзолистые, лугово-черноземные, типичные черноземы (Алтайский край), горно-луговые и горно-таёжные почв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преимущественно смешанное питание: снеговое, дождевое, грунтовое. Основные реки: Обь, Иртыш, Ишим, Тобол, Чулым, Кеть, Надым, Пур, Таз принадлежат к бассейну Северного Ледовитого океана. По режиму - это реки с весенним половодьем, летней  и зимней меженью, летне-осенними дождевыми паводками. Озера района представляют собой озера-блюдца или бессточные соленые озера на юге. Крупнейшие постоянные озера: Чаны, Кулунда, Телецкое. На севере и в центре - многолетняя мерзл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одные з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ктические пустыни, тундра, лесотундра, тайга, смешанные и широколиственные леса, лесостепи и степ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Отраслевая структура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Промышленного производства З-СЭР, %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1828800"/>
          <a:ext cx="3276720" cy="4749840"/>
        </p:xfrm>
        <a:graphic>
          <a:graphicData uri="http://schemas.openxmlformats.org/drawingml/2006/table">
            <a:tbl>
              <a:tblPr/>
              <a:tblGrid>
                <a:gridCol w="457200"/>
                <a:gridCol w="2362320"/>
                <a:gridCol w="457200"/>
              </a:tblGrid>
              <a:tr h="5493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лектроэнерг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1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опливн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таллургический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ашиностроительный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Химико-лесной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63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изводство строй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егк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573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ищевая промышлость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39" name="Диаграмма 4" descr=""/>
          <p:cNvPicPr/>
          <p:nvPr/>
        </p:nvPicPr>
        <p:blipFill>
          <a:blip r:embed="rId1"/>
          <a:stretch/>
        </p:blipFill>
        <p:spPr>
          <a:xfrm>
            <a:off x="3468600" y="2816280"/>
            <a:ext cx="56818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28240" y="380880"/>
            <a:ext cx="5334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но-Сибирский экономический райо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один из 11 экономических районов Российской Федерации, состоит из 8 федеральных субъектов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ров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менская област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нты-Мансийский автономный окру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ало-Ненецкий автономный окру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Алта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 — 14 607 тыс. чел. (1987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расли специализации: добыча нефти, газа, каменного угля, металлургия, машиностроение, химия, крупный центр лесозаготовк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е хозяйство зерново-животноводческого направ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Рисунок 3" descr="zap_sib.jpg"/>
          <p:cNvPicPr/>
          <p:nvPr/>
        </p:nvPicPr>
        <p:blipFill>
          <a:blip r:embed="rId1"/>
          <a:stretch/>
        </p:blipFill>
        <p:spPr>
          <a:xfrm>
            <a:off x="5486400" y="380880"/>
            <a:ext cx="3352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0880" y="14479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является третьим по площади и четвёртым по численности населения районом России, 90% территории составляют равнины. Район отличается силтной заболоченностью. Среди отраслей специализации выделяются отрасли топливной промышлен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-СЭР добывают 90% газа и 75% нефти России. В районе находится крупнейший угольный бассейн – Кузбасс, где добывают около 25% коксующихся угл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й сельского хозяйства района является Алтайский край, который снабжает З-СЭР продукцией АП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47600" y="1752480"/>
          <a:ext cx="8996400" cy="4267440"/>
        </p:xfrm>
        <a:graphic>
          <a:graphicData uri="http://schemas.openxmlformats.org/drawingml/2006/table">
            <a:tbl>
              <a:tblPr/>
              <a:tblGrid>
                <a:gridCol w="2824200"/>
                <a:gridCol w="2057400"/>
                <a:gridCol w="2057400"/>
                <a:gridCol w="2057400"/>
              </a:tblGrid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ъект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тр субъ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,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селение, тыс. человек (2002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мало-Ненецкий авт.ок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ехар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Мансийский авт.ок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нты-Манси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на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ер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сиби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 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м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5 200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Ал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но-Алтай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Вместе с Ямало-Ненецким и Ханты-Мансийским автономными окру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Экономический лидер – Новосибирск.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6002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ы З-СЭР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выходит к Карскому мор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выходит к сухопутной границы России с Казахстаном, Китаем, Монголи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граничит со следующими экономическими районами: Северным, Уральским, Восточно-Сибирски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о-географическое положение райо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ГП З-СЭР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сительно выгод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район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едствует с высокоразвитым Уральским ЭР и быстроразвивающейся Восточной Сибирь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расположен на пересечении больших рек и железнодорожны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ей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-СЭР выходит к государственной границе и тесно взаимодействует с Казахстано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«Визитная карточка»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219320"/>
          <a:ext cx="8229600" cy="5008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ритория, млн.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4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убъектов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ление, млн. человек (9.10.20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е население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населения, чел. на кв.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с/х угодий, млн. га (% от 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 (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ашни, млн. га (% от Р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9 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, покрытая лесом, млн. 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истость территори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сы древесины, млрд. куб.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 промышленности, % от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ция сельского хозяйства, % от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отребительских товаров, % от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оля З-СЭР в населении России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3520" y="1828800"/>
          <a:ext cx="1904760" cy="74124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-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6" name="Диаграмма 4" descr=""/>
          <p:cNvPicPr/>
          <p:nvPr/>
        </p:nvPicPr>
        <p:blipFill>
          <a:blip r:embed="rId1"/>
          <a:stretch/>
        </p:blipFill>
        <p:spPr>
          <a:xfrm>
            <a:off x="2432160" y="1444680"/>
            <a:ext cx="6261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оля З-СЭР в промышленности России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1828800"/>
          <a:ext cx="1904760" cy="74124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-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Диаграмма 4" descr=""/>
          <p:cNvPicPr/>
          <p:nvPr/>
        </p:nvPicPr>
        <p:blipFill>
          <a:blip r:embed="rId1"/>
          <a:stretch/>
        </p:blipFill>
        <p:spPr>
          <a:xfrm>
            <a:off x="2432160" y="1292400"/>
            <a:ext cx="62611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Доля З-СЭР в сельском хозяйстве России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1828800"/>
          <a:ext cx="1904760" cy="74124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</a:tblGrid>
              <a:tr h="371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-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32" name="Диаграмма 4" descr=""/>
          <p:cNvPicPr/>
          <p:nvPr/>
        </p:nvPicPr>
        <p:blipFill>
          <a:blip r:embed="rId1"/>
          <a:stretch/>
        </p:blipFill>
        <p:spPr>
          <a:xfrm>
            <a:off x="2432160" y="1365120"/>
            <a:ext cx="62611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05T12:11:00Z</dcterms:modified>
  <cp:revision>12</cp:revision>
  <dc:subject/>
  <dc:title>Слайд 1</dc:title>
</cp:coreProperties>
</file>