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455-AD5D-44AA-A266-925FE722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099-324D-48BB-9F07-8D973F8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64E-9D20-4311-9FC1-D12244D5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887-CA65-484A-A7F0-D78E8B97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16CD-CEE7-4481-A20A-17FCF136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A8B9-6306-4E10-BDC9-9B6F16A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11F-85E5-4945-AB42-9027EFFF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CC4A-6D60-4354-BCEA-8799AA1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507-0508-4B99-9D0C-D6B82709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D8E2-7C58-4388-89B9-E1E0EF7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B36B-9D79-4F74-A3BB-7548EB1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F27-EB60-40E5-975A-77477BFF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37A1-DF62-4E93-8D5A-58B5294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31A0-FA00-4B3B-9443-B7C75F52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7B8A-6A18-4786-B766-DD54FC26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1E62-0090-4F42-8DD0-4F729A36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572B-51B0-4A3F-9D46-FE19FD25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40665-46E4-495F-A1D3-479D6D65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B3DCA-F199-4BDC-B989-825EE02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37CB8-3263-44D1-83AB-7768211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28443-1670-428C-A167-809FAB0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8426C-E96C-4C96-B5C9-6ED5B97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86D-075A-4CC8-84CC-49263C0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A4C83-8F8B-4771-AEDD-FB193B89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1C811-27BF-47D8-868B-2EAAA64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03BBF-C678-4E86-B1CE-11640BE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4435D-1F58-49B3-82EC-1DD6627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EA4DD-816E-4B95-859E-8AE3B31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1A942-F5C8-41EF-8237-464941C0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25687-9A43-4A8B-928E-7AD1FBF7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12B9-7688-49C4-A3BB-4AD09FB6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4F85-A459-4BB0-B811-62767641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E3D7C-A2BF-47E8-9F98-388F413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7E6-9A90-4C76-8537-256B0E15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4A53-3EC7-4DFA-B25D-7FBCD566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5F03-4708-4D6D-BBF6-31B57EA1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CD1F-E270-4502-AD18-9123441F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19C3-42FC-4437-9AC5-2BD8116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B513-3B33-4A65-ABE2-D31354B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76D5-7E8C-457A-AFBF-8E2DC11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4596-850B-41DE-9466-5F1B5C6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368B-1B7E-4722-9DEF-D1C916BB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76E8-A24C-4A1B-80E0-EF7E93D8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D82-A364-411D-9DB1-AB1A764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FB5-51C1-4CDA-B75E-6EAD3B0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D46-7F34-4D8D-9C62-8212AB0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4B7-6487-41C2-8946-0D94C8D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92A-FDE6-43B5-A9CE-2B929530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254E-F11F-4A50-843E-99A53232873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26AE-C12C-4E37-9B17-D8EDA64F448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AAE-8B0A-45B3-AB06-835AF1A55DB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98A-A865-40B2-BE75-911E2855ED5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дно-Сибирский экономический район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Работу выполняли</a:t>
            </a:r>
            <a:r>
              <a:rPr b="0" lang="en-US" sz="2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риценко Ал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анкина Ал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Иванова Ир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анин Владимир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9-3 класс лицей №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риродные условия З-СЭР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76520"/>
          <a:ext cx="8229600" cy="424008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369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тоническое 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о-Сибирская плита. На юге: байкальская, каледонская, герцинская складчат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38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е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ет равнинный рельеф: Западно-Сибирская равнина, Сибирские увалы, Васюганская и Ишимская равнины, барабинская низменность. На юге З-СЭР - горный рельеф: Алтай (гора Белуха - 4082 м), отроги Западного Саяна, Кузнецкий Алатау, Салаирский кря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92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й, субарктический и умеренный пояса. Преобладает умеренный пояс,континентальный тип климата. Основной тип погоды - антициклонный. Среднегодовое количество осадков - 400-600 мм/год, в предгорьях Алтая 1000мм/год. Основные вздушные массы: континентальные арктические, континентальные умерен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273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ресурсы З-С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обладает огромными ресурсами: лесными, минеральными, агроклиматическими, почвенными и др. Освоение минеральных ресурсов на севере района осложнено суровыми климатическими условиями, заболоченностью территории, большим количеством кровососущи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йнем юге З-СЭР распространены черноземы и каштановые почвы, на которых выращивают зерновые (пшеницу). Пойменный луга рек – пастбищные и сенокосные угодья, здесь получило развитие мясомолочное произ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богат водными ресур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80880" y="990720"/>
          <a:ext cx="8229600" cy="478764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36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е, тундро-глеевые, торфянистые, подзолистые, дерново-подзолистые, лугово-черноземные, типичные черноземы (Алтайский край), горно-луговые и горно-таёжные почв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имущественно смешанное питание: снеговое, дождевое, грунтовое. Основные реки: Обь, Иртыш, Ишим, Тобол, Чулым, Кеть, Надым, Пур, Таз принадлежат к бассейну Северного Ледовитого океана. По режиму - это реки с весенним половодьем, летней  и зимней меженью, летне-осенними дождевыми паводками. Озера района представляют собой озера-блюдца или бессточные соленые озера на юге. Крупнейшие постоянные озера: Чаны, Кулунда, Телецкое. На севере и в центре - многолетняя мерзл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одные з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е пустыни, тундра, лесотундра, тайга, смешанные и широколиственные леса, лесостепи и степ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траслевая структура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ромышленного производства З-СЭР, %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828800"/>
          <a:ext cx="3276720" cy="4749840"/>
        </p:xfrm>
        <a:graphic>
          <a:graphicData uri="http://schemas.openxmlformats.org/drawingml/2006/table">
            <a:tbl>
              <a:tblPr/>
              <a:tblGrid>
                <a:gridCol w="457200"/>
                <a:gridCol w="2362320"/>
                <a:gridCol w="457200"/>
              </a:tblGrid>
              <a:tr h="54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оплив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аллургически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шиностроительны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имико-лесно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изводство строй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гк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щевая промышлость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39" name="Диаграмма 4" descr=""/>
          <p:cNvPicPr/>
          <p:nvPr/>
        </p:nvPicPr>
        <p:blipFill>
          <a:blip r:embed="rId1"/>
          <a:stretch/>
        </p:blipFill>
        <p:spPr>
          <a:xfrm>
            <a:off x="3468600" y="2816280"/>
            <a:ext cx="56818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240" y="380880"/>
            <a:ext cx="5334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-Сибирский экономический рай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11 экономических районов Российской Федерации, состоит из 8 федеральных субъекто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мен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ий автономный окру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ало-Ненецкий автономный окру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Алта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 — 14 607 тыс. чел. (1987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расли специализации: добыча нефти, газа, каменного угля, металлургия, машиностроение, химия, крупный центр лесозаготов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 зерново-животноводческого направ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Рисунок 3" descr="zap_sib.jpg"/>
          <p:cNvPicPr/>
          <p:nvPr/>
        </p:nvPicPr>
        <p:blipFill>
          <a:blip r:embed="rId1"/>
          <a:stretch/>
        </p:blipFill>
        <p:spPr>
          <a:xfrm>
            <a:off x="5486400" y="380880"/>
            <a:ext cx="3352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0880" y="14479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является третьим по площади и четвёртым по численности населения районом России, 90% территории составляют равнины. Район отличается силтной заболоченностью. Среди отраслей специализации выделяются отрасли топливной промышлен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-СЭР добывают 90% газа и 75% нефти России. В районе находится крупнейший угольный бассейн – Кузбасс, где добывают около 25% коксующихся угл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сельского хозяйства района является Алтайский край, который снабжает З-СЭР продукцией АП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47600" y="1752480"/>
          <a:ext cx="8996400" cy="4267440"/>
        </p:xfrm>
        <a:graphic>
          <a:graphicData uri="http://schemas.openxmlformats.org/drawingml/2006/table">
            <a:tbl>
              <a:tblPr/>
              <a:tblGrid>
                <a:gridCol w="2824200"/>
                <a:gridCol w="2057400"/>
                <a:gridCol w="2057400"/>
                <a:gridCol w="2057400"/>
              </a:tblGrid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ъект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тр су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,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еление, тыс. человек (2002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мало-Ненецкий авт.ок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еха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ий авт.ок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5 2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-Алта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месте с Ямало-Ненецким и Ханты-Мансийским автономными окру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Экономический лидер – Новосибирск.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600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ы З-СЭ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Карскому мор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сухопутной границы России с Казахстаном, Китаем, Монголи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граничит со следующими экономическими районами: Северным, Уральским, Восточно-Сибирски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о-географическое положение райо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ГП З-СЭР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сительно выгод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район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едствует с высокоразвитым Уральским ЭР и быстроразвивающейся Восточной Сибир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расположен на пересечении больших рек и железнодорожн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государственной границе и тесно взаимодействует с Казахстан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«Визитная карточка»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219320"/>
          <a:ext cx="8229600" cy="500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ритория, млн.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убъектов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, млн. человек (9.10.20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е население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населения, чел. на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с/х угодий, млн. га (% от 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 (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шни, млн. га (% от 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9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, покрытая лесом, млн. 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истость территори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ы древесины, млрд. куб.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 промышленности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 сельского хозяйства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отребительских товаров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населении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6" name="Диаграмма 4" descr=""/>
          <p:cNvPicPr/>
          <p:nvPr/>
        </p:nvPicPr>
        <p:blipFill>
          <a:blip r:embed="rId1"/>
          <a:stretch/>
        </p:blipFill>
        <p:spPr>
          <a:xfrm>
            <a:off x="2432160" y="1444680"/>
            <a:ext cx="6261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промышленности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Диаграмма 4" descr=""/>
          <p:cNvPicPr/>
          <p:nvPr/>
        </p:nvPicPr>
        <p:blipFill>
          <a:blip r:embed="rId1"/>
          <a:stretch/>
        </p:blipFill>
        <p:spPr>
          <a:xfrm>
            <a:off x="2432160" y="1292400"/>
            <a:ext cx="62611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сельском хозяйстве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32" name="Диаграмма 4" descr=""/>
          <p:cNvPicPr/>
          <p:nvPr/>
        </p:nvPicPr>
        <p:blipFill>
          <a:blip r:embed="rId1"/>
          <a:stretch/>
        </p:blipFill>
        <p:spPr>
          <a:xfrm>
            <a:off x="2432160" y="1365120"/>
            <a:ext cx="62611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5T12:11:00Z</dcterms:modified>
  <cp:revision>12</cp:revision>
  <dc:subject/>
  <dc:title>Слайд 1</dc:title>
</cp:coreProperties>
</file>