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663-156B-48A5-ABAE-1DBA2DD1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1A6-D96B-4AAF-82FF-DE93AA4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C23-B011-44D4-9BBF-4D6D9068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BF8-5D42-453F-A577-53241949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A6E-A4A9-4AEE-997F-03DFFB0F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C10-5FB3-4ED5-B203-25ED99C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6ED6-2B3F-4BC1-B86F-DC0CBC93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AB3-FB7C-465C-8F01-3284B34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5C0-8A4A-4E94-AAE8-5A535F0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FAF-2978-40B5-9927-8E057D92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5A9-0D45-42D9-8B66-9E27DE0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659-1965-4E35-B319-A27FEF6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35C-AA60-416D-BAE9-F10DDC2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F58-FDF9-4EE2-9ABE-3052094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8628-4B04-4CBD-816B-52CECF7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479A-A671-448B-8F4D-FD5EAB6D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2D0A-78FB-4AC8-9D2B-6332946F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62A-05D2-4AA8-BA82-8E9A657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FB2-8173-4D4C-840E-C2BB81F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36F-0408-4638-83DD-249C519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7A6-E469-4AF8-A66B-17623417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B4C-AE3C-4A25-8EBE-FA0AE95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588-9A60-457A-A5C9-636A8CF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D1B-3A77-404F-8D18-A2F25E4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924-D60C-44DC-A94C-6F97AC21D0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EBD-A5AE-4254-BB87-7C55B1C555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7663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966040" y="5286240"/>
            <a:ext cx="52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Автор: Фесенко Александр Отто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Учитель ИЗО  МОУ «Высокоключев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Гатчинского района Ленин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86240" y="1599840"/>
            <a:ext cx="3400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ва́н Никола́евич Крамско́й (27 мая (8 июня) 1837, Острогожск — 24 марта (5 апреля) 1887, Санкт-Петербург) — русский живописец и рисовальщик, мастер жанровой, исторической и портретной живописи; художественный кри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E:\Наши документы\Документы - Папа\аттестационная папка\урок\6 класс Портрет в живописи, скульптуре, графике13. 01\Портреты 2\русский портрет 18-19 веков\Крамской\Иван Крамской.jpg"/>
          <p:cNvPicPr/>
          <p:nvPr/>
        </p:nvPicPr>
        <p:blipFill>
          <a:blip r:embed="rId1"/>
          <a:stretch/>
        </p:blipFill>
        <p:spPr>
          <a:xfrm>
            <a:off x="0" y="71280"/>
            <a:ext cx="5468760" cy="66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создании презентации использованы интернет ресурс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ru.wikipedia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school-collection.edu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rt-spb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seum-online.ru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ellf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blogs.prive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ltobzor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projek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tdesign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nime.crs.by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grafik.org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-in-exil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gigar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мской писал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астоящему художнику предстоит громадный труд... поставить перед лицом людей зеркало, от которого бы сердце их забило тревог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400" y="3214440"/>
            <a:ext cx="3328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́льбрехт Дю́рер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одился 21 мая 1471, в Нюрнберге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мер 6 апреля 1528, немецкий живописец и график, один из величайших мастеров западноевропейского искусства Ренессанс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E:\Наши документы\Документы - Папа\аттестационная папка\урок\6 класс Портрет в живописи, скульптуре, графике13. 01\портреты\Дюрер автопортрет.jpg"/>
          <p:cNvPicPr/>
          <p:nvPr/>
        </p:nvPicPr>
        <p:blipFill>
          <a:blip r:embed="rId1"/>
          <a:stretch/>
        </p:blipFill>
        <p:spPr>
          <a:xfrm>
            <a:off x="4143240" y="92160"/>
            <a:ext cx="4857840" cy="67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714560" y="928800"/>
            <a:ext cx="4071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она́рдо ди сер Пье́ро да Ви́нч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15 апреля 1452, село Анкиано, около городка Винчи, близ Флоренц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р 2 мая 1519, замок Кло-Люсэ, близ Амбуаза, Турень, Франция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кий итальянский художник (живописец, скульптор, архитектор) и учёный (анатом, математик, физик, естествоиспытатель), яркий представитель типа «универсального человека» — идеала итальянского Ренессан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го называли чародеем, служителем дьявола, итальянским Фаустом и божественным дух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опередил своё время на несколько ве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E:\Наши документы\Документы - Папа\аттестационная папка\урок\6 класс Портрет в живописи, скульптуре, графике13. 01\портреты\Possible_Self-Portrait_of_Leonardo_da_Vinci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5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56800"/>
            <a:ext cx="34718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́мбрандт Ха́рменс ван Рейн 1606—1669) нидерландский художник, рисовальщик и гравёр, великий мастер светотени, крупнейший представитель золотого века голландской живопис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ы Рембрандта, чрезвычайно разнообразные по жанровой принадлежности, открывают  зрителю вневременной  духовный мир человеческих переживаний и чув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2286000" y="10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E:\Наши документы\Документы - Папа\аттестационная папка\урок\6 класс Портрет в живописи, скульптуре, графике13. 01\Портреты 2\Рембрант ван Рейн\автопортрет 1661.jpg"/>
          <p:cNvPicPr/>
          <p:nvPr/>
        </p:nvPicPr>
        <p:blipFill>
          <a:blip r:embed="rId1"/>
          <a:stretch/>
        </p:blipFill>
        <p:spPr>
          <a:xfrm>
            <a:off x="6526080" y="-6429240"/>
            <a:ext cx="4151520" cy="4938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автопортрет 1661.jpg"/>
          <p:cNvPicPr/>
          <p:nvPr/>
        </p:nvPicPr>
        <p:blipFill>
          <a:blip r:embed="rId2"/>
          <a:stretch/>
        </p:blipFill>
        <p:spPr>
          <a:xfrm>
            <a:off x="4071960" y="714240"/>
            <a:ext cx="474336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286240" y="1642680"/>
            <a:ext cx="3471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ие́го Родри́гес де Си́льва и Вела́скес родился 6 июня 1599, в Севильи умер 6 августа 1660, в Мадриде Испанский художник, один из величайших представителей испанского золотого 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E:\Наши документы\Документы - Папа\аттестационная папка\урок\6 класс Портрет в живописи, скульптуре, графике13. 01\Портреты 2\Веласкес\автопортрет.jpg"/>
          <p:cNvPicPr/>
          <p:nvPr/>
        </p:nvPicPr>
        <p:blipFill>
          <a:blip r:embed="rId1"/>
          <a:stretch/>
        </p:blipFill>
        <p:spPr>
          <a:xfrm>
            <a:off x="500040" y="571680"/>
            <a:ext cx="4481640" cy="53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714240"/>
            <a:ext cx="3900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итер Пауль Ру́бен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одился 28 июня 1577 в Зигене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р 30 мая 1640, в Антверпен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лодовитый фламандский живописец, как никто другой воплотивший подвижность, безудержную жизненность и чувственность европейской живописи эпохи барокк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E:\Наши документы\Документы - Папа\аттестационная папка\урок\6 класс Портрет в живописи, скульптуре, графике13. 01\Портреты 2\рубенс.jpg"/>
          <p:cNvPicPr/>
          <p:nvPr/>
        </p:nvPicPr>
        <p:blipFill>
          <a:blip r:embed="rId1"/>
          <a:stretch/>
        </p:blipFill>
        <p:spPr>
          <a:xfrm>
            <a:off x="4500720" y="571680"/>
            <a:ext cx="4232160" cy="58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00480" y="1214280"/>
            <a:ext cx="404352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л Па́влович Брюлло́в родился(12 (23) декабря 1799, в Санкт-Петербург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р11 (23) июня 1852, в Манциане, в Итал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ий русский  художник, живописец, монументалист, акварелист, рисовальщик, представитель академизма, Член Миланской и Пармской академий, Академии Святого Луки в Риме, профессор Петербургской и Флорентийской академий художеств, почетный вольный сообщник Парижской академии искус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Брюллов\автопортрет.jpg"/>
          <p:cNvPicPr/>
          <p:nvPr/>
        </p:nvPicPr>
        <p:blipFill>
          <a:blip r:embed="rId1"/>
          <a:stretch/>
        </p:blipFill>
        <p:spPr>
          <a:xfrm>
            <a:off x="285840" y="500040"/>
            <a:ext cx="5000400" cy="589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642960"/>
            <a:ext cx="44006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си́лий Андре́евич Тропи́н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(19 (30 марта) 1776, с. Корпово Новгородской губернии умер 3 (15) мая 1857, в Москв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й живописец, мастер романтического и реалистического портре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Тропинин.jpg"/>
          <p:cNvPicPr/>
          <p:nvPr/>
        </p:nvPicPr>
        <p:blipFill>
          <a:blip r:embed="rId1"/>
          <a:stretch/>
        </p:blipFill>
        <p:spPr>
          <a:xfrm>
            <a:off x="4357800" y="500040"/>
            <a:ext cx="45291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35:29Z</dcterms:created>
  <dc:creator>Фесенко</dc:creator>
  <dc:description/>
  <dc:language>en-US</dc:language>
  <cp:lastModifiedBy>Фесенко</cp:lastModifiedBy>
  <dcterms:modified xsi:type="dcterms:W3CDTF">2010-10-03T12:55:35Z</dcterms:modified>
  <cp:revision>20</cp:revision>
  <dc:subject/>
  <dc:title>Великие портретисты</dc:title>
</cp:coreProperties>
</file>