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831-4872-4103-84AF-0D982AF8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9FD-0643-46C5-B498-E8A6C6FF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A6C-7251-4572-9F99-C963379D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614-3027-4132-82E4-61CCF7FF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8476-8E9E-423E-A0F4-20A31805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2224-5908-4104-95AE-AC02D7A0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4DC7-D523-4C58-95C6-C0612D2B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24B4-8FD2-4F9A-B121-947DA466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961C-9CA0-4C03-864A-0EBD23E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097E-0FF2-44BD-8B51-3652D73B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BF6C-2ABD-47A0-A354-E6D83D60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554-86D7-46A2-AE26-2EAF2AC5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A037-F19A-4592-A89C-B182FD83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0D9C-EFBB-4F58-939F-1897A67A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A4FB-66E7-4BA2-8491-A8F6004A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CB6A-21C7-43FA-B47B-A3F98A27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1801-09A9-432B-8CBD-C3173F97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8EE-4240-4D4A-8227-D569E9C6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586-9278-4ABC-AB89-30CF25F3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05C-D6FA-4A4D-93C4-175AA742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FC9-4763-494C-AE9C-06E869B9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BA7-593D-48C2-A28E-6D505BD9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512-00B5-423D-B084-404651DE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D2E-1DB5-4B4E-8CB0-59DE6A7B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6F31-ACDF-494D-B651-E8867946FFF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AABC-AEA5-4D55-AE79-371557B106E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49120" y="1365120"/>
            <a:ext cx="87663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966040" y="5286240"/>
            <a:ext cx="52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tScript"/>
              </a:rPr>
              <a:t>Автор: Фесенко Александр Оттови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tScript"/>
              </a:rPr>
              <a:t>Учитель ИЗО  МОУ «Высокоключев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tScript"/>
              </a:rPr>
              <a:t>Гатчинского района Ленинград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86240" y="1599840"/>
            <a:ext cx="34005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ва́н Никола́евич Крамско́й (27 мая (8 июня) 1837, Острогожск — 24 марта (5 апреля) 1887, Санкт-Петербург) — русский живописец и рисовальщик, мастер жанровой, исторической и портретной живописи; художественный кри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E:\Наши документы\Документы - Папа\аттестационная папка\урок\6 класс Портрет в живописи, скульптуре, графике13. 01\Портреты 2\русский портрет 18-19 веков\Крамской\Иван Крамской.jpg"/>
          <p:cNvPicPr/>
          <p:nvPr/>
        </p:nvPicPr>
        <p:blipFill>
          <a:blip r:embed="rId1"/>
          <a:stretch/>
        </p:blipFill>
        <p:spPr>
          <a:xfrm>
            <a:off x="0" y="71280"/>
            <a:ext cx="5468760" cy="66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 создании презентации использованы интернет ресурс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ru.wikipedia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school-collection.edu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art-spb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museum-online.ru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ellf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blogs.privet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multobzor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artprojekt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mtdesign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anime.crs.by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grafik.org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www.art-in-exil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http://gigart.r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амской писал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Настоящему художнику предстоит громадный труд... поставить перед лицом людей зеркало, от которого бы сердце их забило тревогу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28400" y="3214440"/>
            <a:ext cx="3328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́льбрехт Дю́рер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одился 21 мая 1471, в Нюрнберге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мер 6 апреля 1528, немецкий живописец и график, один из величайших мастеров западноевропейского искусства Ренессанс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E:\Наши документы\Документы - Папа\аттестационная папка\урок\6 класс Портрет в живописи, скульптуре, графике13. 01\портреты\Дюрер автопортрет.jpg"/>
          <p:cNvPicPr/>
          <p:nvPr/>
        </p:nvPicPr>
        <p:blipFill>
          <a:blip r:embed="rId1"/>
          <a:stretch/>
        </p:blipFill>
        <p:spPr>
          <a:xfrm>
            <a:off x="4143240" y="92160"/>
            <a:ext cx="4857840" cy="676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714560" y="928800"/>
            <a:ext cx="407196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она́рдо ди сер Пье́ро да Ви́нч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лся15 апреля 1452, село Анкиано, около городка Винчи, близ Флоренц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р 2 мая 1519, замок Кло-Люсэ, близ Амбуаза, Турень, Франция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ликий итальянский художник (живописец, скульптор, архитектор) и учёный (анатом, математик, физик, естествоиспытатель), яркий представитель типа «универсального человека» — идеала итальянского Ренессанс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го называли чародеем, служителем дьявола, итальянским Фаустом и божественным дух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н опередил своё время на несколько ве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E:\Наши документы\Документы - Папа\аттестационная папка\урок\6 класс Портрет в живописи, скульптуре, графике13. 01\портреты\Possible_Self-Portrait_of_Leonardo_da_Vinci.jpg"/>
          <p:cNvPicPr/>
          <p:nvPr/>
        </p:nvPicPr>
        <p:blipFill>
          <a:blip r:embed="rId1"/>
          <a:stretch/>
        </p:blipFill>
        <p:spPr>
          <a:xfrm>
            <a:off x="214200" y="142920"/>
            <a:ext cx="4357800" cy="65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856800"/>
            <a:ext cx="347184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́мбрандт Ха́рменс ван Рейн 1606—1669) нидерландский художник, рисовальщик и гравёр, великий мастер светотени, крупнейший представитель золотого века голландской живопис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ы Рембрандта, чрезвычайно разнообразные по жанровой принадлежности, открывают  зрителю вневременной  духовный мир человеческих переживаний и чувст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2286000" y="10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E:\Наши документы\Документы - Папа\аттестационная папка\урок\6 класс Портрет в живописи, скульптуре, графике13. 01\Портреты 2\Рембрант ван Рейн\автопортрет 1661.jpg"/>
          <p:cNvPicPr/>
          <p:nvPr/>
        </p:nvPicPr>
        <p:blipFill>
          <a:blip r:embed="rId1"/>
          <a:stretch/>
        </p:blipFill>
        <p:spPr>
          <a:xfrm>
            <a:off x="6526080" y="-6429240"/>
            <a:ext cx="4151520" cy="4938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автопортрет 1661.jpg"/>
          <p:cNvPicPr/>
          <p:nvPr/>
        </p:nvPicPr>
        <p:blipFill>
          <a:blip r:embed="rId2"/>
          <a:stretch/>
        </p:blipFill>
        <p:spPr>
          <a:xfrm>
            <a:off x="4071960" y="714240"/>
            <a:ext cx="4743360" cy="56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286240" y="1642680"/>
            <a:ext cx="3471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ие́го Родри́гес де Си́льва и Вела́скес родился 6 июня 1599, в Севильи умер 6 августа 1660, в Мадриде Испанский художник, один из величайших представителей испанского золотого ве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E:\Наши документы\Документы - Папа\аттестационная папка\урок\6 класс Портрет в живописи, скульптуре, графике13. 01\Портреты 2\Веласкес\автопортрет.jpg"/>
          <p:cNvPicPr/>
          <p:nvPr/>
        </p:nvPicPr>
        <p:blipFill>
          <a:blip r:embed="rId1"/>
          <a:stretch/>
        </p:blipFill>
        <p:spPr>
          <a:xfrm>
            <a:off x="500040" y="571680"/>
            <a:ext cx="4481640" cy="53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714240"/>
            <a:ext cx="39006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итер Пауль Ру́бенс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родился 28 июня 1577 в Зигене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мер 30 мая 1640, в Антверпен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лодовитый фламандский живописец, как никто другой воплотивший подвижность, безудержную жизненность и чувственность европейской живописи эпохи барокко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E:\Наши документы\Документы - Папа\аттестационная папка\урок\6 класс Портрет в живописи, скульптуре, графике13. 01\Портреты 2\рубенс.jpg"/>
          <p:cNvPicPr/>
          <p:nvPr/>
        </p:nvPicPr>
        <p:blipFill>
          <a:blip r:embed="rId1"/>
          <a:stretch/>
        </p:blipFill>
        <p:spPr>
          <a:xfrm>
            <a:off x="4500720" y="571680"/>
            <a:ext cx="4232160" cy="58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00480" y="1214280"/>
            <a:ext cx="404352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л Па́влович Брюлло́в родился(12 (23) декабря 1799, в Санкт-Петербург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р11 (23) июня 1852, в Манциане, в Итал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ликий русский  художник, живописец, монументалист, акварелист, рисовальщик, представитель академизма, Член Миланской и Пармской академий, Академии Святого Луки в Риме, профессор Петербургской и Флорентийской академий художеств, почетный вольный сообщник Парижской академии искусст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E:\Наши документы\Документы - Папа\аттестационная папка\урок\6 класс Портрет в живописи, скульптуре, графике13. 01\Портреты 2\русский портрет 18-19 веков\Брюллов\автопортрет.jpg"/>
          <p:cNvPicPr/>
          <p:nvPr/>
        </p:nvPicPr>
        <p:blipFill>
          <a:blip r:embed="rId1"/>
          <a:stretch/>
        </p:blipFill>
        <p:spPr>
          <a:xfrm>
            <a:off x="285840" y="500040"/>
            <a:ext cx="5000400" cy="589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642960"/>
            <a:ext cx="440064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си́лий Андре́евич Тропи́ни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дился (19 (30 марта) 1776, с. Корпово Новгородской губернии умер 3 (15) мая 1857, в Москв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сский живописец, мастер романтического и реалистического портре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E:\Наши документы\Документы - Папа\аттестационная папка\урок\6 класс Портрет в живописи, скульптуре, графике13. 01\Портреты 2\русский портрет 18-19 веков\Тропинин.jpg"/>
          <p:cNvPicPr/>
          <p:nvPr/>
        </p:nvPicPr>
        <p:blipFill>
          <a:blip r:embed="rId1"/>
          <a:stretch/>
        </p:blipFill>
        <p:spPr>
          <a:xfrm>
            <a:off x="4357800" y="500040"/>
            <a:ext cx="452916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1:35:29Z</dcterms:created>
  <dc:creator>Фесенко</dc:creator>
  <dc:description/>
  <dc:language>en-US</dc:language>
  <cp:lastModifiedBy>Фесенко</cp:lastModifiedBy>
  <dcterms:modified xsi:type="dcterms:W3CDTF">2010-10-03T12:55:35Z</dcterms:modified>
  <cp:revision>20</cp:revision>
  <dc:subject/>
  <dc:title>Великие портретисты</dc:title>
</cp:coreProperties>
</file>