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1C0A-14FC-4710-AE9D-726545F7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5367-B261-4775-AC9A-B9B9CDE8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6A20-3F08-41CA-B1A2-00C9102B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3210-FFDD-4E66-9BFA-00A3CFB35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E34B-9CA7-425B-B577-DF2A22A2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2B70-3681-4C56-8877-198E18FC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DF55-DE87-4EA2-9678-D39E9F88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047E-F49C-494D-B6C6-24CBDFF4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16DA-0A40-4FFA-8FCB-FA320491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A2E5-F96D-4CAA-A0A2-C9082FA1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EC0F-68C6-42F8-AB88-D7AAEA23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23A4-C1C8-4646-8849-497274C3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B766-8C49-4640-B560-39031077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F47F-05C2-4797-897F-0495D5E6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74B6-2A7F-4A41-9B3C-C44C0693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A278-3494-479B-A2A6-CE54EDF5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3745-9998-42DB-88ED-F236A2EA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123A-D42D-433D-9080-8617A0C1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62B0-F64B-44D6-855D-08988DB3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A47F-22A4-43B6-B8DC-536B4732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25AD-843F-4D67-90C6-5768BE2E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E0AE-CD2D-42B5-B2D2-0BA7A5D3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408D-BCE9-44F7-BA30-0924F99E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AB47-BEA8-4A7C-A527-D8CE4940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438D-7247-4DAE-9827-09B694A2C46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4200-4A58-45D2-AEEF-46CD8C7B4F0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49120" y="1365120"/>
            <a:ext cx="876636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2966040" y="5286240"/>
            <a:ext cx="522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tScript"/>
              </a:rPr>
              <a:t>Автор: Фесенко Александр Оттови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tScript"/>
              </a:rPr>
              <a:t>Учитель ИЗО  МОУ «Высокоключевая СОШ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tScript"/>
              </a:rPr>
              <a:t>Гатчинского района Ленинград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286240" y="1599840"/>
            <a:ext cx="34005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ва́н Никола́евич Крамско́й (27 мая (8 июня) 1837, Острогожск — 24 марта (5 апреля) 1887, Санкт-Петербург) — русский живописец и рисовальщик, мастер жанровой, исторической и портретной живописи; художественный крити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3" descr="E:\Наши документы\Документы - Папа\аттестационная папка\урок\6 класс Портрет в живописи, скульптуре, графике13. 01\Портреты 2\русский портрет 18-19 веков\Крамской\Иван Крамской.jpg"/>
          <p:cNvPicPr/>
          <p:nvPr/>
        </p:nvPicPr>
        <p:blipFill>
          <a:blip r:embed="rId1"/>
          <a:stretch/>
        </p:blipFill>
        <p:spPr>
          <a:xfrm>
            <a:off x="0" y="71280"/>
            <a:ext cx="5468760" cy="664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и создании презентации использованы интернет ресурсы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ru.wikipedia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school-collection.edu.r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art-spb.r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www.museum-online.ru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www.ellf.r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blogs.privet.r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www.multobzor.r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www.artprojekt.r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www.mtdesign.r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anime.crs.by.r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www.grafik.org.r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www.art-in-exil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gigart.r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амской писал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Настоящему художнику предстоит громадный труд... поставить перед лицом людей зеркало, от которого бы сердце их забило тревогу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28400" y="3214440"/>
            <a:ext cx="3328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А́льбрехт Дю́рер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родился 21 мая 1471, в Нюрнберге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мер 6 апреля 1528, немецкий живописец и график, один из величайших мастеров западноевропейского искусства Ренессанс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2" descr="E:\Наши документы\Документы - Папа\аттестационная папка\урок\6 класс Портрет в живописи, скульптуре, графике13. 01\портреты\Дюрер автопортрет.jpg"/>
          <p:cNvPicPr/>
          <p:nvPr/>
        </p:nvPicPr>
        <p:blipFill>
          <a:blip r:embed="rId1"/>
          <a:stretch/>
        </p:blipFill>
        <p:spPr>
          <a:xfrm>
            <a:off x="4143240" y="92160"/>
            <a:ext cx="4857840" cy="676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714560" y="928800"/>
            <a:ext cx="407196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еона́рдо ди сер Пье́ро да Ви́нчи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дился15 апреля 1452, село Анкиано, около городка Винчи, близ Флоренц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мер 2 мая 1519, замок Кло-Люсэ, близ Амбуаза, Турень, Франция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ликий итальянский художник (живописец, скульптор, архитектор) и учёный (анатом, математик, физик, естествоиспытатель), яркий представитель типа «универсального человека» — идеала итальянского Ренессанс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го называли чародеем, служителем дьявола, итальянским Фаустом и божественным дух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н опередил своё время на несколько век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" descr="E:\Наши документы\Документы - Папа\аттестационная папка\урок\6 класс Портрет в живописи, скульптуре, графике13. 01\портреты\Possible_Self-Portrait_of_Leonardo_da_Vinci.jpg"/>
          <p:cNvPicPr/>
          <p:nvPr/>
        </p:nvPicPr>
        <p:blipFill>
          <a:blip r:embed="rId1"/>
          <a:stretch/>
        </p:blipFill>
        <p:spPr>
          <a:xfrm>
            <a:off x="214200" y="142920"/>
            <a:ext cx="4357800" cy="658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856800"/>
            <a:ext cx="347184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́мбрандт Ха́рменс ван Рейн 1606—1669) нидерландский художник, рисовальщик и гравёр, великий мастер светотени, крупнейший представитель золотого века голландской живопис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боты Рембрандта, чрезвычайно разнообразные по жанровой принадлежности, открывают  зрителю вневременной  духовный мир человеческих переживаний и чувст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2286000" y="102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3" descr="E:\Наши документы\Документы - Папа\аттестационная папка\урок\6 класс Портрет в живописи, скульптуре, графике13. 01\Портреты 2\Рембрант ван Рейн\автопортрет 1661.jpg"/>
          <p:cNvPicPr/>
          <p:nvPr/>
        </p:nvPicPr>
        <p:blipFill>
          <a:blip r:embed="rId1"/>
          <a:stretch/>
        </p:blipFill>
        <p:spPr>
          <a:xfrm>
            <a:off x="6526080" y="-6429240"/>
            <a:ext cx="4151520" cy="49384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8" descr="автопортрет 1661.jpg"/>
          <p:cNvPicPr/>
          <p:nvPr/>
        </p:nvPicPr>
        <p:blipFill>
          <a:blip r:embed="rId2"/>
          <a:stretch/>
        </p:blipFill>
        <p:spPr>
          <a:xfrm>
            <a:off x="4071960" y="714240"/>
            <a:ext cx="4743360" cy="564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286240" y="1642680"/>
            <a:ext cx="34718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ие́го Родри́гес де Си́льва и Вела́скес родился 6 июня 1599, в Севильи умер 6 августа 1660, в Мадриде Испанский художник, один из величайших представителей испанского золотого ве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2" descr="E:\Наши документы\Документы - Папа\аттестационная папка\урок\6 класс Портрет в живописи, скульптуре, графике13. 01\Портреты 2\Веласкес\автопортрет.jpg"/>
          <p:cNvPicPr/>
          <p:nvPr/>
        </p:nvPicPr>
        <p:blipFill>
          <a:blip r:embed="rId1"/>
          <a:stretch/>
        </p:blipFill>
        <p:spPr>
          <a:xfrm>
            <a:off x="500040" y="571680"/>
            <a:ext cx="4481640" cy="53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6840" y="714240"/>
            <a:ext cx="390060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итер Пауль Ру́бенс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одился 28 июня 1577 в Зигене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мер 30 мая 1640, в Антверпене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лодовитый фламандский живописец, как никто другой воплотивший подвижность, безудержную жизненность и чувственность европейской живописи эпохи барокко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" descr="E:\Наши документы\Документы - Папа\аттестационная папка\урок\6 класс Портрет в живописи, скульптуре, графике13. 01\Портреты 2\рубенс.jpg"/>
          <p:cNvPicPr/>
          <p:nvPr/>
        </p:nvPicPr>
        <p:blipFill>
          <a:blip r:embed="rId1"/>
          <a:stretch/>
        </p:blipFill>
        <p:spPr>
          <a:xfrm>
            <a:off x="4500720" y="571680"/>
            <a:ext cx="4232160" cy="581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100480" y="1214280"/>
            <a:ext cx="4043520" cy="53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рл Па́влович Брюлло́в родился(12 (23) декабря 1799, в Санкт-Петербург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мер11 (23) июня 1852, в Манциане, в Итали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ликий русский  художник, живописец, монументалист, акварелист, рисовальщик, представитель академизма, Член Миланской и Пармской академий, Академии Святого Луки в Риме, профессор Петербургской и Флорентийской академий художеств, почетный вольный сообщник Парижской академии искусст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2" descr="E:\Наши документы\Документы - Папа\аттестационная папка\урок\6 класс Портрет в живописи, скульптуре, графике13. 01\Портреты 2\русский портрет 18-19 веков\Брюллов\автопортрет.jpg"/>
          <p:cNvPicPr/>
          <p:nvPr/>
        </p:nvPicPr>
        <p:blipFill>
          <a:blip r:embed="rId1"/>
          <a:stretch/>
        </p:blipFill>
        <p:spPr>
          <a:xfrm>
            <a:off x="285840" y="500040"/>
            <a:ext cx="5000400" cy="589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642960"/>
            <a:ext cx="440064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аси́лий Андре́евич Тропи́нин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ился (19 (30 марта) 1776, с. Корпово Новгородской губернии умер 3 (15) мая 1857, в Москв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усский живописец, мастер романтического и реалистического портрет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2" descr="E:\Наши документы\Документы - Папа\аттестационная папка\урок\6 класс Портрет в живописи, скульптуре, графике13. 01\Портреты 2\русский портрет 18-19 веков\Тропинин.jpg"/>
          <p:cNvPicPr/>
          <p:nvPr/>
        </p:nvPicPr>
        <p:blipFill>
          <a:blip r:embed="rId1"/>
          <a:stretch/>
        </p:blipFill>
        <p:spPr>
          <a:xfrm>
            <a:off x="4357800" y="500040"/>
            <a:ext cx="452916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1:35:29Z</dcterms:created>
  <dc:creator>Фесенко</dc:creator>
  <dc:description/>
  <dc:language>en-US</dc:language>
  <cp:lastModifiedBy>Фесенко</cp:lastModifiedBy>
  <dcterms:modified xsi:type="dcterms:W3CDTF">2010-10-03T12:55:35Z</dcterms:modified>
  <cp:revision>20</cp:revision>
  <dc:subject/>
  <dc:title>Великие портретисты</dc:title>
</cp:coreProperties>
</file>