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2D00-4989-48BD-82D4-B9AF4BE38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B34-4B50-4F51-A635-5394DB41B6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174A-74E3-4129-ACCB-DACBE8BB4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6F3-0D2E-4571-BB5D-DEFC7058B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CE3-9EEC-4884-B76D-348F4E664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9A1-D3DD-4689-AA4C-D8D52F3E2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3C31-29D0-4BF4-89CB-CEA1F8DEC3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B411-DB3F-4E98-859C-0D32DF960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3FC-C95E-4B20-84E5-C9056D92E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CD4-9C25-4C1A-8275-F1D804D191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C12-362C-4380-9598-16D6CB2A9A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2F08-BD9D-4E42-96EB-B504AD3AB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98B-AD5E-4766-9514-26260F3370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892A-53E3-455C-9D6E-D4FB5B060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A36-3075-45FC-924E-877FAE444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124B-3F0B-4671-B57F-BE64A230D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975-92E2-4321-99A3-DA22B8084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2630-E84D-4710-B16D-BA4624024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D80F-8A33-477D-A626-60C45735CB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2A1-3E7C-445B-B073-34AEC60AD7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190-6F41-41A2-B886-C862BD061A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B40-6094-46D5-93E9-46A879B5A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AB0-3D69-41F4-A3DB-49C64A8AA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58A3-2641-471D-B0AE-EDBE60283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27B-31C7-4A10-9BB9-E05C8E6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9AE-C3F2-430C-9366-01BF3C6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4F5-B87D-4D0D-987B-4A78EF76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AFE-CEF5-4DBE-8D29-EBCC6E4B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ED9-F53A-4509-8DAC-76784968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5137-7140-4AF9-988C-5017A44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C66D-6158-4BB7-A427-FAFEFAA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2357-30B5-4611-98D6-719F4B21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58C-EC39-4F6C-8A52-A891A4D4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FC42-9915-48C3-B861-F945F49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75A4-10F7-4824-8783-BF1435B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E59-8324-4D41-9BBF-2923513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8D8-0CEE-40B0-A0FE-C8712D8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AAF3-FA1C-4841-966A-1A7E3BE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0AC9-F463-4233-BDC7-3C0C442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79A-F71F-4722-96B1-32BA716E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6A53-9ADB-4899-9328-1C51E902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4BFB-A490-457A-9466-F454F7B3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8A78-9335-4701-9D3E-0BEEBDA7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AF1C-1A5B-4C10-842D-F46539E0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B985-574E-44BC-B655-0DD9FABA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4B173-55CF-490C-98E7-051C428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920-3CCA-4B65-B6C0-14A1E83B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B829-EB53-4D8F-BE07-70F29EE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B383-FA33-4878-B4CB-F742F20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B5B2-947B-433A-A787-80CA3CF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8B2B-7378-4E23-A61E-6443CDB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CA41-8225-421E-8EA8-C2B05C2D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FC23-36F2-4DC2-AA79-01F82D67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C988-5AC2-42FA-806D-AEAE79D3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F75F-119C-48EE-BDAC-E0DE95A4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CCFD-D137-48D2-ABF9-2932AF1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807C-4B52-4E0A-8CAE-194F03F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A8C-7328-44B3-8818-D06BE564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4204-4B3B-4B8C-A8E6-B5DD1E1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FC09-8BD0-4196-B48B-D20C9ABE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39FC-9B40-46FF-959C-BF1EF23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3DCA-D299-4922-A907-451D547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7E1E-6D36-4AF3-8279-A1198B7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C6FF-4BFC-4A44-96BD-B3114C3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A2C1-8C69-4B0D-AB5B-91D036E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D171-43B1-4EB2-B53E-2FE4ACAB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3053-A536-4D45-907E-64FC15B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9C0D-BF37-42FB-B01F-5583A6C5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987-DC4A-4902-8039-81F464E1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A0E6-C67F-4AF1-9A26-BE02EC3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5C59-8AAD-4EE0-9C18-EA230D8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BE2F-42E8-4027-B649-33BD3564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9619-0082-447A-9724-D07016E6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2A1B-3E67-4695-B2CC-C1BF01C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DF2AC-7D86-4BF9-911B-F13CFB4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0C40-E3C0-4492-BC7B-4892FA6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BF92-D9A2-45FE-B2A2-50BB013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8C3E-370D-4000-A463-42F967F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F02B-CB07-4638-8926-DBDF6285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0F5-7F79-4727-BADD-7B6574E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FBA6-C597-482C-B7E0-B89FD54E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B78-4F89-4FF2-843A-08B77BC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B76-0208-4901-9882-84AC57C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A33-4CEB-4CE3-A2AC-2598100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154-5DEB-4448-B80C-95FBF23DA8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CB6-1B6D-4BE9-ACD3-B88CE924E4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897-D529-4DAF-BAF0-3C6EEB4D37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F99-58E5-4E14-88D1-99DD6E8CE41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9CA-1FDF-4A75-B700-DE817BB5CA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reation.xpictoc.com/wp-content/uploads/2007/10/image004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5" descr=""/>
          <p:cNvPicPr/>
          <p:nvPr/>
        </p:nvPicPr>
        <p:blipFill>
          <a:blip r:embed="rId1"/>
          <a:stretch/>
        </p:blipFill>
        <p:spPr>
          <a:xfrm>
            <a:off x="706320" y="566640"/>
            <a:ext cx="7785360" cy="308448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3"/>
          <p:cNvSpPr/>
          <p:nvPr/>
        </p:nvSpPr>
        <p:spPr>
          <a:xfrm>
            <a:off x="4429080" y="5072040"/>
            <a:ext cx="4514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3995640" y="49417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ОУ «Черемш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», села Черемшан,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2"/>
          <p:cNvSpPr/>
          <p:nvPr/>
        </p:nvSpPr>
        <p:spPr>
          <a:xfrm>
            <a:off x="611280" y="476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Морфологические доказатель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95280" y="1844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реходные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личие в современной флоре и фауне переходных форм (эвглена зеленая, латимерия, утконо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3"/>
          <a:stretch/>
        </p:blipFill>
        <p:spPr>
          <a:xfrm>
            <a:off x="3564000" y="4753080"/>
            <a:ext cx="3095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2. Гомологичные орган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6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омологичные органы-образования, сходные друг с другом по общему плану строения, положению в теле и возникновению в процессе онтоген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4720" y="213336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4" descr="Гомологичные органы"/>
          <p:cNvPicPr/>
          <p:nvPr/>
        </p:nvPicPr>
        <p:blipFill>
          <a:blip r:embed="rId1"/>
          <a:stretch/>
        </p:blipFill>
        <p:spPr>
          <a:xfrm>
            <a:off x="4643280" y="2133720"/>
            <a:ext cx="4034160" cy="3527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95" name="Прямоугольник 8"/>
          <p:cNvSpPr/>
          <p:nvPr/>
        </p:nvSpPr>
        <p:spPr>
          <a:xfrm>
            <a:off x="684360" y="2276640"/>
            <a:ext cx="35272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личные по внешнему виду и функциям конечности млекопитающих имеют сходный план строения и формирования: кости плеча, предплечья, запястья, пясти, фаланг пальце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9"/>
          <p:cNvSpPr/>
          <p:nvPr/>
        </p:nvSpPr>
        <p:spPr>
          <a:xfrm>
            <a:off x="4427640" y="580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омология передних конечностей млекопит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05600" y="5361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8436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личие</a:t>
            </a:r>
            <a:r>
              <a:rPr b="1" lang="ru-RU" sz="2400" spc="-1" strike="noStrike">
                <a:solidFill>
                  <a:srgbClr val="e2d7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удиментов – недоразвитых органов, утративших свое основное значение в ходе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24000" y="4653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 задних конечностей пи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324000" y="1916280"/>
          <a:ext cx="23050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2305080" cy="23018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755640" y="277920"/>
            <a:ext cx="79311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3. Рудиментарные орг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рудименты у питона и кита"/>
          <p:cNvPicPr/>
          <p:nvPr/>
        </p:nvPicPr>
        <p:blipFill>
          <a:blip r:embed="rId3"/>
          <a:stretch/>
        </p:blipFill>
        <p:spPr>
          <a:xfrm>
            <a:off x="3419640" y="1916280"/>
            <a:ext cx="1873080" cy="4681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04" name="Прямоугольник 9"/>
          <p:cNvSpPr/>
          <p:nvPr/>
        </p:nvSpPr>
        <p:spPr>
          <a:xfrm>
            <a:off x="5724360" y="450864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задние конечности питона свидетельствуют о его происхождении от организмов с развитыми конеч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5651640" y="1700280"/>
            <a:ext cx="324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косточки у китообразных на месте тазового пояса указывают на происхождение китов и дельфинов от типичных четвероно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332000" y="404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удиментарные органы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рудименты у человека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32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8980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4. Атавистические органы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тавизмы– это органы (или структуры, показывающие «возврат к предкам», в норме не встречающихся у современных фор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11" descr="217842"/>
          <p:cNvPicPr/>
          <p:nvPr/>
        </p:nvPicPr>
        <p:blipFill>
          <a:blip r:embed="rId1"/>
          <a:stretch/>
        </p:blipFill>
        <p:spPr>
          <a:xfrm>
            <a:off x="2124000" y="2924280"/>
            <a:ext cx="5327640" cy="35067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611280" y="220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тавизмы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116000" y="11592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леон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468360" y="1557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. Сведения о филогенетических (эволюционных) рядах – ископаемых форм, связанные друг с другом в процессе эволюции и отражающие ход филоген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история лошадей"/>
          <p:cNvPicPr/>
          <p:nvPr/>
        </p:nvPicPr>
        <p:blipFill>
          <a:blip r:embed="rId1"/>
          <a:stretch/>
        </p:blipFill>
        <p:spPr>
          <a:xfrm>
            <a:off x="4427640" y="4149720"/>
            <a:ext cx="4465440" cy="2519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315" name="Picture 5" descr="переходные ряды лошадь"/>
          <p:cNvPicPr/>
          <p:nvPr/>
        </p:nvPicPr>
        <p:blipFill>
          <a:blip r:embed="rId2"/>
          <a:stretch/>
        </p:blipFill>
        <p:spPr>
          <a:xfrm>
            <a:off x="250920" y="2852640"/>
            <a:ext cx="4032000" cy="2081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16" name="Прямоугольник 5"/>
          <p:cNvSpPr/>
          <p:nvPr/>
        </p:nvSpPr>
        <p:spPr>
          <a:xfrm>
            <a:off x="179280" y="5084640"/>
            <a:ext cx="40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волюционное древо семейства лошадиных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 Эогиппус; 2 – Миогиппус; 3 – Меригиппус; 4 – Плиогиппус; 5 – Эквус (современная лоша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4716360" y="249228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личие многих последовательно сменяющих друг друга форм позволило построить филогенетический ряд от эогиппуса до современной лош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1116000" y="189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Сведения об ископаемых переходных  формах организ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Картинка 1 из 1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16280"/>
            <a:ext cx="3743280" cy="23047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4"/>
          <p:cNvSpPr/>
          <p:nvPr/>
        </p:nvSpPr>
        <p:spPr>
          <a:xfrm>
            <a:off x="4788000" y="1844640"/>
            <a:ext cx="3887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рептил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инный хвост с несросшимися позв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рюшные 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ые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4788000" y="4005360"/>
            <a:ext cx="36716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пти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покрыто 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ние конечности превращены в 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826920" y="436572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рхеоптерик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переходная форма от рептилий к птицам юрского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2411280" y="476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Ихтиостега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431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25" name="Прямоугольник 3"/>
          <p:cNvSpPr/>
          <p:nvPr/>
        </p:nvSpPr>
        <p:spPr>
          <a:xfrm>
            <a:off x="684360" y="5445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– ископаемая форма, которая позволяет связать рыб с наземными позвоно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1800" y="2565360"/>
            <a:ext cx="543420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611280" y="33336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Биогеографически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96000" y="24548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) Палеоарктическую (Европа, Северная Африка, Северная и Средняя Азия, Япо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) Неоарктическую (Север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) Эфиопскую (Африка к югу от Сахар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Индомалайскую (Южная Азия, Малайский архипелаг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) Неотропическую (Южная и Централь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) Австралийскую (Австралия, Новая Гвинея, Новая Зеландия, Новая Каледо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611280" y="1628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Особенности распространения животных и растений по разным континен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Object 4"/>
          <p:cNvGraphicFramePr/>
          <p:nvPr/>
        </p:nvGraphicFramePr>
        <p:xfrm>
          <a:off x="4572000" y="1628640"/>
          <a:ext cx="3816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28640"/>
                    <a:ext cx="381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324000" y="1628640"/>
          <a:ext cx="3600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628640"/>
                    <a:ext cx="3600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Прямоугольник 3"/>
          <p:cNvSpPr/>
          <p:nvPr/>
        </p:nvSpPr>
        <p:spPr>
          <a:xfrm>
            <a:off x="324000" y="3789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 flipV="1" rot="10800000">
            <a:off x="5363640" y="393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35 млн.лет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324000" y="62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личия или сходства состава флоры и фауны могут быть связаны со временем геологического разделения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2195640" y="4365720"/>
          <a:ext cx="396072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365720"/>
                    <a:ext cx="3960720" cy="18716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Прямоугольник 9"/>
          <p:cNvSpPr/>
          <p:nvPr/>
        </p:nvSpPr>
        <p:spPr>
          <a:xfrm>
            <a:off x="2195640" y="630864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Южная Америка.       Юго-Восточная 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24000" y="189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сновны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684360" y="17733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Сходный химический состав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Общий план строения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Универсальность генетическ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Единые принципы хранения, реализации и передачи генетическ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Эмбриональны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Морф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Палеонт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 Биогеограф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9. Паразитологические доказательства эволюц</a:t>
            </a:r>
            <a:r>
              <a:rPr b="0" i="1" lang="ru-RU" sz="2400" spc="-1" strike="noStrike">
                <a:solidFill>
                  <a:srgbClr val="0b5395"/>
                </a:solidFill>
                <a:latin typeface="Arial"/>
              </a:rPr>
              <a:t>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42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468360" y="141300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некоторых случаях эффективным оказывается использование паразитологического метода изучения эволюции. Многочисленными исследованиями доказано, что эволюция паразитов и хозяев происходит сопряженно. В некоторых группах паразиты оказываются специфическими для видов, родов или семейств. Поэтому по присутствию определенных паразитов можно с большой точностью судить о филогенетических связях видов-хозя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1332000" y="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рази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959280" cy="2519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4572000" y="4149720"/>
            <a:ext cx="417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ы́чий (невооружённый) це́пень (солитёр)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 — вид паразитических ленточных червей семейства  Тенииды. Поражает крупный рогатый скот и человека, вызывая тениаринхоз. Заражение бычьим цепнем особенно распространено в экваториальной Африке, Латинской Америке, на Филиппинах и в некоторых частях Восточ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816360" cy="32400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2"/>
          <p:cNvSpPr/>
          <p:nvPr/>
        </p:nvSpPr>
        <p:spPr>
          <a:xfrm>
            <a:off x="4211640" y="1197000"/>
            <a:ext cx="468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тропических лесах острова Суматры растет самый большой цветок в мире — раффлезия Арнольди. Красный, мясистый, с гнилостным запахом, он бывает иногда больше метра в диаметре. У цветка нет ни побегов, ни листьев, ни стеблей, они превратились в клеточные нити и вросли в ствол растения, за счет которого и существует этот колоссальный цветок. С ботанической точки зрения, раффлезия Арнольди является примером наивысшего паразитизма сред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50920" y="458136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южных районах нашей страны очень часто на ветках тополей и плодовых деревьев поселяется растение омела — сильно ветвящийся многолетний кустарник. Это растение благодаря своим листьям еще способно к фотосинтезу, но воду и минеральные вещества оно отнимает у деревьев с помощью присосок, проникающих в древесину растения-хозя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5076720" y="630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ья, поражённые оме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1476360" y="260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стения-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Сходный химический состав клеток всех живых организмов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одержание некоторых химических элементов в клетке (в % на сухую массу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ислород 65-75; Углерод 15-18; Водород 8-10; Магний 0,02-0,03; Натрий 0,02-0,03; Кальций 0,04-2,00; Азот 1,5-3,0; Калий 0,15-0,4; Сера 0,15-0,2; Фосфор 0,20-1,00; Хлор 0,05-0,10; Железо 0,01-0,015; Цинк 0,0003; Медь 0,0002; Йод 0,0001; Фтор 0,000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5280" y="3333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бщий план строения клеток всех живых организ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Documents and Settings\Loner\Рабочий стол\600px-Biological_cell_ru.svg.png"/>
          <p:cNvPicPr/>
          <p:nvPr/>
        </p:nvPicPr>
        <p:blipFill>
          <a:blip r:embed="rId1"/>
          <a:stretch/>
        </p:blipFill>
        <p:spPr>
          <a:xfrm>
            <a:off x="395280" y="2781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Loner\Рабочий стол\saltwater3.jpg"/>
          <p:cNvPicPr/>
          <p:nvPr/>
        </p:nvPicPr>
        <p:blipFill>
          <a:blip r:embed="rId2"/>
          <a:stretch/>
        </p:blipFill>
        <p:spPr>
          <a:xfrm>
            <a:off x="4572000" y="278136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611280" y="5661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летка животных                            клетка растений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0" y="333360"/>
            <a:ext cx="896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Генетические доказательства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ниверсальность генетического к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Loner\Рабочий стол\gencod-06.gif"/>
          <p:cNvPicPr/>
          <p:nvPr/>
        </p:nvPicPr>
        <p:blipFill>
          <a:blip r:embed="rId1"/>
          <a:stretch/>
        </p:blipFill>
        <p:spPr>
          <a:xfrm>
            <a:off x="468360" y="2492280"/>
            <a:ext cx="5543640" cy="40323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04000" y="2492280"/>
            <a:ext cx="208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ин и тот же триплет кодирует один и тот же тип аминокислоты у все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-38772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Единые принципы хранения, реализации и передачи генетической информации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диные принципы хранения, реализации и передачи генетической информации-- генетическая информация в клетке хранится в форме нуклеиновых кислот. Реализуется генетическая информация в процессе транскрипции и трансляции, основанных на принципе матричного синт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и доказательства позволяют уточнить филогенетичекую близость разных групп животных и растений. При этом используются цитогенетические методы, методы ДНК, гибрид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Эмбриональные доказательств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0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3280" y="1860480"/>
            <a:ext cx="3683160" cy="99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Принцип рекапитуляции –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2852640"/>
            <a:ext cx="4040280" cy="3508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XIX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еке выдающийся натуралист К.Бэр сформулировал этот закон: чем более ранние стадии индивидуального развития исследуются, тем больше сходства обнаруживается между различными организм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4720" y="3141720"/>
            <a:ext cx="4041720" cy="352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оцессе онтогенеза повторяются (рекапитулируют) многие черты строения предковых форм: на ранних стадиях – более отдаленных предков, на поздних стадиях – близких пред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95280" y="1305000"/>
            <a:ext cx="3672000" cy="88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юбой живой организм, который размножается половым путем начинает свое развитие со стадии зиг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кон зародышевого сходства – представители разных групп организмов на ранних стадиях эмбриогенеза обычно более сходны друг с другом, чем взрослые о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иогенетический закон – онтогенез всякого организма есть краткое повторение его филогенеза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4284720" y="1844640"/>
          <a:ext cx="43909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43909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8"/>
          <p:cNvSpPr/>
          <p:nvPr/>
        </p:nvSpPr>
        <p:spPr>
          <a:xfrm>
            <a:off x="4211640" y="1125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дии эмбрионального развития позвоночных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1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116000" y="333360"/>
            <a:ext cx="748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 Принцип рекапитуляц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24000" y="227664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, не умеющий разговаривать пользуется языком мимики и жестов, что и детеныш обезь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4932360" y="1413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всех позвоночных на определенной стадии развития существует 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Внутреннее строение ланцетника"/>
          <p:cNvPicPr/>
          <p:nvPr/>
        </p:nvPicPr>
        <p:blipFill>
          <a:blip r:embed="rId2"/>
          <a:stretch/>
        </p:blipFill>
        <p:spPr>
          <a:xfrm>
            <a:off x="4427640" y="2276640"/>
            <a:ext cx="2952720" cy="19429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84" name="Picture 10" descr="Консументы первого порядка"/>
          <p:cNvPicPr/>
          <p:nvPr/>
        </p:nvPicPr>
        <p:blipFill>
          <a:blip r:embed="rId3"/>
          <a:stretch/>
        </p:blipFill>
        <p:spPr>
          <a:xfrm>
            <a:off x="3780000" y="4437000"/>
            <a:ext cx="2592360" cy="2193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85" name="Прямоугольник 7"/>
          <p:cNvSpPr/>
          <p:nvPr/>
        </p:nvSpPr>
        <p:spPr>
          <a:xfrm>
            <a:off x="6443640" y="4437000"/>
            <a:ext cx="27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многих насекомых личиночная стадия (гусеница – личинка) напоминает чер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27:08Z</dcterms:created>
  <dc:creator>Grey Wolf</dc:creator>
  <dc:description/>
  <dc:language>en-US</dc:language>
  <cp:lastModifiedBy>Коля</cp:lastModifiedBy>
  <dcterms:modified xsi:type="dcterms:W3CDTF">2013-05-15T18:00:34Z</dcterms:modified>
  <cp:revision>92</cp:revision>
  <dc:subject/>
  <dc:title>ДОКАЗАТЕЛЬСТВА ЭВОЛЮЦИИ</dc:title>
</cp:coreProperties>
</file>