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9.png" ContentType="image/png"/>
  <Override PartName="/ppt/media/image38.jpeg" ContentType="image/jpe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5241-06ED-4167-AC81-97D52B5CD0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F95C-15BD-41BD-B80B-F0B109CE14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3F5-DD5A-498E-84EB-65994E4204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11FE-EDF3-40F1-8E14-82FB26CD26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E4FC-207A-49D3-83A0-B9AA1EA847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E718-2A85-4BF5-9AEF-C08009D7BE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2A77-8A05-419B-AC89-577031A3C2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8CE3-57AF-4B4E-B99A-F639EDEB67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ACFB-AAEC-4D62-B338-2AE5A79FAC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D868-5C53-468C-99BC-F456080F11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F0DB-E2B2-4458-9617-3593B24835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17E9-017A-4F88-BB64-DDDE538159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9597-B498-4890-A016-689BEF39BD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AD8D-904E-4519-83D2-EF658A1582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2473-6C8B-441D-AEB3-F6F3626D41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F658-3933-4C2B-BD53-1DB6731EE8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4038-6BC5-43A6-8F0F-E9F3E01661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CC5E-9B7C-45EE-9184-E05D3BA40D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809D-1A1C-423F-A9AB-6A0EE7B64A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DE51-4FF6-4888-88C6-3DA4ECE1E3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ED76-C47C-4039-9234-9E520E905C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26D0-C6FE-40A7-830A-B8E2B9C34E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4E03-1B90-475E-832D-CE3270B716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30F8-302D-445B-A8C5-B7B6319BB4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19E-8680-4499-8047-6DBEAD3E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28B-7F9D-4BA0-BCFE-7A7C48A0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9A1-47E8-47FA-A8F4-5B585119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534-BE41-4396-B080-84364294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5575-F5D2-4D21-A6B8-19C9CEB3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6588-18AC-4B8F-8328-0DA0488D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1CC8-0F78-406B-87A7-C08D7695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0B74-9FE1-439E-9006-D3A0359F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2B49-7760-4D48-A448-DAA13149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E97E-6B2A-4411-AA4F-1039F9D1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E558-6A28-4981-A541-866BACBD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738-9D0D-4748-8BAB-30626C7C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368D-670D-4D78-8CB7-98C28EEF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F31D-B536-4F0F-8E5D-B0F5564A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20F2-BBF6-49AC-BE17-ABEC6E07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A3D5-7F6B-4F66-BBC9-29A9905F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486D-F400-4DB8-868D-DF5284D9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6B38-1647-4C24-BA0D-654C0EFD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2459-2FB1-4D6F-BC5C-4FAC82BB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D764-C250-4436-8B41-6AB28F11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2FFE-DF21-4047-81C7-5B13A40B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F87D-757B-4482-9079-51013E66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B01-2FA8-4922-8204-A2ECC0C9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DCD6-79B2-4472-BF23-506EA0F5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7C25-7102-4269-83FD-733C4E58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D7E4-ADDC-47E5-993B-7C2632D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012C-4A98-4A23-8AB3-7DE0F37F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86E9-AE14-48B5-82BE-FC959525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541A-D9E6-4F70-A2CA-1BFA83D0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7816-5B46-4AAC-966F-0493D6B8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A2C8E-C315-4154-A18A-5F9CDF09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5E7F2-9360-420F-8682-93D20C44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8D5C0-9088-4716-88F5-6D5AAE82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5AA-3374-4DA7-BE0B-929A3184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EF743-CA67-4947-9E86-97AF08F0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8E01E-EB8E-4A05-A106-037B5A66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941B7-0CC4-4F74-A744-B9382A85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FDC26-4BE3-4F60-835E-9F020BF5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9F9E8-62DC-41DD-9D4C-5D66A50A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BB66-9CDB-414F-9DFC-423B6052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7D35-446B-4A80-85B0-7EE6FB59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91B4E-F618-425B-B6E7-2696375D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F4ED0-D1E2-45A7-82F3-FDC721DF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6187-1FFE-4D48-A2F8-EE3ADD85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E88-4C42-4AF0-AFD9-494A0842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459E3-B53F-4326-ADFF-F961C8EF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8AA00-E665-40AB-8C74-D6B9162D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5A1DE-5999-4A14-98D2-D237BCB5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C05F4-E29F-4C12-B771-9F634501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B292F-0681-40EA-813F-F412E3DC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F2F74-5586-4CD1-822D-77B1B949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91E19-C448-475D-ABA5-A312271F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50BCB-9D18-46DA-A4F2-517C057C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B052-896F-44D1-B88C-5B73E51D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AC0EB-B31B-4C95-A57A-C1D6C626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60E-49F1-4B6E-A1D7-A40987C0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93F29-DF01-463F-8752-5846C2F5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0D4-4D28-4DEC-BF2D-FD03B95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4EF-B6E1-430F-BF7F-0BB634ED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755-A6C4-4427-9EEF-AB1F1FE7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8428-6E66-44F9-B3FB-9445A9A076C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F75E-8E52-43A2-8097-50ACA19BBC8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E57C-330E-4DE5-A5C2-A8451F9161F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9D0A-3AEC-4056-A2C8-25F4747CCE0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B99C-8ACF-4A77-BD16-18E17750359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reation.xpictoc.com/wp-content/uploads/2007/10/image004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5" descr=""/>
          <p:cNvPicPr/>
          <p:nvPr/>
        </p:nvPicPr>
        <p:blipFill>
          <a:blip r:embed="rId1"/>
          <a:stretch/>
        </p:blipFill>
        <p:spPr>
          <a:xfrm>
            <a:off x="706320" y="566640"/>
            <a:ext cx="7785360" cy="3084480"/>
          </a:xfrm>
          <a:prstGeom prst="rect">
            <a:avLst/>
          </a:prstGeom>
          <a:ln w="0">
            <a:noFill/>
          </a:ln>
        </p:spPr>
      </p:pic>
      <p:sp>
        <p:nvSpPr>
          <p:cNvPr id="253" name="Заголовок 3"/>
          <p:cNvSpPr/>
          <p:nvPr/>
        </p:nvSpPr>
        <p:spPr>
          <a:xfrm>
            <a:off x="4429080" y="5072040"/>
            <a:ext cx="4514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3995640" y="494172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МОУ «Черемша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2», села Черемшан,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2"/>
          <p:cNvSpPr/>
          <p:nvPr/>
        </p:nvSpPr>
        <p:spPr>
          <a:xfrm>
            <a:off x="611280" y="47628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Морфологические доказательст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395280" y="1844640"/>
            <a:ext cx="8353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ереходные фо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личие в современной флоре и фауне переходных форм (эвглена зеленая, латимерия, утконо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3384720" cy="2376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2736720" cy="2089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"/>
          <p:cNvPicPr/>
          <p:nvPr/>
        </p:nvPicPr>
        <p:blipFill>
          <a:blip r:embed="rId3"/>
          <a:stretch/>
        </p:blipFill>
        <p:spPr>
          <a:xfrm>
            <a:off x="3564000" y="4753080"/>
            <a:ext cx="309564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2. Гомологичные орган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280360" cy="6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омологичные органы-образования, сходные друг с другом по общему плану строения, положению в теле и возникновению в процессе онтогене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4720" y="2133360"/>
            <a:ext cx="4041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Picture 4" descr="Гомологичные органы"/>
          <p:cNvPicPr/>
          <p:nvPr/>
        </p:nvPicPr>
        <p:blipFill>
          <a:blip r:embed="rId1"/>
          <a:stretch/>
        </p:blipFill>
        <p:spPr>
          <a:xfrm>
            <a:off x="4643280" y="2133720"/>
            <a:ext cx="4034160" cy="3527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295" name="Прямоугольник 8"/>
          <p:cNvSpPr/>
          <p:nvPr/>
        </p:nvSpPr>
        <p:spPr>
          <a:xfrm>
            <a:off x="684360" y="2276640"/>
            <a:ext cx="35272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зличные по внешнему виду и функциям конечности млекопитающих имеют сходный план строения и формирования: кости плеча, предплечья, запястья, пясти, фаланг пальце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9"/>
          <p:cNvSpPr/>
          <p:nvPr/>
        </p:nvSpPr>
        <p:spPr>
          <a:xfrm>
            <a:off x="4427640" y="5805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Гомология передних конечностей млекопита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105600" y="5361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684360" y="9079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личие</a:t>
            </a:r>
            <a:r>
              <a:rPr b="1" lang="ru-RU" sz="2400" spc="-1" strike="noStrike">
                <a:solidFill>
                  <a:srgbClr val="e2d7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удиментов – недоразвитых органов, утративших свое основное значение в ходе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24000" y="465300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димент задних конечностей пи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324000" y="1916280"/>
          <a:ext cx="230508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2305080" cy="23018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" name="Rectangle 6"/>
          <p:cNvSpPr/>
          <p:nvPr/>
        </p:nvSpPr>
        <p:spPr>
          <a:xfrm>
            <a:off x="755640" y="277920"/>
            <a:ext cx="79311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3. Рудиментарные орга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7" descr="рудименты у питона и кита"/>
          <p:cNvPicPr/>
          <p:nvPr/>
        </p:nvPicPr>
        <p:blipFill>
          <a:blip r:embed="rId3"/>
          <a:stretch/>
        </p:blipFill>
        <p:spPr>
          <a:xfrm>
            <a:off x="3419640" y="1916280"/>
            <a:ext cx="1873080" cy="46814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04" name="Прямоугольник 9"/>
          <p:cNvSpPr/>
          <p:nvPr/>
        </p:nvSpPr>
        <p:spPr>
          <a:xfrm>
            <a:off x="5724360" y="4508640"/>
            <a:ext cx="30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диментарные задние конечности питона свидетельствуют о его происхождении от организмов с развитыми конеч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1"/>
          <p:cNvSpPr/>
          <p:nvPr/>
        </p:nvSpPr>
        <p:spPr>
          <a:xfrm>
            <a:off x="5651640" y="1700280"/>
            <a:ext cx="324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диментарные косточки у китообразных на месте тазового пояса указывают на происхождение китов и дельфинов от типичных четвероно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1332000" y="40464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Рудиментарные органы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рудименты у человека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832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38980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4. Атавистические органы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тавизмы– это органы (или структуры, показывающие «возврат к предкам», в норме не встречающихся у современных фор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11" descr="217842"/>
          <p:cNvPicPr/>
          <p:nvPr/>
        </p:nvPicPr>
        <p:blipFill>
          <a:blip r:embed="rId1"/>
          <a:stretch/>
        </p:blipFill>
        <p:spPr>
          <a:xfrm>
            <a:off x="2124000" y="2924280"/>
            <a:ext cx="5327640" cy="350676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5"/>
          <p:cNvSpPr/>
          <p:nvPr/>
        </p:nvSpPr>
        <p:spPr>
          <a:xfrm>
            <a:off x="611280" y="2205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Атавизмы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"/>
          <p:cNvSpPr/>
          <p:nvPr/>
        </p:nvSpPr>
        <p:spPr>
          <a:xfrm>
            <a:off x="1116000" y="11592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Палеонтологические доказатель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2"/>
          <p:cNvSpPr/>
          <p:nvPr/>
        </p:nvSpPr>
        <p:spPr>
          <a:xfrm>
            <a:off x="468360" y="1557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1. Сведения о филогенетических (эволюционных) рядах – ископаемых форм, связанные друг с другом в процессе эволюции и отражающие ход филоген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история лошадей"/>
          <p:cNvPicPr/>
          <p:nvPr/>
        </p:nvPicPr>
        <p:blipFill>
          <a:blip r:embed="rId1"/>
          <a:stretch/>
        </p:blipFill>
        <p:spPr>
          <a:xfrm>
            <a:off x="4427640" y="4149720"/>
            <a:ext cx="4465440" cy="2519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315" name="Picture 5" descr="переходные ряды лошадь"/>
          <p:cNvPicPr/>
          <p:nvPr/>
        </p:nvPicPr>
        <p:blipFill>
          <a:blip r:embed="rId2"/>
          <a:stretch/>
        </p:blipFill>
        <p:spPr>
          <a:xfrm>
            <a:off x="250920" y="2852640"/>
            <a:ext cx="4032000" cy="20811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16" name="Прямоугольник 5"/>
          <p:cNvSpPr/>
          <p:nvPr/>
        </p:nvSpPr>
        <p:spPr>
          <a:xfrm>
            <a:off x="179280" y="5084640"/>
            <a:ext cx="403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Эволюционное древо семейства лошадиных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– Эогиппус; 2 – Миогиппус; 3 – Меригиппус; 4 – Плиогиппус; 5 – Эквус (современная лошад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4716360" y="249228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личие многих последовательно сменяющих друг друга форм позволило построить филогенетический ряд от эогиппуса до современной лош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2"/>
          <p:cNvSpPr/>
          <p:nvPr/>
        </p:nvSpPr>
        <p:spPr>
          <a:xfrm>
            <a:off x="1116000" y="189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Сведения об ископаемых переходных  формах организм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Картинка 1 из 14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916280"/>
            <a:ext cx="3743280" cy="230472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4"/>
          <p:cNvSpPr/>
          <p:nvPr/>
        </p:nvSpPr>
        <p:spPr>
          <a:xfrm>
            <a:off x="4788000" y="1844640"/>
            <a:ext cx="388764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изнаки рептил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линный хвост с несросшимися позвон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рюшные р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витые з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6"/>
          <p:cNvSpPr/>
          <p:nvPr/>
        </p:nvSpPr>
        <p:spPr>
          <a:xfrm>
            <a:off x="4788000" y="4005360"/>
            <a:ext cx="36716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изнаки пти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ело покрыто пер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редние конечности превращены в 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826920" y="436572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рхеоптерикс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переходная форма от рептилий к птицам юрского пери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2411280" y="476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Ихтиосте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Ихтиостега"/>
          <p:cNvPicPr/>
          <p:nvPr/>
        </p:nvPicPr>
        <p:blipFill>
          <a:blip r:embed="rId1"/>
          <a:stretch/>
        </p:blipFill>
        <p:spPr>
          <a:xfrm>
            <a:off x="1905120" y="1447920"/>
            <a:ext cx="5410080" cy="34318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25" name="Прямоугольник 3"/>
          <p:cNvSpPr/>
          <p:nvPr/>
        </p:nvSpPr>
        <p:spPr>
          <a:xfrm>
            <a:off x="684360" y="54450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хтиостега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– ископаемая форма, которая позволяет связать рыб с наземными позвоно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361800" y="2565360"/>
            <a:ext cx="543420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611280" y="333360"/>
            <a:ext cx="79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Биогеографические доказательства эволю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796000" y="2454840"/>
            <a:ext cx="316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) Палеоарктическую (Европа, Северная Африка, Северная и Средняя Азия, Япони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) Неоарктическую (Северная Америк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) Эфиопскую (Африка к югу от Сахар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) Индомалайскую (Южная Азия, Малайский архипелаг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) Неотропическую (Южная и Центральная Америк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) Австралийскую (Австралия, Новая Гвинея, Новая Зеландия, Новая Каледо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611280" y="162864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.Особенности распространения животных и растений по разным континен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Object 4"/>
          <p:cNvGraphicFramePr/>
          <p:nvPr/>
        </p:nvGraphicFramePr>
        <p:xfrm>
          <a:off x="4572000" y="1628640"/>
          <a:ext cx="3816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28640"/>
                    <a:ext cx="3816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3"/>
          <p:cNvGraphicFramePr/>
          <p:nvPr/>
        </p:nvGraphicFramePr>
        <p:xfrm>
          <a:off x="324000" y="1628640"/>
          <a:ext cx="360036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628640"/>
                    <a:ext cx="3600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Прямоугольник 3"/>
          <p:cNvSpPr/>
          <p:nvPr/>
        </p:nvSpPr>
        <p:spPr>
          <a:xfrm>
            <a:off x="324000" y="3789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го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"/>
          <p:cNvSpPr/>
          <p:nvPr/>
        </p:nvSpPr>
        <p:spPr>
          <a:xfrm flipV="1" rot="10800000">
            <a:off x="5363640" y="393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135 млн.лет 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324000" y="62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азличия или сходства состава флоры и фауны могут быть связаны со временем геологического разделения матер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2"/>
          <p:cNvGraphicFramePr/>
          <p:nvPr/>
        </p:nvGraphicFramePr>
        <p:xfrm>
          <a:off x="2195640" y="4365720"/>
          <a:ext cx="3960720" cy="18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4365720"/>
                    <a:ext cx="3960720" cy="18716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9" name="Прямоугольник 9"/>
          <p:cNvSpPr/>
          <p:nvPr/>
        </p:nvSpPr>
        <p:spPr>
          <a:xfrm>
            <a:off x="2195640" y="630864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Южная Америка.       Юго-Восточная Аз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324000" y="189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Основные доказательства эволю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684360" y="177336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 Сходный химический состав клеток всех живы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Общий план строения клеток всех живы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Универсальность генетического к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Единые принципы хранения, реализации и передачи генетическ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Эмбриональны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6. Морфологически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. Палеонтологически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8. Биогеографически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9. Паразитологические доказательства эволюц</a:t>
            </a:r>
            <a:r>
              <a:rPr b="0" i="1" lang="ru-RU" sz="2400" spc="-1" strike="noStrike">
                <a:solidFill>
                  <a:srgbClr val="0b5395"/>
                </a:solidFill>
                <a:latin typeface="Arial"/>
              </a:rPr>
              <a:t>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2.Особенности флоры и фауны островов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(Мадагаскар,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алапагосские  острова)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1" name="Picture 6" descr="игуана"/>
          <p:cNvPicPr/>
          <p:nvPr/>
        </p:nvPicPr>
        <p:blipFill>
          <a:blip r:embed="rId1"/>
          <a:stretch/>
        </p:blipFill>
        <p:spPr>
          <a:xfrm>
            <a:off x="324000" y="1916280"/>
            <a:ext cx="2879640" cy="208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42" name="Прямоугольник 12"/>
          <p:cNvSpPr/>
          <p:nvPr/>
        </p:nvSpPr>
        <p:spPr>
          <a:xfrm>
            <a:off x="3924360" y="1989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еды геологического единства Южной Америки, Африки, острова Мадагаскар сохраняются в современной фауне. Например, ящерицы-игуаны Мадагаскара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3"/>
          <p:cNvSpPr/>
          <p:nvPr/>
        </p:nvSpPr>
        <p:spPr>
          <a:xfrm>
            <a:off x="971640" y="1484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г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7"/>
          <p:cNvSpPr/>
          <p:nvPr/>
        </p:nvSpPr>
        <p:spPr>
          <a:xfrm>
            <a:off x="250920" y="407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шачи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8"/>
          <p:cNvSpPr/>
          <p:nvPr/>
        </p:nvSpPr>
        <p:spPr>
          <a:xfrm>
            <a:off x="4067280" y="458136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емуры — семейство эндемичных приматов Мадагаскара, насчитывающее порядка 75 видов, включая 17 вымер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762120" y="2781360"/>
            <a:ext cx="4097160" cy="318600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2"/>
          <p:cNvSpPr/>
          <p:nvPr/>
        </p:nvSpPr>
        <p:spPr>
          <a:xfrm>
            <a:off x="755640" y="23493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лоновая 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384360" cy="52340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4"/>
          <p:cNvSpPr/>
          <p:nvPr/>
        </p:nvSpPr>
        <p:spPr>
          <a:xfrm>
            <a:off x="5076720" y="47628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алапагос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7"/>
          <p:cNvSpPr/>
          <p:nvPr/>
        </p:nvSpPr>
        <p:spPr>
          <a:xfrm>
            <a:off x="755640" y="18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олубоногая ол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468360" y="141300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некоторых случаях эффективным оказывается использование паразитологического метода изучения эволюции. Многочисленными исследованиями доказано, что эволюция паразитов и хозяев происходит сопряженно. В некоторых группах паразиты оказываются специфическими для видов, родов или семейств. Поэтому по присутствию определенных паразитов можно с большой точностью судить о филогенетических связях видов-хозя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"/>
          <p:cNvSpPr/>
          <p:nvPr/>
        </p:nvSpPr>
        <p:spPr>
          <a:xfrm>
            <a:off x="1332000" y="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Паразитологические доказатель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3959280" cy="25192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8"/>
          <p:cNvSpPr/>
          <p:nvPr/>
        </p:nvSpPr>
        <p:spPr>
          <a:xfrm>
            <a:off x="4572000" y="4149720"/>
            <a:ext cx="417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Бы́чий (невооружённый) це́пень (солитёр)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 — вид паразитических ленточных червей семейства  Тенииды. Поражает крупный рогатый скот и человека, вызывая тениаринхоз. Заражение бычьим цепнем особенно распространено в экваториальной Африке, Латинской Америке, на Филиппинах и в некоторых частях Восточ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816360" cy="324000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2"/>
          <p:cNvSpPr/>
          <p:nvPr/>
        </p:nvSpPr>
        <p:spPr>
          <a:xfrm>
            <a:off x="4211640" y="1197000"/>
            <a:ext cx="468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тропических лесах острова Суматры растет самый большой цветок в мире — раффлезия Арнольди. Красный, мясистый, с гнилостным запахом, он бывает иногда больше метра в диаметре. У цветка нет ни побегов, ни листьев, ни стеблей, они превратились в клеточные нити и вросли в ствол растения, за счет которого и существует этот колоссальный цветок. С ботанической точки зрения, раффлезия Арнольди является примером наивысшего паразитизма сред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3076560" cy="20163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250920" y="458136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южных районах нашей страны очень часто на ветках тополей и плодовых деревьев поселяется растение омела — сильно ветвящийся многолетний кустарник. Это растение благодаря своим листьям еще способно к фотосинтезу, но воду и минеральные вещества оно отнимает у деревьев с помощью присосок, проникающих в древесину растения-хозя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5076720" y="6308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еревья, поражённые оме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1476360" y="26028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астения-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Сходный химический состав клеток всех живых организмов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4206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Содержание некоторых химических элементов в клетке (в % на сухую массу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ислород 65-75; Углерод 15-18; Водород 8-10; Магний 0,02-0,03; Натрий 0,02-0,03; Кальций 0,04-2,00; Азот 1,5-3,0; Калий 0,15-0,4; Сера 0,15-0,2; Фосфор 0,20-1,00; Хлор 0,05-0,10; Железо 0,01-0,015; Цинк 0,0003; Медь 0,0002; Йод 0,0001; Фтор 0,000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95280" y="33336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Общий план строения клеток всех живых организ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C:\Documents and Settings\Loner\Рабочий стол\600px-Biological_cell_ru.svg.png"/>
          <p:cNvPicPr/>
          <p:nvPr/>
        </p:nvPicPr>
        <p:blipFill>
          <a:blip r:embed="rId1"/>
          <a:stretch/>
        </p:blipFill>
        <p:spPr>
          <a:xfrm>
            <a:off x="395280" y="2781360"/>
            <a:ext cx="3745080" cy="259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C:\Documents and Settings\Loner\Рабочий стол\saltwater3.jpg"/>
          <p:cNvPicPr/>
          <p:nvPr/>
        </p:nvPicPr>
        <p:blipFill>
          <a:blip r:embed="rId2"/>
          <a:stretch/>
        </p:blipFill>
        <p:spPr>
          <a:xfrm>
            <a:off x="4572000" y="2781360"/>
            <a:ext cx="4032360" cy="28796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611280" y="566100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летка животных                            клетка растений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0" y="333360"/>
            <a:ext cx="8964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Генетические доказательства</a:t>
            </a: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Универсальность генетического к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C:\Documents and Settings\Loner\Рабочий стол\gencod-06.gif"/>
          <p:cNvPicPr/>
          <p:nvPr/>
        </p:nvPicPr>
        <p:blipFill>
          <a:blip r:embed="rId1"/>
          <a:stretch/>
        </p:blipFill>
        <p:spPr>
          <a:xfrm>
            <a:off x="468360" y="2492280"/>
            <a:ext cx="5543640" cy="403236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6804000" y="2492280"/>
            <a:ext cx="208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дин и тот же триплет кодирует один и тот же тип аминокислоты у все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2"/>
          <a:stretch/>
        </p:blipFill>
        <p:spPr>
          <a:xfrm>
            <a:off x="6804000" y="4797360"/>
            <a:ext cx="1905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280" y="-387720"/>
            <a:ext cx="814716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Единые принципы хранения, реализации и передачи генетической информации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диные принципы хранения, реализации и передачи генетической информации-- генетическая информация в клетке хранится в форме нуклеиновых кислот. Реализуется генетическая информация в процессе транскрипции и трансляции, основанных на принципе матричного синте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и доказательства позволяют уточнить филогенетичекую близость разных групп животных и растений. При этом используются цитогенетические методы, методы ДНК, гибридиз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Эмбриональные доказательств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0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. Закон зародышевого сходств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03280" y="1860480"/>
            <a:ext cx="3683160" cy="99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6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Принцип рекапитуляции –биогенетический закон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2852640"/>
            <a:ext cx="4040280" cy="3508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XIX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еке выдающийся натуралист К.Бэр сформулировал этот закон: чем более ранние стадии индивидуального развития исследуются, тем больше сходства обнаруживается между различными организм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4720" y="3141720"/>
            <a:ext cx="4041720" cy="352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процессе онтогенеза повторяются (рекапитулируют) многие черты строения предковых форм: на ранних стадиях – более отдаленных предков, на поздних стадиях – близких пред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95280" y="1305000"/>
            <a:ext cx="3672000" cy="88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юбой живой организм, который размножается половым путем начинает свое развитие со стадии зиг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кон зародышевого сходства – представители разных групп организмов на ранних стадиях эмбриогенеза обычно более сходны друг с другом, чем взрослые ос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иогенетический закон – онтогенез всякого организма есть краткое повторение его филогенеза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4284720" y="1844640"/>
          <a:ext cx="43909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844640"/>
                    <a:ext cx="43909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Прямоугольник 8"/>
          <p:cNvSpPr/>
          <p:nvPr/>
        </p:nvSpPr>
        <p:spPr>
          <a:xfrm>
            <a:off x="4211640" y="1125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адии эмбрионального развития позвоночных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468360" y="476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1. Закон зародышевого сх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1116000" y="333360"/>
            <a:ext cx="748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. Принцип рекапитуляци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биогенетически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24000" y="227664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ебенок, не умеющий разговаривать пользуется языком мимики и жестов, что и детеныш обезь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4"/>
          <p:cNvSpPr/>
          <p:nvPr/>
        </p:nvSpPr>
        <p:spPr>
          <a:xfrm>
            <a:off x="4932360" y="141300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 всех позвоночных на определенной стадии развития существует хор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Внутреннее строение ланцетника"/>
          <p:cNvPicPr/>
          <p:nvPr/>
        </p:nvPicPr>
        <p:blipFill>
          <a:blip r:embed="rId2"/>
          <a:stretch/>
        </p:blipFill>
        <p:spPr>
          <a:xfrm>
            <a:off x="4427640" y="2276640"/>
            <a:ext cx="2952720" cy="19429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84" name="Picture 10" descr="Консументы первого порядка"/>
          <p:cNvPicPr/>
          <p:nvPr/>
        </p:nvPicPr>
        <p:blipFill>
          <a:blip r:embed="rId3"/>
          <a:stretch/>
        </p:blipFill>
        <p:spPr>
          <a:xfrm>
            <a:off x="3780000" y="4437000"/>
            <a:ext cx="2592360" cy="21938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285" name="Прямоугольник 7"/>
          <p:cNvSpPr/>
          <p:nvPr/>
        </p:nvSpPr>
        <p:spPr>
          <a:xfrm>
            <a:off x="6443640" y="4437000"/>
            <a:ext cx="27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 многих насекомых личиночная стадия (гусеница – личинка) напоминает черв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7:27:08Z</dcterms:created>
  <dc:creator>Grey Wolf</dc:creator>
  <dc:description/>
  <dc:language>en-US</dc:language>
  <cp:lastModifiedBy>Коля</cp:lastModifiedBy>
  <dcterms:modified xsi:type="dcterms:W3CDTF">2013-05-15T18:00:34Z</dcterms:modified>
  <cp:revision>92</cp:revision>
  <dc:subject/>
  <dc:title>ДОКАЗАТЕЛЬСТВА ЭВОЛЮЦИИ</dc:title>
</cp:coreProperties>
</file>