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501-3AD5-4391-BE89-C7BD06DC30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E9CC-6189-47DB-BD37-CEB55BAE1B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4D62-3C3C-4DAE-B793-8C086292E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584C-2C46-4C9E-80A9-6550F43E3F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7ECC-6904-443E-9FFF-775E7144A7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D7B9-0DEA-43B8-B14B-FC51ED6F2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E968-0FE8-4DAC-BE40-C0AE4451B7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5D2-4CFF-41B4-9E59-1C1712DD9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7087-E000-43CE-84B4-C95E88D38E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16C5-8D6A-4CDD-8E40-A1CF027A68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07F-2330-4474-AC48-8DACA4C702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807-97A1-47B8-9097-C1FFE88F0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5B9-D9F3-40AF-9A2D-4F840636AB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0E05-1BE1-4B3F-B122-1C7A3024E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D5B-5B13-451C-8D8A-A4523AEF72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66B-36D0-4470-959D-8BA7FE1312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30B-3E0E-45D1-8CA2-4FEE26C888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94-04CD-4B5D-BFC3-5C52FE3DEA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95D4-3CE8-4465-BAC0-EACBFE197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B03B-0BA3-450D-85AB-9D5F53A798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575-E2B3-41F1-8F2B-8FB2D9265A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D21-7C74-460E-8466-3286F95435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768B-AF94-43FC-A854-48D06B834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E4F8-EB75-4A19-B1D3-D290B01A3F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006-121D-4CF7-9E27-A0FA1D16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150-A593-45DD-8E41-DFC9DDA7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3B7-76C2-4E41-84A4-7F8E59ED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34B-689B-42DF-9401-BC03665D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642-D6C4-429E-BB48-44D649FC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A3CE-DFD1-4D36-BE19-85D2A90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119-41D1-4D80-AB0A-E7746405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F350-4AE9-4836-85CF-C149A420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D974-D6FC-4632-8A65-22C4D164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7F4-56D6-4D71-BCAB-BE0CA21D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03E8-F8D9-46A1-B919-DB0F5B1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A4F-4FF4-4E32-8714-28EA6782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198A-87FA-40D3-B525-C373716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CAF-71C9-4731-AA57-C340F76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4157-7FC6-4456-901C-3BC58AE7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47FA-1C5D-4AF4-913D-0F770497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329-A6FD-4A81-9F29-8322884D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271EF-9465-4A84-9664-5F7D254B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C016-3B5E-46A9-B3B2-11A07939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CD1B-F895-4DD6-883C-DF2E6CC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8A97D-C811-48C5-9BE0-7153A61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019D-ED54-4FB5-BFCA-6C1B6BB8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3B2-AC2C-43BF-B5CD-B95E81C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EB55-F8D7-46A5-8E8D-5D8DDFA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BC7A-EDA3-4231-A060-CEB9C7A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1F31-8929-4EAA-A889-9B5C623E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7F70-DEFA-4F2B-B152-1E1BCAAC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088A-5E9B-4B01-9FF2-1E0CA83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BAC5-7189-49AF-A619-B010BB5D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87A5-AEE0-4423-9479-322F871E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86D7-6D31-4048-9A63-BBADBDCA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B473F-6C73-4640-B893-F5EFF5EF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8BBA-F5E9-40CD-988D-A6CBBEC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288-1221-4179-8892-D2286631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64F2-52CA-4847-8406-29BDF74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53E2-D483-4419-A2D0-11294D8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0F9A7-3164-463A-83B4-64AC9862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C3AFA-FA88-46CB-885A-C35D2A9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CB84-4761-4867-B7B2-7760E6BD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83F7-DD22-4971-9781-9ABF805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3A198-4E98-4377-9E96-D5F2B964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3A4A-A54C-4D7F-AC94-09917891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DF9D3-39EA-4CC7-9298-6CA75F55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1A4B-8902-4AA1-8D6D-DF670D50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1D0-93DD-4829-B9ED-EF941CA0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CA40-E3A9-4C4A-8446-C5C98681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FC1AA-E3F2-458D-912D-45DF6312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D255-8FCF-44C4-98B4-BEC5B7DE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AB28-282D-4C59-9A9B-1E831447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FB61-AA7A-40F2-BE68-21F3004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3123-7D35-41E7-AF68-AAE9C665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AAE7-0AEE-449A-B1E5-3544978A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7F762-40EF-4772-807B-29BDDCF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771E-0A8A-44D2-AAD6-5B5596C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D568-5585-4B22-8DFC-008DB56F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BA5-3C54-4694-B955-A325AFFD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3EB6-3113-4736-AAD0-5BBF0F06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35B-B37E-4606-8CDD-46C5C98D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B5F-96CA-446F-BCCF-5A6DC62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1AE-9CD2-40CB-AA2D-96B4844E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D244-3920-415B-AF1B-AB7CC57FFE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0D0-4665-4140-958F-85868BD9A4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4167-E211-410C-840B-12ABE8FF8D1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7E0A-9FC4-42A1-93D1-AE3EE82E9C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B57E-8B83-44A2-AF54-765A832B87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reation.xpictoc.com/wp-content/uploads/2007/10/image004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5" descr=""/>
          <p:cNvPicPr/>
          <p:nvPr/>
        </p:nvPicPr>
        <p:blipFill>
          <a:blip r:embed="rId1"/>
          <a:stretch/>
        </p:blipFill>
        <p:spPr>
          <a:xfrm>
            <a:off x="706320" y="566640"/>
            <a:ext cx="7785360" cy="308448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3"/>
          <p:cNvSpPr/>
          <p:nvPr/>
        </p:nvSpPr>
        <p:spPr>
          <a:xfrm>
            <a:off x="4429080" y="5072040"/>
            <a:ext cx="4514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3995640" y="494172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МОУ «Черемша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2», села Черемшан,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2"/>
          <p:cNvSpPr/>
          <p:nvPr/>
        </p:nvSpPr>
        <p:spPr>
          <a:xfrm>
            <a:off x="611280" y="476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Морфологические доказательст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"/>
          <p:cNvSpPr/>
          <p:nvPr/>
        </p:nvSpPr>
        <p:spPr>
          <a:xfrm>
            <a:off x="395280" y="1844640"/>
            <a:ext cx="83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реходные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личие в современной флоре и фауне переходных форм (эвглена зеленая, латимерия, утконо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384720" cy="2376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736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"/>
          <p:cNvPicPr/>
          <p:nvPr/>
        </p:nvPicPr>
        <p:blipFill>
          <a:blip r:embed="rId3"/>
          <a:stretch/>
        </p:blipFill>
        <p:spPr>
          <a:xfrm>
            <a:off x="3564000" y="4753080"/>
            <a:ext cx="3095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2. Гомологичные орган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64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омологичные органы-образования, сходные друг с другом по общему плану строения, положению в теле и возникновению в процессе онтоген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4720" y="213336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4" name="Picture 4" descr="Гомологичные органы"/>
          <p:cNvPicPr/>
          <p:nvPr/>
        </p:nvPicPr>
        <p:blipFill>
          <a:blip r:embed="rId1"/>
          <a:stretch/>
        </p:blipFill>
        <p:spPr>
          <a:xfrm>
            <a:off x="4643280" y="2133720"/>
            <a:ext cx="4034160" cy="3527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95" name="Прямоугольник 8"/>
          <p:cNvSpPr/>
          <p:nvPr/>
        </p:nvSpPr>
        <p:spPr>
          <a:xfrm>
            <a:off x="684360" y="2276640"/>
            <a:ext cx="35272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зличные по внешнему виду и функциям конечности млекопитающих имеют сходный план строения и формирования: кости плеча, предплечья, запястья, пясти, фаланг пальцев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9"/>
          <p:cNvSpPr/>
          <p:nvPr/>
        </p:nvSpPr>
        <p:spPr>
          <a:xfrm>
            <a:off x="4427640" y="580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Гомология передних конечностей млекопита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6105600" y="5361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68436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личие</a:t>
            </a:r>
            <a:r>
              <a:rPr b="1" lang="ru-RU" sz="2400" spc="-1" strike="noStrike">
                <a:solidFill>
                  <a:srgbClr val="e2d7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удиментов – недоразвитых органов, утративших свое основное значение в ходе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24000" y="4653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 задних конечностей пи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2"/>
          <p:cNvGraphicFramePr/>
          <p:nvPr/>
        </p:nvGraphicFramePr>
        <p:xfrm>
          <a:off x="324000" y="1916280"/>
          <a:ext cx="230508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16280"/>
                    <a:ext cx="2305080" cy="23018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755640" y="277920"/>
            <a:ext cx="79311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3. Рудиментарные орг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рудименты у питона и кита"/>
          <p:cNvPicPr/>
          <p:nvPr/>
        </p:nvPicPr>
        <p:blipFill>
          <a:blip r:embed="rId3"/>
          <a:stretch/>
        </p:blipFill>
        <p:spPr>
          <a:xfrm>
            <a:off x="3419640" y="1916280"/>
            <a:ext cx="1873080" cy="4681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04" name="Прямоугольник 9"/>
          <p:cNvSpPr/>
          <p:nvPr/>
        </p:nvSpPr>
        <p:spPr>
          <a:xfrm>
            <a:off x="5724360" y="450864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задние конечности питона свидетельствуют о его происхождении от организмов с развитыми конеч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5651640" y="1700280"/>
            <a:ext cx="324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удиментарные косточки у китообразных на месте тазового пояса указывают на происхождение китов и дельфинов от типичных четвероно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1332000" y="40464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удиментарные органы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рудименты у человека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32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38980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4. Атавистические органы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тавизмы– это органы (или структуры, показывающие «возврат к предкам», в норме не встречающихся у современных фор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11" descr="217842"/>
          <p:cNvPicPr/>
          <p:nvPr/>
        </p:nvPicPr>
        <p:blipFill>
          <a:blip r:embed="rId1"/>
          <a:stretch/>
        </p:blipFill>
        <p:spPr>
          <a:xfrm>
            <a:off x="2124000" y="2924280"/>
            <a:ext cx="5327640" cy="350676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5"/>
          <p:cNvSpPr/>
          <p:nvPr/>
        </p:nvSpPr>
        <p:spPr>
          <a:xfrm>
            <a:off x="611280" y="2205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Атавизмы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116000" y="11592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леон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468360" y="1557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. Сведения о филогенетических (эволюционных) рядах – ископаемых форм, связанные друг с другом в процессе эволюции и отражающие ход филоген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история лошадей"/>
          <p:cNvPicPr/>
          <p:nvPr/>
        </p:nvPicPr>
        <p:blipFill>
          <a:blip r:embed="rId1"/>
          <a:stretch/>
        </p:blipFill>
        <p:spPr>
          <a:xfrm>
            <a:off x="4427640" y="4149720"/>
            <a:ext cx="4465440" cy="2519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315" name="Picture 5" descr="переходные ряды лошадь"/>
          <p:cNvPicPr/>
          <p:nvPr/>
        </p:nvPicPr>
        <p:blipFill>
          <a:blip r:embed="rId2"/>
          <a:stretch/>
        </p:blipFill>
        <p:spPr>
          <a:xfrm>
            <a:off x="250920" y="2852640"/>
            <a:ext cx="4032000" cy="20811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16" name="Прямоугольник 5"/>
          <p:cNvSpPr/>
          <p:nvPr/>
        </p:nvSpPr>
        <p:spPr>
          <a:xfrm>
            <a:off x="179280" y="5084640"/>
            <a:ext cx="403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Эволюционное древо семейства лошадиных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– Эогиппус; 2 – Миогиппус; 3 – Меригиппус; 4 – Плиогиппус; 5 – Эквус (современная лошад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4716360" y="249228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аличие многих последовательно сменяющих друг друга форм позволило построить филогенетический ряд от эогиппуса до современной лош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1116000" y="189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2. Сведения об ископаемых переходных  формах организм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5" descr="Картинка 1 из 1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916280"/>
            <a:ext cx="3743280" cy="230472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4"/>
          <p:cNvSpPr/>
          <p:nvPr/>
        </p:nvSpPr>
        <p:spPr>
          <a:xfrm>
            <a:off x="4788000" y="1844640"/>
            <a:ext cx="388764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рептил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линный хвост с несросшимися позвон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рюшные р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тые зу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4788000" y="4005360"/>
            <a:ext cx="36716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изнаки пти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ело покрыто пер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ние конечности превращены в 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826920" y="436572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Археоптерикс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– переходная форма от рептилий к птицам юрского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2411280" y="476280"/>
            <a:ext cx="46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Ихтиостега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34318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25" name="Прямоугольник 3"/>
          <p:cNvSpPr/>
          <p:nvPr/>
        </p:nvSpPr>
        <p:spPr>
          <a:xfrm>
            <a:off x="684360" y="54450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хтиостега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– ископаемая форма, которая позволяет связать рыб с наземными позвоноч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361800" y="2565360"/>
            <a:ext cx="543420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611280" y="33336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Биогеографически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796000" y="2454840"/>
            <a:ext cx="316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) Палеоарктическую (Европа, Северная Африка, Северная и Средняя Азия, Япони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) Неоарктическую (Север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) Эфиопскую (Африка к югу от Сахар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) Индомалайскую (Южная Азия, Малайский архипелаг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) Неотропическую (Южная и Центральная Америк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) Австралийскую (Австралия, Новая Гвинея, Новая Зеландия, Новая Каледо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611280" y="1628640"/>
            <a:ext cx="82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1.Особенности распространения животных и растений по разным континен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Object 4"/>
          <p:cNvGraphicFramePr/>
          <p:nvPr/>
        </p:nvGraphicFramePr>
        <p:xfrm>
          <a:off x="4572000" y="1628640"/>
          <a:ext cx="3816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628640"/>
                    <a:ext cx="3816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324000" y="1628640"/>
          <a:ext cx="3600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628640"/>
                    <a:ext cx="3600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Прямоугольник 3"/>
          <p:cNvSpPr/>
          <p:nvPr/>
        </p:nvSpPr>
        <p:spPr>
          <a:xfrm>
            <a:off x="324000" y="3789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 flipV="1" rot="10800000">
            <a:off x="5363640" y="393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135 млн.лет 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7"/>
          <p:cNvSpPr/>
          <p:nvPr/>
        </p:nvSpPr>
        <p:spPr>
          <a:xfrm>
            <a:off x="324000" y="62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азличия или сходства состава флоры и фауны могут быть связаны со временем геологического разделения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2195640" y="4365720"/>
          <a:ext cx="3960720" cy="18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365720"/>
                    <a:ext cx="3960720" cy="18716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9" name="Прямоугольник 9"/>
          <p:cNvSpPr/>
          <p:nvPr/>
        </p:nvSpPr>
        <p:spPr>
          <a:xfrm>
            <a:off x="2195640" y="630864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Южная Америка.       Юго-Восточная Аз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324000" y="189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сновные доказательства эволю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684360" y="17733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Сходный химический состав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Общий план строения клеток всех живы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Универсальность генетического к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Единые принципы хранения, реализации и передачи генетическ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Эмбриональны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Морф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7. Палеонтолог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8. Биогеографические доказательства э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bd0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9. Паразитологические доказательства эволюц</a:t>
            </a:r>
            <a:r>
              <a:rPr b="0" i="1" lang="ru-RU" sz="2400" spc="-1" strike="noStrike">
                <a:solidFill>
                  <a:srgbClr val="0b5395"/>
                </a:solidFill>
                <a:latin typeface="Arial"/>
              </a:rPr>
              <a:t>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1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342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468360" y="141300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некоторых случаях эффективным оказывается использование паразитологического метода изучения эволюции. Многочисленными исследованиями доказано, что эволюция паразитов и хозяев происходит сопряженно. В некоторых группах паразиты оказываются специфическими для видов, родов или семейств. Поэтому по присутствию определенных паразитов можно с большой точностью судить о филогенетических связях видов-хозя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"/>
          <p:cNvSpPr/>
          <p:nvPr/>
        </p:nvSpPr>
        <p:spPr>
          <a:xfrm>
            <a:off x="1332000" y="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Паразитологические доказатель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3959280" cy="25192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4572000" y="4149720"/>
            <a:ext cx="417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ы́чий (невооружённый) це́пень (солитёр)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 — вид паразитических ленточных червей семейства  Тенииды. Поражает крупный рогатый скот и человека, вызывая тениаринхоз. Заражение бычьим цепнем особенно распространено в экваториальной Африке, Латинской Америке, на Филиппинах и в некоторых частях Восточной Евр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816360" cy="324000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2"/>
          <p:cNvSpPr/>
          <p:nvPr/>
        </p:nvSpPr>
        <p:spPr>
          <a:xfrm>
            <a:off x="4211640" y="1197000"/>
            <a:ext cx="468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тропических лесах острова Суматры растет самый большой цветок в мире — раффлезия Арнольди. Красный, мясистый, с гнилостным запахом, он бывает иногда больше метра в диаметре. У цветка нет ни побегов, ни листьев, ни стеблей, они превратились в клеточные нити и вросли в ствол растения, за счет которого и существует этот колоссальный цветок. С ботанической точки зрения, раффлезия Арнольди является примером наивысшего паразитизма сред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5219640" y="422100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4"/>
          <p:cNvSpPr/>
          <p:nvPr/>
        </p:nvSpPr>
        <p:spPr>
          <a:xfrm>
            <a:off x="250920" y="458136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южных районах нашей страны очень часто на ветках тополей и плодовых деревьев поселяется растение омела — сильно ветвящийся многолетний кустарник. Это растение благодаря своим листьям еще способно к фотосинтезу, но воду и минеральные вещества оно отнимает у деревьев с помощью присосок, проникающих в древесину растения-хозя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5"/>
          <p:cNvSpPr/>
          <p:nvPr/>
        </p:nvSpPr>
        <p:spPr>
          <a:xfrm>
            <a:off x="5076720" y="630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ья, поражённые оме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1476360" y="260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стения-параз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Сходный химический состав клеток всех живых организмов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420640"/>
            <a:ext cx="822960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Содержание некоторых химических элементов в клетке (в % на сухую массу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Кислород 65-75; Углерод 15-18; Водород 8-10; Магний 0,02-0,03; Натрий 0,02-0,03; Кальций 0,04-2,00; Азот 1,5-3,0; Калий 0,15-0,4; Сера 0,15-0,2; Фосфор 0,20-1,00; Хлор 0,05-0,10; Железо 0,01-0,015; Цинк 0,0003; Медь 0,0002; Йод 0,0001; Фтор 0,000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5280" y="3333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Общий план строения клеток всех живых организ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Documents and Settings\Loner\Рабочий стол\600px-Biological_cell_ru.svg.png"/>
          <p:cNvPicPr/>
          <p:nvPr/>
        </p:nvPicPr>
        <p:blipFill>
          <a:blip r:embed="rId1"/>
          <a:stretch/>
        </p:blipFill>
        <p:spPr>
          <a:xfrm>
            <a:off x="395280" y="2781360"/>
            <a:ext cx="3745080" cy="2592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Loner\Рабочий стол\saltwater3.jpg"/>
          <p:cNvPicPr/>
          <p:nvPr/>
        </p:nvPicPr>
        <p:blipFill>
          <a:blip r:embed="rId2"/>
          <a:stretch/>
        </p:blipFill>
        <p:spPr>
          <a:xfrm>
            <a:off x="4572000" y="2781360"/>
            <a:ext cx="4032360" cy="28796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611280" y="566100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клетка животных                            клетка растений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0" y="333360"/>
            <a:ext cx="896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Генетические доказательства</a:t>
            </a: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Универсальность генетического к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Documents and Settings\Loner\Рабочий стол\gencod-06.gif"/>
          <p:cNvPicPr/>
          <p:nvPr/>
        </p:nvPicPr>
        <p:blipFill>
          <a:blip r:embed="rId1"/>
          <a:stretch/>
        </p:blipFill>
        <p:spPr>
          <a:xfrm>
            <a:off x="468360" y="2492280"/>
            <a:ext cx="5543640" cy="40323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6804000" y="2492280"/>
            <a:ext cx="208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дин и тот же триплет кодирует один и тот же тип аминокислоты у все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19051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-38772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Единые принципы хранения, реализации и передачи генетической информации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диные принципы хранения, реализации и передачи генетической информации-- генетическая информация в клетке хранится в форме нуклеиновых кислот. Реализуется генетическая информация в процессе транскрипции и трансляции, основанных на принципе матричного синтез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ти доказательства позволяют уточнить филогенетичекую близость разных групп животных и растений. При этом используются цитогенетические методы, методы ДНК, гибрид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cquest Script"/>
              </a:rPr>
              <a:t>Эмбриональные доказательств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0000"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03280" y="1860480"/>
            <a:ext cx="3683160" cy="99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Принцип рекапитуляции –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2852640"/>
            <a:ext cx="4040280" cy="3508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XIX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еке выдающийся натуралист К.Бэр сформулировал этот закон: чем более ранние стадии индивидуального развития исследуются, тем больше сходства обнаруживается между различными организм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4720" y="3141720"/>
            <a:ext cx="4041720" cy="352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оцессе онтогенеза повторяются (рекапитулируют) многие черты строения предковых форм: на ранних стадиях – более отдаленных предков, на поздних стадиях – близких предк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95280" y="1305000"/>
            <a:ext cx="3672000" cy="88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юбой живой организм, который размножается половым путем начинает свое развитие со стадии зиг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кон зародышевого сходства – представители разных групп организмов на ранних стадиях эмбриогенеза обычно более сходны друг с другом, чем взрослые ос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иогенетический закон – онтогенез всякого организма есть краткое повторение его филогенеза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4284720" y="1844640"/>
          <a:ext cx="439092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844640"/>
                    <a:ext cx="43909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Прямоугольник 8"/>
          <p:cNvSpPr/>
          <p:nvPr/>
        </p:nvSpPr>
        <p:spPr>
          <a:xfrm>
            <a:off x="4211640" y="1125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дии эмбрионального развития позвоночных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1. Закон зародышевого сход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116000" y="333360"/>
            <a:ext cx="748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. Принцип рекапитуляции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биогенетически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24000" y="2276640"/>
            <a:ext cx="324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, не умеющий разговаривать пользуется языком мимики и жестов, что и детеныш обезь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4"/>
          <p:cNvSpPr/>
          <p:nvPr/>
        </p:nvSpPr>
        <p:spPr>
          <a:xfrm>
            <a:off x="4932360" y="1413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всех позвоночных на определенной стадии развития существует хо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Внутреннее строение ланцетника"/>
          <p:cNvPicPr/>
          <p:nvPr/>
        </p:nvPicPr>
        <p:blipFill>
          <a:blip r:embed="rId2"/>
          <a:stretch/>
        </p:blipFill>
        <p:spPr>
          <a:xfrm>
            <a:off x="4427640" y="2276640"/>
            <a:ext cx="2952720" cy="19429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84" name="Picture 10" descr="Консументы первого порядка"/>
          <p:cNvPicPr/>
          <p:nvPr/>
        </p:nvPicPr>
        <p:blipFill>
          <a:blip r:embed="rId3"/>
          <a:stretch/>
        </p:blipFill>
        <p:spPr>
          <a:xfrm>
            <a:off x="3780000" y="4437000"/>
            <a:ext cx="2592360" cy="2193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285" name="Прямоугольник 7"/>
          <p:cNvSpPr/>
          <p:nvPr/>
        </p:nvSpPr>
        <p:spPr>
          <a:xfrm>
            <a:off x="6443640" y="4437000"/>
            <a:ext cx="27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 многих насекомых личиночная стадия (гусеница – личинка) напоминает чер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27:08Z</dcterms:created>
  <dc:creator>Grey Wolf</dc:creator>
  <dc:description/>
  <dc:language>en-US</dc:language>
  <cp:lastModifiedBy>Коля</cp:lastModifiedBy>
  <dcterms:modified xsi:type="dcterms:W3CDTF">2013-05-15T18:00:34Z</dcterms:modified>
  <cp:revision>92</cp:revision>
  <dc:subject/>
  <dc:title>ДОКАЗАТЕЛЬСТВА ЭВОЛЮЦИИ</dc:title>
</cp:coreProperties>
</file>