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2E1-7367-44A5-929F-6798750A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92F-21AA-4C73-94D9-EFB05C31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C0A-C36D-4506-BF3C-5A001AC0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9CF-7570-4C19-B8AB-DBFD11CE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1E1D-F622-4989-A608-D077B5E2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5F7D-0B4A-4446-ABAA-917CCAC7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EDAA-5C25-4844-9506-F4E2C0CD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B77-A64B-4679-A4BC-02EA5C8B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BD38-AA44-4A74-93A0-940277A9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2CC2-C7B3-4D35-9C29-452B647E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148D-5D0D-4F29-8750-E05A9643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48E-7A61-411E-BA2F-921766EB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D424-E294-4DD7-AC51-7BA180B9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F379-5184-40F0-BC8A-4AB6A87C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0351-D0A9-496B-9666-99C661B2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EB1A-A198-47A9-B848-27ADFEF7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FC83-1A5B-431B-BA99-5A71FF09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0613-83E5-4678-A5F3-8C14DB36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F675-1EB5-4F07-AE09-8D8146DB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CC0AD-EC2D-4E77-93BC-6B03F66E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BD50-AC24-4391-BA26-C03095CB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96A7-173B-411E-80C9-A6814590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B0A-E955-462A-A91F-AEACC499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5BC0-4A90-4015-B4C1-47F9607C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B3540-8FE4-47E6-9F6D-34D2565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E9A8-6626-4B36-874C-2229BE4E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C9EFC-D2ED-4D66-8E51-7B8A5307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42FD3-7AD4-484D-B511-525F7000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A3566-E4A7-4E25-A4A5-637D3745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6C1DA-3DEA-4F22-A97D-7E6AA35A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BF3E-C6E8-495E-88D1-F0BC6326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C801F-36A1-4A22-A327-24ABB949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9C58-0089-4B15-AC71-C3A01D1E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282-4302-45D9-9204-1A761B59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B55E-682D-4004-9A6B-D39F6CFB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68A2-0A87-4E9F-8511-16AF4ADE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85FF0-FA26-4771-9F4E-2F82E8EF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5FF6-CE9D-42F6-9CE1-3200FDEC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DC589-3F28-4BF8-911C-19C8AB24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C8B88-D5CB-428E-8592-4B8C652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6C95-614B-4C4F-8FEB-00B9634B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F9FC1-6205-4398-8C5D-553E7FF5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3E18-D955-48A6-B145-22084EA6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36606-89EE-4EA2-8FBC-C554EC5C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033-CFA3-4F02-8A88-C2B0065A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7F185-F071-4EBD-A06B-BD907CAB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9E848-90B7-4FE6-9A6D-CF5EDC53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C3681-9C53-43DC-ADFA-B739945F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50232-8209-42E0-9FEB-A45B4B2F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27AB3-2578-40AF-B416-5F08B62C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D9CF2-7D02-4450-9551-BB9A2ADF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F14E-ADDF-4AE3-8AE9-82BB9135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5E92-3592-41BD-9BEF-5C98BAA2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5633E-342F-499E-A0B1-30EF4062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A88B9-C111-4753-BD81-4755F097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98A-7C25-4EDE-8B37-8A9048C2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F8DA-7390-4FF7-AB29-F27A51AC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509C7-D5BD-49A4-9FBA-895FC403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E3D4A-B870-4B68-8720-0A69E3AD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C866C-A6DD-4B29-BD04-83FDC067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0F6D4-40DC-46B8-8DF0-CEB7D17D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A31E2-2777-4781-8663-9C2DDBC5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6DF87-D1A1-4D96-88B2-A690FE6F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F2606-70CB-4E8D-A4AD-2AC6CF5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9DA75-4257-4CBC-8B38-42B98C52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7CB1A-10B1-4950-957A-96C9F236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049-01AA-4DEB-B30B-BA782C81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DC170-B441-4EF6-80C2-1543E7EC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F57F2-16F0-4007-A62E-B4BE3D49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F3E40-AB40-47A0-8945-4A954616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280-CAE6-41D4-B337-F2F032D1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93A-E2F9-4E6D-8D74-7C0F751F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8F5B-9484-4727-B2B9-A458119665E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843D-D77F-443E-A89D-8A7714C585D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1967-76C5-4E08-96F2-B0265698C3B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038C-E073-4ADA-8EEF-0CC6C795598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6AE8-3F0F-443C-9E4F-3DE631781F0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5F65-0952-4DDF-87D8-C0B9BB1FFC5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нировочные задания по фонетик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214200" y="239040"/>
            <a:ext cx="8643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7. В каком слове букв больше, чем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ружелюб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арьёвщ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кольз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8. В каком слове все согласные звуки являются глух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с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том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285840" y="670320"/>
            <a:ext cx="885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9. В каком слове все согласные звуки являются глух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т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исьмец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0. В каком слове все согласные звуки являются глух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ап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а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шев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кус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285840" y="52740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1. В каком слове все согласные звуки являются звон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брос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л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о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2. В каком слове все согласные звуки являются звон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а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р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ца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ьюж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285840" y="22392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3. В каком слове есть звук [з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рз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обозрим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говорить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воз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428760" y="2938680"/>
            <a:ext cx="84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4. В каком слове есть звук [з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ж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ран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ерка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285840" y="52272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5. В каком слове есть звук [з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емлем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мороз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а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елене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6. В каком слове есть зву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j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знаком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ъём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семьдес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чталь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428760" y="308520"/>
            <a:ext cx="8715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7. В каком слове нет звука [Л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ясните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м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йогу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8. В каком слове есть зву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U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ъяв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ез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юрт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>
            <a:off x="285840" y="308520"/>
            <a:ext cx="8572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9. В каком слове есть звук [д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п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од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воз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р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0. В каком слове есть звук [д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о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очер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каде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357120" y="30852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1. В каком слове есть звук [д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с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д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лег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некд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2. В каком слове есть звук [т'|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втопоез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вад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яд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ъез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"/>
          <p:cNvSpPr/>
          <p:nvPr/>
        </p:nvSpPr>
        <p:spPr>
          <a:xfrm>
            <a:off x="357120" y="37980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3. В каком слове есть звук [т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очё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проголо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лот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дыряв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4. В каком слове есть звук [ф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втр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та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аль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357120" y="23724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5. В каком слове есть звук [ф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неф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ф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ф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ф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6. В каком слове есть звук [ф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изи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р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сад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ехт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428760" y="714240"/>
            <a:ext cx="850104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кое слово состоит из трёх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ёр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е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ы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кое слово состоит из пя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ъез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роб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жеч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ъе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428760" y="223920"/>
            <a:ext cx="84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7. В каком слове есть звук [г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еограф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ст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та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кз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428760" y="300024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8. В каком слове есть звук [к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м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ис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е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кину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285840" y="30852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9. В каком слове есть звук [т'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тащ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ебе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енуэ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0. В каком слове есть звук |х|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ухгал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ирур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г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итроум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214200" y="30852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1. В каком слове есть звук [с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оз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л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ржи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нос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2. В каком слове есть зву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ж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стуж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ворня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ура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357120" y="308520"/>
            <a:ext cx="8572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3. В каком слове есть звук |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]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электров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екрета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йсбе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зморо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4. В каком слове нет звука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ш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рож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арежь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и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357120" y="310320"/>
            <a:ext cx="850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5. В каком слове нет звука [т]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и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экспон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ле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коп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6. Какой звук произносится на конце слов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рог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г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к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г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к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285840" y="31284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7. Какой звук произносится на конце слов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тзыв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Ф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ф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8. Какой звук произносится на конце слов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ров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ф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ф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в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357120" y="24156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9. Какой звук произносится на конце слов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допрово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ffffff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д] — согласный, звонки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ffffff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т] — согласный, глухой, твёрд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ffffff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д'] — согласный, звонки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77840" algn="just">
              <a:buClr>
                <a:srgbClr val="ffffff"/>
              </a:buClr>
              <a:buFont typeface="Arial"/>
              <a:buAutoNum type="arabicParenR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т'] — согласный, глухой, мяг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0. Сколько раз употребляется звук [ш] в данном предложе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гда мы шли по шоссе, я всё думал, что бы такое унести от­сюда на память как частичку прошл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)1, 2)2,  3)3,  4)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500040" y="428760"/>
            <a:ext cx="8072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1. Сколько раз употребляется звук [ф] в данном предложе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т церковь, от неё фактически остался бесформенный ос­тов, обраставший в течение нескольких лет кустами неприхот­ливой буз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)3, 2)4, 3)5, 4)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2. Сколько раз употребляются звуки [з] и |з'] в данном предложе­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тем, приземлившись и сбросив с себя парашюты, десант­ники принимаются закладывать в грунт взрывчат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)2, 2)3, 3)4, 4)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0" y="428760"/>
            <a:ext cx="93582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53. Сколько раз употребляется звук [ш] в данном предложени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Загрязнение увеличивается, потому что с ростом населения уменьшается доступное для каждого человека пространство и потому что потребности на душу населения непрерывно увели­чиваются; так что из года в год каждый из нас выбрасывает всё больше отход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)4, 2)5, 3)6, 4)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54. Сколько раз употребляется звук [ц] в данном предложени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 чешуйки — это и есть самое главное в наряде бабочки — та самая «пыльца», которая так легко стирается и уничтожается от неосторожных прикосновений безжалостных пальцев челов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)2, 2)3, 3)4, 4)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285840" y="428760"/>
            <a:ext cx="8358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5. Сколько раз употребляется звук [ш] в данных предложения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 чтобы актёр мог выполнить такую сложную задачу, необхо­димо, в свою очередь, ответить на множество других вопросов: кто? что? когда? почему? Артистов и режиссёра волнует, как ге­рой пьесы жил раньше и как будет жить в будущем, какие собы­тия оказались в его жизни главными, почему он поступает имен­но так, а не иначе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)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)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)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)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642960" y="596160"/>
            <a:ext cx="7643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е слово состоит из девя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верхчуть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афьян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зъерош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ьющий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. Какое слово состоит из деся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о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лье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ъедини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)субъектив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500040" y="428760"/>
            <a:ext cx="8286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6. Сколько раз употребляется звук [ц] в данном предложе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 первым относятся виды птиц, численность которых так резко сокращается, что им уже не выжить без активного вмеша­тельства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)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)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)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)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428760" y="121428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А 2009. Русский язык: Сборник заданий: 9 класс / С.И.Львова,– М.:Эксмо, 2008. – 304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357120" y="88344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е слово состоит из одиннадца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ьюте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ъяс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оловьи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ежъязык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6. Какое слово состоит из двенадца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нтервьюир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ильнейш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ъеди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айкал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214200" y="38160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7. Какое слово состоит из двенадцати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съедоб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рабатыва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ельетон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ъяде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. В каком слове все согласные звуки являютс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ягки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мяте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есятиле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уте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ментар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214200" y="527400"/>
            <a:ext cx="8643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 В каком слове все согласные звуки являются твёрд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е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олидар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грам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0. В каком слове все согласные звуки являются твёрд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шибоч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шокола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об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Franklin Gothic Book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укту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428760" y="455760"/>
            <a:ext cx="8501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1. В каком слове все согласные звуки являются твёрд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ормат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ж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разц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опущ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2. В каком слове количество звуков и букв совпад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ьющая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стрич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юль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214200" y="37980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3. В каком слове звуков больше, чем бук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оздаё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ю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ыдущ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лот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4. В каком слове звуков больше, чем бук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с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вадеб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юбиля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яро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357120" y="308520"/>
            <a:ext cx="8286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. В каком слове букв больше, чем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юрид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ъя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альсир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ьетнам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6. В каком слове букв больше, чем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прел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алюми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ятьдес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36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ъедл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9-08T23:29:06Z</dcterms:modified>
  <cp:revision>13</cp:revision>
  <dc:subject/>
  <dc:title>Слайд 1</dc:title>
</cp:coreProperties>
</file>