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B93-4B6C-4BF1-8D83-19B8BC84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694-CB4E-4069-B1AF-B16255CB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C0F-BA51-4A18-B090-DA7E5F77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740-B1FA-487A-A256-7A0E89AD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C953-45D8-493C-93A5-455250D0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041A-3808-45AA-B9DC-2E87A02B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408D-89F0-40F5-960F-2BD1B37E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2BAB-9492-48B4-A8F0-062094A5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97FE-DD31-498D-B1CD-9C539000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12DD-BF5F-4AF2-8367-3662D471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3589-047D-4A2A-B336-E3B8AEE0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C02-8545-41F1-AA80-802C8B52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6D5A-1C7F-4BCF-82EA-12F273A6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7283-770C-48F8-BC1A-C52A579D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0959-94CF-4C99-A02E-364D707F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D904-7A80-432C-8DFD-00CA7349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992C-74BB-48EE-8CD4-AB7ED5F8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4B0E2-5E0E-4155-9636-DFA6FD95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EAB8D-BD4D-4EB2-A782-8B6BC81E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4E073-FB58-4D29-AF5C-B548CD83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E5002-A75B-469E-9628-8511BF2D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605D2-6951-4A79-9DFB-BD23C973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DAEC-02B7-47BA-9C80-CCCB92AE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4F31B-69DA-467B-8FF0-7431D4A1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07FE-E6C0-4B3F-AA7D-45C79FBB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7B543-FDC3-4D12-B620-B00696CC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F90A1-8876-43D7-A1AC-202A570B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32492-09A1-4B6A-AC3E-DE3A9AB8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C8248-F12C-4AA0-8328-6E42CE18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04B0C-D696-43F2-8360-FC77EE2F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71624-39FB-4269-A8F2-A1DF10AB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24C4C-8B45-4467-82F6-B0C2F0F1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82D71-C46B-409C-A43C-8EDE4082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FC6-E7CC-4703-9BE7-242B2A30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EA24C-7F0F-4100-9B44-3A9A3C38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C6104-DAA7-4363-9544-00D2FAA1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1AE4B-1E82-4E50-84E1-503C1B6A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6C866-D089-4D0D-9BBE-9EF6F165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05A68-26BB-46CC-A356-8173A617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5DF48-F908-406C-8FDC-1186866B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FFA4E-1A16-4B87-997C-33DCF709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FEE4F-04FF-42C3-965D-C8C61473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6797E-4085-43AB-95F7-B868B431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F27B7-9F1E-439A-A04B-C7E8B522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143-2BB7-430F-B3D2-D2C5D328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CB091-2FAD-472B-A0BF-8DC3AC56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E0BAE-7C27-4442-832D-67FFD7A3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E0B60-DF84-48AB-8776-6C529F48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A6F7A-8379-4EC8-A295-435A6676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A99A8-FF45-4397-BFCC-F8300AB6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E5A6D-5200-42DC-B3C8-29B89014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BC415-F373-460B-85C3-4DC9319F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9EE29-6ED3-4E55-AF9B-2074FA91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CF741-5DEF-4DC3-AA4E-0B87B96A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B67E3-FAD0-4831-9639-1D28B8A9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037-CBF9-40E7-AEF2-27D3F384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D613B-1B7B-4485-A3FD-94E9DFB7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B9725-A09A-4B50-8B18-9BD30204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1340B-6ECB-47D4-858F-0FBF58B2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10108-990B-4C16-8DA9-4D7BD25C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5D1A2-AA4B-48AA-A2CE-B34A3666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C36D5-B237-413B-9E50-93B7A6BF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EB78B-18A9-43BE-B545-6721FCAE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DF2B2-2BD8-4809-B306-5931D1F5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21161-3C34-42AA-B74D-6AD24A78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F7D2A-38DC-4FA6-941D-F7229CF3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79FE-A85C-4A17-8D39-B58CC438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EF5DD-470B-413E-9E2B-7A91972F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1D646-F7C9-46F2-AB4C-952EACD3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40CC1-FA99-4122-B6CB-DA7B24A8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78D-E8A9-433B-B302-BF0DCF26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91C-85B7-4DCC-9BF3-1DF2210C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82C3-4448-4351-8AC7-D015C93BB01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2668-E737-40EB-9A2A-B3708D233AD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2F20-44C4-4E5D-82D6-BC4CEC8F2EA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8C17-C9A8-4E17-895C-BB3B33EF22C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C91D-1CD0-49B1-9309-63C9D262375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76A8-6119-4CA6-93E8-8EF35E8EF86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нировочные задания по фонетик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214200" y="239040"/>
            <a:ext cx="8643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7. В каком слове букв больше, чем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ружелюб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крес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арьёвщ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кольз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8. В каком слове все согласные звуки являются глух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а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с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том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285840" y="670320"/>
            <a:ext cx="8858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9. В каком слове все согласные звуки являются глух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т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исьмец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0. В каком слове все согласные звуки являются глух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ап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ан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шев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кус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"/>
          <p:cNvSpPr/>
          <p:nvPr/>
        </p:nvSpPr>
        <p:spPr>
          <a:xfrm>
            <a:off x="285840" y="52740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1. В каком слове все согласные звуки являются звонк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брос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дел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од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2. В каком слове все согласные звуки являются звонк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са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оро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ца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ьюж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285840" y="22392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3. В каком слове есть звук [з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ерз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еобозрим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говорить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евозч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428760" y="2938680"/>
            <a:ext cx="842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4. В каком слове есть звук [з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жи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аран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ерка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инте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"/>
          <p:cNvSpPr/>
          <p:nvPr/>
        </p:nvSpPr>
        <p:spPr>
          <a:xfrm>
            <a:off x="285840" y="52272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5. В каком слове есть звук [з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емлем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мороз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дав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еленеющ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6. В каком слове есть звук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j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знакомь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ъём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осемьдеся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чталь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428760" y="308520"/>
            <a:ext cx="8715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7. В каком слове нет звука [Л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о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яснитель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мя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йогу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8. В каком слове есть звук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U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ъяв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я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ез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юрт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"/>
          <p:cNvSpPr/>
          <p:nvPr/>
        </p:nvSpPr>
        <p:spPr>
          <a:xfrm>
            <a:off x="285840" y="308520"/>
            <a:ext cx="8572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9. В каком слове есть звук [д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пи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ход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Гвоз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гря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0. В каком слове есть звук [д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о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очер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академ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357120" y="30852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1. В каком слове есть звук [д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еся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лад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елег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анекд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2. В каком слове есть звук [т'|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автопоез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вад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ядь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ъез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"/>
          <p:cNvSpPr/>
          <p:nvPr/>
        </p:nvSpPr>
        <p:spPr>
          <a:xfrm>
            <a:off x="357120" y="37980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3. В каком слове есть звук [т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очё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проголо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олот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дыряв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4. В каком слове есть звук [ф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втр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ста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фальш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357120" y="23724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5. В каком слове есть звук [ф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енеф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оф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ф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ефе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6. В каком слове есть звук [ф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физиоло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ро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сад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фехт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428760" y="714240"/>
            <a:ext cx="850104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кое слово состоит из трёх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я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ёр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еб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ы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кое слово состоит из пят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ъез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роб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жеч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ъеш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"/>
          <p:cNvSpPr/>
          <p:nvPr/>
        </p:nvSpPr>
        <p:spPr>
          <a:xfrm>
            <a:off x="428760" y="223920"/>
            <a:ext cx="842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7. В каком слове есть звук [г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географ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ст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тал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окз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оугольник 3"/>
          <p:cNvSpPr/>
          <p:nvPr/>
        </p:nvSpPr>
        <p:spPr>
          <a:xfrm>
            <a:off x="428760" y="300024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8. В каком слове есть звук [к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м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ис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еф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кинул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285840" y="30852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9. В каком слове есть звук [т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етащ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ебе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енуэ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0. В каком слове есть звук |х|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ухгал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хирур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лег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хитроум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214200" y="308520"/>
            <a:ext cx="8715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1. В каком слове есть звук [с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воз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дел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держив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носч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2. В каком слове есть звук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ж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ж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стуж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ворняж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ура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357120" y="308520"/>
            <a:ext cx="8572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3. В каком слове есть звук |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]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электрово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екретар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айсбер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змороз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4. В каком слове нет звука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ш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рожж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арежь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три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357120" y="310320"/>
            <a:ext cx="8501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5. В каком слове нет звука [т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и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экспон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ле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коп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6. Какой звук произносится на конце слов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рог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г] — согласный, звонки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к] — согласный, глухо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г'] — согласный, звонки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к'] — согласный, глухо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285840" y="31284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7. Какой звук произносится на конце слова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тзыв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в'] — согласный, звонки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в] — согласный, звонки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Ф'] — согласный, глухо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ф] — согласный, глухо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8. Какой звук произносится на конце слова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ров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в] — согласный, звонки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ф] — согласный, глухо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ф'] — согласный, глухо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в'] — согласный, звонки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357120" y="241560"/>
            <a:ext cx="8358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9. Какой звук произносится на конце слова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одопровод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77840" algn="just">
              <a:buClr>
                <a:srgbClr val="ffffff"/>
              </a:buClr>
              <a:buFont typeface="Arial"/>
              <a:buAutoNum type="arabicParenR"/>
              <a:tabLst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д] — согласный, звонки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77840" algn="just">
              <a:buClr>
                <a:srgbClr val="ffffff"/>
              </a:buClr>
              <a:buFont typeface="Arial"/>
              <a:buAutoNum type="arabicParenR"/>
              <a:tabLst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т] — согласный, глухо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77840" algn="just">
              <a:buClr>
                <a:srgbClr val="ffffff"/>
              </a:buClr>
              <a:buFont typeface="Arial"/>
              <a:buAutoNum type="arabicParenR"/>
              <a:tabLst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д'] — согласный, звонки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77840" algn="just">
              <a:buClr>
                <a:srgbClr val="ffffff"/>
              </a:buClr>
              <a:buFont typeface="Arial"/>
              <a:buAutoNum type="arabicParenR"/>
              <a:tabLst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т'] — согласный, глухо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50. Сколько раз употребляется звук [ш] в данном предложен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огда мы шли по шоссе, я всё думал, что бы такое унести от­сюда на память как частичку прошл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)1, 2)2,  3)3,  4)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500040" y="428760"/>
            <a:ext cx="8072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1. Сколько раз употребляется звук [ф] в данном предложен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т церковь, от неё фактически остался бесформенный ос­тов, обраставший в течение нескольких лет кустами неприхот­ливой бузи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)3, 2)4, 3)5, 4)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2. Сколько раз употребляются звуки [з] и |з'] в данном предложе­н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тем, приземлившись и сбросив с себя парашюты, десант­ники принимаются закладывать в грунт взрывчат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)2, 2)3, 3)4, 4)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0" y="428760"/>
            <a:ext cx="93582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53. Сколько раз употребляется звук [ш] в данном предложени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Загрязнение увеличивается, потому что с ростом населения уменьшается доступное для каждого человека пространство и потому что потребности на душу населения непрерывно увели­чиваются; так что из года в год каждый из нас выбрасывает всё больше отход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1)4, 2)5, 3)6, 4)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54. Сколько раз употребляется звук [ц] в данном предложени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А чешуйки — это и есть самое главное в наряде бабочки — та самая «пыльца», которая так легко стирается и уничтожается от неосторожных прикосновений безжалостных пальцев челове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1)2, 2)3, 3)4, 4)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285840" y="428760"/>
            <a:ext cx="8358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5. Сколько раз употребляется звук [ш] в данных предложения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 чтобы актёр мог выполнить такую сложную задачу, необхо­димо, в свою очередь, ответить на множество других вопросов: кто? что? когда? почему? Артистов и режиссёра волнует, как ге­рой пьесы жил раньше и как будет жить в будущем, какие собы­тия оказались в его жизни главными, почему он поступает имен­но так, а не иначе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)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)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3)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4)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642960" y="596160"/>
            <a:ext cx="7643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ое слово состоит из девят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верхчуть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афьяно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зъерош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ьющий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4. Какое слово состоит из десят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сто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лье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ъедини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4)субъектив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500040" y="428760"/>
            <a:ext cx="8286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6. Сколько раз употребляется звук [ц] в данном предложен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 первым относятся виды птиц, численность которых так резко сокращается, что им уже не выжить без активного вмеша­тельства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)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)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3)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4)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428760" y="1214280"/>
            <a:ext cx="80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А 2009. Русский язык: Сборник заданий: 9 класс / С.И.Львова,– М.:Эксмо, 2008. – 304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357120" y="88344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5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ое слово состоит из одиннадцат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омпьюте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ъяс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оловьи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ежъязык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6. Какое слово состоит из двенадцат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нтервьюир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ильнейш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бъеди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байкал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214200" y="381600"/>
            <a:ext cx="8715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7. Какое слово состоит из двенадцат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есъедоб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ерабатывающ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фельетони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езъяде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8. В каком слове все согласные звуки являютс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ягк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езмятеж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есятиле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утеш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омментар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214200" y="527400"/>
            <a:ext cx="8643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9. В каком слове все согласные звуки являются твёрд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еш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олидар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грам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0. В каком слове все согласные звуки являются твёрд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Franklin Gothic Book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шибоч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Franklin Gothic Book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шокола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Franklin Gothic Book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соб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Franklin Gothic Book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трукту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"/>
          <p:cNvSpPr/>
          <p:nvPr/>
        </p:nvSpPr>
        <p:spPr>
          <a:xfrm>
            <a:off x="428760" y="455760"/>
            <a:ext cx="8501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1. В каком слове все согласные звуки являются твёрд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ормати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жи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бразцо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опуще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2. В каком слове количество звуков и букв совпад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ьющая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стрич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юль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ющ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214200" y="379800"/>
            <a:ext cx="8715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3. В каком слове звуков больше, чем бук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оздаёш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оюющ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ыдущ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олот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4. В каком слове звуков больше, чем бук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с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вадеб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юбиля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яро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357120" y="308520"/>
            <a:ext cx="8286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5. В каком слове букв больше, чем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юрид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ъя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альсир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ьетнам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6. В каком слове букв больше, чем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епрело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алюми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ятьдеся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ъедли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9-08T23:29:06Z</dcterms:modified>
  <cp:revision>13</cp:revision>
  <dc:subject/>
  <dc:title>Слайд 1</dc:title>
</cp:coreProperties>
</file>