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A28-885A-47E9-8198-75E2DD76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637-4F1C-4DAA-8535-808D4061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EE4-8C18-4614-8A6C-07BAA895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459-5917-4453-8C47-9B0384E2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29C-CEAC-4E7D-B198-03679BBC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C8F-4F12-4F95-9B2F-D40099B6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C7F-7C71-47C9-8158-8670D805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598-2310-473F-A9FD-0A20B9DA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135-5EAF-44E6-824A-AF599397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6FC-D5EE-4090-81BB-F53C8A06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8F2-B5EF-489E-AAEB-E8A261AF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AB0-D947-48BD-9AFB-833CD52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AB74-76B6-471D-BC98-600C636A2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160" y="-9288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849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Calibri"/>
              </a:rPr>
              <a:t>The world of  rebuses and ridd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 flipV="1">
            <a:off x="0" y="9900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42920" y="3857760"/>
            <a:ext cx="3214800" cy="2724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286000" y="1643040"/>
            <a:ext cx="3792600" cy="251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4572000" y="4143240"/>
            <a:ext cx="3314880" cy="22082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000080" y="114300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It's time to have a r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786200" y="1928880"/>
            <a:ext cx="3829320" cy="4581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500040" y="5716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Find 12 words on the theme "House"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585800"/>
          <a:ext cx="6096240" cy="5048280"/>
        </p:xfrm>
        <a:graphic>
          <a:graphicData uri="http://schemas.openxmlformats.org/drawingml/2006/table">
            <a:tbl>
              <a:tblPr/>
              <a:tblGrid>
                <a:gridCol w="676440"/>
                <a:gridCol w="67788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Q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23880" y="1585800"/>
          <a:ext cx="6096240" cy="4416480"/>
        </p:xfrm>
        <a:graphic>
          <a:graphicData uri="http://schemas.openxmlformats.org/drawingml/2006/table">
            <a:tbl>
              <a:tblPr/>
              <a:tblGrid>
                <a:gridCol w="676440"/>
                <a:gridCol w="67788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Прямоугольник 2"/>
          <p:cNvSpPr/>
          <p:nvPr/>
        </p:nvSpPr>
        <p:spPr>
          <a:xfrm>
            <a:off x="1071720" y="500040"/>
            <a:ext cx="43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yoursel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729560" y="214200"/>
            <a:ext cx="1128600" cy="1143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71680" y="428760"/>
            <a:ext cx="50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Find the key wo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1239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a  dog, a cat, a pet, a parrot, a guinea p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229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a kitchen, a toilet, a bathroom, a flat, a living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365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fish, ham, bread, butter, a cake, food, eg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571680" y="428760"/>
            <a:ext cx="50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Check yoursel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0" y="1239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a  dog, a cat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a pet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, a parrot, a guinea p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229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a kitchen, a toilet, a bathroom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a flat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, a living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365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2d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fish, ham, bread, butter, a cake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food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  <a:ea typeface="Calibri"/>
              </a:rPr>
              <a:t>, eg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2408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Ураган </a:t>
            </a:r>
            <a:r>
              <a:rPr b="0" lang="en-US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Windy </a:t>
            </a:r>
            <a:r>
              <a:rPr b="0" lang="ru-RU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похозяйничал в доме Энн. Помоги ей навести порядок, расставив все по местам</a:t>
            </a:r>
            <a:r>
              <a:rPr b="0" lang="en-US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:</a:t>
            </a:r>
            <a:r>
              <a:rPr b="0" lang="ru-RU" sz="2800" spc="-1" strike="noStrike">
                <a:solidFill>
                  <a:srgbClr val="6b6bcf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3880" y="1357200"/>
          <a:ext cx="6096240" cy="806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4032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c000"/>
                          </a:solidFill>
                          <a:latin typeface="Times New Roman"/>
                          <a:ea typeface="Calibri"/>
                        </a:rPr>
                        <a:t>Kitche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c000"/>
                          </a:solidFill>
                          <a:latin typeface="Times New Roman"/>
                          <a:ea typeface="Calibri"/>
                        </a:rPr>
                        <a:t>Bedroo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c000"/>
                          </a:solidFill>
                          <a:latin typeface="Times New Roman"/>
                          <a:ea typeface="Calibri"/>
                        </a:rPr>
                        <a:t>Bathroo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c000"/>
                          </a:solidFill>
                          <a:latin typeface="Times New Roman"/>
                          <a:ea typeface="Calibri"/>
                        </a:rPr>
                        <a:t>Garag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gridSpan="4"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2"/>
          <p:cNvSpPr/>
          <p:nvPr/>
        </p:nvSpPr>
        <p:spPr>
          <a:xfrm>
            <a:off x="4424400" y="-925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14200" y="255780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A bed, a brush, a car, a teapot, a chair, a bike, a spoon, a bookshelf, a bath, toys, sweets, a computer,a vase, a refrigerator, an axe, an armchair, a c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523880" y="1995480"/>
          <a:ext cx="6096240" cy="2867040"/>
        </p:xfrm>
        <a:graphic>
          <a:graphicData uri="http://schemas.openxmlformats.org/drawingml/2006/table">
            <a:tbl>
              <a:tblPr/>
              <a:tblGrid>
                <a:gridCol w="1681200"/>
                <a:gridCol w="1519200"/>
                <a:gridCol w="1460520"/>
                <a:gridCol w="1435320"/>
              </a:tblGrid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Kit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Bath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Ga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teap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ru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sp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ch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swe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bookshe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n ax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v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t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refrig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 c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an armch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1"/>
          <p:cNvSpPr/>
          <p:nvPr/>
        </p:nvSpPr>
        <p:spPr>
          <a:xfrm>
            <a:off x="500040" y="2923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Check yoursel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85840" y="49291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7072200" y="2142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428760" y="642960"/>
            <a:ext cx="58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ell about your favourite seas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1143000" y="1214280"/>
            <a:ext cx="220032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5143680" y="1285920"/>
            <a:ext cx="1504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1428840" y="3929040"/>
            <a:ext cx="2138400" cy="1928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4"/>
          <a:stretch/>
        </p:blipFill>
        <p:spPr>
          <a:xfrm>
            <a:off x="4929120" y="4071960"/>
            <a:ext cx="2419560" cy="2028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00040" y="-142920"/>
            <a:ext cx="8001000" cy="65721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071720" y="116676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rd nut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3071880" y="785880"/>
            <a:ext cx="2214360" cy="19288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4429080" y="2786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Arial"/>
              </a:rPr>
              <a:t> “</a:t>
            </a:r>
            <a:r>
              <a:rPr b="0" lang="en-US" sz="3600" spc="-1" strike="noStrike">
                <a:solidFill>
                  <a:srgbClr val="6b6bcf"/>
                </a:solidFill>
                <a:latin typeface="Arial"/>
              </a:rPr>
              <a:t>Smart pupil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6286680" y="3429000"/>
            <a:ext cx="1938240" cy="2171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1214280" y="3429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"Lucky m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1785960" y="4000680"/>
            <a:ext cx="2814480" cy="2314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58000" y="4000680"/>
            <a:ext cx="1857240" cy="22143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4" name="Rectangle 1"/>
          <p:cNvSpPr/>
          <p:nvPr/>
        </p:nvSpPr>
        <p:spPr>
          <a:xfrm>
            <a:off x="30240" y="-92880"/>
            <a:ext cx="60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643800" y="642960"/>
            <a:ext cx="1928880" cy="21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4357800" y="414324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1071720" y="571680"/>
            <a:ext cx="61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e are ready to 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e are ready to pl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ish each other "Good luck"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win or lose, anyw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42920" y="28584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Find the missing let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1428840" cy="12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2000160" y="785880"/>
            <a:ext cx="1643040" cy="1428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3786120" y="785880"/>
            <a:ext cx="1143000" cy="1590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214960" y="642960"/>
            <a:ext cx="1714320" cy="1519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5"/>
          <a:stretch/>
        </p:blipFill>
        <p:spPr>
          <a:xfrm>
            <a:off x="6858000" y="714240"/>
            <a:ext cx="170028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6"/>
          <a:stretch/>
        </p:blipFill>
        <p:spPr>
          <a:xfrm>
            <a:off x="357120" y="2071800"/>
            <a:ext cx="1785960" cy="158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7"/>
          <a:stretch/>
        </p:blipFill>
        <p:spPr>
          <a:xfrm>
            <a:off x="2286000" y="221472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8"/>
          <a:stretch/>
        </p:blipFill>
        <p:spPr>
          <a:xfrm>
            <a:off x="3929040" y="2143080"/>
            <a:ext cx="107172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9"/>
          <a:stretch/>
        </p:blipFill>
        <p:spPr>
          <a:xfrm>
            <a:off x="5500800" y="2214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10"/>
          <a:stretch/>
        </p:blipFill>
        <p:spPr>
          <a:xfrm>
            <a:off x="6929280" y="2143080"/>
            <a:ext cx="1571760" cy="128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11"/>
          <a:stretch/>
        </p:blipFill>
        <p:spPr>
          <a:xfrm>
            <a:off x="428760" y="3429000"/>
            <a:ext cx="1357200" cy="171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12"/>
          <a:stretch/>
        </p:blipFill>
        <p:spPr>
          <a:xfrm>
            <a:off x="2214720" y="3643200"/>
            <a:ext cx="1285560" cy="135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3"/>
          <a:stretch/>
        </p:blipFill>
        <p:spPr>
          <a:xfrm>
            <a:off x="3714840" y="3500280"/>
            <a:ext cx="1290600" cy="1514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4"/>
          <a:stretch/>
        </p:blipFill>
        <p:spPr>
          <a:xfrm>
            <a:off x="5000760" y="3429000"/>
            <a:ext cx="207144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5"/>
          <a:stretch/>
        </p:blipFill>
        <p:spPr>
          <a:xfrm>
            <a:off x="7215120" y="3286080"/>
            <a:ext cx="171468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"/>
          <p:cNvPicPr/>
          <p:nvPr/>
        </p:nvPicPr>
        <p:blipFill>
          <a:blip r:embed="rId16"/>
          <a:stretch/>
        </p:blipFill>
        <p:spPr>
          <a:xfrm>
            <a:off x="285840" y="5214960"/>
            <a:ext cx="1500120" cy="141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"/>
          <p:cNvPicPr/>
          <p:nvPr/>
        </p:nvPicPr>
        <p:blipFill>
          <a:blip r:embed="rId17"/>
          <a:stretch/>
        </p:blipFill>
        <p:spPr>
          <a:xfrm>
            <a:off x="2071800" y="4786200"/>
            <a:ext cx="164304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"/>
          <p:cNvPicPr/>
          <p:nvPr/>
        </p:nvPicPr>
        <p:blipFill>
          <a:blip r:embed="rId18"/>
          <a:stretch/>
        </p:blipFill>
        <p:spPr>
          <a:xfrm>
            <a:off x="4000680" y="507204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1" descr=""/>
          <p:cNvPicPr/>
          <p:nvPr/>
        </p:nvPicPr>
        <p:blipFill>
          <a:blip r:embed="rId19"/>
          <a:stretch/>
        </p:blipFill>
        <p:spPr>
          <a:xfrm>
            <a:off x="5715000" y="500076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"/>
          <p:cNvPicPr/>
          <p:nvPr/>
        </p:nvPicPr>
        <p:blipFill>
          <a:blip r:embed="rId20"/>
          <a:stretch/>
        </p:blipFill>
        <p:spPr>
          <a:xfrm>
            <a:off x="7072200" y="5181480"/>
            <a:ext cx="172404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571680" y="78588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ourself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571760" y="197316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4500720" y="174780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3000240" y="380844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82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7643880" y="192564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7786800" y="4917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fffd4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5214960" y="4122720"/>
            <a:ext cx="121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14240" y="42148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85840" y="500040"/>
            <a:ext cx="636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rial"/>
              </a:rPr>
              <a:t>Find the words you can make a rhy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1828800" cy="202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214720" y="1428840"/>
            <a:ext cx="2199960" cy="202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4357800" y="1000080"/>
            <a:ext cx="1361880" cy="1876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7572240" y="642960"/>
            <a:ext cx="1247760" cy="15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5"/>
          <a:stretch/>
        </p:blipFill>
        <p:spPr>
          <a:xfrm>
            <a:off x="5643720" y="1143000"/>
            <a:ext cx="2085840" cy="202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6"/>
          <a:stretch/>
        </p:blipFill>
        <p:spPr>
          <a:xfrm>
            <a:off x="285840" y="3643200"/>
            <a:ext cx="1247760" cy="20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7"/>
          <a:stretch/>
        </p:blipFill>
        <p:spPr>
          <a:xfrm>
            <a:off x="1785960" y="3500280"/>
            <a:ext cx="1209600" cy="1552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8"/>
          <a:stretch/>
        </p:blipFill>
        <p:spPr>
          <a:xfrm>
            <a:off x="3643200" y="3214800"/>
            <a:ext cx="1562040" cy="202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9"/>
          <a:stretch/>
        </p:blipFill>
        <p:spPr>
          <a:xfrm>
            <a:off x="2000160" y="5143680"/>
            <a:ext cx="1133640" cy="155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10"/>
          <a:stretch/>
        </p:blipFill>
        <p:spPr>
          <a:xfrm>
            <a:off x="4643280" y="4829040"/>
            <a:ext cx="172404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11"/>
          <a:stretch/>
        </p:blipFill>
        <p:spPr>
          <a:xfrm>
            <a:off x="6929280" y="4829040"/>
            <a:ext cx="15336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12"/>
          <a:stretch/>
        </p:blipFill>
        <p:spPr>
          <a:xfrm>
            <a:off x="6215040" y="2857680"/>
            <a:ext cx="2200320" cy="2028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000080" y="135720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chair -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cock -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box -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4929120" y="3214800"/>
            <a:ext cx="32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leg - 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cat - 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ball - d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928800" y="364320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857160" y="21420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nswer: "They grow in the gardens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857160" y="207180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1. Рыба,  лампа,   оранжевый,  вода, яйцо, роза,   конф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714680" y="385776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2. Черный, слон, кролик, бежать, мороженое, восемь, пла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57120" y="457200"/>
            <a:ext cx="431964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4714920" y="2786040"/>
            <a:ext cx="4002120" cy="3571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57120" y="336096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Flowers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143680" y="214488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Ber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7:44:01Z</dcterms:created>
  <dc:creator>Komp</dc:creator>
  <dc:description/>
  <dc:language>en-US</dc:language>
  <cp:lastModifiedBy>ольга</cp:lastModifiedBy>
  <dcterms:modified xsi:type="dcterms:W3CDTF">2012-01-03T13:39:42Z</dcterms:modified>
  <cp:revision>27</cp:revision>
  <dc:subject/>
  <dc:title>Слайд 1</dc:title>
</cp:coreProperties>
</file>