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A3F-F7AB-4C99-A663-78C83868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E95-9EF2-4BD3-ABC0-A5B7551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8C5-BD5C-41DE-ACEA-4D12D7FD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6F9-F65D-4FFB-8F4A-D1BEE726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E21-ED39-4125-BEB9-C34DF8A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4D9-BB31-479B-B39D-B13BAD3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2B0-1833-4921-9FBD-7C19971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9FD-5A76-4F52-B466-229124E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65C-499A-4AB4-A93A-EC054C8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E16-CBD6-42B7-8ACF-F8BA283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D1B-4AC2-4AC1-B7F3-33187A0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4BB-5C5F-4BC9-A471-893F52F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BDF4-794C-4432-A46B-F2A6ABA48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60" y="-928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849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The world of  rebuses and ridd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 flipV="1">
            <a:off x="0" y="9900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42920" y="3857760"/>
            <a:ext cx="3214800" cy="272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286000" y="1643040"/>
            <a:ext cx="3792600" cy="25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4572000" y="4143240"/>
            <a:ext cx="3314880" cy="2208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000080" y="11430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t's time to have a 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786200" y="1928880"/>
            <a:ext cx="3829320" cy="4581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00040" y="5716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Find 12 words on the theme "House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585800"/>
          <a:ext cx="6096240" cy="5048280"/>
        </p:xfrm>
        <a:graphic>
          <a:graphicData uri="http://schemas.openxmlformats.org/drawingml/2006/table">
            <a:tbl>
              <a:tblPr/>
              <a:tblGrid>
                <a:gridCol w="676440"/>
                <a:gridCol w="67788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585800"/>
          <a:ext cx="6096240" cy="4416480"/>
        </p:xfrm>
        <a:graphic>
          <a:graphicData uri="http://schemas.openxmlformats.org/drawingml/2006/table">
            <a:tbl>
              <a:tblPr/>
              <a:tblGrid>
                <a:gridCol w="676440"/>
                <a:gridCol w="67788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Прямоугольник 2"/>
          <p:cNvSpPr/>
          <p:nvPr/>
        </p:nvSpPr>
        <p:spPr>
          <a:xfrm>
            <a:off x="1071720" y="500040"/>
            <a:ext cx="43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729560" y="214200"/>
            <a:ext cx="11286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71680" y="42876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Find the key w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1239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 dog, a cat, a pet, a parrot, a guinea p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229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kitchen, a toilet, a bathroom, a flat, a living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6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fish, ham, bread, butter, a cake, food,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571680" y="42876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heck yoursel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0" y="1239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 dog, a ca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a pet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a parrot, a guinea p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229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kitchen, a toilet, a bathroom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a flat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a living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6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fish, ham, bread, butter, a cake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food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240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Ураган </a:t>
            </a:r>
            <a:r>
              <a:rPr b="0" lang="en-US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Windy </a:t>
            </a: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похозяйничал в доме Энн. Помоги ей навести порядок, расставив все по местам</a:t>
            </a:r>
            <a:r>
              <a:rPr b="0" lang="en-US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:</a:t>
            </a: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357200"/>
          <a:ext cx="6096240" cy="806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032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Bathroo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Gar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4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2"/>
          <p:cNvSpPr/>
          <p:nvPr/>
        </p:nvSpPr>
        <p:spPr>
          <a:xfrm>
            <a:off x="4424400" y="-92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14200" y="255780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A bed, a brush, a car, a teapot, a chair, a bike, a spoon, a bookshelf, a bath, toys, sweets, a computer,a vase, a refrigerator, an axe, an armchair, a c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3880" y="1995480"/>
          <a:ext cx="6096240" cy="2867040"/>
        </p:xfrm>
        <a:graphic>
          <a:graphicData uri="http://schemas.openxmlformats.org/drawingml/2006/table">
            <a:tbl>
              <a:tblPr/>
              <a:tblGrid>
                <a:gridCol w="1681200"/>
                <a:gridCol w="1519200"/>
                <a:gridCol w="1460520"/>
                <a:gridCol w="1435320"/>
              </a:tblGrid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Ga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teap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r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sp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we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ooksh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n a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v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refrig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n armc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"/>
          <p:cNvSpPr/>
          <p:nvPr/>
        </p:nvSpPr>
        <p:spPr>
          <a:xfrm>
            <a:off x="500040" y="2923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Check yoursel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8584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707220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428760" y="64296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ell about your favourite sea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220032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5143680" y="1285920"/>
            <a:ext cx="1504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428840" y="3929040"/>
            <a:ext cx="2138400" cy="192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4929120" y="4071960"/>
            <a:ext cx="2419560" cy="2028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00040" y="-142920"/>
            <a:ext cx="8001000" cy="6572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71720" y="11667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nut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71880" y="785880"/>
            <a:ext cx="2214360" cy="1928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429080" y="2786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Arial"/>
              </a:rPr>
              <a:t> “</a:t>
            </a:r>
            <a:r>
              <a:rPr b="0" lang="en-US" sz="3600" spc="-1" strike="noStrike">
                <a:solidFill>
                  <a:srgbClr val="6b6bcf"/>
                </a:solidFill>
                <a:latin typeface="Arial"/>
              </a:rPr>
              <a:t>Smart pupi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286680" y="3429000"/>
            <a:ext cx="193824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214280" y="3429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"Lucky 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785960" y="4000680"/>
            <a:ext cx="281448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58000" y="4000680"/>
            <a:ext cx="1857240" cy="2214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4" name="Rectangle 1"/>
          <p:cNvSpPr/>
          <p:nvPr/>
        </p:nvSpPr>
        <p:spPr>
          <a:xfrm>
            <a:off x="30240" y="-92880"/>
            <a:ext cx="60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643800" y="64296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1071720" y="571680"/>
            <a:ext cx="61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are ready to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are ready to pl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ish each other "Good luck"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in or lose, anyw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2920" y="285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Find the missing let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000160" y="78588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786120" y="785880"/>
            <a:ext cx="1143000" cy="159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214960" y="642960"/>
            <a:ext cx="171432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6858000" y="714240"/>
            <a:ext cx="17002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357120" y="2071800"/>
            <a:ext cx="1785960" cy="15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7"/>
          <a:stretch/>
        </p:blipFill>
        <p:spPr>
          <a:xfrm>
            <a:off x="2286000" y="221472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8"/>
          <a:stretch/>
        </p:blipFill>
        <p:spPr>
          <a:xfrm>
            <a:off x="3929040" y="2143080"/>
            <a:ext cx="10717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9"/>
          <a:stretch/>
        </p:blipFill>
        <p:spPr>
          <a:xfrm>
            <a:off x="5500800" y="2214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10"/>
          <a:stretch/>
        </p:blipFill>
        <p:spPr>
          <a:xfrm>
            <a:off x="6929280" y="2143080"/>
            <a:ext cx="157176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11"/>
          <a:stretch/>
        </p:blipFill>
        <p:spPr>
          <a:xfrm>
            <a:off x="428760" y="342900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2"/>
          <a:stretch/>
        </p:blipFill>
        <p:spPr>
          <a:xfrm>
            <a:off x="2214720" y="3643200"/>
            <a:ext cx="128556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3"/>
          <a:stretch/>
        </p:blipFill>
        <p:spPr>
          <a:xfrm>
            <a:off x="3714840" y="3500280"/>
            <a:ext cx="1290600" cy="1514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4"/>
          <a:stretch/>
        </p:blipFill>
        <p:spPr>
          <a:xfrm>
            <a:off x="5000760" y="3429000"/>
            <a:ext cx="207144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5"/>
          <a:stretch/>
        </p:blipFill>
        <p:spPr>
          <a:xfrm>
            <a:off x="7215120" y="3286080"/>
            <a:ext cx="17146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16"/>
          <a:stretch/>
        </p:blipFill>
        <p:spPr>
          <a:xfrm>
            <a:off x="285840" y="5214960"/>
            <a:ext cx="1500120" cy="141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17"/>
          <a:stretch/>
        </p:blipFill>
        <p:spPr>
          <a:xfrm>
            <a:off x="2071800" y="4786200"/>
            <a:ext cx="164304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18"/>
          <a:stretch/>
        </p:blipFill>
        <p:spPr>
          <a:xfrm>
            <a:off x="4000680" y="50720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9"/>
          <a:stretch/>
        </p:blipFill>
        <p:spPr>
          <a:xfrm>
            <a:off x="5715000" y="500076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0"/>
          <a:stretch/>
        </p:blipFill>
        <p:spPr>
          <a:xfrm>
            <a:off x="7072200" y="5181480"/>
            <a:ext cx="172404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71680" y="7858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ourself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571760" y="19731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500720" y="174780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000240" y="380844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82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7643880" y="192564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7786800" y="4917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ffd4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214960" y="412272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14240" y="42148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85840" y="500040"/>
            <a:ext cx="63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Find the words you can make a rhy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1828800" cy="20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214720" y="1428840"/>
            <a:ext cx="2199960" cy="20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357800" y="1000080"/>
            <a:ext cx="136188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7572240" y="642960"/>
            <a:ext cx="1247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5643720" y="1143000"/>
            <a:ext cx="2085840" cy="202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285840" y="3643200"/>
            <a:ext cx="1247760" cy="20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1785960" y="3500280"/>
            <a:ext cx="1209600" cy="155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8"/>
          <a:stretch/>
        </p:blipFill>
        <p:spPr>
          <a:xfrm>
            <a:off x="3643200" y="3214800"/>
            <a:ext cx="1562040" cy="202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9"/>
          <a:stretch/>
        </p:blipFill>
        <p:spPr>
          <a:xfrm>
            <a:off x="2000160" y="5143680"/>
            <a:ext cx="1133640" cy="155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0"/>
          <a:stretch/>
        </p:blipFill>
        <p:spPr>
          <a:xfrm>
            <a:off x="4643280" y="4829040"/>
            <a:ext cx="172404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11"/>
          <a:stretch/>
        </p:blipFill>
        <p:spPr>
          <a:xfrm>
            <a:off x="6929280" y="4829040"/>
            <a:ext cx="15336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12"/>
          <a:stretch/>
        </p:blipFill>
        <p:spPr>
          <a:xfrm>
            <a:off x="6215040" y="2857680"/>
            <a:ext cx="2200320" cy="2028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000080" y="135720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hair -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ock -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box -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4929120" y="321480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eg - 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at - 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ball - 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928800" y="364320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857160" y="2142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swer: "They grow in the gardens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857160" y="207180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1. Рыба,  лампа,   оранжевый,  вода, яйцо, роза,   конф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714680" y="38577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2. Черный, слон, кролик, бежать, мороженое, восемь, пл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57120" y="457200"/>
            <a:ext cx="431964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714920" y="2786040"/>
            <a:ext cx="4002120" cy="3571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57120" y="33609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Flower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143680" y="21448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44:01Z</dcterms:created>
  <dc:creator>Komp</dc:creator>
  <dc:description/>
  <dc:language>en-US</dc:language>
  <cp:lastModifiedBy>ольга</cp:lastModifiedBy>
  <dcterms:modified xsi:type="dcterms:W3CDTF">2012-01-03T13:39:42Z</dcterms:modified>
  <cp:revision>27</cp:revision>
  <dc:subject/>
  <dc:title>Слайд 1</dc:title>
</cp:coreProperties>
</file>